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3D84-313C-4291-A531-11F731E2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C6C6-9AD5-4B0B-9337-1C3946CB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242C-371B-4F2F-B4C6-5FB837019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216B-38FD-4110-B8C1-4A59B406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4C73-D281-461C-B4A9-BE3559E4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F5FC-8EA3-4AA9-979C-A8ED549C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909E-0642-4C5F-B671-A57B147A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B3B6-DEC7-49CC-8EDC-51225082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FCDD-A822-4F81-A331-5CA3DBA6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0A81-6B89-4106-9058-F11D99E3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D096-D921-476C-BD60-F906EBAB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5DC7-6120-49BA-B4C1-9987A7E3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E99B-060A-473B-813F-62A6210C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9464-B5C8-4285-8D2D-9CBB7427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71F4-E6F5-4D74-8998-4F48809F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DA52-3A6B-4C1B-A778-752C8832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5714-0E81-4D05-B79F-3B3DE22B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15C1-8678-4DF7-A9E9-2EA2C0D0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38FD-BF5F-46EF-8B7B-FAFC6B6A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DB54-43FA-4E1C-B4AF-8FCF1B18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7EA2-9C87-4780-B9F8-5A2F69C7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6DCE-2032-44AD-B28F-0B76E5E6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BC79-88F2-417C-A40C-6922BAB7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8AA3-747E-4372-A6F6-85D2B39F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0F2E-34E4-4620-AB42-60C75FB827A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3036-3E72-4E2F-88EE-622A36CC926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23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«Нарушения деятельности нервной системы и их предупреждение»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учитель: Хафизова Р.Ш. МОУ «Борисовская ООШ»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оказатели употребления алкогольных напитков в МОУ «Борисовская СОШ» на февраль 2022 года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2-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9 классы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1547640" y="2708280"/>
          <a:ext cx="5545440" cy="399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708280"/>
                    <a:ext cx="5545440" cy="39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ред кур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аркомания и токсиком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рожденные уродств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38894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ь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знакомиться с нарушениями деятельности нервной системы и факторами, вредящими здоровь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яснить причины появления вредных привыче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оказать экспериментальным путём губительность алкоголя и никотина для живых клеток  и всего организм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ть оценку наличия вредных привычек в нашей школе и предложить меры предупреждения их распростран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Группировка факторов риска по их удельному весу для здоровь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3200" cy="400356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акторы, влияющие на здоровь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начение для здоровья(примерный удельный вес в %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браз жизни, условия труда и проживания, привычки и поведени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енетик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нешняя среда,эколог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-20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дравоохранени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-10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следственные нарушения нервной систем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гут быть обусловлены факторами внешней среды, комбинацией хромосом родителей, заболеваниями, перенесенными матерью в период беремен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олезнь Дау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3036960" cy="3529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"/>
          <p:cNvPicPr/>
          <p:nvPr/>
        </p:nvPicPr>
        <p:blipFill>
          <a:blip r:embed="rId2"/>
          <a:stretch/>
        </p:blipFill>
        <p:spPr>
          <a:xfrm>
            <a:off x="5076720" y="2565360"/>
            <a:ext cx="30574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Бактериальные и вирусные инфек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нинги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лиомиели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рипп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рушения, связанные с неблагоприятными экологическими факторам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изкая продолжительность жизн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дверженность неврозам и хроническим заболеваниям, свойственным пожилым возраста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сокий уровень младенческой и материнской смерт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ост злокачественных заболева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трессовые состоян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редные привычки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истематическое употребление алкоголя, сигарет, токсических веществ, наркотик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лияние алкоголя на подрост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4:14:22Z</dcterms:created>
  <dc:creator>Vadim</dc:creator>
  <dc:description/>
  <dc:language>en-US</dc:language>
  <cp:lastModifiedBy>Admin</cp:lastModifiedBy>
  <dcterms:modified xsi:type="dcterms:W3CDTF">2024-02-12T13:16:15Z</dcterms:modified>
  <cp:revision>9</cp:revision>
  <dc:subject/>
  <dc:title>Нарушения деятельности нервной системы и их предупреджение</dc:title>
</cp:coreProperties>
</file>