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F38-21B3-47A0-9449-4A062A6E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C1B-C0B7-4516-9D4C-666349D5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E93-201B-4713-AF70-C6693DDA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CC1-C715-4048-A715-213F11AD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7318-F2B7-47E1-81E4-7D7F6964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E7AB-690D-49FE-BC14-F4A71C9F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643E-4396-4905-8AE5-5E9C9F3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00BC-FF33-41EF-B182-E45E297D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CA34-48B9-4755-9EF6-522764CA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0C93-ECC7-4E37-9CFD-65939AF1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A3BF-776B-44C5-96EB-85BB4D5C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3FE-AC50-4940-A186-AD95C34C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D74A-2F7D-4F94-A786-21E883A8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318D-A697-40EF-8674-352A3418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3FDA-4C46-4A2E-8285-E04CF54B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FED5-4C3D-4CB6-9B52-53C31F65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DCCE-B00D-4B3D-8952-7459895B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677-ACAD-4F71-81D7-E5DF0EAF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CDD-33FA-4526-BDFB-3CB71F3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DFE-8918-4284-B20A-4C1B0C4D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1E7-B7FD-44AC-A7DC-EA5956D1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FAA-CD49-4FAF-95F0-4424A36E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F40-126B-4D1E-87F1-24CF343C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BEB-569B-43F0-96DA-B6D5063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DE07-3F32-4858-A846-2600238789A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D908-11CB-4643-B708-2187476A822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23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«Нарушения деятельности нервной системы и их предупреждение»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учитель: Хафизова Р.Ш. МОУ «Борисовская ООШ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казатели употребления алкогольных напитков в МОУ «Борисовская СОШ» на февраль 2022 года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-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9 класс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1547640" y="2708280"/>
          <a:ext cx="5545440" cy="39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08280"/>
                    <a:ext cx="5545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ред кур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ркомания и токсиком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рожденные ур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889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комиться с нарушениями деятельности нервной системы и факторами, вредящими здоровь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яснить причины появления вредных привыче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азать экспериментальным путём губительность алкоголя и никотина для живых клеток  и всего орган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ть оценку наличия вредных привычек в нашей школе и предложить меры предупреждения их распростран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руппировка факторов риска по их удельному весу для здоровь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400356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акторы, влияющие на здоровь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начение для здоровья(примерный удельный вес в %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раз жизни, условия труда и проживания, привычки и поведен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нети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нешняя среда,эколог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-2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дравоохранен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-1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следственные нарушения нервной систем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гут быть обусловлены факторами внешней среды, комбинацией хромосом родителей, заболеваниями, перенесенными матерью в период беремен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олезнь Дау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3036960" cy="352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5076720" y="2565360"/>
            <a:ext cx="3057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актериальные и вирусные инфек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нинги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иомиели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рип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рушения, связанные с неблагоприятными экологическими фактора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зкая продолжительность жиз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ерженность неврозам и хроническим заболеваниям, свойственным пожилым возраст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окий уровень младенческой и материнской смерт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ст злокачественных заболев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ессовые состоя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редные привычки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истематическое употребление алкоголя, сигарет, токсических веществ, наркоти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лияние алкоголя на подрос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14:22Z</dcterms:created>
  <dc:creator>Vadim</dc:creator>
  <dc:description/>
  <dc:language>en-US</dc:language>
  <cp:lastModifiedBy>Admin</cp:lastModifiedBy>
  <dcterms:modified xsi:type="dcterms:W3CDTF">2024-02-12T13:16:15Z</dcterms:modified>
  <cp:revision>9</cp:revision>
  <dc:subject/>
  <dc:title>Нарушения деятельности нервной системы и их предупреджение</dc:title>
</cp:coreProperties>
</file>