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FDF-2E61-4248-852B-C6045C7A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95D-87D8-424D-91C6-8A83D606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B44-9CEC-4064-B45D-0245A012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51D-B2AC-41AA-B7A1-E54DFBCB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99FB2-1283-4EE1-8A6F-D3A833FA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417F5-BA1D-4EE1-AA20-D5C5024F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340CF-50BE-4F39-A0EF-10DA279D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17C8D-3FC4-46CD-824C-9DAEB8DB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CCD6C-DFD8-420E-B0D8-208C0616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B1C1D-02A3-4C47-83F7-48AD4E66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5598A-AB8B-4ABF-A903-63E6712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2BB-6257-4D3E-8F13-E5CB0F73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D2701-4B34-4C2A-ADF0-4FFA4DB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4DD85-9294-4D4E-BD66-77E5C8C4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0994B-B128-470D-8DE8-8590861D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BBCED-A34B-462E-BE79-B3EBB50F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43A49-3BFE-41DB-80D2-0D77153F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C472-D5DF-40C5-970B-6E71CC7B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635E-A249-4AB8-9195-3358F6DD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4F75-BE87-429E-A571-5D70BEFC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A369-F6AE-436D-8CBA-395864BE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6937-192B-40F8-8AA6-49145326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43B-E594-4CE9-BE28-41A6EEF1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20E3-1C9A-4306-B456-6F4B80A1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57F0-D52C-4352-BE52-270884CE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1E6A-7129-459E-89A9-9CB2936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0BA9-78D7-47D0-ADE9-BF66430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3F71-E48E-4926-A5CE-607C1574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67DE-C28C-4640-8E84-938EEFEA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BADB-C967-4C75-8BEA-425887E3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9A0FB-248F-4915-842D-5E39EA7B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2BE9D-E328-4341-BA39-DDA0B220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1A506-2B83-4298-B4C9-6F525725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B92-B075-42DF-9CD9-A807CF8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D1BA8-D808-44B8-AA24-5E07B78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79BDE-D832-49A4-BFC3-244C51A6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089FA-BE55-48A5-8ED1-F5C609B7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6DF49-9FE6-4FA6-911E-9D1D95A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779B8-76E9-4386-B737-4CAA5E69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7CA6A-E11B-4603-B37F-0F676B1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BC738-EF21-402D-85FC-560E7B4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2B302-0B86-4086-A918-FB8F9F59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4E445-39FA-4A9F-89FF-81D9F1FA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4A2E4C-2E3A-47DA-9C33-E584F819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1AF-B268-4994-A8CE-34A15CA6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F90068-2D06-4C94-9499-4EDF830D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85375B-7012-4ACE-951B-18E2173D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6101D6-7B0E-4C97-8360-8543EE4D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D4142C-1BA3-4BB4-A7D4-2D39901C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DA1E63-FF47-458C-9783-CDC9A553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EA302C-71D3-4231-83FF-1143AFC7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C9C90-B315-48DB-BE57-D668840B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335620-1DF4-4E70-8D1E-10B7DBA4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37D4C5-D995-4340-B60B-0277BC5F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E29540-019C-4B91-8F24-7269857E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930-A8BC-44EC-9E58-6303F935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354FAA-5CE4-41AE-A56C-243B906B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C16AF6-1221-4EFC-BA6D-A2F1F36B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99EDC-1A46-4BA4-8BF0-49858D38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50B1C-E082-4799-866F-8BD9294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802F4-4D8E-4EBC-96FB-F444D914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D2D35-1567-4268-9C38-C3A39E6F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D03854-D124-4299-AD0B-F3C97957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5578D1-F02A-49D5-BDDB-A166A6FA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E467BB-49C5-4C7C-9403-C040D55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4BD91-75C7-4E06-8A7C-0D3517BF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19C-F221-4C45-A060-5864B8FD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C8E1C8-9253-4BB1-B787-D5860217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0B79E2-088A-4B81-B5C6-7E702392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155B9-222F-4139-BAA4-4B4F6195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606238-1C22-452F-88A9-C4DDD2B6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0B9333-2767-484B-B652-176B5F1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67F95D-34E1-4344-A1A2-96914E86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3D8C6E-E5E8-48F7-9741-64490987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0BED8A-EEE8-4C6F-A258-10616E6A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4286AF-6E49-4A5E-A6A8-6310A002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43C0C8-312A-495B-BB1C-B13DBAD6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11A-2BBB-4FF9-8F09-1D4F5167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CB67DA-9065-48AC-9D34-1D3CBB8F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A40A8A-CFE2-4359-835F-9027AC3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8B842B-FD3C-4413-9F57-C91244C6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FFC1D4-7C57-4ACF-B826-D19A83F1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85909-1044-460B-BB0D-F96DC66A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9D84C8-CE9E-49A1-8CB7-A568D772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7CE81-1BE1-4215-9294-5B2C7485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4D8DCC-BB9D-446F-8B41-D14D1F9C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6FDF62-C1F5-4762-970C-1D240AFE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5A532D-8A77-4F31-B50C-1A9073CE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4D2-F30D-4243-A9F2-9E44C2A2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4BC578-AC99-402A-9817-B1BA1846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BD367D-7B1F-475A-B0CA-B89417DE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FCCBDD-25BC-4FC3-BD0F-4340F5D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87850A-B6FF-47EB-9368-D3BA8CF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63C677-B92F-42D2-97B4-2A3371CB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4E8634-CEEB-4C11-8C45-9E7C2D06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905A1-F045-461E-AA68-600AF49E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B7C1-750F-445C-8218-5A2B465D3B30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3f3f3f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468-604A-4347-BA99-D16B80619173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4C19-5F5C-49A2-BE67-68A86E04E687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65EA-ECA2-48A9-8FB6-E4E23139B960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2BDC-354B-4D9F-BA57-69BF0F83491D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A37E-0B3A-4FA4-9FD0-FBF5DCB3BB51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A264-3C3F-41E4-94AC-9EDCC00854AC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EFFE-0066-4749-A481-9A7A70FFBF65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8" descr=""/>
          <p:cNvPicPr/>
          <p:nvPr/>
        </p:nvPicPr>
        <p:blipFill>
          <a:blip r:embed="rId2"/>
          <a:stretch/>
        </p:blipFill>
        <p:spPr>
          <a:xfrm>
            <a:off x="1712880" y="1785960"/>
            <a:ext cx="624204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Памятник Первому паровозу"/>
          <p:cNvPicPr/>
          <p:nvPr/>
        </p:nvPicPr>
        <p:blipFill>
          <a:blip r:embed="rId2"/>
          <a:stretch/>
        </p:blipFill>
        <p:spPr>
          <a:xfrm>
            <a:off x="614520" y="1625760"/>
            <a:ext cx="3720960" cy="47559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одель первого в России паровоза русских механиков Е.А. и М.Е. Черепановых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зготовлена в честь столетия Свердловской железной дорог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978 год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гол ул.Свердлова и Челюскинце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&quot;Чёрный тюльпан&quot;"/>
          <p:cNvPicPr/>
          <p:nvPr/>
        </p:nvPicPr>
        <p:blipFill>
          <a:blip r:embed="rId2"/>
          <a:stretch/>
        </p:blipFill>
        <p:spPr>
          <a:xfrm>
            <a:off x="457200" y="235440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642920" y="2285640"/>
            <a:ext cx="403884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военнослужащим, погибшим во время боевых действий в Афганистане и Чечн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сположен на Площади Советской Армии, напротив окружного дома офицеров, в 1995 год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&quot;Чечня&quot;"/>
          <p:cNvPicPr/>
          <p:nvPr/>
        </p:nvPicPr>
        <p:blipFill>
          <a:blip r:embed="rId2"/>
          <a:stretch/>
        </p:blipFill>
        <p:spPr>
          <a:xfrm>
            <a:off x="468360" y="1341360"/>
            <a:ext cx="4027320" cy="50403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установлен в 2002 году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н завершил композицию "Чёрного тюльпана«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втор: скульптор-архитектор А. Сер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ливал С.Резепов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садьба, полная тайн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Усадьба Расторгуева-Харитонова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ассказывают, что там есть подземный ход, соединяет Исеть с озером в парке Харитоновского дома. В этом ходе были созданы кельи, в которых содержались пришлые монахи. Эти люди появлялись в городе, их никто не знал, откуда приходят и куда исчезают. Вели эти монахи какие-то тайные дела. Никто, кроме хозяина, не был посвящён в эти дела, и доступ в кельи был только хозяину. А потом, с чем это связано, неизвестно, всё это осталось тайной, через некоторое время хозяин приказал все эти кельи и сам подземный ход замуровать. Нет, а всё-таки интересно, найдут эти кельи или нет, ведь где-то они замурованы!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из книги «Предания и легенды Урала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9" name="Rectangl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929120" y="4714560"/>
            <a:ext cx="4214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e3ded1"/>
              </a:solidFill>
              <a:latin typeface="Constantia"/>
            </a:endParaRPr>
          </a:p>
        </p:txBody>
      </p:sp>
      <p:pic>
        <p:nvPicPr>
          <p:cNvPr id="371" name="Заголовок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3884400" cy="21909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Екатеринбург, центр Свердловской области, в 1667 км к востоку от Москвы. Расположен на восточном склоне Среднего Урала, по берегам р. Исеть (притока Тобола). Площадь свыше 400 км2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род ЕКАТЕРИНБУРГ - главный город Уральского федерального округа, столица Свердловской области. Расположен вблизи границы Европы и Азии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Екатеринбург был основан в 1723 году В. Н. Татищевым и В. Де Гениным в связи со строительством завода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8" name="Picture 13" descr=""/>
          <p:cNvPicPr/>
          <p:nvPr/>
        </p:nvPicPr>
        <p:blipFill>
          <a:blip r:embed="rId3"/>
          <a:stretch/>
        </p:blipFill>
        <p:spPr>
          <a:xfrm>
            <a:off x="714240" y="1571760"/>
            <a:ext cx="36734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811680" cy="5361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714920" y="1999800"/>
            <a:ext cx="403848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зван по имени императрицы Екатерины I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1924 году город был переименован в Свердловск. Историческое название возвращено в 1991 год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28760" y="1356840"/>
            <a:ext cx="4038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Екатеринбург – один из крупнейших и красивейших российских городов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Он расположен на границе Европы и Азии, в самом сердце Уральских гор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Наш город изначально возводился как столица горнозаводского края и, с первых же лет существования, имел свою символику. 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Picture 8" descr=""/>
          <p:cNvPicPr/>
          <p:nvPr/>
        </p:nvPicPr>
        <p:blipFill>
          <a:blip r:embed="rId1"/>
          <a:stretch/>
        </p:blipFill>
        <p:spPr>
          <a:xfrm>
            <a:off x="4714920" y="3357720"/>
            <a:ext cx="3962520" cy="28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1714680" y="4000680"/>
            <a:ext cx="1714320" cy="20476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428720" y="1143000"/>
            <a:ext cx="4475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овременный герб Екатеринбурга был официально принят в Государственной Герольдии при Президенте Российской Федерации в 1995 г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ерхняя часть щита похожа на крепость, которой был Екатеринбург в первые годы своего существования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олнистая лазоревая полоса в нижней части - это река Исеть, соединяющая историю и современность, Европу и Азию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Медведь - европейский символ, соболь - азиатский. Более того, соболь еще при Демидовых был маркой уральского металла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Животные стоят за пределами щита, высунув языки и оскалив зубы, - такое проявление агрессивности вполне объяснимо, ведь они охраняют город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5" name="Picture 8" descr=""/>
          <p:cNvPicPr/>
          <p:nvPr/>
        </p:nvPicPr>
        <p:blipFill>
          <a:blip r:embed="rId2"/>
          <a:stretch/>
        </p:blipFill>
        <p:spPr>
          <a:xfrm>
            <a:off x="2500200" y="1143000"/>
            <a:ext cx="1900440" cy="24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"/>
          <p:cNvPicPr/>
          <p:nvPr/>
        </p:nvPicPr>
        <p:blipFill>
          <a:blip r:embed="rId3"/>
          <a:stretch/>
        </p:blipFill>
        <p:spPr>
          <a:xfrm>
            <a:off x="428760" y="1071720"/>
            <a:ext cx="19904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4" descr=""/>
          <p:cNvPicPr/>
          <p:nvPr/>
        </p:nvPicPr>
        <p:blipFill>
          <a:blip r:embed="rId1"/>
          <a:stretch/>
        </p:blipFill>
        <p:spPr>
          <a:xfrm>
            <a:off x="426960" y="268200"/>
            <a:ext cx="8229600" cy="1590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Памятник &quot;Седой Урал&quot;"/>
          <p:cNvPicPr/>
          <p:nvPr/>
        </p:nvPicPr>
        <p:blipFill>
          <a:blip r:embed="rId2"/>
          <a:stretch/>
        </p:blipFill>
        <p:spPr>
          <a:xfrm>
            <a:off x="857160" y="2286000"/>
            <a:ext cx="3368880" cy="38815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714920" y="3143160"/>
            <a:ext cx="403848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"Седой Урал" был открыт в мае 2005 г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площади Обороны в Парковом микрорайо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символизирует общий вклад уральцев в победу, как воинов так и тружеников тыл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4" descr=""/>
          <p:cNvPicPr/>
          <p:nvPr/>
        </p:nvPicPr>
        <p:blipFill>
          <a:blip r:embed="rId1"/>
          <a:stretch/>
        </p:blipFill>
        <p:spPr>
          <a:xfrm>
            <a:off x="426960" y="341280"/>
            <a:ext cx="8229600" cy="167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&quot;Первая конная&quot;"/>
          <p:cNvPicPr/>
          <p:nvPr/>
        </p:nvPicPr>
        <p:blipFill>
          <a:blip r:embed="rId2"/>
          <a:stretch/>
        </p:blipFill>
        <p:spPr>
          <a:xfrm>
            <a:off x="928800" y="1857240"/>
            <a:ext cx="3367080" cy="33670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642920" y="1999800"/>
            <a:ext cx="403884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четырежды Герою Советского Союза, выдающемуся военачальнику, командующему Уральским военным округом в 1948-1953 годах, установлен на проспекте Ленина 8 мая 1995 года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Памятник &quot;Кирову&quot;"/>
          <p:cNvPicPr/>
          <p:nvPr/>
        </p:nvPicPr>
        <p:blipFill>
          <a:blip r:embed="rId2"/>
          <a:stretch/>
        </p:blipFill>
        <p:spPr>
          <a:xfrm>
            <a:off x="635040" y="1625760"/>
            <a:ext cx="3679920" cy="4755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ыл установлен на площади имени Кирова в 1934 году. При реконструкции площади в 1982 году установлен новый памятник С. М. Кирову, подарок московских художественных мастерски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оит у главного корпуса УГТУ-УП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chpr2"/>
          <p:cNvPicPr/>
          <p:nvPr/>
        </p:nvPicPr>
        <p:blipFill>
          <a:blip r:embed="rId2"/>
          <a:stretch/>
        </p:blipFill>
        <p:spPr>
          <a:xfrm>
            <a:off x="539640" y="1557360"/>
            <a:ext cx="3648240" cy="4824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А. С. Пушкину, великому русскому писателю, установлен в литературном квартале города, на пересечении ул. Первомайской и Пролетарской 5 ноября 1990 год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49:54Z</dcterms:created>
  <dc:creator>User</dc:creator>
  <dc:description/>
  <dc:language>en-US</dc:language>
  <cp:lastModifiedBy>yu02</cp:lastModifiedBy>
  <dcterms:modified xsi:type="dcterms:W3CDTF">2024-02-07T15:50:47Z</dcterms:modified>
  <cp:revision>10</cp:revision>
  <dc:subject/>
  <dc:title>Исторические памятники города Екатеринбурга</dc:title>
</cp:coreProperties>
</file>