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jpeg" ContentType="image/jpeg"/>
  <Override PartName="/ppt/media/image24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4A9-88CE-4DB2-AE8D-C51F86B6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D28-9DB5-42EF-85F2-07ABD8EF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34B-302C-4A80-8874-97E458EE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263A-C0FB-4E8C-AB3E-7BF94D0F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1F74C-5FEB-449A-982C-0F42F7E2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716C7-FF5D-4B7C-86CD-B368A303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AF2D1-C45E-478A-AF8C-050B350E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3B4AC-E84D-4DCC-A4A7-672A4A23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0C7CA-BF43-4819-AB51-731B1526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2A47F-42D4-40A0-8761-5E636F5A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146FB-307B-491D-AEB0-758423AC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FD8-690D-4527-8363-07804C9F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3638A-7CA1-4C79-88F1-8969B7D1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B32CE-E9B5-409A-9C94-BD2699DE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98420-EF81-4D9C-95A2-3560F372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92095-50AB-4AAD-AA21-000B2A71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16745-F114-4CD4-BDE9-59026C24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6AD1B-5FE6-4838-A9EC-2400B30C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CF88B-C655-4B68-806C-65C65CAD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CA666-9C7F-44F6-8D43-09211CBB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A4F6F-97BA-4CAE-9E14-2473CF32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2C446-F64F-4D0F-ADA4-7A91AE22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68CC-7CC2-43B5-AE3A-781FFEBB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8443C-7610-40F3-AB96-4A2146F9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3E25-1641-4C6B-9EDF-E262026F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5B510-49A1-4D22-98C2-13BB1453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866EB-B990-4EF0-B336-FF68A86E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6255C-4AC1-4DF6-B47D-49CA5FB2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CD06D-19E9-40A7-AF0D-ACC93D50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EDD59-B00D-4040-AD72-891CF13B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9623D3-EA36-4735-9B46-B4B727D1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9FA4C1-AE12-4702-AB02-5C1ED2E2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4D1BF8-1036-4D5A-8112-EB60AA4F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5A9-75AF-44A8-8969-A727ED41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C349B9-DFD3-42B1-A5AB-4EEBED39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96ACE8-0C22-4A25-9906-DB89CBB3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17E418-8F70-4064-8075-FB0F9B0C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6E51B4-04A7-429B-BC56-CBB12932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EE063C-E51A-4766-AFC2-8F924D4E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804C31-1E64-44CE-A2C5-FF7FEF6D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26B65F-2972-4AB7-A546-C4434852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746540-9E3E-46A2-8575-F8CC449E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DDD7C3-B839-45C2-91DA-5FDBDAA5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894550-A513-4200-9534-A2A4A05A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3EA-E4EE-4910-BCC1-E31BC401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9379E4-5394-4A39-BBFC-E032D2DB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5C2B63-3444-4032-8536-B614F57F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3583DF-9EAB-4374-B43A-44805F51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0E62DC-74E9-4B3D-B14C-D4792BA7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1A751C-CB20-49B2-8574-3C44CC34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E8E596-F0A1-48F6-A22B-8C602E76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057ABC-1699-47E3-AAC8-7D724F50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496789-B601-43AD-BF68-507D603A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9371D3-7033-42CD-BF25-904D6B82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F1C3E2-5764-4548-B71B-8F3EAF0C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91E-35C1-4750-91CF-18BCA229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0B8923-DD7B-4696-8DFE-70B762E7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AB0607-67CC-4BD8-B807-DC5B6D0E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512325-D2D6-4C37-8CA2-036809BD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341DE1-2604-45A1-B935-FE0F1596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ECF23F-62EA-430E-8E02-C244C4C8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A5358A-62B3-45F9-8F1D-DAFE2A54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DCD776-A1D3-473A-9377-A455BBE7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B2CF08-0876-42E3-822B-62E70FB8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159BB5-5E2E-4886-A520-6CE6D66D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57BCD3-05F8-4D4A-A89E-31DCF924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E1EB-B16D-4CF0-AFF2-93F6D241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CC4644-FC4C-474C-BC91-429448C1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5CC617-C3FE-4682-9010-3F16369E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943AA7-F5B0-471B-9B83-588ADC7D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B2EE6A-7FDC-443D-9862-9F207D42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113FD2-CFED-4885-9CC9-F8239C03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A59725-AF87-4291-8E00-4EF88060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01511A-8FB4-41D2-B40D-814AFEEC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1C6AB2-FF32-4575-BF9C-940480DF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215958-FF9B-4B79-8304-22614B3F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43DBAD-3F31-4C3E-9F08-8D05E350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1591-05E8-47DB-8CE9-0C092672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F61C3C-3292-4ED0-BA28-22D51017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F18E37-756D-43E7-ADE3-188D80B0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875D80-8B96-44B9-8533-A02FCE28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6ECEEB-9FB8-4DFD-A0FB-FCBAF0F4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8554E9-CB12-4C14-B2EF-80E07659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8DC1D7-7E2D-456D-A4FC-D9C5F434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C7EF56-3690-498A-BDA3-BFB829FD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03EF71-6B11-42EE-B154-62EBEC85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92BB7A-1FD1-42D4-9CBF-3ECEA9A1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2FD3AD-AFCE-47E6-BA3E-1B13E860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ADAF-E2C6-4057-8D8E-6D623A6E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3979EF-D09A-40FF-BB31-B5F7F460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9BFD6D-E2D7-40E3-B17C-49F7FAC1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889738-89BB-47C4-AB65-2A6DF2CA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251567-BAEE-4EEE-ADD1-50A60915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860BF6-2B98-49C3-B7D1-6DE59591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B5CE3D-CDDB-4D47-BF81-13E697EC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0733A4-A6C3-4580-BF68-B370058B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c2c2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2A70-6987-4135-8998-C52D9A498689}" type="slidenum">
              <a:rPr b="0" lang="ru-RU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3f3f3f"/>
          </a:solidFill>
          <a:ln w="25560">
            <a:solidFill>
              <a:srgbClr val="3f3f3f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c2c2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B728-700A-4BA7-871D-87EB0B98F362}" type="slidenum">
              <a:rPr b="0" lang="ru-RU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c2c2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31DC-39BD-47DD-BABC-D2A7E509525C}" type="slidenum">
              <a:rPr b="0" lang="ru-RU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c2c2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43AA-0DD3-40C2-A091-77C7AD8DC4B6}" type="slidenum">
              <a:rPr b="0" lang="ru-RU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c2c2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994E-FDE1-46BD-81E1-D8CB589D8AB8}" type="slidenum">
              <a:rPr b="0" lang="ru-RU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c2c2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B7B5-36E0-42B1-ACA3-B80BC0E63B5E}" type="slidenum">
              <a:rPr b="0" lang="ru-RU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c2c2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443D-2326-4B9B-B612-FDC777EBCFC9}" type="slidenum">
              <a:rPr b="0" lang="ru-RU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dt" idx="2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2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c2c2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636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F118-CD85-4B12-A15B-9888AAA262B1}" type="slidenum">
              <a:rPr b="0" lang="ru-RU" sz="16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dt" idx="2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2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8" descr=""/>
          <p:cNvPicPr/>
          <p:nvPr/>
        </p:nvPicPr>
        <p:blipFill>
          <a:blip r:embed="rId2"/>
          <a:stretch/>
        </p:blipFill>
        <p:spPr>
          <a:xfrm>
            <a:off x="1712880" y="1785960"/>
            <a:ext cx="6242040" cy="15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7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Памятник Первому паровозу"/>
          <p:cNvPicPr/>
          <p:nvPr/>
        </p:nvPicPr>
        <p:blipFill>
          <a:blip r:embed="rId2"/>
          <a:stretch/>
        </p:blipFill>
        <p:spPr>
          <a:xfrm>
            <a:off x="614520" y="1625760"/>
            <a:ext cx="3720960" cy="47559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одель первого в России паровоза русских механиков Е.А. и М.Е. Черепановых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зготовлена в честь столетия Свердловской железной дороги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1978 год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угол ул.Свердлова и Челюскинцев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7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&quot;Чёрный тюльпан&quot;"/>
          <p:cNvPicPr/>
          <p:nvPr/>
        </p:nvPicPr>
        <p:blipFill>
          <a:blip r:embed="rId2"/>
          <a:stretch/>
        </p:blipFill>
        <p:spPr>
          <a:xfrm>
            <a:off x="457200" y="2354400"/>
            <a:ext cx="4038480" cy="30258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642920" y="2285640"/>
            <a:ext cx="403884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амятник военнослужащим, погибшим во время боевых действий в Афганистане и Чечне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асположен на Площади Советской Армии, напротив окружного дома офицеров, в 1995 году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&quot;Чечня&quot;"/>
          <p:cNvPicPr/>
          <p:nvPr/>
        </p:nvPicPr>
        <p:blipFill>
          <a:blip r:embed="rId2"/>
          <a:stretch/>
        </p:blipFill>
        <p:spPr>
          <a:xfrm>
            <a:off x="468360" y="1341360"/>
            <a:ext cx="4027320" cy="50403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амятник установлен в 2002 году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н завершил композицию "Чёрного тюльпана«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втор: скульптор-архитектор А. Сер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ливал С.Резепов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Усадьба, полная тайн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(Усадьба Расторгуева-Харитонова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Рассказывают, что там есть подземный ход, соединяет Исеть с озером в парке Харитоновского дома. В этом ходе были созданы кельи, в которых содержались пришлые монахи. Эти люди появлялись в городе, их никто не знал, откуда приходят и куда исчезают. Вели эти монахи какие-то тайные дела. Никто, кроме хозяина, не был посвящён в эти дела, и доступ в кельи был только хозяину. А потом, с чем это связано, неизвестно, всё это осталось тайной, через некоторое время хозяин приказал все эти кельи и сам подземный ход замуровать. Нет, а всё-таки интересно, найдут эти кельи или нет, ведь где-то они замурованы!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из книги «Предания и легенды Урала»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9" name="Rectangle 4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929120" y="4714560"/>
            <a:ext cx="4214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e3ded1"/>
              </a:solidFill>
              <a:latin typeface="Constantia"/>
            </a:endParaRPr>
          </a:p>
        </p:txBody>
      </p:sp>
      <p:pic>
        <p:nvPicPr>
          <p:cNvPr id="371" name="Заголовок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"/>
          <p:cNvPicPr/>
          <p:nvPr/>
        </p:nvPicPr>
        <p:blipFill>
          <a:blip r:embed="rId2"/>
          <a:stretch/>
        </p:blipFill>
        <p:spPr>
          <a:xfrm>
            <a:off x="4714920" y="1500120"/>
            <a:ext cx="3884400" cy="21909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7200" y="394308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Екатеринбург, центр Свердловской области, в 1667 км к востоку от Москвы. Расположен на восточном склоне Среднего Урала, по берегам р. Исеть (притока Тобола). Площадь свыше 400 км2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Город ЕКАТЕРИНБУРГ - главный город Уральского федерального округа, столица Свердловской области. Расположен вблизи границы Европы и Азии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Екатеринбург был основан в 1723 году В. Н. Татищевым и В. Де Гениным в связи со строительством завода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8" name="Picture 13" descr=""/>
          <p:cNvPicPr/>
          <p:nvPr/>
        </p:nvPicPr>
        <p:blipFill>
          <a:blip r:embed="rId3"/>
          <a:stretch/>
        </p:blipFill>
        <p:spPr>
          <a:xfrm>
            <a:off x="714240" y="1571760"/>
            <a:ext cx="367344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2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3811680" cy="5361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714920" y="1999800"/>
            <a:ext cx="4038480" cy="30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азван по имени императрицы Екатерины I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 1924 году город был переименован в Свердловск. Историческое название возвращено в 1991 год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28760" y="1356840"/>
            <a:ext cx="4038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Екатеринбург – один из крупнейших и красивейших российских городов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Он расположен на границе Европы и Азии, в самом сердце Уральских гор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3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Наш город изначально возводился как столица горнозаводского края и, с первых же лет существования, имел свою символику. 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2" name="Picture 8" descr=""/>
          <p:cNvPicPr/>
          <p:nvPr/>
        </p:nvPicPr>
        <p:blipFill>
          <a:blip r:embed="rId1"/>
          <a:stretch/>
        </p:blipFill>
        <p:spPr>
          <a:xfrm>
            <a:off x="4714920" y="3357720"/>
            <a:ext cx="3962520" cy="28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1714680" y="4000680"/>
            <a:ext cx="1714320" cy="20476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428720" y="1143000"/>
            <a:ext cx="4475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овременный герб Екатеринбурга был официально принят в Государственной Герольдии при Президенте Российской Федерации в 1995 г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ерхняя часть щита похожа на крепость, которой был Екатеринбург в первые годы своего существования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олнистая лазоревая полоса в нижней части - это река Исеть, соединяющая историю и современность, Европу и Азию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Медведь - европейский символ, соболь - азиатский. Более того, соболь еще при Демидовых был маркой уральского металла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Животные стоят за пределами щита, высунув языки и оскалив зубы, - такое проявление агрессивности вполне объяснимо, ведь они охраняют город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5" name="Picture 8" descr=""/>
          <p:cNvPicPr/>
          <p:nvPr/>
        </p:nvPicPr>
        <p:blipFill>
          <a:blip r:embed="rId2"/>
          <a:stretch/>
        </p:blipFill>
        <p:spPr>
          <a:xfrm>
            <a:off x="2500200" y="1143000"/>
            <a:ext cx="1900440" cy="2448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9" descr=""/>
          <p:cNvPicPr/>
          <p:nvPr/>
        </p:nvPicPr>
        <p:blipFill>
          <a:blip r:embed="rId3"/>
          <a:stretch/>
        </p:blipFill>
        <p:spPr>
          <a:xfrm>
            <a:off x="428760" y="1071720"/>
            <a:ext cx="19904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4" descr=""/>
          <p:cNvPicPr/>
          <p:nvPr/>
        </p:nvPicPr>
        <p:blipFill>
          <a:blip r:embed="rId1"/>
          <a:stretch/>
        </p:blipFill>
        <p:spPr>
          <a:xfrm>
            <a:off x="426960" y="268200"/>
            <a:ext cx="8229600" cy="15908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Памятник &quot;Седой Урал&quot;"/>
          <p:cNvPicPr/>
          <p:nvPr/>
        </p:nvPicPr>
        <p:blipFill>
          <a:blip r:embed="rId2"/>
          <a:stretch/>
        </p:blipFill>
        <p:spPr>
          <a:xfrm>
            <a:off x="857160" y="2286000"/>
            <a:ext cx="3368880" cy="38815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4714920" y="3143160"/>
            <a:ext cx="403848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амятник "Седой Урал" был открыт в мае 2005 го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 площади Обороны в Парковом микрорайон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амятник символизирует общий вклад уральцев в победу, как воинов так и тружеников тыла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4" descr=""/>
          <p:cNvPicPr/>
          <p:nvPr/>
        </p:nvPicPr>
        <p:blipFill>
          <a:blip r:embed="rId1"/>
          <a:stretch/>
        </p:blipFill>
        <p:spPr>
          <a:xfrm>
            <a:off x="426960" y="341280"/>
            <a:ext cx="8229600" cy="16700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&quot;Первая конная&quot;"/>
          <p:cNvPicPr/>
          <p:nvPr/>
        </p:nvPicPr>
        <p:blipFill>
          <a:blip r:embed="rId2"/>
          <a:stretch/>
        </p:blipFill>
        <p:spPr>
          <a:xfrm>
            <a:off x="928800" y="1857240"/>
            <a:ext cx="3367080" cy="33670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642920" y="1999800"/>
            <a:ext cx="403884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амятник четырежды Герою Советского Союза, выдающемуся военачальнику, командующему Уральским военным округом в 1948-1953 годах, установлен на проспекте Ленина 8 мая 1995 года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Памятник &quot;Кирову&quot;"/>
          <p:cNvPicPr/>
          <p:nvPr/>
        </p:nvPicPr>
        <p:blipFill>
          <a:blip r:embed="rId2"/>
          <a:stretch/>
        </p:blipFill>
        <p:spPr>
          <a:xfrm>
            <a:off x="635040" y="1625760"/>
            <a:ext cx="3679920" cy="47559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Был установлен на площади имени Кирова в 1934 году. При реконструкции площади в 1982 году установлен новый памятник С. М. Кирову, подарок московских художественных мастерски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тоит у главного корпуса УГТУ-УП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chpr2"/>
          <p:cNvPicPr/>
          <p:nvPr/>
        </p:nvPicPr>
        <p:blipFill>
          <a:blip r:embed="rId2"/>
          <a:stretch/>
        </p:blipFill>
        <p:spPr>
          <a:xfrm>
            <a:off x="539640" y="1557360"/>
            <a:ext cx="3648240" cy="4824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амятник А. С. Пушкину, великому русскому писателю, установлен в литературном квартале города, на пересечении ул. Первомайской и Пролетарской 5 ноября 1990 год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49:54Z</dcterms:created>
  <dc:creator>User</dc:creator>
  <dc:description/>
  <dc:language>en-US</dc:language>
  <cp:lastModifiedBy>yu02</cp:lastModifiedBy>
  <dcterms:modified xsi:type="dcterms:W3CDTF">2024-02-07T15:50:47Z</dcterms:modified>
  <cp:revision>10</cp:revision>
  <dc:subject/>
  <dc:title>Исторические памятники города Екатеринбурга</dc:title>
</cp:coreProperties>
</file>