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D0E-0A9D-42BB-968B-DA98E697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52B-C10E-4D43-87FE-32065106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527-1D44-438F-A0F0-067FCBBC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FE3C-9D76-48C1-8EC8-AD8DA509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D011-B6B6-4667-92EF-B18C6234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5B09-D895-458D-8FE1-764785AC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0127-F36A-4B35-85D9-82B61C4A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7B0C-192D-4F58-B98B-6504E4C4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BC85-4A49-4A82-94C0-4020933F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FB32-8653-4DBD-8EE6-24CD0193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0E35-8D42-4161-97FC-3E7E2F2B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C86-E9ED-45BB-8535-97967E97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0DA6-A6E4-437E-A225-2F050FDA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BE3E-4CB8-428C-B602-0FA7B415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0400-9E06-4086-91E6-6755E6EB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CE19-497B-48C9-B9F7-CB084BF5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4865-CA81-4E6F-B83B-72A51946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8AB9E-3D74-4293-B74E-C34CB9A1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CD948-F364-4F5C-B3BC-9A26FB72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F36A0-BED7-4368-B9BC-A9EDB0F8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D0D2F-C323-4182-9997-AADA56B9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52EED-53CA-421D-B0C5-F4DA7C00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7BD7-54C6-4320-8A78-A4BD7089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5428A-3700-4944-B428-EC042AC8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3A46-EC2E-484C-86AF-6069D76C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FD8A-3B51-4B3D-BA45-4ABD4330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16A9C-F97C-4725-8D4E-CEF7A3D0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53319-4478-4FA8-AEE5-63BED803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D8D1-1BF3-4B40-9A30-9D59FD8B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63D77-5B50-48CA-9DFE-305A394F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607-1621-4ABC-BD52-3D1E6DF0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6A0-5ED9-4139-A447-55116A83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FE7-2BB8-41A8-8C21-25DA1993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D32-B82B-4BA3-B292-F927CFB9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AD6-787E-4C8D-83F3-9CABE8CB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168-131D-42CF-92F1-113F68A3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0639-3C96-4172-B4C4-EA36D0BD4C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1C1A-9816-41FE-B8F2-13A545F864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BA83-D7EC-4DD5-92A9-BD2112AB07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078"/>
          <p:cNvSpPr/>
          <p:nvPr/>
        </p:nvSpPr>
        <p:spPr>
          <a:xfrm>
            <a:off x="0" y="2589120"/>
            <a:ext cx="12176280" cy="8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Изображение 3076" descr=""/>
          <p:cNvPicPr/>
          <p:nvPr/>
        </p:nvPicPr>
        <p:blipFill>
          <a:blip r:embed="rId1"/>
          <a:stretch/>
        </p:blipFill>
        <p:spPr>
          <a:xfrm>
            <a:off x="10501200" y="0"/>
            <a:ext cx="1690920" cy="1695600"/>
          </a:xfrm>
          <a:prstGeom prst="rect">
            <a:avLst/>
          </a:prstGeom>
          <a:ln w="0">
            <a:noFill/>
          </a:ln>
        </p:spPr>
      </p:pic>
      <p:sp>
        <p:nvSpPr>
          <p:cNvPr id="123" name="Текст. поле 3077"/>
          <p:cNvSpPr/>
          <p:nvPr/>
        </p:nvSpPr>
        <p:spPr>
          <a:xfrm>
            <a:off x="0" y="2662200"/>
            <a:ext cx="12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Составление диалог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078"/>
          <p:cNvSpPr/>
          <p:nvPr/>
        </p:nvSpPr>
        <p:spPr>
          <a:xfrm>
            <a:off x="7920" y="2589120"/>
            <a:ext cx="12176280" cy="8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Текст. поле 11267"/>
          <p:cNvSpPr/>
          <p:nvPr/>
        </p:nvSpPr>
        <p:spPr>
          <a:xfrm>
            <a:off x="-12600" y="2589120"/>
            <a:ext cx="121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Приветств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Эллипс 4"/>
          <p:cNvSpPr/>
          <p:nvPr/>
        </p:nvSpPr>
        <p:spPr>
          <a:xfrm>
            <a:off x="285840" y="187200"/>
            <a:ext cx="3292560" cy="3241800"/>
          </a:xfrm>
          <a:prstGeom prst="ellipse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Эллипс 6"/>
          <p:cNvSpPr/>
          <p:nvPr/>
        </p:nvSpPr>
        <p:spPr>
          <a:xfrm>
            <a:off x="7807320" y="355680"/>
            <a:ext cx="3973680" cy="3794040"/>
          </a:xfrm>
          <a:prstGeom prst="ellipse">
            <a:avLst/>
          </a:prstGeom>
          <a:solidFill>
            <a:srgbClr val="dbeef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Эллипс 4"/>
          <p:cNvSpPr/>
          <p:nvPr/>
        </p:nvSpPr>
        <p:spPr>
          <a:xfrm rot="260400">
            <a:off x="6527520" y="3776400"/>
            <a:ext cx="3078000" cy="2968560"/>
          </a:xfrm>
          <a:prstGeom prst="ellipse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Эллипс 4"/>
          <p:cNvSpPr/>
          <p:nvPr/>
        </p:nvSpPr>
        <p:spPr>
          <a:xfrm>
            <a:off x="973080" y="3429000"/>
            <a:ext cx="3292560" cy="3240000"/>
          </a:xfrm>
          <a:prstGeom prst="ellipse">
            <a:avLst/>
          </a:prstGeom>
          <a:solidFill>
            <a:srgbClr val="dbeef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Текст. поле 5"/>
          <p:cNvSpPr/>
          <p:nvPr/>
        </p:nvSpPr>
        <p:spPr>
          <a:xfrm>
            <a:off x="642960" y="4456080"/>
            <a:ext cx="362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How are you? = How’re you?</a:t>
            </a: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(краткая форма) / Как дел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Эллипс 6"/>
          <p:cNvSpPr/>
          <p:nvPr/>
        </p:nvSpPr>
        <p:spPr>
          <a:xfrm>
            <a:off x="3705120" y="809640"/>
            <a:ext cx="3973680" cy="3794040"/>
          </a:xfrm>
          <a:prstGeom prst="ellipse">
            <a:avLst/>
          </a:prstGeom>
          <a:solidFill>
            <a:srgbClr val="bdd7e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Текст. поле 7"/>
          <p:cNvSpPr/>
          <p:nvPr/>
        </p:nvSpPr>
        <p:spPr>
          <a:xfrm>
            <a:off x="3884760" y="1442880"/>
            <a:ext cx="344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How are you doing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Как поживаете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Как поживаешь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В разговор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ной речи </a:t>
            </a:r>
            <a:r>
              <a:rPr b="1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are </a:t>
            </a:r>
            <a:r>
              <a:rPr b="0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часто выпадает, и эта фраза звучит как </a:t>
            </a:r>
            <a:r>
              <a:rPr b="1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How you do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Текст. поле 5128"/>
          <p:cNvSpPr/>
          <p:nvPr/>
        </p:nvSpPr>
        <p:spPr>
          <a:xfrm>
            <a:off x="712800" y="941400"/>
            <a:ext cx="243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Hey!</a:t>
            </a: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— это неформальное приветствие, которое использу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в основном между друзь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Текст. поле 5131"/>
          <p:cNvSpPr/>
          <p:nvPr/>
        </p:nvSpPr>
        <p:spPr>
          <a:xfrm>
            <a:off x="8205840" y="1112760"/>
            <a:ext cx="317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Можно услышать варианты приветствия со словом there [ðe 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Hello there! Hi there! Hey ther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Текст. поле 5133"/>
          <p:cNvSpPr/>
          <p:nvPr/>
        </p:nvSpPr>
        <p:spPr>
          <a:xfrm>
            <a:off x="6419880" y="4603680"/>
            <a:ext cx="317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Неформальн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приветствием также служит фраз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What’s up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Эллипс 4"/>
          <p:cNvSpPr/>
          <p:nvPr/>
        </p:nvSpPr>
        <p:spPr>
          <a:xfrm>
            <a:off x="8464680" y="1623960"/>
            <a:ext cx="3292200" cy="3241800"/>
          </a:xfrm>
          <a:prstGeom prst="ellipse">
            <a:avLst/>
          </a:prstGeom>
          <a:solidFill>
            <a:srgbClr val="dbeef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Изображение 6146" descr=""/>
          <p:cNvPicPr/>
          <p:nvPr/>
        </p:nvPicPr>
        <p:blipFill>
          <a:blip r:embed="rId1"/>
          <a:stretch/>
        </p:blipFill>
        <p:spPr>
          <a:xfrm>
            <a:off x="262080" y="2063880"/>
            <a:ext cx="7689600" cy="2728800"/>
          </a:xfrm>
          <a:prstGeom prst="rect">
            <a:avLst/>
          </a:prstGeom>
          <a:ln w="0">
            <a:noFill/>
          </a:ln>
        </p:spPr>
      </p:pic>
      <p:sp>
        <p:nvSpPr>
          <p:cNvPr id="138" name="Текст. поле 6147"/>
          <p:cNvSpPr/>
          <p:nvPr/>
        </p:nvSpPr>
        <p:spPr>
          <a:xfrm>
            <a:off x="8786880" y="2792520"/>
            <a:ext cx="264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Вопрос</a:t>
            </a:r>
            <a:r>
              <a:rPr b="1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Yourself? </a:t>
            </a: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обозначает </a:t>
            </a:r>
            <a:r>
              <a:rPr b="1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А ты как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3078"/>
          <p:cNvSpPr/>
          <p:nvPr/>
        </p:nvSpPr>
        <p:spPr>
          <a:xfrm>
            <a:off x="7920" y="2589120"/>
            <a:ext cx="12176280" cy="8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Текст. поле 11267"/>
          <p:cNvSpPr/>
          <p:nvPr/>
        </p:nvSpPr>
        <p:spPr>
          <a:xfrm>
            <a:off x="-12600" y="2589120"/>
            <a:ext cx="121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Как закончить разгово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Эллипс 4"/>
          <p:cNvSpPr/>
          <p:nvPr/>
        </p:nvSpPr>
        <p:spPr>
          <a:xfrm>
            <a:off x="285840" y="423720"/>
            <a:ext cx="3292560" cy="3240360"/>
          </a:xfrm>
          <a:prstGeom prst="ellipse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Эллипс 6"/>
          <p:cNvSpPr/>
          <p:nvPr/>
        </p:nvSpPr>
        <p:spPr>
          <a:xfrm>
            <a:off x="7807320" y="355680"/>
            <a:ext cx="3973680" cy="3794040"/>
          </a:xfrm>
          <a:prstGeom prst="ellipse">
            <a:avLst/>
          </a:prstGeom>
          <a:solidFill>
            <a:srgbClr val="dbeef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Эллипс 4"/>
          <p:cNvSpPr/>
          <p:nvPr/>
        </p:nvSpPr>
        <p:spPr>
          <a:xfrm rot="260400">
            <a:off x="6527520" y="3776400"/>
            <a:ext cx="3078000" cy="2968560"/>
          </a:xfrm>
          <a:prstGeom prst="ellipse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Эллипс 4"/>
          <p:cNvSpPr/>
          <p:nvPr/>
        </p:nvSpPr>
        <p:spPr>
          <a:xfrm>
            <a:off x="1757520" y="3616200"/>
            <a:ext cx="3294000" cy="3241800"/>
          </a:xfrm>
          <a:prstGeom prst="ellipse">
            <a:avLst/>
          </a:prstGeom>
          <a:solidFill>
            <a:srgbClr val="dbeef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Текст. поле 5"/>
          <p:cNvSpPr/>
          <p:nvPr/>
        </p:nvSpPr>
        <p:spPr>
          <a:xfrm>
            <a:off x="1339920" y="4416480"/>
            <a:ext cx="362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I don’t want to keep you any long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Не хочу вас больше задержива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Эллипс 6"/>
          <p:cNvSpPr/>
          <p:nvPr/>
        </p:nvSpPr>
        <p:spPr>
          <a:xfrm>
            <a:off x="3768840" y="147600"/>
            <a:ext cx="3973320" cy="3794040"/>
          </a:xfrm>
          <a:prstGeom prst="ellipse">
            <a:avLst/>
          </a:prstGeom>
          <a:solidFill>
            <a:srgbClr val="bdd7e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Текст. поле 7"/>
          <p:cNvSpPr/>
          <p:nvPr/>
        </p:nvSpPr>
        <p:spPr>
          <a:xfrm>
            <a:off x="3884760" y="1442880"/>
            <a:ext cx="344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I need to get to the shop before it clo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Мне нужно зайти в магазин, пока он не закрыл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Текст. поле 5128"/>
          <p:cNvSpPr/>
          <p:nvPr/>
        </p:nvSpPr>
        <p:spPr>
          <a:xfrm>
            <a:off x="712800" y="94140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I wish we could talk a bit more but I’m running l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Хотелось бы поговорить еще немного, но я опаздыва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Текст. поле 5131"/>
          <p:cNvSpPr/>
          <p:nvPr/>
        </p:nvSpPr>
        <p:spPr>
          <a:xfrm>
            <a:off x="8205840" y="1290600"/>
            <a:ext cx="317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We’ll have to get together so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Надо бы скоро еще встрет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Текст. поле 5133"/>
          <p:cNvSpPr/>
          <p:nvPr/>
        </p:nvSpPr>
        <p:spPr>
          <a:xfrm>
            <a:off x="6419880" y="4603680"/>
            <a:ext cx="317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Let’s get together so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авайте как-нибудь еще соберем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26T15:12:52Z</dcterms:created>
  <dc:creator>Tatiana</dc:creator>
  <dc:description/>
  <dc:language>en-US</dc:language>
  <cp:lastModifiedBy>Tatiana</cp:lastModifiedBy>
  <dcterms:modified xsi:type="dcterms:W3CDTF">2024-02-02T11:10:11Z</dcterms:modified>
  <cp:revision>1</cp:revision>
  <dc:subject/>
  <dc:title>PowerPoint Presentation</dc:title>
</cp:coreProperties>
</file>