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DAB-6707-4CED-951C-B05F2B10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28B-E0FF-4D64-A897-C9A2F11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C94-F660-4340-AA88-08B713C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DC7-10CE-4A55-887C-98974F93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2578-D6CA-449D-9997-B3FEA00F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247-5B67-430F-9A4B-D9479C3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9D7-C3DD-4CE6-8AB4-46F896C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4DC-8318-4A0A-8143-5C40E1C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ED0-6AB4-41CB-A783-B9E9900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526A-9513-4924-AFE0-164B155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B7B9-7C22-42F1-A48F-04C205F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779-8803-451F-9031-095F16F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8027-3D45-4865-8F27-67A9F41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8321-ADB0-495A-BF24-0C8D0B4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DC2F-0906-4C0D-9611-F291D00B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710-4F3F-4F52-9B6F-1AFA19F5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63EC-C9D0-4E02-B09D-007B385D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93F7-1D3C-4C32-8A9A-0383C81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D2C9-57C5-4875-9459-52D091F9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D22D-C82D-42CA-9A5D-14A3DB8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5C7E-5E10-43D4-9CA5-D79BD48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3BF7-E764-4DB1-A0D0-8D72618F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96C-CCED-4D5C-9F3C-9A44502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5BB0-9A4C-4168-89C8-62D03C14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5905-A514-413D-AE22-28A861D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CCB9-FD47-420F-B10E-5021311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CADF-BBAF-4AAA-A365-009584F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3D37-0C26-4A34-95D0-0EBC41D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8DEF-01EC-4E90-AC6D-30DD2167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2FEE-AB4F-4E8E-931E-871093DF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7E9-9D8E-478C-8983-B0E73E68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D8A-4D5D-4181-9F2C-84DA789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278-29D1-46C1-81DF-39322B5D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FBF-966A-4B48-9344-A5BE29A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557-FA4E-4357-84BB-23C061B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03E-DFD8-4F1C-911B-8C31B94B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A36-AE5B-48ED-B817-1AC329217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FB7-2758-49B2-9C33-7E7A47F22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97A-53F3-49B1-A1DF-BCC27B4FD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078"/>
          <p:cNvSpPr/>
          <p:nvPr/>
        </p:nvSpPr>
        <p:spPr>
          <a:xfrm>
            <a:off x="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Изображение 3076" descr=""/>
          <p:cNvPicPr/>
          <p:nvPr/>
        </p:nvPicPr>
        <p:blipFill>
          <a:blip r:embed="rId1"/>
          <a:stretch/>
        </p:blipFill>
        <p:spPr>
          <a:xfrm>
            <a:off x="10501200" y="0"/>
            <a:ext cx="1690920" cy="1695600"/>
          </a:xfrm>
          <a:prstGeom prst="rect">
            <a:avLst/>
          </a:prstGeom>
          <a:ln w="0">
            <a:noFill/>
          </a:ln>
        </p:spPr>
      </p:pic>
      <p:sp>
        <p:nvSpPr>
          <p:cNvPr id="123" name="Текст. поле 3077"/>
          <p:cNvSpPr/>
          <p:nvPr/>
        </p:nvSpPr>
        <p:spPr>
          <a:xfrm>
            <a:off x="0" y="266220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Составление диал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078"/>
          <p:cNvSpPr/>
          <p:nvPr/>
        </p:nvSpPr>
        <p:spPr>
          <a:xfrm>
            <a:off x="792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Текст. поле 11267"/>
          <p:cNvSpPr/>
          <p:nvPr/>
        </p:nvSpPr>
        <p:spPr>
          <a:xfrm>
            <a:off x="-12600" y="2589120"/>
            <a:ext cx="12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Эллипс 4"/>
          <p:cNvSpPr/>
          <p:nvPr/>
        </p:nvSpPr>
        <p:spPr>
          <a:xfrm>
            <a:off x="285840" y="187200"/>
            <a:ext cx="3292560" cy="324180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Эллипс 6"/>
          <p:cNvSpPr/>
          <p:nvPr/>
        </p:nvSpPr>
        <p:spPr>
          <a:xfrm>
            <a:off x="7807320" y="355680"/>
            <a:ext cx="3973680" cy="379404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Эллипс 4"/>
          <p:cNvSpPr/>
          <p:nvPr/>
        </p:nvSpPr>
        <p:spPr>
          <a:xfrm rot="260400">
            <a:off x="6527520" y="3776400"/>
            <a:ext cx="3078000" cy="29685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Эллипс 4"/>
          <p:cNvSpPr/>
          <p:nvPr/>
        </p:nvSpPr>
        <p:spPr>
          <a:xfrm>
            <a:off x="973080" y="3429000"/>
            <a:ext cx="3292560" cy="32400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Текст. поле 5"/>
          <p:cNvSpPr/>
          <p:nvPr/>
        </p:nvSpPr>
        <p:spPr>
          <a:xfrm>
            <a:off x="642960" y="4456080"/>
            <a:ext cx="362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are you? = How’re you?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(краткая форма) / Как де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Эллипс 6"/>
          <p:cNvSpPr/>
          <p:nvPr/>
        </p:nvSpPr>
        <p:spPr>
          <a:xfrm>
            <a:off x="3705120" y="809640"/>
            <a:ext cx="3973680" cy="3794040"/>
          </a:xfrm>
          <a:prstGeom prst="ellipse">
            <a:avLst/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Текст. поле 7"/>
          <p:cNvSpPr/>
          <p:nvPr/>
        </p:nvSpPr>
        <p:spPr>
          <a:xfrm>
            <a:off x="3884760" y="1442880"/>
            <a:ext cx="34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are you doing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поживает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поживаеш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 разговор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ой речи </a:t>
            </a: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are </a:t>
            </a: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часто выпадает, и эта фраза звучит как </a:t>
            </a: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ow you do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Текст. поле 5128"/>
          <p:cNvSpPr/>
          <p:nvPr/>
        </p:nvSpPr>
        <p:spPr>
          <a:xfrm>
            <a:off x="712800" y="94140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ey!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— это неформальное приветствие, которое использу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 основном между друзь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Текст. поле 5131"/>
          <p:cNvSpPr/>
          <p:nvPr/>
        </p:nvSpPr>
        <p:spPr>
          <a:xfrm>
            <a:off x="8205840" y="1112760"/>
            <a:ext cx="31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Можно услышать варианты приветствия со словом there [ðe 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Hello there! Hi there! Hey ther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Текст. поле 5133"/>
          <p:cNvSpPr/>
          <p:nvPr/>
        </p:nvSpPr>
        <p:spPr>
          <a:xfrm>
            <a:off x="6419880" y="4603680"/>
            <a:ext cx="31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формаль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иветствием также служит фра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What’s u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Эллипс 4"/>
          <p:cNvSpPr/>
          <p:nvPr/>
        </p:nvSpPr>
        <p:spPr>
          <a:xfrm>
            <a:off x="8464680" y="1623960"/>
            <a:ext cx="3292200" cy="32418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Изображение 6146" descr=""/>
          <p:cNvPicPr/>
          <p:nvPr/>
        </p:nvPicPr>
        <p:blipFill>
          <a:blip r:embed="rId1"/>
          <a:stretch/>
        </p:blipFill>
        <p:spPr>
          <a:xfrm>
            <a:off x="262080" y="2063880"/>
            <a:ext cx="7689600" cy="2728800"/>
          </a:xfrm>
          <a:prstGeom prst="rect">
            <a:avLst/>
          </a:prstGeom>
          <a:ln w="0">
            <a:noFill/>
          </a:ln>
        </p:spPr>
      </p:pic>
      <p:sp>
        <p:nvSpPr>
          <p:cNvPr id="138" name="Текст. поле 6147"/>
          <p:cNvSpPr/>
          <p:nvPr/>
        </p:nvSpPr>
        <p:spPr>
          <a:xfrm>
            <a:off x="8786880" y="2792520"/>
            <a:ext cx="264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опрос</a:t>
            </a: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Yourself? </a:t>
            </a: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означает </a:t>
            </a: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А ты ка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078"/>
          <p:cNvSpPr/>
          <p:nvPr/>
        </p:nvSpPr>
        <p:spPr>
          <a:xfrm>
            <a:off x="7920" y="2589120"/>
            <a:ext cx="12176280" cy="8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Текст. поле 11267"/>
          <p:cNvSpPr/>
          <p:nvPr/>
        </p:nvSpPr>
        <p:spPr>
          <a:xfrm>
            <a:off x="-12600" y="2589120"/>
            <a:ext cx="12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ак закончить разгов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Эллипс 4"/>
          <p:cNvSpPr/>
          <p:nvPr/>
        </p:nvSpPr>
        <p:spPr>
          <a:xfrm>
            <a:off x="285840" y="423720"/>
            <a:ext cx="3292560" cy="32403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Эллипс 6"/>
          <p:cNvSpPr/>
          <p:nvPr/>
        </p:nvSpPr>
        <p:spPr>
          <a:xfrm>
            <a:off x="7807320" y="355680"/>
            <a:ext cx="3973680" cy="379404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Эллипс 4"/>
          <p:cNvSpPr/>
          <p:nvPr/>
        </p:nvSpPr>
        <p:spPr>
          <a:xfrm rot="260400">
            <a:off x="6527520" y="3776400"/>
            <a:ext cx="3078000" cy="2968560"/>
          </a:xfrm>
          <a:prstGeom prst="ellipse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Эллипс 4"/>
          <p:cNvSpPr/>
          <p:nvPr/>
        </p:nvSpPr>
        <p:spPr>
          <a:xfrm>
            <a:off x="1757520" y="3616200"/>
            <a:ext cx="3294000" cy="3241800"/>
          </a:xfrm>
          <a:prstGeom prst="ellipse">
            <a:avLst/>
          </a:prstGeom>
          <a:solidFill>
            <a:srgbClr val="dbeef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Текст. поле 5"/>
          <p:cNvSpPr/>
          <p:nvPr/>
        </p:nvSpPr>
        <p:spPr>
          <a:xfrm>
            <a:off x="1339920" y="4416480"/>
            <a:ext cx="362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 don’t want to keep you any lo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 хочу вас больше задержив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Эллипс 6"/>
          <p:cNvSpPr/>
          <p:nvPr/>
        </p:nvSpPr>
        <p:spPr>
          <a:xfrm>
            <a:off x="3768840" y="147600"/>
            <a:ext cx="3973320" cy="3794040"/>
          </a:xfrm>
          <a:prstGeom prst="ellipse">
            <a:avLst/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. поле 7"/>
          <p:cNvSpPr/>
          <p:nvPr/>
        </p:nvSpPr>
        <p:spPr>
          <a:xfrm>
            <a:off x="3884760" y="1442880"/>
            <a:ext cx="34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 need to get to the shop before it clo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Мне нужно зайти в магазин, пока он не закры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Текст. поле 5128"/>
          <p:cNvSpPr/>
          <p:nvPr/>
        </p:nvSpPr>
        <p:spPr>
          <a:xfrm>
            <a:off x="712800" y="94140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I wish we could talk a bit more but I’m running l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Хотелось бы поговорить еще немного, но я опаздыв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. поле 5131"/>
          <p:cNvSpPr/>
          <p:nvPr/>
        </p:nvSpPr>
        <p:spPr>
          <a:xfrm>
            <a:off x="8205840" y="1290600"/>
            <a:ext cx="31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We’ll have to get together so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адо бы скоро еще встрет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Текст. поле 5133"/>
          <p:cNvSpPr/>
          <p:nvPr/>
        </p:nvSpPr>
        <p:spPr>
          <a:xfrm>
            <a:off x="6419880" y="4603680"/>
            <a:ext cx="31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Let’s get together so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авайте как-нибудь еще соберем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5:12:52Z</dcterms:created>
  <dc:creator>Tatiana</dc:creator>
  <dc:description/>
  <dc:language>en-US</dc:language>
  <cp:lastModifiedBy>Tatiana</cp:lastModifiedBy>
  <dcterms:modified xsi:type="dcterms:W3CDTF">2024-02-02T11:10:11Z</dcterms:modified>
  <cp:revision>1</cp:revision>
  <dc:subject/>
  <dc:title>PowerPoint Presentation</dc:title>
</cp:coreProperties>
</file>