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EE3-3E63-4654-B281-109F3170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F9D-F0C9-4864-94F1-9AF621E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ADC-D017-4BD6-8378-2B107539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F27-4BE3-41D9-B259-B2E9237F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6C-D66A-4BB7-9D89-F61C6D26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532-5156-42CC-99A8-D68276BD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3CF-C2CC-461B-A16A-C7CB21FA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43A-754B-4AD9-B08B-52F33317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04E-2006-4B23-B56E-F4CEAF53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085-8415-4F81-9352-2AC1DE2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A80-89FD-4114-B1F4-D2BFEBA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CA7-8984-4748-A6F1-A8C549C0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8E0-A735-4AA4-8E66-48A9F5486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2738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Словарь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по «швейному делу»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для обучающихся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5-7 класс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3500280"/>
            <a:ext cx="69832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Выполнила:  учител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профессионально - трудового обуче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высше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Повалихина Ольга Юр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ГБОУ АО «Коряжемский детский дом-школ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2023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885080" y="0"/>
            <a:ext cx="131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8000" y="836640"/>
            <a:ext cx="7236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гл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острённый металлический стержень с у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девания ни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на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обратная, внутренняя сторона ткани или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7667640" y="285264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08000" y="450864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панеч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видность душегреи, корот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плённая кофточка безрукавов и воро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875640" y="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403280" y="0"/>
            <a:ext cx="7740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н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сстояние от шва стачивания до сгиба верхней детали при выполнении обтачного ш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апа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коративная деталь кармана,  прикрывающая вход в кар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кет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отрезная часть деталей изделия: полочек, спинки, юбки, брю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пир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кладывание ручных, не затянутых стежков по намеченным линиям, для перенесения их с одной детали на симметрич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сая бей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оска ткани, выкроенная по косой и применяемая для декоративной от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й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и изделия, полученные в результате раск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ис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ска ткани, пришитая с лица или с изнанки изделия и предназначенная для продергивания через нее пояса, резинки или шну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547640" y="0"/>
            <a:ext cx="75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про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. Искусственного волокна, а также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пюшо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ловной убор соединенный с верхней одеж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ма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ь верхне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шемир – мягкая шерстяная ткань саржевого перепл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и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сок ткани служащий надставкой детали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струирование одежды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чертежей и изготовление выкроек детале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епдеши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итайский креп, полупрозра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ужев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ные, ажурно сетчаты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рт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видность полупальто или пиджака с утеплённой подкладкой. и капюш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7236000" y="0"/>
            <a:ext cx="19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Л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403280" y="404640"/>
            <a:ext cx="77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стовиц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изделия в виде ромба или квадрата, которая втачиваемая в изделия для обеспечения свободы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сы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блеск на ткани, образовавшийся в результате неаккуратной влажно-тепловой обработки (утюж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цка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гнутая верхняя часть б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ст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, оформляющая нижнюю часть разреза кармана и прикрывающая вход в кар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ф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часть плечевого изделия д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кало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блон для раскроя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ён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волокно и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скут – обрывок или отрезок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236000" y="0"/>
            <a:ext cx="19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47640" y="620640"/>
            <a:ext cx="759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нжет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, пришиваемая к нижней части рукава и застегивающаяся на запонки, кнопки или пуговицы. Манжета, так же, может быть обработана в виде полоски ткани или трикот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неке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игура для примерки и показа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шковин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нутренняя часть кармана, его основная де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ланж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мешение в пряже волокон, окрашенных в разные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еж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журная выши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ный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делирование одежды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дельер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 занимающийся разработ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7093080" y="0"/>
            <a:ext cx="20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03280" y="476280"/>
            <a:ext cx="77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дсеч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зрез на ткани, выполненный острием ножниц, длиной 0,2-1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мет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наметать) — это временное соединение соединительными стежками более крупной детали с наложенной на нее мел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стр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настрочить) — это соединение одной детали с подогнутым срезом, с другой дет. и прокладывание машинной отделочной стр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ть основ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нитей, образующих ткань и проходящих параллельно друг другу вдоль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ть ут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нитей, образующих ткань и проходящих параллельно друг другу поперек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ёрсток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. колпачок для защиты пальца при ши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6732720" y="0"/>
            <a:ext cx="24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03280" y="620640"/>
            <a:ext cx="77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мёт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обметать) — это обработка среза деталей оверлочной или зигзагообразной строч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ор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оса ткани на одежде, пришитая складками или сборками, выкроенная по косой или долевой н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т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обтачать) — это соединение двух деталей по краю и их последующее выворачивание на лицевую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та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для обработки выреза, разреза, выкроенная по форме обраб. уча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хва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измерение участка фигуры человека сантиметровой лентой по замкнутому контуру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32000" y="0"/>
            <a:ext cx="781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днобортное издел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зделие без глубокого запаха с одним рядом пуговиц на одной полочке и с одним рядом петель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антовывание (гл. окантова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ка среза полоской ткани, косой бейкой или тесьмой для отделки или предохранения среза от осып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а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, закругленная часть рук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лет воротни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нешняя, видимая, отгибающаяся его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паривание (гл. отпар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ка изделия паром, при помощи утюга, пресса или паро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тягивание (гл. оттяну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величение линейных размеров деталей на отдельных участках, с помощь влажно-тепловой обработки для получения желаемой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227640" y="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258920" y="0"/>
            <a:ext cx="820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т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коративная, отлетная деталь, настроченная или втачанная одним концом в ш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а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швейного изделия в виде втачной, притачной или настрочной полоски ткани, служащая для обработки краев застё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ечевое издел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ежда, надеваемая на пл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ясное издел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одежда, надеваемая на тал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го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швейного изделия, прикрепленное к изделию в области плеча для офор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изделия из основной ткани, предназначенная для обработки борта и выкроенная по его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зор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 из основной ткани, прикрывающая подкладку кармана или заст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клад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, предназначенная для красивого оформления изделия с изнаноч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403280" y="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шивание (гл. подш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подогнутого края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вина передней части лифа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сс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 швейного изделия на пр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мет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приметать) — это временное соединение мелкой детали с более круп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поса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посадить) — это соединение деталей разных по размерам с уравниванием срез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тачи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притачать) — это соединение мелких деталей с более крупными машинной стр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приутюжить) — это уменьшение толщины детали, шва, сгиба, с помощью утю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шивание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 пришить) — прикрепление фурнитуры или от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йм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ырез для руки на спинке и пол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740720" y="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195640" y="1197000"/>
            <a:ext cx="669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ксессуар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лкий предмет, деталь 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ор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ременная спортивная  и повседневная куртка или плащ без передней застё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паш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крытый широкий воро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тлас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ёлковая ткань с гладкой блестящей лицевой стороной.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380360" y="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403280" y="0"/>
            <a:ext cx="856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утюжить) — это разъединение припусков шва в разные стороны утю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стр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расстрочить)— это закрепление машинной строчкой разутюженных припусков шва или складок, направленных в противополож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гла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 покроя рукава одежды, при котором рукав выкраивается вместе с плечевой частью переда и спинки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льеф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соединительный шов, заменяющий вытачку или просто декоратив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осто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ырез для шеи на сп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лик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ыкроенная по косой полоска ткани, стачанная на 3-5 мм от сгиба и вывернутая на лицевую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юш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сы ткани или ленты, уложенные складками, прикрепленные одна к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6804000" y="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403280" y="404640"/>
            <a:ext cx="77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ти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стящая х/б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бор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шитая мелкая волнистая складка в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мет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сметать) — это временное соединение деталей изделия сметочными стеж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и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задняя часть л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зы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контуры выкроенных деталей, их необработанные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чи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стачать) — это соединение деталей кроя стачным ш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ежо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стояние между двумя проколами материала иг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яд повторяющихся сте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сутюжить) — это уменьшение размеров детали изделия с помощью В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7956720" y="0"/>
            <a:ext cx="172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332000" y="0"/>
            <a:ext cx="83534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али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более узкая часть туловища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дью и бёд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афт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кая плотная глянцевитая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сьм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 в виде полоски, каймы для отделки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н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ное изделия с переплетением нитей основы и 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цкое переплетение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ное переплетение нитей основы и 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чество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готовление ткани на ткацком ст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икотаж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тно, образованное путём вя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очка уступ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ачальная точка втачивания воротника в горло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юг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евающийся прибор для выравнивания поверхности ткани,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южит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жимая, прессуя, проводить утюгом по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524720" y="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Ф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03280" y="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ртук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служаща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хранения одежды от загряз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ой, модель по которой изготавливают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ест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рубчиков по краю женского платья, занаве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ланел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ягкая х/б ткань с двусторонним вор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рнитур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омогательные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451640" y="2708280"/>
            <a:ext cx="214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403280" y="3357720"/>
            <a:ext cx="7740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ала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ашная одежда из различн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лопок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ительное волокно, сырье для т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лясти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анная полоска ткани на деталях одежды, предназначенная для застегивания на пуговицу или пря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749720" y="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332000" y="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вейная машин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для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ей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рина шв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стояние от строчки до с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гиба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ве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чая профессия в швейн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ёлк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туральное волокно тутового шелкоп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ерсть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волокно животных, сырьё для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лев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в форме узкой полоски, применяемая для поддержания ремня на поя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ф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ёлковая или х/б тонкая мягкая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лиц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зрез в нижней части издел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ва, обработанный припуском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орты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роткие брю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ов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ниточное соединение слое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пуль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ушка в машинах для намотки нит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556000" y="0"/>
            <a:ext cx="55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и материа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908000" y="907920"/>
            <a:ext cx="72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.    Справочное пособ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.Н.Зименко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2002г. Педагогическое общество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.  Швейное дело. 5-7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Б. Картушина,        Г.Г. Моз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  Просвящение 20  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dnoklassniki.ru/shityeikr/topics/-1168636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812000" y="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Б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08000" y="476280"/>
            <a:ext cx="72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нт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ел со свободно висящими петлями из ленты или шнура, применяется как отд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рха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рсовая ткань с мягкой пушистой  лицев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с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очная деталь, в виде расклешенной о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тист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тонкая полупрозрачная ,х/б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уз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ёгкая женская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ор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ай застё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рюки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ясная одежда. часть 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умазе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тная х/б ткань, с начёсом с од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язь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ая х/б ткань полотняного переплет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740720" y="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763640" y="765000"/>
            <a:ext cx="73422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львет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/б ткань в руб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люр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шевая плотная кожа или лучший сорт велю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Т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ботка деталей и изделия с использованием влаги, тепла и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ан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д оборки у женского пла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окн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етка растительной или животной ткани нитевидной формы, для изготовления швейн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рот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трезная или цельнокроёная  часть верхней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812000" y="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195640" y="1125360"/>
            <a:ext cx="69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тачать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единить  окончательно  две детали по выпуклым, вогнутым ли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крой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блон для раскроя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мётывание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равить и временно закрепить смёточ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чкой кра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тач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й элемент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шивка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ин из видов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85080" y="0"/>
            <a:ext cx="12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835280" y="404640"/>
            <a:ext cx="7048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абардин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кань саржевого переплетения для пош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ю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ардероб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одежда одн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ладь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выши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игроскопичность 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материалов поглощать вл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орловина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нтурная линия проходящая по  основанию ш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оде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бка из клиньев  резко расширяющиеся к 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р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таль или всё изделие с мелкими жёсткими склад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12000" y="0"/>
            <a:ext cx="12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19280" y="836640"/>
            <a:ext cx="752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катир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лажно-тепловая обработка новой ткани перед раскроем для предотвращения усадки в процессе пошива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кориро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крашение изделия швейной фурнитурой: пуговицами, стразам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ина стеж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сстояние между двумя проколами иглы в одной стр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апиров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свободно лежащие или падающие мягкие скл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ублиро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единение детали изделия с клеевым прокладочным матери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ап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ёлая плотная ткань, чистошерстяная или с бумажной осн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667640" y="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Ж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63640" y="836640"/>
            <a:ext cx="7380360" cy="76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аб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жевные или кисейные оборки вокруг ворот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акет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ая и женская верхняя одежда облегающая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ет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ая и женская верхняя одежда  без рука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6875640" y="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З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692360" y="549360"/>
            <a:ext cx="745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ах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заход одной полы одежды на другую. Применяется при пошиве юбок и блузок и платьев, отрезных п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страчи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кладывание машинной строчки для закрепления подогнутого края детали или изделия, складок, вытачек, защипов. Застрачивание низа изделия, низа рукав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утюживание (гл. заутюж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тгибание и закрепление утюгом припусков шва, складки или вытачки на одну сторону. Например: заутюжить швы; заутюжить выта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щип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елкие, застроченные на лицевой стороне складочки, которые применяются для отделки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7:56:28Z</dcterms:created>
  <dc:creator>Редактор</dc:creator>
  <dc:description/>
  <dc:language>en-US</dc:language>
  <cp:lastModifiedBy>Повалихин Кирилл Андреевич</cp:lastModifiedBy>
  <dcterms:modified xsi:type="dcterms:W3CDTF">2024-02-12T13:30:51Z</dcterms:modified>
  <cp:revision>61</cp:revision>
  <dc:subject/>
  <dc:title>Презентация PowerPoint</dc:title>
</cp:coreProperties>
</file>