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3E2-DEBE-4966-A121-33AAD4D3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6AD-3922-4A25-82CA-A419CDAF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493-DE83-4996-A33F-5CBDAD4E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969-9777-438E-9C20-CBFFC52F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3594-F1BA-4C55-9E24-BE7A0247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C21C-4F69-420E-8ADB-9D38A2A2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D45C-76B1-47B1-95FD-60335C1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B03C-1BEC-447C-BF56-9FA6DEC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AC6F-0F9B-46F8-8327-71685D0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95DF-0D6B-498C-B28B-4740932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E65D-8B7E-41E9-B349-5EEED07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A93-1DB4-41E1-BE1F-053FE3F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1B5E-FB64-4F5F-9300-04082B3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7832-3384-4FBA-B40A-B3E053A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8B9-446B-4BED-84D8-D77E457D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B67A-67AE-4BB4-A8B3-C1E6FE56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4535-EC98-460D-B5C4-2C85812C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7EE-972E-41A7-A81B-3DFDA68F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F53-24A5-425E-A93A-FA17656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7E0-C809-4C44-A3F0-8579804E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D06-11E4-4899-B10A-14B72881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CD6-827D-48A4-8290-BBFC7E1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686-F0BC-4A4E-8C6C-3F4DCF5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688-8D0B-49C0-B24F-DF32099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185-9327-4DCB-A421-4DA747ECB89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B65-703F-4431-AEA2-791A9A4F6E9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979640" y="1052640"/>
            <a:ext cx="58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ИСПОЛЬЗОВАНИЕ ТАБЛИЧНЫХ МОДЕЛЕ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ПРИ РЕШЕНИИ СЮЖЕТНЫХ ЗА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В КЛАССА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СРЕДНЕЙ ШК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14280" y="528624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ИК Н.А., учитель математики, Гимназия РУТ (МИ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4360" y="247680"/>
            <a:ext cx="46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Шаг к ОГ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547640" y="907920"/>
            <a:ext cx="691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аша, Маша и Алёша собирали клубнику. Саша собрал 8,2 кг клубники, что на 3,7 кг больше, чем собрала Маша, и на 5,3 кг меньше, чем собрал Алёша. Сколько килограммов клубники собрали де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66680" y="2705040"/>
          <a:ext cx="7772400" cy="2595600"/>
        </p:xfrm>
        <a:graphic>
          <a:graphicData uri="http://schemas.openxmlformats.org/drawingml/2006/table">
            <a:tbl>
              <a:tblPr/>
              <a:tblGrid>
                <a:gridCol w="1943280"/>
                <a:gridCol w="3002040"/>
                <a:gridCol w="1439640"/>
                <a:gridCol w="138744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к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2-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ё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2+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AutoShape 85"/>
          <p:cNvSpPr/>
          <p:nvPr/>
        </p:nvSpPr>
        <p:spPr>
          <a:xfrm>
            <a:off x="5724360" y="35002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6"/>
          <p:cNvSpPr/>
          <p:nvPr/>
        </p:nvSpPr>
        <p:spPr>
          <a:xfrm>
            <a:off x="3582720" y="3328920"/>
            <a:ext cx="214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на 3,7 кг боль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7"/>
          <p:cNvSpPr/>
          <p:nvPr/>
        </p:nvSpPr>
        <p:spPr>
          <a:xfrm>
            <a:off x="5219640" y="3741840"/>
            <a:ext cx="287280" cy="1271520"/>
          </a:xfrm>
          <a:custGeom>
            <a:avLst/>
            <a:gdLst>
              <a:gd name="textAreaLeft" fmla="*/ 38520 w 287280"/>
              <a:gd name="textAreaRight" fmla="*/ 248760 w 287280"/>
              <a:gd name="textAreaTop" fmla="*/ 222480 h 1271520"/>
              <a:gd name="textAreaBottom" fmla="*/ 9219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8"/>
          <p:cNvSpPr/>
          <p:nvPr/>
        </p:nvSpPr>
        <p:spPr>
          <a:xfrm>
            <a:off x="3061080" y="3619440"/>
            <a:ext cx="21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 5,3 кг мень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9"/>
          <p:cNvSpPr/>
          <p:nvPr/>
        </p:nvSpPr>
        <p:spPr>
          <a:xfrm>
            <a:off x="7596360" y="350028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20"/>
          <p:cNvSpPr/>
          <p:nvPr/>
        </p:nvSpPr>
        <p:spPr>
          <a:xfrm>
            <a:off x="7866000" y="3828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22"/>
          <p:cNvSpPr/>
          <p:nvPr/>
        </p:nvSpPr>
        <p:spPr>
          <a:xfrm>
            <a:off x="2331360" y="5562720"/>
            <a:ext cx="54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8,2) + (8,2-3,7) + (8,2+5,3)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187280" y="6555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киоск доставили 960 тетрадей,   этого количества было в одну линию,    - в клетку, а осталь-ные – в две линии. Сколько доставили тетрадей в две лин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66680" y="2705040"/>
          <a:ext cx="7772400" cy="2772000"/>
        </p:xfrm>
        <a:graphic>
          <a:graphicData uri="http://schemas.openxmlformats.org/drawingml/2006/table">
            <a:tbl>
              <a:tblPr/>
              <a:tblGrid>
                <a:gridCol w="1943280"/>
                <a:gridCol w="2066760"/>
                <a:gridCol w="2374920"/>
                <a:gridCol w="1387440"/>
              </a:tblGrid>
              <a:tr h="83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етра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дол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 ли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2 ли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AutoShape 39"/>
          <p:cNvSpPr/>
          <p:nvPr/>
        </p:nvSpPr>
        <p:spPr>
          <a:xfrm>
            <a:off x="7558200" y="361476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5790960" y="472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2296440" y="5562720"/>
            <a:ext cx="58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0 - 96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- 96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= 80 (шт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2"/>
              <p:cNvSpPr txBox="1"/>
              <p:nvPr/>
            </p:nvSpPr>
            <p:spPr>
              <a:xfrm>
                <a:off x="7527960" y="625320"/>
                <a:ext cx="2206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4"/>
              <p:cNvSpPr txBox="1"/>
              <p:nvPr/>
            </p:nvSpPr>
            <p:spPr>
              <a:xfrm>
                <a:off x="5549760" y="988920"/>
                <a:ext cx="225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Rectangle 5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7"/>
              <p:cNvSpPr txBox="1"/>
              <p:nvPr/>
            </p:nvSpPr>
            <p:spPr>
              <a:xfrm>
                <a:off x="3851280" y="4114800"/>
                <a:ext cx="2998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Rectangle 6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59"/>
              <p:cNvSpPr txBox="1"/>
              <p:nvPr/>
            </p:nvSpPr>
            <p:spPr>
              <a:xfrm>
                <a:off x="3843360" y="3484440"/>
                <a:ext cx="280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Rectangle 6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1"/>
              <p:cNvSpPr txBox="1"/>
              <p:nvPr/>
            </p:nvSpPr>
            <p:spPr>
              <a:xfrm>
                <a:off x="5597640" y="3471840"/>
                <a:ext cx="25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Rectangle 6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3"/>
              <p:cNvSpPr txBox="1"/>
              <p:nvPr/>
            </p:nvSpPr>
            <p:spPr>
              <a:xfrm>
                <a:off x="5580000" y="4106880"/>
                <a:ext cx="271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Text Box 65"/>
          <p:cNvSpPr/>
          <p:nvPr/>
        </p:nvSpPr>
        <p:spPr>
          <a:xfrm>
            <a:off x="7908840" y="4200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6"/>
              <p:cNvSpPr txBox="1"/>
              <p:nvPr/>
            </p:nvSpPr>
            <p:spPr>
              <a:xfrm>
                <a:off x="5834160" y="545004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Rectangle 6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8"/>
              <p:cNvSpPr txBox="1"/>
              <p:nvPr/>
            </p:nvSpPr>
            <p:spPr>
              <a:xfrm>
                <a:off x="4275000" y="5495760"/>
                <a:ext cx="282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двух корзинках лежит 124 яблока. Если из первой корзинки переложить во вторую 20 яблок, то во второй корзинке яблок станет в три раза больше, чем в первой. Сколько яблок было в каждой корзин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708280"/>
          <a:ext cx="7772400" cy="2163600"/>
        </p:xfrm>
        <a:graphic>
          <a:graphicData uri="http://schemas.openxmlformats.org/drawingml/2006/table">
            <a:tbl>
              <a:tblPr/>
              <a:tblGrid>
                <a:gridCol w="1440000"/>
                <a:gridCol w="1150920"/>
                <a:gridCol w="1295280"/>
                <a:gridCol w="1295280"/>
                <a:gridCol w="1295640"/>
                <a:gridCol w="129528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л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-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-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л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я корзин-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я корзин-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AutoShape 108"/>
          <p:cNvSpPr/>
          <p:nvPr/>
        </p:nvSpPr>
        <p:spPr>
          <a:xfrm flipV="1">
            <a:off x="5076720" y="3716280"/>
            <a:ext cx="142920" cy="936720"/>
          </a:xfrm>
          <a:custGeom>
            <a:avLst/>
            <a:gdLst>
              <a:gd name="textAreaLeft" fmla="*/ 19080 w 142920"/>
              <a:gd name="textAreaRight" fmla="*/ 123840 w 1429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9"/>
          <p:cNvSpPr/>
          <p:nvPr/>
        </p:nvSpPr>
        <p:spPr>
          <a:xfrm>
            <a:off x="5221800" y="3759120"/>
            <a:ext cx="108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в 3 ра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боль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0"/>
          <p:cNvSpPr/>
          <p:nvPr/>
        </p:nvSpPr>
        <p:spPr>
          <a:xfrm>
            <a:off x="6695640" y="42163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3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20"/>
          <p:cNvSpPr/>
          <p:nvPr/>
        </p:nvSpPr>
        <p:spPr>
          <a:xfrm>
            <a:off x="7667640" y="3573360"/>
            <a:ext cx="217440" cy="1150920"/>
          </a:xfrm>
          <a:custGeom>
            <a:avLst/>
            <a:gdLst>
              <a:gd name="textAreaLeft" fmla="*/ 0 w 217440"/>
              <a:gd name="textAreaRight" fmla="*/ 78480 w 217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21"/>
          <p:cNvSpPr/>
          <p:nvPr/>
        </p:nvSpPr>
        <p:spPr>
          <a:xfrm>
            <a:off x="7958160" y="3895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2"/>
          <p:cNvSpPr/>
          <p:nvPr/>
        </p:nvSpPr>
        <p:spPr>
          <a:xfrm>
            <a:off x="1693800" y="4962600"/>
            <a:ext cx="212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2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2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3"/>
          <p:cNvSpPr/>
          <p:nvPr/>
        </p:nvSpPr>
        <p:spPr>
          <a:xfrm>
            <a:off x="1312560" y="5011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4"/>
          <p:cNvSpPr/>
          <p:nvPr/>
        </p:nvSpPr>
        <p:spPr>
          <a:xfrm>
            <a:off x="3990960" y="4975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5"/>
          <p:cNvSpPr/>
          <p:nvPr/>
        </p:nvSpPr>
        <p:spPr>
          <a:xfrm>
            <a:off x="4313880" y="4923000"/>
            <a:ext cx="342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20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31 + 20 = 5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4 – 51 = 7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6"/>
          <p:cNvSpPr/>
          <p:nvPr/>
        </p:nvSpPr>
        <p:spPr>
          <a:xfrm>
            <a:off x="4002120" y="57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аршрут длиной 48 км туристы прошли за три дня. Во второй день туристы прошли 60%, а в третий -      расстояния, пройденного в первый день. Сколько километров проходили туристы каждый ден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0"/>
          <p:cNvSpPr/>
          <p:nvPr/>
        </p:nvSpPr>
        <p:spPr>
          <a:xfrm flipV="1">
            <a:off x="4643280" y="3429000"/>
            <a:ext cx="216000" cy="1440000"/>
          </a:xfrm>
          <a:custGeom>
            <a:avLst/>
            <a:gdLst>
              <a:gd name="textAreaLeft" fmla="*/ 28800 w 216000"/>
              <a:gd name="textAreaRight" fmla="*/ 187200 w 21600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030560" y="4665600"/>
            <a:ext cx="44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43"/>
          <p:cNvSpPr/>
          <p:nvPr/>
        </p:nvSpPr>
        <p:spPr>
          <a:xfrm>
            <a:off x="7812000" y="3500280"/>
            <a:ext cx="216000" cy="1584360"/>
          </a:xfrm>
          <a:custGeom>
            <a:avLst/>
            <a:gdLst>
              <a:gd name="textAreaLeft" fmla="*/ 0 w 216000"/>
              <a:gd name="textAreaRight" fmla="*/ 7812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8140320" y="4013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1737360" y="5345280"/>
            <a:ext cx="372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+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1333440" y="537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5495400" y="529740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= 28,8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7958520" y="587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5526000" y="580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50"/>
              <p:cNvSpPr txBox="1"/>
              <p:nvPr/>
            </p:nvSpPr>
            <p:spPr>
              <a:xfrm>
                <a:off x="4211640" y="1316160"/>
                <a:ext cx="25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5" name=""/>
          <p:cNvGraphicFramePr/>
          <p:nvPr/>
        </p:nvGraphicFramePr>
        <p:xfrm>
          <a:off x="1090440" y="2639880"/>
          <a:ext cx="7772400" cy="2637000"/>
        </p:xfrm>
        <a:graphic>
          <a:graphicData uri="http://schemas.openxmlformats.org/drawingml/2006/table">
            <a:tbl>
              <a:tblPr/>
              <a:tblGrid>
                <a:gridCol w="1943280"/>
                <a:gridCol w="2570040"/>
                <a:gridCol w="2087640"/>
                <a:gridCol w="11714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в дол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тояние, 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й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9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94"/>
              <p:cNvSpPr txBox="1"/>
              <p:nvPr/>
            </p:nvSpPr>
            <p:spPr>
              <a:xfrm>
                <a:off x="3635280" y="4572000"/>
                <a:ext cx="2764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Text Box 109"/>
          <p:cNvSpPr/>
          <p:nvPr/>
        </p:nvSpPr>
        <p:spPr>
          <a:xfrm>
            <a:off x="6589440" y="339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0"/>
          <p:cNvSpPr/>
          <p:nvPr/>
        </p:nvSpPr>
        <p:spPr>
          <a:xfrm>
            <a:off x="6290640" y="407664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11"/>
              <p:cNvSpPr txBox="1"/>
              <p:nvPr/>
            </p:nvSpPr>
            <p:spPr>
              <a:xfrm>
                <a:off x="6643800" y="4559400"/>
                <a:ext cx="644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1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14"/>
              <p:cNvSpPr txBox="1"/>
              <p:nvPr/>
            </p:nvSpPr>
            <p:spPr>
              <a:xfrm>
                <a:off x="3805200" y="5275440"/>
                <a:ext cx="2732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Rectangle 1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6"/>
              <p:cNvSpPr txBox="1"/>
              <p:nvPr/>
            </p:nvSpPr>
            <p:spPr>
              <a:xfrm>
                <a:off x="2411280" y="5661000"/>
                <a:ext cx="601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Rectangle 1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18"/>
              <p:cNvSpPr txBox="1"/>
              <p:nvPr/>
            </p:nvSpPr>
            <p:spPr>
              <a:xfrm>
                <a:off x="5940360" y="5737320"/>
                <a:ext cx="2016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187280" y="6555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умма двух чисел равна 495. Большее из чисел оканчивается цифрой 0. Если 0 зачеркнуть, то получится второе число. Найдите эти чи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98720" y="2709720"/>
          <a:ext cx="7772400" cy="230832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AutoShape 92"/>
          <p:cNvSpPr/>
          <p:nvPr/>
        </p:nvSpPr>
        <p:spPr>
          <a:xfrm>
            <a:off x="3203640" y="3716280"/>
            <a:ext cx="144360" cy="1152720"/>
          </a:xfrm>
          <a:custGeom>
            <a:avLst/>
            <a:gdLst>
              <a:gd name="textAreaLeft" fmla="*/ 19080 w 144360"/>
              <a:gd name="textAreaRight" fmla="*/ 125280 w 144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3"/>
          <p:cNvSpPr/>
          <p:nvPr/>
        </p:nvSpPr>
        <p:spPr>
          <a:xfrm>
            <a:off x="3474360" y="3780000"/>
            <a:ext cx="12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0 р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94"/>
          <p:cNvSpPr/>
          <p:nvPr/>
        </p:nvSpPr>
        <p:spPr>
          <a:xfrm>
            <a:off x="6225840" y="426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5"/>
          <p:cNvSpPr/>
          <p:nvPr/>
        </p:nvSpPr>
        <p:spPr>
          <a:xfrm>
            <a:off x="6228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05"/>
          <p:cNvSpPr/>
          <p:nvPr/>
        </p:nvSpPr>
        <p:spPr>
          <a:xfrm>
            <a:off x="7093080" y="3645000"/>
            <a:ext cx="142920" cy="1296720"/>
          </a:xfrm>
          <a:custGeom>
            <a:avLst/>
            <a:gdLst>
              <a:gd name="textAreaLeft" fmla="*/ 0 w 142920"/>
              <a:gd name="textAreaRight" fmla="*/ 51480 w 14292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06"/>
          <p:cNvSpPr/>
          <p:nvPr/>
        </p:nvSpPr>
        <p:spPr>
          <a:xfrm>
            <a:off x="7488360" y="4043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7"/>
          <p:cNvSpPr/>
          <p:nvPr/>
        </p:nvSpPr>
        <p:spPr>
          <a:xfrm>
            <a:off x="3735720" y="5167440"/>
            <a:ext cx="25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= 49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187280" y="6555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месь сухофруктов состоит из яблок, изюма и чернослива. Чернослива в 1,6 раза больше, чем яблок, а изюма на 0,2 кг больше, чем яблок. Сколько яблок, чернослива и изюма в 2 кг сме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98720" y="2709720"/>
          <a:ext cx="7772400" cy="24480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бл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осл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AutoShape 32"/>
          <p:cNvSpPr/>
          <p:nvPr/>
        </p:nvSpPr>
        <p:spPr>
          <a:xfrm flipV="1">
            <a:off x="4572000" y="3131280"/>
            <a:ext cx="360360" cy="1729080"/>
          </a:xfrm>
          <a:custGeom>
            <a:avLst/>
            <a:gdLst>
              <a:gd name="textAreaLeft" fmla="*/ 48240 w 360360"/>
              <a:gd name="textAreaRight" fmla="*/ 312120 w 360360"/>
              <a:gd name="textAreaTop" fmla="*/ 302040 h 1729080"/>
              <a:gd name="textAreaBottom" fmla="*/ 12531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4"/>
          <p:cNvSpPr/>
          <p:nvPr/>
        </p:nvSpPr>
        <p:spPr>
          <a:xfrm>
            <a:off x="6225840" y="38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5"/>
          <p:cNvSpPr/>
          <p:nvPr/>
        </p:nvSpPr>
        <p:spPr>
          <a:xfrm>
            <a:off x="6228720" y="319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7054920" y="3327480"/>
            <a:ext cx="216000" cy="1703160"/>
          </a:xfrm>
          <a:custGeom>
            <a:avLst/>
            <a:gdLst>
              <a:gd name="textAreaLeft" fmla="*/ 0 w 216000"/>
              <a:gd name="textAreaRight" fmla="*/ 78120 w 216000"/>
              <a:gd name="textAreaTop" fmla="*/ 44280 h 1703160"/>
              <a:gd name="textAreaBottom" fmla="*/ 1658880 h 170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7453440" y="394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3032640" y="3772080"/>
            <a:ext cx="14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0,2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46"/>
          <p:cNvSpPr/>
          <p:nvPr/>
        </p:nvSpPr>
        <p:spPr>
          <a:xfrm flipV="1">
            <a:off x="4356000" y="3191760"/>
            <a:ext cx="144720" cy="1152360"/>
          </a:xfrm>
          <a:custGeom>
            <a:avLst/>
            <a:gdLst>
              <a:gd name="textAreaLeft" fmla="*/ 19080 w 144720"/>
              <a:gd name="textAreaRight" fmla="*/ 125640 w 14472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2"/>
          <p:cNvSpPr/>
          <p:nvPr/>
        </p:nvSpPr>
        <p:spPr>
          <a:xfrm>
            <a:off x="3061440" y="4386240"/>
            <a:ext cx="15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в 1,6 р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3"/>
          <p:cNvSpPr/>
          <p:nvPr/>
        </p:nvSpPr>
        <p:spPr>
          <a:xfrm>
            <a:off x="6228720" y="44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1"/>
          <p:cNvSpPr/>
          <p:nvPr/>
        </p:nvSpPr>
        <p:spPr>
          <a:xfrm>
            <a:off x="1166760" y="5214960"/>
            <a:ext cx="393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(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0,2) + 1,6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0,5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2"/>
          <p:cNvSpPr/>
          <p:nvPr/>
        </p:nvSpPr>
        <p:spPr>
          <a:xfrm>
            <a:off x="5211720" y="5216400"/>
            <a:ext cx="28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0,2 = 0,7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4"/>
          <p:cNvSpPr/>
          <p:nvPr/>
        </p:nvSpPr>
        <p:spPr>
          <a:xfrm>
            <a:off x="5219640" y="566100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,6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0,8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187280" y="65556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Для распечатки 340 страниц были исполь-зованы две копировальные машины. Первая машина ра-ботала 10 мин, а вторая  - 15 мин. Сколько страниц в ми-нуту печатает каждая машина, если первая печатает в минуту на 4 страницы больше, чем втор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098720" y="2709720"/>
          <a:ext cx="7721280" cy="2530440"/>
        </p:xfrm>
        <a:graphic>
          <a:graphicData uri="http://schemas.openxmlformats.org/drawingml/2006/table">
            <a:tbl>
              <a:tblPr/>
              <a:tblGrid>
                <a:gridCol w="1101600"/>
                <a:gridCol w="790560"/>
                <a:gridCol w="1509840"/>
                <a:gridCol w="1439640"/>
                <a:gridCol w="1511280"/>
                <a:gridCol w="1368360"/>
              </a:tblGrid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-мя,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производи-тельностей, стр.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-тельность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тр./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печа-тано ст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т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37"/>
          <p:cNvSpPr/>
          <p:nvPr/>
        </p:nvSpPr>
        <p:spPr>
          <a:xfrm>
            <a:off x="4552560" y="461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8"/>
          <p:cNvSpPr/>
          <p:nvPr/>
        </p:nvSpPr>
        <p:spPr>
          <a:xfrm>
            <a:off x="4555440" y="387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9"/>
          <p:cNvSpPr/>
          <p:nvPr/>
        </p:nvSpPr>
        <p:spPr>
          <a:xfrm>
            <a:off x="7596360" y="4005360"/>
            <a:ext cx="215640" cy="12254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0"/>
          <p:cNvSpPr/>
          <p:nvPr/>
        </p:nvSpPr>
        <p:spPr>
          <a:xfrm>
            <a:off x="7958160" y="4381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1"/>
          <p:cNvSpPr/>
          <p:nvPr/>
        </p:nvSpPr>
        <p:spPr>
          <a:xfrm>
            <a:off x="3121200" y="3733920"/>
            <a:ext cx="121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42"/>
          <p:cNvSpPr/>
          <p:nvPr/>
        </p:nvSpPr>
        <p:spPr>
          <a:xfrm>
            <a:off x="4284720" y="4076640"/>
            <a:ext cx="144360" cy="1152720"/>
          </a:xfrm>
          <a:custGeom>
            <a:avLst/>
            <a:gdLst>
              <a:gd name="textAreaLeft" fmla="*/ 19080 w 144360"/>
              <a:gd name="textAreaRight" fmla="*/ 125280 w 144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5"/>
          <p:cNvSpPr/>
          <p:nvPr/>
        </p:nvSpPr>
        <p:spPr>
          <a:xfrm>
            <a:off x="1166760" y="5362560"/>
            <a:ext cx="42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0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4) + 15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34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5"/>
          <p:cNvSpPr/>
          <p:nvPr/>
        </p:nvSpPr>
        <p:spPr>
          <a:xfrm>
            <a:off x="5005080" y="39877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6"/>
          <p:cNvSpPr/>
          <p:nvPr/>
        </p:nvSpPr>
        <p:spPr>
          <a:xfrm>
            <a:off x="5043600" y="47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97"/>
          <p:cNvSpPr/>
          <p:nvPr/>
        </p:nvSpPr>
        <p:spPr>
          <a:xfrm>
            <a:off x="5999760" y="3984480"/>
            <a:ext cx="14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98"/>
          <p:cNvSpPr/>
          <p:nvPr/>
        </p:nvSpPr>
        <p:spPr>
          <a:xfrm>
            <a:off x="6291360" y="47005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0"/>
          <p:cNvSpPr/>
          <p:nvPr/>
        </p:nvSpPr>
        <p:spPr>
          <a:xfrm>
            <a:off x="5311800" y="5357880"/>
            <a:ext cx="30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4 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6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187280" y="65556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 турбазе имеются палатки и домики; всего их 25. В каждом домике живут 4 человека, а в каждой палатке 2 человека. Сколько на турбазе палаток и сколько домиков, если на турбазе отдыхают 70 челове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098720" y="2709720"/>
          <a:ext cx="7721280" cy="2210040"/>
        </p:xfrm>
        <a:graphic>
          <a:graphicData uri="http://schemas.openxmlformats.org/drawingml/2006/table">
            <a:tbl>
              <a:tblPr/>
              <a:tblGrid>
                <a:gridCol w="1101600"/>
                <a:gridCol w="1076400"/>
                <a:gridCol w="1224000"/>
                <a:gridCol w="1584000"/>
                <a:gridCol w="1366920"/>
                <a:gridCol w="1368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 в одном объекте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39"/>
          <p:cNvSpPr/>
          <p:nvPr/>
        </p:nvSpPr>
        <p:spPr>
          <a:xfrm>
            <a:off x="219672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219672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1"/>
          <p:cNvSpPr/>
          <p:nvPr/>
        </p:nvSpPr>
        <p:spPr>
          <a:xfrm>
            <a:off x="3419640" y="3652920"/>
            <a:ext cx="215640" cy="12254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2"/>
          <p:cNvSpPr/>
          <p:nvPr/>
        </p:nvSpPr>
        <p:spPr>
          <a:xfrm>
            <a:off x="378144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5"/>
          <p:cNvSpPr/>
          <p:nvPr/>
        </p:nvSpPr>
        <p:spPr>
          <a:xfrm>
            <a:off x="3182760" y="5362560"/>
            <a:ext cx="254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25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 +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7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7"/>
          <p:cNvSpPr/>
          <p:nvPr/>
        </p:nvSpPr>
        <p:spPr>
          <a:xfrm>
            <a:off x="5043600" y="47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8"/>
          <p:cNvSpPr/>
          <p:nvPr/>
        </p:nvSpPr>
        <p:spPr>
          <a:xfrm>
            <a:off x="6377760" y="361152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9"/>
          <p:cNvSpPr/>
          <p:nvPr/>
        </p:nvSpPr>
        <p:spPr>
          <a:xfrm>
            <a:off x="6365160" y="4268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5"/>
          <p:cNvSpPr/>
          <p:nvPr/>
        </p:nvSpPr>
        <p:spPr>
          <a:xfrm>
            <a:off x="7524720" y="3657600"/>
            <a:ext cx="216000" cy="12254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797220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6278400" y="5373720"/>
            <a:ext cx="254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78"/>
          <p:cNvSpPr/>
          <p:nvPr/>
        </p:nvSpPr>
        <p:spPr>
          <a:xfrm>
            <a:off x="3059280" y="5445000"/>
            <a:ext cx="72720" cy="8636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79"/>
          <p:cNvSpPr/>
          <p:nvPr/>
        </p:nvSpPr>
        <p:spPr>
          <a:xfrm>
            <a:off x="6154560" y="544500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187280" y="6555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За одно и то же время велосипедист проехал 4 км, а мотоциклист 10 км. Скорость мотоциклиста на 18 км/ч больше скорости велосипе-диста. Найдите скорость велосипеди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066680" y="2776680"/>
          <a:ext cx="7772400" cy="2346120"/>
        </p:xfrm>
        <a:graphic>
          <a:graphicData uri="http://schemas.openxmlformats.org/drawingml/2006/table">
            <a:tbl>
              <a:tblPr/>
              <a:tblGrid>
                <a:gridCol w="1554120"/>
                <a:gridCol w="1590840"/>
                <a:gridCol w="2016000"/>
                <a:gridCol w="1657440"/>
                <a:gridCol w="95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,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скор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ь,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ть, 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оси-педи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: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о-цикли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: (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+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134"/>
          <p:cNvSpPr/>
          <p:nvPr/>
        </p:nvSpPr>
        <p:spPr>
          <a:xfrm>
            <a:off x="2841480" y="4102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в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135"/>
          <p:cNvSpPr/>
          <p:nvPr/>
        </p:nvSpPr>
        <p:spPr>
          <a:xfrm flipV="1">
            <a:off x="4356000" y="3788640"/>
            <a:ext cx="360360" cy="1081080"/>
          </a:xfrm>
          <a:custGeom>
            <a:avLst/>
            <a:gdLst>
              <a:gd name="textAreaLeft" fmla="*/ 48240 w 360360"/>
              <a:gd name="textAreaRight" fmla="*/ 312120 w 360360"/>
              <a:gd name="textAreaTop" fmla="*/ 188640 h 1081080"/>
              <a:gd name="textAreaBottom" fmla="*/ 783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49"/>
          <p:cNvSpPr/>
          <p:nvPr/>
        </p:nvSpPr>
        <p:spPr>
          <a:xfrm>
            <a:off x="4811760" y="3940200"/>
            <a:ext cx="121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50"/>
              <p:cNvSpPr txBox="1"/>
              <p:nvPr/>
            </p:nvSpPr>
            <p:spPr>
              <a:xfrm>
                <a:off x="2411280" y="5300640"/>
                <a:ext cx="18003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Text Box 152"/>
          <p:cNvSpPr/>
          <p:nvPr/>
        </p:nvSpPr>
        <p:spPr>
          <a:xfrm>
            <a:off x="4194360" y="5486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53"/>
          <p:cNvSpPr/>
          <p:nvPr/>
        </p:nvSpPr>
        <p:spPr>
          <a:xfrm>
            <a:off x="4987080" y="541512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2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9"/>
          <p:cNvSpPr/>
          <p:nvPr/>
        </p:nvSpPr>
        <p:spPr>
          <a:xfrm>
            <a:off x="1150920" y="1413000"/>
            <a:ext cx="7777080" cy="51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1403280" y="1303200"/>
            <a:ext cx="727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Рассмотрим примеры разрабо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табличных моделей для задач, встречающихся в курсе математики 5-9 классов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колько объектов рассматривается  в условии задачи, их назва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187280" y="33274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ва объекта; первый день уборки яблок и второ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187280" y="40464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стоит из двух строк в соответствии с количеством объ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колько всего яблок собрали школьники за два дня рабо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187280" y="33274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сего школьники собрали 395 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187280" y="38178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таблицу добавляется столбец, отражающий эту велич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32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4956120" y="654120"/>
            <a:ext cx="364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 два дня собрали 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3958920" y="4876920"/>
            <a:ext cx="41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 всего собрали ябл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аково соотношение собранных яблок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87280" y="33274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о второй день собрали в три раза больше яблок, чем в первый, и ещё 27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87280" y="40464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обавляется второй столбец, показывающий указанное соотно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AutoShape 24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2124000" y="1022400"/>
            <a:ext cx="673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 второй день они собрали в  три раза больш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1192320" y="1392120"/>
            <a:ext cx="606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чем  в   первый  день,   и  ещё   27   кг  ябл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3957480" y="4876920"/>
            <a:ext cx="41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 всего собрали ябл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3184200" y="4867200"/>
            <a:ext cx="14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колько вс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0"/>
          <p:cNvSpPr/>
          <p:nvPr/>
        </p:nvSpPr>
        <p:spPr>
          <a:xfrm>
            <a:off x="4716360" y="4869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1"/>
          <p:cNvSpPr/>
          <p:nvPr/>
        </p:nvSpPr>
        <p:spPr>
          <a:xfrm flipV="1">
            <a:off x="4906800" y="5571360"/>
            <a:ext cx="287640" cy="792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5245560" y="5554800"/>
            <a:ext cx="35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 второй день собрал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 раза больше + 27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5463000" y="4778280"/>
            <a:ext cx="266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ово соотно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бранных яблок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акую величину можно принять в качестве переменн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187280" y="33274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сса яблок, собранных в перв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187280" y="3678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обавляется столбец, содержащий перемен-ную и выраженное с её помощью массу яблок, собранных во второ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AutoShape 24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3184200" y="4867200"/>
            <a:ext cx="14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колько вс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0"/>
          <p:cNvSpPr/>
          <p:nvPr/>
        </p:nvSpPr>
        <p:spPr>
          <a:xfrm>
            <a:off x="4716360" y="4869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1"/>
          <p:cNvSpPr/>
          <p:nvPr/>
        </p:nvSpPr>
        <p:spPr>
          <a:xfrm flipV="1">
            <a:off x="4906800" y="5571360"/>
            <a:ext cx="287640" cy="792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5245560" y="5554800"/>
            <a:ext cx="35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 второй день собрал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 раза больше + 27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5463000" y="4778280"/>
            <a:ext cx="266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ово соотно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бранных яблок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4767480" y="4867200"/>
            <a:ext cx="18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ово соотно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нных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5151600" y="5559480"/>
            <a:ext cx="15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 второй ден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в 3 ра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ше + 27 к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6608880" y="4856040"/>
            <a:ext cx="0" cy="16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6814440" y="4871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6588000" y="596268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7332480" y="544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0"/>
          <p:cNvSpPr/>
          <p:nvPr/>
        </p:nvSpPr>
        <p:spPr>
          <a:xfrm>
            <a:off x="7021800" y="596916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7)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87280" y="2565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аков основной вопрос задач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187280" y="306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йти массу яблок, собранных в каждый из д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187280" y="36781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ячейки таблицы, содержащие выражения указанных величин, добавляются знаки вопр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AutoShape 24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3184200" y="4867200"/>
            <a:ext cx="14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колько вс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4716360" y="4869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8"/>
          <p:cNvSpPr/>
          <p:nvPr/>
        </p:nvSpPr>
        <p:spPr>
          <a:xfrm flipV="1">
            <a:off x="4906800" y="5571360"/>
            <a:ext cx="287640" cy="792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4767480" y="4867200"/>
            <a:ext cx="18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ово соотно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нных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5151600" y="5559480"/>
            <a:ext cx="15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 второй ден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в 3 ра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ше + 27 к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6608880" y="4856040"/>
            <a:ext cx="0" cy="16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7055640" y="4871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6588000" y="596268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7332480" y="544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7021800" y="596916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7)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7238160" y="1379520"/>
            <a:ext cx="127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195920" y="1738440"/>
            <a:ext cx="731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илограммов яблок  школьники собрали за каждый 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0"/>
          <p:cNvSpPr/>
          <p:nvPr/>
        </p:nvSpPr>
        <p:spPr>
          <a:xfrm>
            <a:off x="1192320" y="212076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1"/>
          <p:cNvSpPr/>
          <p:nvPr/>
        </p:nvSpPr>
        <p:spPr>
          <a:xfrm>
            <a:off x="674172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2"/>
          <p:cNvSpPr/>
          <p:nvPr/>
        </p:nvSpPr>
        <p:spPr>
          <a:xfrm>
            <a:off x="6741720" y="596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3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187280" y="6429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281240" y="25574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170720" y="24620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ставим уравн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169280" y="3160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1-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769760" y="3529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042360" y="31608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660120" y="31608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2-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001560" y="31608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028320" y="3559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3719160" y="3486240"/>
            <a:ext cx="16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3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+ 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632200" y="349560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1119240" y="4205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решим ег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755160" y="4794120"/>
            <a:ext cx="256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+ 27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= 39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= 36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= 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187280" y="6429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7238160" y="1379520"/>
            <a:ext cx="127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95920" y="1738440"/>
            <a:ext cx="731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илограммов яблок  школьники собрали за каждый 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192320" y="210816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242720" y="267804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1912680" y="3573360"/>
            <a:ext cx="54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ервый день школьники собрали 92 к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 во второй день 303 кг ябл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35:31Z</dcterms:created>
  <dc:creator>Круглик Н.А.</dc:creator>
  <dc:description/>
  <dc:language>en-US</dc:language>
  <cp:lastModifiedBy>Учитель</cp:lastModifiedBy>
  <dcterms:modified xsi:type="dcterms:W3CDTF">2024-02-12T11:16:57Z</dcterms:modified>
  <cp:revision>168</cp:revision>
  <dc:subject/>
  <dc:title>Введение  в объектно-ориентированную среду визуального проектирования программных комплексов   Borland Delphi</dc:title>
</cp:coreProperties>
</file>