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6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5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11B-C9B7-482D-BA3A-867E69AD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922-041A-4AF3-AFB4-DAB1270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A29-C86C-4A95-A2BA-105FB1E2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642-8AA7-4473-A47D-EED211F9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C2AA6-E6C0-4273-B394-7C87F148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6940-00F6-467D-A931-BC19FC5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371EB-35A2-427E-84DE-F8FD883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B232-F37E-4AAA-A0C2-E8F725B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9BF19-906C-4705-AED3-8B5241A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3747-8470-4560-B92C-9A83A9F5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10BB1-833B-4580-99DE-9565300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2E2-AE2D-4379-BBE3-A22671E5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52F8-81F9-4BD4-95D3-C2262BD6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3C454-2F48-42F8-9C88-F6D9C52A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4A38-3576-48EA-9B8E-26A99DD1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F960E-ACCD-4657-9BC5-C4807C7D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F75B0-17C7-4E99-8232-14B12AC3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2C7-07BF-40D6-9B15-5ACFC47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BD9-AFC4-45F8-88A5-F6E426ED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32D-5B0B-4488-B284-ACAC202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609-3E25-4D04-B98B-49F35AA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516-3FE8-4D1C-8BC1-21B5F00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2B5-E48D-49C9-8DBA-1664B38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7F6-6482-4E6C-A0C7-58284D2D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575D-6BF3-426F-9F39-91FC68593F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60F5-FF6D-423A-BB8A-B178C3B51B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СНОВЫ МАТЕРИАЛОВЕДЕНИЯ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4149720"/>
            <a:ext cx="382752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подаватель материаловедения Яковлева А.И.  «Советский техникум-интерна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2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капрон (4)"/>
          <p:cNvPicPr/>
          <p:nvPr/>
        </p:nvPicPr>
        <p:blipFill>
          <a:blip r:embed="rId1"/>
          <a:stretch/>
        </p:blipFill>
        <p:spPr>
          <a:xfrm>
            <a:off x="179280" y="3284640"/>
            <a:ext cx="4776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локон шерст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от 2 см до 4,5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– природ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щина – тонкие и толс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ость – мягкие, пушист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итость – сильное извитые, упруг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 – ниже, чем у хлоп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ение – горит слабо, образуя шарик – спек черного цвета, чувствуется запах жженого пера, ро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ыв нити – кисточка с расходящимися извитыми волокон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картинка животные"/>
          <p:cNvPicPr/>
          <p:nvPr/>
        </p:nvPicPr>
        <p:blipFill>
          <a:blip r:embed="rId1"/>
          <a:stretch/>
        </p:blipFill>
        <p:spPr>
          <a:xfrm>
            <a:off x="5003640" y="155736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шерстяных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ко-меха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, прочные, стойкие к износу, почти не мнутся, хорошо драпируются, поверхность шерохова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гие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пропускают воздух, впитывают влагу сохраняют тепло, пылеем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скрое тянуться, срезы обладают осыпаемостью нитей, при стачивании на швейной машине могут прорубаться, дают большую усадку после стирки, уплотняются, нити жестких шерстяных тканей раздвигаются в ш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нитрон3"/>
          <p:cNvPicPr/>
          <p:nvPr/>
        </p:nvPicPr>
        <p:blipFill>
          <a:blip r:embed="rId1"/>
          <a:stretch/>
        </p:blipFill>
        <p:spPr>
          <a:xfrm>
            <a:off x="6877080" y="1413000"/>
            <a:ext cx="198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лк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лк – волокно представляет собой очень тонкую нить, которую выделяет гусеница тутового шелкопр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шелк"/>
          <p:cNvPicPr/>
          <p:nvPr/>
        </p:nvPicPr>
        <p:blipFill>
          <a:blip r:embed="rId1"/>
          <a:stretch/>
        </p:blipFill>
        <p:spPr>
          <a:xfrm>
            <a:off x="0" y="3141720"/>
            <a:ext cx="5219640" cy="371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капрон (2)"/>
          <p:cNvPicPr/>
          <p:nvPr/>
        </p:nvPicPr>
        <p:blipFill>
          <a:blip r:embed="rId2"/>
          <a:stretch/>
        </p:blipFill>
        <p:spPr>
          <a:xfrm>
            <a:off x="5148360" y="3141720"/>
            <a:ext cx="3995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ичная обработка шелк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копряды развиваются в несколько стад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йцо (г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гус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кукол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баб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тут шелкопряд"/>
          <p:cNvPicPr/>
          <p:nvPr/>
        </p:nvPicPr>
        <p:blipFill>
          <a:blip r:embed="rId1"/>
          <a:stretch/>
        </p:blipFill>
        <p:spPr>
          <a:xfrm>
            <a:off x="2987640" y="2133720"/>
            <a:ext cx="5580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692280"/>
            <a:ext cx="8218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лупляющиеся из яйца гусеницы развиваются 20-30 дней и к концу этого срока начинают в течение 3-х дней выделять и вить нити в виде кокона, после чего превращаются в куколку, а через 2-3 недели в бабочку, которая живет 10-1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шелка ход развития шелкопряда прерывают. Собранные коконы разматывают, соединяя по 3-8 нитей вместе, получая шелк – сырец. Из него на прядильных фабриках наливают пря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тут шелкопряд"/>
          <p:cNvPicPr/>
          <p:nvPr/>
        </p:nvPicPr>
        <p:blipFill>
          <a:blip r:embed="rId1"/>
          <a:stretch/>
        </p:blipFill>
        <p:spPr>
          <a:xfrm>
            <a:off x="1979640" y="4149720"/>
            <a:ext cx="655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локон шелк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17672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– 700-1000м (ни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светлый, с нерезким бл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а – очень тонкие, глад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ость – мяг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итость – прямые, упруг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ность – проч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ение – при сильном нагревании становится хрупкими и разрушаются, при горении на конце образуется секшийся черный наплыв, чувствуется запах жженого п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ыв нити концы обрыва имеют вид  связной массы воло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acetat"/>
          <p:cNvPicPr/>
          <p:nvPr/>
        </p:nvPicPr>
        <p:blipFill>
          <a:blip r:embed="rId1"/>
          <a:stretch/>
        </p:blipFill>
        <p:spPr>
          <a:xfrm>
            <a:off x="5364000" y="1916280"/>
            <a:ext cx="35290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локон шелк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76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, легкие, прочные, хорошо драпируются, почти не мну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ие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пропускают воздух, впитывают влагу, быстро сох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ко-механ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о тянуться, сильно осыпаются при раскрое, скользят, прорубаются при обработке на швейной машине, дают большую оса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вискозная  ткань(шелковая)"/>
          <p:cNvPicPr/>
          <p:nvPr/>
        </p:nvPicPr>
        <p:blipFill>
          <a:blip r:embed="rId1"/>
          <a:stretch/>
        </p:blipFill>
        <p:spPr>
          <a:xfrm>
            <a:off x="4859280" y="1916280"/>
            <a:ext cx="397044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 вида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1280" y="1052640"/>
          <a:ext cx="8229600" cy="5064120"/>
        </p:xfrm>
        <a:graphic>
          <a:graphicData uri="http://schemas.openxmlformats.org/drawingml/2006/table">
            <a:tbl>
              <a:tblPr/>
              <a:tblGrid>
                <a:gridCol w="1646280"/>
                <a:gridCol w="1162080"/>
                <a:gridCol w="1655640"/>
                <a:gridCol w="473040"/>
                <a:gridCol w="1646280"/>
                <a:gridCol w="164628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пчато- бумаж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ня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стя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ьный шел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заме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 жест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итость ни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изви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ит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ыва ни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очка из прямых волокон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очка с расходящимися извитыми волокон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ная масса волокон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– «скелет» ткани, запах жженой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– спек в виде шарика, запах жженого п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, какие волокна изучали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группе волокон они относ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происхождения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группе волокон они относ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происхождения эти волок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ими волокнами вы познакомились сегодня на эти волок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ацетат 8"/>
          <p:cNvPicPr/>
          <p:nvPr/>
        </p:nvPicPr>
        <p:blipFill>
          <a:blip r:embed="rId1"/>
          <a:stretch/>
        </p:blipFill>
        <p:spPr>
          <a:xfrm>
            <a:off x="5076720" y="1557360"/>
            <a:ext cx="38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Свойства 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ни отличаются друг от друга по волокнистому составу, переплетению нитей, прочности, по способности пропускать воздух и сохранять тепло. Все эти особенности тканей называют их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войства тканей деля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 - механическ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стойчивость ткани к трению, растяжению, образование заминов и с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гиенические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ность ткани удерживать тепло, пропускать воздух,  впитывать влагу, электризоваться при н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ческ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ведение ткани при шитье и стир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луатацио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ведение ткани в процессе н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одежда из вискозной ткани"/>
          <p:cNvPicPr/>
          <p:nvPr/>
        </p:nvPicPr>
        <p:blipFill>
          <a:blip r:embed="rId1"/>
          <a:stretch/>
        </p:blipFill>
        <p:spPr>
          <a:xfrm>
            <a:off x="4214880" y="4000680"/>
            <a:ext cx="309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е волокна растительного происхождения (хлопок и 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е волокна животного происхожд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к и шер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е вол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кан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ткацких переплетений. Дефекты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овца"/>
          <p:cNvPicPr/>
          <p:nvPr/>
        </p:nvPicPr>
        <p:blipFill>
          <a:blip r:embed="rId1"/>
          <a:stretch/>
        </p:blipFill>
        <p:spPr>
          <a:xfrm>
            <a:off x="395280" y="4292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лавсан1"/>
          <p:cNvPicPr/>
          <p:nvPr/>
        </p:nvPicPr>
        <p:blipFill>
          <a:blip r:embed="rId2"/>
          <a:stretch/>
        </p:blipFill>
        <p:spPr>
          <a:xfrm>
            <a:off x="3492360" y="4292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капрон 2"/>
          <p:cNvPicPr/>
          <p:nvPr/>
        </p:nvPicPr>
        <p:blipFill>
          <a:blip r:embed="rId3"/>
          <a:stretch/>
        </p:blipFill>
        <p:spPr>
          <a:xfrm>
            <a:off x="6372360" y="4292640"/>
            <a:ext cx="2509560" cy="22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тканей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тканей зависит от свойств волокон, от вида и структуры пряжи и от характера отделки тка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ткани влияют на выбор модели и обработку изде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ойства ткани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еха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из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ехн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ацетат 7"/>
          <p:cNvPicPr/>
          <p:nvPr/>
        </p:nvPicPr>
        <p:blipFill>
          <a:blip r:embed="rId1"/>
          <a:stretch/>
        </p:blipFill>
        <p:spPr>
          <a:xfrm>
            <a:off x="6443640" y="1268280"/>
            <a:ext cx="2521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ческие свойств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028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ческие свойства определяют в зависимости от того, как реагирует материал на действие различных внешних сил. Под действием этих сил материал деформируется: изменяются его размеры и фор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механическим свойствам ткани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очность – способность ткани противостоять разры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инаемость – способность ткани во время сжатия и давления образовывать мелкие морщины и скл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рапируемость – способность ткани держать круглые складки в висячем по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носостойкость – способность ткани сохранять первоначальный вид под воздействием трения, температуры, света, влаги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драппируемость"/>
          <p:cNvPicPr/>
          <p:nvPr/>
        </p:nvPicPr>
        <p:blipFill>
          <a:blip r:embed="rId1"/>
          <a:stretch/>
        </p:blipFill>
        <p:spPr>
          <a:xfrm>
            <a:off x="4535640" y="4581360"/>
            <a:ext cx="460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504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ие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свойства, направленные на сохранение здоровья человека. К ни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защитные свой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способность ткани сохранять тепло человеческого тела, эти свойства зависят от волокнистого состава, толщины, плотности и вида отделки тка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леемк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пособность ткани удерживать пыль и другие загряз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роскопичность – способность ткани впитывать вла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94c91e1934d2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ческие свойств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32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ие свойства проявляются в том, как ведет себя ткань при изготовлении из нее различных изделий, начиная с раскроя и заканчивая влажно- тепловой обработкой. К технологическим свойств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ж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кани при раскрое и стачи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ыпаем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ити не удерживаются на открытых срезах, осыпаются, образуя бахр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адка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ньшение размеров ткани под воздействием тепла и вла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яжение – способность ткани вытягиваться при стач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вискозная ткань"/>
          <p:cNvPicPr/>
          <p:nvPr/>
        </p:nvPicPr>
        <p:blipFill>
          <a:blip r:embed="rId1"/>
          <a:stretch/>
        </p:blipFill>
        <p:spPr>
          <a:xfrm>
            <a:off x="5724360" y="1197000"/>
            <a:ext cx="324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цевая и изнаночная стороны ткане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633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вид тканей зависит от вида ткацкого переплетения. К таким тканям относятся бельевые, платьевые, подкладоч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м ткани имеют различные лицевую и изнаночную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цевую и изнаночную сторо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кани можно определить по следующим признака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раю тка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коло кромок имеются проколы. На лицевой стороне ткань в местах проколов более выпукл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адких тканях изнаночная сторона более пушистая чем лицевая, т.к. на изнаночную сторону выводят ткацкие деф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исунку ткацкого переплет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одежда из лайкровой ткани"/>
          <p:cNvPicPr/>
          <p:nvPr/>
        </p:nvPicPr>
        <p:blipFill>
          <a:blip r:embed="rId1"/>
          <a:stretch/>
        </p:blipFill>
        <p:spPr>
          <a:xfrm>
            <a:off x="6300720" y="981000"/>
            <a:ext cx="2664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пределить лицевую сторону в гладко крашенной тка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едставляют собой механические, физические и технологические св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ы положительное качества шерстяных и шелковых тка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отрицательные качества шерстяных и шелковы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лияет осыпаемость нитей на раскрой издел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тличаются режимы влажно-тепловой обработки шерстяных и шелковых тка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лайкра2"/>
          <p:cNvPicPr/>
          <p:nvPr/>
        </p:nvPicPr>
        <p:blipFill>
          <a:blip r:embed="rId1"/>
          <a:stretch/>
        </p:blipFill>
        <p:spPr>
          <a:xfrm>
            <a:off x="5867280" y="1413000"/>
            <a:ext cx="3097440" cy="252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2176390"/>
          <p:cNvPicPr/>
          <p:nvPr/>
        </p:nvPicPr>
        <p:blipFill>
          <a:blip r:embed="rId2"/>
          <a:stretch/>
        </p:blipFill>
        <p:spPr>
          <a:xfrm>
            <a:off x="5867280" y="3976560"/>
            <a:ext cx="30974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Химические волокна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554328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олокна, созданные искусственным  путем с помощью физических и химических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на производство химических волокон значительно ниже, чем на произво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ых .Волокна можно получить с заданными свой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капрон (3)"/>
          <p:cNvPicPr/>
          <p:nvPr/>
        </p:nvPicPr>
        <p:blipFill>
          <a:blip r:embed="rId1"/>
          <a:stretch/>
        </p:blipFill>
        <p:spPr>
          <a:xfrm>
            <a:off x="5724360" y="1268280"/>
            <a:ext cx="3240360" cy="2665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вискоза2"/>
          <p:cNvPicPr/>
          <p:nvPr/>
        </p:nvPicPr>
        <p:blipFill>
          <a:blip r:embed="rId2"/>
          <a:stretch/>
        </p:blipFill>
        <p:spPr>
          <a:xfrm>
            <a:off x="5724360" y="4005360"/>
            <a:ext cx="32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Вискозное  волокно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едостаткам вискозного волокна относятся лёгкая сминаемость, значительная потеря прочности в мокром состоянии и недостаточная устойчивость к истиранию. Эти недостатки в той или иной степени могут быть устранены последующими модификациями и обрабо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вискоза (6)"/>
          <p:cNvPicPr/>
          <p:nvPr/>
        </p:nvPicPr>
        <p:blipFill>
          <a:blip r:embed="rId1"/>
          <a:stretch/>
        </p:blipFill>
        <p:spPr>
          <a:xfrm>
            <a:off x="5724360" y="1268280"/>
            <a:ext cx="3245040" cy="2665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вискоза (4)"/>
          <p:cNvPicPr/>
          <p:nvPr/>
        </p:nvPicPr>
        <p:blipFill>
          <a:blip r:embed="rId2"/>
          <a:stretch/>
        </p:blipFill>
        <p:spPr>
          <a:xfrm>
            <a:off x="5724360" y="4076640"/>
            <a:ext cx="32418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Вискозное волокно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недостаткам вискозного волокна относятся лёгкая сминаемость, значительная потеря прочности в мокром состоянии и недостаточная устойчивость к истиранию. Эти недостатки в той или иной степени могут быть устранены последующими модификациями и обрабо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вискозные нитки"/>
          <p:cNvPicPr/>
          <p:nvPr/>
        </p:nvPicPr>
        <p:blipFill>
          <a:blip r:embed="rId1"/>
          <a:stretch/>
        </p:blipFill>
        <p:spPr>
          <a:xfrm>
            <a:off x="5219640" y="1700280"/>
            <a:ext cx="3535560" cy="280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ацетат5"/>
          <p:cNvPicPr/>
          <p:nvPr/>
        </p:nvPicPr>
        <p:blipFill>
          <a:blip r:embed="rId2"/>
          <a:stretch/>
        </p:blipFill>
        <p:spPr>
          <a:xfrm>
            <a:off x="5219640" y="4208400"/>
            <a:ext cx="345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Ацетатное волокно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619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ным сырьем являются отходы древесины и хлопка. Волокна тонкие, упругие, хорошо окрашиваются, обладают повышенными теплоизоляционными свойствами, светостойкостью, сильно электризуются, растворяются в ацетон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Блеск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овый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ладкая, скользка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ь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сокая, в мокром состоянии незначительно уменьшается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инаемость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л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Горение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тое пламя с образованием темного наплыва, пахнущего уксус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цветок  хлопка- ацетат"/>
          <p:cNvPicPr/>
          <p:nvPr/>
        </p:nvPicPr>
        <p:blipFill>
          <a:blip r:embed="rId1"/>
          <a:stretch/>
        </p:blipFill>
        <p:spPr>
          <a:xfrm>
            <a:off x="5724360" y="1268280"/>
            <a:ext cx="3089520" cy="259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ацетат"/>
          <p:cNvPicPr/>
          <p:nvPr/>
        </p:nvPicPr>
        <p:blipFill>
          <a:blip r:embed="rId2"/>
          <a:stretch/>
        </p:blipFill>
        <p:spPr>
          <a:xfrm>
            <a:off x="5724360" y="400536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 волоко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pSp>
        <p:nvGrpSpPr>
          <p:cNvPr id="131" name="Organization Chart 5"/>
          <p:cNvGrpSpPr/>
          <p:nvPr/>
        </p:nvGrpSpPr>
        <p:grpSpPr>
          <a:xfrm>
            <a:off x="179280" y="1197000"/>
            <a:ext cx="8713440" cy="5471640"/>
            <a:chOff x="179280" y="1197000"/>
            <a:chExt cx="8713440" cy="5471640"/>
          </a:xfrm>
        </p:grpSpPr>
        <p:cxnSp>
          <p:nvCxnSpPr>
            <p:cNvPr id="132" name="_s1028"/>
            <p:cNvCxnSpPr>
              <a:stCxn id="133" idx="1"/>
              <a:endCxn id="134" idx="2"/>
            </p:cNvCxnSpPr>
            <p:nvPr/>
          </p:nvCxnSpPr>
          <p:spPr>
            <a:xfrm rot="10800000">
              <a:off x="7441560" y="3389760"/>
              <a:ext cx="20700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29"/>
            <p:cNvCxnSpPr>
              <a:stCxn id="136" idx="1"/>
              <a:endCxn id="134" idx="2"/>
            </p:cNvCxnSpPr>
            <p:nvPr/>
          </p:nvCxnSpPr>
          <p:spPr>
            <a:xfrm rot="10800000">
              <a:off x="7441560" y="3389760"/>
              <a:ext cx="207000" cy="218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0"/>
            <p:cNvCxnSpPr>
              <a:stCxn id="138" idx="1"/>
              <a:endCxn id="134" idx="2"/>
            </p:cNvCxnSpPr>
            <p:nvPr/>
          </p:nvCxnSpPr>
          <p:spPr>
            <a:xfrm rot="10800000">
              <a:off x="7441560" y="3389760"/>
              <a:ext cx="20700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031"/>
            <p:cNvCxnSpPr>
              <a:stCxn id="140" idx="1"/>
              <a:endCxn id="134" idx="2"/>
            </p:cNvCxnSpPr>
            <p:nvPr/>
          </p:nvCxnSpPr>
          <p:spPr>
            <a:xfrm rot="10800000">
              <a:off x="7441560" y="3389760"/>
              <a:ext cx="20700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2"/>
            <p:cNvCxnSpPr>
              <a:stCxn id="142" idx="1"/>
              <a:endCxn id="143" idx="2"/>
            </p:cNvCxnSpPr>
            <p:nvPr/>
          </p:nvCxnSpPr>
          <p:spPr>
            <a:xfrm rot="10800000">
              <a:off x="5781960" y="3389760"/>
              <a:ext cx="20664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3"/>
            <p:cNvCxnSpPr>
              <a:stCxn id="145" idx="1"/>
              <a:endCxn id="143" idx="2"/>
            </p:cNvCxnSpPr>
            <p:nvPr/>
          </p:nvCxnSpPr>
          <p:spPr>
            <a:xfrm rot="10800000">
              <a:off x="5781960" y="3389760"/>
              <a:ext cx="20664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034"/>
            <p:cNvCxnSpPr>
              <a:stCxn id="147" idx="1"/>
              <a:endCxn id="148" idx="2"/>
            </p:cNvCxnSpPr>
            <p:nvPr/>
          </p:nvCxnSpPr>
          <p:spPr>
            <a:xfrm rot="10800000">
              <a:off x="4119480" y="3385800"/>
              <a:ext cx="208080" cy="55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35"/>
            <p:cNvCxnSpPr>
              <a:stCxn id="150" idx="1"/>
              <a:endCxn id="151" idx="2"/>
            </p:cNvCxnSpPr>
            <p:nvPr/>
          </p:nvCxnSpPr>
          <p:spPr>
            <a:xfrm rot="10800000">
              <a:off x="2459880" y="3389760"/>
              <a:ext cx="20808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036"/>
            <p:cNvCxnSpPr>
              <a:stCxn id="153" idx="1"/>
              <a:endCxn id="151" idx="2"/>
            </p:cNvCxnSpPr>
            <p:nvPr/>
          </p:nvCxnSpPr>
          <p:spPr>
            <a:xfrm rot="10800000">
              <a:off x="2459880" y="3389760"/>
              <a:ext cx="20808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37"/>
            <p:cNvCxnSpPr>
              <a:stCxn id="155" idx="1"/>
              <a:endCxn id="156" idx="2"/>
            </p:cNvCxnSpPr>
            <p:nvPr/>
          </p:nvCxnSpPr>
          <p:spPr>
            <a:xfrm rot="10800000">
              <a:off x="801360" y="3389760"/>
              <a:ext cx="207000" cy="1364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8"/>
            <p:cNvCxnSpPr>
              <a:stCxn id="158" idx="1"/>
              <a:endCxn id="156" idx="2"/>
            </p:cNvCxnSpPr>
            <p:nvPr/>
          </p:nvCxnSpPr>
          <p:spPr>
            <a:xfrm rot="10800000">
              <a:off x="801360" y="3389760"/>
              <a:ext cx="20700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9"/>
            <p:cNvCxnSpPr>
              <a:stCxn id="148" idx="0"/>
              <a:endCxn id="160" idx="2"/>
            </p:cNvCxnSpPr>
            <p:nvPr/>
          </p:nvCxnSpPr>
          <p:spPr>
            <a:xfrm flipV="1" rot="16200000">
              <a:off x="3152520" y="1871280"/>
              <a:ext cx="274680" cy="165996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40"/>
            <p:cNvCxnSpPr>
              <a:stCxn id="134" idx="0"/>
              <a:endCxn id="162" idx="2"/>
            </p:cNvCxnSpPr>
            <p:nvPr/>
          </p:nvCxnSpPr>
          <p:spPr>
            <a:xfrm flipV="1" rot="16200000">
              <a:off x="6889320" y="2285640"/>
              <a:ext cx="274680" cy="8312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41"/>
            <p:cNvCxnSpPr>
              <a:stCxn id="143" idx="0"/>
              <a:endCxn id="162" idx="2"/>
            </p:cNvCxnSpPr>
            <p:nvPr/>
          </p:nvCxnSpPr>
          <p:spPr>
            <a:xfrm flipH="1" flipV="1" rot="5400000">
              <a:off x="6059880" y="2286720"/>
              <a:ext cx="274680" cy="8294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42"/>
            <p:cNvCxnSpPr>
              <a:stCxn id="151" idx="0"/>
              <a:endCxn id="160" idx="2"/>
            </p:cNvCxnSpPr>
            <p:nvPr/>
          </p:nvCxnSpPr>
          <p:spPr>
            <a:xfrm flipV="1">
              <a:off x="2460240" y="2563920"/>
              <a:ext cx="1800" cy="27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43"/>
            <p:cNvCxnSpPr>
              <a:stCxn id="156" idx="0"/>
              <a:endCxn id="160" idx="2"/>
            </p:cNvCxnSpPr>
            <p:nvPr/>
          </p:nvCxnSpPr>
          <p:spPr>
            <a:xfrm flipH="1" flipV="1" rot="5400000">
              <a:off x="1494000" y="1871640"/>
              <a:ext cx="274680" cy="16592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044"/>
            <p:cNvCxnSpPr>
              <a:stCxn id="162" idx="0"/>
              <a:endCxn id="167" idx="2"/>
            </p:cNvCxnSpPr>
            <p:nvPr/>
          </p:nvCxnSpPr>
          <p:spPr>
            <a:xfrm flipV="1" rot="16200000">
              <a:off x="5436720" y="843840"/>
              <a:ext cx="274680" cy="207540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45"/>
            <p:cNvCxnSpPr>
              <a:stCxn id="160" idx="0"/>
              <a:endCxn id="167" idx="2"/>
            </p:cNvCxnSpPr>
            <p:nvPr/>
          </p:nvCxnSpPr>
          <p:spPr>
            <a:xfrm flipH="1" flipV="1" rot="5400000">
              <a:off x="3361320" y="843120"/>
              <a:ext cx="274680" cy="2076840"/>
            </a:xfrm>
            <a:prstGeom prst="bentConnector3">
              <a:avLst>
                <a:gd name="adj1" fmla="val 49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1046"/>
            <p:cNvSpPr/>
            <p:nvPr/>
          </p:nvSpPr>
          <p:spPr>
            <a:xfrm>
              <a:off x="3912480" y="119700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локн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47"/>
            <p:cNvSpPr/>
            <p:nvPr/>
          </p:nvSpPr>
          <p:spPr>
            <a:xfrm>
              <a:off x="1837800" y="201888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тураль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48"/>
            <p:cNvSpPr/>
            <p:nvPr/>
          </p:nvSpPr>
          <p:spPr>
            <a:xfrm>
              <a:off x="5988960" y="201888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имическ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49"/>
            <p:cNvSpPr/>
            <p:nvPr/>
          </p:nvSpPr>
          <p:spPr>
            <a:xfrm>
              <a:off x="179280" y="2840760"/>
              <a:ext cx="1244520" cy="547920"/>
            </a:xfrm>
            <a:prstGeom prst="roundRect">
              <a:avLst>
                <a:gd name="adj" fmla="val 16667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стите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схож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50"/>
            <p:cNvSpPr/>
            <p:nvPr/>
          </p:nvSpPr>
          <p:spPr>
            <a:xfrm>
              <a:off x="1837800" y="2840760"/>
              <a:ext cx="1245600" cy="54792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вот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схож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51"/>
            <p:cNvSpPr/>
            <p:nvPr/>
          </p:nvSpPr>
          <p:spPr>
            <a:xfrm>
              <a:off x="5159880" y="2840760"/>
              <a:ext cx="1244160" cy="5479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кусств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52"/>
            <p:cNvSpPr/>
            <p:nvPr/>
          </p:nvSpPr>
          <p:spPr>
            <a:xfrm>
              <a:off x="6819480" y="2840760"/>
              <a:ext cx="1244520" cy="54792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те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53"/>
            <p:cNvSpPr/>
            <p:nvPr/>
          </p:nvSpPr>
          <p:spPr>
            <a:xfrm>
              <a:off x="3497040" y="2840760"/>
              <a:ext cx="1245600" cy="545760"/>
            </a:xfrm>
            <a:prstGeom prst="roundRect">
              <a:avLst>
                <a:gd name="adj" fmla="val 16667"/>
              </a:avLst>
            </a:prstGeom>
            <a:solidFill>
              <a:srgbClr val="6765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ер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54"/>
            <p:cNvSpPr/>
            <p:nvPr/>
          </p:nvSpPr>
          <p:spPr>
            <a:xfrm>
              <a:off x="1008360" y="3662640"/>
              <a:ext cx="1244520" cy="545760"/>
            </a:xfrm>
            <a:prstGeom prst="roundRect">
              <a:avLst>
                <a:gd name="adj" fmla="val 16667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лоп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55"/>
            <p:cNvSpPr/>
            <p:nvPr/>
          </p:nvSpPr>
          <p:spPr>
            <a:xfrm>
              <a:off x="1008360" y="4482360"/>
              <a:ext cx="1244520" cy="546120"/>
            </a:xfrm>
            <a:prstGeom prst="roundRect">
              <a:avLst>
                <a:gd name="adj" fmla="val 16667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56"/>
            <p:cNvSpPr/>
            <p:nvPr/>
          </p:nvSpPr>
          <p:spPr>
            <a:xfrm>
              <a:off x="2668320" y="3662640"/>
              <a:ext cx="1244160" cy="54576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ел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57"/>
            <p:cNvSpPr/>
            <p:nvPr/>
          </p:nvSpPr>
          <p:spPr>
            <a:xfrm>
              <a:off x="2668320" y="4482360"/>
              <a:ext cx="1245600" cy="54612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ер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58"/>
            <p:cNvSpPr/>
            <p:nvPr/>
          </p:nvSpPr>
          <p:spPr>
            <a:xfrm>
              <a:off x="4327560" y="3662640"/>
              <a:ext cx="1245600" cy="545760"/>
            </a:xfrm>
            <a:prstGeom prst="roundRect">
              <a:avLst>
                <a:gd name="adj" fmla="val 16667"/>
              </a:avLst>
            </a:prstGeom>
            <a:solidFill>
              <a:srgbClr val="6765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бе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59"/>
            <p:cNvSpPr/>
            <p:nvPr/>
          </p:nvSpPr>
          <p:spPr>
            <a:xfrm>
              <a:off x="5988960" y="3662640"/>
              <a:ext cx="1244520" cy="5457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искоз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60"/>
            <p:cNvSpPr/>
            <p:nvPr/>
          </p:nvSpPr>
          <p:spPr>
            <a:xfrm>
              <a:off x="5988960" y="4482360"/>
              <a:ext cx="1244520" cy="5461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цета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61"/>
            <p:cNvSpPr/>
            <p:nvPr/>
          </p:nvSpPr>
          <p:spPr>
            <a:xfrm>
              <a:off x="7648560" y="3662640"/>
              <a:ext cx="1244160" cy="5457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пр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62"/>
            <p:cNvSpPr/>
            <p:nvPr/>
          </p:nvSpPr>
          <p:spPr>
            <a:xfrm>
              <a:off x="7648560" y="4482360"/>
              <a:ext cx="1244160" cy="54612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авс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63"/>
            <p:cNvSpPr/>
            <p:nvPr/>
          </p:nvSpPr>
          <p:spPr>
            <a:xfrm>
              <a:off x="7648560" y="5302800"/>
              <a:ext cx="1244160" cy="5457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итр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64"/>
            <p:cNvSpPr/>
            <p:nvPr/>
          </p:nvSpPr>
          <p:spPr>
            <a:xfrm>
              <a:off x="7648560" y="6122520"/>
              <a:ext cx="1244160" cy="54612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айк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авса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56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устойчивостью к действию воды, упруг   .Складки на изделиях сохраняются после стирки и чистки. По теплопроводности и несминаемости похож на шер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Бле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езки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ерхность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дк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оч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прочное, не уменьшается в мокром состоя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Горение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 слабовато- желтым цветом с выделением черной коп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лавсан4"/>
          <p:cNvPicPr/>
          <p:nvPr/>
        </p:nvPicPr>
        <p:blipFill>
          <a:blip r:embed="rId1"/>
          <a:stretch/>
        </p:blipFill>
        <p:spPr>
          <a:xfrm>
            <a:off x="6084720" y="1413000"/>
            <a:ext cx="2857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Капро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50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рон- похож на шелк, боится больших температур, устойчив к действию кислот, не выцветае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зкий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ладк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рочность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ное, не уменьшается в мокром состоян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орение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иться, а затем загорается голубовато- желтоватым пламенем, запах сургу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капрон"/>
          <p:cNvPicPr/>
          <p:nvPr/>
        </p:nvPicPr>
        <p:blipFill>
          <a:blip r:embed="rId1"/>
          <a:stretch/>
        </p:blipFill>
        <p:spPr>
          <a:xfrm>
            <a:off x="5508720" y="907920"/>
            <a:ext cx="3348000" cy="2449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капрон (1)"/>
          <p:cNvPicPr/>
          <p:nvPr/>
        </p:nvPicPr>
        <p:blipFill>
          <a:blip r:embed="rId2"/>
          <a:stretch/>
        </p:blipFill>
        <p:spPr>
          <a:xfrm>
            <a:off x="5508720" y="3573360"/>
            <a:ext cx="33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Нитро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396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трон- трудно отличить от шерсти, волокно теплостойко , светостойко, боится действия щелочей, упруго. Изделия из нитрона после стирки сохраняют свою форму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утюж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Блеск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ов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оверхность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дка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ность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чное ,не уменьшается в мокром состоя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Горение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т вспышками , интенсивно, выделяя черную копо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нитрон2"/>
          <p:cNvPicPr/>
          <p:nvPr/>
        </p:nvPicPr>
        <p:blipFill>
          <a:blip r:embed="rId1"/>
          <a:stretch/>
        </p:blipFill>
        <p:spPr>
          <a:xfrm>
            <a:off x="6084720" y="1197000"/>
            <a:ext cx="2624400" cy="2303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нитрон"/>
          <p:cNvPicPr/>
          <p:nvPr/>
        </p:nvPicPr>
        <p:blipFill>
          <a:blip r:embed="rId2"/>
          <a:stretch/>
        </p:blipFill>
        <p:spPr>
          <a:xfrm>
            <a:off x="4284720" y="3573360"/>
            <a:ext cx="44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айкра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кно лайкры бывает матированное (белое), полупрозрачное и прозрачное. К основным свойствам лайкры следует отнести высокую растяжимость (в 6-8 раз), причем при прекращении нагрузки волокно возвращается в исходное состояние. Лайкра пропускает воздух и хорошо стираетс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йкра придает изделию специфические качества, в частности — обеспечивает свободу движения и сохраняет форму, а также препятствует образованию склад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3" descr="лайкра"/>
          <p:cNvPicPr/>
          <p:nvPr/>
        </p:nvPicPr>
        <p:blipFill>
          <a:blip r:embed="rId1"/>
          <a:stretch/>
        </p:blipFill>
        <p:spPr>
          <a:xfrm>
            <a:off x="4572000" y="2781360"/>
            <a:ext cx="2730600" cy="3584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лайкровая ткань"/>
          <p:cNvPicPr/>
          <p:nvPr/>
        </p:nvPicPr>
        <p:blipFill>
          <a:blip r:embed="rId2"/>
          <a:stretch/>
        </p:blipFill>
        <p:spPr>
          <a:xfrm>
            <a:off x="6659640" y="765000"/>
            <a:ext cx="2290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Контрольные вопросы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Плащ, сшитый из какой ткани будет непромока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Какую ты выберешь ткань для создания красивой драпировки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чему из льняной ткани не шьют теплую одежд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Срезы каких тканей необходимо обработать после раскро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Изделия из какой ткани не дают усад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одежда из капроновой ткани"/>
          <p:cNvPicPr/>
          <p:nvPr/>
        </p:nvPicPr>
        <p:blipFill>
          <a:blip r:embed="rId1"/>
          <a:stretch/>
        </p:blipFill>
        <p:spPr>
          <a:xfrm>
            <a:off x="6877080" y="1341360"/>
            <a:ext cx="2016000" cy="38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игрушка из капроновой ткани"/>
          <p:cNvPicPr/>
          <p:nvPr/>
        </p:nvPicPr>
        <p:blipFill>
          <a:blip r:embed="rId2"/>
          <a:stretch/>
        </p:blipFill>
        <p:spPr>
          <a:xfrm>
            <a:off x="2124000" y="3833640"/>
            <a:ext cx="1932120" cy="302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одежда из лайкровой ткани 2"/>
          <p:cNvPicPr/>
          <p:nvPr/>
        </p:nvPicPr>
        <p:blipFill>
          <a:blip r:embed="rId3"/>
          <a:stretch/>
        </p:blipFill>
        <p:spPr>
          <a:xfrm>
            <a:off x="4716360" y="3500280"/>
            <a:ext cx="20163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ткацких переплетений. Дефекты тканей.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летением нитей в ткани называется порядок взаимного перекрытия нитей основы нитями 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цкие переплетения подразделяются на простые и с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ростым переплетения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тняное – ровная матовая поверхность, одинаковая с лицевой и изнаночной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жевое – покрыта диагональными полосками, образующимися вследствие смещения рисунка переплетения на одну основную нить при каждой последующей прокидке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тиновое- лицевая сторона ткани состоит из длинных уточных перекры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ласная – состоит из основных нитей, поэтому лицевая поверхность ткани получается гладкая, блестя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4851360" y="4365720"/>
            <a:ext cx="429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ткацких переплетени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748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ржевое переплетение</a:t>
            </a: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4259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этом переплетении нити основы перекрывают две нити утка, пропуская одну. На лицевой стороне образуется рисунок в виде рубчика, идущего в косом направлении полотна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кани саржевого переплетения мягкие, хорошо драпируются, но имеют большую растяжимость по косому направлению, срезы обладают большой осыпаем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равнению с тканями полотняного переплетения более плотные, толстые, тяжелые, менее проч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жевым переплетением вырабатывают ткани: саржа, кашемир, шотландка, фланель, бумазе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69576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саржа"/>
          <p:cNvPicPr/>
          <p:nvPr/>
        </p:nvPicPr>
        <p:blipFill>
          <a:blip r:embed="rId2"/>
          <a:stretch/>
        </p:blipFill>
        <p:spPr>
          <a:xfrm>
            <a:off x="5364000" y="3860640"/>
            <a:ext cx="29512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тиновое и атласное переплетение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тиновым переплетении нить утка перекрывает четыре и более нитей основы, а в атласном- нить основы перекрывает четыре и более нитей утка.                           Ткани с этими переплетениями с лицевой стороны гладкие блестящие, а с изнаночной- матовые. Они мягкие, но менее прочные, чем ткани полотняного переплетения. Скользят при раскрое, сильно растягиваются по косому срезу, срезы осыпаются.                            Ткани с сатиновым (сатин, драп), и атласным (атлас, крепатлас) переплетениями плотные, тяже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822840" cy="1930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35942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лопок</a:t>
            </a:r>
            <a:br>
              <a:rPr sz="4000"/>
            </a:b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опчатник - однолетний кустарник. Волокна– хлопок. Это волоски на семенах хлопчатника. Они белого цвета, короткие 6-52 см, тонкие, слабоизвилистые, мягкие , прочные, матовые (без блес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хлопчатник"/>
          <p:cNvPicPr/>
          <p:nvPr/>
        </p:nvPicPr>
        <p:blipFill>
          <a:blip r:embed="rId1"/>
          <a:stretch/>
        </p:blipFill>
        <p:spPr>
          <a:xfrm>
            <a:off x="5126040" y="1600200"/>
            <a:ext cx="3081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ин               Атлас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87" name="Picture 7" descr="сатиновое"/>
          <p:cNvPicPr/>
          <p:nvPr/>
        </p:nvPicPr>
        <p:blipFill>
          <a:blip r:embed="rId1"/>
          <a:stretch/>
        </p:blipFill>
        <p:spPr>
          <a:xfrm>
            <a:off x="457200" y="1866960"/>
            <a:ext cx="4038480" cy="396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атлас"/>
          <p:cNvPicPr/>
          <p:nvPr/>
        </p:nvPicPr>
        <p:blipFill>
          <a:blip r:embed="rId2"/>
          <a:stretch/>
        </p:blipFill>
        <p:spPr>
          <a:xfrm>
            <a:off x="4648320" y="1881360"/>
            <a:ext cx="40384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тканей с различными  видами переплетения ните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1557360"/>
          <a:ext cx="7705800" cy="4464000"/>
        </p:xfrm>
        <a:graphic>
          <a:graphicData uri="http://schemas.openxmlformats.org/drawingml/2006/table">
            <a:tbl>
              <a:tblPr/>
              <a:tblGrid>
                <a:gridCol w="2235240"/>
                <a:gridCol w="1603080"/>
                <a:gridCol w="2316240"/>
                <a:gridCol w="1551240"/>
              </a:tblGrid>
              <a:tr h="39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летение нитей в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тня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ж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тин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пр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 пр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жи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пиру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знаки тканей с различным нитей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0920" y="1989000"/>
          <a:ext cx="8497800" cy="3456000"/>
        </p:xfrm>
        <a:graphic>
          <a:graphicData uri="http://schemas.openxmlformats.org/drawingml/2006/table">
            <a:tbl>
              <a:tblPr/>
              <a:tblGrid>
                <a:gridCol w="1968480"/>
                <a:gridCol w="3220920"/>
                <a:gridCol w="1654200"/>
                <a:gridCol w="1654200"/>
              </a:tblGrid>
              <a:tr h="5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летение нитей в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тня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ж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тин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 лицевой и изнаночной стороны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к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инак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инак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рхность тка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ная, мат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убч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ная, блестящ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фекты ткан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4000" y="1844640"/>
            <a:ext cx="244764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ое качество пря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лщение нити основы или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300720" y="1773000"/>
            <a:ext cx="237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ткацкого ст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яные и другие пятна на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347640" y="1773000"/>
            <a:ext cx="287964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адка механизмов ткацкого ст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уск одной или нескольких нитей основы или утка; переплетение двух нитей вместо одной; провисание, раздвижка или обрыв нитей; сбитый рисунок ткацкого перепле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1476360" y="2637000"/>
            <a:ext cx="433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4427640" y="2349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/>
          <p:cNvSpPr/>
          <p:nvPr/>
        </p:nvSpPr>
        <p:spPr>
          <a:xfrm>
            <a:off x="7093080" y="270828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утолщение"/>
          <p:cNvPicPr/>
          <p:nvPr/>
        </p:nvPicPr>
        <p:blipFill>
          <a:blip r:embed="rId1"/>
          <a:stretch/>
        </p:blipFill>
        <p:spPr>
          <a:xfrm>
            <a:off x="1116000" y="4005360"/>
            <a:ext cx="1911240" cy="1668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8" descr="целостность"/>
          <p:cNvPicPr/>
          <p:nvPr/>
        </p:nvPicPr>
        <p:blipFill>
          <a:blip r:embed="rId2"/>
          <a:stretch/>
        </p:blipFill>
        <p:spPr>
          <a:xfrm>
            <a:off x="3851280" y="4941720"/>
            <a:ext cx="1944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фекты крашения и печати возникают по причинам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9280" y="1773360"/>
            <a:ext cx="2303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печатан-ные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части или отдельных деталей рисунка, нечеткое изображение рису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372000" y="1628640"/>
            <a:ext cx="2238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кос рису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ает при неравномерном натяжении ткани при печат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28600" y="1785960"/>
            <a:ext cx="338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са без рисунка на ткани, которая получается при печатании в результате образования складки во время нанесения рису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4211640" y="2349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5"/>
          <p:cNvSpPr/>
          <p:nvPr/>
        </p:nvSpPr>
        <p:spPr>
          <a:xfrm>
            <a:off x="1476360" y="2421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7093080" y="2349360"/>
            <a:ext cx="358560" cy="358920"/>
          </a:xfrm>
          <a:prstGeom prst="downArrow">
            <a:avLst>
              <a:gd name="adj1" fmla="val 50000"/>
              <a:gd name="adj2" fmla="val 2502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8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1376280" cy="1363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9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1442880" cy="1440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0" descr=""/>
          <p:cNvPicPr/>
          <p:nvPr/>
        </p:nvPicPr>
        <p:blipFill>
          <a:blip r:embed="rId3"/>
          <a:stretch/>
        </p:blipFill>
        <p:spPr>
          <a:xfrm>
            <a:off x="7093080" y="4437000"/>
            <a:ext cx="13827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 – травянистое растение. Волокна –лен. Их получают из стеблей растений. Они светло – серого цвета, длинные (до 100 см), прямые, очень прочные, на ощупь жесткие, блестящие. По всей своей длине имеют неодинаковую струк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лен"/>
          <p:cNvPicPr/>
          <p:nvPr/>
        </p:nvPicPr>
        <p:blipFill>
          <a:blip r:embed="rId1"/>
          <a:stretch/>
        </p:blipFill>
        <p:spPr>
          <a:xfrm>
            <a:off x="5724360" y="1557360"/>
            <a:ext cx="273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358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внительные характеристики свойств хлопчатобумажных  и льняных тканей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981000"/>
          <a:ext cx="8229600" cy="4959360"/>
        </p:xfrm>
        <a:graphic>
          <a:graphicData uri="http://schemas.openxmlformats.org/drawingml/2006/table">
            <a:tbl>
              <a:tblPr/>
              <a:tblGrid>
                <a:gridCol w="2745000"/>
                <a:gridCol w="2739960"/>
                <a:gridCol w="2744640"/>
              </a:tblGrid>
              <a:tr h="465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пчатобумаж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ня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-механ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прочные, чем льня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сминаем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гиен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гроскоп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хопрониц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ше , чем у хлопчатобумаж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ни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ад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онны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носостой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жи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растяжимость по утку, так и по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но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растяжимые как по утку, так и по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4716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определения хлопчатобумажных и льняных тканей</a:t>
            </a: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197000"/>
          <a:ext cx="6551640" cy="4840200"/>
        </p:xfrm>
        <a:graphic>
          <a:graphicData uri="http://schemas.openxmlformats.org/drawingml/2006/table">
            <a:tbl>
              <a:tblPr/>
              <a:tblGrid>
                <a:gridCol w="2184480"/>
                <a:gridCol w="2182680"/>
                <a:gridCol w="2184480"/>
              </a:tblGrid>
              <a:tr h="350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пчатобумаж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ня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тящ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жимо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сн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ут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ни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ис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ыва ни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в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кна с заостренными концами кист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щ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с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пламя, запах желтой бумаги, остаток – «скелет» тка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52" descr="ацетат 6"/>
          <p:cNvPicPr/>
          <p:nvPr/>
        </p:nvPicPr>
        <p:blipFill>
          <a:blip r:embed="rId1"/>
          <a:stretch/>
        </p:blipFill>
        <p:spPr>
          <a:xfrm>
            <a:off x="7093080" y="119700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3" descr="капрон (6)"/>
          <p:cNvPicPr/>
          <p:nvPr/>
        </p:nvPicPr>
        <p:blipFill>
          <a:blip r:embed="rId2"/>
          <a:stretch/>
        </p:blipFill>
        <p:spPr>
          <a:xfrm>
            <a:off x="7093080" y="3500280"/>
            <a:ext cx="187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рсть – волосяной покров животных(овец, коз, верблюдов, ангорской козы, альпака,ла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нитрон"/>
          <p:cNvPicPr/>
          <p:nvPr/>
        </p:nvPicPr>
        <p:blipFill>
          <a:blip r:embed="rId1"/>
          <a:stretch/>
        </p:blipFill>
        <p:spPr>
          <a:xfrm>
            <a:off x="5354640" y="1341360"/>
            <a:ext cx="3394080" cy="38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животные"/>
          <p:cNvPicPr/>
          <p:nvPr/>
        </p:nvPicPr>
        <p:blipFill>
          <a:blip r:embed="rId2"/>
          <a:stretch/>
        </p:blipFill>
        <p:spPr>
          <a:xfrm>
            <a:off x="2050920" y="321300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ичная обработка шерст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511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ижка – руно (т.е. пласт шер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зинф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ртировка по качеству – пух, средний волос, ость, мертвый вол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пание  для разрыхления и удаления примес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вка для удаления жира и гр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шка в сушильных камерах горячим возд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ое шерстяное волокно отправляют на прядильные фабрики для получения пря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ашних условиях шерстяную пряжу прядут с помощью прялки и верет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стрижка овцы"/>
          <p:cNvPicPr/>
          <p:nvPr/>
        </p:nvPicPr>
        <p:blipFill>
          <a:blip r:embed="rId1"/>
          <a:stretch/>
        </p:blipFill>
        <p:spPr>
          <a:xfrm>
            <a:off x="5403960" y="1628640"/>
            <a:ext cx="37400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3:35:38Z</dcterms:created>
  <dc:creator>WiZaRd</dc:creator>
  <dc:description/>
  <dc:language>en-US</dc:language>
  <cp:lastModifiedBy>Лилия Васильевна</cp:lastModifiedBy>
  <dcterms:modified xsi:type="dcterms:W3CDTF">2024-01-23T05:48:35Z</dcterms:modified>
  <cp:revision>161</cp:revision>
  <dc:subject/>
  <dc:title>ОСНОВЫ МАТЕРИАЛАВЕДЕНИЯ</dc:title>
</cp:coreProperties>
</file>