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3.jpeg" ContentType="image/jpeg"/>
  <Override PartName="/ppt/media/image49.png" ContentType="image/pn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40.png" ContentType="image/pn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53.jpeg" ContentType="image/jpeg"/>
  <Override PartName="/ppt/media/image51.png" ContentType="image/png"/>
  <Override PartName="/ppt/media/image54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6.jpeg" ContentType="image/jpeg"/>
  <Override PartName="/ppt/media/image46.png" ContentType="image/png"/>
  <Override PartName="/ppt/media/image57.jpeg" ContentType="image/jpeg"/>
  <Override PartName="/ppt/media/image58.jpeg" ContentType="image/jpeg"/>
  <Override PartName="/ppt/media/image59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2.jpeg" ContentType="image/jpeg"/>
  <Override PartName="/ppt/media/image48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A9F8-9BB1-4E66-A4F3-BA77A0E94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900A-BDE9-4358-9D16-17BB8339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F903-229E-4DCD-B529-0FA95641C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EB9C-A007-43AB-B57D-6BFD0BC75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4EBBC-4D00-4B3E-8F44-02C3A660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E32F9-0C11-493D-8177-E586D932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7DCA7-C7CC-49CB-8B7D-8C8DE5AE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C0431-ED26-4F2F-B324-ACBD635D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7598E-D00A-4048-9840-E686E032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A7ACB-B561-47F9-8499-13F114B1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36C9B-DBE3-44C9-A551-34E1820F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99BC-95DD-49D5-95C6-FC3FD735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09051-F308-40FC-B171-7B64A506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F58DC-1AEB-45D4-B78C-0D6070B7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AF33B-F0B6-4B9E-AAED-75C4EAF3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A1105-D384-4F0F-8EBD-BB84EC313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48AFD-24FB-49F3-85E2-2E58F23A2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9F3C-D6BE-4467-8913-43C28A1C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BE1B-5BA5-47ED-AC66-F1AD0839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7A2F-182F-4A11-8BFB-EB2E680D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832F-982A-444B-9585-6E9B31F2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1272-952A-4EEE-AA9E-32F1DFCC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6904-8532-4412-B2E8-C74AA0C7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CBA5-EF40-4081-9CB5-083D31C1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00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9a98ba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8c8ab0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5468-D92D-4487-A41E-915E838D41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00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9a98ba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8c8ab0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6BAA-4A6E-4E84-B8E5-1AB26986B6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ОСНОВЫ МАТЕРИАЛОВЕДЕНИЯ</a:t>
            </a: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859280" y="4149720"/>
            <a:ext cx="3827520" cy="194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подаватель материаловедения Яковлева А.И.  «Советский техникум-интернат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24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капрон (4)"/>
          <p:cNvPicPr/>
          <p:nvPr/>
        </p:nvPicPr>
        <p:blipFill>
          <a:blip r:embed="rId1"/>
          <a:stretch/>
        </p:blipFill>
        <p:spPr>
          <a:xfrm>
            <a:off x="179280" y="3284640"/>
            <a:ext cx="4776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войства волокон шерсти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ина – от 2 см до 4,5 с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вет – природны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щина – тонкие и толст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ягкость – мягкие, пушист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витость – сильное извитые, упруг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чность – ниже, чем у хлоп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ение – горит слабо, образуя шарик – спек черного цвета, чувствуется запах жженого пера, рог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ыв нити – кисточка с расходящимися извитыми волоконц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картинка животные"/>
          <p:cNvPicPr/>
          <p:nvPr/>
        </p:nvPicPr>
        <p:blipFill>
          <a:blip r:embed="rId1"/>
          <a:stretch/>
        </p:blipFill>
        <p:spPr>
          <a:xfrm>
            <a:off x="5003640" y="1557360"/>
            <a:ext cx="3889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войства шерстяных тканей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915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зико-механическ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ягкие, прочные, стойкие к износу, почти не мнутся, хорошо драпируются, поверхность шероховат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гиеническ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рошо пропускают воздух, впитывают влагу сохраняют тепло, пылеем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ологическ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раскрое тянуться, срезы обладают осыпаемостью нитей, при стачивании на швейной машине могут прорубаться, дают большую усадку после стирки, уплотняются, нити жестких шерстяных тканей раздвигаются в шв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нитрон3"/>
          <p:cNvPicPr/>
          <p:nvPr/>
        </p:nvPicPr>
        <p:blipFill>
          <a:blip r:embed="rId1"/>
          <a:stretch/>
        </p:blipFill>
        <p:spPr>
          <a:xfrm>
            <a:off x="6877080" y="1413000"/>
            <a:ext cx="1981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елк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елк – волокно представляет собой очень тонкую нить, которую выделяет гусеница тутового шелкопря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7" descr="шелк"/>
          <p:cNvPicPr/>
          <p:nvPr/>
        </p:nvPicPr>
        <p:blipFill>
          <a:blip r:embed="rId1"/>
          <a:stretch/>
        </p:blipFill>
        <p:spPr>
          <a:xfrm>
            <a:off x="0" y="3141720"/>
            <a:ext cx="5219640" cy="3716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капрон (2)"/>
          <p:cNvPicPr/>
          <p:nvPr/>
        </p:nvPicPr>
        <p:blipFill>
          <a:blip r:embed="rId2"/>
          <a:stretch/>
        </p:blipFill>
        <p:spPr>
          <a:xfrm>
            <a:off x="5148360" y="3141720"/>
            <a:ext cx="399564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вичная обработка шелка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лкопряды развиваются в несколько стад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яйцо (гре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гусе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куколк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бабоч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тут шелкопряд"/>
          <p:cNvPicPr/>
          <p:nvPr/>
        </p:nvPicPr>
        <p:blipFill>
          <a:blip r:embed="rId1"/>
          <a:stretch/>
        </p:blipFill>
        <p:spPr>
          <a:xfrm>
            <a:off x="2987640" y="2133720"/>
            <a:ext cx="558000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68000" y="692280"/>
            <a:ext cx="821844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лупляющиеся из яйца гусеницы развиваются 20-30 дней и к концу этого срока начинают в течение 3-х дней выделять и вить нити в виде кокона, после чего превращаются в куколку, а через 2-3 недели в бабочку, которая живет 10-15 д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олучения шелка ход развития шелкопряда прерывают. Собранные коконы разматывают, соединяя по 3-8 нитей вместе, получая шелк – сырец. Из него на прядильных фабриках наливают пряж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тут шелкопряд"/>
          <p:cNvPicPr/>
          <p:nvPr/>
        </p:nvPicPr>
        <p:blipFill>
          <a:blip r:embed="rId1"/>
          <a:stretch/>
        </p:blipFill>
        <p:spPr>
          <a:xfrm>
            <a:off x="1979640" y="4149720"/>
            <a:ext cx="6553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войства волокон шелка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4176720" cy="41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на – 700-1000м (нит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– светлый, с нерезким блеск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щина – очень тонкие, гладк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ягкость – мягк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витость – прямые, упруг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чность – прочны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ение – при сильном нагревании становится хрупкими и разрушаются, при горении на конце образуется секшийся черный наплыв, чувствуется запах жженого пе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ыв нити концы обрыва имеют вид  связной массы волок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acetat"/>
          <p:cNvPicPr/>
          <p:nvPr/>
        </p:nvPicPr>
        <p:blipFill>
          <a:blip r:embed="rId1"/>
          <a:stretch/>
        </p:blipFill>
        <p:spPr>
          <a:xfrm>
            <a:off x="5364000" y="1916280"/>
            <a:ext cx="352908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войства волокон шелка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176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ягкие, легкие, прочные, хорошо драпируются, почти не мну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игиеническ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рошо пропускают воздух, впитывают влагу, быстро сох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ологическ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зико-механическ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льно тянуться, сильно осыпаются при раскрое, скользят, прорубаются при обработке на швейной машине, дают большую осад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вискозная  ткань(шелковая)"/>
          <p:cNvPicPr/>
          <p:nvPr/>
        </p:nvPicPr>
        <p:blipFill>
          <a:blip r:embed="rId1"/>
          <a:stretch/>
        </p:blipFill>
        <p:spPr>
          <a:xfrm>
            <a:off x="4859280" y="1916280"/>
            <a:ext cx="3970440" cy="35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знаки вида тканей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11280" y="1052640"/>
          <a:ext cx="8229600" cy="5064120"/>
        </p:xfrm>
        <a:graphic>
          <a:graphicData uri="http://schemas.openxmlformats.org/drawingml/2006/table">
            <a:tbl>
              <a:tblPr/>
              <a:tblGrid>
                <a:gridCol w="1646280"/>
                <a:gridCol w="1162080"/>
                <a:gridCol w="1655640"/>
                <a:gridCol w="473040"/>
                <a:gridCol w="1646280"/>
                <a:gridCol w="1646280"/>
              </a:tblGrid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пчато- бумаж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ьня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рстя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туральный шел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е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замет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ез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роховат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роховат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ст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й жестк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инаем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ите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витость ни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 извит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ям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вит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ям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обрыва ни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т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точка из прямых волоконе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точка с расходящимися извитыми волоконц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язанная масса волоконе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ток – «скелет» ткани, запах жженой бума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ток – спек в виде шарика, запах жженого пер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ные вопросы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020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овите, какие волокна изучали на уро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какой группе волокон они относя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го происхождения кла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какой группе волокон они относя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го происхождения эти волокн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какими волокнами вы познакомились сегодня на эти волокн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ацетат 8"/>
          <p:cNvPicPr/>
          <p:nvPr/>
        </p:nvPicPr>
        <p:blipFill>
          <a:blip r:embed="rId1"/>
          <a:stretch/>
        </p:blipFill>
        <p:spPr>
          <a:xfrm>
            <a:off x="5076720" y="1557360"/>
            <a:ext cx="3888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af"/>
                </a:solidFill>
                <a:latin typeface="Arial"/>
              </a:rPr>
              <a:t>Свойства  тканей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446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кани отличаются друг от друга по волокнистому составу, переплетению нитей, прочности, по способности пропускать воздух и сохранять тепло. Все эти особенности тканей называют их свойст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свойства тканей делят 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зико - механическ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устойчивость ткани к трению, растяжению, образование заминов и склад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игиенические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пособность ткани удерживать тепло, пропускать воздух,  впитывать влагу, электризоваться при нос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хнологическ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поведение ткани при шитье и стир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сплуатацион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оведение ткани в процессе но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одежда из вискозной ткани"/>
          <p:cNvPicPr/>
          <p:nvPr/>
        </p:nvPicPr>
        <p:blipFill>
          <a:blip r:embed="rId1"/>
          <a:stretch/>
        </p:blipFill>
        <p:spPr>
          <a:xfrm>
            <a:off x="4214880" y="4000680"/>
            <a:ext cx="30956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туральные волокна растительного происхождения (хлопок и ле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туральные волокна животного происхожден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лк и шер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ие волок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ткан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ы ткацких переплетений. Дефекты тка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1" descr="овца"/>
          <p:cNvPicPr/>
          <p:nvPr/>
        </p:nvPicPr>
        <p:blipFill>
          <a:blip r:embed="rId1"/>
          <a:stretch/>
        </p:blipFill>
        <p:spPr>
          <a:xfrm>
            <a:off x="395280" y="4292640"/>
            <a:ext cx="2808360" cy="2305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лавсан1"/>
          <p:cNvPicPr/>
          <p:nvPr/>
        </p:nvPicPr>
        <p:blipFill>
          <a:blip r:embed="rId2"/>
          <a:stretch/>
        </p:blipFill>
        <p:spPr>
          <a:xfrm>
            <a:off x="3492360" y="4292640"/>
            <a:ext cx="2592360" cy="2305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капрон 2"/>
          <p:cNvPicPr/>
          <p:nvPr/>
        </p:nvPicPr>
        <p:blipFill>
          <a:blip r:embed="rId3"/>
          <a:stretch/>
        </p:blipFill>
        <p:spPr>
          <a:xfrm>
            <a:off x="6372360" y="4292640"/>
            <a:ext cx="2509560" cy="229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войства тканей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202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йства тканей зависит от свойств волокон, от вида и структуры пряжи и от характера отделки ткан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йства ткани влияют на выбор модели и обработку издел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свойства ткани делятся 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механ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физ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техн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5" descr="ацетат 7"/>
          <p:cNvPicPr/>
          <p:nvPr/>
        </p:nvPicPr>
        <p:blipFill>
          <a:blip r:embed="rId1"/>
          <a:stretch/>
        </p:blipFill>
        <p:spPr>
          <a:xfrm>
            <a:off x="6443640" y="1268280"/>
            <a:ext cx="25210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ханические свойства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0280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ханические свойства определяют в зависимости от того, как реагирует материал на действие различных внешних сил. Под действием этих сил материал деформируется: изменяются его размеры и фор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механическим свойствам ткани относя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очность – способность ткани противостоять разрыв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минаемость – способность ткани во время сжатия и давления образовывать мелкие морщины и склад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драпируемость – способность ткани держать круглые складки в висячем положе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износостойкость – способность ткани сохранять первоначальный вид под воздействием трения, температуры, света, влаги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драппируемость"/>
          <p:cNvPicPr/>
          <p:nvPr/>
        </p:nvPicPr>
        <p:blipFill>
          <a:blip r:embed="rId1"/>
          <a:stretch/>
        </p:blipFill>
        <p:spPr>
          <a:xfrm>
            <a:off x="4535640" y="4581360"/>
            <a:ext cx="46083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ические свойства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50403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зические свойств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это свойства, направленные на сохранение здоровья человека. К ним относя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плозащитные свойств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это способность ткани сохранять тепло человеческого тела, эти свойства зависят от волокнистого состава, толщины, плотности и вида отделки тка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ылеемкос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пособность ткани удерживать пыль и другие загрязн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игроскопичность – способность ткани впитывать вла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5" descr="94c91e1934d2"/>
          <p:cNvPicPr/>
          <p:nvPr/>
        </p:nvPicPr>
        <p:blipFill>
          <a:blip r:embed="rId1"/>
          <a:stretch/>
        </p:blipFill>
        <p:spPr>
          <a:xfrm>
            <a:off x="5867280" y="1484280"/>
            <a:ext cx="28576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хнологические свойства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5329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ологические свойства проявляются в том, как ведет себя ткань при изготовлении из нее различных изделий, начиная с раскроя и заканчивая влажно- тепловой обработкой. К технологическим свойствам относ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ольж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мещ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кани при раскрое и стачива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ыпаемос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нити не удерживаются на открытых срезах, осыпаются, образуя бахро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адка 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меньшение размеров ткани под воздействием тепла и влаг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яжение – способность ткани вытягиваться при стачив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7" descr="вискозная ткань"/>
          <p:cNvPicPr/>
          <p:nvPr/>
        </p:nvPicPr>
        <p:blipFill>
          <a:blip r:embed="rId1"/>
          <a:stretch/>
        </p:blipFill>
        <p:spPr>
          <a:xfrm>
            <a:off x="5724360" y="1197000"/>
            <a:ext cx="3240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цевая и изнаночная стороны тканей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6337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шний вид тканей зависит от вида ткацкого переплетения. К таким тканям относятся бельевые, платьевые, подкладоч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сновном ткани имеют различные лицевую и изнаночную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цевую и изнаночную сторон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кани можно определить по следующим признака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краю ткан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коло кромок имеются проколы. На лицевой стороне ткань в местах проколов более выпукл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гладких тканях изнаночная сторона более пушистая чем лицевая, т.к. на изнаночную сторону выводят ткацкие дефек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рисунку ткацкого переплет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8" descr="одежда из лайкровой ткани"/>
          <p:cNvPicPr/>
          <p:nvPr/>
        </p:nvPicPr>
        <p:blipFill>
          <a:blip r:embed="rId1"/>
          <a:stretch/>
        </p:blipFill>
        <p:spPr>
          <a:xfrm>
            <a:off x="6300720" y="981000"/>
            <a:ext cx="26640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ные вопросы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33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определить лицевую сторону в гладко крашенной ткан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представляют собой механические, физические и технологические свойств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вы положительное качества шерстяных и шелковых ткан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овите отрицательные качества шерстяных и шелковых тка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влияет осыпаемость нитей на раскрой издели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отличаются режимы влажно-тепловой обработки шерстяных и шелковых ткан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" descr="лайкра2"/>
          <p:cNvPicPr/>
          <p:nvPr/>
        </p:nvPicPr>
        <p:blipFill>
          <a:blip r:embed="rId1"/>
          <a:stretch/>
        </p:blipFill>
        <p:spPr>
          <a:xfrm>
            <a:off x="5867280" y="1413000"/>
            <a:ext cx="3097440" cy="2520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2176390"/>
          <p:cNvPicPr/>
          <p:nvPr/>
        </p:nvPicPr>
        <p:blipFill>
          <a:blip r:embed="rId2"/>
          <a:stretch/>
        </p:blipFill>
        <p:spPr>
          <a:xfrm>
            <a:off x="5867280" y="3976560"/>
            <a:ext cx="309744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af"/>
                </a:solidFill>
                <a:latin typeface="Arial"/>
              </a:rPr>
              <a:t>Химические волокна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554328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волокна, созданные искусственным  путем с помощью физических и химических процес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траты на производство химических волокон значительно ниже, чем на производ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туральных .Волокна можно получить с заданными свойст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капрон (3)"/>
          <p:cNvPicPr/>
          <p:nvPr/>
        </p:nvPicPr>
        <p:blipFill>
          <a:blip r:embed="rId1"/>
          <a:stretch/>
        </p:blipFill>
        <p:spPr>
          <a:xfrm>
            <a:off x="5724360" y="1268280"/>
            <a:ext cx="3240360" cy="26654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3" descr="вискоза2"/>
          <p:cNvPicPr/>
          <p:nvPr/>
        </p:nvPicPr>
        <p:blipFill>
          <a:blip r:embed="rId2"/>
          <a:stretch/>
        </p:blipFill>
        <p:spPr>
          <a:xfrm>
            <a:off x="5724360" y="4005360"/>
            <a:ext cx="32403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af"/>
                </a:solidFill>
                <a:latin typeface="Arial"/>
              </a:rPr>
              <a:t>Вискозное  волокно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402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недостаткам вискозного волокна относятся лёгкая сминаемость, значительная потеря прочности в мокром состоянии и недостаточная устойчивость к истиранию. Эти недостатки в той или иной степени могут быть устранены последующими модификациями и обработ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вискоза (6)"/>
          <p:cNvPicPr/>
          <p:nvPr/>
        </p:nvPicPr>
        <p:blipFill>
          <a:blip r:embed="rId1"/>
          <a:stretch/>
        </p:blipFill>
        <p:spPr>
          <a:xfrm>
            <a:off x="5724360" y="1268280"/>
            <a:ext cx="3245040" cy="26654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вискоза (4)"/>
          <p:cNvPicPr/>
          <p:nvPr/>
        </p:nvPicPr>
        <p:blipFill>
          <a:blip r:embed="rId2"/>
          <a:stretch/>
        </p:blipFill>
        <p:spPr>
          <a:xfrm>
            <a:off x="5724360" y="4076640"/>
            <a:ext cx="324180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af"/>
                </a:solidFill>
                <a:latin typeface="Arial"/>
              </a:rPr>
              <a:t>Вискозное волокно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недостаткам вискозного волокна относятся лёгкая сминаемость, значительная потеря прочности в мокром состоянии и недостаточная устойчивость к истиранию. Эти недостатки в той или иной степени могут быть устранены последующими модификациями и обработ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7" descr="вискозные нитки"/>
          <p:cNvPicPr/>
          <p:nvPr/>
        </p:nvPicPr>
        <p:blipFill>
          <a:blip r:embed="rId1"/>
          <a:stretch/>
        </p:blipFill>
        <p:spPr>
          <a:xfrm>
            <a:off x="5219640" y="1700280"/>
            <a:ext cx="3535560" cy="2808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ацетат5"/>
          <p:cNvPicPr/>
          <p:nvPr/>
        </p:nvPicPr>
        <p:blipFill>
          <a:blip r:embed="rId2"/>
          <a:stretch/>
        </p:blipFill>
        <p:spPr>
          <a:xfrm>
            <a:off x="5219640" y="4208400"/>
            <a:ext cx="345600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af"/>
                </a:solidFill>
                <a:latin typeface="Arial"/>
              </a:rPr>
              <a:t>Ацетатное волокно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6195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ходным сырьем являются отходы древесины и хлопка. Волокна тонкие, упругие, хорошо окрашиваются, обладают повышенными теплоизоляционными свойствами, светостойкостью, сильно электризуются, растворяются в ацетон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Блеск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товый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ерхнос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гладкая, скользкая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чность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ысокая, в мокром состоянии незначительно уменьшается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минаемость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ала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Горение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елтое пламя с образованием темного наплыва, пахнущего уксус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цветок  хлопка- ацетат"/>
          <p:cNvPicPr/>
          <p:nvPr/>
        </p:nvPicPr>
        <p:blipFill>
          <a:blip r:embed="rId1"/>
          <a:stretch/>
        </p:blipFill>
        <p:spPr>
          <a:xfrm>
            <a:off x="5724360" y="1268280"/>
            <a:ext cx="3089520" cy="2592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ацетат"/>
          <p:cNvPicPr/>
          <p:nvPr/>
        </p:nvPicPr>
        <p:blipFill>
          <a:blip r:embed="rId2"/>
          <a:stretch/>
        </p:blipFill>
        <p:spPr>
          <a:xfrm>
            <a:off x="5724360" y="4005360"/>
            <a:ext cx="3095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 волокон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grpSp>
        <p:nvGrpSpPr>
          <p:cNvPr id="131" name="Organization Chart 5"/>
          <p:cNvGrpSpPr/>
          <p:nvPr/>
        </p:nvGrpSpPr>
        <p:grpSpPr>
          <a:xfrm>
            <a:off x="179280" y="1197000"/>
            <a:ext cx="8713440" cy="5471640"/>
            <a:chOff x="179280" y="1197000"/>
            <a:chExt cx="8713440" cy="5471640"/>
          </a:xfrm>
        </p:grpSpPr>
        <p:cxnSp>
          <p:nvCxnSpPr>
            <p:cNvPr id="132" name="_s1028"/>
            <p:cNvCxnSpPr>
              <a:stCxn id="133" idx="1"/>
              <a:endCxn id="134" idx="2"/>
            </p:cNvCxnSpPr>
            <p:nvPr/>
          </p:nvCxnSpPr>
          <p:spPr>
            <a:xfrm rot="10800000">
              <a:off x="7441560" y="3389760"/>
              <a:ext cx="207000" cy="300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1029"/>
            <p:cNvCxnSpPr>
              <a:stCxn id="136" idx="1"/>
              <a:endCxn id="134" idx="2"/>
            </p:cNvCxnSpPr>
            <p:nvPr/>
          </p:nvCxnSpPr>
          <p:spPr>
            <a:xfrm rot="10800000">
              <a:off x="7441560" y="3389760"/>
              <a:ext cx="207000" cy="2186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1030"/>
            <p:cNvCxnSpPr>
              <a:stCxn id="138" idx="1"/>
              <a:endCxn id="134" idx="2"/>
            </p:cNvCxnSpPr>
            <p:nvPr/>
          </p:nvCxnSpPr>
          <p:spPr>
            <a:xfrm rot="10800000">
              <a:off x="7441560" y="3389760"/>
              <a:ext cx="207000" cy="1364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9" name="_s1031"/>
            <p:cNvCxnSpPr>
              <a:stCxn id="140" idx="1"/>
              <a:endCxn id="134" idx="2"/>
            </p:cNvCxnSpPr>
            <p:nvPr/>
          </p:nvCxnSpPr>
          <p:spPr>
            <a:xfrm rot="10800000">
              <a:off x="7441560" y="3389760"/>
              <a:ext cx="207000" cy="54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1" name="_s1032"/>
            <p:cNvCxnSpPr>
              <a:stCxn id="142" idx="1"/>
              <a:endCxn id="143" idx="2"/>
            </p:cNvCxnSpPr>
            <p:nvPr/>
          </p:nvCxnSpPr>
          <p:spPr>
            <a:xfrm rot="10800000">
              <a:off x="5781960" y="3389760"/>
              <a:ext cx="206640" cy="1364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1033"/>
            <p:cNvCxnSpPr>
              <a:stCxn id="145" idx="1"/>
              <a:endCxn id="143" idx="2"/>
            </p:cNvCxnSpPr>
            <p:nvPr/>
          </p:nvCxnSpPr>
          <p:spPr>
            <a:xfrm rot="10800000">
              <a:off x="5781960" y="3389760"/>
              <a:ext cx="206640" cy="54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6" name="_s1034"/>
            <p:cNvCxnSpPr>
              <a:stCxn id="147" idx="1"/>
              <a:endCxn id="148" idx="2"/>
            </p:cNvCxnSpPr>
            <p:nvPr/>
          </p:nvCxnSpPr>
          <p:spPr>
            <a:xfrm rot="10800000">
              <a:off x="4119480" y="3385800"/>
              <a:ext cx="208080" cy="550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_s1035"/>
            <p:cNvCxnSpPr>
              <a:stCxn id="150" idx="1"/>
              <a:endCxn id="151" idx="2"/>
            </p:cNvCxnSpPr>
            <p:nvPr/>
          </p:nvCxnSpPr>
          <p:spPr>
            <a:xfrm rot="10800000">
              <a:off x="2459880" y="3389760"/>
              <a:ext cx="208080" cy="1364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2" name="_s1036"/>
            <p:cNvCxnSpPr>
              <a:stCxn id="153" idx="1"/>
              <a:endCxn id="151" idx="2"/>
            </p:cNvCxnSpPr>
            <p:nvPr/>
          </p:nvCxnSpPr>
          <p:spPr>
            <a:xfrm rot="10800000">
              <a:off x="2459880" y="3389760"/>
              <a:ext cx="208080" cy="54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4" name="_s1037"/>
            <p:cNvCxnSpPr>
              <a:stCxn id="155" idx="1"/>
              <a:endCxn id="156" idx="2"/>
            </p:cNvCxnSpPr>
            <p:nvPr/>
          </p:nvCxnSpPr>
          <p:spPr>
            <a:xfrm rot="10800000">
              <a:off x="801360" y="3389760"/>
              <a:ext cx="207000" cy="1364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7" name="_s1038"/>
            <p:cNvCxnSpPr>
              <a:stCxn id="158" idx="1"/>
              <a:endCxn id="156" idx="2"/>
            </p:cNvCxnSpPr>
            <p:nvPr/>
          </p:nvCxnSpPr>
          <p:spPr>
            <a:xfrm rot="10800000">
              <a:off x="801360" y="3389760"/>
              <a:ext cx="207000" cy="54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9" name="_s1039"/>
            <p:cNvCxnSpPr>
              <a:stCxn id="148" idx="0"/>
              <a:endCxn id="160" idx="2"/>
            </p:cNvCxnSpPr>
            <p:nvPr/>
          </p:nvCxnSpPr>
          <p:spPr>
            <a:xfrm flipV="1" rot="16200000">
              <a:off x="3152520" y="1871280"/>
              <a:ext cx="274680" cy="1659960"/>
            </a:xfrm>
            <a:prstGeom prst="bentConnector3">
              <a:avLst>
                <a:gd name="adj1" fmla="val 4934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" name="_s1040"/>
            <p:cNvCxnSpPr>
              <a:stCxn id="134" idx="0"/>
              <a:endCxn id="162" idx="2"/>
            </p:cNvCxnSpPr>
            <p:nvPr/>
          </p:nvCxnSpPr>
          <p:spPr>
            <a:xfrm flipV="1" rot="16200000">
              <a:off x="6889320" y="2285640"/>
              <a:ext cx="274680" cy="831240"/>
            </a:xfrm>
            <a:prstGeom prst="bentConnector3">
              <a:avLst>
                <a:gd name="adj1" fmla="val 4934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3" name="_s1041"/>
            <p:cNvCxnSpPr>
              <a:stCxn id="143" idx="0"/>
              <a:endCxn id="162" idx="2"/>
            </p:cNvCxnSpPr>
            <p:nvPr/>
          </p:nvCxnSpPr>
          <p:spPr>
            <a:xfrm flipH="1" flipV="1" rot="5400000">
              <a:off x="6059880" y="2286720"/>
              <a:ext cx="274680" cy="829440"/>
            </a:xfrm>
            <a:prstGeom prst="bentConnector3">
              <a:avLst>
                <a:gd name="adj1" fmla="val 4934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1042"/>
            <p:cNvCxnSpPr>
              <a:stCxn id="151" idx="0"/>
              <a:endCxn id="160" idx="2"/>
            </p:cNvCxnSpPr>
            <p:nvPr/>
          </p:nvCxnSpPr>
          <p:spPr>
            <a:xfrm flipV="1">
              <a:off x="2460240" y="2563920"/>
              <a:ext cx="1800" cy="274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1043"/>
            <p:cNvCxnSpPr>
              <a:stCxn id="156" idx="0"/>
              <a:endCxn id="160" idx="2"/>
            </p:cNvCxnSpPr>
            <p:nvPr/>
          </p:nvCxnSpPr>
          <p:spPr>
            <a:xfrm flipH="1" flipV="1" rot="5400000">
              <a:off x="1494000" y="1871640"/>
              <a:ext cx="274680" cy="1659240"/>
            </a:xfrm>
            <a:prstGeom prst="bentConnector3">
              <a:avLst>
                <a:gd name="adj1" fmla="val 4934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6" name="_s1044"/>
            <p:cNvCxnSpPr>
              <a:stCxn id="162" idx="0"/>
              <a:endCxn id="167" idx="2"/>
            </p:cNvCxnSpPr>
            <p:nvPr/>
          </p:nvCxnSpPr>
          <p:spPr>
            <a:xfrm flipV="1" rot="16200000">
              <a:off x="5436720" y="843840"/>
              <a:ext cx="274680" cy="2075400"/>
            </a:xfrm>
            <a:prstGeom prst="bentConnector3">
              <a:avLst>
                <a:gd name="adj1" fmla="val 4934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8" name="_s1045"/>
            <p:cNvCxnSpPr>
              <a:stCxn id="160" idx="0"/>
              <a:endCxn id="167" idx="2"/>
            </p:cNvCxnSpPr>
            <p:nvPr/>
          </p:nvCxnSpPr>
          <p:spPr>
            <a:xfrm flipH="1" flipV="1" rot="5400000">
              <a:off x="3361320" y="843120"/>
              <a:ext cx="274680" cy="2076840"/>
            </a:xfrm>
            <a:prstGeom prst="bentConnector3">
              <a:avLst>
                <a:gd name="adj1" fmla="val 4934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7" name="_s1046"/>
            <p:cNvSpPr/>
            <p:nvPr/>
          </p:nvSpPr>
          <p:spPr>
            <a:xfrm>
              <a:off x="3912480" y="1197000"/>
              <a:ext cx="1245600" cy="54792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олокно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047"/>
            <p:cNvSpPr/>
            <p:nvPr/>
          </p:nvSpPr>
          <p:spPr>
            <a:xfrm>
              <a:off x="1837800" y="2018880"/>
              <a:ext cx="1245600" cy="5479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туральн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048"/>
            <p:cNvSpPr/>
            <p:nvPr/>
          </p:nvSpPr>
          <p:spPr>
            <a:xfrm>
              <a:off x="5988960" y="2018880"/>
              <a:ext cx="1245600" cy="5479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химическ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049"/>
            <p:cNvSpPr/>
            <p:nvPr/>
          </p:nvSpPr>
          <p:spPr>
            <a:xfrm>
              <a:off x="179280" y="2840760"/>
              <a:ext cx="1244520" cy="547920"/>
            </a:xfrm>
            <a:prstGeom prst="roundRect">
              <a:avLst>
                <a:gd name="adj" fmla="val 16667"/>
              </a:avLst>
            </a:prstGeom>
            <a:solidFill>
              <a:srgbClr val="ffff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астительног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оисхожд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050"/>
            <p:cNvSpPr/>
            <p:nvPr/>
          </p:nvSpPr>
          <p:spPr>
            <a:xfrm>
              <a:off x="1837800" y="2840760"/>
              <a:ext cx="1245600" cy="547920"/>
            </a:xfrm>
            <a:prstGeom prst="roundRect">
              <a:avLst>
                <a:gd name="adj" fmla="val 16667"/>
              </a:avLst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животног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оисхожд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51"/>
            <p:cNvSpPr/>
            <p:nvPr/>
          </p:nvSpPr>
          <p:spPr>
            <a:xfrm>
              <a:off x="5159880" y="2840760"/>
              <a:ext cx="1244160" cy="54792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скусствен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52"/>
            <p:cNvSpPr/>
            <p:nvPr/>
          </p:nvSpPr>
          <p:spPr>
            <a:xfrm>
              <a:off x="6819480" y="2840760"/>
              <a:ext cx="1244520" cy="54792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интетическ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053"/>
            <p:cNvSpPr/>
            <p:nvPr/>
          </p:nvSpPr>
          <p:spPr>
            <a:xfrm>
              <a:off x="3497040" y="2840760"/>
              <a:ext cx="1245600" cy="545760"/>
            </a:xfrm>
            <a:prstGeom prst="roundRect">
              <a:avLst>
                <a:gd name="adj" fmla="val 16667"/>
              </a:avLst>
            </a:prstGeom>
            <a:solidFill>
              <a:srgbClr val="67659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инераль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1054"/>
            <p:cNvSpPr/>
            <p:nvPr/>
          </p:nvSpPr>
          <p:spPr>
            <a:xfrm>
              <a:off x="1008360" y="3662640"/>
              <a:ext cx="1244520" cy="545760"/>
            </a:xfrm>
            <a:prstGeom prst="roundRect">
              <a:avLst>
                <a:gd name="adj" fmla="val 16667"/>
              </a:avLst>
            </a:prstGeom>
            <a:solidFill>
              <a:srgbClr val="ffff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хлопо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1055"/>
            <p:cNvSpPr/>
            <p:nvPr/>
          </p:nvSpPr>
          <p:spPr>
            <a:xfrm>
              <a:off x="1008360" y="4482360"/>
              <a:ext cx="1244520" cy="546120"/>
            </a:xfrm>
            <a:prstGeom prst="roundRect">
              <a:avLst>
                <a:gd name="adj" fmla="val 16667"/>
              </a:avLst>
            </a:prstGeom>
            <a:solidFill>
              <a:srgbClr val="ffff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ле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056"/>
            <p:cNvSpPr/>
            <p:nvPr/>
          </p:nvSpPr>
          <p:spPr>
            <a:xfrm>
              <a:off x="2668320" y="3662640"/>
              <a:ext cx="1244160" cy="545760"/>
            </a:xfrm>
            <a:prstGeom prst="roundRect">
              <a:avLst>
                <a:gd name="adj" fmla="val 16667"/>
              </a:avLst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шел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057"/>
            <p:cNvSpPr/>
            <p:nvPr/>
          </p:nvSpPr>
          <p:spPr>
            <a:xfrm>
              <a:off x="2668320" y="4482360"/>
              <a:ext cx="1245600" cy="546120"/>
            </a:xfrm>
            <a:prstGeom prst="roundRect">
              <a:avLst>
                <a:gd name="adj" fmla="val 16667"/>
              </a:avLst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шер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1058"/>
            <p:cNvSpPr/>
            <p:nvPr/>
          </p:nvSpPr>
          <p:spPr>
            <a:xfrm>
              <a:off x="4327560" y="3662640"/>
              <a:ext cx="1245600" cy="545760"/>
            </a:xfrm>
            <a:prstGeom prst="roundRect">
              <a:avLst>
                <a:gd name="adj" fmla="val 16667"/>
              </a:avLst>
            </a:prstGeom>
            <a:solidFill>
              <a:srgbClr val="67659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сбес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059"/>
            <p:cNvSpPr/>
            <p:nvPr/>
          </p:nvSpPr>
          <p:spPr>
            <a:xfrm>
              <a:off x="5988960" y="3662640"/>
              <a:ext cx="1244520" cy="5457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искозно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060"/>
            <p:cNvSpPr/>
            <p:nvPr/>
          </p:nvSpPr>
          <p:spPr>
            <a:xfrm>
              <a:off x="5988960" y="4482360"/>
              <a:ext cx="1244520" cy="54612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цетатно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061"/>
            <p:cNvSpPr/>
            <p:nvPr/>
          </p:nvSpPr>
          <p:spPr>
            <a:xfrm>
              <a:off x="7648560" y="3662640"/>
              <a:ext cx="1244160" cy="54576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апро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62"/>
            <p:cNvSpPr/>
            <p:nvPr/>
          </p:nvSpPr>
          <p:spPr>
            <a:xfrm>
              <a:off x="7648560" y="4482360"/>
              <a:ext cx="1244160" cy="54612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лавса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063"/>
            <p:cNvSpPr/>
            <p:nvPr/>
          </p:nvSpPr>
          <p:spPr>
            <a:xfrm>
              <a:off x="7648560" y="5302800"/>
              <a:ext cx="1244160" cy="54576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итро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64"/>
            <p:cNvSpPr/>
            <p:nvPr/>
          </p:nvSpPr>
          <p:spPr>
            <a:xfrm>
              <a:off x="7648560" y="6122520"/>
              <a:ext cx="1244160" cy="54612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лайк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af"/>
                </a:solidFill>
                <a:latin typeface="Arial"/>
              </a:rPr>
              <a:t>Лавсан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56880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адает устойчивостью к действию воды, упруг   .Складки на изделиях сохраняются после стирки и чистки. По теплопроводности и несминаемости похож на шерс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Блес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езкий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ерхность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дка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Прочно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прочное, не уменьшается в мокром состоян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 Горение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ит слабовато- желтым цветом с выделением черной копо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5" descr="лавсан4"/>
          <p:cNvPicPr/>
          <p:nvPr/>
        </p:nvPicPr>
        <p:blipFill>
          <a:blip r:embed="rId1"/>
          <a:stretch/>
        </p:blipFill>
        <p:spPr>
          <a:xfrm>
            <a:off x="6084720" y="1413000"/>
            <a:ext cx="28576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af"/>
                </a:solidFill>
                <a:latin typeface="Arial"/>
              </a:rPr>
              <a:t>Капрон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550872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прон- похож на шелк, боится больших температур, устойчив к действию кислот, не выцветает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ес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резкий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верх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гладка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Прочность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чное, не уменьшается в мокром состояни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Горение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виться, а затем загорается голубовато- желтоватым пламенем, запах сургуч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6" descr="капрон"/>
          <p:cNvPicPr/>
          <p:nvPr/>
        </p:nvPicPr>
        <p:blipFill>
          <a:blip r:embed="rId1"/>
          <a:stretch/>
        </p:blipFill>
        <p:spPr>
          <a:xfrm>
            <a:off x="5508720" y="907920"/>
            <a:ext cx="3348000" cy="24498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капрон (1)"/>
          <p:cNvPicPr/>
          <p:nvPr/>
        </p:nvPicPr>
        <p:blipFill>
          <a:blip r:embed="rId2"/>
          <a:stretch/>
        </p:blipFill>
        <p:spPr>
          <a:xfrm>
            <a:off x="5508720" y="3573360"/>
            <a:ext cx="3384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af"/>
                </a:solidFill>
                <a:latin typeface="Arial"/>
              </a:rPr>
              <a:t>Нитрон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3960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трон- трудно отличить от шерсти, волокно теплостойко , светостойко, боится действия щелочей, упруго. Изделия из нитрона после стирки сохраняют свою форму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ребуют утюжк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Блеск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овы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Поверхность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дкая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чность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очное ,не уменьшается в мокром состояни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Горение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ит вспышками , интенсивно, выделяя черную копо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нитрон2"/>
          <p:cNvPicPr/>
          <p:nvPr/>
        </p:nvPicPr>
        <p:blipFill>
          <a:blip r:embed="rId1"/>
          <a:stretch/>
        </p:blipFill>
        <p:spPr>
          <a:xfrm>
            <a:off x="6084720" y="1197000"/>
            <a:ext cx="2624400" cy="2303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нитрон"/>
          <p:cNvPicPr/>
          <p:nvPr/>
        </p:nvPicPr>
        <p:blipFill>
          <a:blip r:embed="rId2"/>
          <a:stretch/>
        </p:blipFill>
        <p:spPr>
          <a:xfrm>
            <a:off x="4284720" y="3573360"/>
            <a:ext cx="4464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af"/>
                </a:solidFill>
                <a:latin typeface="Arial"/>
              </a:rPr>
              <a:t>Лайкра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окно лайкры бывает матированное (белое), полупрозрачное и прозрачное. К основным свойствам лайкры следует отнести высокую растяжимость (в 6-8 раз), причем при прекращении нагрузки волокно возвращается в исходное состояние. Лайкра пропускает воздух и хорошо стирается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йкра придает изделию специфические качества, в частности — обеспечивает свободу движения и сохраняет форму, а также препятствует образованию складок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3" descr="лайкра"/>
          <p:cNvPicPr/>
          <p:nvPr/>
        </p:nvPicPr>
        <p:blipFill>
          <a:blip r:embed="rId1"/>
          <a:stretch/>
        </p:blipFill>
        <p:spPr>
          <a:xfrm>
            <a:off x="4572000" y="2781360"/>
            <a:ext cx="2730600" cy="3584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4" descr="лайкровая ткань"/>
          <p:cNvPicPr/>
          <p:nvPr/>
        </p:nvPicPr>
        <p:blipFill>
          <a:blip r:embed="rId2"/>
          <a:stretch/>
        </p:blipFill>
        <p:spPr>
          <a:xfrm>
            <a:off x="6659640" y="765000"/>
            <a:ext cx="22906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af"/>
                </a:solidFill>
                <a:latin typeface="Arial"/>
              </a:rPr>
              <a:t>Контрольные вопросы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46083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Плащ, сшитый из какой ткани будет непромокаем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Какую ты выберешь ткань для создания красивой драпировки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Почему из льняной ткани не шьют теплую одежд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Срезы каких тканей необходимо обработать после раскро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Изделия из какой ткани не дают усадк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одежда из капроновой ткани"/>
          <p:cNvPicPr/>
          <p:nvPr/>
        </p:nvPicPr>
        <p:blipFill>
          <a:blip r:embed="rId1"/>
          <a:stretch/>
        </p:blipFill>
        <p:spPr>
          <a:xfrm>
            <a:off x="6877080" y="1341360"/>
            <a:ext cx="2016000" cy="38163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игрушка из капроновой ткани"/>
          <p:cNvPicPr/>
          <p:nvPr/>
        </p:nvPicPr>
        <p:blipFill>
          <a:blip r:embed="rId2"/>
          <a:stretch/>
        </p:blipFill>
        <p:spPr>
          <a:xfrm>
            <a:off x="2124000" y="3833640"/>
            <a:ext cx="1932120" cy="3024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одежда из лайкровой ткани 2"/>
          <p:cNvPicPr/>
          <p:nvPr/>
        </p:nvPicPr>
        <p:blipFill>
          <a:blip r:embed="rId3"/>
          <a:stretch/>
        </p:blipFill>
        <p:spPr>
          <a:xfrm>
            <a:off x="4716360" y="3500280"/>
            <a:ext cx="201636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ды ткацких переплетений. Дефекты тканей.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202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плетением нитей в ткани называется порядок взаимного перекрытия нитей основы нитями у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кацкие переплетения подразделяются на простые и слож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простым переплетениям относя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тняное – ровная матовая поверхность, одинаковая с лицевой и изнаночной стор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ржевое – покрыта диагональными полосками, образующимися вследствие смещения рисунка переплетения на одну основную нить при каждой последующей прокидке у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тиновое- лицевая сторона ткани состоит из длинных уточных перекрыт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тласная – состоит из основных нитей, поэтому лицевая поверхность ткани получается гладкая, блестящ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4851360" y="4365720"/>
            <a:ext cx="429264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ассификация ткацких переплетений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276" name="Picture 9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748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аржевое переплетение</a:t>
            </a:r>
            <a:br>
              <a:rPr sz="4000"/>
            </a:b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-360" y="1628280"/>
            <a:ext cx="42591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этом переплетении нити основы перекрывают две нити утка, пропуская одну. На лицевой стороне образуется рисунок в виде рубчика, идущего в косом направлении полотна тка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кани саржевого переплетения мягкие, хорошо драпируются, но имеют большую растяжимость по косому направлению, срезы обладают большой осыпаемость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сравнению с тканями полотняного переплетения более плотные, толстые, тяжелые, менее прочн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ржевым переплетением вырабатывают ткани: саржа, кашемир, шотландка, фланель, бумазе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5076720" y="1700280"/>
            <a:ext cx="3695760" cy="20955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саржа"/>
          <p:cNvPicPr/>
          <p:nvPr/>
        </p:nvPicPr>
        <p:blipFill>
          <a:blip r:embed="rId2"/>
          <a:stretch/>
        </p:blipFill>
        <p:spPr>
          <a:xfrm>
            <a:off x="5364000" y="3860640"/>
            <a:ext cx="295128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атиновое и атласное переплетение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атиновым переплетении нить утка перекрывает четыре и более нитей основы, а в атласном- нить основы перекрывает четыре и более нитей утка.                           Ткани с этими переплетениями с лицевой стороны гладкие блестящие, а с изнаночной- матовые. Они мягкие, но менее прочные, чем ткани полотняного переплетения. Скользят при раскрое, сильно растягиваются по косому срезу, срезы осыпаются.                            Ткани с сатиновым (сатин, драп), и атласным (атлас, крепатлас) переплетениями плотные, тяжел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4572000" y="1628640"/>
            <a:ext cx="3822840" cy="19306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"/>
          <p:cNvPicPr/>
          <p:nvPr/>
        </p:nvPicPr>
        <p:blipFill>
          <a:blip r:embed="rId2"/>
          <a:stretch/>
        </p:blipFill>
        <p:spPr>
          <a:xfrm>
            <a:off x="4716360" y="3860640"/>
            <a:ext cx="359424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лопок</a:t>
            </a:r>
            <a:br>
              <a:rPr sz="4000"/>
            </a:br>
            <a:r>
              <a:rPr b="0" lang="ru-RU" sz="4000" spc="-1" strike="noStrike">
                <a:solidFill>
                  <a:srgbClr val="ffffa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439236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лопчатник - однолетний кустарник. Волокна– хлопок. Это волоски на семенах хлопчатника. Они белого цвета, короткие 6-52 см, тонкие, слабоизвилистые, мягкие , прочные, матовые (без блес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1" descr="хлопчатник"/>
          <p:cNvPicPr/>
          <p:nvPr/>
        </p:nvPicPr>
        <p:blipFill>
          <a:blip r:embed="rId1"/>
          <a:stretch/>
        </p:blipFill>
        <p:spPr>
          <a:xfrm>
            <a:off x="5126040" y="1600200"/>
            <a:ext cx="3081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тин               Атлас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287" name="Picture 7" descr="сатиновое"/>
          <p:cNvPicPr/>
          <p:nvPr/>
        </p:nvPicPr>
        <p:blipFill>
          <a:blip r:embed="rId1"/>
          <a:stretch/>
        </p:blipFill>
        <p:spPr>
          <a:xfrm>
            <a:off x="457200" y="1866960"/>
            <a:ext cx="4038480" cy="39625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" descr="атлас"/>
          <p:cNvPicPr/>
          <p:nvPr/>
        </p:nvPicPr>
        <p:blipFill>
          <a:blip r:embed="rId2"/>
          <a:stretch/>
        </p:blipFill>
        <p:spPr>
          <a:xfrm>
            <a:off x="4648320" y="1881360"/>
            <a:ext cx="40384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войства тканей с различными  видами переплетения нитей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611280" y="1557360"/>
          <a:ext cx="7705800" cy="4464000"/>
        </p:xfrm>
        <a:graphic>
          <a:graphicData uri="http://schemas.openxmlformats.org/drawingml/2006/table">
            <a:tbl>
              <a:tblPr/>
              <a:tblGrid>
                <a:gridCol w="2235240"/>
                <a:gridCol w="1603080"/>
                <a:gridCol w="2316240"/>
                <a:gridCol w="1551240"/>
              </a:tblGrid>
              <a:tr h="395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йства ткан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плетение нитей в тка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тня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ржев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тинов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про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 проч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ыпаем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яжим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больш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апируем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высо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ль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знаки тканей с различным нитей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250920" y="1989000"/>
          <a:ext cx="8497800" cy="3456000"/>
        </p:xfrm>
        <a:graphic>
          <a:graphicData uri="http://schemas.openxmlformats.org/drawingml/2006/table">
            <a:tbl>
              <a:tblPr/>
              <a:tblGrid>
                <a:gridCol w="1968480"/>
                <a:gridCol w="3220920"/>
                <a:gridCol w="1654200"/>
                <a:gridCol w="1654200"/>
              </a:tblGrid>
              <a:tr h="554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йства ткан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плетение нитей в тка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тня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ржев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тинов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с лицевой и изнаночной стороны тка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ак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динак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динак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ерхность ткан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вная, мат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рубч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вная, блестящ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больш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фекты ткани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84000" y="1844640"/>
            <a:ext cx="2447640" cy="34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зкое качество пря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олщение нити основы или у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300720" y="1773000"/>
            <a:ext cx="2376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грязнение ткацкого ста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ляные и другие пятна на тк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347640" y="1773000"/>
            <a:ext cx="2879640" cy="34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ладка механизмов ткацкого ста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пуск одной или нескольких нитей основы или утка; переплетение двух нитей вместо одной; провисание, раздвижка или обрыв нитей; сбитый рисунок ткацкого переплет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2"/>
          <p:cNvSpPr/>
          <p:nvPr/>
        </p:nvSpPr>
        <p:spPr>
          <a:xfrm>
            <a:off x="1476360" y="2637000"/>
            <a:ext cx="4334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3"/>
          <p:cNvSpPr/>
          <p:nvPr/>
        </p:nvSpPr>
        <p:spPr>
          <a:xfrm>
            <a:off x="4427640" y="234936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4"/>
          <p:cNvSpPr/>
          <p:nvPr/>
        </p:nvSpPr>
        <p:spPr>
          <a:xfrm>
            <a:off x="7093080" y="2708280"/>
            <a:ext cx="358560" cy="576360"/>
          </a:xfrm>
          <a:prstGeom prst="downArrow">
            <a:avLst>
              <a:gd name="adj1" fmla="val 50000"/>
              <a:gd name="adj2" fmla="val 40186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7" descr="утолщение"/>
          <p:cNvPicPr/>
          <p:nvPr/>
        </p:nvPicPr>
        <p:blipFill>
          <a:blip r:embed="rId1"/>
          <a:stretch/>
        </p:blipFill>
        <p:spPr>
          <a:xfrm>
            <a:off x="1116000" y="4005360"/>
            <a:ext cx="1911240" cy="16682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8" descr="целостность"/>
          <p:cNvPicPr/>
          <p:nvPr/>
        </p:nvPicPr>
        <p:blipFill>
          <a:blip r:embed="rId2"/>
          <a:stretch/>
        </p:blipFill>
        <p:spPr>
          <a:xfrm>
            <a:off x="3851280" y="4941720"/>
            <a:ext cx="194472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фекты крашения и печати возникают по причинам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39280" y="1773360"/>
            <a:ext cx="2303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ропечатан-ные ме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части или отдельных деталей рисунка, нечеткое изображение рису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372000" y="1628640"/>
            <a:ext cx="22381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кос рису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никает при неравномерном натяжении ткани при печата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928600" y="1785960"/>
            <a:ext cx="338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се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оса без рисунка на ткани, которая получается при печатании в результате образования складки во время нанесения рису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0"/>
          <p:cNvSpPr/>
          <p:nvPr/>
        </p:nvSpPr>
        <p:spPr>
          <a:xfrm>
            <a:off x="4211640" y="2349360"/>
            <a:ext cx="36036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5"/>
          <p:cNvSpPr/>
          <p:nvPr/>
        </p:nvSpPr>
        <p:spPr>
          <a:xfrm>
            <a:off x="1476360" y="2421000"/>
            <a:ext cx="36036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7"/>
          <p:cNvSpPr/>
          <p:nvPr/>
        </p:nvSpPr>
        <p:spPr>
          <a:xfrm>
            <a:off x="7093080" y="2349360"/>
            <a:ext cx="358560" cy="358920"/>
          </a:xfrm>
          <a:prstGeom prst="downArrow">
            <a:avLst>
              <a:gd name="adj1" fmla="val 50000"/>
              <a:gd name="adj2" fmla="val 25025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8" descr=""/>
          <p:cNvPicPr/>
          <p:nvPr/>
        </p:nvPicPr>
        <p:blipFill>
          <a:blip r:embed="rId1"/>
          <a:stretch/>
        </p:blipFill>
        <p:spPr>
          <a:xfrm>
            <a:off x="1116000" y="4437000"/>
            <a:ext cx="1376280" cy="1363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9" descr=""/>
          <p:cNvPicPr/>
          <p:nvPr/>
        </p:nvPicPr>
        <p:blipFill>
          <a:blip r:embed="rId2"/>
          <a:stretch/>
        </p:blipFill>
        <p:spPr>
          <a:xfrm>
            <a:off x="3924360" y="4437000"/>
            <a:ext cx="1442880" cy="14400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0" descr=""/>
          <p:cNvPicPr/>
          <p:nvPr/>
        </p:nvPicPr>
        <p:blipFill>
          <a:blip r:embed="rId3"/>
          <a:stretch/>
        </p:blipFill>
        <p:spPr>
          <a:xfrm>
            <a:off x="7093080" y="4437000"/>
            <a:ext cx="13827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н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н – травянистое растение. Волокна –лен. Их получают из стеблей растений. Они светло – серого цвета, длинные (до 100 см), прямые, очень прочные, на ощупь жесткие, блестящие. По всей своей длине имеют неодинаковую структу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4" descr="лен"/>
          <p:cNvPicPr/>
          <p:nvPr/>
        </p:nvPicPr>
        <p:blipFill>
          <a:blip r:embed="rId1"/>
          <a:stretch/>
        </p:blipFill>
        <p:spPr>
          <a:xfrm>
            <a:off x="5724360" y="1557360"/>
            <a:ext cx="2730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3588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авнительные характеристики свойств хлопчатобумажных  и льняных тканей</a:t>
            </a:r>
            <a:endParaRPr b="0" lang="en-US" sz="2000" spc="-1" strike="noStrike">
              <a:solidFill>
                <a:srgbClr val="ffffa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39640" y="981000"/>
          <a:ext cx="8229600" cy="4959360"/>
        </p:xfrm>
        <a:graphic>
          <a:graphicData uri="http://schemas.openxmlformats.org/drawingml/2006/table">
            <a:tbl>
              <a:tblPr/>
              <a:tblGrid>
                <a:gridCol w="2745000"/>
                <a:gridCol w="2739960"/>
                <a:gridCol w="2744640"/>
              </a:tblGrid>
              <a:tr h="465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йства тк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кан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пчатобумаж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ьня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ко-механ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н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ин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ее прочные, чем льняны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инаем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н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осминаем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гиеническ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гроскопичн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духопрониц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ше , чем у хлопчатобумаж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ческ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ыпаемость ни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ад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итель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итель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луатационны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носостойк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яжи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к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 растяжимость по утку, так и по основ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ие но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растяжимые как по утку, так и по основ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14716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знаки определения хлопчатобумажных и льняных тканей</a:t>
            </a:r>
            <a:endParaRPr b="0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68360" y="1197000"/>
          <a:ext cx="6551640" cy="4840200"/>
        </p:xfrm>
        <a:graphic>
          <a:graphicData uri="http://schemas.openxmlformats.org/drawingml/2006/table">
            <a:tbl>
              <a:tblPr/>
              <a:tblGrid>
                <a:gridCol w="2184480"/>
                <a:gridCol w="2182680"/>
                <a:gridCol w="2184480"/>
              </a:tblGrid>
              <a:tr h="35028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ка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пчатобумаж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ьня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е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ов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естящ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ость поверх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роховат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стк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яжимос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основ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ут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больш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больш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больш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ость ни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шис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обрыва ни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виде ве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окна с заостренными концами кисто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щ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н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с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тое пламя, запах желтой бумаги, остаток – «скелет» ткан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79" name="Picture 52" descr="ацетат 6"/>
          <p:cNvPicPr/>
          <p:nvPr/>
        </p:nvPicPr>
        <p:blipFill>
          <a:blip r:embed="rId1"/>
          <a:stretch/>
        </p:blipFill>
        <p:spPr>
          <a:xfrm>
            <a:off x="7093080" y="1197000"/>
            <a:ext cx="1871640" cy="223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3" descr="капрон (6)"/>
          <p:cNvPicPr/>
          <p:nvPr/>
        </p:nvPicPr>
        <p:blipFill>
          <a:blip r:embed="rId2"/>
          <a:stretch/>
        </p:blipFill>
        <p:spPr>
          <a:xfrm>
            <a:off x="7093080" y="3500280"/>
            <a:ext cx="18716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ерсть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4716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рсть – волосяной покров животных(овец, коз, верблюдов, ангорской козы, альпака,лам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нитрон"/>
          <p:cNvPicPr/>
          <p:nvPr/>
        </p:nvPicPr>
        <p:blipFill>
          <a:blip r:embed="rId1"/>
          <a:stretch/>
        </p:blipFill>
        <p:spPr>
          <a:xfrm>
            <a:off x="5354640" y="1341360"/>
            <a:ext cx="3394080" cy="3886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животные"/>
          <p:cNvPicPr/>
          <p:nvPr/>
        </p:nvPicPr>
        <p:blipFill>
          <a:blip r:embed="rId2"/>
          <a:stretch/>
        </p:blipFill>
        <p:spPr>
          <a:xfrm>
            <a:off x="2050920" y="3213000"/>
            <a:ext cx="5185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вичная обработка шерсти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5112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ижка – руно (т.е. пласт шерст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зинфекц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ртировка по качеству – пух, средний волос, ость, мертвый воло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пание  для разрыхления и удаления примес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мывка для удаления жира и гряз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шка в сушильных камерах горячим воздух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енное шерстяное волокно отправляют на прядильные фабрики для получения пряж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омашних условиях шерстяную пряжу прядут с помощью прялки и верет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стрижка овцы"/>
          <p:cNvPicPr/>
          <p:nvPr/>
        </p:nvPicPr>
        <p:blipFill>
          <a:blip r:embed="rId1"/>
          <a:stretch/>
        </p:blipFill>
        <p:spPr>
          <a:xfrm>
            <a:off x="5403960" y="1628640"/>
            <a:ext cx="374004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4T13:35:38Z</dcterms:created>
  <dc:creator>WiZaRd</dc:creator>
  <dc:description/>
  <dc:language>en-US</dc:language>
  <cp:lastModifiedBy>Лилия Васильевна</cp:lastModifiedBy>
  <dcterms:modified xsi:type="dcterms:W3CDTF">2024-01-23T05:48:35Z</dcterms:modified>
  <cp:revision>161</cp:revision>
  <dc:subject/>
  <dc:title>ОСНОВЫ МАТЕРИАЛАВЕДЕНИЯ</dc:title>
</cp:coreProperties>
</file>