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302E-927D-4FC4-A14C-F8AEBC79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B9A6-D031-4C1D-A189-2B3BC92E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D61-AF43-4DD2-89FA-54798186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D1A9-6DA5-46E6-8E7A-F5235411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1F4F-D2A1-44DB-80DC-2E1C5365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6790-64A2-41A1-A326-B7C26F44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7855-FBB9-4C16-901D-50CB456A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544F-264A-4C37-AE82-DA550901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73D6-BD16-4BC2-AD54-28FE3013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9F3E-9A3C-466D-8081-8F752F1C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1579-D4B9-4CA3-AC9C-505C13DA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B6FD-C3C1-4AF3-8C2B-BC3D700B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E917-03F7-41A1-AA05-7E42D46B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2054-5917-40E4-9371-02C1C03D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976D-6143-424F-BED2-48BA09DB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F20C-4E53-4802-A9AC-9ED6E757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F2C0-F791-483D-8121-5DA58C37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EA28-0667-4844-97DD-6C2DBB0F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7B9D-862C-49BE-A250-EC618D80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F070-FBE3-472E-A2AD-19552600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4099-A36E-46F2-82F0-F4ECB47B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7B50-87A2-48C7-8D35-F7F1417C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9E6A-DD2C-4C01-AA61-7F9AFA6D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E6D2-8AE6-4C58-8A23-15FDFD1E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41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2d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0F05-1A54-4692-8C39-980D11908C0E}" type="slidenum">
              <a:rPr b="0" lang="ru-RU" sz="1200" spc="-1" strike="noStrike">
                <a:solidFill>
                  <a:srgbClr val="712d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41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2d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859F-3B3E-4D51-B6B8-6DC489C535CE}" type="slidenum">
              <a:rPr b="0" lang="ru-RU" sz="1200" spc="-1" strike="noStrike">
                <a:solidFill>
                  <a:srgbClr val="712d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6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Роль ПМПк в организации специальных условий обучения для лиц с интеллектуальной недостаточностью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3640" y="4437000"/>
            <a:ext cx="460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174a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174a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Times New Roman"/>
              </a:rPr>
              <a:t>КГКОУ Школа 1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Times New Roman"/>
              </a:rPr>
              <a:t>педагог-психолог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Times New Roman"/>
              </a:rPr>
              <a:t>Березовская Наталья Евгеньевна</a:t>
            </a:r>
            <a:endParaRPr b="0" lang="en-US" sz="2000" spc="-1" strike="noStrike">
              <a:solidFill>
                <a:srgbClr val="5f174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Обучающиеся с ТМНР, РАС</a:t>
            </a: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6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174a"/>
                </a:solidFill>
                <a:latin typeface="Times New Roman"/>
              </a:rPr>
              <a:t>всестороннее динамическое изучение картины индивидуального развития 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специальная индивидуальная программа развития (СИПР)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07" name="Стрелка вниз 4"/>
          <p:cNvSpPr/>
          <p:nvPr/>
        </p:nvSpPr>
        <p:spPr>
          <a:xfrm>
            <a:off x="179280" y="2421000"/>
            <a:ext cx="8640720" cy="2663640"/>
          </a:xfrm>
          <a:prstGeom prst="downArrow">
            <a:avLst>
              <a:gd name="adj1" fmla="val 50000"/>
              <a:gd name="adj2" fmla="val 49148"/>
            </a:avLst>
          </a:prstGeom>
          <a:solidFill>
            <a:srgbClr val="ffffff"/>
          </a:solidFill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айти ответы на вопро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ЧЕМУ?» и «КАК?» обучать де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 ТМНР, Р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Сотрудничество с семьей</a:t>
            </a: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0560" y="1125000"/>
            <a:ext cx="6769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психологическая поддержка семьи, воспитывающей ребенка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повышение осведомленности родителей об особенностях развития и специфических образовательных потребностях ребенка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обеспечение единства 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требований к обучающемуся в семье и в образовательной организации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10" name="Picture 10" descr="http://www.gazetateploe.ru/wp-content/uploads/2014/04/%D1%81%D0%B5%D0%BC%D1%8C%D1%8F1.jpg"/>
          <p:cNvPicPr/>
          <p:nvPr/>
        </p:nvPicPr>
        <p:blipFill>
          <a:blip r:embed="rId4"/>
          <a:stretch/>
        </p:blipFill>
        <p:spPr>
          <a:xfrm>
            <a:off x="6227640" y="4253040"/>
            <a:ext cx="2916360" cy="26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http://go1.imgsmail.ru/imgpreview?key=163aaf1e432178d8&amp;mb=imgdb_preview_2046"/>
          <p:cNvPicPr/>
          <p:nvPr/>
        </p:nvPicPr>
        <p:blipFill>
          <a:blip r:embed="rId1"/>
          <a:stretch/>
        </p:blipFill>
        <p:spPr>
          <a:xfrm>
            <a:off x="692280" y="1125360"/>
            <a:ext cx="7840440" cy="553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Значительное разнообразие категорий детей с ОВЗ определяет и значительную вариативность специальных образовательных условий</a:t>
            </a:r>
            <a:br>
              <a:rPr sz="3200"/>
            </a:br>
            <a:endParaRPr b="0" lang="en-US" sz="32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4920" y="1844280"/>
            <a:ext cx="851868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общие, необходимых для всех категорий детей с ОВЗ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частно-специфические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индивидуально-ориентированные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эффективность реализации образовательного процесса и социальной адаптированности ребенка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86" name="Стрелка вниз 3"/>
          <p:cNvSpPr/>
          <p:nvPr/>
        </p:nvSpPr>
        <p:spPr>
          <a:xfrm>
            <a:off x="3492360" y="4292640"/>
            <a:ext cx="2016360" cy="979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Психолого-медико-педагогический консилиум</a:t>
            </a:r>
            <a:endParaRPr b="0" lang="en-US" sz="4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560" y="1773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Цель: 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создание целостной системы психолого – медико-педагогического сопровождения, обеспечивающей оптимальные условия обучения и жизнедеятельности детей с ОВЗ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ФГОС  обучающихся с умственной отсталостью 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(интеллектуальными нарушениями) </a:t>
            </a:r>
            <a:br>
              <a:rPr sz="4000"/>
            </a:br>
            <a:endParaRPr b="0" lang="en-US" sz="4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9280" y="2707920"/>
            <a:ext cx="612144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развитие личности в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соответствии с требованиями 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современного общества, 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обеспечивающими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возможность 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ее успешной социализации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91" name="Picture 2" descr="http://hochurebenka.net/_pu/4/16716173.jpg"/>
          <p:cNvPicPr/>
          <p:nvPr/>
        </p:nvPicPr>
        <p:blipFill>
          <a:blip r:embed="rId2"/>
          <a:stretch/>
        </p:blipFill>
        <p:spPr>
          <a:xfrm>
            <a:off x="6012000" y="3716280"/>
            <a:ext cx="2882880" cy="29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Специальные условия обучения</a:t>
            </a:r>
            <a:endParaRPr b="0" lang="en-US" sz="4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4000" y="1844280"/>
            <a:ext cx="8135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интегрированное обучение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психолого-педагогическое     сопровождение обучающихся на дому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обучение детей с ТМНР, РАС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94" name="Picture 6" descr="C:\Users\пк\Desktop\РАБОЧИЕ ДОК\Картинки для работы\kartinka.png"/>
          <p:cNvPicPr/>
          <p:nvPr/>
        </p:nvPicPr>
        <p:blipFill>
          <a:blip r:embed="rId1"/>
          <a:stretch/>
        </p:blipFill>
        <p:spPr>
          <a:xfrm>
            <a:off x="324000" y="5229360"/>
            <a:ext cx="5546520" cy="13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24000" y="189000"/>
            <a:ext cx="8424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174a"/>
                </a:solidFill>
                <a:latin typeface="Times New Roman"/>
              </a:rPr>
              <a:t>Принцип социального взаимодействия (</a:t>
            </a: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активного включения всех участников образовательного процесса)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174a"/>
                </a:solidFill>
                <a:latin typeface="Times New Roman"/>
              </a:rPr>
              <a:t>Принцип междисциплинарного подхода </a:t>
            </a: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(взаимодействие педагогов, учителя, обучающего на дому, классного руководителя, учителя-логопеда, педагога-психолога, учителя-дефектолога)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174a"/>
                </a:solidFill>
                <a:latin typeface="Times New Roman"/>
              </a:rPr>
              <a:t>Принцип семейно-ориентированного сопровождения </a:t>
            </a: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(участие родителей в социализации и образовательной адаптации ребенка, их партнерское взаимодействие со специалистами)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Интегрированное обучение способствует:</a:t>
            </a:r>
            <a:br>
              <a:rPr sz="4000"/>
            </a:br>
            <a:endParaRPr b="0" lang="en-US" sz="4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134136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5f174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обучению с разработкой ИУП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(с учетом рекомендаций ПМПК, ИПРА)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5f174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накоплению полезного социального опыта, помогает научиться общаться с окружающими людьми в реальных, обычных условиях;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5f174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реализации индивидуальных способностей обучающихся.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252720" y="260280"/>
            <a:ext cx="972036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Психолого-педагогическое сопровождение обучающихся  на дому</a:t>
            </a:r>
            <a:br>
              <a:rPr sz="4000"/>
            </a:br>
            <a:endParaRPr b="0" lang="en-US" sz="4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9280" y="1773360"/>
            <a:ext cx="8604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педагог-психолог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учитель-логопед 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учитель-дефектолог 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ЛФК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Ручной труд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СБО                                </a:t>
            </a: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Занятия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      </a:t>
            </a:r>
            <a:r>
              <a:rPr b="0" lang="ru-RU" sz="3600" spc="-1" strike="noStrike">
                <a:solidFill>
                  <a:srgbClr val="5f174a"/>
                </a:solidFill>
                <a:latin typeface="Times New Roman"/>
              </a:rPr>
              <a:t>индивидуальные                    групповые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</p:txBody>
      </p:sp>
      <p:cxnSp>
        <p:nvCxnSpPr>
          <p:cNvPr id="100" name="Прямая со стрелкой 6"/>
          <p:cNvCxnSpPr/>
          <p:nvPr/>
        </p:nvCxnSpPr>
        <p:spPr>
          <a:xfrm flipH="1">
            <a:off x="4284000" y="5445000"/>
            <a:ext cx="865800" cy="648360"/>
          </a:xfrm>
          <a:prstGeom prst="straightConnector1">
            <a:avLst/>
          </a:prstGeom>
          <a:ln w="100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01" name="Прямая со стрелкой 7"/>
          <p:cNvCxnSpPr/>
          <p:nvPr/>
        </p:nvCxnSpPr>
        <p:spPr>
          <a:xfrm>
            <a:off x="6588000" y="5445000"/>
            <a:ext cx="936000" cy="648360"/>
          </a:xfrm>
          <a:prstGeom prst="straightConnector1">
            <a:avLst/>
          </a:prstGeom>
          <a:ln w="10080">
            <a:solidFill>
              <a:srgbClr val="002060"/>
            </a:solidFill>
            <a:miter/>
            <a:tailEnd len="med" type="arrow" w="med"/>
          </a:ln>
        </p:spPr>
      </p:cxnSp>
      <p:pic>
        <p:nvPicPr>
          <p:cNvPr id="102" name="Picture 8" descr="http://d1.dvinainform.ru/data/files/90/40/00004090.jpg"/>
          <p:cNvPicPr/>
          <p:nvPr/>
        </p:nvPicPr>
        <p:blipFill>
          <a:blip r:embed="rId7"/>
          <a:stretch/>
        </p:blipFill>
        <p:spPr>
          <a:xfrm>
            <a:off x="5724360" y="1557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Задачи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психолого-педагогического сопровождения</a:t>
            </a:r>
            <a:endParaRPr b="0" lang="en-US" sz="4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5280" y="160020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расширение социальных контактов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формирование самостоятельности, ответственности, произвольности в поведении и деятельности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преодоление отчужденности и формирование коммуникативных навыков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коррекция самооценки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развитие психических функций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развитие двигательной сферы и т.п.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8:01:43Z</dcterms:created>
  <dc:creator>N15</dc:creator>
  <dc:description/>
  <dc:language>en-US</dc:language>
  <cp:lastModifiedBy>1</cp:lastModifiedBy>
  <dcterms:modified xsi:type="dcterms:W3CDTF">2020-11-11T01:37:03Z</dcterms:modified>
  <cp:revision>116</cp:revision>
  <dc:subject/>
  <dc:title>Слайд 1</dc:title>
</cp:coreProperties>
</file>