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68E-CEBF-483E-AACB-1EAE0847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EC6-AFAA-4C68-B07F-6CD5BABA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49B-D1A8-443B-A932-3A4F41C1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069-53F2-4051-814F-8D176B9D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AFDE-3329-41D1-8CB9-B06A5F6D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CD0B-512C-454A-BDE7-5F41226C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DBC0-93E2-4A78-89C6-184E547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BE1F-768E-44FC-9354-F213F5DF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8267-C1DC-4069-83F8-7A696B94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CA7C-9F77-4EC8-9953-5E4D46AF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6EE1-7037-42F2-88AE-A52E9B35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6A6-1AA8-4CE6-AED0-C208FFDB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7CFA-FF70-43F0-90C2-494EE99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A38E-F66A-4B6B-B340-4031A5A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1300-EFAC-417C-9D4C-38D903F8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9D56-5589-4EE4-BCA5-23690514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A756-61C4-41E3-991D-35EF6C59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73E-02D5-401F-9B8F-DDF0B409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1DF-ADDC-4033-8CA0-527A3223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408-4073-4E1E-AD28-C10857FA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7B2-B830-4066-8465-D1D185F8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2D7-286D-49A9-BF56-8C87EE02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B79-480D-41FA-B8C3-037D86B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F4E-11B7-4FB2-8638-237E4C65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970-007A-4480-A31A-4CE61AE2889B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85EA-F55C-41F7-A7B3-9F45D823E102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Роль ППк в организации специальных условий обучения для лиц с интеллектуальной недостаточностью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3640" y="4437000"/>
            <a:ext cx="460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КГКОУ Школа 1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педагог-психолог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Березовская Наталья Евгеньевна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Обучающиеся с ТМНР, РАС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всестороннее динамическое изучение картины индивидуального развития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специальная индивидуальная программа развития (СИПР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07" name="Стрелка вниз 4"/>
          <p:cNvSpPr/>
          <p:nvPr/>
        </p:nvSpPr>
        <p:spPr>
          <a:xfrm>
            <a:off x="179280" y="2421000"/>
            <a:ext cx="8640720" cy="2663640"/>
          </a:xfrm>
          <a:prstGeom prst="downArrow">
            <a:avLst>
              <a:gd name="adj1" fmla="val 50000"/>
              <a:gd name="adj2" fmla="val 49148"/>
            </a:avLst>
          </a:prstGeom>
          <a:solidFill>
            <a:srgbClr val="ffffff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йти ответы на воп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ЧЕМУ?» и «КАК?» обучать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 ТМНР, Р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Сотрудничество с семьей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125000"/>
            <a:ext cx="67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сихологическая поддержка семьи, воспитывающей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овышение осведомленности родителей об особенностях развития и специфических образовательных потребностях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обеспечение единства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требований к обучающемуся в семье и в образовательной организации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10" name="Picture 10" descr="http://www.gazetateploe.ru/wp-content/uploads/2014/04/%D1%81%D0%B5%D0%BC%D1%8C%D1%8F1.jpg"/>
          <p:cNvPicPr/>
          <p:nvPr/>
        </p:nvPicPr>
        <p:blipFill>
          <a:blip r:embed="rId4"/>
          <a:stretch/>
        </p:blipFill>
        <p:spPr>
          <a:xfrm>
            <a:off x="6227640" y="4253040"/>
            <a:ext cx="291636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http://go1.imgsmail.ru/imgpreview?key=163aaf1e432178d8&amp;mb=imgdb_preview_2046"/>
          <p:cNvPicPr/>
          <p:nvPr/>
        </p:nvPicPr>
        <p:blipFill>
          <a:blip r:embed="rId1"/>
          <a:stretch/>
        </p:blipFill>
        <p:spPr>
          <a:xfrm>
            <a:off x="692280" y="1125360"/>
            <a:ext cx="7840440" cy="553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Значительное разнообразие категорий детей с ОВЗ определяет и значительную вариативность специальных образовательных условий</a:t>
            </a:r>
            <a:br>
              <a:rPr sz="3200"/>
            </a:br>
            <a:endParaRPr b="0" lang="en-US" sz="32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1844280"/>
            <a:ext cx="85186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общие, необходимых для всех категорий детей с ОВЗ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частно-специфические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индивидуально-ориентированные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эффективность реализации образовательного процесса и социальной адаптированности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6" name="Стрелка вниз 3"/>
          <p:cNvSpPr/>
          <p:nvPr/>
        </p:nvSpPr>
        <p:spPr>
          <a:xfrm>
            <a:off x="3492360" y="4292640"/>
            <a:ext cx="2016360" cy="97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ий консилиум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Цель: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здание целостной системы психолого -педагогического сопровождения, обеспечивающей оптимальные условия обучения и жизнедеятельности детей с ОВЗ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ФГОС  обучающихся с умственной отсталостью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(интеллектуальными нарушениями) 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2707920"/>
            <a:ext cx="61214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развитие личности в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ответствии с требованиями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временного общества,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обеспечивающим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возможность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ее успешной социализаци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1" name="Picture 2" descr="http://hochurebenka.net/_pu/4/16716173.jpg"/>
          <p:cNvPicPr/>
          <p:nvPr/>
        </p:nvPicPr>
        <p:blipFill>
          <a:blip r:embed="rId2"/>
          <a:stretch/>
        </p:blipFill>
        <p:spPr>
          <a:xfrm>
            <a:off x="6012000" y="3716280"/>
            <a:ext cx="2882880" cy="29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Специальные условия обучения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8135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интегрированное обучение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психолого-педагогическое     сопровождение обучающихся на дому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обучение детей с ТМНР, РАС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4" name="Picture 6" descr="C:\Users\пк\Desktop\РАБОЧИЕ ДОК\Картинки для работы\kartinka.png"/>
          <p:cNvPicPr/>
          <p:nvPr/>
        </p:nvPicPr>
        <p:blipFill>
          <a:blip r:embed="rId1"/>
          <a:stretch/>
        </p:blipFill>
        <p:spPr>
          <a:xfrm>
            <a:off x="324000" y="5229360"/>
            <a:ext cx="55465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842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социального взаимодействия (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активного включения всех участников образовательного процесса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междисциплинарного подхода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(взаимодействие педагогов, учителя, обучающего на дому, классного руководителя, учителя-логопеда, педагога-психолога, учителя-дефектолога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семейно-ориентированного сопровождения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(участие родителей в социализации и образовательной адаптации ребенка, их партнерское взаимодействие со специалистами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Интегрированное обучение способствует: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341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обучению с разработкой ИУП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(с учетом рекомендаций ПМПК, ИПРА)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накоплению полезного социального опыта, помогает научиться общаться с окружающими людьми в реальных, обычных условиях;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реализации индивидуальных способностей обучающихся.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720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ое сопровождение обучающихся  на дому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едагог-психолог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учитель-логопед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учитель-дефектолог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ЛФК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Ручной труд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СБО                                </a:t>
            </a: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Занятия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индивидуальные                    групповые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cxnSp>
        <p:nvCxnSpPr>
          <p:cNvPr id="100" name="Прямая со стрелкой 6"/>
          <p:cNvCxnSpPr/>
          <p:nvPr/>
        </p:nvCxnSpPr>
        <p:spPr>
          <a:xfrm flipH="1">
            <a:off x="4284000" y="5445000"/>
            <a:ext cx="865800" cy="6483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01" name="Прямая со стрелкой 7"/>
          <p:cNvCxnSpPr/>
          <p:nvPr/>
        </p:nvCxnSpPr>
        <p:spPr>
          <a:xfrm>
            <a:off x="6588000" y="5445000"/>
            <a:ext cx="936000" cy="6483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02" name="Picture 8" descr="http://d1.dvinainform.ru/data/files/90/40/00004090.jpg"/>
          <p:cNvPicPr/>
          <p:nvPr/>
        </p:nvPicPr>
        <p:blipFill>
          <a:blip r:embed="rId7"/>
          <a:stretch/>
        </p:blipFill>
        <p:spPr>
          <a:xfrm>
            <a:off x="5724360" y="1557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Задачи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ого сопровождения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6002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сширение социальных контактов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формирование самостоятельности, ответственности, произвольности в поведении и деятельности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преодоление отчужденности и формирование коммуникативных навыков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коррекция самооценки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звитие психических функций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звитие двигательной сферы и т.п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01:43Z</dcterms:created>
  <dc:creator>N15</dc:creator>
  <dc:description/>
  <dc:language>en-US</dc:language>
  <cp:lastModifiedBy>пк</cp:lastModifiedBy>
  <dcterms:modified xsi:type="dcterms:W3CDTF">2024-02-12T09:54:45Z</dcterms:modified>
  <cp:revision>117</cp:revision>
  <dc:subject/>
  <dc:title>Слайд 1</dc:title>
</cp:coreProperties>
</file>