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888-9A90-40B2-8EF6-E6FC1E9B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181-75F5-4EF1-A316-2573BCBA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D39-1441-4ED0-B744-AA82269D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C59-9DC0-4688-8655-266147DF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0890-0BED-47E0-A0A2-DF8271BF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79AC-5BEC-4825-9CF6-96905E6D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8FB5-01C7-43FA-91F5-CE188EAF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289C-6639-4C22-B623-32267E11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F922-ACC1-4025-8EB1-A15470AA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DD98-51A4-42FB-9E6C-DB8A9C73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71AF-3A0F-4A9D-804F-1081081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7E3-0E59-4386-A21F-61D736C4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09DC-A713-40CE-81B4-43693E6F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0E06-A84A-41CA-B2E6-D69F86A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1C44-E34C-4ADB-B73C-7D5E183C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FA83-4B5B-4056-977A-1AE8F5A3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4888-AAD9-4525-A502-413288E7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20E-5892-49BE-B33F-C5591860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C88-9F97-4E4E-894B-D91CB84E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5C3-E920-4A7C-9196-B4C70247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2FA-1C71-470B-8B6B-2001611A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9A3-1803-42C4-9FDB-BFF9250A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F64-A1AB-443A-83E3-DAAD070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DBA-E155-4A8A-B0F0-5E0A52F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001A-722E-4228-BD10-DFC36A234FE2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8246-EC93-452E-9636-482CDBEDD5A9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Роль ППк в организации специальных условий обучения для лиц с интеллектуальной недостаточностью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3640" y="4437000"/>
            <a:ext cx="460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КГКОУ Школа 1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педагог-психолог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Березовская Наталья Евгеньевна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Обучающиеся с ТМНР, РАС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всестороннее динамическое изучение картины индивидуального развития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специальная индивидуальная программа развития (СИПР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07" name="Стрелка вниз 4"/>
          <p:cNvSpPr/>
          <p:nvPr/>
        </p:nvSpPr>
        <p:spPr>
          <a:xfrm>
            <a:off x="179280" y="2421000"/>
            <a:ext cx="8640720" cy="2663640"/>
          </a:xfrm>
          <a:prstGeom prst="downArrow">
            <a:avLst>
              <a:gd name="adj1" fmla="val 50000"/>
              <a:gd name="adj2" fmla="val 49148"/>
            </a:avLst>
          </a:prstGeom>
          <a:solidFill>
            <a:srgbClr val="ffffff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йти ответы на воп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ЧЕМУ?» и «КАК?» обучать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 ТМНР, Р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Сотрудничество с семьей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125000"/>
            <a:ext cx="67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сихологическая поддержка семьи, воспитывающей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овышение осведомленности родителей об особенностях развития и специфических образовательных потребностях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обеспечение единства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требований к обучающемуся в семье и в образовательной организации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10" name="Picture 10" descr="http://www.gazetateploe.ru/wp-content/uploads/2014/04/%D1%81%D0%B5%D0%BC%D1%8C%D1%8F1.jpg"/>
          <p:cNvPicPr/>
          <p:nvPr/>
        </p:nvPicPr>
        <p:blipFill>
          <a:blip r:embed="rId4"/>
          <a:stretch/>
        </p:blipFill>
        <p:spPr>
          <a:xfrm>
            <a:off x="6227640" y="4253040"/>
            <a:ext cx="291636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http://go1.imgsmail.ru/imgpreview?key=163aaf1e432178d8&amp;mb=imgdb_preview_2046"/>
          <p:cNvPicPr/>
          <p:nvPr/>
        </p:nvPicPr>
        <p:blipFill>
          <a:blip r:embed="rId1"/>
          <a:stretch/>
        </p:blipFill>
        <p:spPr>
          <a:xfrm>
            <a:off x="692280" y="1125360"/>
            <a:ext cx="7840440" cy="553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Значительное разнообразие категорий детей с ОВЗ определяет и значительную вариативность специальных образовательных условий</a:t>
            </a:r>
            <a:br>
              <a:rPr sz="3200"/>
            </a:br>
            <a:endParaRPr b="0" lang="en-US" sz="32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1844280"/>
            <a:ext cx="85186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общие, необходимых для всех категорий детей с ОВЗ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частно-специфические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индивидуально-ориентированные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эффективность реализации образовательного процесса и социальной адаптированности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6" name="Стрелка вниз 3"/>
          <p:cNvSpPr/>
          <p:nvPr/>
        </p:nvSpPr>
        <p:spPr>
          <a:xfrm>
            <a:off x="3492360" y="4292640"/>
            <a:ext cx="2016360" cy="97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ий консилиум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Цель: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здание целостной системы психолого -педагогического сопровождения, обеспечивающей оптимальные условия обучения и жизнедеятельности детей с ОВЗ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ФГОС  обучающихся с умственной отсталостью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(интеллектуальными нарушениями) 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2707920"/>
            <a:ext cx="61214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развитие личности в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ответствии с требованиями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временного общества,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обеспечивающим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возможность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ее успешной социализаци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1" name="Picture 2" descr="http://hochurebenka.net/_pu/4/16716173.jpg"/>
          <p:cNvPicPr/>
          <p:nvPr/>
        </p:nvPicPr>
        <p:blipFill>
          <a:blip r:embed="rId2"/>
          <a:stretch/>
        </p:blipFill>
        <p:spPr>
          <a:xfrm>
            <a:off x="6012000" y="3716280"/>
            <a:ext cx="2882880" cy="29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Специальные условия обучения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8135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интегрированное обучение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психолого-педагогическое     сопровождение обучающихся на дому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обучение детей с ТМНР, РАС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4" name="Picture 6" descr="C:\Users\пк\Desktop\РАБОЧИЕ ДОК\Картинки для работы\kartinka.png"/>
          <p:cNvPicPr/>
          <p:nvPr/>
        </p:nvPicPr>
        <p:blipFill>
          <a:blip r:embed="rId1"/>
          <a:stretch/>
        </p:blipFill>
        <p:spPr>
          <a:xfrm>
            <a:off x="324000" y="5229360"/>
            <a:ext cx="55465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842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социального взаимодействия (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активного включения всех участников образовательного процесса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междисциплинарного подхода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(взаимодействие педагогов, учителя, обучающего на дому, классного руководителя, учителя-логопеда, педагога-психолога, учителя-дефектолога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семейно-ориентированного сопровождения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(участие родителей в социализации и образовательной адаптации ребенка, их партнерское взаимодействие со специалистами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Интегрированное обучение способствует: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341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обучению с разработкой ИУП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(с учетом рекомендаций ПМПК, ИПРА)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накоплению полезного социального опыта, помогает научиться общаться с окружающими людьми в реальных, обычных условиях;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реализации индивидуальных способностей обучающихся.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720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ое сопровождение обучающихся  на дому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едагог-психолог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учитель-логопед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учитель-дефектолог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ЛФК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Ручной труд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СБО                                </a:t>
            </a: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Занятия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индивидуальные                    групповые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cxnSp>
        <p:nvCxnSpPr>
          <p:cNvPr id="100" name="Прямая со стрелкой 6"/>
          <p:cNvCxnSpPr/>
          <p:nvPr/>
        </p:nvCxnSpPr>
        <p:spPr>
          <a:xfrm flipH="1">
            <a:off x="4284000" y="5445000"/>
            <a:ext cx="865800" cy="6483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01" name="Прямая со стрелкой 7"/>
          <p:cNvCxnSpPr/>
          <p:nvPr/>
        </p:nvCxnSpPr>
        <p:spPr>
          <a:xfrm>
            <a:off x="6588000" y="5445000"/>
            <a:ext cx="936000" cy="6483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02" name="Picture 8" descr="http://d1.dvinainform.ru/data/files/90/40/00004090.jpg"/>
          <p:cNvPicPr/>
          <p:nvPr/>
        </p:nvPicPr>
        <p:blipFill>
          <a:blip r:embed="rId7"/>
          <a:stretch/>
        </p:blipFill>
        <p:spPr>
          <a:xfrm>
            <a:off x="5724360" y="1557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Задачи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ого сопровождения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6002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сширение социальных контактов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формирование самостоятельности, ответственности, произвольности в поведении и деятельности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преодоление отчужденности и формирование коммуникативных навыков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коррекция самооценки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звитие психических функций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звитие двигательной сферы и т.п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01:43Z</dcterms:created>
  <dc:creator>N15</dc:creator>
  <dc:description/>
  <dc:language>en-US</dc:language>
  <cp:lastModifiedBy>пк</cp:lastModifiedBy>
  <dcterms:modified xsi:type="dcterms:W3CDTF">2024-02-12T09:54:45Z</dcterms:modified>
  <cp:revision>117</cp:revision>
  <dc:subject/>
  <dc:title>Слайд 1</dc:title>
</cp:coreProperties>
</file>