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A0D-AB8B-4C5B-B673-86FD1BB2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F50-265A-4B31-80B2-6A1C7667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14D-DDBC-4BC4-928C-2676A670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673-DE70-40E6-8D5F-9B4E5A91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C694-F423-49D7-9E7B-89B2E118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E101-FC5E-4A5E-AD71-1281DB6D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16AE-4549-42FD-9FBE-DCD31FE3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2D2A-07BD-4130-B8CE-87720560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3662-2491-44D4-8FBC-68A6C73F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B393-B06B-415E-A4F4-EFC6012B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98EE-5A1F-460F-AC47-6A801BBB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197-1950-4333-AE34-77CE0AF7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CA30-22AA-4782-B73A-A288CF31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475B-4D16-4DEF-8E25-8AD81278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406C-AD51-4FE8-B202-D8326E72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AE7D-864B-4065-8D9E-FD509F40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554F-DE80-40B7-AD44-D25DCE62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9396-E027-49E3-96B3-B4C10D75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2AD1A-D887-4493-B790-B7C39E5D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FA17B-70EA-44C0-9EC6-38B94BE3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10768-98EF-418E-A32F-3DF940D9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F1D0E-7A8F-431B-AA44-D854DC3C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575C-B16B-4A80-AC07-C0ECE312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FB322-26DD-434A-A874-99203C2D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7A888-2C23-475A-A949-16834943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F1A70-2679-409A-9561-080E5D53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B557E-3469-4504-A490-76B0C3F7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398DA-7733-4AAF-A215-18594499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030DC-6375-4FB9-91A5-156B5ABD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02C7A-9652-4F41-B07B-B8F1B81A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7FA-975A-48A3-B9D6-9DDE2AC8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F736-76D2-4D9F-8704-3806FDD7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3B62-76A1-476A-BBD9-462AF597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D2C7-BACC-4FFC-8142-7AD5EF99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D04F-CFB6-4DDC-8FE1-1D1DD68D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874-6296-46FA-909D-E61708AF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AB6B-7A2D-4DF6-82F8-56446FD5822B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3F40-A545-4468-8C75-E033ECC36D40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D2CD-468A-4C39-B959-D3AFB9165967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Hedgehog-en.jpg?uselang=r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428400"/>
            <a:ext cx="849636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043c"/>
                </a:solidFill>
                <a:latin typeface="Arial Black"/>
              </a:rPr>
              <a:t>МОУ «ЖАРКОВСКАЯ СОШ №1»</a:t>
            </a:r>
            <a:br>
              <a:rPr sz="3200"/>
            </a:br>
            <a:r>
              <a:rPr b="1" lang="ru-RU" sz="4800" spc="-1" strike="noStrike">
                <a:solidFill>
                  <a:srgbClr val="00b050"/>
                </a:solidFill>
                <a:latin typeface="Arial Black"/>
              </a:rPr>
              <a:t>ИССЛЕДОВАТЕЛЬСКАЯ РАБОТА</a:t>
            </a:r>
            <a:br>
              <a:rPr sz="4800"/>
            </a:br>
            <a:r>
              <a:rPr b="1" lang="ru-RU" sz="4800" spc="-1" strike="noStrike">
                <a:solidFill>
                  <a:srgbClr val="00b050"/>
                </a:solidFill>
                <a:latin typeface="Arial Black"/>
              </a:rPr>
              <a:t>ЁЖИК</a:t>
            </a:r>
            <a:endParaRPr b="0" lang="en-US" sz="4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843280" y="3214440"/>
            <a:ext cx="5905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043c"/>
                </a:solidFill>
                <a:latin typeface="Arial Black"/>
              </a:rPr>
              <a:t>РАБОТУ ВЫПОЛНИЛ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043c"/>
                </a:solidFill>
                <a:latin typeface="Arial Black"/>
              </a:rPr>
              <a:t>СУЛИМА МАКСИМ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043c"/>
                </a:solidFill>
                <a:latin typeface="Arial Black"/>
              </a:rPr>
              <a:t>ИВАНОВА СОФИЯ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043c"/>
                </a:solidFill>
                <a:latin typeface="Arial Black"/>
              </a:rPr>
              <a:t>НАУЧНЫЙ РУКОВОДИТЕЛЬ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043c"/>
                </a:solidFill>
                <a:latin typeface="Arial Black"/>
              </a:rPr>
              <a:t>ТИМОФЕЕВА Л.В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043c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10043c"/>
                </a:solidFill>
                <a:latin typeface="Arial Black"/>
              </a:rPr>
              <a:t>202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3" descr="http://upload.wikimedia.org/wikipedia/commons/thumb/4/44/Hedgehog-en.jpg/220px-Hedgehog-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538520"/>
            <a:ext cx="244800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0675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 Black"/>
              </a:rPr>
              <a:t>СРЕДА ОБИТАНИЯ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52" name="Содержимое 6" descr="larch_mountain_600.jpg"/>
          <p:cNvPicPr/>
          <p:nvPr/>
        </p:nvPicPr>
        <p:blipFill>
          <a:blip r:embed="rId1"/>
          <a:stretch/>
        </p:blipFill>
        <p:spPr>
          <a:xfrm>
            <a:off x="250920" y="1484280"/>
            <a:ext cx="4105080" cy="3398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Картинка 16 из 22545"/>
          <p:cNvPicPr/>
          <p:nvPr/>
        </p:nvPicPr>
        <p:blipFill>
          <a:blip r:embed="rId2"/>
          <a:stretch/>
        </p:blipFill>
        <p:spPr>
          <a:xfrm>
            <a:off x="4788000" y="4361040"/>
            <a:ext cx="4356000" cy="2496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F:\Заставки\00039259.jpg"/>
          <p:cNvPicPr/>
          <p:nvPr/>
        </p:nvPicPr>
        <p:blipFill>
          <a:blip r:embed="rId3"/>
          <a:stretch/>
        </p:blipFill>
        <p:spPr>
          <a:xfrm>
            <a:off x="5724360" y="1628640"/>
            <a:ext cx="3203640" cy="240372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7"/>
          <p:cNvSpPr/>
          <p:nvPr/>
        </p:nvSpPr>
        <p:spPr>
          <a:xfrm>
            <a:off x="214200" y="4786200"/>
            <a:ext cx="485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70c0"/>
                </a:solidFill>
                <a:uFillTx/>
                <a:latin typeface="Arial"/>
              </a:rPr>
              <a:t>Просторы наших лесов,лугов и по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2" descr="07--herth"/>
          <p:cNvPicPr/>
          <p:nvPr/>
        </p:nvPicPr>
        <p:blipFill>
          <a:blip r:embed="rId1"/>
          <a:stretch/>
        </p:blipFill>
        <p:spPr>
          <a:xfrm>
            <a:off x="6156360" y="2708280"/>
            <a:ext cx="2838240" cy="39909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324000" y="1281240"/>
            <a:ext cx="51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жата рождаются голыми, слепыми, с ярко-розовой кожей, масса их тела всего 12 граммов. Через несколько часов после рождения у ежат появляются белые и тёмные мягкие иглы. Полностью игловой покров формируется к 15 дню жизни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5513400" y="115920"/>
            <a:ext cx="3481200" cy="23288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548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Arial Black"/>
              </a:rPr>
              <a:t>ДЕТЕНЫШИ</a:t>
            </a:r>
            <a:endParaRPr b="0" lang="en-US" sz="48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95200" y="151920"/>
            <a:ext cx="672444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 u="sng">
                <a:solidFill>
                  <a:srgbClr val="ff0000"/>
                </a:solidFill>
                <a:uFillTx/>
                <a:latin typeface="Arial Black"/>
              </a:rPr>
              <a:t>ЖИЗНЬ ЕЖА</a:t>
            </a:r>
            <a:endParaRPr b="0" lang="en-US" sz="49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61" name="Содержимое 3" descr="800px-Erinaceus_europaeus_LC0119.jpg"/>
          <p:cNvPicPr/>
          <p:nvPr/>
        </p:nvPicPr>
        <p:blipFill>
          <a:blip r:embed="rId1"/>
          <a:stretch/>
        </p:blipFill>
        <p:spPr>
          <a:xfrm>
            <a:off x="4175280" y="1197000"/>
            <a:ext cx="4968720" cy="37195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5" descr="http://upload.wikimedia.org/wikipedia/commons/thumb/4/49/Ej155.jpg/220px-Ej155.jpg"/>
          <p:cNvPicPr/>
          <p:nvPr/>
        </p:nvPicPr>
        <p:blipFill>
          <a:blip r:embed="rId2"/>
          <a:stretch/>
        </p:blipFill>
        <p:spPr>
          <a:xfrm>
            <a:off x="380880" y="4797360"/>
            <a:ext cx="1714680" cy="20606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3" descr="http://upload.wikimedia.org/wikipedia/commons/thumb/4/44/Hedgehog-en.jpg/220px-Hedgehog-en.jpg"/>
          <p:cNvPicPr/>
          <p:nvPr/>
        </p:nvPicPr>
        <p:blipFill>
          <a:blip r:embed="rId3"/>
          <a:stretch/>
        </p:blipFill>
        <p:spPr>
          <a:xfrm>
            <a:off x="0" y="0"/>
            <a:ext cx="2556000" cy="20448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0" y="1357200"/>
            <a:ext cx="4464000" cy="41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043c"/>
                </a:solidFill>
                <a:latin typeface="Arial"/>
              </a:rPr>
              <a:t>На зиму ежи впадают в спячку. Видит он плох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1" descr="http://upload.wikimedia.org/wikipedia/commons/thumb/9/9e/Braunbrustigel_Stacheln_050725.jpg/220px-Braunbrustigel_Stacheln_050725.jpg"/>
          <p:cNvPicPr/>
          <p:nvPr/>
        </p:nvPicPr>
        <p:blipFill>
          <a:blip r:embed="rId4"/>
          <a:stretch/>
        </p:blipFill>
        <p:spPr>
          <a:xfrm>
            <a:off x="2556000" y="5300640"/>
            <a:ext cx="2095200" cy="12286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"/>
          <p:cNvSpPr/>
          <p:nvPr/>
        </p:nvSpPr>
        <p:spPr>
          <a:xfrm>
            <a:off x="4429080" y="4929120"/>
            <a:ext cx="471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030"/>
                </a:solidFill>
                <a:latin typeface="Arial"/>
              </a:rPr>
              <a:t>иголки – амортизато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 flipH="1">
            <a:off x="4716000" y="602136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 u="sng">
                <a:solidFill>
                  <a:srgbClr val="ff0000"/>
                </a:solidFill>
                <a:uFillTx/>
                <a:latin typeface="Arial Black"/>
              </a:rPr>
              <a:t>ПИТАНИЕ ЕЖА</a:t>
            </a:r>
            <a:endParaRPr b="0" lang="en-US" sz="49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0" y="1484280"/>
            <a:ext cx="838836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0d33"/>
                </a:solidFill>
                <a:latin typeface="Arial"/>
              </a:rPr>
              <a:t>Ёж —это всеядное животное. Он питается  </a:t>
            </a:r>
            <a:r>
              <a:rPr b="1" lang="ru-RU" sz="4000" spc="-1" strike="noStrike" u="sng">
                <a:solidFill>
                  <a:srgbClr val="140d33"/>
                </a:solidFill>
                <a:uFillTx/>
                <a:latin typeface="Arial"/>
              </a:rPr>
              <a:t>насекомыми</a:t>
            </a:r>
            <a:r>
              <a:rPr b="1" lang="ru-RU" sz="4000" spc="-1" strike="noStrike">
                <a:solidFill>
                  <a:srgbClr val="140d33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0d33"/>
                </a:solidFill>
                <a:latin typeface="Arial"/>
              </a:rPr>
              <a:t> </a:t>
            </a:r>
            <a:r>
              <a:rPr b="1" lang="ru-RU" sz="4000" spc="-1" strike="noStrike" u="sng">
                <a:solidFill>
                  <a:srgbClr val="140d33"/>
                </a:solidFill>
                <a:uFillTx/>
                <a:latin typeface="Arial"/>
              </a:rPr>
              <a:t>гусеницами</a:t>
            </a:r>
            <a:r>
              <a:rPr b="1" lang="ru-RU" sz="4000" spc="-1" strike="noStrike">
                <a:solidFill>
                  <a:srgbClr val="140d33"/>
                </a:solidFill>
                <a:latin typeface="Arial"/>
              </a:rPr>
              <a:t>,  слизнями,иногда дождевыми червям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вот молоко ежу не нужно. Есть мнение, что этот продукт бесполезен для него и может вызвать расстройство желуд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7" descr="Igel.JPG"/>
          <p:cNvPicPr/>
          <p:nvPr/>
        </p:nvPicPr>
        <p:blipFill>
          <a:blip r:embed="rId1"/>
          <a:stretch/>
        </p:blipFill>
        <p:spPr>
          <a:xfrm>
            <a:off x="7186680" y="3860640"/>
            <a:ext cx="1957320" cy="1467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7740720" y="96840"/>
            <a:ext cx="1403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244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СОДЕРЖАНИЕ В НЕВОЛЕ.</a:t>
            </a:r>
            <a:endParaRPr b="0" lang="en-US" sz="4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3" name="Прямоугольник 2"/>
          <p:cNvSpPr/>
          <p:nvPr/>
        </p:nvSpPr>
        <p:spPr>
          <a:xfrm>
            <a:off x="0" y="10717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Ёж - не самый лучший домашний питомец, и вот почему: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- имеет неприятный запах, так что его необходимо регулярно купать (промывать лапки и брюшко);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- ёж очень будет скучать по л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9240" y="-360"/>
            <a:ext cx="84564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 Black"/>
              </a:rPr>
              <a:t>ПОЛЬЗА И ВРЕД ДЛЯ ЛЮДЕЙ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859040"/>
            <a:ext cx="379584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030"/>
                </a:solidFill>
                <a:latin typeface="Arial"/>
              </a:rPr>
              <a:t>Уничтожает вредных насеком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030"/>
                </a:solidFill>
                <a:latin typeface="Arial"/>
              </a:rPr>
              <a:t>легко приспосабливается к жизни рядом с людьми и довольно часто содержится как домашнее животно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2920" y="1916280"/>
            <a:ext cx="352908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030"/>
                </a:solidFill>
                <a:latin typeface="Arial"/>
              </a:rPr>
              <a:t>может быть переносчиком разных заболевани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030"/>
                </a:solidFill>
                <a:latin typeface="Arial"/>
              </a:rPr>
              <a:t>в лесных угодьях ежи собирают на себя клещей, в том числе энцефалитных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95280" y="83664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ЛЬ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48360" y="1000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одержимое 3" descr="55.jpg"/>
          <p:cNvPicPr/>
          <p:nvPr/>
        </p:nvPicPr>
        <p:blipFill>
          <a:blip r:embed="rId1"/>
          <a:stretch/>
        </p:blipFill>
        <p:spPr>
          <a:xfrm>
            <a:off x="3000240" y="1000080"/>
            <a:ext cx="13924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900" spc="-1" strike="noStrike">
                <a:solidFill>
                  <a:srgbClr val="ff0000"/>
                </a:solidFill>
                <a:latin typeface="Gabriola"/>
              </a:rPr>
              <a:t>ИНТЕРЕСНЫЕ  ФАКТЫ</a:t>
            </a:r>
            <a:endParaRPr b="0" lang="en-US" sz="59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1052280"/>
            <a:ext cx="387972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043c"/>
                </a:solidFill>
                <a:latin typeface="Times New Roman"/>
                <a:ea typeface="Times New Roman"/>
              </a:rPr>
              <a:t>Ежи регулярно пальцами ног расправляют и чистят свои иглы.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043c"/>
                </a:solidFill>
                <a:latin typeface="Times New Roman"/>
                <a:ea typeface="Times New Roman"/>
              </a:rPr>
              <a:t>В случае явной опасности, ежи сворачиваются в клубок. Их иглы являются надежной защитой.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043c"/>
                </a:solidFill>
                <a:latin typeface="Times New Roman"/>
                <a:ea typeface="Times New Roman"/>
              </a:rPr>
              <a:t>Общаются ежи между собой при помощи свиста.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780000" y="1125360"/>
            <a:ext cx="3870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043c"/>
                </a:solidFill>
                <a:latin typeface="Times New Roman"/>
                <a:ea typeface="Times New Roman"/>
              </a:rPr>
              <a:t>Там где живут ежи — нет змей, мышей и даже крыс. Это не доказанный, но всеми принятый факт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043c"/>
                </a:solidFill>
                <a:latin typeface="Times New Roman"/>
                <a:ea typeface="Times New Roman"/>
              </a:rPr>
              <a:t>Зимой ежи впадают в спячку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043c"/>
                </a:solidFill>
                <a:latin typeface="Times New Roman"/>
                <a:ea typeface="Times New Roman"/>
              </a:rPr>
              <a:t>В природных условиях ежи живут в среднем 5-8 лет, а в зоопарке — до 1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 Black"/>
              </a:rPr>
              <a:t>ЗАКЛЮЧЕНИЕ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24000" y="1484280"/>
            <a:ext cx="82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Ежи приносят больше пользы, когда живут в естественных природных условиях, уничтожая разных вредителей лесов и полей, а в неволе могут больше причинить человеку вреда, принеся в дом клеща или инфекционную болез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Содержимое 3" descr="3.jpg"/>
          <p:cNvPicPr/>
          <p:nvPr/>
        </p:nvPicPr>
        <p:blipFill>
          <a:blip r:embed="rId1"/>
          <a:stretch/>
        </p:blipFill>
        <p:spPr>
          <a:xfrm>
            <a:off x="7048440" y="19080"/>
            <a:ext cx="207180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8598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 Black"/>
              </a:rPr>
              <a:t>МОДЕЛИ ЕЖЕЙ</a:t>
            </a:r>
            <a:endParaRPr b="0" lang="en-US" sz="60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87" name="Picture 4" descr="C:\Users\user\Desktop\IMG_20231109_142202.jpg"/>
          <p:cNvPicPr/>
          <p:nvPr/>
        </p:nvPicPr>
        <p:blipFill>
          <a:blip r:embed="rId1"/>
          <a:stretch/>
        </p:blipFill>
        <p:spPr>
          <a:xfrm>
            <a:off x="4716360" y="1700280"/>
            <a:ext cx="3767400" cy="4680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C:\Users\user\Desktop\IMG_20231109_142217.jpg"/>
          <p:cNvPicPr/>
          <p:nvPr/>
        </p:nvPicPr>
        <p:blipFill>
          <a:blip r:embed="rId2"/>
          <a:stretch/>
        </p:blipFill>
        <p:spPr>
          <a:xfrm>
            <a:off x="250920" y="1700280"/>
            <a:ext cx="374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529480" cy="608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 Black"/>
              </a:rPr>
              <a:t>СПАСИБО </a:t>
            </a:r>
            <a:br>
              <a:rPr sz="9600"/>
            </a:br>
            <a:r>
              <a:rPr b="1" lang="ru-RU" sz="9600" spc="-1" strike="noStrike">
                <a:solidFill>
                  <a:srgbClr val="002060"/>
                </a:solidFill>
                <a:latin typeface="Arial Black"/>
              </a:rPr>
              <a:t>ЗА</a:t>
            </a:r>
            <a:br>
              <a:rPr sz="9600"/>
            </a:br>
            <a:r>
              <a:rPr b="1" lang="ru-RU" sz="9600" spc="-1" strike="noStrike">
                <a:solidFill>
                  <a:srgbClr val="002060"/>
                </a:solidFill>
                <a:latin typeface="Arial Black"/>
              </a:rPr>
              <a:t>ВНИМАНИЕ!</a:t>
            </a:r>
            <a:endParaRPr b="0" lang="en-US" sz="96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6" descr=""/>
          <p:cNvPicPr/>
          <p:nvPr/>
        </p:nvPicPr>
        <p:blipFill>
          <a:blip r:embed="rId1"/>
          <a:srcRect l="13392" t="21512" r="12907" b="25757"/>
          <a:stretch/>
        </p:blipFill>
        <p:spPr>
          <a:xfrm>
            <a:off x="6732720" y="5229360"/>
            <a:ext cx="2160360" cy="1454040"/>
          </a:xfrm>
          <a:prstGeom prst="rect">
            <a:avLst/>
          </a:prstGeom>
          <a:ln w="0">
            <a:noFill/>
          </a:ln>
        </p:spPr>
      </p:pic>
      <p:pic>
        <p:nvPicPr>
          <p:cNvPr id="133" name="Объект 2" descr=""/>
          <p:cNvPicPr/>
          <p:nvPr/>
        </p:nvPicPr>
        <p:blipFill>
          <a:blip r:embed="rId2"/>
          <a:stretch/>
        </p:blipFill>
        <p:spPr>
          <a:xfrm>
            <a:off x="0" y="262080"/>
            <a:ext cx="8918640" cy="65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00"/>
                </a:solidFill>
                <a:latin typeface="Gabriola"/>
              </a:rPr>
              <a:t>           </a:t>
            </a:r>
            <a:r>
              <a:rPr b="1" lang="ru-RU" sz="5900" spc="-1" strike="noStrike">
                <a:solidFill>
                  <a:srgbClr val="ff0000"/>
                </a:solidFill>
                <a:latin typeface="Gabriola"/>
              </a:rPr>
              <a:t>ПРЕДМЕТ  ИССЛЕДОВАНИЯ</a:t>
            </a:r>
            <a:endParaRPr b="0" lang="en-US" sz="59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-108000" y="1052640"/>
            <a:ext cx="92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Arial"/>
              </a:rPr>
              <a:t>ёж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Интересные факты о ежах для детей. 41 факт о еже"/>
          <p:cNvPicPr/>
          <p:nvPr/>
        </p:nvPicPr>
        <p:blipFill>
          <a:blip r:embed="rId1"/>
          <a:stretch/>
        </p:blipFill>
        <p:spPr>
          <a:xfrm>
            <a:off x="250920" y="2068560"/>
            <a:ext cx="741672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000" y="22680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КАКИМ ЖЕ ПРЕДСТАВЛЯЕМ СЕБЕ ЕЖА МЫ, ПЕРВОКЛАССНИКИ?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1413000"/>
            <a:ext cx="81723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2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В сказках и мультфильмах таскает ёж на своих иголках яблоки и грибы, делает запасы на зиму, живет в уютном домике, любит молоко и общение с людьми. Встреча с ним всегда приводит в восторг!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900" spc="-1" strike="noStrike">
                <a:solidFill>
                  <a:srgbClr val="ff0000"/>
                </a:solidFill>
                <a:latin typeface="Gabriola"/>
              </a:rPr>
              <a:t>УЧАСТНИКИ  АНКЕТИРОВАНИЯ </a:t>
            </a:r>
            <a:endParaRPr b="0" lang="en-US" sz="5900" spc="-1" strike="noStrike">
              <a:solidFill>
                <a:srgbClr val="d1282e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435880" cy="4694400"/>
        </p:xfrm>
        <a:graphic>
          <a:graphicData uri="http://schemas.openxmlformats.org/drawingml/2006/table">
            <a:tbl>
              <a:tblPr/>
              <a:tblGrid>
                <a:gridCol w="8435880"/>
              </a:tblGrid>
              <a:tr h="1036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ти 1а класс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103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Опрошено – 12челове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Отгадали загадки о ёжике – 8 челове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Не знают ничего о ёжике -  4 челове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4200" y="115920"/>
            <a:ext cx="86788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br>
              <a:rPr sz="8800"/>
            </a:br>
            <a:br>
              <a:rPr sz="8800"/>
            </a:br>
            <a:r>
              <a:rPr b="0" i="1" lang="ru-RU" sz="5400" spc="-1" strike="noStrike">
                <a:solidFill>
                  <a:srgbClr val="ff0000"/>
                </a:solidFill>
                <a:latin typeface="Arial Black"/>
              </a:rPr>
              <a:t>НАШИ ЗАГАДКИ</a:t>
            </a:r>
            <a:br>
              <a:rPr sz="5400"/>
            </a:br>
            <a:br>
              <a:rPr sz="5400"/>
            </a:br>
            <a:r>
              <a:rPr b="1" i="1" lang="ru-RU" sz="3600" spc="-1" strike="noStrike">
                <a:solidFill>
                  <a:srgbClr val="140d33"/>
                </a:solidFill>
                <a:latin typeface="Arial Black"/>
              </a:rPr>
              <a:t>НЕТ УШЕЙ, НЕ ВИДНО НОЖЕК</a:t>
            </a:r>
            <a:br>
              <a:rPr sz="3600"/>
            </a:br>
            <a:r>
              <a:rPr b="1" i="1" lang="ru-RU" sz="3600" spc="-1" strike="noStrike">
                <a:solidFill>
                  <a:srgbClr val="140d33"/>
                </a:solidFill>
                <a:latin typeface="Arial Black"/>
              </a:rPr>
              <a:t>ШАР В КОЛЮЧКАХ – ЭТО…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 Black"/>
              </a:rPr>
              <a:t>ПОД СОСНАМИ, ПОД ЕЛКАМИ ЛЕЖИТ МЕШОК С ИГОЛКАМИ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В КЛУБОК СВЕРНЕТСЯ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ВЗЯТЬ НЕ ДАЕТСЯ. 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071600" y="4285800"/>
            <a:ext cx="371484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10043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07552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МЫ В БИБЛИОТЕКЕ</a:t>
            </a:r>
            <a:endParaRPr b="0" lang="en-US" sz="54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4" name="Picture 2" descr="C:\Users\user\Desktop\IMG-20231109-WA0009.jpg"/>
          <p:cNvPicPr/>
          <p:nvPr/>
        </p:nvPicPr>
        <p:blipFill>
          <a:blip r:embed="rId1"/>
          <a:stretch/>
        </p:blipFill>
        <p:spPr>
          <a:xfrm>
            <a:off x="324000" y="1484280"/>
            <a:ext cx="3373200" cy="449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Users\user\Desktop\IMG-20231109-WA0010.jpg"/>
          <p:cNvPicPr/>
          <p:nvPr/>
        </p:nvPicPr>
        <p:blipFill>
          <a:blip r:embed="rId2"/>
          <a:stretch/>
        </p:blipFill>
        <p:spPr>
          <a:xfrm>
            <a:off x="3564000" y="1197000"/>
            <a:ext cx="41385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7151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Gabriola"/>
              </a:rPr>
              <a:t>КТО  ТАКОЙ  ЁЖ?</a:t>
            </a:r>
            <a:endParaRPr b="0" lang="en-US" sz="7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752120"/>
            <a:ext cx="8424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ыкновенный ёж — это животное, активное в ночное время суток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ни способны бегать со скоростью до 3 м/с, хорошо умеют плавать и прыгать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7151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Я УЗНАЛА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9" name="Рисунок 1" descr="56745150_1269165976_TeBmtvxH"/>
          <p:cNvPicPr/>
          <p:nvPr/>
        </p:nvPicPr>
        <p:blipFill>
          <a:blip r:embed="rId1"/>
          <a:stretch/>
        </p:blipFill>
        <p:spPr>
          <a:xfrm>
            <a:off x="214200" y="1857240"/>
            <a:ext cx="3357720" cy="43578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3643200" y="2286000"/>
            <a:ext cx="481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Еж- млекопитающее животн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08:34:04Z</dcterms:created>
  <dc:creator>Admin</dc:creator>
  <dc:description/>
  <dc:language>en-US</dc:language>
  <cp:lastModifiedBy>Учитель</cp:lastModifiedBy>
  <dcterms:modified xsi:type="dcterms:W3CDTF">2023-11-10T07:35:12Z</dcterms:modified>
  <cp:revision>22</cp:revision>
  <dc:subject/>
  <dc:title>Наши лесные друзья – ЕЖИ</dc:title>
</cp:coreProperties>
</file>