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540-44F9-4567-99BF-1F447F01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00E-88B9-4263-A8CD-87AC9A6E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BF5-595B-4C43-87C0-AE501294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6D5-B538-499C-A392-4F86D7F2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BE6B-D05D-4B70-AF42-D9998630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B0CF-ABB0-404A-9FFB-2C6DD08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6D71-60F9-4540-962C-AC2D71E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573-3588-4752-B83B-6268484B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77D-9877-489A-A038-18CF0EB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AA45-12E9-4E9E-B45C-362FD47C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F0D8-FA8B-4030-996C-7ABE6B5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602-5784-42CB-9FF7-976580EE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071F-B42A-4A22-BC0D-213041F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AAA5-05FA-432E-A13E-0A9BD8F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5423-76BF-4BB3-8EFC-AEC511E2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45E3-8122-41F2-A042-4956CC20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A73B-E71D-4405-8049-C7C52192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F2B2-B276-415E-BD4B-CD5E7C62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DC1C-EC8F-40CF-AE52-8C5AAD30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B946-455C-42F0-879C-52546264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459F-587E-4E60-BF0C-EE2AA07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A920-A0AC-48D8-A658-C466CC4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563-8A0C-4E93-A35B-2983CED6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ACA8-1BFA-4D10-B7C2-84430C7C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8153-2D5B-43E5-8E3C-F37BE25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068C-7027-4A61-93E9-37BBB6F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D07F-1FB3-4530-926F-4BF2147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5BB6-8C3F-4A39-8BB7-87791A7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773A-9E45-4D67-95F5-9C435E67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F6D4-1929-4B68-B771-D165CAF1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B6C-6359-409E-94CB-18D2ADF5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845-4A7E-420C-A6C0-8A8ABA4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8D3-E6DC-4082-A7C9-DFAD4832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B5E-6F36-4D9B-824E-8D39D3A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0BA-9202-45A3-B65B-2F2032E3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084-3F99-4FE5-9754-865A548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796-9709-488A-A196-286DEE26568E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DE1-C258-4833-8FF8-6BB4E0750700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DE2C-4D7B-41E7-AA24-58D6602F719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Hedgehog-en.jpg?uselang=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428400"/>
            <a:ext cx="84963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Arial Black"/>
              </a:rPr>
              <a:t>МОУ «ЖАРКОВСКАЯ СОШ №1»</a:t>
            </a:r>
            <a:br>
              <a:rPr sz="3200"/>
            </a:br>
            <a:r>
              <a:rPr b="1" lang="ru-RU" sz="4800" spc="-1" strike="noStrike">
                <a:solidFill>
                  <a:srgbClr val="00b050"/>
                </a:solidFill>
                <a:latin typeface="Arial Black"/>
              </a:rPr>
              <a:t>ИССЛЕДОВАТЕЛЬСКАЯ РАБОТА</a:t>
            </a:r>
            <a:br>
              <a:rPr sz="4800"/>
            </a:br>
            <a:r>
              <a:rPr b="1" lang="ru-RU" sz="4800" spc="-1" strike="noStrike">
                <a:solidFill>
                  <a:srgbClr val="00b050"/>
                </a:solidFill>
                <a:latin typeface="Arial Black"/>
              </a:rPr>
              <a:t>ЁЖИК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43280" y="3214440"/>
            <a:ext cx="5905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РАБОТУ ВЫПОЛНИЛ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СУЛИМА МАКСИ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ИВАНОВА СОФ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НАУЧНЫЙ РУКОВОДИТЕЛ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ТИМОФЕЕВА Л.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10043c"/>
                </a:solidFill>
                <a:latin typeface="Arial Black"/>
              </a:rPr>
              <a:t>202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http://upload.wikimedia.org/wikipedia/commons/thumb/4/44/Hedgehog-en.jpg/220px-Hedgehog-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538520"/>
            <a:ext cx="2448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675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 Black"/>
              </a:rPr>
              <a:t>СРЕДА ОБИТАН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2" name="Содержимое 6" descr="larch_mountain_600.jpg"/>
          <p:cNvPicPr/>
          <p:nvPr/>
        </p:nvPicPr>
        <p:blipFill>
          <a:blip r:embed="rId1"/>
          <a:stretch/>
        </p:blipFill>
        <p:spPr>
          <a:xfrm>
            <a:off x="250920" y="1484280"/>
            <a:ext cx="4105080" cy="339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Картинка 16 из 22545"/>
          <p:cNvPicPr/>
          <p:nvPr/>
        </p:nvPicPr>
        <p:blipFill>
          <a:blip r:embed="rId2"/>
          <a:stretch/>
        </p:blipFill>
        <p:spPr>
          <a:xfrm>
            <a:off x="4788000" y="4361040"/>
            <a:ext cx="4356000" cy="2496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F:\Заставки\00039259.jpg"/>
          <p:cNvPicPr/>
          <p:nvPr/>
        </p:nvPicPr>
        <p:blipFill>
          <a:blip r:embed="rId3"/>
          <a:stretch/>
        </p:blipFill>
        <p:spPr>
          <a:xfrm>
            <a:off x="5724360" y="1628640"/>
            <a:ext cx="3203640" cy="2403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7"/>
          <p:cNvSpPr/>
          <p:nvPr/>
        </p:nvSpPr>
        <p:spPr>
          <a:xfrm>
            <a:off x="214200" y="4786200"/>
            <a:ext cx="485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росторы наших лесов,лугов и по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07--herth"/>
          <p:cNvPicPr/>
          <p:nvPr/>
        </p:nvPicPr>
        <p:blipFill>
          <a:blip r:embed="rId1"/>
          <a:stretch/>
        </p:blipFill>
        <p:spPr>
          <a:xfrm>
            <a:off x="6156360" y="2708280"/>
            <a:ext cx="2838240" cy="3990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324000" y="1281240"/>
            <a:ext cx="51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ата рождаются голыми, слепыми, с ярко-розовой кожей, масса их тела всего 12 граммов. Через несколько часов после рождения у ежат появляются белые и тёмные мягкие иглы. Полностью игловой покров формируется к 15 дню жизн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5513400" y="115920"/>
            <a:ext cx="3481200" cy="2328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548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Arial Black"/>
              </a:rPr>
              <a:t>ДЕТЕНЫШИ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95200" y="151920"/>
            <a:ext cx="672444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Arial Black"/>
              </a:rPr>
              <a:t>ЖИЗНЬ ЕЖА</a:t>
            </a:r>
            <a:endParaRPr b="0" lang="en-US" sz="49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1" name="Содержимое 3" descr="800px-Erinaceus_europaeus_LC0119.jpg"/>
          <p:cNvPicPr/>
          <p:nvPr/>
        </p:nvPicPr>
        <p:blipFill>
          <a:blip r:embed="rId1"/>
          <a:stretch/>
        </p:blipFill>
        <p:spPr>
          <a:xfrm>
            <a:off x="4175280" y="119700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http://upload.wikimedia.org/wikipedia/commons/thumb/4/49/Ej155.jpg/220px-Ej155.jpg"/>
          <p:cNvPicPr/>
          <p:nvPr/>
        </p:nvPicPr>
        <p:blipFill>
          <a:blip r:embed="rId2"/>
          <a:stretch/>
        </p:blipFill>
        <p:spPr>
          <a:xfrm>
            <a:off x="380880" y="4797360"/>
            <a:ext cx="1714680" cy="2060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http://upload.wikimedia.org/wikipedia/commons/thumb/4/44/Hedgehog-en.jpg/220px-Hedgehog-en.jpg"/>
          <p:cNvPicPr/>
          <p:nvPr/>
        </p:nvPicPr>
        <p:blipFill>
          <a:blip r:embed="rId3"/>
          <a:stretch/>
        </p:blipFill>
        <p:spPr>
          <a:xfrm>
            <a:off x="0" y="0"/>
            <a:ext cx="2556000" cy="2044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0" y="1357200"/>
            <a:ext cx="44640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43c"/>
                </a:solidFill>
                <a:latin typeface="Arial"/>
              </a:rPr>
              <a:t>На зиму ежи впадают в спячку. Видит он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http://upload.wikimedia.org/wikipedia/commons/thumb/9/9e/Braunbrustigel_Stacheln_050725.jpg/220px-Braunbrustigel_Stacheln_050725.jpg"/>
          <p:cNvPicPr/>
          <p:nvPr/>
        </p:nvPicPr>
        <p:blipFill>
          <a:blip r:embed="rId4"/>
          <a:stretch/>
        </p:blipFill>
        <p:spPr>
          <a:xfrm>
            <a:off x="2556000" y="5300640"/>
            <a:ext cx="2095200" cy="1228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4429080" y="4929120"/>
            <a:ext cx="471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030"/>
                </a:solidFill>
                <a:latin typeface="Arial"/>
              </a:rPr>
              <a:t>иголки – амортизат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4716000" y="6021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Arial Black"/>
              </a:rPr>
              <a:t>ПИТАНИЕ ЕЖА</a:t>
            </a:r>
            <a:endParaRPr b="0" lang="en-US" sz="4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484280"/>
            <a:ext cx="838836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Ёж —это всеядное животное. Он питается  </a:t>
            </a:r>
            <a:r>
              <a:rPr b="1" lang="ru-RU" sz="4000" spc="-1" strike="noStrike" u="sng">
                <a:solidFill>
                  <a:srgbClr val="140d33"/>
                </a:solidFill>
                <a:uFillTx/>
                <a:latin typeface="Arial"/>
              </a:rPr>
              <a:t>насекомыми</a:t>
            </a: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 </a:t>
            </a:r>
            <a:r>
              <a:rPr b="1" lang="ru-RU" sz="4000" spc="-1" strike="noStrike" u="sng">
                <a:solidFill>
                  <a:srgbClr val="140d33"/>
                </a:solidFill>
                <a:uFillTx/>
                <a:latin typeface="Arial"/>
              </a:rPr>
              <a:t>гусеницами</a:t>
            </a:r>
            <a:r>
              <a:rPr b="1" lang="ru-RU" sz="4000" spc="-1" strike="noStrike">
                <a:solidFill>
                  <a:srgbClr val="140d33"/>
                </a:solidFill>
                <a:latin typeface="Arial"/>
              </a:rPr>
              <a:t>,  слизнями,иногда дождевыми червя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вот молоко ежу не нужно. Есть мнение, что этот продукт бесполезен для него и может вызвать расстройство желуд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7" descr="Igel.JPG"/>
          <p:cNvPicPr/>
          <p:nvPr/>
        </p:nvPicPr>
        <p:blipFill>
          <a:blip r:embed="rId1"/>
          <a:stretch/>
        </p:blipFill>
        <p:spPr>
          <a:xfrm>
            <a:off x="7186680" y="3860640"/>
            <a:ext cx="1957320" cy="146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740720" y="96840"/>
            <a:ext cx="1403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24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СОДЕРЖАНИЕ В НЕВОЛЕ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0" y="1071720"/>
            <a:ext cx="89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Ёж - не самый лучший домашний питомец, и вот почему: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- имеет неприятный запах, так что его необходимо регулярно купать (промывать лапки и брюшко)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- ёж очень будет скучать по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8456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ПОЛЬЗА И ВРЕД ДЛЯ ЛЮДЕ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859040"/>
            <a:ext cx="379584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Уничтожает вредных насеком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легко приспосабливается к жизни рядом с людьми и довольно часто содержится как домашнее животно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916280"/>
            <a:ext cx="3529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может быть переносчиком разных заболеван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030"/>
                </a:solidFill>
                <a:latin typeface="Arial"/>
              </a:rPr>
              <a:t>в лесных угодьях ежи собирают на себя клещей, в том числе энцефалитны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95280" y="836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Ь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48360" y="1000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55.jpg"/>
          <p:cNvPicPr/>
          <p:nvPr/>
        </p:nvPicPr>
        <p:blipFill>
          <a:blip r:embed="rId1"/>
          <a:stretch/>
        </p:blipFill>
        <p:spPr>
          <a:xfrm>
            <a:off x="3000240" y="1000080"/>
            <a:ext cx="1392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0000"/>
                </a:solidFill>
                <a:latin typeface="Gabriola"/>
              </a:rPr>
              <a:t>ИНТЕРЕСНЫЕ  ФАКТЫ</a:t>
            </a:r>
            <a:endParaRPr b="0" lang="en-US" sz="5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1052280"/>
            <a:ext cx="38797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Ежи регулярно пальцами ног расправляют и чистят свои иглы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В случае явной опасности, ежи сворачиваются в клубок. Их иглы являются надежной защитой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Общаются ежи между собой при помощи свиста.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780000" y="1125360"/>
            <a:ext cx="387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Там где живут ежи — нет змей, мышей и даже крыс. Это не доказанный, но всеми принятый фак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Зимой ежи впадают в спячк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043c"/>
                </a:solidFill>
                <a:latin typeface="Times New Roman"/>
                <a:ea typeface="Times New Roman"/>
              </a:rPr>
              <a:t>В природных условиях ежи живут в среднем 5-8 лет, а в зоопарке — до 1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 Black"/>
              </a:rPr>
              <a:t>ЗАКЛЮЧЕНИЕ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24000" y="148428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Ежи приносят больше пользы, когда живут в естественных природных условиях, уничтожая разных вредителей лесов и полей, а в неволе могут больше причинить человеку вреда, принеся в дом клеща или инфекционную боле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Содержимое 3" descr="3.jpg"/>
          <p:cNvPicPr/>
          <p:nvPr/>
        </p:nvPicPr>
        <p:blipFill>
          <a:blip r:embed="rId1"/>
          <a:stretch/>
        </p:blipFill>
        <p:spPr>
          <a:xfrm>
            <a:off x="7048440" y="19080"/>
            <a:ext cx="20718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8598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МОДЕЛИ ЕЖЕЙ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87" name="Picture 4" descr="C:\Users\user\Desktop\IMG_20231109_142202.jpg"/>
          <p:cNvPicPr/>
          <p:nvPr/>
        </p:nvPicPr>
        <p:blipFill>
          <a:blip r:embed="rId1"/>
          <a:stretch/>
        </p:blipFill>
        <p:spPr>
          <a:xfrm>
            <a:off x="4716360" y="1700280"/>
            <a:ext cx="3767400" cy="468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user\Desktop\IMG_20231109_142217.jpg"/>
          <p:cNvPicPr/>
          <p:nvPr/>
        </p:nvPicPr>
        <p:blipFill>
          <a:blip r:embed="rId2"/>
          <a:stretch/>
        </p:blipFill>
        <p:spPr>
          <a:xfrm>
            <a:off x="250920" y="1700280"/>
            <a:ext cx="374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60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 Black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002060"/>
                </a:solidFill>
                <a:latin typeface="Arial Black"/>
              </a:rPr>
              <a:t>ЗА</a:t>
            </a:r>
            <a:br>
              <a:rPr sz="9600"/>
            </a:br>
            <a:r>
              <a:rPr b="1" lang="ru-RU" sz="9600" spc="-1" strike="noStrike">
                <a:solidFill>
                  <a:srgbClr val="002060"/>
                </a:solidFill>
                <a:latin typeface="Arial Black"/>
              </a:rPr>
              <a:t>ВНИМАНИЕ!</a:t>
            </a:r>
            <a:endParaRPr b="0" lang="en-US" sz="9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"/>
          <p:cNvPicPr/>
          <p:nvPr/>
        </p:nvPicPr>
        <p:blipFill>
          <a:blip r:embed="rId1"/>
          <a:srcRect l="13392" t="21512" r="12907" b="25757"/>
          <a:stretch/>
        </p:blipFill>
        <p:spPr>
          <a:xfrm>
            <a:off x="6732720" y="5229360"/>
            <a:ext cx="2160360" cy="1454040"/>
          </a:xfrm>
          <a:prstGeom prst="rect">
            <a:avLst/>
          </a:prstGeom>
          <a:ln w="0">
            <a:noFill/>
          </a:ln>
        </p:spPr>
      </p:pic>
      <p:pic>
        <p:nvPicPr>
          <p:cNvPr id="133" name="Объект 2" descr=""/>
          <p:cNvPicPr/>
          <p:nvPr/>
        </p:nvPicPr>
        <p:blipFill>
          <a:blip r:embed="rId2"/>
          <a:stretch/>
        </p:blipFill>
        <p:spPr>
          <a:xfrm>
            <a:off x="0" y="262080"/>
            <a:ext cx="891864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Gabriola"/>
              </a:rPr>
              <a:t>           </a:t>
            </a:r>
            <a:r>
              <a:rPr b="1" lang="ru-RU" sz="5900" spc="-1" strike="noStrike">
                <a:solidFill>
                  <a:srgbClr val="ff0000"/>
                </a:solidFill>
                <a:latin typeface="Gabriola"/>
              </a:rPr>
              <a:t>ПРЕДМЕТ  ИССЛЕДОВАНИЯ</a:t>
            </a:r>
            <a:endParaRPr b="0" lang="en-US" sz="5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108000" y="1052640"/>
            <a:ext cx="92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ёж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Интересные факты о ежах для детей. 41 факт о еже"/>
          <p:cNvPicPr/>
          <p:nvPr/>
        </p:nvPicPr>
        <p:blipFill>
          <a:blip r:embed="rId1"/>
          <a:stretch/>
        </p:blipFill>
        <p:spPr>
          <a:xfrm>
            <a:off x="250920" y="2068560"/>
            <a:ext cx="7416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2268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КАКИМ ЖЕ ПРЕДСТАВЛЯЕМ СЕБЕ ЕЖА МЫ, ПЕРВОКЛАССНИКИ?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1413000"/>
            <a:ext cx="8172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В сказках и мультфильмах таскает ёж на своих иголках яблоки и грибы, делает запасы на зиму, живет в уютном домике, любит молоко и общение с людьми. Встреча с ним всегда приводит в восторг!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0000"/>
                </a:solidFill>
                <a:latin typeface="Gabriola"/>
              </a:rPr>
              <a:t>УЧАСТНИКИ  АНКЕТИРОВАНИЯ </a:t>
            </a:r>
            <a:endParaRPr b="0" lang="en-US" sz="59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435880" cy="4694400"/>
        </p:xfrm>
        <a:graphic>
          <a:graphicData uri="http://schemas.openxmlformats.org/drawingml/2006/table">
            <a:tbl>
              <a:tblPr/>
              <a:tblGrid>
                <a:gridCol w="8435880"/>
              </a:tblGrid>
              <a:tr h="103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1а клас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10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прошено – 12челове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тгадали загадки о ёжике – 8 челове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Не знают ничего о ёжике -  4 челов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678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r>
              <a:rPr b="0" i="1" lang="ru-RU" sz="5400" spc="-1" strike="noStrike">
                <a:solidFill>
                  <a:srgbClr val="ff0000"/>
                </a:solidFill>
                <a:latin typeface="Arial Black"/>
              </a:rPr>
              <a:t>НАШИ ЗАГАДКИ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140d33"/>
                </a:solidFill>
                <a:latin typeface="Arial Black"/>
              </a:rPr>
              <a:t>НЕТ УШЕЙ, НЕ ВИДНО НОЖЕК</a:t>
            </a:r>
            <a:br>
              <a:rPr sz="3600"/>
            </a:br>
            <a:r>
              <a:rPr b="1" i="1" lang="ru-RU" sz="3600" spc="-1" strike="noStrike">
                <a:solidFill>
                  <a:srgbClr val="140d33"/>
                </a:solidFill>
                <a:latin typeface="Arial Black"/>
              </a:rPr>
              <a:t>ШАР В КОЛЮЧКАХ – ЭТО…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Black"/>
              </a:rPr>
              <a:t>ПОД СОСНАМИ, ПОД ЕЛКАМИ ЛЕЖИТ МЕШОК С ИГОЛКАМИ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 КЛУБОК СВЕРНЕТСЯ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ЗЯТЬ НЕ ДАЕТСЯ. 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071600" y="4285800"/>
            <a:ext cx="371484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0043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07552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МЫ В БИБЛИОТЕКЕ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4" name="Picture 2" descr="C:\Users\user\Desktop\IMG-20231109-WA0009.jpg"/>
          <p:cNvPicPr/>
          <p:nvPr/>
        </p:nvPicPr>
        <p:blipFill>
          <a:blip r:embed="rId1"/>
          <a:stretch/>
        </p:blipFill>
        <p:spPr>
          <a:xfrm>
            <a:off x="324000" y="1484280"/>
            <a:ext cx="3373200" cy="449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user\Desktop\IMG-20231109-WA0010.jpg"/>
          <p:cNvPicPr/>
          <p:nvPr/>
        </p:nvPicPr>
        <p:blipFill>
          <a:blip r:embed="rId2"/>
          <a:stretch/>
        </p:blipFill>
        <p:spPr>
          <a:xfrm>
            <a:off x="3564000" y="1197000"/>
            <a:ext cx="41385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71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Gabriola"/>
              </a:rPr>
              <a:t>КТО  ТАКОЙ  ЁЖ?</a:t>
            </a:r>
            <a:endParaRPr b="0" lang="en-US" sz="7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752120"/>
            <a:ext cx="8424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ыкновенный ёж — это животное, активное в ночное время суток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и способны бегать со скоростью до 3 м/с, хорошо умеют плавать и прыгать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71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Я УЗНАЛ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9" name="Рисунок 1" descr="56745150_1269165976_TeBmtvxH"/>
          <p:cNvPicPr/>
          <p:nvPr/>
        </p:nvPicPr>
        <p:blipFill>
          <a:blip r:embed="rId1"/>
          <a:stretch/>
        </p:blipFill>
        <p:spPr>
          <a:xfrm>
            <a:off x="214200" y="185724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3643200" y="2286000"/>
            <a:ext cx="48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Еж- млекопитающее живот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8:34:04Z</dcterms:created>
  <dc:creator>Admin</dc:creator>
  <dc:description/>
  <dc:language>en-US</dc:language>
  <cp:lastModifiedBy>Учитель</cp:lastModifiedBy>
  <dcterms:modified xsi:type="dcterms:W3CDTF">2023-11-10T07:35:12Z</dcterms:modified>
  <cp:revision>22</cp:revision>
  <dc:subject/>
  <dc:title>Наши лесные друзья – ЕЖИ</dc:title>
</cp:coreProperties>
</file>