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9EA-0AAE-4DC4-889B-086B4681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A59-C7B7-4ED7-BA72-514964AA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98B-1688-4CD9-9AF1-393BA851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D33-60B7-46F0-A783-E861DDAC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BC0-4591-42B2-A9C4-ABCA37C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A09-D184-4CC9-912C-40FBA06E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972-5C0E-4D66-AC61-858EEE6B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D39-88D6-416A-A7FF-7FBB142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643-1798-454A-9579-D8B0429A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31D-949D-4A96-A660-4F0B094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798-E316-4C0D-BB43-0C5668C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E02-0970-4FEF-8E4B-468E586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700-973E-4C50-834E-9B6A017EC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://i.telegraph.co.uk/telegraph/multimedia/archive/01553/crab_1553545c.jpg&amp;pos=11&amp;rpt=simage&amp;lr=9&amp;nojs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os1.i.ua%2F3%2F2%2F24358_ffe51a48.jpg&amp;p=6&amp;text=&#1092;&#1086;&#1090;&#1086;%20&#1095;&#1083;&#1077;&#1085;&#1080;&#1089;&#1090;&#1086;&#1085;&#1086;&#1075;&#1080;&#1093;&amp;noreask=1&amp;pos=183&amp;lr=9&amp;rpt=simage&amp;noj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source=wiz&amp;text=&#1092;&#1086;&#1090;&#1086;%20&#1095;&#1083;&#1077;&#1085;&#1080;&#1089;&#1090;&#1086;&#1085;&#1086;&#1075;&#1080;&#1093;&amp;noreask=1&amp;img_url=http%3A%2F%2Fwww.medvopros.com%2Fimgnews%2F2572.jpg&amp;pos=13&amp;rpt=simage&amp;lr=9&amp;nojs=1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wmf"/><Relationship Id="rId3" Type="http://schemas.openxmlformats.org/officeDocument/2006/relationships/slide" Target="slide8.xml"/><Relationship Id="rId4" Type="http://schemas.openxmlformats.org/officeDocument/2006/relationships/image" Target="../media/image5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13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i.telegraph.co.uk%2Ftelegraph%2Fmultimedia%2Farchive%2F01553%2Fcrab_1553545c.jpg&amp;pos=11&amp;rpt=simage&amp;lr=9&amp;noj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stat18.privet.ru%2Flr%2F0a16b70519cc4a77b350b48dfe1d40cf&amp;pos=12&amp;rpt=simage&amp;lr=9&amp;noj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www.pereplet.ru%2Fnauka%2Fimages%2Fcrust.jpg&amp;pos=2&amp;rpt=simage&amp;lr=9&amp;nojs=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i081.radikal.ru%2F1009%2F4e%2F20e3850a5e83.jpg&amp;pos=0&amp;rpt=simage&amp;lr=9&amp;noj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elementy.ru%2Fimages%2Fnews%2Fspider_evarcha_culicivora_300.jpg&amp;pos=8&amp;rpt=simage&amp;lr=9&amp;noj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www.floranimal.ru%2Fpages%2Fanimal%2Fs%2F2773.jpg&amp;pos=9&amp;rpt=simage&amp;lr=9&amp;nojs=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lh6.ggpht.com%2F_hVOW2U7K4-M%2FSRPYWgAgfSI%2FAAAAAAAAkIU%2FBWu0zFagOZg%2Fs640%2F3457e5ytfjghjmbhmbmn.jpg&amp;pos=19&amp;rpt=simage&amp;lr=9&amp;nojs=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galeri.milliyet.com.tr%2F2008%2F2%2F8Dunyadaki_en_gosterisli_bocekler%2F28.jpg&amp;pos=8&amp;rpt=simage&amp;lr=9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img0.liveinternet.ru%2Fimages%2Fattach%2Fc%2F6%2F93%2F896%2F93896842_large_35136.JPG&amp;pos=9&amp;rpt=simage&amp;lr=9&amp;nojs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bigpicture.ru%2Fwp-content%2Fuploads%2F2011%2F01%2F234-990x778.jpg&amp;pos=4&amp;rpt=simage&amp;lr=9&amp;nojs=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://www.pitomec.ru/upload/userfiles/3405660_large.jpg&amp;p=7&amp;text=&#1092;&#1086;&#1090;&#1086;%20&#1095;&#1083;&#1077;&#1085;&#1080;&#1089;&#1090;&#1086;&#1085;&#1086;&#1075;&#1080;&#1093;&amp;noreask=1&amp;pos=232&amp;lr=9&amp;rpt=simage&amp;noj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source=wiz&amp;text=&#1092;&#1086;&#1090;&#1086;%20&#1095;&#1083;&#1077;&#1085;&#1080;&#1089;&#1090;&#1086;&#1085;&#1086;&#1075;&#1080;&#1093;&amp;noreask=1&amp;img_url=http://th979.photobucket.com/albums/ae271/bluecrabantiques/th_bluecrab.jpg&amp;pos=15&amp;rpt=simage&amp;lr=9&amp;nojs=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source=wiz&amp;img_url=http://img0.liveinternet.ru/images/attach/c/0/40/908/40908916_22.jpg&amp;p=9&amp;text=&#1092;&#1086;&#1090;&#1086;%20&#1095;&#1083;&#1077;&#1085;&#1080;&#1089;&#1090;&#1086;&#1085;&#1086;&#1075;&#1080;&#1093;&amp;noreask=1&amp;pos=275&amp;lr=9&amp;rpt=simage&amp;nojs=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104724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РИХОДИТ ЛЕТО, И ОНИ В ВЕЛИКОМ ИЗОБИЛИИ НАПОЛНЯЮТ НАШИ ЛЕСА, САДЫ, ПОЛЯ, ДАЖЕ ПУСТЫНИ. СКОЛЬКО ИХ НА ПЛАНЕТЕ? ГДЕ ТОТ ВСЕМОГУЩИЙ КОМПЬЮТЕР, СПОСОБНЫЙ ВЫРАЗИТЬ В ЦИФРАХ ЭТО НАСЕЛЕНИЕ ЗЕМЛИ? КАК ПРЕДПОЛАГАЮТ, ИХ НА ЗЕМЛЕ МИЛЛИАРД МИЛЛИАРДОВ! БОЛЬШЕ, ЧЕМ ЗВЀЗД В НАШЕЙ ГАЛАКТИКЕ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И.АКИМУШК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i?id=314029010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76600"/>
            <a:ext cx="2071800" cy="2149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Водяной паук серебрянка"/>
          <p:cNvPicPr/>
          <p:nvPr/>
        </p:nvPicPr>
        <p:blipFill>
          <a:blip r:embed="rId3"/>
          <a:stretch/>
        </p:blipFill>
        <p:spPr>
          <a:xfrm>
            <a:off x="3286080" y="4667400"/>
            <a:ext cx="271476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тветы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Ракообразные: а, г, з, п, р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аукообразные: в, д, и, м, н, с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секомые: б, е, ж , к, л, о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а  0 – 5     «2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– 10    «3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 – 14  «4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5 – 17  «5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14280" y="10717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в текст пропущенные с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?id=129570727-1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214308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i?id=171049042-6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14680" y="36432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1360" y="380880"/>
            <a:ext cx="7072200" cy="58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Monotype Corsiva"/>
              </a:rPr>
              <a:t>Торговый ряд  «Работа с текстом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первой группы "Ракообразн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ракообразных разделено на _________ и__________.  На голове расположены сложные ____________и две пары__________. Ракообразные имеют ________ходильных ног. Дыхание ракообразных обеспечивают _________. Развитие у раков _________. Кровеносная система ______________.  Половая система ________________. Среда обитания __________,  _____________  и 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второй группы "Паукообразн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пауков разделено на _________и _______. На голове расположены_________. Все пауки имеют___________. Паутина используется для строительства ________. Дыхание пауков обеспечивают__________ и ________. У пауков _______пары ног. Развитие _________. Кровеносная система ______________.  Половая система ________________. Среда обитания __________,  _____________  и 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третьей группы "Насеком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насекомых разделено на _________, ___________и ___________. На голове у насекомых расположены________глаза и ________усиков. Насекомые имеют _______ ходильных ног. Функцию дыхания у насекомых осуществляют ________ . Развитие у насекомых 2х типов с ________ и с не __________ превращением. Кровеносная система ______________.  Половая система ________________. Среда обитания __________,  _____________  и ________________. Наличие крыльев _____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Ракообразные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ракообразных разделено на (головогрудь) и (брюшко). На голове расположены сложные (глаза) и (две) пары (усиков). Ракообразные имеют (5 пар) ходильных ног. Дыхание ракообразных обеспечивают (жабры). Развитие у раков (прямое). Кровеносная система (незамкнутая). Половая система (раздельнополые). Среда обитания (водная, наземно-воздушная и организменная). Наличие крыльев (н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Паукообразные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пауков разделено на (головогрудь) и (брюшко). На голове расположены (простые) глаза. Все пауки имеют (паутинные бородавки). Паутина используется для строительства (ловчих сетей). Дыхание пауков обеспечивают (легкие) и (трахеи). У пауков (четыре) пары ходильных ног. Развитие (прямое). Кровеносная система (незамкнутая). Половая система (раздельнополые). Среда обитания (водная, наземно-воздушная и организменная). Наличие крыльев (не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116000" y="1695600"/>
            <a:ext cx="7272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Насекомые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секомых разделено на (голова), (грудь) и (брюшко). На голове у насекомых расположены (пара сложных+простые) глаза и (1 пара) усиков. Насекомые имеют   (3 пары) ходильных ног. Функцию дыхания у насекомых осуществляют (трахеи). Развитие у насекомых 2х типов с (полным) и с не (неполным) превращением. Кровеносная  система (незамкнутая). Половая система (раздельнополые). Среда обитания (водная, наземно-воздушная и организменная). Наличие крыльев (есть у большин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орговый ряд «Да или Н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rak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857920" y="1333440"/>
            <a:ext cx="1905120" cy="17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19738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000240" y="1143000"/>
            <a:ext cx="2630520" cy="276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980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4200" y="3524400"/>
            <a:ext cx="2556000" cy="2554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9768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4200" y="476280"/>
            <a:ext cx="2133720" cy="271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PICT0166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072120" y="3333600"/>
            <a:ext cx="28814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 Светоф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основных признаков членистоногих – наличие членистых конечност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Членистоногие объединяет два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рака состоит из трёх отделов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ленистоногим относятся дождевые черви, слизни, раки, моллю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еносная система у членистоногих незамкнут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аков имеет пару сложных гл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льная система представлена двумя парами железистых органов – зелёных желё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грудь у паука несёт четыре пары конечностей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уки – хищники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м дыхания всех пауков являются лёгочные меш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уки строят паутину – ловчую сеть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насчитывают более 1,5 млн. ви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секомых состоит из трёх отде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секомые имеют две пары хорошо развитых крыль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дышат всей поверхностью те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комых чётко виден половой диморфиз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ИЗКУЛЬМИНУ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ребята вста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йчас я буду вам называть животных, если они относятся к типу Членистоногих, то вы поднимайте руки вверх, если не относятся – отводите руки в стор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бу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i?id=48614839-03-72&amp;n=21"/>
          <p:cNvPicPr/>
          <p:nvPr/>
        </p:nvPicPr>
        <p:blipFill>
          <a:blip r:embed="rId1"/>
          <a:stretch/>
        </p:blipFill>
        <p:spPr>
          <a:xfrm>
            <a:off x="1143000" y="17146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?id=52565419-19-72&amp;n=21"/>
          <p:cNvPicPr/>
          <p:nvPr/>
        </p:nvPicPr>
        <p:blipFill>
          <a:blip r:embed="rId2"/>
          <a:stretch/>
        </p:blipFill>
        <p:spPr>
          <a:xfrm>
            <a:off x="6500880" y="1428840"/>
            <a:ext cx="235728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?id=415245243-68-72&amp;n=21"/>
          <p:cNvPicPr/>
          <p:nvPr/>
        </p:nvPicPr>
        <p:blipFill>
          <a:blip r:embed="rId3"/>
          <a:stretch/>
        </p:blipFill>
        <p:spPr>
          <a:xfrm>
            <a:off x="3571920" y="3929040"/>
            <a:ext cx="28573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2680" y="500040"/>
            <a:ext cx="576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haroni"/>
              </a:rPr>
              <a:t>Членистоноги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92000" y="2214360"/>
            <a:ext cx="4681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-игра по биологии с использованием интерактивных мет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j019738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7160" y="1643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98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00840" y="450072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rak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500880" y="1571760"/>
            <a:ext cx="248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7000920" y="1428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928800" y="142920"/>
            <a:ext cx="2921040" cy="120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4000680" y="71280"/>
            <a:ext cx="2171520" cy="135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5"/>
          <a:stretch/>
        </p:blipFill>
        <p:spPr>
          <a:xfrm>
            <a:off x="7000920" y="3357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6"/>
          <a:stretch/>
        </p:blipFill>
        <p:spPr>
          <a:xfrm>
            <a:off x="5143680" y="5214960"/>
            <a:ext cx="1690560" cy="145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7"/>
          <a:stretch/>
        </p:blipFill>
        <p:spPr>
          <a:xfrm>
            <a:off x="6215040" y="71280"/>
            <a:ext cx="29289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8"/>
          <a:stretch/>
        </p:blipFill>
        <p:spPr>
          <a:xfrm>
            <a:off x="4857840" y="3286080"/>
            <a:ext cx="1904760" cy="1595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9"/>
          <a:stretch/>
        </p:blipFill>
        <p:spPr>
          <a:xfrm>
            <a:off x="6838920" y="5048280"/>
            <a:ext cx="230508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10"/>
          <a:stretch/>
        </p:blipFill>
        <p:spPr>
          <a:xfrm>
            <a:off x="1214280" y="3429000"/>
            <a:ext cx="3357720" cy="150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"/>
          <p:cNvPicPr/>
          <p:nvPr/>
        </p:nvPicPr>
        <p:blipFill>
          <a:blip r:embed="rId11"/>
          <a:stretch/>
        </p:blipFill>
        <p:spPr>
          <a:xfrm>
            <a:off x="1071720" y="5048280"/>
            <a:ext cx="400032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12"/>
          <a:stretch/>
        </p:blipFill>
        <p:spPr>
          <a:xfrm>
            <a:off x="3000240" y="1500120"/>
            <a:ext cx="39290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5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бу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бабочка, стрекоза, клоп, мурав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укообраз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корпион, паук, клещ, сеноко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кообраз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аб, креветка, лангуст, цикл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1" descr="i?id=55332137-54-72&amp;n=21"/>
          <p:cNvPicPr/>
          <p:nvPr/>
        </p:nvPicPr>
        <p:blipFill>
          <a:blip r:embed="rId1"/>
          <a:stretch/>
        </p:blipFill>
        <p:spPr>
          <a:xfrm>
            <a:off x="3071880" y="1643040"/>
            <a:ext cx="3063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85520" y="213840"/>
            <a:ext cx="83581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укообраз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ногие, опасн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тут, бегают, ед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ов не стоит боятс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и нуж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   Р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ечной, морс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Населяет, обитает, лин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Ведёт ночно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Членистоно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секом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енькие, больш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зают, летают, кус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мешают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 Удивительно, но фак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5520" y="1213920"/>
            <a:ext cx="835812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1900 году в Париже на Всемирной выставке демонстрировался канат из паутины для удержания воздушного шара. Масса каната составляла всего 300 грам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714240" y="192888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Земле примерно 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емпляров насекомых, то есть по 250 млн. на каждого чело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4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42920" y="4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714240" y="2274840"/>
            <a:ext cx="821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мым крупным скоплением муравьёв на планете считается царство красных муравьёв на берегах одного из заливов японского моря. Там имеется 45 тыс. муравейников, каждый площадью по 1 квадратный метр. Все муравейники соединены между собой подземными коридо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785880" y="31431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етним днём корова бывает укушена 3-500 раз в день и теряет при этом 1 литр кров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20" y="4752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857160" y="3500280"/>
            <a:ext cx="792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 укуса  каракурта , паука длиной 1 см, часто погибают даже лошади, коровы и верблюды. В литературе описан случай, когда каракурты покусали караван верблюдов и из 173 животных пали 57. Только овцы не боятся каракуртов и спокойно поедают их вместе с тра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 (по выбору учащихс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кроссворд по теме «Тип Членистоног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загадки, стихотворения о Членистоно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уроке мне было скучно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уроке я работал неплохо -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доволен своей работой на уроке -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38052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луна навсегда померкнет, а полуденное солнце будет еле светиться темно-красным светом, когда все моря замерзнут, а полярные шапки, расползаясь, сомкнутся на экваторе... Когда давно опустевшие города рассыпятся в пыль и всякая жизнь уже будет близка к угасани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ятне лишайника, растущего на голых скалах у нетающих ледников Панамы, под лучами состарившегося Солнца будет сидеть, чистя свои усики, крошечное насекомое, печальная букашка, последний остаток жизни на нашей Земле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.Холлэ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57120" y="349200"/>
            <a:ext cx="81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s://webmg.ru/wp-content/uploads/2021/06/84-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wonder_sp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бщить и закрепить пройденный материал, восполнить пробелы в знаниях учащихся по теме членистоног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формировать навыки индивидуальной и групповой форм деятельности, навыки сотрудничества с одноклассник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мения решать головоломки,  анализировать, сопоставлять и делать вывод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познавательный интерес, потребность в знаниях, в самообразовании, стремлении к творчеству, любви  и бережному отношению к прир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143000" y="1357200"/>
            <a:ext cx="642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разделены на 3 группы, у каждой группы будет свое название, которое необходимо расшифровать на карточке и вписать вместо цифр буквы алфавита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ан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7   1   21  12  16   16   2  18   1   9  15   29  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   1   12  16  16    2   18   1    9   15   29    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5     1     19     6    12    16   14      29  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ук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к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кообраз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i?id=314029010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1785960"/>
            <a:ext cx="3025800" cy="20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279728035-4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7760" y="4000680"/>
            <a:ext cx="2952720" cy="21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?id=88825907-0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1773360"/>
            <a:ext cx="2857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укообраз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i?id=395622876-0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71760"/>
            <a:ext cx="266400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537691294-4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7840" y="1571760"/>
            <a:ext cx="31687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i?id=164097922-53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4076640"/>
            <a:ext cx="2519640" cy="178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?id=426634858-0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8000" y="4357800"/>
            <a:ext cx="2570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i?id=492827327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643040"/>
            <a:ext cx="3456000" cy="22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?id=414261072-71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773360"/>
            <a:ext cx="2736720" cy="20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i?id=374217342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00068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орговый ряд «Системат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197000"/>
            <a:ext cx="825804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ите представителей Типа Членистоногие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Ракообраз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аукообраз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секом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лангуст, б) оса, в) мучной клещ, г) креветка, д) скорпио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слепень, ж) муравей, з)циклоп, и) тарантул, к) шме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) водомерка, м) сенокосец, н) чесоточный зудень, о)стрекоза, п) мокрица, р) краб, с) карак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1" descr="i?id=55332137-5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5143680"/>
            <a:ext cx="2071800" cy="158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?id=52565419-1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i?id=683814544-0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5000760"/>
            <a:ext cx="1857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4:35Z</dcterms:created>
  <dc:creator>хосе</dc:creator>
  <dc:description>http://aida.ucoz.ru</dc:description>
  <dc:language>en-US</dc:language>
  <cp:lastModifiedBy>wwwzzzwwwzzz.w@outlook.com</cp:lastModifiedBy>
  <dcterms:modified xsi:type="dcterms:W3CDTF">2024-01-26T04:57:48Z</dcterms:modified>
  <cp:revision>24</cp:revision>
  <dc:subject/>
  <dc:title>Слайд 1</dc:title>
</cp:coreProperties>
</file>