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F5A-2CB6-40D3-9352-B64602D6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824-F45C-415C-ACDF-CF7C74A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21C-DCDE-4C51-BB22-55F7C62E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81C-33BF-4392-9604-20C60324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CDFF-73C3-4A12-808E-DF9F7DD6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A4C-2A97-430A-884B-F5CE5DE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99D8-6BDA-4A3D-977F-32B49585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8D7-8693-4F96-B1F7-BFE9399E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4851-1409-4E19-AD7E-E16A546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50E-06FA-451A-B11C-AA096EA0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3022-6843-4EED-85B4-CFFD141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996-35E9-4491-801C-00AA0A1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5571-B973-4E07-BF6A-32E041F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45C-C48A-4825-94AA-39A884E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C47-A0A0-4842-9C9E-48BDE8F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19A8-4C13-4291-ABFD-1B5537F5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FB3-3063-46F4-B34B-8051E70A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C12-514E-47C2-9441-2DA4659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D1E-FC3D-4848-9208-09DEA5D0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DAE-7F5A-4C64-A2C3-0D3F7AD6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439-2932-4BBF-86CD-FD70421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67C-B085-4D3D-B2C4-3FE8CB1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38B-C281-4EC6-BDF2-36F76CC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B7B-28C3-4BA4-BD2C-B16FF5BC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7F8-20EA-4AD0-8116-42ABCBA97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57E-3B34-4172-92D2-319142BE3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Липецкой области «Специальная школа-интернат с. Вторые Тербу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Нетрадиционные методы и приемы, используемые учителем – дефектологом на индивидуальных занятиях с детьми с ограниченными возможностями здоровья (ОВ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886200" y="5334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Подготовила: учитель – 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Т.В. Моргач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PT Astra Serif"/>
                <a:ea typeface="宋体"/>
              </a:rPr>
              <a:t>Упражнения с игольчатым мячиком. Су-джок терапия</a:t>
            </a:r>
            <a:r>
              <a:rPr b="0" i="1" lang="ru-RU" sz="2400" spc="-1" strike="noStrike">
                <a:solidFill>
                  <a:srgbClr val="19194d"/>
                </a:solidFill>
                <a:latin typeface="PT Astra Serif"/>
                <a:ea typeface="宋体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宋体"/>
              </a:rPr>
              <a:t>Упражнения с мячами нормализуют мышечный тонус,  стимулируют речевые области в коре головного мозга,  а так же способствуют общему укреплению организма и повышению потенциального энергетического уровня ребен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 «Месим тесто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мнем, мнем, мнем (перекладывать шарик из руки в руку, слегка зажимая его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жмем, жмем, жмем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калку мы возьмем (прокатывать шарик между ладонями вперед-назад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тонко раската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екать пирог постав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User\Videos\WhatsApp Image 2023-02-22 at 13.27.23 (1).jpeg"/>
          <p:cNvPicPr/>
          <p:nvPr/>
        </p:nvPicPr>
        <p:blipFill>
          <a:blip r:embed="rId1"/>
          <a:stretch/>
        </p:blipFill>
        <p:spPr>
          <a:xfrm>
            <a:off x="0" y="380880"/>
            <a:ext cx="4800600" cy="5486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User\Pictures\WhatsApp Image 2023-02-27 at 11.25.15.jpeg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изуальное распис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–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это наглядная помощь для ребенка, которая структурирует его жизнь. Как правило, визуальное расписание применяется для детей с РАС, а так же пойдет и для детей с задержкой психического развития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User\Pictures\WhatsApp Image 2023-02-27 at 11.25.10 (4).jpeg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User\Pictures\WhatsApp Image 2023-02-27 at 11.25.10 (5).jpeg"/>
          <p:cNvPicPr/>
          <p:nvPr/>
        </p:nvPicPr>
        <p:blipFill>
          <a:blip r:embed="rId2"/>
          <a:stretch/>
        </p:blipFill>
        <p:spPr>
          <a:xfrm>
            <a:off x="4724280" y="2133720"/>
            <a:ext cx="41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609480" y="8906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Дети с ОВЗ нуждаются в особом внимании дефектологов, логопедов, психологов, родителей. Систематическое использование в коррекционной работе элементов коррекционной педагогики позволяет результативнее формировать  познавательные процессы с учетом индивидуально-психологических особенностей детей. Большой ценностью нетрадиционных технологий является возможность работать с  внутренним миром ребенка, не требовать от него «правильного» результата, а наблюдать за изменением его психического состояния и вовремя прийти к нему на помощь или порадоваться вместе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s://avatars.mds.yandex.net/i?id=39af5177c9441698e2f6bb9204fbf547e5814fde-7663734-images-thumbs&amp;n=13"/>
          <p:cNvPicPr/>
          <p:nvPr/>
        </p:nvPicPr>
        <p:blipFill>
          <a:blip r:embed="rId1"/>
          <a:stretch/>
        </p:blipFill>
        <p:spPr>
          <a:xfrm>
            <a:off x="838080" y="99072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ети с ограниченными возможностями здоровья имеют временные или постоянные  отклонения  в  психическом и  физическом развитии, что препятствует освоению образовательных программ вне специальных условий обучения</a:t>
            </a:r>
            <a:r>
              <a:rPr b="1" lang="ru-RU" sz="2000" spc="-1" strike="noStrike">
                <a:solidFill>
                  <a:srgbClr val="1919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Arial"/>
              </a:rPr>
              <a:t>Главная задача в работе с такими детьми открыть дверь в этот мир, научить общаться, воспринимать себя в этом мире, воспитать духовно-нравственные качества,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говорил ученый и философ Цицерон: </a:t>
            </a:r>
            <a:br>
              <a:rPr sz="4000"/>
            </a:br>
            <a:r>
              <a:rPr b="0" lang="ru-RU" sz="4000" spc="-1" strike="noStrike">
                <a:solidFill>
                  <a:srgbClr val="161645"/>
                </a:solidFill>
                <a:latin typeface="Arial"/>
              </a:rPr>
              <a:t>«Наш особый долг заключается в том, что, если кто-либо особенно нуждается в нашей помощи, мы должны приложить все силы к тому, чтобы помочь этому человек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https://fs.znanio.ru/methodology/images/b7/49/b749497836153975f179a0f76a0016ae883c27f7.jpg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7200" y="380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Разнообразные нетрадиционные</a:t>
            </a: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 методы и приемы предотвращают утомление, поддерживают познавательную активность детей и повышают эффективность 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работы в целом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гры с природным материалом</a:t>
            </a:r>
            <a:r>
              <a:rPr b="0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- водой, песком, шишками, каштанами, желудями, крупой -  широко используются в корекционно -развивающей работе с данной категорией детей. Массаж «дарами природы»- шишками, каштанами, жёлудями, оре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User\Videos\a72b15ed-7964-4ff1-bc61-8c7583b28fc0.jpg"/>
          <p:cNvPicPr/>
          <p:nvPr/>
        </p:nvPicPr>
        <p:blipFill>
          <a:blip r:embed="rId1"/>
          <a:stretch/>
        </p:blipFill>
        <p:spPr>
          <a:xfrm>
            <a:off x="228600" y="24382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User\Videos\WhatsApp Image 2023-02-22 at 13.27.23 (10).jpeg"/>
          <p:cNvPicPr/>
          <p:nvPr/>
        </p:nvPicPr>
        <p:blipFill>
          <a:blip r:embed="rId2"/>
          <a:stretch/>
        </p:blipFill>
        <p:spPr>
          <a:xfrm>
            <a:off x="4952880" y="2438280"/>
            <a:ext cx="4191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Videos\WhatsApp Image 2023-02-22 at 13.27.23.jpeg"/>
          <p:cNvPicPr/>
          <p:nvPr/>
        </p:nvPicPr>
        <p:blipFill>
          <a:blip r:embed="rId1"/>
          <a:stretch/>
        </p:blipFill>
        <p:spPr>
          <a:xfrm>
            <a:off x="228600" y="228600"/>
            <a:ext cx="4343400" cy="502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C:\Users\User\Videos\WhatsApp Image 2023-02-22 at 13.27.23 (2).jpeg"/>
          <p:cNvPicPr/>
          <p:nvPr/>
        </p:nvPicPr>
        <p:blipFill>
          <a:blip r:embed="rId2"/>
          <a:stretch/>
        </p:blipFill>
        <p:spPr>
          <a:xfrm>
            <a:off x="4800600" y="1219320"/>
            <a:ext cx="4114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чная терапия.</a:t>
            </a:r>
            <a:br>
              <a:rPr sz="2000"/>
            </a:b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гры на песке – одна из форм естественной деятельности ребенка. Именно поэтому мы, взрослые, можем использовать песочницу в развивающих и обучающих занятиях. Строя картины из песка, придумывая различные истории, мы в органичной для ребенка форме передаем ему наши знания и жизненный опыт</a:t>
            </a: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ser\Videos\WhatsApp Image 2023-02-22 at 13.27.23 (3).jpeg"/>
          <p:cNvPicPr/>
          <p:nvPr/>
        </p:nvPicPr>
        <p:blipFill>
          <a:blip r:embed="rId1"/>
          <a:stretch/>
        </p:blipFill>
        <p:spPr>
          <a:xfrm>
            <a:off x="4876920" y="2362320"/>
            <a:ext cx="426708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User\Pictures\WhatsApp Image 2023-02-27 at 11.25.19 (1).jpeg"/>
          <p:cNvPicPr/>
          <p:nvPr/>
        </p:nvPicPr>
        <p:blipFill>
          <a:blip r:embed="rId2"/>
          <a:stretch/>
        </p:blipFill>
        <p:spPr>
          <a:xfrm>
            <a:off x="380880" y="236232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ростых и доступных методов коррекции проблем у детей с ОВЗ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ческие упраж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Эти упражнения позволяют создать новые нейронные связи и способствуют развитию межполушарного взаимодейств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380880" y="213372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имеры </a:t>
            </a: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кинезиологических упражн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ечко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- поочередно перебирать пальцы рук, соединяя в кольцо большой палец и последовательно все пальцы. «Пальчики здоровают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лак-ребро-ладонь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- на столе последовательно, сменяя друг друга, выполняются следующие положения рук: ладонь на плоскости, ладонь сжатая в кулак, ладонь ребром. Выполнять 8-10 раз. Выполняется отдельно каждой рукой, затем двумя руками вместе в среднем и быстром тем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-нос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левой рукой - кончик носа, а правой - за противоположное ухо и меняем местами. Одновременно отпустите ухо – нос, хлопните в ладоши, поменяйте положение рук с точностью до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User\Videos\WhatsApp Image 2023-02-22 at 13.27.23 (7).jpeg"/>
          <p:cNvPicPr/>
          <p:nvPr/>
        </p:nvPicPr>
        <p:blipFill>
          <a:blip r:embed="rId1"/>
          <a:stretch/>
        </p:blipFill>
        <p:spPr>
          <a:xfrm>
            <a:off x="304920" y="457200"/>
            <a:ext cx="419076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Videos\WhatsApp Image 2023-02-22 at 13.27.23 (9).jpeg"/>
          <p:cNvPicPr/>
          <p:nvPr/>
        </p:nvPicPr>
        <p:blipFill>
          <a:blip r:embed="rId2"/>
          <a:stretch/>
        </p:blipFill>
        <p:spPr>
          <a:xfrm>
            <a:off x="4419720" y="1371600"/>
            <a:ext cx="4419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23-02-28T08:40:45Z</dcterms:modified>
  <cp:revision>31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