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77B0-AB43-4EBD-A1FB-900DE0D1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617-BABC-41AD-919E-40C03068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1DA7-2205-4718-BEFC-91D18980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30A-FBF4-468A-8087-3C8E3480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5D1F-C8E0-416C-A84D-513DA7F0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79EE-0480-4755-A4F1-16B17DD9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B85B-7182-4D3C-851F-0B25D030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F1CD-B644-4C38-B049-32059844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54FA-26A1-46F3-A5E4-198CE377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CA09-747E-404F-BEA2-CE866917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DF0F-558B-4BD7-AE8C-455B0260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29AF-99F4-4EA7-9F8D-040842C1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22CD-76C3-42F0-9D87-689C4806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2F15-EAE7-4A6A-9746-A1B2EED4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40CE-741B-4432-9C17-9EE7FE1B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AD02-90F1-4321-94DB-FE1C5E98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7317-F7DE-44FE-B6FB-1307DA53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D9F-0A83-4031-B6F9-8EB6EF19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8528-4C14-489C-8D82-74103F70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707-F934-4787-8302-08D818C8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DE5-F596-4BFD-95BF-1E3182CA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21EA-5A3C-40A2-949F-85281B79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BCCD-E192-4734-B183-F2CEF4DE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C92-B181-459B-B8FD-987B9468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639D-B9D1-4742-8571-8C9559ADB0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8A0D-D0AD-4470-893A-A084A88F6A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Липецкой области «Специальная школа-интернат с. Вторые Тербу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Нетрадиционные методы и приемы, используемые учителем – дефектологом на индивидуальных занятиях с детьми с ограниченными возможностями здоровья (ОВЗ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3886200" y="5334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Подготовила: учитель – дефект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Т.В. Моргаче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600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9194d"/>
                </a:solidFill>
                <a:latin typeface="PT Astra Serif"/>
                <a:ea typeface="宋体"/>
              </a:rPr>
              <a:t>Упражнения с игольчатым мячиком. Су-джок терапия</a:t>
            </a:r>
            <a:r>
              <a:rPr b="0" i="1" lang="ru-RU" sz="2400" spc="-1" strike="noStrike">
                <a:solidFill>
                  <a:srgbClr val="19194d"/>
                </a:solidFill>
                <a:latin typeface="PT Astra Serif"/>
                <a:ea typeface="宋体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宋体"/>
              </a:rPr>
              <a:t>Упражнения с мячами нормализуют мышечный тонус,  стимулируют речевые области в коре головного мозга,  а так же способствуют общему укреплению организма и повышению потенциального энергетического уровня ребенк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е «Месим тесто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о мнем, мнем, мнем (перекладывать шарик из руки в руку, слегка зажимая его)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о жмем, жмем, жмем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скалку мы возьмем (прокатывать шарик между ладонями вперед-назад)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о тонко раскатае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екать пирог постави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Users\User\Videos\WhatsApp Image 2023-02-22 at 13.27.23 (1).jpeg"/>
          <p:cNvPicPr/>
          <p:nvPr/>
        </p:nvPicPr>
        <p:blipFill>
          <a:blip r:embed="rId1"/>
          <a:stretch/>
        </p:blipFill>
        <p:spPr>
          <a:xfrm>
            <a:off x="0" y="380880"/>
            <a:ext cx="4800600" cy="5486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User\Pictures\WhatsApp Image 2023-02-27 at 11.25.15.jpeg"/>
          <p:cNvPicPr/>
          <p:nvPr/>
        </p:nvPicPr>
        <p:blipFill>
          <a:blip r:embed="rId2"/>
          <a:stretch/>
        </p:blipFill>
        <p:spPr>
          <a:xfrm>
            <a:off x="4267080" y="1295280"/>
            <a:ext cx="48769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Визуальное расписание</a:t>
            </a: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 –</a:t>
            </a:r>
            <a:br>
              <a:rPr sz="2400"/>
            </a:b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 это наглядная помощь для ребенка, которая структурирует его жизнь. Как правило, визуальное расписание применяется для детей с РАС, а так же пойдет и для детей с задержкой психического развития дете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Users\User\Pictures\WhatsApp Image 2023-02-27 at 11.25.10 (4).jpeg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Users\User\Pictures\WhatsApp Image 2023-02-27 at 11.25.10 (5).jpeg"/>
          <p:cNvPicPr/>
          <p:nvPr/>
        </p:nvPicPr>
        <p:blipFill>
          <a:blip r:embed="rId2"/>
          <a:stretch/>
        </p:blipFill>
        <p:spPr>
          <a:xfrm>
            <a:off x="4724280" y="2133720"/>
            <a:ext cx="4172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2"/>
          <p:cNvSpPr/>
          <p:nvPr/>
        </p:nvSpPr>
        <p:spPr>
          <a:xfrm>
            <a:off x="609480" y="89064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Arial"/>
              </a:rPr>
              <a:t>Дети с ОВЗ нуждаются в особом внимании дефектологов, логопедов, психологов, родителей. Систематическое использование в коррекционной работе элементов коррекционной педагогики позволяет результативнее формировать  познавательные процессы с учетом индивидуально-психологических особенностей детей. Большой ценностью нетрадиционных технологий является возможность работать с  внутренним миром ребенка, не требовать от него «правильного» результата, а наблюдать за изменением его психического состояния и вовремя прийти к нему на помощь или порадоваться вместе с н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s://avatars.mds.yandex.net/i?id=39af5177c9441698e2f6bb9204fbf547e5814fde-7663734-images-thumbs&amp;n=13"/>
          <p:cNvPicPr/>
          <p:nvPr/>
        </p:nvPicPr>
        <p:blipFill>
          <a:blip r:embed="rId1"/>
          <a:stretch/>
        </p:blipFill>
        <p:spPr>
          <a:xfrm>
            <a:off x="838080" y="990720"/>
            <a:ext cx="716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Дети с ограниченными возможностями здоровья имеют временные или постоянные  отклонения  в  психическом и  физическом развитии, что препятствует освоению образовательных программ вне специальных условий обучения</a:t>
            </a:r>
            <a:r>
              <a:rPr b="1" lang="ru-RU" sz="2000" spc="-1" strike="noStrike">
                <a:solidFill>
                  <a:srgbClr val="19194d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2590920"/>
            <a:ext cx="7696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Arial"/>
              </a:rPr>
              <a:t>Главная задача в работе с такими детьми открыть дверь в этот мир, научить общаться, воспринимать себя в этом мире, воспитать духовно-нравственные качества, развивать творческие спосо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говорил ученый и философ Цицерон: </a:t>
            </a:r>
            <a:br>
              <a:rPr sz="4000"/>
            </a:br>
            <a:r>
              <a:rPr b="0" lang="ru-RU" sz="4000" spc="-1" strike="noStrike">
                <a:solidFill>
                  <a:srgbClr val="161645"/>
                </a:solidFill>
                <a:latin typeface="Arial"/>
              </a:rPr>
              <a:t>«Наш особый долг заключается в том, что, если кто-либо особенно нуждается в нашей помощи, мы должны приложить все силы к тому, чтобы помочь этому человеку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https://fs.znanio.ru/methodology/images/b7/49/b749497836153975f179a0f76a0016ae883c27f7.jpg"/>
          <p:cNvPicPr/>
          <p:nvPr/>
        </p:nvPicPr>
        <p:blipFill>
          <a:blip r:embed="rId1"/>
          <a:stretch/>
        </p:blipFill>
        <p:spPr>
          <a:xfrm>
            <a:off x="380880" y="1447920"/>
            <a:ext cx="8305920" cy="51814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457200" y="38088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45"/>
                </a:solidFill>
                <a:latin typeface="Arial"/>
              </a:rPr>
              <a:t>Разнообразные нетрадиционные</a:t>
            </a: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 методы и приемы предотвращают утомление, поддерживают познавательную активность детей и повышают эффективность </a:t>
            </a:r>
            <a:r>
              <a:rPr b="1" lang="ru-RU" sz="2000" spc="-1" strike="noStrike">
                <a:solidFill>
                  <a:srgbClr val="161645"/>
                </a:solidFill>
                <a:latin typeface="Arial"/>
              </a:rPr>
              <a:t>работы в целом</a:t>
            </a:r>
            <a:r>
              <a:rPr b="0" lang="ru-RU" sz="1800" spc="-1" strike="noStrike">
                <a:solidFill>
                  <a:srgbClr val="161645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Игры с природным материалом</a:t>
            </a:r>
            <a:r>
              <a:rPr b="0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 - водой, песком, шишками, каштанами, желудями, крупой -  широко используются в корекционно -развивающей работе с данной категорией детей. Массаж «дарами природы»- шишками, каштанами, жёлудями, орех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:\Users\User\Videos\a72b15ed-7964-4ff1-bc61-8c7583b28fc0.jpg"/>
          <p:cNvPicPr/>
          <p:nvPr/>
        </p:nvPicPr>
        <p:blipFill>
          <a:blip r:embed="rId1"/>
          <a:stretch/>
        </p:blipFill>
        <p:spPr>
          <a:xfrm>
            <a:off x="228600" y="2438280"/>
            <a:ext cx="4038480" cy="4267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:\Users\User\Videos\WhatsApp Image 2023-02-22 at 13.27.23 (10).jpeg"/>
          <p:cNvPicPr/>
          <p:nvPr/>
        </p:nvPicPr>
        <p:blipFill>
          <a:blip r:embed="rId2"/>
          <a:stretch/>
        </p:blipFill>
        <p:spPr>
          <a:xfrm>
            <a:off x="4952880" y="2438280"/>
            <a:ext cx="4191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User\Videos\WhatsApp Image 2023-02-22 at 13.27.23.jpeg"/>
          <p:cNvPicPr/>
          <p:nvPr/>
        </p:nvPicPr>
        <p:blipFill>
          <a:blip r:embed="rId1"/>
          <a:stretch/>
        </p:blipFill>
        <p:spPr>
          <a:xfrm>
            <a:off x="228600" y="228600"/>
            <a:ext cx="4343400" cy="5029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4" descr="C:\Users\User\Videos\WhatsApp Image 2023-02-22 at 13.27.23 (2).jpeg"/>
          <p:cNvPicPr/>
          <p:nvPr/>
        </p:nvPicPr>
        <p:blipFill>
          <a:blip r:embed="rId2"/>
          <a:stretch/>
        </p:blipFill>
        <p:spPr>
          <a:xfrm>
            <a:off x="4800600" y="1219320"/>
            <a:ext cx="4114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1532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очная терапия.</a:t>
            </a:r>
            <a:br>
              <a:rPr sz="2000"/>
            </a:br>
            <a:r>
              <a:rPr b="0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Игры на песке – одна из форм естественной деятельности ребенка. Именно поэтому мы, взрослые, можем использовать песочницу в развивающих и обучающих занятиях. Строя картины из песка, придумывая различные истории, мы в органичной для ребенка форме передаем ему наши знания и жизненный опыт</a:t>
            </a: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User\Videos\WhatsApp Image 2023-02-22 at 13.27.23 (3).jpeg"/>
          <p:cNvPicPr/>
          <p:nvPr/>
        </p:nvPicPr>
        <p:blipFill>
          <a:blip r:embed="rId1"/>
          <a:stretch/>
        </p:blipFill>
        <p:spPr>
          <a:xfrm>
            <a:off x="4876920" y="2362320"/>
            <a:ext cx="4267080" cy="4495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User\Pictures\WhatsApp Image 2023-02-27 at 11.25.19 (1).jpeg"/>
          <p:cNvPicPr/>
          <p:nvPr/>
        </p:nvPicPr>
        <p:blipFill>
          <a:blip r:embed="rId2"/>
          <a:stretch/>
        </p:blipFill>
        <p:spPr>
          <a:xfrm>
            <a:off x="380880" y="2362320"/>
            <a:ext cx="4267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3818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простых и доступных методов коррекции проблем у детей с ОВЗ являю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зиологические упраж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Эти упражнения позволяют создать новые нейронные связи и способствуют развитию межполушарного взаимодейств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380880" y="2133720"/>
            <a:ext cx="7772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Примеры </a:t>
            </a:r>
            <a:r>
              <a:rPr b="1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кинезиологических упражн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лечко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- поочередно перебирать пальцы рук, соединяя в кольцо большой палец и последовательно все пальцы. «Пальчики здороваютс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улак-ребро-ладонь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- на столе последовательно, сменяя друг друга, выполняются следующие положения рук: ладонь на плоскости, ладонь сжатая в кулак, ладонь ребром. Выполнять 8-10 раз. Выполняется отдельно каждой рукой, затем двумя руками вместе в среднем и быстром тем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о-нос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левой рукой - кончик носа, а правой - за противоположное ухо и меняем местами. Одновременно отпустите ухо – нос, хлопните в ладоши, поменяйте положение рук с точностью до наобор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C:\Users\User\Videos\WhatsApp Image 2023-02-22 at 13.27.23 (7).jpeg"/>
          <p:cNvPicPr/>
          <p:nvPr/>
        </p:nvPicPr>
        <p:blipFill>
          <a:blip r:embed="rId1"/>
          <a:stretch/>
        </p:blipFill>
        <p:spPr>
          <a:xfrm>
            <a:off x="304920" y="457200"/>
            <a:ext cx="4190760" cy="5029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User\Videos\WhatsApp Image 2023-02-22 at 13.27.23 (9).jpeg"/>
          <p:cNvPicPr/>
          <p:nvPr/>
        </p:nvPicPr>
        <p:blipFill>
          <a:blip r:embed="rId2"/>
          <a:stretch/>
        </p:blipFill>
        <p:spPr>
          <a:xfrm>
            <a:off x="4419720" y="1371600"/>
            <a:ext cx="4419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User</cp:lastModifiedBy>
  <dcterms:modified xsi:type="dcterms:W3CDTF">2023-02-28T08:40:45Z</dcterms:modified>
  <cp:revision>31</cp:revision>
  <dc:subject/>
  <dc:title>Заголовок слай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Version">
    <vt:r8>1</vt:r8>
  </property>
</Properties>
</file>