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0A1-ADAB-4963-BDC8-DA135E70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621-9E8C-4DEA-8CD8-ECC5411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F4D-3D39-43AF-93F7-7A5416C3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23B-5F4F-4B1A-9412-557DB107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3BF-D865-44D8-A81B-D31D86E3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542-A7F4-448C-9097-D1BF96A3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18EF-031B-4C86-ACC3-51E408EE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FE62-AF80-40C4-9EA4-7F70C7A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EE4-211B-4BB0-8B5E-6C8E687E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766-E9D9-4706-905A-D81D7CC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04DE-B7E7-4615-9AC1-6407075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385-13CC-41F5-8BF0-A8E98DEE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3E6-D372-494D-AB64-D5F0F3C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8537-5B7F-4639-9D37-EE55B60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CC6C-55E0-4D77-89DE-AF94EC52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3FA4-4F58-4C09-9173-766559C8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30B-7EE7-4DDC-A330-32AADCC0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10F0-EF7D-4F6C-8813-4A80E83B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43E2-4738-4C2C-9D1B-34C830CA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02D2-1BC8-4970-B6AA-AF078A65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850E-F77E-4827-BB7B-3E5A9E95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1904-549A-46F6-AE3A-46EEA0B7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63D-2B82-4269-AB5F-7E10FC53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9485-B998-44C7-9E1D-ED8726E9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36CD-7E7C-4865-AA25-26FB003D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07BC-4527-45B7-9B46-E75F6A2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0633-369E-45C5-A407-8FBF983A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8493-BEFA-42C9-A1AD-64678F77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1925-2E55-4EB1-8A43-2F2C18AA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FD53-C122-4658-B957-84EB0BA7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C2BE-D8E7-40AB-9B4D-F3230832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2027-EA4B-4573-9332-5CDB2B76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F073-3584-439B-ABCE-3E32A1FA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3A7-7138-4DEF-B7D9-58F7D85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5126-92A0-46B9-AD55-05438FA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8183-F9D0-44C7-B675-4EDFDB35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7B9D-E19B-4070-9DFD-1CBB3F32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D4F6-7E7D-42C7-A0B1-CE932637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0C91A-93E5-46EE-B237-75C88AA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DFF72-117B-4CD5-92A0-3721026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A6E0-55F6-448C-A8BC-28B749BE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80BA-49DA-4F8D-B179-CAE996D5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2B8D-25D1-4FCF-8D28-2CBD6CB7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AFA-46EE-4207-8B87-86DD253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1AD-98D1-433F-BCE3-6E0D40C4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B26-DBC3-4C1A-9601-34FA130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CA9-3212-4C36-A550-358C23B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7C1-F958-47FC-B23E-A93C745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BBE7-E43A-4B95-83FA-8BF171F8E9A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128-07C6-43AD-A74C-7725F2F5D69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4C85-ADB7-418D-8D33-0BEB8892228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C7C0-1E79-440F-9743-DDCDB0ED9E8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692000" y="5690880"/>
            <a:ext cx="5995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rebuchet MS"/>
              </a:rPr>
              <a:t>«Родная деревня»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8" descr=""/>
          <p:cNvPicPr/>
          <p:nvPr/>
        </p:nvPicPr>
        <p:blipFill>
          <a:blip r:embed="rId1"/>
          <a:stretch/>
        </p:blipFill>
        <p:spPr>
          <a:xfrm>
            <a:off x="30240" y="19080"/>
            <a:ext cx="7961400" cy="4906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rub1f"/>
          <p:cNvPicPr/>
          <p:nvPr/>
        </p:nvPicPr>
        <p:blipFill>
          <a:blip r:embed="rId2"/>
          <a:stretch/>
        </p:blipFill>
        <p:spPr>
          <a:xfrm>
            <a:off x="2771640" y="1252440"/>
            <a:ext cx="35402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8" descr="photo178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889680"/>
          </a:xfrm>
          <a:prstGeom prst="rect">
            <a:avLst/>
          </a:prstGeom>
          <a:ln w="25560">
            <a:solidFill>
              <a:srgbClr val="666699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2"/>
          <a:stretch/>
        </p:blipFill>
        <p:spPr>
          <a:xfrm>
            <a:off x="969840" y="1603440"/>
            <a:ext cx="74185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J:\Литературный вечер\13852147-oe----noe-------noen--------------n----------n--n----n------n--------n--n-n-n-------nfn----n-----n-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2" name="Заголовок 2" descr=""/>
          <p:cNvPicPr/>
          <p:nvPr/>
        </p:nvPicPr>
        <p:blipFill>
          <a:blip r:embed="rId2"/>
          <a:stretch/>
        </p:blipFill>
        <p:spPr>
          <a:xfrm>
            <a:off x="2193840" y="2335320"/>
            <a:ext cx="75358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J:\Литературный вечер\IMG_4901web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5" name="Заголовок 2" descr=""/>
          <p:cNvPicPr/>
          <p:nvPr/>
        </p:nvPicPr>
        <p:blipFill>
          <a:blip r:embed="rId2"/>
          <a:stretch/>
        </p:blipFill>
        <p:spPr>
          <a:xfrm>
            <a:off x="-79200" y="4962600"/>
            <a:ext cx="7205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J:\Литературный вечер\82530848_4514961_tihaya_moya_rod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8" name="Заголовок 2" descr=""/>
          <p:cNvPicPr/>
          <p:nvPr/>
        </p:nvPicPr>
        <p:blipFill>
          <a:blip r:embed="rId2"/>
          <a:stretch/>
        </p:blipFill>
        <p:spPr>
          <a:xfrm>
            <a:off x="1401840" y="4413240"/>
            <a:ext cx="80769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рья</dc:creator>
  <dc:description>rusedu.ru</dc:description>
  <dc:language>en-US</dc:language>
  <cp:lastModifiedBy>Дарья</cp:lastModifiedBy>
  <dcterms:modified xsi:type="dcterms:W3CDTF">2014-02-05T18:29:32Z</dcterms:modified>
  <cp:revision>23</cp:revision>
  <dc:subject/>
  <dc:title>Николай Рубц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7000000000001024140</vt:lpwstr>
  </property>
</Properties>
</file>