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BAE-FBB3-4BE1-B9BB-95C8CDE7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32D-9528-4201-870C-101AEC1F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1CA-A1FE-43AD-8721-A780DFC4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52F-CC31-461B-90EC-0D9DBBBC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DFED-2F90-449B-AF84-2D181FAF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B365-90E9-4F87-8AEA-1F6BA525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5FC9-AAFE-4A65-AE40-1E70EEC5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D020-6A0C-4481-A2FA-6E2D899F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A902-FEC5-49A8-A916-5A181066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1892-9A57-4380-ACDD-3086C338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43F9-798A-494C-992C-0F01D7FC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8DA-4BD8-4173-B62A-1006581D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95D3-6B2F-4216-A481-C9F1A9EB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E869-38AD-4D8A-BF15-F964F49C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56BE-F3B7-4FFD-B285-C4FDDE33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155B-71BB-493E-8BCD-D8AF96D5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6109-39CC-4021-8EF0-4A535F13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36683-6815-4815-A667-927F0DC5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2E50-9D5F-4F92-A391-77C97EE1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E4BD-ED9C-4EDC-829C-AB13A681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5AD3-9746-4A2D-969D-2A73257A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97873-1F92-4924-9C93-F43C7C2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C94-586E-4F6C-8E9C-52752495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7800E-718C-43EA-BCDB-81A0D50D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1D9F-7B05-461F-80A5-88A9001F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4959-969D-4474-89D4-280480A4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F5EB-5358-477B-A2AB-D5F67949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CF5E-C27D-4D7B-8E34-F6986CDB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56D2-7C33-472A-98E2-C9D3D435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D8D7-017A-4597-9DDC-EA171455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AE3A9-AA7D-4D3D-AB7F-57F87F05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2465E-C7D9-4D1E-91E4-0640FF9E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A81F3-08A1-4FF4-A46B-D8DB6BAD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589-21E9-4CA5-9DF2-1C4765FC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463A-056B-4562-981D-22BFADEE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294ED-E5D5-48FD-8874-EDE9922C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A182-4A55-496E-8F3F-1AF71863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B061-249C-4D63-B217-7A5E8E51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82F87-8B93-4AEF-8BA7-F7E8371F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35843-4C02-4C62-9E84-2EECB974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6DC4-CD34-4A1C-9721-57151788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A607-23DC-4D74-845C-E43254A1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10DCA-57C4-4EFB-BE51-7DB31BB9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6EE-2396-44DF-AA63-FC589CF5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5A1-730F-4C28-8086-DE501A5F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C3C-0D1A-4D01-BA97-4F2B640E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FD9-4E87-4C2B-8494-63D4D92D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2CD-8F04-4130-A2F2-7D1CED5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0736-7410-4EE9-A228-FBC00BB62AE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9E9C-8FAF-4AE7-B86F-BC877161DD2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B9A5-5AEB-4ED4-8472-8F285C01E7D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A0DD-7C20-4D81-8192-E67BB71A1A9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692000" y="5690880"/>
            <a:ext cx="5995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rebuchet MS"/>
              </a:rPr>
              <a:t>«Родная деревня»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8" descr=""/>
          <p:cNvPicPr/>
          <p:nvPr/>
        </p:nvPicPr>
        <p:blipFill>
          <a:blip r:embed="rId1"/>
          <a:stretch/>
        </p:blipFill>
        <p:spPr>
          <a:xfrm>
            <a:off x="30240" y="19080"/>
            <a:ext cx="7961400" cy="4906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rub1f"/>
          <p:cNvPicPr/>
          <p:nvPr/>
        </p:nvPicPr>
        <p:blipFill>
          <a:blip r:embed="rId2"/>
          <a:stretch/>
        </p:blipFill>
        <p:spPr>
          <a:xfrm>
            <a:off x="2771640" y="1252440"/>
            <a:ext cx="35402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8" descr="photo178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889680"/>
          </a:xfrm>
          <a:prstGeom prst="rect">
            <a:avLst/>
          </a:prstGeom>
          <a:ln w="25560">
            <a:solidFill>
              <a:srgbClr val="666699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19" name="Заголовок 2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4185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J:\Литературный вечер\13852147-oe----noe-------noen--------------n----------n--n----n------n--------n--n-n-n-------nfn----n-----n-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22" name="Заголовок 2" descr=""/>
          <p:cNvPicPr/>
          <p:nvPr/>
        </p:nvPicPr>
        <p:blipFill>
          <a:blip r:embed="rId2"/>
          <a:stretch/>
        </p:blipFill>
        <p:spPr>
          <a:xfrm>
            <a:off x="2193840" y="2335320"/>
            <a:ext cx="75358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J:\Литературный вечер\IMG_4901web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25" name="Заголовок 2" descr=""/>
          <p:cNvPicPr/>
          <p:nvPr/>
        </p:nvPicPr>
        <p:blipFill>
          <a:blip r:embed="rId2"/>
          <a:stretch/>
        </p:blipFill>
        <p:spPr>
          <a:xfrm>
            <a:off x="-79200" y="4962600"/>
            <a:ext cx="7205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J:\Литературный вечер\82530848_4514961_tihaya_moya_rodi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28" name="Заголовок 2" descr=""/>
          <p:cNvPicPr/>
          <p:nvPr/>
        </p:nvPicPr>
        <p:blipFill>
          <a:blip r:embed="rId2"/>
          <a:stretch/>
        </p:blipFill>
        <p:spPr>
          <a:xfrm>
            <a:off x="1401840" y="4413240"/>
            <a:ext cx="80769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рья</dc:creator>
  <dc:description>rusedu.ru</dc:description>
  <dc:language>en-US</dc:language>
  <cp:lastModifiedBy>Дарья</cp:lastModifiedBy>
  <dcterms:modified xsi:type="dcterms:W3CDTF">2014-02-05T18:29:32Z</dcterms:modified>
  <cp:revision>23</cp:revision>
  <dc:subject/>
  <dc:title>Николай Рубц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7000000000001024140</vt:lpwstr>
  </property>
</Properties>
</file>