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2346-56DE-4176-B3F8-43C2589A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D44-DA52-4C0A-B582-EC32D18B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83A4-CB30-4494-B0AC-55D74170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2A8-4BEE-41B3-9068-BDC00487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23E9-9C78-4269-BB0F-55508B50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5E5-4391-4CCC-A56D-1FA04427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D7EC-6085-4950-ACB1-83AF6CDC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7A93-166C-447D-B899-EB7C6406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E87-07CB-4435-8DCA-A024BD10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6F36-AA8A-4604-8F74-D4B2A596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AF7D-CCA9-49B3-9EC0-028A3B26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27E-4F62-4DEE-BD38-C80D55C4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a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83B9-DB96-4C07-A5DA-09C5F1CCD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atangChe"/>
                <a:ea typeface="BatangChe"/>
              </a:rPr>
              <a:t>А.С. Пушкин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BatangChe"/>
                <a:ea typeface="BatangChe"/>
              </a:rPr>
              <a:t>«Ня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fa4a05119e8a"/>
          <p:cNvPicPr/>
          <p:nvPr/>
        </p:nvPicPr>
        <p:blipFill>
          <a:blip r:embed="rId1"/>
          <a:stretch/>
        </p:blipFill>
        <p:spPr>
          <a:xfrm>
            <a:off x="2987640" y="333360"/>
            <a:ext cx="3228840" cy="247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Рисунок1"/>
          <p:cNvPicPr/>
          <p:nvPr/>
        </p:nvPicPr>
        <p:blipFill>
          <a:blip r:embed="rId2"/>
          <a:stretch/>
        </p:blipFill>
        <p:spPr>
          <a:xfrm>
            <a:off x="611280" y="2444760"/>
            <a:ext cx="3578040" cy="417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5076720" y="2444760"/>
            <a:ext cx="3576600" cy="417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252360" y="549000"/>
            <a:ext cx="9577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Подруга дней моих суровых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                        Голубка дряхлая моя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Рисунок43"/>
          <p:cNvPicPr/>
          <p:nvPr/>
        </p:nvPicPr>
        <p:blipFill>
          <a:blip r:embed="rId1"/>
          <a:stretch/>
        </p:blipFill>
        <p:spPr>
          <a:xfrm>
            <a:off x="324000" y="2133720"/>
            <a:ext cx="5800680" cy="422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fa4a05119e8a"/>
          <p:cNvPicPr/>
          <p:nvPr/>
        </p:nvPicPr>
        <p:blipFill>
          <a:blip r:embed="rId2"/>
          <a:stretch/>
        </p:blipFill>
        <p:spPr>
          <a:xfrm>
            <a:off x="2987640" y="333360"/>
            <a:ext cx="3228840" cy="2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549800" y="1052280"/>
            <a:ext cx="98665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Одна в глуши лесов сосновы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      Давно, давно ты ждешь мен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         Ты под окном своей светлицы Горюешь, будто на часах,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022560" y="2781360"/>
            <a:ext cx="5988240" cy="396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fa4a05119e8a"/>
          <p:cNvPicPr/>
          <p:nvPr/>
        </p:nvPicPr>
        <p:blipFill>
          <a:blip r:embed="rId2"/>
          <a:stretch/>
        </p:blipFill>
        <p:spPr>
          <a:xfrm>
            <a:off x="2987640" y="260280"/>
            <a:ext cx="3228840" cy="2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8000" y="-243000"/>
            <a:ext cx="9144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И медлят поминутно сп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В твоих наморщенных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fa4a05119e8a"/>
          <p:cNvPicPr/>
          <p:nvPr/>
        </p:nvPicPr>
        <p:blipFill>
          <a:blip r:embed="rId1"/>
          <a:stretch/>
        </p:blipFill>
        <p:spPr>
          <a:xfrm>
            <a:off x="2987640" y="260280"/>
            <a:ext cx="3228840" cy="247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Рисунок37"/>
          <p:cNvPicPr/>
          <p:nvPr/>
        </p:nvPicPr>
        <p:blipFill>
          <a:blip r:embed="rId2"/>
          <a:stretch/>
        </p:blipFill>
        <p:spPr>
          <a:xfrm>
            <a:off x="2771640" y="2060640"/>
            <a:ext cx="4038840" cy="451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000" y="836280"/>
            <a:ext cx="89996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Глядишь в забытые вор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На чёрный отдалён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J:\Литературный вечер\няня.jpg"/>
          <p:cNvPicPr/>
          <p:nvPr/>
        </p:nvPicPr>
        <p:blipFill>
          <a:blip r:embed="rId1"/>
          <a:stretch/>
        </p:blipFill>
        <p:spPr>
          <a:xfrm>
            <a:off x="1042920" y="2205000"/>
            <a:ext cx="7034400" cy="375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fa4a05119e8a"/>
          <p:cNvPicPr/>
          <p:nvPr/>
        </p:nvPicPr>
        <p:blipFill>
          <a:blip r:embed="rId2"/>
          <a:stretch/>
        </p:blipFill>
        <p:spPr>
          <a:xfrm>
            <a:off x="2987640" y="333360"/>
            <a:ext cx="3228840" cy="2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Тоска, предчувствия, забот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Теснят твою всечасно грудь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star"/>
          <p:cNvPicPr/>
          <p:nvPr/>
        </p:nvPicPr>
        <p:blipFill>
          <a:blip r:embed="rId1"/>
          <a:stretch/>
        </p:blipFill>
        <p:spPr>
          <a:xfrm>
            <a:off x="870120" y="1844640"/>
            <a:ext cx="7403760" cy="38098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741040" y="58053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То чудится тебе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fa4a05119e8a"/>
          <p:cNvPicPr/>
          <p:nvPr/>
        </p:nvPicPr>
        <p:blipFill>
          <a:blip r:embed="rId2"/>
          <a:stretch/>
        </p:blipFill>
        <p:spPr>
          <a:xfrm>
            <a:off x="2987640" y="260280"/>
            <a:ext cx="3228840" cy="2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9:15:50Z</dcterms:created>
  <dc:creator>НАТАЛЬЯ</dc:creator>
  <dc:description/>
  <dc:language>en-US</dc:language>
  <cp:lastModifiedBy>Дарья</cp:lastModifiedBy>
  <dcterms:modified xsi:type="dcterms:W3CDTF">2014-02-05T17:23:13Z</dcterms:modified>
  <cp:revision>54</cp:revision>
  <dc:subject/>
  <dc:title>Пушкин и няня Арина Родионовна</dc:title>
</cp:coreProperties>
</file>