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7C1A-F5FA-4869-A8AC-22A9F641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8CEE-A5FB-4EC1-A5D0-6051C4D8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78B7-D783-48FE-B5CE-F094AC6C8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46FB-AD16-4A76-BE80-369CA5AEF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C58F-EBA4-42C3-92AA-23D2C789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EAAB-9DF7-4520-AD59-3E78EE78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D90D-8F65-4FCA-9CAB-D7AF79DE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7CED-32FE-4DBD-A6EA-9A80A460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5967-852E-4E83-8AF2-25EE2917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40A5-A905-43EA-A5C5-3A543A98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1031-0449-4166-9189-FB43E5C7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AB91-C0CE-4BF0-A4C0-F74E9098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fa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C4E2-2EBE-4175-87AA-249F9D9250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atangChe"/>
                <a:ea typeface="BatangChe"/>
              </a:rPr>
              <a:t>А.С. Пушкин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BatangChe"/>
                <a:ea typeface="BatangChe"/>
              </a:rPr>
              <a:t>«Нян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fa4a05119e8a"/>
          <p:cNvPicPr/>
          <p:nvPr/>
        </p:nvPicPr>
        <p:blipFill>
          <a:blip r:embed="rId1"/>
          <a:stretch/>
        </p:blipFill>
        <p:spPr>
          <a:xfrm>
            <a:off x="2987640" y="333360"/>
            <a:ext cx="3228840" cy="247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Рисунок1"/>
          <p:cNvPicPr/>
          <p:nvPr/>
        </p:nvPicPr>
        <p:blipFill>
          <a:blip r:embed="rId2"/>
          <a:stretch/>
        </p:blipFill>
        <p:spPr>
          <a:xfrm>
            <a:off x="611280" y="2444760"/>
            <a:ext cx="3578040" cy="417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3"/>
          <a:stretch/>
        </p:blipFill>
        <p:spPr>
          <a:xfrm>
            <a:off x="5076720" y="2444760"/>
            <a:ext cx="3576600" cy="417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252360" y="549000"/>
            <a:ext cx="957744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Подруга дней моих суровых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                        Голубка дряхлая моя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Рисунок43"/>
          <p:cNvPicPr/>
          <p:nvPr/>
        </p:nvPicPr>
        <p:blipFill>
          <a:blip r:embed="rId1"/>
          <a:stretch/>
        </p:blipFill>
        <p:spPr>
          <a:xfrm>
            <a:off x="324000" y="2133720"/>
            <a:ext cx="5800680" cy="4228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fa4a05119e8a"/>
          <p:cNvPicPr/>
          <p:nvPr/>
        </p:nvPicPr>
        <p:blipFill>
          <a:blip r:embed="rId2"/>
          <a:stretch/>
        </p:blipFill>
        <p:spPr>
          <a:xfrm>
            <a:off x="2987640" y="333360"/>
            <a:ext cx="3228840" cy="247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1549800" y="1052280"/>
            <a:ext cx="986652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Одна в глуши лесов сосновых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      Давно, давно ты ждешь мен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         Ты под окном своей светлицы Горюешь, будто на часах,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022560" y="2781360"/>
            <a:ext cx="5988240" cy="3960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fa4a05119e8a"/>
          <p:cNvPicPr/>
          <p:nvPr/>
        </p:nvPicPr>
        <p:blipFill>
          <a:blip r:embed="rId2"/>
          <a:stretch/>
        </p:blipFill>
        <p:spPr>
          <a:xfrm>
            <a:off x="2987640" y="260280"/>
            <a:ext cx="3228840" cy="247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08000" y="-243000"/>
            <a:ext cx="91440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И медлят поминутно сп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В твоих наморщенных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fa4a05119e8a"/>
          <p:cNvPicPr/>
          <p:nvPr/>
        </p:nvPicPr>
        <p:blipFill>
          <a:blip r:embed="rId1"/>
          <a:stretch/>
        </p:blipFill>
        <p:spPr>
          <a:xfrm>
            <a:off x="2987640" y="260280"/>
            <a:ext cx="3228840" cy="247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Рисунок37"/>
          <p:cNvPicPr/>
          <p:nvPr/>
        </p:nvPicPr>
        <p:blipFill>
          <a:blip r:embed="rId2"/>
          <a:stretch/>
        </p:blipFill>
        <p:spPr>
          <a:xfrm>
            <a:off x="2771640" y="2060640"/>
            <a:ext cx="4038840" cy="451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000" y="836280"/>
            <a:ext cx="899964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Глядишь в забытые воро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На чёрный отдалённый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J:\Литературный вечер\няня.jpg"/>
          <p:cNvPicPr/>
          <p:nvPr/>
        </p:nvPicPr>
        <p:blipFill>
          <a:blip r:embed="rId1"/>
          <a:stretch/>
        </p:blipFill>
        <p:spPr>
          <a:xfrm>
            <a:off x="1042920" y="2205000"/>
            <a:ext cx="7034400" cy="3753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fa4a05119e8a"/>
          <p:cNvPicPr/>
          <p:nvPr/>
        </p:nvPicPr>
        <p:blipFill>
          <a:blip r:embed="rId2"/>
          <a:stretch/>
        </p:blipFill>
        <p:spPr>
          <a:xfrm>
            <a:off x="2987640" y="333360"/>
            <a:ext cx="3228840" cy="247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Тоска, предчувствия, заботы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Теснят твою всечасно грудь.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star"/>
          <p:cNvPicPr/>
          <p:nvPr/>
        </p:nvPicPr>
        <p:blipFill>
          <a:blip r:embed="rId1"/>
          <a:stretch/>
        </p:blipFill>
        <p:spPr>
          <a:xfrm>
            <a:off x="870120" y="1844640"/>
            <a:ext cx="7403760" cy="380988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2741040" y="5805360"/>
            <a:ext cx="36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То чудится тебе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fa4a05119e8a"/>
          <p:cNvPicPr/>
          <p:nvPr/>
        </p:nvPicPr>
        <p:blipFill>
          <a:blip r:embed="rId2"/>
          <a:stretch/>
        </p:blipFill>
        <p:spPr>
          <a:xfrm>
            <a:off x="2987640" y="260280"/>
            <a:ext cx="3228840" cy="247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09:15:50Z</dcterms:created>
  <dc:creator>НАТАЛЬЯ</dc:creator>
  <dc:description/>
  <dc:language>en-US</dc:language>
  <cp:lastModifiedBy>Дарья</cp:lastModifiedBy>
  <dcterms:modified xsi:type="dcterms:W3CDTF">2014-02-05T17:23:13Z</dcterms:modified>
  <cp:revision>54</cp:revision>
  <dc:subject/>
  <dc:title>Пушкин и няня Арина Родионовна</dc:title>
</cp:coreProperties>
</file>