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EA5-B95E-4B1D-BE44-00D0733C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8FA-E88A-4FC9-A197-27C33D7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D85-50A0-4268-B778-F04C0A3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DE7-6B7F-4B3B-BA46-95F56A4D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A70D-44A6-4DA4-9FC9-89868EDE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739-1802-4789-8637-A1A0F21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F41-43EC-4E2C-8008-6DCAEB19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148-D6E5-4CD7-AFCC-913C45A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23A-6635-4D3A-8662-A02A323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53A-FD7E-4C06-8BD5-E47CDC4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055-392F-40E8-97C8-D8FF81B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0AC-0D2F-47E8-8A98-254FBAB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ED75-871A-4371-8B12-7328F6C1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9A04-73D7-437F-87FF-7F80C6C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7F2-193E-487D-A170-DDB75E43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0B42-AF07-4C53-AE63-A3DCAFAF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3655-78FE-455F-AED4-3B13FBCE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0C2D-E946-4B69-BA20-0AE48739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9385-C12E-4C55-8990-530733E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B482-5BB1-4880-A789-E77CDD0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AB1D-2168-4FD6-AD92-AF4D723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B240-AE86-45E9-B2BD-45B61DF7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681-490F-419E-B4E8-BA179FE0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0A28-1619-43E8-B6D3-0CE527F6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A9DB-0FDE-47EB-9C2A-7FAE443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145B-475E-428B-A395-AB96D6C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873E-C8E0-41E8-9C4C-6E87358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60F6-B548-4B10-91B8-EAB78BF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F724-98B4-4600-A431-E523CB9C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C892-7A7C-4874-B708-85C5810F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416E-2A16-45AB-8D12-34774260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BA61-CB8F-4674-B662-FA1BC808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23DA-3D37-4A77-AD1B-E8DFE43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904-A5E9-48D8-BBB6-56799BF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9B26-5AAC-46EA-B38E-92AA8DC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B1F5-E792-46B0-94A4-3D2FB49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2297-A1C7-4BD2-9867-2E57A015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C25D-A331-4883-A1EB-3D31DAF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48C4-A2C2-4790-BA1B-12FADA7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0892-FDE4-43BB-8E52-BD87802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B488-B899-4869-95A8-2122028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84F9-2978-4028-A56E-D15C05D1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AD34-CAE5-4670-8887-85D830C1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1D19-7E0C-4766-94A2-023801C8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08E-D422-468F-A90A-0760631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039C-43D6-48B4-A871-DC0B226F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0479-6AF2-4327-8087-BBA9B7F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AB36-92A2-4201-825A-9B16BA3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65BE-B384-45CE-AA72-C71EA2B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FEE1-38A2-4F60-8A33-8478019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E438-EA35-48C9-AA89-D563FD6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202A-8ACD-4AE0-8D27-A808DE68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3843-57FA-415B-A948-F0977B4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E43DE-F447-4C50-A5D6-39DE80D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B06B-50E1-4A49-8188-546C2BA2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9C5-731C-47E6-9D8D-58B81AB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D228-CEC8-4951-85EE-505165B4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A24C-C556-4343-B0CD-DAC99739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2035-2F76-41E2-9AE8-48EF7C6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2ACE-E01D-4D26-BC37-F1EC3F0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D3D0-A2A0-4DF0-9752-6B2B0091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C0AB-89FD-49EA-8338-D2455A07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B2ED-8B8F-4795-AD88-42B7BF4C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E23D-8CD0-4FEB-8548-BEADEDE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326B-A833-4DBE-ACAA-1487B36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7AC7-AF82-4DBA-9100-53C98FA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588-CA9F-44EC-AFFD-55B972F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B247-952B-4041-BE15-0B7C92ED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2DCE-74E9-41DC-B41B-780E05BE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ECEF-A35B-4040-A788-EDC32EA1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83DF-188A-43F2-AB41-97F8A11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6B72-6135-4B15-969F-416888B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57FE-3926-48F1-9D12-D96CA9A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C9A3-D0A8-4A2B-85C9-0650BF1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6296-4354-4767-9CBD-5F073DE0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89A0-3C09-4506-96A9-D05ECA3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3D4B-AA59-49C9-9723-38AE197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1CD-9A4A-4654-A09B-5A11CD25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4988-90BF-48DD-8318-9C14914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913A-C5E7-45A6-A5D9-F6E1169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EF46-B6C1-4422-BB9B-034194E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83B0C-878F-407E-84A6-66D6A012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E606C-0D49-4EBA-987C-6B2025D4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E034-1F74-4763-AFF5-0C0A5C07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802A-9B83-4EDA-AC1F-529B239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2B355-6556-40FD-98BE-4AC5574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5FE7-2BA0-4F6C-AE8A-44DC758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F425-B537-49EA-9A98-4DEB823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313-32D0-4CFA-90FE-241BEB0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438C-E7B3-414C-A6B8-2DDA04A9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CA68E-DC98-4697-A6AD-C0A69A8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6BE0-2CAB-4160-A31D-B76E706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2AC0-4FF1-4DC7-95C2-17B8C04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EFBA3-52E5-4921-B377-C850A75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0AAA4-1D7E-4148-954A-8F9B8009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1525-4041-4175-8F61-D077E1FB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905-1697-4DD7-A14D-8F29B7D50F7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D0F-9B0B-4BAB-BE11-D8820B7E34A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456C-BE8D-41B3-8E5E-A518A866FE9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5A8-9204-4CB4-8B3B-24B7ECDB068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2E7F-DDE8-45DC-98B7-DC2FFB0B441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F14F-1777-4DF0-9D67-EC0A85045E8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9DF-03F4-4EFC-8844-7F12299FB7D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1E2B-6B9C-4E16-BBF7-4A90E106E95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0" descr="26"/>
          <p:cNvPicPr/>
          <p:nvPr/>
        </p:nvPicPr>
        <p:blipFill>
          <a:blip r:embed="rId1"/>
          <a:stretch/>
        </p:blipFill>
        <p:spPr>
          <a:xfrm>
            <a:off x="250920" y="333360"/>
            <a:ext cx="2160360" cy="6264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1"/>
          <p:cNvSpPr/>
          <p:nvPr/>
        </p:nvSpPr>
        <p:spPr>
          <a:xfrm>
            <a:off x="2916360" y="57168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6600ff"/>
                </a:solidFill>
                <a:latin typeface="Blackadder ITC"/>
              </a:rPr>
              <a:t>Вышивка шелковыми лентам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468360" y="260280"/>
            <a:ext cx="58672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Шов «вытянутый стеж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с завитк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24"/>
          <p:cNvPicPr/>
          <p:nvPr/>
        </p:nvPicPr>
        <p:blipFill>
          <a:blip r:embed="rId1"/>
          <a:stretch/>
        </p:blipFill>
        <p:spPr>
          <a:xfrm>
            <a:off x="6705720" y="333360"/>
            <a:ext cx="2438280" cy="6335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23"/>
          <p:cNvPicPr/>
          <p:nvPr/>
        </p:nvPicPr>
        <p:blipFill>
          <a:blip r:embed="rId2"/>
          <a:stretch/>
        </p:blipFill>
        <p:spPr>
          <a:xfrm>
            <a:off x="1116000" y="371628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25"/>
          <p:cNvPicPr/>
          <p:nvPr/>
        </p:nvPicPr>
        <p:blipFill>
          <a:blip r:embed="rId3"/>
          <a:stretch/>
        </p:blipFill>
        <p:spPr>
          <a:xfrm>
            <a:off x="1187280" y="1916280"/>
            <a:ext cx="40672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31"/>
          <p:cNvPicPr/>
          <p:nvPr/>
        </p:nvPicPr>
        <p:blipFill>
          <a:blip r:embed="rId1"/>
          <a:stretch/>
        </p:blipFill>
        <p:spPr>
          <a:xfrm>
            <a:off x="5219640" y="620640"/>
            <a:ext cx="3745080" cy="53294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24000" y="620640"/>
            <a:ext cx="511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Шов «Узе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30"/>
          <p:cNvPicPr/>
          <p:nvPr/>
        </p:nvPicPr>
        <p:blipFill>
          <a:blip r:embed="rId2"/>
          <a:stretch/>
        </p:blipFill>
        <p:spPr>
          <a:xfrm>
            <a:off x="826920" y="37162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29"/>
          <p:cNvPicPr/>
          <p:nvPr/>
        </p:nvPicPr>
        <p:blipFill>
          <a:blip r:embed="rId3"/>
          <a:stretch/>
        </p:blipFill>
        <p:spPr>
          <a:xfrm>
            <a:off x="755640" y="2060640"/>
            <a:ext cx="41911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895480" y="549360"/>
            <a:ext cx="5791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Times New Roman"/>
              </a:rPr>
              <a:t>Роза, сплетенная «паутин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26"/>
          <p:cNvPicPr/>
          <p:nvPr/>
        </p:nvPicPr>
        <p:blipFill>
          <a:blip r:embed="rId1"/>
          <a:stretch/>
        </p:blipFill>
        <p:spPr>
          <a:xfrm>
            <a:off x="179280" y="1052640"/>
            <a:ext cx="2133720" cy="5638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27"/>
          <p:cNvPicPr/>
          <p:nvPr/>
        </p:nvPicPr>
        <p:blipFill>
          <a:blip r:embed="rId2"/>
          <a:stretch/>
        </p:blipFill>
        <p:spPr>
          <a:xfrm>
            <a:off x="3708360" y="3357720"/>
            <a:ext cx="4419720" cy="309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28"/>
          <p:cNvPicPr/>
          <p:nvPr/>
        </p:nvPicPr>
        <p:blipFill>
          <a:blip r:embed="rId3"/>
          <a:stretch/>
        </p:blipFill>
        <p:spPr>
          <a:xfrm>
            <a:off x="3564000" y="1628640"/>
            <a:ext cx="47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2340000" y="404640"/>
            <a:ext cx="626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Инструменты и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8"/>
          <p:cNvPicPr/>
          <p:nvPr/>
        </p:nvPicPr>
        <p:blipFill>
          <a:blip r:embed="rId1"/>
          <a:stretch/>
        </p:blipFill>
        <p:spPr>
          <a:xfrm>
            <a:off x="250920" y="1125360"/>
            <a:ext cx="2913120" cy="5472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3429000" y="1197000"/>
            <a:ext cx="5464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вышивания применяются разные иглы: тонкие – для легких тканей, толстые – для пл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шитье шелковой лентой используются острые иглы с удлиненным ушком для легкого вдевания ленты. Для лент шириной 7, 9, 12 миллиметров подбирают иглы для вышивания № 18, 20 и 22. Для лент шириной 3 миллиметра рекомендуется выбрать иглу №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9"/>
          <p:cNvPicPr/>
          <p:nvPr/>
        </p:nvPicPr>
        <p:blipFill>
          <a:blip r:embed="rId2"/>
          <a:stretch/>
        </p:blipFill>
        <p:spPr>
          <a:xfrm>
            <a:off x="4356000" y="4221000"/>
            <a:ext cx="441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50920" y="1628640"/>
            <a:ext cx="5790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оративные ленты выпускаются из органзы, капрона, искусственного шелка. Атласные ленты прекрасно подходят для вышивки. В продажу поступают ленты различной ширины и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нты ярко – красные, бордовые, темно – зеленые перед работой желательно намочить в теплой воде, так как они при стирке могут поли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итые изделия стираются в теплой воде с мылом и гладятся с изнанки, чтобы вышивка не стала пл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10"/>
          <p:cNvPicPr/>
          <p:nvPr/>
        </p:nvPicPr>
        <p:blipFill>
          <a:blip r:embed="rId1"/>
          <a:stretch/>
        </p:blipFill>
        <p:spPr>
          <a:xfrm>
            <a:off x="5867280" y="404640"/>
            <a:ext cx="3156120" cy="64533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1042920" y="54936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Л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539640" y="907920"/>
            <a:ext cx="5832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сновы при вышивке шелковыми лентами можно использовать самые разнообразные тка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пчатобумажные ткани : рогожка, двунитка, батист, мадапалам, б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ьняные ткани: суровое полотно, холстина, мешковина, тонкое поло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рстяные ткани: креп, твид, шерстяная рог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ивать можно по любой поверхности, лишь бы ткань была прочной и удерживала ст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11"/>
          <p:cNvPicPr/>
          <p:nvPr/>
        </p:nvPicPr>
        <p:blipFill>
          <a:blip r:embed="rId1"/>
          <a:stretch/>
        </p:blipFill>
        <p:spPr>
          <a:xfrm>
            <a:off x="6394320" y="907920"/>
            <a:ext cx="2551320" cy="57610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1403280" y="260280"/>
            <a:ext cx="41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Тк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ec60c"/>
                </a:solidFill>
                <a:latin typeface="Times New Roman"/>
              </a:rPr>
              <a:t>Самостоятельное выполнение шв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5" name="Picture 5" descr="100_1488"/>
          <p:cNvPicPr/>
          <p:nvPr/>
        </p:nvPicPr>
        <p:blipFill>
          <a:blip r:embed="rId1"/>
          <a:stretch/>
        </p:blipFill>
        <p:spPr>
          <a:xfrm>
            <a:off x="1258920" y="1773360"/>
            <a:ext cx="60498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179280" y="404640"/>
            <a:ext cx="8785440" cy="619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219320" y="692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c60c"/>
                </a:solidFill>
                <a:latin typeface="Times New Roman"/>
              </a:rPr>
              <a:t>Виды вышитых фраг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12"/>
          <p:cNvPicPr/>
          <p:nvPr/>
        </p:nvPicPr>
        <p:blipFill>
          <a:blip r:embed="rId2"/>
          <a:stretch/>
        </p:blipFill>
        <p:spPr>
          <a:xfrm>
            <a:off x="539640" y="1341360"/>
            <a:ext cx="3770280" cy="4872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13"/>
          <p:cNvPicPr/>
          <p:nvPr/>
        </p:nvPicPr>
        <p:blipFill>
          <a:blip r:embed="rId3"/>
          <a:stretch/>
        </p:blipFill>
        <p:spPr>
          <a:xfrm>
            <a:off x="4716360" y="1341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3809880" y="404640"/>
            <a:ext cx="50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С чего начать?</a:t>
            </a:r>
            <a:r>
              <a:rPr b="1" i="1" lang="ru-RU" sz="3200" spc="-1" strike="noStrike">
                <a:solidFill>
                  <a:srgbClr val="b292c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14"/>
          <p:cNvPicPr/>
          <p:nvPr/>
        </p:nvPicPr>
        <p:blipFill>
          <a:blip r:embed="rId1"/>
          <a:stretch/>
        </p:blipFill>
        <p:spPr>
          <a:xfrm>
            <a:off x="324000" y="836640"/>
            <a:ext cx="3144600" cy="57722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3809880" y="13716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начать работу, возьмите ленту длиной 50 сантиметров, вставьте её в иголку, подогните кончик на несколько миллиметров и вколите иголку по цен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ерживая ленту одной рукой и подтягивая другой, завяжите уз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язанный таким образом узел называется плоским. В отличие от традиционного, он не увеличивает толщину выш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340000" y="404640"/>
            <a:ext cx="39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Прие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95280" y="10526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чала мы научимся выполнять следующие швы: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«петля вприкреп»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шивки больших листьев,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узелк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полнения мелких розочек,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вытянутый стежок с завитком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ля листиков, специальный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паутинк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шивки 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15"/>
          <p:cNvPicPr/>
          <p:nvPr/>
        </p:nvPicPr>
        <p:blipFill>
          <a:blip r:embed="rId1"/>
          <a:stretch/>
        </p:blipFill>
        <p:spPr>
          <a:xfrm>
            <a:off x="324000" y="3068640"/>
            <a:ext cx="2562120" cy="1724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16"/>
          <p:cNvPicPr/>
          <p:nvPr/>
        </p:nvPicPr>
        <p:blipFill>
          <a:blip r:embed="rId2"/>
          <a:stretch/>
        </p:blipFill>
        <p:spPr>
          <a:xfrm>
            <a:off x="250920" y="4941720"/>
            <a:ext cx="2562120" cy="1686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17"/>
          <p:cNvPicPr/>
          <p:nvPr/>
        </p:nvPicPr>
        <p:blipFill>
          <a:blip r:embed="rId3"/>
          <a:stretch/>
        </p:blipFill>
        <p:spPr>
          <a:xfrm>
            <a:off x="6372360" y="2997360"/>
            <a:ext cx="2562120" cy="1685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18"/>
          <p:cNvPicPr/>
          <p:nvPr/>
        </p:nvPicPr>
        <p:blipFill>
          <a:blip r:embed="rId4"/>
          <a:stretch/>
        </p:blipFill>
        <p:spPr>
          <a:xfrm>
            <a:off x="6443640" y="4797360"/>
            <a:ext cx="2562120" cy="1800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3048120" y="3213000"/>
            <a:ext cx="30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аботы  потребуются пяльцы. Ткань должна быть равномерно натянута.                       Это гарантирует равномерность стеж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050920" y="404640"/>
            <a:ext cx="5042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Шов «петля вприкре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20"/>
          <p:cNvPicPr/>
          <p:nvPr/>
        </p:nvPicPr>
        <p:blipFill>
          <a:blip r:embed="rId1"/>
          <a:stretch/>
        </p:blipFill>
        <p:spPr>
          <a:xfrm>
            <a:off x="0" y="5086440"/>
            <a:ext cx="4583160" cy="177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21"/>
          <p:cNvPicPr/>
          <p:nvPr/>
        </p:nvPicPr>
        <p:blipFill>
          <a:blip r:embed="rId2"/>
          <a:stretch/>
        </p:blipFill>
        <p:spPr>
          <a:xfrm>
            <a:off x="4572000" y="5086440"/>
            <a:ext cx="4572000" cy="1771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19"/>
          <p:cNvPicPr/>
          <p:nvPr/>
        </p:nvPicPr>
        <p:blipFill>
          <a:blip r:embed="rId3"/>
          <a:stretch/>
        </p:blipFill>
        <p:spPr>
          <a:xfrm>
            <a:off x="179280" y="1773360"/>
            <a:ext cx="4496040" cy="2867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22"/>
          <p:cNvPicPr/>
          <p:nvPr/>
        </p:nvPicPr>
        <p:blipFill>
          <a:blip r:embed="rId4"/>
          <a:stretch/>
        </p:blipFill>
        <p:spPr>
          <a:xfrm>
            <a:off x="5378400" y="234936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23:48Z</dcterms:created>
  <dc:creator>www.PHILka.RU</dc:creator>
  <dc:description/>
  <dc:language>en-US</dc:language>
  <cp:lastModifiedBy>umar</cp:lastModifiedBy>
  <dcterms:modified xsi:type="dcterms:W3CDTF">2024-02-12T06:10:58Z</dcterms:modified>
  <cp:revision>99</cp:revision>
  <dc:subject/>
  <dc:title>Слайд 1</dc:title>
</cp:coreProperties>
</file>