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7CC-290A-4284-89BC-F5C6D4B4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310-2D6E-4C34-9EEA-5F86437E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BC2-8336-41A9-AC59-25306E2A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119-A286-43CD-86BE-EE260A20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9152-11FD-44A4-9A51-FD6CB194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E75B-9F05-4180-97C7-F27EA11F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AEDD-F531-4FAD-AC1B-DBE0B36D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3E92-C05F-4731-8E98-076CE18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E7C8-1125-4ED4-83F4-250C18E2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4F56-4A87-4551-9C11-00DADA7F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2F58-5D7B-410F-82DA-47CEA8A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3A9-6B99-4C34-9D80-42FD46FC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8FBF-8067-48CF-BEEE-4A9C05E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14D4-DC7A-4DFA-BA8E-DB30730F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CBF2-762B-49EC-BF87-59DBAB0C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4C61-A780-4E60-9040-609E9671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EE38-0B13-49EE-8139-E2F87970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9CEB-12BA-4361-BE9D-583C896B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222D-506D-4767-9B53-88979AF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A504-FE51-485A-8DE2-F93C376C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BAFD-AF2E-4A19-A763-DD1A3E75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585E-E9EE-437B-A05C-607F6987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1D2-A4D5-44BA-A3B5-2EBA9047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E13F-67A3-4B9B-AA30-9F916AB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C6C2-77F4-4FBE-ACDF-5ECF1E49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B2A3-CAEA-4D92-8E87-7D51D62D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10C3-E7C6-4B0A-A676-787F45F4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9AD7-9636-435A-B4B5-2DCE7285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193F-607A-443E-AA74-AF0EB377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A0ED-376A-4C91-A268-8CED69A1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6BD7-6838-4C56-AADC-1F3D1E52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CB32-3CC4-4170-A91D-3E12E4AC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0660-E2C0-4020-8EFC-0AE3D061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C19-084E-4806-BBF0-A692A5D7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1533-3368-4847-A865-2BDD0B77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B99E-B718-492F-8C8A-A2B18DF4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327E9-221E-48B9-9CB3-3C17AE42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91D5-D72E-46A0-9ECE-1AB548DE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38455-E261-4332-9A83-96E6B1C6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F737-EA52-4881-81F2-99649824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E51A-77F9-4B4E-9386-91BB7ACA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FB09A-2B8F-4096-8A47-8B641D92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64E0-D374-4298-A8DC-DEB92398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12DC-F1F6-4C83-911A-C96B0FE4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FCD-158B-43E7-8DFC-C89174D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3C6C-B0D1-48D2-B4FA-A32F6C26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CDCDE-F286-4374-B658-38BA21F2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FFA9-C58C-4C48-B435-A944D40F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99B1-6675-4E66-AACA-7D2D4077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D7EFF-7B2D-486E-8C53-5D681A81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FE36E-65AE-497D-8AE1-C2841D9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79F5-01EC-4E1C-B41B-844BD818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1C9C-B84C-4846-A39F-6D68A10B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7F7F-7B09-4714-ACD0-853C56D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3D847-2A07-4B6C-A43B-B275DAA5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3C3-2270-4D27-8694-C7B0CEF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5735-3B8A-4A59-94CC-C15353DA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BF6E7-732D-4F98-9CB4-B72A5586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6E58-310B-4B3F-881D-4BCDFB1B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BFE13-0C22-4B07-8527-5B9B3535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A241E-DBF0-4A4B-9FC4-34FFD57E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AC51-42D9-485C-8D9C-992219D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64B71-2238-4DA4-8C85-20377E35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8FE75-2CBA-4C43-808F-97F9461C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7A955-4BFF-406B-A8DA-3088342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D60DB-A139-45A3-92B9-3DA67507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AEB-70A9-4D34-97F1-83577DE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67314-C997-4637-B102-80F6B98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D1211-091C-42EF-AD31-C1A43241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B868B-8425-40FF-BD8E-CF7767F9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12DF-C8BA-4695-B461-5A861464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B84F6-53B6-4166-B0F4-8A982D0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AC7FB-8AD9-4234-88EB-C91E840D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0474-E871-4156-B0AA-9E1779BA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DB5E6-57C1-45CF-AAFC-2557DFF6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1593C-5825-4B43-9F7B-FFA43647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B5E16-2215-4D14-8C54-9E77BFC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3AD-6DCE-41AF-9B9F-236934B0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4F861-F6B3-458F-95FE-8CC3BA1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492DC-6955-4FAD-BF75-4A20971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7ACCD-3DFF-4569-B3C2-4CAA90DB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A685B-D6AA-4174-BFB6-88DC06CB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AE369-8FDA-461D-9E98-2352E6BE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2D5D6-D4E8-4B14-8BDE-A3381D15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3C4AC-4337-4463-AB01-CE6A8216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81A9E-1FE5-4703-B135-03D4E725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A58FB-D83A-4550-B872-4362023B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8251-9E2C-4F5E-8C33-1568878A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197-A628-4224-8A00-FA61790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3272C-B525-478A-9C1C-03CC0F8C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B108-30CE-4848-86EB-F01DEC43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1032B-FF12-4521-9895-E2C04B6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B880-EC35-4A8D-BE5A-97B9ADFB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4387E-7AB2-4112-AB4F-68A573D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0C328-C920-41B2-8982-BC127158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C9EE5-33F8-4D6D-92BC-1FAAE1F2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F000-2216-49E3-9DBB-E908D8D1DE4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36B7-4976-417C-96DB-D067D14E7DE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1121-1242-42B8-BA87-F97EC694AFF7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78B4-D03A-4ED6-A36E-58E2DC35172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3D3-C7D7-4094-B5E1-FB3E7F13E81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5D04-FEAF-4531-AAD1-F64435252F4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4A6D-9A79-4226-A78A-AD15BF8BD57A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D981-2BFD-45F1-920D-2283EF3C4A9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0" descr="26"/>
          <p:cNvPicPr/>
          <p:nvPr/>
        </p:nvPicPr>
        <p:blipFill>
          <a:blip r:embed="rId1"/>
          <a:stretch/>
        </p:blipFill>
        <p:spPr>
          <a:xfrm>
            <a:off x="250920" y="333360"/>
            <a:ext cx="2160360" cy="6264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1"/>
          <p:cNvSpPr/>
          <p:nvPr/>
        </p:nvSpPr>
        <p:spPr>
          <a:xfrm>
            <a:off x="2916360" y="57168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«</a:t>
            </a:r>
            <a:r>
              <a:rPr b="1" i="1" lang="ru-RU" sz="6000" spc="-1" strike="noStrike">
                <a:solidFill>
                  <a:srgbClr val="6600ff"/>
                </a:solidFill>
                <a:latin typeface="Blackadder ITC"/>
              </a:rPr>
              <a:t>Вышивка шелковыми лентам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468360" y="260280"/>
            <a:ext cx="586728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imes New Roman"/>
              </a:rPr>
              <a:t>Шов «вытянутый стеж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imes New Roman"/>
              </a:rPr>
              <a:t>с завитк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24"/>
          <p:cNvPicPr/>
          <p:nvPr/>
        </p:nvPicPr>
        <p:blipFill>
          <a:blip r:embed="rId1"/>
          <a:stretch/>
        </p:blipFill>
        <p:spPr>
          <a:xfrm>
            <a:off x="6705720" y="333360"/>
            <a:ext cx="2438280" cy="6335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23"/>
          <p:cNvPicPr/>
          <p:nvPr/>
        </p:nvPicPr>
        <p:blipFill>
          <a:blip r:embed="rId2"/>
          <a:stretch/>
        </p:blipFill>
        <p:spPr>
          <a:xfrm>
            <a:off x="1116000" y="3716280"/>
            <a:ext cx="4267080" cy="2790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25"/>
          <p:cNvPicPr/>
          <p:nvPr/>
        </p:nvPicPr>
        <p:blipFill>
          <a:blip r:embed="rId3"/>
          <a:stretch/>
        </p:blipFill>
        <p:spPr>
          <a:xfrm>
            <a:off x="1187280" y="1916280"/>
            <a:ext cx="40672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31"/>
          <p:cNvPicPr/>
          <p:nvPr/>
        </p:nvPicPr>
        <p:blipFill>
          <a:blip r:embed="rId1"/>
          <a:stretch/>
        </p:blipFill>
        <p:spPr>
          <a:xfrm>
            <a:off x="5219640" y="620640"/>
            <a:ext cx="3745080" cy="53294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324000" y="620640"/>
            <a:ext cx="5111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Times New Roman"/>
              </a:rPr>
              <a:t>Шов «Узел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30"/>
          <p:cNvPicPr/>
          <p:nvPr/>
        </p:nvPicPr>
        <p:blipFill>
          <a:blip r:embed="rId2"/>
          <a:stretch/>
        </p:blipFill>
        <p:spPr>
          <a:xfrm>
            <a:off x="826920" y="371628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29"/>
          <p:cNvPicPr/>
          <p:nvPr/>
        </p:nvPicPr>
        <p:blipFill>
          <a:blip r:embed="rId3"/>
          <a:stretch/>
        </p:blipFill>
        <p:spPr>
          <a:xfrm>
            <a:off x="755640" y="2060640"/>
            <a:ext cx="41911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2895480" y="549360"/>
            <a:ext cx="5791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00"/>
                </a:solidFill>
                <a:latin typeface="Times New Roman"/>
              </a:rPr>
              <a:t>Роза, сплетенная «паутин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26"/>
          <p:cNvPicPr/>
          <p:nvPr/>
        </p:nvPicPr>
        <p:blipFill>
          <a:blip r:embed="rId1"/>
          <a:stretch/>
        </p:blipFill>
        <p:spPr>
          <a:xfrm>
            <a:off x="179280" y="1052640"/>
            <a:ext cx="2133720" cy="5638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27"/>
          <p:cNvPicPr/>
          <p:nvPr/>
        </p:nvPicPr>
        <p:blipFill>
          <a:blip r:embed="rId2"/>
          <a:stretch/>
        </p:blipFill>
        <p:spPr>
          <a:xfrm>
            <a:off x="3708360" y="3357720"/>
            <a:ext cx="4419720" cy="3095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28"/>
          <p:cNvPicPr/>
          <p:nvPr/>
        </p:nvPicPr>
        <p:blipFill>
          <a:blip r:embed="rId3"/>
          <a:stretch/>
        </p:blipFill>
        <p:spPr>
          <a:xfrm>
            <a:off x="3564000" y="1628640"/>
            <a:ext cx="47242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2340000" y="404640"/>
            <a:ext cx="626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Инструменты и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8"/>
          <p:cNvPicPr/>
          <p:nvPr/>
        </p:nvPicPr>
        <p:blipFill>
          <a:blip r:embed="rId1"/>
          <a:stretch/>
        </p:blipFill>
        <p:spPr>
          <a:xfrm>
            <a:off x="250920" y="1125360"/>
            <a:ext cx="2913120" cy="54723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3429000" y="1197000"/>
            <a:ext cx="5464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вышивания применяются разные иглы: тонкие – для легких тканей, толстые – для пл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шитье шелковой лентой используются острые иглы с удлиненным ушком для легкого вдевания ленты. Для лент шириной 7, 9, 12 миллиметров подбирают иглы для вышивания № 18, 20 и 22. Для лент шириной 3 миллиметра рекомендуется выбрать иглу №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9"/>
          <p:cNvPicPr/>
          <p:nvPr/>
        </p:nvPicPr>
        <p:blipFill>
          <a:blip r:embed="rId2"/>
          <a:stretch/>
        </p:blipFill>
        <p:spPr>
          <a:xfrm>
            <a:off x="4356000" y="4221000"/>
            <a:ext cx="441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250920" y="1628640"/>
            <a:ext cx="57909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оративные ленты выпускаются из органзы, капрона, искусственного шелка. Атласные ленты прекрасно подходят для вышивки. В продажу поступают ленты различной ширины и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нты ярко – красные, бордовые, темно – зеленые перед работой желательно намочить в теплой воде, так как они при стирке могут поли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шитые изделия стираются в теплой воде с мылом и гладятся с изнанки, чтобы вышивка не стала пл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10"/>
          <p:cNvPicPr/>
          <p:nvPr/>
        </p:nvPicPr>
        <p:blipFill>
          <a:blip r:embed="rId1"/>
          <a:stretch/>
        </p:blipFill>
        <p:spPr>
          <a:xfrm>
            <a:off x="5867280" y="404640"/>
            <a:ext cx="3156120" cy="64533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1042920" y="549360"/>
            <a:ext cx="439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Times New Roman"/>
              </a:rPr>
              <a:t>Л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539640" y="907920"/>
            <a:ext cx="58327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сновы при вышивке шелковыми лентами можно использовать самые разнообразные тка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пчатобумажные ткани : рогожка, двунитка, батист, мадапалам, б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ьняные ткани: суровое полотно, холстина, мешковина, тонкое поло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рстяные ткани: креп, твид, шерстяная рог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шивать можно по любой поверхности, лишь бы ткань была прочной и удерживала ст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11"/>
          <p:cNvPicPr/>
          <p:nvPr/>
        </p:nvPicPr>
        <p:blipFill>
          <a:blip r:embed="rId1"/>
          <a:stretch/>
        </p:blipFill>
        <p:spPr>
          <a:xfrm>
            <a:off x="6394320" y="907920"/>
            <a:ext cx="2551320" cy="57610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1403280" y="260280"/>
            <a:ext cx="417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Times New Roman"/>
              </a:rPr>
              <a:t>Тк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ec60c"/>
                </a:solidFill>
                <a:latin typeface="Times New Roman"/>
              </a:rPr>
              <a:t>Самостоятельное выполнение шв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5" name="Picture 5" descr="100_1488"/>
          <p:cNvPicPr/>
          <p:nvPr/>
        </p:nvPicPr>
        <p:blipFill>
          <a:blip r:embed="rId1"/>
          <a:stretch/>
        </p:blipFill>
        <p:spPr>
          <a:xfrm>
            <a:off x="1258920" y="1773360"/>
            <a:ext cx="60498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179280" y="404640"/>
            <a:ext cx="8785440" cy="619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bfa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219320" y="692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ec60c"/>
                </a:solidFill>
                <a:latin typeface="Times New Roman"/>
              </a:rPr>
              <a:t>Виды вышитых фраг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12"/>
          <p:cNvPicPr/>
          <p:nvPr/>
        </p:nvPicPr>
        <p:blipFill>
          <a:blip r:embed="rId2"/>
          <a:stretch/>
        </p:blipFill>
        <p:spPr>
          <a:xfrm>
            <a:off x="539640" y="1341360"/>
            <a:ext cx="3770280" cy="4872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13"/>
          <p:cNvPicPr/>
          <p:nvPr/>
        </p:nvPicPr>
        <p:blipFill>
          <a:blip r:embed="rId3"/>
          <a:stretch/>
        </p:blipFill>
        <p:spPr>
          <a:xfrm>
            <a:off x="4716360" y="134136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3809880" y="404640"/>
            <a:ext cx="5029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Times New Roman"/>
              </a:rPr>
              <a:t>С чего начать?</a:t>
            </a:r>
            <a:r>
              <a:rPr b="1" i="1" lang="ru-RU" sz="3200" spc="-1" strike="noStrike">
                <a:solidFill>
                  <a:srgbClr val="b292c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14"/>
          <p:cNvPicPr/>
          <p:nvPr/>
        </p:nvPicPr>
        <p:blipFill>
          <a:blip r:embed="rId1"/>
          <a:stretch/>
        </p:blipFill>
        <p:spPr>
          <a:xfrm>
            <a:off x="324000" y="836640"/>
            <a:ext cx="3144600" cy="57722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"/>
          <p:cNvSpPr/>
          <p:nvPr/>
        </p:nvSpPr>
        <p:spPr>
          <a:xfrm>
            <a:off x="3809880" y="13716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начать работу, возьмите ленту длиной 50 сантиметров, вставьте её в иголку, подогните кончик на несколько миллиметров и вколите иголку по цент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ерживая ленту одной рукой и подтягивая другой, завяжите уз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язанный таким образом узел называется плоским. В отличие от традиционного, он не увеличивает толщину выш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2340000" y="404640"/>
            <a:ext cx="39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imes New Roman"/>
              </a:rPr>
              <a:t>Прием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95280" y="105264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ачала мы научимся выполнять следующие швы: </a:t>
            </a:r>
            <a:r>
              <a:rPr b="0" lang="ru-RU" sz="2400" spc="-1" strike="noStrike">
                <a:solidFill>
                  <a:srgbClr val="1ec60c"/>
                </a:solidFill>
                <a:latin typeface="Times New Roman"/>
              </a:rPr>
              <a:t>«петля вприкреп»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ышивки больших листьев, </a:t>
            </a:r>
            <a:r>
              <a:rPr b="0" lang="ru-RU" sz="2400" spc="-1" strike="noStrike">
                <a:solidFill>
                  <a:srgbClr val="1ec60c"/>
                </a:solidFill>
                <a:latin typeface="Times New Roman"/>
              </a:rPr>
              <a:t>шов «узелк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ыполнения мелких розочек, </a:t>
            </a:r>
            <a:r>
              <a:rPr b="0" lang="ru-RU" sz="2400" spc="-1" strike="noStrike">
                <a:solidFill>
                  <a:srgbClr val="1ec60c"/>
                </a:solidFill>
                <a:latin typeface="Times New Roman"/>
              </a:rPr>
              <a:t>шов «вытянутый стежок с завитком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ля листиков, специальный </a:t>
            </a:r>
            <a:r>
              <a:rPr b="0" lang="ru-RU" sz="2400" spc="-1" strike="noStrike">
                <a:solidFill>
                  <a:srgbClr val="1ec60c"/>
                </a:solidFill>
                <a:latin typeface="Times New Roman"/>
              </a:rPr>
              <a:t>шов «паутинк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ышивки 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15"/>
          <p:cNvPicPr/>
          <p:nvPr/>
        </p:nvPicPr>
        <p:blipFill>
          <a:blip r:embed="rId1"/>
          <a:stretch/>
        </p:blipFill>
        <p:spPr>
          <a:xfrm>
            <a:off x="324000" y="3068640"/>
            <a:ext cx="2562120" cy="1724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16"/>
          <p:cNvPicPr/>
          <p:nvPr/>
        </p:nvPicPr>
        <p:blipFill>
          <a:blip r:embed="rId2"/>
          <a:stretch/>
        </p:blipFill>
        <p:spPr>
          <a:xfrm>
            <a:off x="250920" y="4941720"/>
            <a:ext cx="2562120" cy="1686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17"/>
          <p:cNvPicPr/>
          <p:nvPr/>
        </p:nvPicPr>
        <p:blipFill>
          <a:blip r:embed="rId3"/>
          <a:stretch/>
        </p:blipFill>
        <p:spPr>
          <a:xfrm>
            <a:off x="6372360" y="2997360"/>
            <a:ext cx="2562120" cy="1685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18"/>
          <p:cNvPicPr/>
          <p:nvPr/>
        </p:nvPicPr>
        <p:blipFill>
          <a:blip r:embed="rId4"/>
          <a:stretch/>
        </p:blipFill>
        <p:spPr>
          <a:xfrm>
            <a:off x="6443640" y="4797360"/>
            <a:ext cx="2562120" cy="18003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0"/>
          <p:cNvSpPr/>
          <p:nvPr/>
        </p:nvSpPr>
        <p:spPr>
          <a:xfrm>
            <a:off x="3048120" y="3213000"/>
            <a:ext cx="3047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аботы  потребуются пяльцы. Ткань должна быть равномерно натянута.                       Это гарантирует равномерность стеж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050920" y="404640"/>
            <a:ext cx="5042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c60c"/>
                </a:solidFill>
                <a:latin typeface="Times New Roman"/>
              </a:rPr>
              <a:t>Шов «петля вприкре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20"/>
          <p:cNvPicPr/>
          <p:nvPr/>
        </p:nvPicPr>
        <p:blipFill>
          <a:blip r:embed="rId1"/>
          <a:stretch/>
        </p:blipFill>
        <p:spPr>
          <a:xfrm>
            <a:off x="0" y="5086440"/>
            <a:ext cx="4583160" cy="177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21"/>
          <p:cNvPicPr/>
          <p:nvPr/>
        </p:nvPicPr>
        <p:blipFill>
          <a:blip r:embed="rId2"/>
          <a:stretch/>
        </p:blipFill>
        <p:spPr>
          <a:xfrm>
            <a:off x="4572000" y="5086440"/>
            <a:ext cx="4572000" cy="1771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19"/>
          <p:cNvPicPr/>
          <p:nvPr/>
        </p:nvPicPr>
        <p:blipFill>
          <a:blip r:embed="rId3"/>
          <a:stretch/>
        </p:blipFill>
        <p:spPr>
          <a:xfrm>
            <a:off x="179280" y="1773360"/>
            <a:ext cx="4496040" cy="2867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22"/>
          <p:cNvPicPr/>
          <p:nvPr/>
        </p:nvPicPr>
        <p:blipFill>
          <a:blip r:embed="rId4"/>
          <a:stretch/>
        </p:blipFill>
        <p:spPr>
          <a:xfrm>
            <a:off x="5378400" y="234936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6:23:48Z</dcterms:created>
  <dc:creator>www.PHILka.RU</dc:creator>
  <dc:description/>
  <dc:language>en-US</dc:language>
  <cp:lastModifiedBy>umar</cp:lastModifiedBy>
  <dcterms:modified xsi:type="dcterms:W3CDTF">2024-02-12T06:10:58Z</dcterms:modified>
  <cp:revision>99</cp:revision>
  <dc:subject/>
  <dc:title>Слайд 1</dc:title>
</cp:coreProperties>
</file>