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7B4-08AD-4D54-AAE2-BFA6FB2F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E841-7ED6-4256-955E-993307F4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7E9-FF46-4DDA-8519-73DA7AE4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D42-8653-4786-91AC-AE26BC20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7165-A6F8-471A-A307-69C0A010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6F6-A53A-4E0D-AE61-BAE62A95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0E7-6E21-415D-945B-786D0ECA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7443-9316-40F8-A73B-35077A4E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1442-3E47-4BFA-ABB7-F0053DA2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B89-5ACB-45A7-88A3-D5C288F6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1CBD-423B-4044-ABB2-AB5B5085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B3F-BD86-47C5-BB4C-2FD25206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5896-2126-45EC-8D4D-E996FC82DA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ергей Владимирович Михалков </a:t>
            </a:r>
            <a:br>
              <a:rPr sz="5400"/>
            </a:b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Котята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s://img.razrisyika.ru/kart/22/1200/87236-kartinka-kotenok-25.jpg"/>
          <p:cNvPicPr/>
          <p:nvPr/>
        </p:nvPicPr>
        <p:blipFill>
          <a:blip r:embed="rId1"/>
          <a:stretch/>
        </p:blipFill>
        <p:spPr>
          <a:xfrm>
            <a:off x="5334120" y="3581280"/>
            <a:ext cx="325116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Владимирович Михалков родился в 1913 году, 13 марта, в Москве. Число 13 считал счастлив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6477120" y="3276720"/>
            <a:ext cx="217620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3160" y="7621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сять лет Серг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ович написал сво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ую басн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ему исполнилось 14 л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Михалковых переехала в город Пятигорск. Там он  окончил среднюю школу и вернулся в Москву. Он  стал рабочим на одной Московской фабрике. Он очень любил животных. В его доме всегда жили кошки, соба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ttps://avatars.dzeninfra.ru/get-zen_doc/8265783/pub_640d9d591fc33a521c6595b1_640d9d5b1f03aa1f17396f2b/scale_1200"/>
          <p:cNvPicPr/>
          <p:nvPr/>
        </p:nvPicPr>
        <p:blipFill>
          <a:blip r:embed="rId1"/>
          <a:stretch/>
        </p:blipFill>
        <p:spPr>
          <a:xfrm>
            <a:off x="6705720" y="457200"/>
            <a:ext cx="1673280" cy="27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609480" y="481320"/>
            <a:ext cx="7925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Михалков написал стихи для детей. Их напечатали в журнале «Пионер». Они сразу понравились и читателям, и поэтам. Михалков написал ещё 3 детских стихотворения, затем появился «Дядя Стёпа», стихотворение  «Мы с приятелем». Так Михалков стал 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любим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х писа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https://great-peoples.ru/wp-content/uploads/2021/09/sergej-mihalkov-7.jpg"/>
          <p:cNvPicPr/>
          <p:nvPr/>
        </p:nvPicPr>
        <p:blipFill>
          <a:blip r:embed="rId1"/>
          <a:stretch/>
        </p:blipFill>
        <p:spPr>
          <a:xfrm>
            <a:off x="5105520" y="403848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5943600" y="609480"/>
            <a:ext cx="2176560" cy="2664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685800" y="2286000"/>
            <a:ext cx="75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В. Михалков – ав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 нашей стр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ём гимн ему пришлось пис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ловарная работа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0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1830960" y="685800"/>
            <a:ext cx="60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2d8a"/>
                </a:solidFill>
                <a:latin typeface="Times New Roman"/>
                <a:ea typeface="Calibri"/>
              </a:rPr>
              <a:t>О каком котенке идет реч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1523880" y="1600200"/>
            <a:ext cx="670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н ничего не бои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н всегда всё зн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 него нет тёмных пят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т него нет покоя нико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н смелый и ум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2d8a"/>
                </a:solidFill>
                <a:latin typeface="Calibri"/>
              </a:rPr>
              <a:t>Какого котёнка вы бы взя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з        бе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ва         сме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и         ум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тыре     шум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ять        похож на три и д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445080" y="1219320"/>
            <a:ext cx="2095560" cy="20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 кош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4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шки - загадочные животные, то нежные, то злые. Давно живут в доме человека. Психологи утверждают: у кого есть кошка, тот может не бояться одиноч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s://lady-dog.ru/wp-content/uploads/a/4/e/a4ec75df7fb158c009d36d58377221d8.jpeg"/>
          <p:cNvPicPr/>
          <p:nvPr/>
        </p:nvPicPr>
        <p:blipFill>
          <a:blip r:embed="rId1"/>
          <a:stretch/>
        </p:blipFill>
        <p:spPr>
          <a:xfrm>
            <a:off x="4876920" y="3886200"/>
            <a:ext cx="37922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 кош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094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ую роль кошки сыграли в блокадном Ленинграде. Они защищали продовольствие и произведения искусства  от посягательства кры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s://avatars.dzeninfra.ru/get-zen_doc/1708012/pub_5ea2daa55549b61b58d82e31_5ea2e9172115982b7f79cebf/scale_1200"/>
          <p:cNvPicPr/>
          <p:nvPr/>
        </p:nvPicPr>
        <p:blipFill>
          <a:blip r:embed="rId1"/>
          <a:stretch/>
        </p:blipFill>
        <p:spPr>
          <a:xfrm>
            <a:off x="4876920" y="3886200"/>
            <a:ext cx="3504960" cy="23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 кош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6761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вы знаете, что у кошек есть свой особый праздн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марта в России отмечается День ко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https://img.razrisyika.ru/kart/22/1200/87236-kartinka-kotenok-25.jpg"/>
          <p:cNvPicPr/>
          <p:nvPr/>
        </p:nvPicPr>
        <p:blipFill>
          <a:blip r:embed="rId1"/>
          <a:stretch/>
        </p:blipFill>
        <p:spPr>
          <a:xfrm>
            <a:off x="5257800" y="350532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чевая разминка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-РА-РА                         начинается игра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-ВА-ВА                 напилили мы дрова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-РИ-РИ            во все стороны смотри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-РЕ-РЕ              много кошек во дворе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ТЬ-ЯТЬ-ЯТЬ    насчитали ровно пять</a:t>
            </a:r>
            <a:r>
              <a:rPr b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(Радостно, удивлённо, грустно, нежно, 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с восхищением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ите каждую из фра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На уроке мы работали над выразительным чтением стихотворени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Его написал для нас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Главные герои стихотворени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не понравилось на урок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Могу похвалить себя з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s://topuch.com/i-gamazakova-e-grigoreeva-jivaya-azbuka/734897_html_636a411bb78bcad2.jpg"/>
          <p:cNvPicPr/>
          <p:nvPr/>
        </p:nvPicPr>
        <p:blipFill>
          <a:blip r:embed="rId1"/>
          <a:stretch/>
        </p:blipFill>
        <p:spPr>
          <a:xfrm>
            <a:off x="4752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2103480" cy="2994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914400" y="3505320"/>
            <a:ext cx="2039760" cy="267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3581280" y="3581280"/>
            <a:ext cx="190512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4"/>
          <a:stretch/>
        </p:blipFill>
        <p:spPr>
          <a:xfrm>
            <a:off x="3352680" y="457200"/>
            <a:ext cx="2287800" cy="305100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6" descr=""/>
          <p:cNvPicPr/>
          <p:nvPr/>
        </p:nvPicPr>
        <p:blipFill>
          <a:blip r:embed="rId5"/>
          <a:stretch/>
        </p:blipFill>
        <p:spPr>
          <a:xfrm>
            <a:off x="517680" y="2932200"/>
            <a:ext cx="2000160" cy="63972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7" descr=""/>
          <p:cNvPicPr/>
          <p:nvPr/>
        </p:nvPicPr>
        <p:blipFill>
          <a:blip r:embed="rId6"/>
          <a:stretch/>
        </p:blipFill>
        <p:spPr>
          <a:xfrm>
            <a:off x="3413160" y="2779560"/>
            <a:ext cx="2206440" cy="640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s://sun9-60.userapi.com/impf/c626624/v626624185/4de50/NUzY-z3JZ4k.jpg?size=900x1080&amp;quality=96&amp;sign=e8159dc687af055f0ff9ebc975516953&amp;c_uniq_tag=s_6gZES8VvVdxx_u1nZz-2dK1G0d_r9KM7qRLethW1c&amp;type=album"/>
          <p:cNvPicPr/>
          <p:nvPr/>
        </p:nvPicPr>
        <p:blipFill>
          <a:blip r:embed="rId7"/>
          <a:stretch/>
        </p:blipFill>
        <p:spPr>
          <a:xfrm>
            <a:off x="5943600" y="53352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9" descr=""/>
          <p:cNvPicPr/>
          <p:nvPr/>
        </p:nvPicPr>
        <p:blipFill>
          <a:blip r:embed="rId8"/>
          <a:stretch/>
        </p:blipFill>
        <p:spPr>
          <a:xfrm>
            <a:off x="6156360" y="2779560"/>
            <a:ext cx="2079720" cy="64008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0" descr=""/>
          <p:cNvPicPr/>
          <p:nvPr/>
        </p:nvPicPr>
        <p:blipFill>
          <a:blip r:embed="rId9"/>
          <a:stretch/>
        </p:blipFill>
        <p:spPr>
          <a:xfrm>
            <a:off x="774720" y="5767560"/>
            <a:ext cx="213372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2039760" cy="267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581280" y="3581280"/>
            <a:ext cx="1905120" cy="259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3352680" y="457200"/>
            <a:ext cx="2287800" cy="305100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7" descr=""/>
          <p:cNvPicPr/>
          <p:nvPr/>
        </p:nvPicPr>
        <p:blipFill>
          <a:blip r:embed="rId4"/>
          <a:stretch/>
        </p:blipFill>
        <p:spPr>
          <a:xfrm>
            <a:off x="3413160" y="2779560"/>
            <a:ext cx="2206440" cy="64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s://sun9-60.userapi.com/impf/c626624/v626624185/4de50/NUzY-z3JZ4k.jpg?size=900x1080&amp;quality=96&amp;sign=e8159dc687af055f0ff9ebc975516953&amp;c_uniq_tag=s_6gZES8VvVdxx_u1nZz-2dK1G0d_r9KM7qRLethW1c&amp;type=album"/>
          <p:cNvPicPr/>
          <p:nvPr/>
        </p:nvPicPr>
        <p:blipFill>
          <a:blip r:embed="rId5"/>
          <a:stretch/>
        </p:blipFill>
        <p:spPr>
          <a:xfrm>
            <a:off x="5943600" y="53352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9" descr=""/>
          <p:cNvPicPr/>
          <p:nvPr/>
        </p:nvPicPr>
        <p:blipFill>
          <a:blip r:embed="rId6"/>
          <a:stretch/>
        </p:blipFill>
        <p:spPr>
          <a:xfrm>
            <a:off x="6156360" y="2779560"/>
            <a:ext cx="2079720" cy="64008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10" descr=""/>
          <p:cNvPicPr/>
          <p:nvPr/>
        </p:nvPicPr>
        <p:blipFill>
          <a:blip r:embed="rId7"/>
          <a:stretch/>
        </p:blipFill>
        <p:spPr>
          <a:xfrm>
            <a:off x="774720" y="5767560"/>
            <a:ext cx="213372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2039760" cy="267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3581280" y="3581280"/>
            <a:ext cx="1905120" cy="259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s://sun9-60.userapi.com/impf/c626624/v626624185/4de50/NUzY-z3JZ4k.jpg?size=900x1080&amp;quality=96&amp;sign=e8159dc687af055f0ff9ebc975516953&amp;c_uniq_tag=s_6gZES8VvVdxx_u1nZz-2dK1G0d_r9KM7qRLethW1c&amp;type=album"/>
          <p:cNvPicPr/>
          <p:nvPr/>
        </p:nvPicPr>
        <p:blipFill>
          <a:blip r:embed="rId3"/>
          <a:stretch/>
        </p:blipFill>
        <p:spPr>
          <a:xfrm>
            <a:off x="5943600" y="53352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9" descr=""/>
          <p:cNvPicPr/>
          <p:nvPr/>
        </p:nvPicPr>
        <p:blipFill>
          <a:blip r:embed="rId4"/>
          <a:stretch/>
        </p:blipFill>
        <p:spPr>
          <a:xfrm>
            <a:off x="6156360" y="2779560"/>
            <a:ext cx="2079720" cy="64008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10" descr=""/>
          <p:cNvPicPr/>
          <p:nvPr/>
        </p:nvPicPr>
        <p:blipFill>
          <a:blip r:embed="rId5"/>
          <a:stretch/>
        </p:blipFill>
        <p:spPr>
          <a:xfrm>
            <a:off x="774720" y="5767560"/>
            <a:ext cx="213372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2039760" cy="267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3581280" y="3581280"/>
            <a:ext cx="1905120" cy="2590920"/>
          </a:xfrm>
          <a:prstGeom prst="rect">
            <a:avLst/>
          </a:prstGeom>
          <a:ln w="0">
            <a:noFill/>
          </a:ln>
        </p:spPr>
      </p:pic>
      <p:pic>
        <p:nvPicPr>
          <p:cNvPr id="67" name="TextBox 10" descr=""/>
          <p:cNvPicPr/>
          <p:nvPr/>
        </p:nvPicPr>
        <p:blipFill>
          <a:blip r:embed="rId3"/>
          <a:stretch/>
        </p:blipFill>
        <p:spPr>
          <a:xfrm>
            <a:off x="774720" y="5767560"/>
            <a:ext cx="213372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19051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1905120" cy="259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s://sun9-76.userapi.com/impg/qzzFHpha8xRLV12j4xHrh5DLOcujswUKqpEDvQ/cfnE9NX8p1Q.jpg?size=604x324&amp;quality=96&amp;sign=138836929355508c8264ec6ebe1c41fe&amp;type=album"/>
          <p:cNvPicPr/>
          <p:nvPr/>
        </p:nvPicPr>
        <p:blipFill>
          <a:blip r:embed="rId2"/>
          <a:srcRect l="5300" t="27167" r="9937" b="1236"/>
          <a:stretch/>
        </p:blipFill>
        <p:spPr>
          <a:xfrm>
            <a:off x="2133720" y="990720"/>
            <a:ext cx="48765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Сергей Владимирович Михалк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(1913 г.-2009 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095640" y="1905120"/>
            <a:ext cx="29559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user</cp:lastModifiedBy>
  <dcterms:modified xsi:type="dcterms:W3CDTF">2024-01-25T04:57:00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