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7D2-A549-4961-B2F4-57BA3E11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C5D-5CDD-45E4-8BEF-D22969B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67A-5920-4493-B7A8-09951744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2D5-0743-47C1-A9E9-9BEABBE3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1CB-307A-41D9-ABF1-0860027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659-B8FC-45E9-95B0-708A3EA7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F7D-F95E-41AF-B582-48B3B589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C67-70EA-4132-8D3B-5667A75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6C6-066C-4223-A813-79A06AFA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456-0142-4014-AE10-BBF2167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84C-9720-4229-97D6-7429922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45-178F-487B-BBB0-1367511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3500-27C7-4001-8268-C8F4802AC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гей Владимирович Михалков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Котят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img.razrisyika.ru/kart/22/1200/87236-kartinka-kotenok-25.jpg"/>
          <p:cNvPicPr/>
          <p:nvPr/>
        </p:nvPicPr>
        <p:blipFill>
          <a:blip r:embed="rId1"/>
          <a:stretch/>
        </p:blipFill>
        <p:spPr>
          <a:xfrm>
            <a:off x="5334120" y="35812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Михалков родился в 1913 году, 13 марта, в Москве. Число 13 считал счастли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77120" y="3276720"/>
            <a:ext cx="21762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160" y="7621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сять лет Серг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ич написал св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басн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ему исполнилось 14 л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Михалковых переехала в город Пятигорск. Там он  окончил среднюю школу и вернулся в Москву. Он  стал рабочим на одной Московской фабрике. Он очень любил животных. В его доме всегда жили кошки, соб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s://avatars.dzeninfra.ru/get-zen_doc/8265783/pub_640d9d591fc33a521c6595b1_640d9d5b1f03aa1f17396f2b/scale_1200"/>
          <p:cNvPicPr/>
          <p:nvPr/>
        </p:nvPicPr>
        <p:blipFill>
          <a:blip r:embed="rId1"/>
          <a:stretch/>
        </p:blipFill>
        <p:spPr>
          <a:xfrm>
            <a:off x="6705720" y="457200"/>
            <a:ext cx="167328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609480" y="481320"/>
            <a:ext cx="7925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ихалков написал стихи для детей. Их напечатали в журнале «Пионер». Они сразу понравились и читателям, и поэтам. Михалков написал ещё 3 детских стихотворения, затем появился «Дядя Стёпа», стихотворение  «Мы с приятелем». Так Михалков стал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юби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пис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s://great-peoples.ru/wp-content/uploads/2021/09/sergej-mihalkov-7.jpg"/>
          <p:cNvPicPr/>
          <p:nvPr/>
        </p:nvPicPr>
        <p:blipFill>
          <a:blip r:embed="rId1"/>
          <a:stretch/>
        </p:blipFill>
        <p:spPr>
          <a:xfrm>
            <a:off x="5105520" y="40384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21765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685800" y="22860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. Михалков – 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 нашей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 гимн ему пришлось пис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830960" y="68580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Calibri"/>
              </a:rPr>
              <a:t>О каком котенке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523880" y="160020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ичего не бо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н всегда всё зн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него нет тёмных пят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 него нет покоя ник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н смелый и у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Calibri"/>
              </a:rPr>
              <a:t>Какого котёнка вы бы взя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       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        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        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     ш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ять        похож на три и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445080" y="1219320"/>
            <a:ext cx="209556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и - загадочные животные, то нежные, то злые. Давно живут в доме человека. Психологи утверждают: у кого есть кошка, тот может не бояться одино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lady-dog.ru/wp-content/uploads/a/4/e/a4ec75df7fb158c009d36d58377221d8.jpeg"/>
          <p:cNvPicPr/>
          <p:nvPr/>
        </p:nvPicPr>
        <p:blipFill>
          <a:blip r:embed="rId1"/>
          <a:stretch/>
        </p:blipFill>
        <p:spPr>
          <a:xfrm>
            <a:off x="4876920" y="3886200"/>
            <a:ext cx="3792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ую роль кошки сыграли в блокадном Ленинграде. Они защищали продовольствие и произведения искусства  от посягательства кр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avatars.dzeninfra.ru/get-zen_doc/1708012/pub_5ea2daa55549b61b58d82e31_5ea2e9172115982b7f79cebf/scale_1200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6761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ы знаете, что у кошек есть свой особый празд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марта в России отмечается День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s://img.razrisyika.ru/kart/22/1200/87236-kartinka-kotenok-25.jpg"/>
          <p:cNvPicPr/>
          <p:nvPr/>
        </p:nvPicPr>
        <p:blipFill>
          <a:blip r:embed="rId1"/>
          <a:stretch/>
        </p:blipFill>
        <p:spPr>
          <a:xfrm>
            <a:off x="5257800" y="35053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чевая разминк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-РА-РА                         начинается игр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-ВА-ВА                 напилили мы дров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-РИ-РИ            во все стороны смотр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-РЕ-РЕ              много кошек во двор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Ь-ЯТЬ-ЯТЬ    насчитали ровно пять</a:t>
            </a: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Радостно, удивлённо, грустно, нежно,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 восхищением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 каждую из фра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уроке мы работали над выразительным чтением стихотвор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го написал для н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Главные герои стихотвор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не понравилось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огу похвалить себ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s://topuch.com/i-gamazakova-e-grigoreeva-jivaya-azbuka/734897_html_636a411bb78bcad2.jpg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103480" cy="299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3352680" y="457200"/>
            <a:ext cx="2287800" cy="3051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6" descr=""/>
          <p:cNvPicPr/>
          <p:nvPr/>
        </p:nvPicPr>
        <p:blipFill>
          <a:blip r:embed="rId5"/>
          <a:stretch/>
        </p:blipFill>
        <p:spPr>
          <a:xfrm>
            <a:off x="517680" y="2932200"/>
            <a:ext cx="200016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6"/>
          <a:stretch/>
        </p:blipFill>
        <p:spPr>
          <a:xfrm>
            <a:off x="3413160" y="2779560"/>
            <a:ext cx="2206440" cy="6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7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9" descr=""/>
          <p:cNvPicPr/>
          <p:nvPr/>
        </p:nvPicPr>
        <p:blipFill>
          <a:blip r:embed="rId8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0" descr=""/>
          <p:cNvPicPr/>
          <p:nvPr/>
        </p:nvPicPr>
        <p:blipFill>
          <a:blip r:embed="rId9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287800" cy="305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3413160" y="2779560"/>
            <a:ext cx="2206440" cy="64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5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9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0" descr=""/>
          <p:cNvPicPr/>
          <p:nvPr/>
        </p:nvPicPr>
        <p:blipFill>
          <a:blip r:embed="rId7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3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9" descr=""/>
          <p:cNvPicPr/>
          <p:nvPr/>
        </p:nvPicPr>
        <p:blipFill>
          <a:blip r:embed="rId4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0" descr=""/>
          <p:cNvPicPr/>
          <p:nvPr/>
        </p:nvPicPr>
        <p:blipFill>
          <a:blip r:embed="rId5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10" descr=""/>
          <p:cNvPicPr/>
          <p:nvPr/>
        </p:nvPicPr>
        <p:blipFill>
          <a:blip r:embed="rId3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sun9-76.userapi.com/impg/qzzFHpha8xRLV12j4xHrh5DLOcujswUKqpEDvQ/cfnE9NX8p1Q.jpg?size=604x324&amp;quality=96&amp;sign=138836929355508c8264ec6ebe1c41fe&amp;type=album"/>
          <p:cNvPicPr/>
          <p:nvPr/>
        </p:nvPicPr>
        <p:blipFill>
          <a:blip r:embed="rId2"/>
          <a:srcRect l="5300" t="27167" r="9937" b="1236"/>
          <a:stretch/>
        </p:blipFill>
        <p:spPr>
          <a:xfrm>
            <a:off x="2133720" y="990720"/>
            <a:ext cx="48765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ергей Владимирович Михал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(1913 г.-2009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095640" y="1905120"/>
            <a:ext cx="2955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user</cp:lastModifiedBy>
  <dcterms:modified xsi:type="dcterms:W3CDTF">2024-01-25T04:57:00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