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06A-831F-41E7-A2EF-289A4DFA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E7D-7A0E-4C86-A963-24AEE2F1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BDBB0-743F-48D0-BA33-63FFEC4F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A7BDA-82E4-47C5-BD9F-441F19BF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AE5F7-FEB5-4179-B697-5C82C774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F8637-7A0E-42D1-88F5-AC43803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B35C1-876A-457C-8115-36399981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81704-B37A-4548-A252-668D2F3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BD4F9-82DB-47E1-B437-02B352D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C14C5-6DCD-4429-B9F2-48E72BA5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2EACC-83ED-41B1-9425-D9F97E32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532D4-4FE5-4081-ACF5-C8143995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E90-C7F0-4316-A0E0-06CEFFD2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0A22D-B9CE-46E9-AC0E-E44919A9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41741-B4F4-4EF3-8DC5-F0C5F606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90C4A-AA5E-4450-8514-DDD4EE83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86100-B3C0-4CDB-AE78-B1B3D60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E59D4-AA0D-4973-BE25-F66E0D4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841AC-90C6-4110-AC75-4DEB7DD3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4FAFA-73FF-4F26-8821-D53F0ED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0CE60-E2B4-4096-A526-C62D6390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4B2F6-6C52-4122-86F0-4AB39153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90306-6567-4E0F-88CB-02BF8F1F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B97-C255-4C6C-82BB-BF3BF32E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5E540-A75A-444A-94F1-5D1D6DD9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2BD0A-59A5-41F3-8E80-FC94B92D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D0A7E-D2A4-40AC-B9F2-EB010587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B0CDB-6F6D-4165-8FFA-ECFE1482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25456-00F4-4A77-8983-A868B8B4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DC896-89F4-4BD9-88F9-16FC579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15B7B-6AB2-4E6A-A9B1-C347D3CC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3F8A6-F9EB-48BD-A509-16681855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11C4-9FB0-48C0-B461-D94BD9F0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FD835-4249-49DC-8122-A0AEF09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D7A9-96B4-403A-AEE5-DA3877FB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11E31-91C0-4298-8991-30FC1D33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B2143-727E-4835-8F4D-F5B89396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C9B1D-5BB9-4A01-80C3-5227E241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A8EBC-31A0-402A-914A-5B650B6F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E4456-5A4D-490D-8B63-187539F8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12F5B-C269-4944-A863-1C1703C4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981D4-04F3-4873-BA89-C2FDB5AB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51744-F7A6-4C9F-BD6B-8C8D72B4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24DD2-D53B-4148-9590-BA952527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681FA-2F36-4E62-8022-74C7F63D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D1F0-E0FC-47A9-AC10-9F79A3A8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02BAF-9B41-4A76-A3D4-388D2E76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D2DF9-50B8-448F-8AE8-18A4445F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FFAA6-0BF6-4598-B8EA-E939C7ED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B912F-EC9F-4242-B95B-1FEF4C2F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734E0-D2F5-43A6-9881-97307233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B0D39-4613-43F8-A835-F87B23D3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BBFD1-0DBA-42C1-9F23-EAFA38E7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11D98-6B17-4621-817C-4DD060E2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5A126-980F-484F-BAAC-BD6B44A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6CB6B-8E91-4EB3-AFE8-AB5B2B47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023E-1A08-402B-884A-C29668CF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E2550-F857-4E82-AF92-B243DFC1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2153D-7D5E-4E03-B13C-5A9A010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290CC-733C-4E0B-83AE-A667E578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866CB-4AA8-4A4D-A937-4605EC09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C06F3-B2F0-4993-9447-5C7743E5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70167-58E0-4E6A-806C-B8A25DD9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F8426-BE6A-4CF7-BD5A-040F3CB6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9E12-0522-431A-96B8-BFE83CF4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F831-7CEF-47F1-996C-4D272D0E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549F-EA48-44F7-8BFB-CC201EB6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6689-87E7-4A08-BD01-E7D71032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D220-0A46-46BB-BAEF-621446B2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5B47-1566-471A-9D45-ECA33FFE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301A-441A-491F-B93A-9C017427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E626-B016-4B1B-8A38-2256BBAB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E480-66BA-4360-9689-1B2BED34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3405-DA21-47C7-9F91-5C0B74A2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98CA-0078-4DAE-BC60-2CDED72E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0697-8B66-4353-AE43-29D826E3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1427-4E22-407E-8A68-F1DC24EA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8084-261E-46DD-8074-5AA34408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3D89-B51A-4576-AF5D-3A8985C4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8F2-459F-45E2-BCFC-48830169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E534-5EA8-4D28-80B9-4585BD42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5863-3668-4D33-8A3D-6723F9A7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12C8-0B79-43CA-A094-5426021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8539-EA6B-4334-B43B-D22B791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92093-5B48-4C29-9DA2-F8F27D73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A3D9-C4F3-40E9-88B9-36C4D8B5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3324-6C3A-4430-9D0D-31087D11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BBB5-52F8-424C-B788-C473B559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3B57-FB24-464C-A124-554C34A7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83D8-3731-4D68-8568-A9B73D51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DCE-ED1C-400C-A5E4-1CFCDAF5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3DBCB-4386-4334-8AA0-58A37FCE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5D50-7091-403E-A07F-3B2CE216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D8AAF-B2E9-4994-BEA4-9AD2AC90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39D4A-8D85-4C17-8C1E-0C35D8C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2337-F8D1-47A8-A301-2072D00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9C69-C42F-462F-BC00-17A625B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DC329-927F-452D-8503-F81B4A00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E3F4-6D61-4006-BBAB-E41E4958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2C9D-3C2C-4AF2-87A6-8DA16B14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BCAF1-30E2-4A9F-9C8C-9C99EE7C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708-598B-40A5-B03D-8CBA99C2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9065-E279-45CC-BDA5-C288F524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497D7-B208-4732-823B-12A9DE96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B5F2-58E4-458B-A4E6-5F7CD29A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B83C-8CFC-4706-9973-76CB0F40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7DC70-691D-40F2-A4B0-C48DF8C5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1DD21-F846-4210-AAD9-2B78850B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7EE5-ECE6-4392-902B-D5C6DAB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436A3-63BD-424C-B7B1-FF49CF9D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BC5F-A092-4EFD-8401-A0C0F7B9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09602-D742-4DD3-98BE-5D5036C5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422-2503-48B4-B5A1-E681E198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49C2F-388B-433B-9E4B-C5EDE17E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48C5-6BBE-4B06-AA91-C58F1A0E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50132-6A73-40C9-A651-C8E6FD68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16DC9-6F7B-466A-A119-E04A0FBC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E04DA-1C79-45F7-91C3-7F609778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C94C-3868-4C41-A628-FE6D713D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F816B-2B86-4668-BFFD-CB25AFF9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B3D1-302F-419C-9F37-C264744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ED10-14AE-495C-97F0-1D76BA8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6DB6E-BBC8-495C-BCC4-CDBDB68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4B3-C5A3-44E8-A848-C6ACA18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3E321-CC20-4ECA-848E-167076B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5E1DF-DD63-4EB7-9C07-9B0C8765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1DEC9-678E-436F-8461-58BAF17B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342DE-4A52-45E8-BEE1-5E670A9F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EDD34-9E6F-4E21-AE43-72E7FBC5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5192C-F98E-4F8D-AB01-06AAEC68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E00F4-1722-4E9A-8C9C-438F77A1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7A32C-8964-4D9A-8F09-72399D9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7AF61-9F29-47F7-B406-BF96741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D311-AD2B-4CE0-B50E-3E1BC18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E8C-B8E8-4F55-B821-261F316E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6CFBE-DD3E-4DA2-AA0F-201CCAC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8ACD-1021-4A3A-B7E5-62A167DF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83672-3EF3-4B01-93FF-B4A7D328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C7660-6EA0-47A5-81BD-C31E436A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8F98-BE91-4E49-8707-7164BF3E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EDC7F-47FE-41D8-986A-4DE428ED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50B07-CC83-4E5C-AD9D-460A23EC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9A5A7-B792-4F41-8077-2AA40C17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D7594-B84A-47F6-A9EB-585950C6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A694A-334A-4E8D-933B-BCFF1277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094-363B-453F-B073-ED88A500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35465-BF0D-4ADC-8817-D34F645C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57085-FF9F-4332-A61D-94DB24C3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FEBEE-60D1-4B28-89C9-F6E1F7D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E8F2F-FEF1-41A3-AB63-68A1EAE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B5717-F5FD-434D-8600-C06B7241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D63BC-2535-4BCD-8871-3ECA41BC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F7B0B-8713-4A48-9071-669C3D5A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EA736-375C-404E-BDEC-420B7EA5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53AA0-F430-4A74-BA63-E9862004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43740-A944-49A7-9ADD-E81CE6A4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1817-EB18-4205-918E-1F733CF60C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BB7C-182C-4EF8-8942-B2271375E26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0C90-86CF-4744-A604-A7A0659A522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F59D-4A25-4E9A-A40D-D21CAC01800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1DF7-065C-4F3A-BD7C-C40A70380DD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FE17-27D9-48A5-B091-F1E64BB3817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ABEF-73FD-420C-BBB4-AC86098104D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AC33-825C-4921-861A-ACB820954DD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D41-E24A-4F97-A4F8-16204E4EB35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5F28-C8DB-404A-BA0A-0BE6A8C2D4E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972E-D1AC-4A93-A303-64C7EBFEF3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251B-2E25-47FD-9BC0-DB119F6B311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12BE-A63D-456C-A613-9BBC66731B1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403280" y="600048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46b86"/>
                </a:solidFill>
                <a:latin typeface="Century Schoolbook"/>
              </a:rPr>
              <a:t>ТИМОФЕЕВ М.А. МОУ «СОШ №50» Г. КУРГАН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Блокада Ленинграда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8" name="Picture 7" descr="101540"/>
          <p:cNvPicPr/>
          <p:nvPr/>
        </p:nvPicPr>
        <p:blipFill>
          <a:blip r:embed="rId1"/>
          <a:stretch/>
        </p:blipFill>
        <p:spPr>
          <a:xfrm>
            <a:off x="2786040" y="1857240"/>
            <a:ext cx="3571920" cy="407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Рисунок6"/>
          <p:cNvPicPr/>
          <p:nvPr/>
        </p:nvPicPr>
        <p:blipFill>
          <a:blip r:embed="rId1"/>
          <a:stretch/>
        </p:blipFill>
        <p:spPr>
          <a:xfrm>
            <a:off x="990720" y="42876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рога Жизни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79280" y="1600200"/>
            <a:ext cx="41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ля подвоза продовольствия и боеприпасов оставалась единственная коммуникация - по Ладожскому озеру. К началу войны оно было мало освоено и практически не изучено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5148360" y="5734080"/>
          <a:ext cx="3668760" cy="396720"/>
        </p:xfrm>
        <a:graphic>
          <a:graphicData uri="http://schemas.openxmlformats.org/drawingml/2006/table">
            <a:tbl>
              <a:tblPr/>
              <a:tblGrid>
                <a:gridCol w="3668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 ЖИЗН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6" name="Picture 10" descr="ДОРОГА ЖИЗНИ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427640" y="1434960"/>
            <a:ext cx="4537080" cy="3403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915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аботники дорожной службы ежедневно измеряли толщину льда на всём озере, но были не в силах ускорить его нарастание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0 ноября толщина льда достигла 180 мм. На лёд вышли конные обозы…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7" descr="imag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5" descr="image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55432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"</a:t>
            </a:r>
            <a:r>
              <a:rPr b="1" lang="ru-RU" sz="3300" spc="-1" strike="noStrike">
                <a:solidFill>
                  <a:srgbClr val="ffffff"/>
                </a:solidFill>
                <a:latin typeface="Georgia"/>
              </a:rPr>
              <a:t>Дорога жизни"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advTm="6000">
    <p:newsflash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3" descr="''Дорога жизни''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2936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32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- как легенда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ак песня, как знам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 этой дороги не будет конца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навсегда пролегла через пам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веки прошла через наши серд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атолий Молчанов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3" name="Picture 3" descr="1487"/>
          <p:cNvPicPr/>
          <p:nvPr/>
        </p:nvPicPr>
        <p:blipFill>
          <a:blip r:embed="rId1"/>
          <a:stretch/>
        </p:blipFill>
        <p:spPr>
          <a:xfrm>
            <a:off x="4932360" y="3643200"/>
            <a:ext cx="3672000" cy="25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95280" y="3933720"/>
            <a:ext cx="8291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 13 ноября 1941 года норма выдачи хлеба населению была снижена. Теперь рабочие и инженерно-технические работники получали по 300 граммов хлеба, все остальные - по 150. 20 ноября и этот скудный паёк пришлось урезать. Население стало получать самую низкую норму за всё время блокады - 250 граммов на рабочую карточку и 125 граммов - на все остальные. В Ленинграде начался голод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8" descr="БОМБЕЖКА ЛЕНИНГРАДА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1547640" y="260280"/>
            <a:ext cx="5832720" cy="347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9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25 блокадных грамм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63280" y="160020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 шумите вокруг - он дыши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 живой еще, он все слышит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 из недр его вопли: "Хлеба!" 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о седьмого доходят неба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 безжалостна эта тверд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глядит из всех окон - смер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нна Ахматов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1456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592920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лилась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 8 сентября 1941 по 27 января 1944 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прорвана 18 января 1943) — 871 день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3" descr="12bi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62320" y="2438280"/>
            <a:ext cx="4114800" cy="3705480"/>
          </a:xfrm>
          <a:prstGeom prst="rect">
            <a:avLst/>
          </a:prstGeom>
          <a:ln w="0">
            <a:noFill/>
          </a:ln>
        </p:spPr>
      </p:pic>
    </p:spTree>
  </p:cSld>
  <p:transition advTm="11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pic4"/>
          <p:cNvPicPr/>
          <p:nvPr/>
        </p:nvPicPr>
        <p:blipFill>
          <a:blip r:embed="rId1"/>
          <a:stretch/>
        </p:blipFill>
        <p:spPr>
          <a:xfrm>
            <a:off x="1214280" y="285840"/>
            <a:ext cx="7000920" cy="5857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IMG_4673_500"/>
          <p:cNvPicPr/>
          <p:nvPr/>
        </p:nvPicPr>
        <p:blipFill>
          <a:blip r:embed="rId1"/>
          <a:stretch/>
        </p:blipFill>
        <p:spPr>
          <a:xfrm>
            <a:off x="2286000" y="285840"/>
            <a:ext cx="4700520" cy="57150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5" descr="1941_10"/>
          <p:cNvPicPr/>
          <p:nvPr/>
        </p:nvPicPr>
        <p:blipFill>
          <a:blip r:embed="rId1"/>
          <a:stretch/>
        </p:blipFill>
        <p:spPr>
          <a:xfrm>
            <a:off x="1905120" y="357120"/>
            <a:ext cx="5308560" cy="592956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Город и его борьба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14200" y="1689120"/>
            <a:ext cx="36417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город жил и боролся. Заводы продолжали выпускать военную продукцию. Голодные измученные люди находили в себе силы работать. Мужчины, женщины и подростки стояли у станк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Rectangle 238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39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237" descr="КОЛОННА САУ СУ-122 НАПРАВЛЯЕТСЯ НА ФРОНТ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284720" y="1214280"/>
            <a:ext cx="4608360" cy="435780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241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Рисунок2а"/>
          <p:cNvPicPr/>
          <p:nvPr/>
        </p:nvPicPr>
        <p:blipFill>
          <a:blip r:embed="rId1"/>
          <a:stretch/>
        </p:blipFill>
        <p:spPr>
          <a:xfrm>
            <a:off x="493560" y="285840"/>
            <a:ext cx="8156880" cy="607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prospekt"/>
          <p:cNvPicPr/>
          <p:nvPr/>
        </p:nvPicPr>
        <p:blipFill>
          <a:blip r:embed="rId1"/>
          <a:stretch/>
        </p:blipFill>
        <p:spPr>
          <a:xfrm>
            <a:off x="0" y="0"/>
            <a:ext cx="9144000" cy="61578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evakuacia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073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female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1563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«Ленинградская» симфо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 августа 1941 года немцы обещали занять Ленинград. Ровно год спустя в несломленном городе состоялась премьера 7-й симфонии Шостаковича, которую впоследствии назовут "Ленинградской". Зал был полон - очереди за билетами в Большой зал городской филармонии были длиннее, чем в булочны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4" name="Picture 7" descr="blokadaf"/>
          <p:cNvPicPr/>
          <p:nvPr/>
        </p:nvPicPr>
        <p:blipFill>
          <a:blip r:embed="rId1"/>
          <a:stretch/>
        </p:blipFill>
        <p:spPr>
          <a:xfrm>
            <a:off x="4834080" y="1628640"/>
            <a:ext cx="4039920" cy="46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shostakovich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0724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- это неслыханное испытание человека на человечность, достоинство, любовь к близким, сострадание, сердечность. Эти испытания были ежедневными, страшными, потому что голод представить вообще невозможно, не пережив его…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3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4" descr="Рисунок14"/>
          <p:cNvPicPr/>
          <p:nvPr/>
        </p:nvPicPr>
        <p:blipFill>
          <a:blip r:embed="rId1"/>
          <a:stretch/>
        </p:blipFill>
        <p:spPr>
          <a:xfrm>
            <a:off x="457200" y="214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 момент установки блокады в городе находилось 2 миллиона 544 тысячи человек гражданского населения, в том числе около 400 тысяч детей. Кроме того, в пригородных районах (в кольце блокады) осталось 343 тысячи человек. В сентябре, когда начались систематические бомбардировки, обстрелы и пожары, многие тысячи семей хотели бы выехать, но пути были отрезаны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Рисунок10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565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Маленькая записная книж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0" name="Picture 4" descr="blokadae"/>
          <p:cNvPicPr/>
          <p:nvPr/>
        </p:nvPicPr>
        <p:blipFill>
          <a:blip r:embed="rId1"/>
          <a:stretch/>
        </p:blipFill>
        <p:spPr>
          <a:xfrm>
            <a:off x="2484360" y="1500120"/>
            <a:ext cx="4243320" cy="46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8" descr="Рисунок8"/>
          <p:cNvPicPr/>
          <p:nvPr/>
        </p:nvPicPr>
        <p:blipFill>
          <a:blip r:embed="rId1"/>
          <a:stretch/>
        </p:blipFill>
        <p:spPr>
          <a:xfrm>
            <a:off x="135000" y="260280"/>
            <a:ext cx="2344680" cy="3241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9" descr="Рисунок9"/>
          <p:cNvPicPr/>
          <p:nvPr/>
        </p:nvPicPr>
        <p:blipFill>
          <a:blip r:embed="rId2"/>
          <a:stretch/>
        </p:blipFill>
        <p:spPr>
          <a:xfrm>
            <a:off x="2484360" y="271440"/>
            <a:ext cx="6659640" cy="32338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0" descr="Рисунок8"/>
          <p:cNvPicPr/>
          <p:nvPr/>
        </p:nvPicPr>
        <p:blipFill>
          <a:blip r:embed="rId3"/>
          <a:stretch/>
        </p:blipFill>
        <p:spPr>
          <a:xfrm>
            <a:off x="0" y="3733920"/>
            <a:ext cx="5370480" cy="29350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1" descr="Рисунок9"/>
          <p:cNvPicPr/>
          <p:nvPr/>
        </p:nvPicPr>
        <p:blipFill>
          <a:blip r:embed="rId4"/>
          <a:stretch/>
        </p:blipFill>
        <p:spPr>
          <a:xfrm>
            <a:off x="5334120" y="3733920"/>
            <a:ext cx="3809880" cy="293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Рисунок12"/>
          <p:cNvPicPr/>
          <p:nvPr/>
        </p:nvPicPr>
        <p:blipFill>
          <a:blip r:embed="rId1"/>
          <a:stretch/>
        </p:blipFill>
        <p:spPr>
          <a:xfrm>
            <a:off x="1127160" y="357120"/>
            <a:ext cx="6469200" cy="585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комплекс Дневник Тани Савичевой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7" name="Picture 3" descr="Дневник Тани Савичевой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4043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орыв и снятие блокады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1197000"/>
            <a:ext cx="421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27 января 1944 года войска Ленинградского и Волховского фронтов взломали оборону 18-й немецкой армии, разгромили её основные силы и продвинулись на 60 километров в глубину. Видя реальную угрозу окружения, немцы отступили. С освобождением Пушкина, Гатчины и Чудово блокада Ленинграда была полностью снят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0" name="Picture 8" descr="002"/>
          <p:cNvPicPr/>
          <p:nvPr/>
        </p:nvPicPr>
        <p:blipFill>
          <a:blip r:embed="rId1"/>
          <a:stretch/>
        </p:blipFill>
        <p:spPr>
          <a:xfrm>
            <a:off x="4619520" y="981000"/>
            <a:ext cx="4280040" cy="568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6" descr="1943_25"/>
          <p:cNvPicPr/>
          <p:nvPr/>
        </p:nvPicPr>
        <p:blipFill>
          <a:blip r:embed="rId1"/>
          <a:stretch/>
        </p:blipFill>
        <p:spPr>
          <a:xfrm>
            <a:off x="762120" y="380880"/>
            <a:ext cx="7596000" cy="60246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1943_15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6" descr="1941_43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6" descr="image"/>
          <p:cNvPicPr/>
          <p:nvPr/>
        </p:nvPicPr>
        <p:blipFill>
          <a:blip r:embed="rId1"/>
          <a:stretch/>
        </p:blipFill>
        <p:spPr>
          <a:xfrm>
            <a:off x="0" y="0"/>
            <a:ext cx="8988480" cy="62150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На Неве во время праздничного салюта в День Победы. 9 мая  1945 г. Место съемки: г.Ленинград. Автор съемки:   Федосеев В. . ЦГАКФФД СПб,ед. хр. Ар-62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 годы блокады погибло по разным данным от 400 тыс. до 1 млн. человек. Причем только 3% из них от бомбежек, артобстрелов и т.д., а остальные 97% от голод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42960" y="28584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"Разорванное кольцо" на Ладожском озере у Вагановского спус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7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490860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Санкт-Петербург, Крестовский остров, Приморский парк Победы"/>
          <p:cNvPicPr/>
          <p:nvPr/>
        </p:nvPicPr>
        <p:blipFill>
          <a:blip r:embed="rId1"/>
          <a:stretch/>
        </p:blipFill>
        <p:spPr>
          <a:xfrm>
            <a:off x="1500120" y="2286000"/>
            <a:ext cx="6286680" cy="400536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83908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иморский парк Победы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ыл заложен в октябре 1945 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честь морских военных побед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рх. А.С.Никольский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90560" y="69228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ансамбль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 на Пискаревском кладбище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1" name="Picture 3" descr="Санкт-Петербург, Улицы и события, Мемориальный ансамбль на Пискаревском кладбище"/>
          <p:cNvPicPr/>
          <p:nvPr/>
        </p:nvPicPr>
        <p:blipFill>
          <a:blip r:embed="rId1"/>
          <a:stretch/>
        </p:blipFill>
        <p:spPr>
          <a:xfrm>
            <a:off x="1332000" y="2133720"/>
            <a:ext cx="6480000" cy="3970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Санкт-Петербург, Памятники, Мемориал &quot;Защитникам Ленинграда&quot; (1969-1975 г.)"/>
          <p:cNvPicPr/>
          <p:nvPr/>
        </p:nvPicPr>
        <p:blipFill>
          <a:blip r:embed="rId1"/>
          <a:stretch/>
        </p:blipFill>
        <p:spPr>
          <a:xfrm>
            <a:off x="4859280" y="404640"/>
            <a:ext cx="4056120" cy="58104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нсамбль площади Победы.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онумент героическим защитникам Ленингра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974-75гг.</a:t>
            </a:r>
            <a:br>
              <a:rPr sz="32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кульптор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М.К. Аникушин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арх.С.Б. Сперанский, В.А.Каменский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11700155"/>
          <p:cNvPicPr/>
          <p:nvPr/>
        </p:nvPicPr>
        <p:blipFill>
          <a:blip r:embed="rId1"/>
          <a:stretch/>
        </p:blipFill>
        <p:spPr>
          <a:xfrm>
            <a:off x="357120" y="914400"/>
            <a:ext cx="8358120" cy="537228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3"/>
          <p:cNvSpPr/>
          <p:nvPr/>
        </p:nvSpPr>
        <p:spPr>
          <a:xfrm>
            <a:off x="176364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нсамбль площади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Санкт-Петербург, Московский проспект, Мемориал &quot;Защитникам Ленинграда&quot; (1969-1975 г.)"/>
          <p:cNvPicPr/>
          <p:nvPr/>
        </p:nvPicPr>
        <p:blipFill>
          <a:blip r:embed="rId1"/>
          <a:stretch/>
        </p:blipFill>
        <p:spPr>
          <a:xfrm>
            <a:off x="571680" y="304920"/>
            <a:ext cx="7816680" cy="591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Героическая оборона Ленинграда - это массовый, всенародный подвиг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8" name="Picture 3" descr="Фрагмент памятника"/>
          <p:cNvPicPr/>
          <p:nvPr/>
        </p:nvPicPr>
        <p:blipFill>
          <a:blip r:embed="rId1"/>
          <a:stretch/>
        </p:blipFill>
        <p:spPr>
          <a:xfrm>
            <a:off x="1143000" y="2057400"/>
            <a:ext cx="6642000" cy="4419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blokada4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17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локадное объявление - предупреждение сохраняется в наши дни на Невском пр., - уже как памятная доск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0" name="Picture 3" descr="monument82"/>
          <p:cNvPicPr/>
          <p:nvPr/>
        </p:nvPicPr>
        <p:blipFill>
          <a:blip r:embed="rId1"/>
          <a:stretch/>
        </p:blipFill>
        <p:spPr>
          <a:xfrm>
            <a:off x="4716360" y="357120"/>
            <a:ext cx="3810240" cy="578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4"/>
          <p:cNvSpPr/>
          <p:nvPr/>
        </p:nvSpPr>
        <p:spPr>
          <a:xfrm>
            <a:off x="395280" y="442080"/>
            <a:ext cx="705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, кто пережил блокаду, были обычными людьми. Они сумели совершить невозможное - пережить ледяной ад. И не только пережить, но и остаться людьми. Они уходят, и вместе с ними уходит история. От нас зависит, чтобы она не уш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всег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8" descr="0"/>
          <p:cNvPicPr/>
          <p:nvPr/>
        </p:nvPicPr>
        <p:blipFill>
          <a:blip r:embed="rId1"/>
          <a:stretch/>
        </p:blipFill>
        <p:spPr>
          <a:xfrm>
            <a:off x="6300720" y="4157640"/>
            <a:ext cx="2556000" cy="2459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Georgia"/>
              </a:rPr>
              <a:t>Из тезисов немецкого доклада "О блокаде Ленинграда", 21 сентября</a:t>
            </a:r>
            <a:r>
              <a:rPr b="1" lang="ru-RU" sz="29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начала мы блокируем Ленинград и разрушаем город артиллерией и авиацией... Весной мы проникнем в город... вывезем всё, что осталось живое, в глубь России или возьмём в плен, сровняем Ленинград с землёй и передадим район севернее Невы Финлянд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Тучи над городом встали...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00" y="160020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 момент установления блокады в городе находилось 2 миллиона 544 тысячи человек, в том числе около 400 тысяч детей. Кроме того, в пригородных районах, то есть тоже в кольце блокады, осталось 343 тысячи человек. В сентябре, когда начались систематические бомбардировки, обстрелы и пожары, многие хотели выехать, но пути уже были отрезан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8" descr="blokada"/>
          <p:cNvPicPr/>
          <p:nvPr/>
        </p:nvPicPr>
        <p:blipFill>
          <a:blip r:embed="rId1"/>
          <a:stretch/>
        </p:blipFill>
        <p:spPr>
          <a:xfrm>
            <a:off x="179280" y="1989000"/>
            <a:ext cx="5077080" cy="3418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005%5B1%5D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3262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leningrad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574812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20:41Z</dcterms:created>
  <dc:creator>1</dc:creator>
  <dc:description/>
  <dc:language>en-US</dc:language>
  <cp:lastModifiedBy>Олег</cp:lastModifiedBy>
  <dcterms:modified xsi:type="dcterms:W3CDTF">2011-01-23T20:04:31Z</dcterms:modified>
  <cp:revision>17</cp:revision>
  <dc:subject/>
  <dc:title>Блокада Ленинграда </dc:title>
</cp:coreProperties>
</file>