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gif" ContentType="image/gif"/>
  <Override PartName="/ppt/media/image11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31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12.jpeg" ContentType="image/jpeg"/>
  <Override PartName="/ppt/media/image34.jpeg" ContentType="image/jpeg"/>
  <Override PartName="/ppt/media/image28.jpeg" ContentType="image/jpeg"/>
  <Override PartName="/ppt/media/image43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13.jpeg" ContentType="image/jpeg"/>
  <Override PartName="/ppt/media/image46.jpeg" ContentType="image/jpeg"/>
  <Override PartName="/ppt/media/image48.png" ContentType="image/png"/>
  <Override PartName="/ppt/media/image9.jpeg" ContentType="image/jpeg"/>
  <Override PartName="/ppt/media/image4.jpeg" ContentType="image/jpeg"/>
  <Override PartName="/ppt/media/image40.png" ContentType="image/png"/>
  <Override PartName="/ppt/media/image30.jpeg" ContentType="image/jpeg"/>
  <Override PartName="/ppt/media/image47.jpeg" ContentType="image/jpeg"/>
  <Override PartName="/ppt/media/image39.jpeg" ContentType="image/jpeg"/>
  <Override PartName="/ppt/media/image8.jpeg" ContentType="image/jpeg"/>
  <Override PartName="/ppt/media/image29.jpeg" ContentType="image/jpeg"/>
  <Override PartName="/ppt/media/image10.png" ContentType="image/png"/>
  <Override PartName="/ppt/media/image35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  <p:sldId id="289" r:id="rId48"/>
    <p:sldId id="290" r:id="rId49"/>
    <p:sldId id="291" r:id="rId50"/>
    <p:sldId id="292" r:id="rId51"/>
    <p:sldId id="293" r:id="rId52"/>
    <p:sldId id="294" r:id="rId53"/>
    <p:sldId id="295" r:id="rId54"/>
    <p:sldId id="296" r:id="rId55"/>
    <p:sldId id="297" r:id="rId56"/>
    <p:sldId id="298" r:id="rId57"/>
    <p:sldId id="299" r:id="rId58"/>
    <p:sldId id="300" r:id="rId59"/>
    <p:sldId id="301" r:id="rId60"/>
    <p:sldId id="302" r:id="rId61"/>
    <p:sldId id="303" r:id="rId62"/>
    <p:sldId id="304" r:id="rId63"/>
    <p:sldId id="305" r:id="rId64"/>
    <p:sldId id="306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slide" Target="slides/slide34.xml"/><Relationship Id="rId49" Type="http://schemas.openxmlformats.org/officeDocument/2006/relationships/slide" Target="slides/slide35.xml"/><Relationship Id="rId50" Type="http://schemas.openxmlformats.org/officeDocument/2006/relationships/slide" Target="slides/slide36.xml"/><Relationship Id="rId51" Type="http://schemas.openxmlformats.org/officeDocument/2006/relationships/slide" Target="slides/slide37.xml"/><Relationship Id="rId52" Type="http://schemas.openxmlformats.org/officeDocument/2006/relationships/slide" Target="slides/slide38.xml"/><Relationship Id="rId53" Type="http://schemas.openxmlformats.org/officeDocument/2006/relationships/slide" Target="slides/slide39.xml"/><Relationship Id="rId54" Type="http://schemas.openxmlformats.org/officeDocument/2006/relationships/slide" Target="slides/slide40.xml"/><Relationship Id="rId55" Type="http://schemas.openxmlformats.org/officeDocument/2006/relationships/slide" Target="slides/slide41.xml"/><Relationship Id="rId56" Type="http://schemas.openxmlformats.org/officeDocument/2006/relationships/slide" Target="slides/slide42.xml"/><Relationship Id="rId57" Type="http://schemas.openxmlformats.org/officeDocument/2006/relationships/slide" Target="slides/slide43.xml"/><Relationship Id="rId58" Type="http://schemas.openxmlformats.org/officeDocument/2006/relationships/slide" Target="slides/slide44.xml"/><Relationship Id="rId59" Type="http://schemas.openxmlformats.org/officeDocument/2006/relationships/slide" Target="slides/slide45.xml"/><Relationship Id="rId60" Type="http://schemas.openxmlformats.org/officeDocument/2006/relationships/slide" Target="slides/slide46.xml"/><Relationship Id="rId61" Type="http://schemas.openxmlformats.org/officeDocument/2006/relationships/slide" Target="slides/slide47.xml"/><Relationship Id="rId62" Type="http://schemas.openxmlformats.org/officeDocument/2006/relationships/slide" Target="slides/slide48.xml"/><Relationship Id="rId63" Type="http://schemas.openxmlformats.org/officeDocument/2006/relationships/slide" Target="slides/slide49.xml"/><Relationship Id="rId64" Type="http://schemas.openxmlformats.org/officeDocument/2006/relationships/slide" Target="slides/slide50.xml"/><Relationship Id="rId65" Type="http://schemas.openxmlformats.org/officeDocument/2006/relationships/slide" Target="slides/slide51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498F7-28D5-4E3B-B3C1-664505B47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FBF16-A877-41F5-8712-2ABDE85F8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FA51F65-D60A-4DB5-894A-1DCC87927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EBDA55E-1FCC-4166-9802-945DFB2A4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6B58A25-C043-4FDE-BCD9-95D99F2C3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B4B2DC5-A938-4A9E-B2C3-ACACAECF2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880BD7A-7F77-4558-86A7-9DF131DAC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82C4A3D-FA33-4B85-BAB5-1CBD55B07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E8983FB-EFB8-4A25-BAB1-D118C1D92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1C779C6-0FD8-4D2E-B0BA-C0D83B7F2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9AB8796-D9B0-43CE-8910-A3034E2CD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3D79845-392E-44A4-86B7-EAE2626C5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4CDD8-2EFD-4A28-A594-B7BB4190B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3EB8A4F-DC70-4ED8-84B8-D2B00F789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4C82DC0-9718-43D9-878C-4FD90A819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8FBCF28-D471-4DF5-BC23-E00A69EDE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4643BEC-38DB-4601-BA92-3B91A700F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FAF2531-78C5-46C8-8C5A-1E5A6C95E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DBC014F-BC21-4CCD-A642-4AE8EDFC3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079887F-7A7B-4FB9-B0F0-FBF6EF240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F283F3C-EAC4-4911-A86D-414D9E30F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F822C86-0359-4904-BC8D-FE9EEFDFB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F9D8479-965C-466B-9DB7-E6234CC22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4A109-0161-43AB-B79C-4250B6115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7CBA48D-D0BE-4ECF-A93F-349447670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CCB80C-C76E-4194-BCD9-B1B5E0D61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C0B831-348E-4A50-9456-F08ECB822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9F2EC7-79A4-4DA4-9498-95BDCFF1C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C0D02C-C364-4743-9A8D-754752657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1C27A4-3715-41E5-ADC1-8D73A09E8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88C672-91C0-4BA6-A4BF-637C3CD89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887F81-A2F5-4267-BAD1-E8BC5F68A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18D7E3-15C6-4DF3-A16A-B3C9B2443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F02D8C-797B-4F11-BE28-019EA28C0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9DFF0-2A04-4006-8844-AC94EFB1E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CAAB23-A340-4EF8-A15C-AEF4E55E1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21027D-21D6-4C63-BB6E-570F95EA9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9A3FC4-6303-4074-9730-4C6901D52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E5F129D-EDDB-4DB5-9AFC-78FCFE99A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83CC1D8-FBD4-4F11-83C9-DE9DCA380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A02A16B-7108-4AB3-BB6E-9C2E0181C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946A779-0058-4320-BACE-36FB8D99A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48B6231-DA94-4C3E-ABFC-9C54F6501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701D205-53B7-4054-AF4A-C36484D7E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F0F80B0-5D47-4155-8962-038E39708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77A3F-10C1-42D0-BCAD-1D2858690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CC52371-CF2D-4EB2-9A7B-3520C9FB2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950AB19-B899-470B-9FAE-73D68E472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F31F51C-E9A7-4A64-90C4-7F077701E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6A9FC20-C55B-45A8-95B0-B1381482C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0A8D15B-0216-45C6-A11F-207E128F8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99E33A6-2847-4B56-87FA-7C2FA99D5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F859995-83A4-490F-89CB-26A49C715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D4BA917-1BF8-4F44-B1EB-3C3B4D82E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95271C0-568D-4279-91EF-AFD0D514C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5AD419A-8A90-4C52-9717-A3DC2532B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5F0F6-933C-43FE-9CAC-499358402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2B5DDC3-BB1B-4CC5-A94B-375DF2283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C715CC8-83D1-4E49-ADEF-3881043C0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E295059-7B38-4246-AD0A-EDFBF65B7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A3D45A5-5F40-4061-8409-02F5625F6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20E5C6F-447B-4333-82BE-8BB0AF3A4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A537CD9-EC55-426A-84F4-97C2B6803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95BA23D-5B12-4DE5-8234-737E25313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27428-0343-4FEC-A19B-6284C1E71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FE255-66C2-4293-973D-C24448662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B91B5-59FC-4CD7-9F1E-3A46B2BEB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75FB6-F150-4F29-AA25-2ACE0B73E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91B8A-C2C3-4950-B425-8608B6E88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32EBC-3C9F-4F3B-BC46-954853394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8B2EB-D7CB-4157-9894-F2FADEB60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B62A2-4B8F-4890-9B22-54741E5B0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9101A-F159-4693-942D-B78F92996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10023-1B09-4626-B51E-314B08EF5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95055F-C3C0-4C34-8523-9015AF9CF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D214FF-F337-424E-923B-65DA09C72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B8CD8B-F550-4AA0-BFA7-B9A1FBA14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E9B193-813D-4FEB-A267-65F8A2612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316ECE-4E35-4A04-BBA4-05EB2B73E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3D039-29B3-480D-96F4-A8358C539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4361FF-86C7-420E-A5C8-83E970CB0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1680AE-D4BB-4F8F-AF8B-24E839253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170C33-BD04-4F5F-8091-9C1322163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2BD17E-CD79-491F-910A-EE0DC6439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89A8A2-0B68-4C32-B4E5-9773C5047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4CB6AC-DF22-4B2D-924F-52B92D20A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57A476-8320-4D45-89C5-9C36BC7BF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638035-FF7D-475D-BD13-256F45287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AC70BC-BF77-4287-A4E2-55F2D4DE3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8137D4-A6EF-4894-AD6E-E2EDD9E16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9D6AB-7483-4C7C-957B-FB9D7F366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A05173-D4C8-4B12-9715-2566D63AF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83A227-F9DD-4DF8-AD8B-91EA8F77C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90C5CD-32FB-4CB7-9984-954301C9F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0C29D4-C2DB-44EF-A236-AC4C11BFC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AC99FA-144B-46B4-987D-44B16E686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188789-8EFF-43FF-B756-19DFA13F3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66508F-5001-417E-A4DF-9290FBB6C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AEE513-BFBD-4965-B903-DF7A20071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A83FE7-34A7-42F0-801B-F150632E1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4681A1-B07B-4A8E-803D-5D2FCEA12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BD058-28E4-45C3-9863-9A5C8172B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8D668C-5DC6-4102-8BA9-E77DA2942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7C6177-B929-44EF-84CA-C7D41B7C5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BC6FB1-A574-479D-9491-A66B81601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91C8EF-CA64-48DD-A4DF-1FFBEA54B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888433-E272-4E64-A1A3-86BEB54B5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D5A45B-F131-4A03-B0CE-7263C9255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026A80-B1DC-4418-B7DB-5C569F06E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934920-6B4F-4FEC-B89E-E20FB43D2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F35D77-1088-4D01-BCEE-76B2EA899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0C6A2A-E978-454E-90AC-CC9CB55D6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BA620-75F0-4662-A2AD-F733694FC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6687C3-A8FA-421C-92CE-57EF94925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479649-C528-4335-9CF9-2C41D2A0B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B1DC38-600D-4066-9DF4-1B7A67A02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7BD7DA-7705-439A-AFD2-D69A838B4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55572A-7B8C-4526-A555-969E4921A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DE713D-F9D1-44BA-8A56-036938A2F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887F2D-A01E-4DCD-A87C-192A6792A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960A35-939F-4CC5-B709-9BE0A6A6A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29D2AE-EBB0-4083-BEBB-9E5351F20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32351A-AD0A-47A1-B9C2-9333ADF1C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2CFF2-3EF2-4373-B832-532E31AD3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24A54C-F686-4D42-ACCC-0477EBB08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060D53-E2A9-4DA4-A792-5574AD637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7EE8CE-BB9A-43DF-BF94-DDDAE74A8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EE22C7-4ECC-4470-965D-D20223842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20892D-BBB2-4CCA-BF6B-22C23F4FB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F720A6-E950-4230-92EE-20F6DA668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C7A727-FF9C-4E72-B8D8-3D9BA7335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C7C3D2-7FFB-464D-A221-A82656242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6D7B7A-CAD6-49A0-9118-6215EC638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029031-BA97-4D64-A2EA-6413AD316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82405-4B38-4BEF-B384-BEE9DDA40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C12143-3F80-4A61-839D-B9145FEA5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2A6DC1-002C-47C6-BB96-B27C445F1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DEC6E0-0DC1-4D2D-AB68-0E22B4D99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5EB236-0AAB-4DA7-B9EB-F3391C44A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C70FBC-071F-48B5-A406-EBFD1DD5F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891C85-F70B-4332-AF9C-C5EC2B15C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EBC2B0-754D-448B-BD81-31062EAB5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51DC7A-61AF-4A24-9E1D-C26D7FD1C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1798C9-A97F-4093-8CB4-2BE593B44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4E747F-A6B6-4B30-9E14-9C99B5DE2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7606A-DB93-481D-8260-4350CD0C6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2F2E67-5010-4575-AE7A-F1EFE6028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61D869-2E00-446B-BC43-230544D74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02FAA5-05DD-4C06-8D1A-A4BC9F3B4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34C766-97E8-4DB7-BA6F-DC754CEB3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15A53A-5B43-4634-BBC1-D7A061DE8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257619-105D-4C2F-82F9-1B2797357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8F977F-667A-4308-9526-6AD82C6A9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F5DB721-B1C5-4A0D-B826-A752C3740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D848541-17F1-4247-90A1-7155650C7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EEC6ECC-FF98-444C-885F-CD642FDEB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FCE5B-8A71-413A-815D-B2B074F5735A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Прямая соединительная линия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Прямоугольник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Прямоугольник 25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Прямоугольник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Прямоугольник 2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Овал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Овал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Прямоугольник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DE8EC-809D-45A7-96FB-0EB01602FE16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E5D49-26C5-4EB6-BEBF-F27AB9F2AA76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Прямоугольник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Прямоугольник 21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Прямоугольник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Прямоугольник 25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Прямая соединительная линия 26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Овал 27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Овал 28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B7367-7824-45AC-A0AE-6212196390F6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3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3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39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C1C3C-0A00-4A9E-9D63-CB987F74F2E6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21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23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5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Овал 27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8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E9099-4807-462D-8BAB-1615D067603A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F1DFE-CDFB-4C79-8AD9-6DB58E817D87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21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23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24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оугольник 25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оугольник 26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оугольник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8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Овал 29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Овал 30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BEFEF-320B-4DEF-9D72-C8C9FD561C58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ая соединительная линия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B900D-BAAE-4A9A-9135-6353BE2C63A5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Прямая соединительная линия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Прямоугольник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Прямоугольник 21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оугольник 24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оугольник 25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26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27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Прямоугольник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Овал 29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Овал 30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D611B-DE3D-4049-ADE9-A151D1AABBA8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75A39-50D0-4C79-975E-B720C45C5957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Прямоугольник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Прямоугольник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Прямоугольник 25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A8E72-727F-430A-883F-CE2D079B678F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Прямоугольник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Прямоугольник 23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Прямоугольник 25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Прямоугольник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Прямая соединительная линия 27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Овал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Овал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Прямоугольник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307A5-92BC-4524-B69B-FDF475BDC39F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8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8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8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4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8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8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8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8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4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8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8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49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8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49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8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8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8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8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4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8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8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2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8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8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8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subTitle"/>
          </p:nvPr>
        </p:nvSpPr>
        <p:spPr>
          <a:xfrm>
            <a:off x="1403280" y="6000480"/>
            <a:ext cx="640080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646b86"/>
                </a:solidFill>
                <a:latin typeface="Century Schoolbook"/>
              </a:rPr>
              <a:t>ТИМОФЕЕВ М.А. МОУ «СОШ №50» Г. КУРГАН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d16349"/>
                </a:solidFill>
                <a:latin typeface="Georgia"/>
              </a:rPr>
              <a:t>Блокада Ленинграда</a:t>
            </a:r>
            <a:br>
              <a:rPr sz="4200"/>
            </a:br>
            <a:endParaRPr b="0" lang="en-US" sz="42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58" name="Picture 7" descr="101540"/>
          <p:cNvPicPr/>
          <p:nvPr/>
        </p:nvPicPr>
        <p:blipFill>
          <a:blip r:embed="rId1"/>
          <a:stretch/>
        </p:blipFill>
        <p:spPr>
          <a:xfrm>
            <a:off x="2786040" y="1857240"/>
            <a:ext cx="3571920" cy="407196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1" name="Picture 4" descr="Рисунок6"/>
          <p:cNvPicPr/>
          <p:nvPr/>
        </p:nvPicPr>
        <p:blipFill>
          <a:blip r:embed="rId1"/>
          <a:stretch/>
        </p:blipFill>
        <p:spPr>
          <a:xfrm>
            <a:off x="990720" y="428760"/>
            <a:ext cx="6933960" cy="571500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34520" cy="1128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Дорога Жизни</a:t>
            </a:r>
            <a:br>
              <a:rPr sz="3600"/>
            </a:b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3" name=""/>
          <p:cNvSpPr txBox="1"/>
          <p:nvPr/>
        </p:nvSpPr>
        <p:spPr>
          <a:xfrm>
            <a:off x="179280" y="1600200"/>
            <a:ext cx="4106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Для подвоза продовольствия и боеприпасов оставалась единственная коммуникация - по Ладожскому озеру. К началу войны оно было мало освоено и практически не изучено. 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4" name="Rectangle 8"/>
          <p:cNvSpPr/>
          <p:nvPr/>
        </p:nvSpPr>
        <p:spPr>
          <a:xfrm>
            <a:off x="0" y="2235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5" name=""/>
          <p:cNvGraphicFramePr/>
          <p:nvPr/>
        </p:nvGraphicFramePr>
        <p:xfrm>
          <a:off x="5148360" y="5734080"/>
          <a:ext cx="3668760" cy="396720"/>
        </p:xfrm>
        <a:graphic>
          <a:graphicData uri="http://schemas.openxmlformats.org/drawingml/2006/table">
            <a:tbl>
              <a:tblPr/>
              <a:tblGrid>
                <a:gridCol w="366876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РОГА ЖИЗНИ.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76" name="Picture 10" descr="ДОРОГА ЖИЗНИ. Фото из архивов Министерства обороны СССР "/>
          <p:cNvPicPr/>
          <p:nvPr/>
        </p:nvPicPr>
        <p:blipFill>
          <a:blip r:embed="rId1"/>
          <a:stretch/>
        </p:blipFill>
        <p:spPr>
          <a:xfrm>
            <a:off x="4427640" y="1434960"/>
            <a:ext cx="4537080" cy="340380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/>
          </p:nvPr>
        </p:nvSpPr>
        <p:spPr>
          <a:xfrm>
            <a:off x="-360" y="333000"/>
            <a:ext cx="891540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0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eorgia"/>
              </a:rPr>
              <a:t>Работники дорожной службы ежедневно измеряли толщину льда на всём озере, но были не в силах ускорить его нарастание. 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10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eorgia"/>
              </a:rPr>
              <a:t>20 ноября толщина льда достигла 180 мм. На лёд вышли конные обозы… 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2728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advTm="11000">
    <p:newsflash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8" name="Picture 7" descr="image"/>
          <p:cNvPicPr/>
          <p:nvPr/>
        </p:nvPicPr>
        <p:blipFill>
          <a:blip r:embed="rId1"/>
          <a:stretch/>
        </p:blipFill>
        <p:spPr>
          <a:xfrm>
            <a:off x="0" y="152280"/>
            <a:ext cx="9144000" cy="6089760"/>
          </a:xfrm>
          <a:prstGeom prst="rect">
            <a:avLst/>
          </a:prstGeom>
          <a:ln w="0">
            <a:noFill/>
          </a:ln>
        </p:spPr>
      </p:pic>
    </p:spTree>
  </p:cSld>
  <p:transition advTm="7000">
    <p:newsflash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9" name="Picture 5" descr="image"/>
          <p:cNvPicPr/>
          <p:nvPr/>
        </p:nvPicPr>
        <p:blipFill>
          <a:blip r:embed="rId1"/>
          <a:stretch/>
        </p:blipFill>
        <p:spPr>
          <a:xfrm>
            <a:off x="285840" y="428760"/>
            <a:ext cx="8572320" cy="5543280"/>
          </a:xfrm>
          <a:prstGeom prst="rect">
            <a:avLst/>
          </a:prstGeom>
          <a:ln w="0">
            <a:noFill/>
          </a:ln>
        </p:spPr>
      </p:pic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-36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ffffff"/>
                </a:solidFill>
                <a:latin typeface="Georgia"/>
              </a:rPr>
              <a:t>"</a:t>
            </a:r>
            <a:r>
              <a:rPr b="1" lang="ru-RU" sz="3300" spc="-1" strike="noStrike">
                <a:solidFill>
                  <a:srgbClr val="ffffff"/>
                </a:solidFill>
                <a:latin typeface="Georgia"/>
              </a:rPr>
              <a:t>Дорога жизни"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p:transition advTm="6000">
    <p:newsflash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50" dur="20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1" name="Picture 3" descr="''Дорога жизни''"/>
          <p:cNvPicPr/>
          <p:nvPr/>
        </p:nvPicPr>
        <p:blipFill>
          <a:blip r:embed="rId1"/>
          <a:stretch/>
        </p:blipFill>
        <p:spPr>
          <a:xfrm>
            <a:off x="228600" y="228600"/>
            <a:ext cx="8915400" cy="6129360"/>
          </a:xfrm>
          <a:prstGeom prst="rect">
            <a:avLst/>
          </a:prstGeom>
          <a:ln w="0">
            <a:noFill/>
          </a:ln>
        </p:spPr>
      </p:pic>
    </p:spTree>
  </p:cSld>
  <p:transition advTm="6000">
    <p:newsflash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30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68000" y="404640"/>
            <a:ext cx="8675640" cy="3238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Она - как легенда,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как песня, как знамя.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У этой дороги не будет конца -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Она навсегда пролегла через память,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Навеки прошла через наши сердца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Анатолий Молчанов</a:t>
            </a:r>
            <a:endParaRPr b="0" lang="en-US" sz="32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83" name="Picture 3" descr="1487"/>
          <p:cNvPicPr/>
          <p:nvPr/>
        </p:nvPicPr>
        <p:blipFill>
          <a:blip r:embed="rId1"/>
          <a:stretch/>
        </p:blipFill>
        <p:spPr>
          <a:xfrm>
            <a:off x="4932360" y="3643200"/>
            <a:ext cx="3672000" cy="257184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000"/>
                            </p:stCondLst>
                            <p:childTnLst>
                              <p:par>
                                <p:cTn id="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"/>
          <p:cNvSpPr txBox="1"/>
          <p:nvPr/>
        </p:nvSpPr>
        <p:spPr>
          <a:xfrm>
            <a:off x="395280" y="3933720"/>
            <a:ext cx="8291520" cy="27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С 13 ноября 1941 года норма выдачи хлеба населению была снижена. Теперь рабочие и инженерно-технические работники получали по 300 граммов хлеба, все остальные - по 150. 20 ноября и этот скудный паёк пришлось урезать. Население стало получать самую низкую норму за всё время блокады - 250 граммов на рабочую карточку и 125 граммов - на все остальные. В Ленинграде начался голод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85" name="Picture 8" descr="БОМБЕЖКА ЛЕНИНГРАДА. Фото из архивов Министерства обороны СССР "/>
          <p:cNvPicPr/>
          <p:nvPr/>
        </p:nvPicPr>
        <p:blipFill>
          <a:blip r:embed="rId1"/>
          <a:stretch/>
        </p:blipFill>
        <p:spPr>
          <a:xfrm>
            <a:off x="1547640" y="260280"/>
            <a:ext cx="5832720" cy="347508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1914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125 блокадных грамм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87" name=""/>
          <p:cNvSpPr txBox="1"/>
          <p:nvPr/>
        </p:nvSpPr>
        <p:spPr>
          <a:xfrm>
            <a:off x="1763280" y="1600200"/>
            <a:ext cx="6193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Не шумите вокруг - он дышит,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Он живой еще, он все слышит..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Как из недр его вопли: "Хлеба!" -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До седьмого доходят неба..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Но безжалостна эта твердь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И глядит из всех окон - смерть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                                           </a:t>
            </a: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Анна Ахматова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newsflash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8" name="Picture 2" descr="1456"/>
          <p:cNvPicPr/>
          <p:nvPr/>
        </p:nvPicPr>
        <p:blipFill>
          <a:blip r:embed="rId1"/>
          <a:stretch/>
        </p:blipFill>
        <p:spPr>
          <a:xfrm>
            <a:off x="214200" y="285840"/>
            <a:ext cx="8643960" cy="5929200"/>
          </a:xfrm>
          <a:prstGeom prst="rect">
            <a:avLst/>
          </a:prstGeom>
          <a:ln w="0">
            <a:noFill/>
          </a:ln>
        </p:spPr>
      </p:pic>
    </p:spTree>
  </p:cSld>
  <p:transition advTm="6000">
    <p:newsflash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20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/>
          </p:nvPr>
        </p:nvSpPr>
        <p:spPr>
          <a:xfrm>
            <a:off x="0" y="333360"/>
            <a:ext cx="914400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901"/>
              </a:spcBef>
              <a:buClr>
                <a:srgbClr val="d16349"/>
              </a:buClr>
              <a:buSzPct val="8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БЛОКАДА ЛЕНИНГРАДА </a:t>
            </a: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длилась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419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с 8 сентября 1941 по 27 января 1944 г.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419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(прорвана 18 января 1943) — 871 день. 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60" name="Picture 3" descr="12big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2362320" y="2438280"/>
            <a:ext cx="4114800" cy="3705480"/>
          </a:xfrm>
          <a:prstGeom prst="rect">
            <a:avLst/>
          </a:prstGeom>
          <a:ln w="0">
            <a:noFill/>
          </a:ln>
        </p:spPr>
      </p:pic>
    </p:spTree>
  </p:cSld>
  <p:transition advTm="11000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2000"/>
                                        <p:tgtEl>
                                          <p:spTgt spid="6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" dur="2000"/>
                                        <p:tgtEl>
                                          <p:spTgt spid="6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" dur="2000"/>
                                        <p:tgtEl>
                                          <p:spTgt spid="6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9" name="Picture 2" descr="pic4"/>
          <p:cNvPicPr/>
          <p:nvPr/>
        </p:nvPicPr>
        <p:blipFill>
          <a:blip r:embed="rId1"/>
          <a:stretch/>
        </p:blipFill>
        <p:spPr>
          <a:xfrm>
            <a:off x="1214280" y="285840"/>
            <a:ext cx="7000920" cy="5857920"/>
          </a:xfrm>
          <a:prstGeom prst="rect">
            <a:avLst/>
          </a:prstGeom>
          <a:ln w="0">
            <a:noFill/>
          </a:ln>
        </p:spPr>
      </p:pic>
    </p:spTree>
  </p:cSld>
  <p:transition advTm="4000">
    <p:newsflash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0" name="Picture 2" descr="IMG_4673_500"/>
          <p:cNvPicPr/>
          <p:nvPr/>
        </p:nvPicPr>
        <p:blipFill>
          <a:blip r:embed="rId1"/>
          <a:stretch/>
        </p:blipFill>
        <p:spPr>
          <a:xfrm>
            <a:off x="2286000" y="285840"/>
            <a:ext cx="4700520" cy="5715000"/>
          </a:xfrm>
          <a:prstGeom prst="rect">
            <a:avLst/>
          </a:prstGeom>
          <a:ln w="0">
            <a:noFill/>
          </a:ln>
        </p:spPr>
      </p:pic>
    </p:spTree>
  </p:cSld>
  <p:transition advTm="5000">
    <p:newsflash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30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30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30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1" name="Picture 5" descr="1941_10"/>
          <p:cNvPicPr/>
          <p:nvPr/>
        </p:nvPicPr>
        <p:blipFill>
          <a:blip r:embed="rId1"/>
          <a:stretch/>
        </p:blipFill>
        <p:spPr>
          <a:xfrm>
            <a:off x="1905120" y="357120"/>
            <a:ext cx="5308560" cy="5929560"/>
          </a:xfrm>
          <a:prstGeom prst="rect">
            <a:avLst/>
          </a:prstGeom>
          <a:ln w="0">
            <a:noFill/>
          </a:ln>
        </p:spPr>
      </p:pic>
    </p:spTree>
  </p:cSld>
  <p:transition advTm="5000">
    <p:newsflash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120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b9899"/>
                </a:solidFill>
                <a:latin typeface="Georgia"/>
              </a:rPr>
              <a:t>Город и его борьба</a:t>
            </a:r>
            <a:br>
              <a:rPr sz="3600"/>
            </a:b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3" name=""/>
          <p:cNvSpPr txBox="1"/>
          <p:nvPr/>
        </p:nvSpPr>
        <p:spPr>
          <a:xfrm>
            <a:off x="214200" y="1689120"/>
            <a:ext cx="3641760" cy="51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Но город жил и боролся. Заводы продолжали выпускать военную продукцию. Голодные измученные люди находили в себе силы работать. Мужчины, женщины и подростки стояли у станков.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4" name="Rectangle 238"/>
          <p:cNvSpPr/>
          <p:nvPr/>
        </p:nvSpPr>
        <p:spPr>
          <a:xfrm>
            <a:off x="1901880" y="2643120"/>
            <a:ext cx="216036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Rectangle 239"/>
          <p:cNvSpPr/>
          <p:nvPr/>
        </p:nvSpPr>
        <p:spPr>
          <a:xfrm>
            <a:off x="1901880" y="2643120"/>
            <a:ext cx="216036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6" name="Picture 237" descr="КОЛОННА САУ СУ-122 НАПРАВЛЯЕТСЯ НА ФРОНТ. Фото из архивов Министерства обороны СССР "/>
          <p:cNvPicPr/>
          <p:nvPr/>
        </p:nvPicPr>
        <p:blipFill>
          <a:blip r:embed="rId1"/>
          <a:stretch/>
        </p:blipFill>
        <p:spPr>
          <a:xfrm>
            <a:off x="4284720" y="1214280"/>
            <a:ext cx="4608360" cy="4357800"/>
          </a:xfrm>
          <a:prstGeom prst="rect">
            <a:avLst/>
          </a:prstGeom>
          <a:ln w="0">
            <a:noFill/>
          </a:ln>
        </p:spPr>
      </p:pic>
      <p:sp>
        <p:nvSpPr>
          <p:cNvPr id="697" name="Rectangle 241"/>
          <p:cNvSpPr/>
          <p:nvPr/>
        </p:nvSpPr>
        <p:spPr>
          <a:xfrm>
            <a:off x="1901880" y="2643120"/>
            <a:ext cx="2160360" cy="360"/>
          </a:xfrm>
          <a:prstGeom prst="rect">
            <a:avLst/>
          </a:prstGeom>
          <a:solidFill>
            <a:srgbClr val="ffff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8" name="Picture 4" descr="Рисунок2а"/>
          <p:cNvPicPr/>
          <p:nvPr/>
        </p:nvPicPr>
        <p:blipFill>
          <a:blip r:embed="rId1"/>
          <a:stretch/>
        </p:blipFill>
        <p:spPr>
          <a:xfrm>
            <a:off x="493560" y="285840"/>
            <a:ext cx="8156880" cy="60721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9" name="Picture 2" descr="prospekt"/>
          <p:cNvPicPr/>
          <p:nvPr/>
        </p:nvPicPr>
        <p:blipFill>
          <a:blip r:embed="rId1"/>
          <a:stretch/>
        </p:blipFill>
        <p:spPr>
          <a:xfrm>
            <a:off x="0" y="0"/>
            <a:ext cx="9144000" cy="6157800"/>
          </a:xfrm>
          <a:prstGeom prst="rect">
            <a:avLst/>
          </a:prstGeom>
          <a:ln w="0">
            <a:noFill/>
          </a:ln>
        </p:spPr>
      </p:pic>
    </p:spTree>
  </p:cSld>
  <p:transition advTm="3000">
    <p:newsflash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0" name="Picture 2" descr="evakuacia"/>
          <p:cNvPicPr/>
          <p:nvPr/>
        </p:nvPicPr>
        <p:blipFill>
          <a:blip r:embed="rId1"/>
          <a:stretch/>
        </p:blipFill>
        <p:spPr>
          <a:xfrm>
            <a:off x="155520" y="46080"/>
            <a:ext cx="8759880" cy="6073560"/>
          </a:xfrm>
          <a:prstGeom prst="rect">
            <a:avLst/>
          </a:prstGeom>
          <a:ln w="0">
            <a:noFill/>
          </a:ln>
        </p:spPr>
      </p:pic>
    </p:spTree>
  </p:cSld>
  <p:transition advTm="3000">
    <p:newsflash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1" name="Picture 2" descr="female"/>
          <p:cNvPicPr/>
          <p:nvPr/>
        </p:nvPicPr>
        <p:blipFill>
          <a:blip r:embed="rId1"/>
          <a:stretch/>
        </p:blipFill>
        <p:spPr>
          <a:xfrm>
            <a:off x="155520" y="46080"/>
            <a:ext cx="8988480" cy="6156360"/>
          </a:xfrm>
          <a:prstGeom prst="rect">
            <a:avLst/>
          </a:prstGeom>
          <a:ln w="0">
            <a:noFill/>
          </a:ln>
        </p:spPr>
      </p:pic>
    </p:spTree>
  </p:cSld>
  <p:transition advTm="3000">
    <p:newsflash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Georgia"/>
              </a:rPr>
              <a:t>«Ленинградская» симфония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3" name=""/>
          <p:cNvSpPr txBox="1"/>
          <p:nvPr/>
        </p:nvSpPr>
        <p:spPr>
          <a:xfrm>
            <a:off x="301680" y="1371600"/>
            <a:ext cx="403848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9 августа 1941 года немцы обещали занять Ленинград. Ровно год спустя в несломленном городе состоялась премьера 7-й симфонии Шостаковича, которую впоследствии назовут "Ленинградской". Зал был полон - очереди за билетами в Большой зал городской филармонии были длиннее, чем в булочные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704" name="Picture 7" descr="blokadaf"/>
          <p:cNvPicPr/>
          <p:nvPr/>
        </p:nvPicPr>
        <p:blipFill>
          <a:blip r:embed="rId1"/>
          <a:stretch/>
        </p:blipFill>
        <p:spPr>
          <a:xfrm>
            <a:off x="4834080" y="1628640"/>
            <a:ext cx="4039920" cy="468000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5" name="Picture 2" descr="shostakovich"/>
          <p:cNvPicPr/>
          <p:nvPr/>
        </p:nvPicPr>
        <p:blipFill>
          <a:blip r:embed="rId1"/>
          <a:stretch/>
        </p:blipFill>
        <p:spPr>
          <a:xfrm>
            <a:off x="357120" y="214200"/>
            <a:ext cx="8429760" cy="6072480"/>
          </a:xfrm>
          <a:prstGeom prst="rect">
            <a:avLst/>
          </a:prstGeom>
          <a:ln w="0">
            <a:noFill/>
          </a:ln>
        </p:spPr>
      </p:pic>
    </p:spTree>
  </p:cSld>
  <p:transition advTm="4000"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/>
          </p:nvPr>
        </p:nvSpPr>
        <p:spPr>
          <a:xfrm>
            <a:off x="0" y="609480"/>
            <a:ext cx="91440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Блокада Ленинграда - это неслыханное испытание человека на человечность, достоинство, любовь к близким, сострадание, сердечность. Эти испытания были ежедневными, страшными, потому что голод представить вообще невозможно, не пережив его… 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advTm="13000">
    <p:newsflash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6" name="Picture 4" descr="Рисунок14"/>
          <p:cNvPicPr/>
          <p:nvPr/>
        </p:nvPicPr>
        <p:blipFill>
          <a:blip r:embed="rId1"/>
          <a:stretch/>
        </p:blipFill>
        <p:spPr>
          <a:xfrm>
            <a:off x="457200" y="214200"/>
            <a:ext cx="8001000" cy="600084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/>
          </p:nvPr>
        </p:nvSpPr>
        <p:spPr>
          <a:xfrm>
            <a:off x="0" y="259920"/>
            <a:ext cx="91440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На момент установки блокады в городе находилось 2 миллиона 544 тысячи человек гражданского населения, в том числе около 400 тысяч детей. Кроме того, в пригородных районах (в кольце блокады) осталось 343 тысячи человек. В сентябре, когда начались систематические бомбардировки, обстрелы и пожары, многие тысячи семей хотели бы выехать, но пути были отрезаны.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advTm="20000">
    <p:newsflash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7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7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7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8" name="Picture 4" descr="Рисунок10"/>
          <p:cNvPicPr/>
          <p:nvPr/>
        </p:nvPicPr>
        <p:blipFill>
          <a:blip r:embed="rId1"/>
          <a:stretch/>
        </p:blipFill>
        <p:spPr>
          <a:xfrm>
            <a:off x="0" y="603360"/>
            <a:ext cx="9144000" cy="565128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Georgia"/>
              </a:rPr>
              <a:t>Маленькая записная книжка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710" name="Picture 4" descr="blokadae"/>
          <p:cNvPicPr/>
          <p:nvPr/>
        </p:nvPicPr>
        <p:blipFill>
          <a:blip r:embed="rId1"/>
          <a:stretch/>
        </p:blipFill>
        <p:spPr>
          <a:xfrm>
            <a:off x="2484360" y="1500120"/>
            <a:ext cx="4243320" cy="464364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1" name="Picture 8" descr="Рисунок8"/>
          <p:cNvPicPr/>
          <p:nvPr/>
        </p:nvPicPr>
        <p:blipFill>
          <a:blip r:embed="rId1"/>
          <a:stretch/>
        </p:blipFill>
        <p:spPr>
          <a:xfrm>
            <a:off x="135000" y="260280"/>
            <a:ext cx="2344680" cy="3241800"/>
          </a:xfrm>
          <a:prstGeom prst="rect">
            <a:avLst/>
          </a:prstGeom>
          <a:ln w="0">
            <a:noFill/>
          </a:ln>
        </p:spPr>
      </p:pic>
      <p:pic>
        <p:nvPicPr>
          <p:cNvPr id="712" name="Picture 9" descr="Рисунок9"/>
          <p:cNvPicPr/>
          <p:nvPr/>
        </p:nvPicPr>
        <p:blipFill>
          <a:blip r:embed="rId2"/>
          <a:stretch/>
        </p:blipFill>
        <p:spPr>
          <a:xfrm>
            <a:off x="2484360" y="271440"/>
            <a:ext cx="6659640" cy="3233880"/>
          </a:xfrm>
          <a:prstGeom prst="rect">
            <a:avLst/>
          </a:prstGeom>
          <a:ln w="0">
            <a:noFill/>
          </a:ln>
        </p:spPr>
      </p:pic>
      <p:pic>
        <p:nvPicPr>
          <p:cNvPr id="713" name="Picture 10" descr="Рисунок8"/>
          <p:cNvPicPr/>
          <p:nvPr/>
        </p:nvPicPr>
        <p:blipFill>
          <a:blip r:embed="rId3"/>
          <a:stretch/>
        </p:blipFill>
        <p:spPr>
          <a:xfrm>
            <a:off x="0" y="3733920"/>
            <a:ext cx="5370480" cy="2935080"/>
          </a:xfrm>
          <a:prstGeom prst="rect">
            <a:avLst/>
          </a:prstGeom>
          <a:ln w="0">
            <a:noFill/>
          </a:ln>
        </p:spPr>
      </p:pic>
      <p:pic>
        <p:nvPicPr>
          <p:cNvPr id="714" name="Picture 11" descr="Рисунок9"/>
          <p:cNvPicPr/>
          <p:nvPr/>
        </p:nvPicPr>
        <p:blipFill>
          <a:blip r:embed="rId4"/>
          <a:stretch/>
        </p:blipFill>
        <p:spPr>
          <a:xfrm>
            <a:off x="5334120" y="3733920"/>
            <a:ext cx="3809880" cy="293508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5" name="Picture 4" descr="Рисунок12"/>
          <p:cNvPicPr/>
          <p:nvPr/>
        </p:nvPicPr>
        <p:blipFill>
          <a:blip r:embed="rId1"/>
          <a:stretch/>
        </p:blipFill>
        <p:spPr>
          <a:xfrm>
            <a:off x="1127160" y="357120"/>
            <a:ext cx="6469200" cy="58579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Georgia"/>
              </a:rPr>
              <a:t>Мемориальный комплекс Дневник Тани Савичевой</a:t>
            </a:r>
            <a:r>
              <a:rPr b="0" lang="ru-RU" sz="30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30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717" name="Picture 3" descr="Дневник Тани Савичевой"/>
          <p:cNvPicPr/>
          <p:nvPr/>
        </p:nvPicPr>
        <p:blipFill>
          <a:blip r:embed="rId1"/>
          <a:stretch/>
        </p:blipFill>
        <p:spPr>
          <a:xfrm>
            <a:off x="755640" y="1557360"/>
            <a:ext cx="7561440" cy="40435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985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Прорыв и снятие блокады</a:t>
            </a:r>
            <a:br>
              <a:rPr sz="3600"/>
            </a:b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9" name=""/>
          <p:cNvSpPr txBox="1"/>
          <p:nvPr/>
        </p:nvSpPr>
        <p:spPr>
          <a:xfrm>
            <a:off x="-360" y="1197000"/>
            <a:ext cx="421164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К 27 января 1944 года войска Ленинградского и Волховского фронтов взломали оборону 18-й немецкой армии, разгромили её основные силы и продвинулись на 60 километров в глубину. Видя реальную угрозу окружения, немцы отступили. С освобождением Пушкина, Гатчины и Чудово блокада Ленинграда была полностью снята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720" name="Picture 8" descr="002"/>
          <p:cNvPicPr/>
          <p:nvPr/>
        </p:nvPicPr>
        <p:blipFill>
          <a:blip r:embed="rId1"/>
          <a:stretch/>
        </p:blipFill>
        <p:spPr>
          <a:xfrm>
            <a:off x="4619520" y="981000"/>
            <a:ext cx="4280040" cy="568800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1" name="Picture 6" descr="1943_25"/>
          <p:cNvPicPr/>
          <p:nvPr/>
        </p:nvPicPr>
        <p:blipFill>
          <a:blip r:embed="rId1"/>
          <a:stretch/>
        </p:blipFill>
        <p:spPr>
          <a:xfrm>
            <a:off x="762120" y="380880"/>
            <a:ext cx="7596000" cy="6024600"/>
          </a:xfrm>
          <a:prstGeom prst="rect">
            <a:avLst/>
          </a:prstGeom>
          <a:ln w="0">
            <a:noFill/>
          </a:ln>
        </p:spPr>
      </p:pic>
    </p:spTree>
  </p:cSld>
  <p:transition advTm="5000">
    <p:newsflash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2" name="Picture 6" descr="1943_15"/>
          <p:cNvPicPr/>
          <p:nvPr/>
        </p:nvPicPr>
        <p:blipFill>
          <a:blip r:embed="rId1"/>
          <a:stretch/>
        </p:blipFill>
        <p:spPr>
          <a:xfrm>
            <a:off x="285840" y="357120"/>
            <a:ext cx="8572320" cy="5857920"/>
          </a:xfrm>
          <a:prstGeom prst="rect">
            <a:avLst/>
          </a:prstGeom>
          <a:ln w="0">
            <a:noFill/>
          </a:ln>
        </p:spPr>
      </p:pic>
    </p:spTree>
  </p:cSld>
  <p:transition advTm="7000"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2" name="Picture 6" descr="1941_43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072120"/>
          </a:xfrm>
          <a:prstGeom prst="rect">
            <a:avLst/>
          </a:prstGeom>
          <a:ln w="0">
            <a:noFill/>
          </a:ln>
        </p:spPr>
      </p:pic>
    </p:spTree>
  </p:cSld>
  <p:transition advTm="5000">
    <p:newsflash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3" name="Picture 6" descr="image"/>
          <p:cNvPicPr/>
          <p:nvPr/>
        </p:nvPicPr>
        <p:blipFill>
          <a:blip r:embed="rId1"/>
          <a:stretch/>
        </p:blipFill>
        <p:spPr>
          <a:xfrm>
            <a:off x="0" y="0"/>
            <a:ext cx="8988480" cy="6215040"/>
          </a:xfrm>
          <a:prstGeom prst="rect">
            <a:avLst/>
          </a:prstGeom>
          <a:ln w="0">
            <a:noFill/>
          </a:ln>
        </p:spPr>
      </p:pic>
    </p:spTree>
  </p:cSld>
  <p:transition advTm="3000">
    <p:newsflash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3" dur="10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4" name="Picture 4" descr="На Неве во время праздничного салюта в День Победы. 9 мая  1945 г. Место съемки: г.Ленинград. Автор съемки:   Федосеев В. . ЦГАКФФД СПб,ед. хр. Ар-624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609120" y="533520"/>
            <a:ext cx="853452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1001"/>
              </a:spcBef>
              <a:buClr>
                <a:srgbClr val="d16349"/>
              </a:buClr>
              <a:buSzPct val="8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eorgia"/>
              </a:rPr>
              <a:t>За годы блокады погибло по разным данным от 400 тыс. до 1 млн. человек. Причем только 3% из них от бомбежек, артобстрелов и т.д., а остальные 97% от голода.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newsflash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"/>
          <p:cNvSpPr txBox="1"/>
          <p:nvPr/>
        </p:nvSpPr>
        <p:spPr>
          <a:xfrm>
            <a:off x="642960" y="285840"/>
            <a:ext cx="8229600" cy="124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Georgia"/>
              </a:rPr>
              <a:t>"Разорванное кольцо" на Ладожском озере у Вагановского спуска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727" name="Picture 4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4908600" cy="4694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8" name="Picture 2" descr="Санкт-Петербург, Крестовский остров, Приморский парк Победы"/>
          <p:cNvPicPr/>
          <p:nvPr/>
        </p:nvPicPr>
        <p:blipFill>
          <a:blip r:embed="rId1"/>
          <a:stretch/>
        </p:blipFill>
        <p:spPr>
          <a:xfrm>
            <a:off x="1500120" y="2286000"/>
            <a:ext cx="6286680" cy="4005360"/>
          </a:xfrm>
          <a:prstGeom prst="rect">
            <a:avLst/>
          </a:prstGeom>
          <a:ln w="0">
            <a:noFill/>
          </a:ln>
        </p:spPr>
      </p:pic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304560" y="274680"/>
            <a:ext cx="8839080" cy="1714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Приморский парк Победы</a:t>
            </a: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 </a:t>
            </a:r>
            <a:br>
              <a:rPr sz="3600"/>
            </a:b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был заложен в октябре 1945 г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В честь морских военных побед.</a:t>
            </a:r>
            <a:br>
              <a:rPr sz="2400"/>
            </a:b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Арх. А.С.Никольский</a:t>
            </a:r>
            <a:endParaRPr b="0" lang="en-US" sz="20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p:transition>
    <p:newsflash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2000"/>
                            </p:stCondLst>
                            <p:childTnLst>
                              <p:par>
                                <p:cTn id="1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790560" y="692280"/>
            <a:ext cx="8353440" cy="15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Georgia"/>
              </a:rPr>
              <a:t>Мемориальный ансамбль</a:t>
            </a:r>
            <a:br>
              <a:rPr sz="3000"/>
            </a:br>
            <a:r>
              <a:rPr b="1" lang="ru-RU" sz="3000" spc="-1" strike="noStrike">
                <a:solidFill>
                  <a:srgbClr val="000000"/>
                </a:solidFill>
                <a:latin typeface="Georgia"/>
              </a:rPr>
              <a:t> на Пискаревском кладбище</a:t>
            </a:r>
            <a:r>
              <a:rPr b="0" lang="ru-RU" sz="3000" spc="-1" strike="noStrike">
                <a:solidFill>
                  <a:srgbClr val="000000"/>
                </a:solidFill>
                <a:latin typeface="Georgia"/>
              </a:rPr>
              <a:t> </a:t>
            </a:r>
            <a:br>
              <a:rPr sz="3000"/>
            </a:br>
            <a:endParaRPr b="0" lang="en-US" sz="30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731" name="Picture 3" descr="Санкт-Петербург, Улицы и события, Мемориальный ансамбль на Пискаревском кладбище"/>
          <p:cNvPicPr/>
          <p:nvPr/>
        </p:nvPicPr>
        <p:blipFill>
          <a:blip r:embed="rId1"/>
          <a:stretch/>
        </p:blipFill>
        <p:spPr>
          <a:xfrm>
            <a:off x="1332000" y="2133720"/>
            <a:ext cx="6480000" cy="397008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0"/>
                            </p:stCondLst>
                            <p:childTnLst>
                              <p:par>
                                <p:cTn id="1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50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2" name="Picture 2" descr="Санкт-Петербург, Памятники, Мемориал &quot;Защитникам Ленинграда&quot; (1969-1975 г.)"/>
          <p:cNvPicPr/>
          <p:nvPr/>
        </p:nvPicPr>
        <p:blipFill>
          <a:blip r:embed="rId1"/>
          <a:stretch/>
        </p:blipFill>
        <p:spPr>
          <a:xfrm>
            <a:off x="4859280" y="404640"/>
            <a:ext cx="4056120" cy="5810400"/>
          </a:xfrm>
          <a:prstGeom prst="rect">
            <a:avLst/>
          </a:prstGeom>
          <a:ln w="0">
            <a:noFill/>
          </a:ln>
        </p:spPr>
      </p:pic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4329000" cy="5962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Ансамбль площади Победы.</a:t>
            </a:r>
            <a:br>
              <a:rPr sz="3200"/>
            </a:b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Монумент героическим защитникам Ленинграда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1974-75гг.</a:t>
            </a:r>
            <a:br>
              <a:rPr sz="3200"/>
            </a:br>
            <a:r>
              <a:rPr b="0" lang="ru-RU" sz="2900" spc="-1" strike="noStrike">
                <a:solidFill>
                  <a:srgbClr val="000000"/>
                </a:solidFill>
                <a:latin typeface="Georgia"/>
              </a:rPr>
              <a:t>Скульптор </a:t>
            </a:r>
            <a:br>
              <a:rPr sz="2900"/>
            </a:br>
            <a:r>
              <a:rPr b="0" lang="ru-RU" sz="2900" spc="-1" strike="noStrike">
                <a:solidFill>
                  <a:srgbClr val="000000"/>
                </a:solidFill>
                <a:latin typeface="Georgia"/>
              </a:rPr>
              <a:t>М.К. Аникушин,</a:t>
            </a:r>
            <a:br>
              <a:rPr sz="2900"/>
            </a:br>
            <a:r>
              <a:rPr b="0" lang="ru-RU" sz="2900" spc="-1" strike="noStrike">
                <a:solidFill>
                  <a:srgbClr val="000000"/>
                </a:solidFill>
                <a:latin typeface="Georgia"/>
              </a:rPr>
              <a:t>арх.С.Б. Сперанский, В.А.Каменский</a:t>
            </a:r>
            <a:endParaRPr b="0" lang="en-US" sz="29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p:transition>
    <p:newsflash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30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3000"/>
                            </p:stCondLst>
                            <p:childTnLst>
                              <p:par>
                                <p:cTn id="1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" dur="50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4" name="Picture 2" descr="11700155"/>
          <p:cNvPicPr/>
          <p:nvPr/>
        </p:nvPicPr>
        <p:blipFill>
          <a:blip r:embed="rId1"/>
          <a:stretch/>
        </p:blipFill>
        <p:spPr>
          <a:xfrm>
            <a:off x="357120" y="914400"/>
            <a:ext cx="8358120" cy="5372280"/>
          </a:xfrm>
          <a:prstGeom prst="rect">
            <a:avLst/>
          </a:prstGeom>
          <a:ln w="0">
            <a:noFill/>
          </a:ln>
        </p:spPr>
      </p:pic>
      <p:sp>
        <p:nvSpPr>
          <p:cNvPr id="735" name="Rectangle 3"/>
          <p:cNvSpPr/>
          <p:nvPr/>
        </p:nvSpPr>
        <p:spPr>
          <a:xfrm>
            <a:off x="1763640" y="333360"/>
            <a:ext cx="597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Ансамбль площади Побе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50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50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6" name="Picture 2" descr="Санкт-Петербург, Московский проспект, Мемориал &quot;Защитникам Ленинграда&quot; (1969-1975 г.)"/>
          <p:cNvPicPr/>
          <p:nvPr/>
        </p:nvPicPr>
        <p:blipFill>
          <a:blip r:embed="rId1"/>
          <a:stretch/>
        </p:blipFill>
        <p:spPr>
          <a:xfrm>
            <a:off x="571680" y="304920"/>
            <a:ext cx="7816680" cy="59101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/>
          </p:nvPr>
        </p:nvSpPr>
        <p:spPr>
          <a:xfrm>
            <a:off x="0" y="213840"/>
            <a:ext cx="9144000" cy="59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 </a:t>
            </a: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Героическая оборона Ленинграда - это массовый, всенародный подвиг.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738" name="Picture 3" descr="Фрагмент памятника"/>
          <p:cNvPicPr/>
          <p:nvPr/>
        </p:nvPicPr>
        <p:blipFill>
          <a:blip r:embed="rId1"/>
          <a:stretch/>
        </p:blipFill>
        <p:spPr>
          <a:xfrm>
            <a:off x="1143000" y="2057400"/>
            <a:ext cx="6642000" cy="44197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20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7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3" name="Picture 2" descr="blokada4"/>
          <p:cNvPicPr/>
          <p:nvPr/>
        </p:nvPicPr>
        <p:blipFill>
          <a:blip r:embed="rId1"/>
          <a:stretch/>
        </p:blipFill>
        <p:spPr>
          <a:xfrm>
            <a:off x="0" y="46080"/>
            <a:ext cx="9144000" cy="6097680"/>
          </a:xfrm>
          <a:prstGeom prst="rect">
            <a:avLst/>
          </a:prstGeom>
          <a:ln w="0">
            <a:noFill/>
          </a:ln>
        </p:spPr>
      </p:pic>
    </p:spTree>
  </p:cSld>
  <p:transition advTm="8000">
    <p:newsflash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9" dur="20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/>
          </p:nvPr>
        </p:nvSpPr>
        <p:spPr>
          <a:xfrm>
            <a:off x="0" y="907560"/>
            <a:ext cx="417672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1" lang="ru-RU" sz="2700" spc="-1" strike="noStrike">
                <a:solidFill>
                  <a:srgbClr val="000000"/>
                </a:solidFill>
                <a:latin typeface="Georgia"/>
              </a:rPr>
              <a:t>Блокадное объявление - предупреждение сохраняется в наши дни на Невском пр., - уже как памятная доска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740" name="Picture 3" descr="monument82"/>
          <p:cNvPicPr/>
          <p:nvPr/>
        </p:nvPicPr>
        <p:blipFill>
          <a:blip r:embed="rId1"/>
          <a:stretch/>
        </p:blipFill>
        <p:spPr>
          <a:xfrm>
            <a:off x="4716360" y="357120"/>
            <a:ext cx="3810240" cy="578664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7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2000"/>
                            </p:stCondLst>
                            <p:childTnLst>
                              <p:par>
                                <p:cTn id="1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20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Rectangle 4"/>
          <p:cNvSpPr/>
          <p:nvPr/>
        </p:nvSpPr>
        <p:spPr>
          <a:xfrm>
            <a:off x="395280" y="442080"/>
            <a:ext cx="705636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Те, кто пережил блокаду, были обычными людьми. Они сумели совершить невозможное - пережить ледяной ад. И не только пережить, но и остаться людьми. Они уходят, и вместе с ними уходит история. От нас зависит, чтобы она не ушл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навсегда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2" name="Picture 8" descr="0"/>
          <p:cNvPicPr/>
          <p:nvPr/>
        </p:nvPicPr>
        <p:blipFill>
          <a:blip r:embed="rId1"/>
          <a:stretch/>
        </p:blipFill>
        <p:spPr>
          <a:xfrm>
            <a:off x="6300720" y="4157640"/>
            <a:ext cx="2556000" cy="245916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148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br>
              <a:rPr sz="2900"/>
            </a:br>
            <a:br>
              <a:rPr sz="2900"/>
            </a:br>
            <a:r>
              <a:rPr b="1" i="1" lang="ru-RU" sz="2900" spc="-1" strike="noStrike">
                <a:solidFill>
                  <a:srgbClr val="000000"/>
                </a:solidFill>
                <a:latin typeface="Georgia"/>
              </a:rPr>
              <a:t>Из тезисов немецкого доклада "О блокаде Ленинграда", 21 сентября</a:t>
            </a:r>
            <a:r>
              <a:rPr b="1" lang="ru-RU" sz="2900" spc="-1" strike="noStrike">
                <a:solidFill>
                  <a:srgbClr val="000000"/>
                </a:solidFill>
                <a:latin typeface="Georgia"/>
              </a:rPr>
              <a:t> </a:t>
            </a:r>
            <a:br>
              <a:rPr sz="2900"/>
            </a:br>
            <a:endParaRPr b="0" lang="en-US" sz="29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65" name=""/>
          <p:cNvSpPr txBox="1"/>
          <p:nvPr/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1" lang="ru-RU" sz="2700" spc="-1" strike="noStrike">
                <a:solidFill>
                  <a:srgbClr val="000000"/>
                </a:solidFill>
                <a:latin typeface="Georgia"/>
              </a:rPr>
              <a:t>Сначала мы блокируем Ленинград и разрушаем город артиллерией и авиацией... Весной мы проникнем в город... вывезем всё, что осталось живое, в глубь России или возьмём в плен, сровняем Ленинград с землёй и передадим район севернее Невы Финляндии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00"/>
                </a:solidFill>
                <a:latin typeface="Georgia"/>
              </a:rPr>
              <a:t>  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34520" cy="1343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eorgia"/>
              </a:rPr>
              <a:t>Тучи над городом встали...</a:t>
            </a:r>
            <a:br>
              <a:rPr sz="4000"/>
            </a:br>
            <a:endParaRPr b="0" lang="en-US" sz="4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67" name=""/>
          <p:cNvSpPr txBox="1"/>
          <p:nvPr/>
        </p:nvSpPr>
        <p:spPr>
          <a:xfrm>
            <a:off x="4932000" y="1600200"/>
            <a:ext cx="403236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На момент установления блокады в городе находилось 2 миллиона 544 тысячи человек, в том числе около 400 тысяч детей. Кроме того, в пригородных районах, то есть тоже в кольце блокады, осталось 343 тысячи человек. В сентябре, когда начались систематические бомбардировки, обстрелы и пожары, многие хотели выехать, но пути уже были отрезаны.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68" name="Picture 8" descr="blokada"/>
          <p:cNvPicPr/>
          <p:nvPr/>
        </p:nvPicPr>
        <p:blipFill>
          <a:blip r:embed="rId1"/>
          <a:stretch/>
        </p:blipFill>
        <p:spPr>
          <a:xfrm>
            <a:off x="179280" y="1989000"/>
            <a:ext cx="5077080" cy="341820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9" name="Picture 2" descr="005%5B1%5D"/>
          <p:cNvPicPr/>
          <p:nvPr/>
        </p:nvPicPr>
        <p:blipFill>
          <a:blip r:embed="rId1"/>
          <a:stretch/>
        </p:blipFill>
        <p:spPr>
          <a:xfrm>
            <a:off x="155520" y="46080"/>
            <a:ext cx="8836200" cy="6326280"/>
          </a:xfrm>
          <a:prstGeom prst="rect">
            <a:avLst/>
          </a:prstGeom>
          <a:ln w="0">
            <a:noFill/>
          </a:ln>
        </p:spPr>
      </p:pic>
    </p:spTree>
  </p:cSld>
  <p:transition advTm="4000">
    <p:newsflash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6" dur="20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0" name="Picture 2" descr="leningrad1"/>
          <p:cNvPicPr/>
          <p:nvPr/>
        </p:nvPicPr>
        <p:blipFill>
          <a:blip r:embed="rId1"/>
          <a:stretch/>
        </p:blipFill>
        <p:spPr>
          <a:xfrm>
            <a:off x="0" y="46080"/>
            <a:ext cx="9144000" cy="5748120"/>
          </a:xfrm>
          <a:prstGeom prst="rect">
            <a:avLst/>
          </a:prstGeom>
          <a:ln w="0">
            <a:noFill/>
          </a:ln>
        </p:spPr>
      </p:pic>
    </p:spTree>
  </p:cSld>
  <p:transition advTm="6000"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9T13:20:41Z</dcterms:created>
  <dc:creator>1</dc:creator>
  <dc:description/>
  <dc:language>en-US</dc:language>
  <cp:lastModifiedBy>Олег</cp:lastModifiedBy>
  <dcterms:modified xsi:type="dcterms:W3CDTF">2011-01-23T20:04:31Z</dcterms:modified>
  <cp:revision>17</cp:revision>
  <dc:subject/>
  <dc:title>Блокада Ленинграда </dc:title>
</cp:coreProperties>
</file>