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71E-3BF3-4650-A4CE-23EC14DF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5BE-2E16-4165-9B05-41A42CF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F3B-BD0B-4E8D-96B8-18667818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3ED-45F5-452D-83FC-E744C1CE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8E7-A3B5-44FC-A286-154D101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D79-7FB1-402D-BB72-3E2D4ED8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444-02FA-42B6-8B75-C87CABBF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D14-4A50-4522-A5FF-20B4F4DA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9A4-E7E4-4174-86BF-FB15C12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4A1-0A48-49B2-AF9F-E7DA5FC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0BE-ABB3-4BB3-9D4E-2EAA38A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3A5-8429-4E88-9328-9B0B773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pr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FC4-8CD3-4FD9-96B5-81C029C42B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pr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pr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 rot="20863200">
            <a:off x="-945720" y="3400560"/>
            <a:ext cx="5626080" cy="4330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192240" y="577800"/>
            <a:ext cx="3089160" cy="46036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1" name="TextBox 1"/>
          <p:cNvSpPr/>
          <p:nvPr/>
        </p:nvSpPr>
        <p:spPr>
          <a:xfrm>
            <a:off x="4140360" y="1131840"/>
            <a:ext cx="427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прозвенел звонок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нам начать урок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ьте прямо, подтянитесь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 другу улыбнитесь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тихонько сели!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ня все посмотрели!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60440" y="700200"/>
            <a:ext cx="8288280" cy="3959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2307600" y="326880"/>
            <a:ext cx="39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971640" y="7254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Прочитайте текст «Бить баклуши»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uprum"/>
                <a:ea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: бездельничать, заниматься пустяками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На Руси баклушами называли обрубки древесины, обработанные для изготовления ложек, чашек и других изделий. Процесс выделки утвари делился на несколько этапов, первым из которых было раскалывание чурбанов на баклуши. Это не требовало особых навыков, поэтому баклуши били подмастерья или даже дети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2398680" y="1708200"/>
            <a:ext cx="1236600" cy="335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8" name="Прямоугольник 2"/>
          <p:cNvSpPr/>
          <p:nvPr/>
        </p:nvSpPr>
        <p:spPr>
          <a:xfrm>
            <a:off x="9360" y="411120"/>
            <a:ext cx="9144000" cy="1152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uprum"/>
              </a:rPr>
              <a:t>С точки зрения занятых людей бить баклуши – 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Cuprum"/>
              </a:rPr>
              <a:t>пустая трата времени. 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grpSp>
        <p:nvGrpSpPr>
          <p:cNvPr id="129" name="Группа 6"/>
          <p:cNvGrpSpPr/>
          <p:nvPr/>
        </p:nvGrpSpPr>
        <p:grpSpPr>
          <a:xfrm>
            <a:off x="4564080" y="1635120"/>
            <a:ext cx="2663640" cy="1944720"/>
            <a:chOff x="4564080" y="1635120"/>
            <a:chExt cx="2663640" cy="1944720"/>
          </a:xfrm>
        </p:grpSpPr>
        <p:sp>
          <p:nvSpPr>
            <p:cNvPr id="130" name="Облако 4"/>
            <p:cNvSpPr/>
            <p:nvPr/>
          </p:nvSpPr>
          <p:spPr>
            <a:xfrm>
              <a:off x="4564080" y="1635120"/>
              <a:ext cx="2663640" cy="1944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2159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uprum"/>
              </a:endParaRPr>
            </a:p>
          </p:txBody>
        </p:sp>
        <p:pic>
          <p:nvPicPr>
            <p:cNvPr id="13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148360" y="1816920"/>
              <a:ext cx="1198800" cy="138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Облако 5"/>
          <p:cNvSpPr/>
          <p:nvPr/>
        </p:nvSpPr>
        <p:spPr>
          <a:xfrm>
            <a:off x="3635280" y="2066760"/>
            <a:ext cx="552600" cy="441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3230280" y="195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Работа в таблице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rcRect l="0" t="8091" r="0" b="50994"/>
          <a:stretch/>
        </p:blipFill>
        <p:spPr>
          <a:xfrm>
            <a:off x="450720" y="719280"/>
            <a:ext cx="854712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11280" y="2670120"/>
          <a:ext cx="8281800" cy="1846440"/>
        </p:xfrm>
        <a:graphic>
          <a:graphicData uri="http://schemas.openxmlformats.org/drawingml/2006/table">
            <a:tbl>
              <a:tblPr/>
              <a:tblGrid>
                <a:gridCol w="2305080"/>
                <a:gridCol w="2087280"/>
                <a:gridCol w="1440000"/>
                <a:gridCol w="24494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Забегать вперё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Закинуть удо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9360" y="374760"/>
            <a:ext cx="9144000" cy="115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Проверьте себя!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635120"/>
          <a:ext cx="8856720" cy="3057480"/>
        </p:xfrm>
        <a:graphic>
          <a:graphicData uri="http://schemas.openxmlformats.org/drawingml/2006/table">
            <a:tbl>
              <a:tblPr/>
              <a:tblGrid>
                <a:gridCol w="2448000"/>
                <a:gridCol w="2232000"/>
                <a:gridCol w="1584360"/>
                <a:gridCol w="2592360"/>
              </a:tblGrid>
              <a:tr h="11142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неопределенной фор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форме 3 лиц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ед. чи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бегать вперёд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ься (спеши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кинуть удочк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узнать (разведа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ведыв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4080" y="1635120"/>
          <a:ext cx="8854920" cy="3057480"/>
        </p:xfrm>
        <a:graphic>
          <a:graphicData uri="http://schemas.openxmlformats.org/drawingml/2006/table">
            <a:tbl>
              <a:tblPr/>
              <a:tblGrid>
                <a:gridCol w="2448000"/>
                <a:gridCol w="2232000"/>
                <a:gridCol w="1582560"/>
                <a:gridCol w="2592360"/>
              </a:tblGrid>
              <a:tr h="11142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неопределенной фор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Глагол в форме 3 лиц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ед. чи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дирать но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важ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бегать вперёд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ься (спеши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торопи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бить баклуш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бездельнич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800"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ffffff"/>
                          </a:solidFill>
                          <a:latin typeface="Cuprum"/>
                        </a:rPr>
                        <a:t>закинуть удочк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узнать (разведать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I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спряж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38520" bIns="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uprum"/>
                        </a:rPr>
                        <a:t>разведыва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upru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avatars.mds.yandex.net/i?id=35b070e56b97f038dc738fac735f9fb1_l-8241279-images-thumbs&amp;n=13"/>
          <p:cNvPicPr/>
          <p:nvPr/>
        </p:nvPicPr>
        <p:blipFill>
          <a:blip r:embed="rId1"/>
          <a:srcRect l="18035" t="0" r="18035" b="0"/>
          <a:stretch/>
        </p:blipFill>
        <p:spPr>
          <a:xfrm>
            <a:off x="0" y="457200"/>
            <a:ext cx="1908000" cy="1957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073600" y="187920"/>
            <a:ext cx="49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ите свою работу: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77360" y="2639880"/>
            <a:ext cx="3448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еще 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аботать</a:t>
            </a:r>
            <a:r>
              <a:rPr b="0" i="1" lang="ru-RU" sz="4000" spc="-1" strike="noStrike">
                <a:solidFill>
                  <a:srgbClr val="000000"/>
                </a:solidFill>
                <a:latin typeface="Cuprum"/>
                <a:ea typeface="Calibri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Cuprum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17040" y="1288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олучилось!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44" name="Picture 1" descr="https://static.tildacdn.com/tild6534-6562-4462-a339-643337313735/Thumbs_Down_Sign_Emo.png"/>
          <p:cNvPicPr/>
          <p:nvPr/>
        </p:nvPicPr>
        <p:blipFill>
          <a:blip r:embed="rId2"/>
          <a:stretch/>
        </p:blipFill>
        <p:spPr>
          <a:xfrm>
            <a:off x="103320" y="2522520"/>
            <a:ext cx="20066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382680" y="2408400"/>
            <a:ext cx="4309920" cy="23778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"/>
          <p:cNvSpPr/>
          <p:nvPr/>
        </p:nvSpPr>
        <p:spPr>
          <a:xfrm>
            <a:off x="-20520" y="627120"/>
            <a:ext cx="914400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Запишите фразеологизм, значение которого соответствует вашей работе на уроке: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250920" y="2363760"/>
            <a:ext cx="4825800" cy="253548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пропустить мимо ушей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бить баклуши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работать спустя рука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работать засучив рука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uprum"/>
              </a:rPr>
              <a:t>отвечал без сучка и задоринки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2"/>
          <a:stretch/>
        </p:blipFill>
        <p:spPr>
          <a:xfrm>
            <a:off x="5076720" y="1776240"/>
            <a:ext cx="3527640" cy="298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-68400" y="101520"/>
            <a:ext cx="9144000" cy="5042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-15840" y="627120"/>
            <a:ext cx="915984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Спишите пословицы, вставьте пропущенные окончания глаголов, укажите спряжение. 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243000" y="1635120"/>
            <a:ext cx="8832600" cy="341280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Кто вперёд смотр_т, тот далеко вид_т. Кто много вид_т и слыш_т,  тот  много  зна_т. Не  посмотр_шь –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 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увид_шь, 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расспрос_шь –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найд_шь. За двумя зайцами погон_шься, ни одного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пойма_шь. Воду в решете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удерж_шь. Конь вырвется – догон_шь, а слова сказанного 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(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не</a:t>
            </a:r>
            <a:r>
              <a:rPr b="0" lang="ru-RU" sz="2800" spc="-1" strike="noStrike">
                <a:solidFill>
                  <a:srgbClr val="215968"/>
                </a:solidFill>
                <a:latin typeface="Cuprum"/>
              </a:rPr>
              <a:t>)</a:t>
            </a:r>
            <a:r>
              <a:rPr b="0" i="1" lang="ru-RU" sz="2800" spc="-1" strike="noStrike">
                <a:solidFill>
                  <a:srgbClr val="215968"/>
                </a:solidFill>
                <a:latin typeface="Cuprum"/>
              </a:rPr>
              <a:t> ворот_шь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349360" y="7128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ЯЯ РАБОТА: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9144000" cy="5042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s://avatars.mds.yandex.net/i?id=991593f963c23868bd556e3df66a4a57bb8eae0c-8191391-images-thumbs&amp;n=13"/>
          <p:cNvPicPr/>
          <p:nvPr/>
        </p:nvPicPr>
        <p:blipFill>
          <a:blip r:embed="rId2"/>
          <a:stretch/>
        </p:blipFill>
        <p:spPr>
          <a:xfrm>
            <a:off x="3995640" y="339840"/>
            <a:ext cx="4900680" cy="3671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s://avatars.mds.yandex.net/i?id=7553fdfd971e047eec8aabfa41f029471d464e93-5910048-images-thumbs&amp;n=13"/>
          <p:cNvPicPr/>
          <p:nvPr/>
        </p:nvPicPr>
        <p:blipFill>
          <a:blip r:embed="rId3"/>
          <a:srcRect l="0" t="19381" r="64259" b="16629"/>
          <a:stretch/>
        </p:blipFill>
        <p:spPr>
          <a:xfrm>
            <a:off x="179280" y="339840"/>
            <a:ext cx="2779920" cy="372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User\Desktop\Новая папка\узор цветы.png"/>
          <p:cNvPicPr/>
          <p:nvPr/>
        </p:nvPicPr>
        <p:blipFill>
          <a:blip r:embed="rId1"/>
          <a:stretch/>
        </p:blipFill>
        <p:spPr>
          <a:xfrm>
            <a:off x="2693880" y="480960"/>
            <a:ext cx="3299040" cy="424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\Desktop\Новая папка\узор цветы.png"/>
          <p:cNvPicPr/>
          <p:nvPr/>
        </p:nvPicPr>
        <p:blipFill>
          <a:blip r:embed="rId2"/>
          <a:stretch/>
        </p:blipFill>
        <p:spPr>
          <a:xfrm>
            <a:off x="-92160" y="480960"/>
            <a:ext cx="3292560" cy="4249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5219640" y="1281240"/>
            <a:ext cx="3529080" cy="298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450720" y="339840"/>
            <a:ext cx="468648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2465280" y="339840"/>
            <a:ext cx="4213440" cy="1079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uprum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рь Ушакова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ить 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ить, творю, твориш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( сотворить)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upru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grpSp>
        <p:nvGrpSpPr>
          <p:cNvPr id="88" name="Группа 4"/>
          <p:cNvGrpSpPr/>
          <p:nvPr/>
        </p:nvGrpSpPr>
        <p:grpSpPr>
          <a:xfrm>
            <a:off x="476280" y="1852560"/>
            <a:ext cx="8191440" cy="2590920"/>
            <a:chOff x="476280" y="1852560"/>
            <a:chExt cx="8191440" cy="2590920"/>
          </a:xfrm>
        </p:grpSpPr>
        <p:pic>
          <p:nvPicPr>
            <p:cNvPr id="89" name="Рисунок 5" descr=""/>
            <p:cNvPicPr/>
            <p:nvPr/>
          </p:nvPicPr>
          <p:blipFill>
            <a:blip r:embed="rId1"/>
            <a:stretch/>
          </p:blipFill>
          <p:spPr>
            <a:xfrm>
              <a:off x="754020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47628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Прямоугольник 7"/>
          <p:cNvSpPr/>
          <p:nvPr/>
        </p:nvSpPr>
        <p:spPr>
          <a:xfrm>
            <a:off x="2256480" y="2211480"/>
            <a:ext cx="46306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ить - создавать, </a:t>
            </a:r>
            <a:endParaRPr b="0" lang="en-US" sz="36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одить, созид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286000" y="38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uprum"/>
                <a:ea typeface="Arial"/>
              </a:rPr>
              <a:t>Измените глаголы, поставив их в форму 2 л. ,ед. ч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1"/>
          <p:cNvGrpSpPr/>
          <p:nvPr/>
        </p:nvGrpSpPr>
        <p:grpSpPr>
          <a:xfrm>
            <a:off x="476280" y="1852560"/>
            <a:ext cx="8191440" cy="2590920"/>
            <a:chOff x="476280" y="1852560"/>
            <a:chExt cx="8191440" cy="2590920"/>
          </a:xfrm>
        </p:grpSpPr>
        <p:pic>
          <p:nvPicPr>
            <p:cNvPr id="94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754020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476280" y="1852560"/>
              <a:ext cx="112752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Picture 3" descr="screen15"/>
          <p:cNvPicPr/>
          <p:nvPr/>
        </p:nvPicPr>
        <p:blipFill>
          <a:blip r:embed="rId3"/>
          <a:stretch/>
        </p:blipFill>
        <p:spPr>
          <a:xfrm>
            <a:off x="2771640" y="1868400"/>
            <a:ext cx="3454560" cy="2592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2050920" y="268200"/>
            <a:ext cx="53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uprum"/>
                <a:ea typeface="Arial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uprum"/>
                <a:ea typeface="Arial"/>
              </a:rPr>
              <a:t>Правописание безударных личных окончаний глаголов.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4840" y="1276200"/>
            <a:ext cx="819288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835280" y="627120"/>
            <a:ext cx="502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buClr>
                <a:srgbClr val="000000"/>
              </a:buClr>
              <a:buFont typeface="Cupr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Закрепить умение правильно писать безударные личные окончания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uprum"/>
              </a:rPr>
              <a:t>2.Закрепить умение обосновывать написание безударных личных окончаний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043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1700280" y="411120"/>
            <a:ext cx="5743440" cy="431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2268360" y="358920"/>
            <a:ext cx="4248360" cy="772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1332000" y="1276200"/>
            <a:ext cx="59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спряженье  выбирали?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немножечко устали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теперь все дружно встали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движенья показали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1476360" y="206280"/>
            <a:ext cx="5832360" cy="773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uprum"/>
              </a:rPr>
              <a:t>Работа над темой урока</a:t>
            </a:r>
            <a:endParaRPr b="0" lang="en-US" sz="2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826920" y="233208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Топором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ло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ножом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реза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пил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ил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 щётк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чист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лопат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опа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, краской 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расить</a:t>
            </a:r>
            <a:r>
              <a:rPr b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84360" y="1131840"/>
            <a:ext cx="7918200" cy="10605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Cuprum"/>
              </a:rPr>
              <a:t>Спишите словосочетания, поставьте глаголы в 1-м лице множественного числа. Выделите окончания, укажите спряжение глаголов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15840" y="484200"/>
            <a:ext cx="9144000" cy="1150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uprum"/>
              </a:rPr>
              <a:t>Проверьте себя.</a:t>
            </a:r>
            <a:endParaRPr b="0" lang="en-US" sz="36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0" name="Табличка 2"/>
          <p:cNvSpPr/>
          <p:nvPr/>
        </p:nvSpPr>
        <p:spPr>
          <a:xfrm>
            <a:off x="1332000" y="1876320"/>
            <a:ext cx="6480000" cy="2276280"/>
          </a:xfrm>
          <a:custGeom>
            <a:avLst/>
            <a:gdLst>
              <a:gd name="textAreaLeft" fmla="*/ 268200 w 6480000"/>
              <a:gd name="textAreaRight" fmla="*/ 6211800 w 6480000"/>
              <a:gd name="textAreaTop" fmla="*/ 268200 h 2276280"/>
              <a:gd name="textAreaBottom" fmla="*/ 2008080 h 2276280"/>
            </a:gdLst>
            <a:ahLst/>
            <a:rect l="textAreaLeft" t="textAreaTop" r="textAreaRight" b="textAreaBottom"/>
            <a:pathLst>
              <a:path w="614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7883" y="21600"/>
                </a:lnTo>
                <a:arcTo wR="3600" hR="3600" stAng="10800000" swAng="5400000"/>
                <a:lnTo>
                  <a:pt x="61483" y="3600"/>
                </a:lnTo>
                <a:arcTo wR="3600" hR="3600" stAng="5400000" swAng="5400000"/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5968"/>
                </a:solidFill>
                <a:latin typeface="Cuprum"/>
              </a:rPr>
              <a:t>Топором колем,  ножом режем,  пилой пилим,  щёткой чистим, лопатой копаем, краской красим.</a:t>
            </a:r>
            <a:endParaRPr b="0" lang="en-US" sz="24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03520" y="2389320"/>
            <a:ext cx="42084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824360" y="2948040"/>
            <a:ext cx="34920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757760" y="3487680"/>
            <a:ext cx="347760" cy="238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2384280" y="3487680"/>
            <a:ext cx="347760" cy="238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2230560" y="2943360"/>
            <a:ext cx="48096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5721480" y="2389320"/>
            <a:ext cx="315720" cy="23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1563840" y="2577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4071960" y="2627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4213440" y="3114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0" name="Прямоугольник 17"/>
          <p:cNvSpPr/>
          <p:nvPr/>
        </p:nvSpPr>
        <p:spPr>
          <a:xfrm>
            <a:off x="3024360" y="20574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5089680" y="204948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1428120" y="3213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uprum"/>
                <a:ea typeface="Arial"/>
              </a:rPr>
              <a:t>I</a:t>
            </a:r>
            <a:r>
              <a:rPr b="0" i="1" lang="ru-RU" sz="1800" spc="-1" strike="noStrike">
                <a:solidFill>
                  <a:srgbClr val="ff0000"/>
                </a:solidFill>
                <a:latin typeface="Cuprum"/>
                <a:ea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Cuprum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9T06:49:55Z</dcterms:created>
  <dc:creator>User</dc:creator>
  <dc:description/>
  <dc:language>en-US</dc:language>
  <cp:lastModifiedBy>admin</cp:lastModifiedBy>
  <dcterms:modified xsi:type="dcterms:W3CDTF">2024-01-17T09:29:50Z</dcterms:modified>
  <cp:revision>227</cp:revision>
  <dc:subject/>
  <dc:title>Презентация PowerPoint</dc:title>
</cp:coreProperties>
</file>