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12AE-57DD-44CD-AB36-88634A7E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B53B-3786-471E-B8D9-BF42C86E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B85-245B-40D5-9275-7CE878DC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15FF-84B6-48EC-AC56-536CCF9F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5E03-D65B-43DA-9520-4D192EF5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E727-B78B-4760-95C5-24DD5DDB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8B19-709C-48E0-81D4-2F22E95C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F67-557F-4B4B-B0F9-10CE670E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C56D-D6EF-448B-A4E5-71EBEC0F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372-1740-4B1A-B50A-276891C1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A7AE-A3B4-4062-A96E-6E4B856E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9583-C6C5-465D-A76A-153C89D3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pr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FEB3-54D5-4A3C-9901-048449C6A6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pr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 rot="20863200">
            <a:off x="-945720" y="3400560"/>
            <a:ext cx="5626080" cy="43304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"/>
          <p:cNvPicPr/>
          <p:nvPr/>
        </p:nvPicPr>
        <p:blipFill>
          <a:blip r:embed="rId2"/>
          <a:stretch/>
        </p:blipFill>
        <p:spPr>
          <a:xfrm>
            <a:off x="192240" y="577800"/>
            <a:ext cx="3089160" cy="460368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1" name="TextBox 1"/>
          <p:cNvSpPr/>
          <p:nvPr/>
        </p:nvSpPr>
        <p:spPr>
          <a:xfrm>
            <a:off x="4140360" y="1131840"/>
            <a:ext cx="4275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и прозвенел звонок.</a:t>
            </a:r>
            <a:endParaRPr b="0" lang="en-US" sz="2800" spc="-1" strike="noStrike">
              <a:solidFill>
                <a:srgbClr val="000000"/>
              </a:solidFill>
              <a:latin typeface="Cupr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нам начать урок.</a:t>
            </a:r>
            <a:endParaRPr b="0" lang="en-US" sz="2800" spc="-1" strike="noStrike">
              <a:solidFill>
                <a:srgbClr val="000000"/>
              </a:solidFill>
              <a:latin typeface="Cupr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ньте прямо, подтянитесь</a:t>
            </a:r>
            <a:endParaRPr b="0" lang="en-US" sz="2800" spc="-1" strike="noStrike">
              <a:solidFill>
                <a:srgbClr val="000000"/>
              </a:solidFill>
              <a:latin typeface="Cupr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 другу улыбнитесь.</a:t>
            </a:r>
            <a:endParaRPr b="0" lang="en-US" sz="2800" spc="-1" strike="noStrike">
              <a:solidFill>
                <a:srgbClr val="000000"/>
              </a:solidFill>
              <a:latin typeface="Cupr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тихонько сели!</a:t>
            </a:r>
            <a:endParaRPr b="0" lang="en-US" sz="2800" spc="-1" strike="noStrike">
              <a:solidFill>
                <a:srgbClr val="000000"/>
              </a:solidFill>
              <a:latin typeface="Cupr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еня все посмотрели!</a:t>
            </a:r>
            <a:endParaRPr b="0" lang="en-US" sz="28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460440" y="700200"/>
            <a:ext cx="8288280" cy="39592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2307600" y="326880"/>
            <a:ext cx="39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uprum"/>
                <a:ea typeface="Arial"/>
              </a:rPr>
              <a:t>Исследовательская деятельность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971640" y="725400"/>
            <a:ext cx="763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uprum"/>
                <a:ea typeface="Arial"/>
              </a:rPr>
              <a:t>Карточка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uprum"/>
                <a:ea typeface="Arial"/>
              </a:rPr>
              <a:t>Прочитайте текст «Бить баклуши».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uprum"/>
                <a:ea typeface="Arial"/>
              </a:rPr>
              <a:t>Значение</a:t>
            </a:r>
            <a:r>
              <a:rPr b="0" lang="ru-RU" sz="1800" spc="-1" strike="noStrike">
                <a:solidFill>
                  <a:srgbClr val="000000"/>
                </a:solidFill>
                <a:latin typeface="Cuprum"/>
                <a:ea typeface="Arial"/>
              </a:rPr>
              <a:t>: бездельничать, заниматься пустяками.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uprum"/>
                <a:ea typeface="Arial"/>
              </a:rPr>
              <a:t>На Руси баклушами называли обрубки древесины, обработанные для изготовления ложек, чашек и других изделий. Процесс выделки утвари делился на несколько этапов, первым из которых было раскалывание чурбанов на баклуши. Это не требовало особых навыков, поэтому баклуши били подмастерья или даже дети.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"/>
          <p:cNvPicPr/>
          <p:nvPr/>
        </p:nvPicPr>
        <p:blipFill>
          <a:blip r:embed="rId1"/>
          <a:stretch/>
        </p:blipFill>
        <p:spPr>
          <a:xfrm>
            <a:off x="2398680" y="1708200"/>
            <a:ext cx="1236600" cy="3352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128" name="Прямоугольник 2"/>
          <p:cNvSpPr/>
          <p:nvPr/>
        </p:nvSpPr>
        <p:spPr>
          <a:xfrm>
            <a:off x="9360" y="411120"/>
            <a:ext cx="9144000" cy="1152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Cuprum"/>
              </a:rPr>
              <a:t>С точки зрения занятых людей бить баклуши – 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Cuprum"/>
              </a:rPr>
              <a:t>пустая трата времени. 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grpSp>
        <p:nvGrpSpPr>
          <p:cNvPr id="129" name="Группа 6"/>
          <p:cNvGrpSpPr/>
          <p:nvPr/>
        </p:nvGrpSpPr>
        <p:grpSpPr>
          <a:xfrm>
            <a:off x="4564080" y="1635120"/>
            <a:ext cx="2663640" cy="1944720"/>
            <a:chOff x="4564080" y="1635120"/>
            <a:chExt cx="2663640" cy="1944720"/>
          </a:xfrm>
        </p:grpSpPr>
        <p:sp>
          <p:nvSpPr>
            <p:cNvPr id="130" name="Облако 4"/>
            <p:cNvSpPr/>
            <p:nvPr/>
          </p:nvSpPr>
          <p:spPr>
            <a:xfrm>
              <a:off x="4564080" y="1635120"/>
              <a:ext cx="2663640" cy="1944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solidFill>
              <a:srgbClr val="ffffff"/>
            </a:solidFill>
            <a:ln w="25560">
              <a:solidFill>
                <a:srgbClr val="2159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uprum"/>
              </a:endParaRPr>
            </a:p>
          </p:txBody>
        </p:sp>
        <p:pic>
          <p:nvPicPr>
            <p:cNvPr id="131" name="Рисунок 3" descr=""/>
            <p:cNvPicPr/>
            <p:nvPr/>
          </p:nvPicPr>
          <p:blipFill>
            <a:blip r:embed="rId2"/>
            <a:stretch/>
          </p:blipFill>
          <p:spPr>
            <a:xfrm>
              <a:off x="5148360" y="1816920"/>
              <a:ext cx="1198800" cy="138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Облако 5"/>
          <p:cNvSpPr/>
          <p:nvPr/>
        </p:nvSpPr>
        <p:spPr>
          <a:xfrm>
            <a:off x="3635280" y="2066760"/>
            <a:ext cx="552600" cy="4413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2159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3230280" y="19512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uprum"/>
                <a:ea typeface="Arial"/>
              </a:rPr>
              <a:t>Работа в таблице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1"/>
          <a:srcRect l="0" t="8091" r="0" b="50994"/>
          <a:stretch/>
        </p:blipFill>
        <p:spPr>
          <a:xfrm>
            <a:off x="450720" y="719280"/>
            <a:ext cx="8547120" cy="195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611280" y="2670120"/>
          <a:ext cx="8281800" cy="1846440"/>
        </p:xfrm>
        <a:graphic>
          <a:graphicData uri="http://schemas.openxmlformats.org/drawingml/2006/table">
            <a:tbl>
              <a:tblPr/>
              <a:tblGrid>
                <a:gridCol w="2305080"/>
                <a:gridCol w="2087280"/>
                <a:gridCol w="1440000"/>
                <a:gridCol w="244944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uprum"/>
                        </a:rPr>
                        <a:t>Задирать н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Забегать вперё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Бить баклуш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Закинуть удоч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9360" y="374760"/>
            <a:ext cx="9144000" cy="1150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5968"/>
                </a:solidFill>
                <a:latin typeface="Cuprum"/>
              </a:rPr>
              <a:t>Проверьте себя!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9280" y="1635120"/>
          <a:ext cx="8856720" cy="3057480"/>
        </p:xfrm>
        <a:graphic>
          <a:graphicData uri="http://schemas.openxmlformats.org/drawingml/2006/table">
            <a:tbl>
              <a:tblPr/>
              <a:tblGrid>
                <a:gridCol w="2448000"/>
                <a:gridCol w="2232000"/>
                <a:gridCol w="1584360"/>
                <a:gridCol w="2592360"/>
              </a:tblGrid>
              <a:tr h="1114200"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Глагол в неопределенной форм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спряж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Глагол в форме 3 лиц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ед. числ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ffffff"/>
                          </a:solidFill>
                          <a:latin typeface="Cuprum"/>
                        </a:rPr>
                        <a:t>задирать но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важнича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I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спряж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важничае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800"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ffffff"/>
                          </a:solidFill>
                          <a:latin typeface="Cuprum"/>
                        </a:rPr>
                        <a:t>забегать вперёд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торопиться (спешить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II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спряж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торопитс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800"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ffffff"/>
                          </a:solidFill>
                          <a:latin typeface="Cuprum"/>
                        </a:rPr>
                        <a:t>бить баклуш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бездельнича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I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спряж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бездельничае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800"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ffffff"/>
                          </a:solidFill>
                          <a:latin typeface="Cuprum"/>
                        </a:rPr>
                        <a:t>закинуть удочку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разузнать (разведать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I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спряж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разведывае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54080" y="1635120"/>
          <a:ext cx="8854920" cy="3057480"/>
        </p:xfrm>
        <a:graphic>
          <a:graphicData uri="http://schemas.openxmlformats.org/drawingml/2006/table">
            <a:tbl>
              <a:tblPr/>
              <a:tblGrid>
                <a:gridCol w="2448000"/>
                <a:gridCol w="2232000"/>
                <a:gridCol w="1582560"/>
                <a:gridCol w="2592360"/>
              </a:tblGrid>
              <a:tr h="1114200"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Глагол в неопределенной форм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спряж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Глагол в форме 3 лиц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ед. числ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ffffff"/>
                          </a:solidFill>
                          <a:latin typeface="Cuprum"/>
                        </a:rPr>
                        <a:t>задирать но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важнича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I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спряж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важничае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800"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ffffff"/>
                          </a:solidFill>
                          <a:latin typeface="Cuprum"/>
                        </a:rPr>
                        <a:t>забегать вперёд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торопиться (спешить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II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спряж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торопитс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800"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ffffff"/>
                          </a:solidFill>
                          <a:latin typeface="Cuprum"/>
                        </a:rPr>
                        <a:t>бить баклуш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бездельнича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I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спряж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бездельничае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800"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ffffff"/>
                          </a:solidFill>
                          <a:latin typeface="Cuprum"/>
                        </a:rPr>
                        <a:t>закинуть удочку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разузнать (разведать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I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спряж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разведывае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s://avatars.mds.yandex.net/i?id=35b070e56b97f038dc738fac735f9fb1_l-8241279-images-thumbs&amp;n=13"/>
          <p:cNvPicPr/>
          <p:nvPr/>
        </p:nvPicPr>
        <p:blipFill>
          <a:blip r:embed="rId1"/>
          <a:srcRect l="18035" t="0" r="18035" b="0"/>
          <a:stretch/>
        </p:blipFill>
        <p:spPr>
          <a:xfrm>
            <a:off x="0" y="457200"/>
            <a:ext cx="1908000" cy="19573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2073600" y="187920"/>
            <a:ext cx="49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ите свою работу:</a:t>
            </a:r>
            <a:endParaRPr b="0" lang="en-US" sz="4000" spc="-1" strike="noStrike">
              <a:solidFill>
                <a:srgbClr val="000000"/>
              </a:solidFill>
              <a:latin typeface="Cupr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2277360" y="2639880"/>
            <a:ext cx="34480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upr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нужно еще </a:t>
            </a:r>
            <a:endParaRPr b="0" lang="en-US" sz="4000" spc="-1" strike="noStrike">
              <a:solidFill>
                <a:srgbClr val="000000"/>
              </a:solidFill>
              <a:latin typeface="Cupr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работать</a:t>
            </a:r>
            <a:r>
              <a:rPr b="0" i="1" lang="ru-RU" sz="4000" spc="-1" strike="noStrike">
                <a:solidFill>
                  <a:srgbClr val="000000"/>
                </a:solidFill>
                <a:latin typeface="Cuprum"/>
                <a:ea typeface="Calibri"/>
              </a:rPr>
              <a:t>…</a:t>
            </a:r>
            <a:r>
              <a:rPr b="0" lang="ru-RU" sz="4000" spc="-1" strike="noStrike">
                <a:solidFill>
                  <a:srgbClr val="000000"/>
                </a:solidFill>
                <a:latin typeface="Cuprum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417040" y="12880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получилось!</a:t>
            </a:r>
            <a:endParaRPr b="0" lang="en-US" sz="4000" spc="-1" strike="noStrike">
              <a:solidFill>
                <a:srgbClr val="000000"/>
              </a:solidFill>
              <a:latin typeface="Cuprum"/>
            </a:endParaRPr>
          </a:p>
        </p:txBody>
      </p:sp>
      <p:pic>
        <p:nvPicPr>
          <p:cNvPr id="144" name="Picture 1" descr="https://static.tildacdn.com/tild6534-6562-4462-a339-643337313735/Thumbs_Down_Sign_Emo.png"/>
          <p:cNvPicPr/>
          <p:nvPr/>
        </p:nvPicPr>
        <p:blipFill>
          <a:blip r:embed="rId2"/>
          <a:stretch/>
        </p:blipFill>
        <p:spPr>
          <a:xfrm>
            <a:off x="103320" y="2522520"/>
            <a:ext cx="2006640" cy="2114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4" descr=""/>
          <p:cNvPicPr/>
          <p:nvPr/>
        </p:nvPicPr>
        <p:blipFill>
          <a:blip r:embed="rId1"/>
          <a:stretch/>
        </p:blipFill>
        <p:spPr>
          <a:xfrm>
            <a:off x="382680" y="2408400"/>
            <a:ext cx="4309920" cy="23778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1"/>
          <p:cNvSpPr/>
          <p:nvPr/>
        </p:nvSpPr>
        <p:spPr>
          <a:xfrm>
            <a:off x="-20520" y="627120"/>
            <a:ext cx="9144000" cy="1152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5968"/>
                </a:solidFill>
                <a:latin typeface="Cuprum"/>
              </a:rPr>
              <a:t>Запишите фразеологизм, значение которого соответствует вашей работе на уроке:</a:t>
            </a:r>
            <a:endParaRPr b="0" lang="en-US" sz="2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47" name="Скругленный прямоугольник 2"/>
          <p:cNvSpPr/>
          <p:nvPr/>
        </p:nvSpPr>
        <p:spPr>
          <a:xfrm>
            <a:off x="250920" y="2363760"/>
            <a:ext cx="4825800" cy="2535480"/>
          </a:xfrm>
          <a:prstGeom prst="roundRect">
            <a:avLst>
              <a:gd name="adj" fmla="val 16667"/>
            </a:avLst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uprum"/>
              </a:rPr>
              <a:t>пропустить мимо ушей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uprum"/>
              </a:rPr>
              <a:t>бить баклуши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uprum"/>
              </a:rPr>
              <a:t>работать спустя рукава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uprum"/>
              </a:rPr>
              <a:t>работать засучив рукава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uprum"/>
              </a:rPr>
              <a:t>отвечал без сучка и задоринки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</p:txBody>
      </p:sp>
      <p:pic>
        <p:nvPicPr>
          <p:cNvPr id="148" name="Рисунок 3" descr=""/>
          <p:cNvPicPr/>
          <p:nvPr/>
        </p:nvPicPr>
        <p:blipFill>
          <a:blip r:embed="rId2"/>
          <a:stretch/>
        </p:blipFill>
        <p:spPr>
          <a:xfrm>
            <a:off x="5076720" y="1776240"/>
            <a:ext cx="3527640" cy="298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3" descr=""/>
          <p:cNvPicPr/>
          <p:nvPr/>
        </p:nvPicPr>
        <p:blipFill>
          <a:blip r:embed="rId1"/>
          <a:stretch/>
        </p:blipFill>
        <p:spPr>
          <a:xfrm>
            <a:off x="-68400" y="101520"/>
            <a:ext cx="9144000" cy="504216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1"/>
          <p:cNvSpPr/>
          <p:nvPr/>
        </p:nvSpPr>
        <p:spPr>
          <a:xfrm>
            <a:off x="-15840" y="627120"/>
            <a:ext cx="9159840" cy="1152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5968"/>
                </a:solidFill>
                <a:latin typeface="Cuprum"/>
              </a:rPr>
              <a:t>Спишите пословицы, вставьте пропущенные окончания глаголов, укажите спряжение. 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51" name="Скругленный прямоугольник 2"/>
          <p:cNvSpPr/>
          <p:nvPr/>
        </p:nvSpPr>
        <p:spPr>
          <a:xfrm>
            <a:off x="243000" y="1635120"/>
            <a:ext cx="8832600" cy="3412800"/>
          </a:xfrm>
          <a:prstGeom prst="roundRect">
            <a:avLst>
              <a:gd name="adj" fmla="val 16667"/>
            </a:avLst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15968"/>
                </a:solidFill>
                <a:latin typeface="Cuprum"/>
              </a:rPr>
              <a:t>Кто вперёд смотр_т, тот далеко вид_т. Кто много вид_т и слыш_т,  тот  много  зна_т. Не  посмотр_шь – </a:t>
            </a:r>
            <a:r>
              <a:rPr b="0" lang="ru-RU" sz="2800" spc="-1" strike="noStrike">
                <a:solidFill>
                  <a:srgbClr val="215968"/>
                </a:solidFill>
                <a:latin typeface="Cuprum"/>
              </a:rPr>
              <a:t>(</a:t>
            </a:r>
            <a:r>
              <a:rPr b="0" i="1" lang="ru-RU" sz="2800" spc="-1" strike="noStrike">
                <a:solidFill>
                  <a:srgbClr val="215968"/>
                </a:solidFill>
                <a:latin typeface="Cuprum"/>
              </a:rPr>
              <a:t>не</a:t>
            </a:r>
            <a:r>
              <a:rPr b="0" lang="ru-RU" sz="2800" spc="-1" strike="noStrike">
                <a:solidFill>
                  <a:srgbClr val="215968"/>
                </a:solidFill>
                <a:latin typeface="Cuprum"/>
              </a:rPr>
              <a:t>) </a:t>
            </a:r>
            <a:r>
              <a:rPr b="0" i="1" lang="ru-RU" sz="2800" spc="-1" strike="noStrike">
                <a:solidFill>
                  <a:srgbClr val="215968"/>
                </a:solidFill>
                <a:latin typeface="Cuprum"/>
              </a:rPr>
              <a:t> увид_шь,  </a:t>
            </a:r>
            <a:r>
              <a:rPr b="0" lang="ru-RU" sz="2800" spc="-1" strike="noStrike">
                <a:solidFill>
                  <a:srgbClr val="215968"/>
                </a:solidFill>
                <a:latin typeface="Cuprum"/>
              </a:rPr>
              <a:t>(</a:t>
            </a:r>
            <a:r>
              <a:rPr b="0" i="1" lang="ru-RU" sz="2800" spc="-1" strike="noStrike">
                <a:solidFill>
                  <a:srgbClr val="215968"/>
                </a:solidFill>
                <a:latin typeface="Cuprum"/>
              </a:rPr>
              <a:t>не</a:t>
            </a:r>
            <a:r>
              <a:rPr b="0" lang="ru-RU" sz="2800" spc="-1" strike="noStrike">
                <a:solidFill>
                  <a:srgbClr val="215968"/>
                </a:solidFill>
                <a:latin typeface="Cuprum"/>
              </a:rPr>
              <a:t>)</a:t>
            </a:r>
            <a:r>
              <a:rPr b="0" i="1" lang="ru-RU" sz="2800" spc="-1" strike="noStrike">
                <a:solidFill>
                  <a:srgbClr val="215968"/>
                </a:solidFill>
                <a:latin typeface="Cuprum"/>
              </a:rPr>
              <a:t> расспрос_шь – </a:t>
            </a:r>
            <a:r>
              <a:rPr b="0" lang="ru-RU" sz="2800" spc="-1" strike="noStrike">
                <a:solidFill>
                  <a:srgbClr val="215968"/>
                </a:solidFill>
                <a:latin typeface="Cuprum"/>
              </a:rPr>
              <a:t>(</a:t>
            </a:r>
            <a:r>
              <a:rPr b="0" i="1" lang="ru-RU" sz="2800" spc="-1" strike="noStrike">
                <a:solidFill>
                  <a:srgbClr val="215968"/>
                </a:solidFill>
                <a:latin typeface="Cuprum"/>
              </a:rPr>
              <a:t>не</a:t>
            </a:r>
            <a:r>
              <a:rPr b="0" lang="ru-RU" sz="2800" spc="-1" strike="noStrike">
                <a:solidFill>
                  <a:srgbClr val="215968"/>
                </a:solidFill>
                <a:latin typeface="Cuprum"/>
              </a:rPr>
              <a:t>)</a:t>
            </a:r>
            <a:r>
              <a:rPr b="0" i="1" lang="ru-RU" sz="2800" spc="-1" strike="noStrike">
                <a:solidFill>
                  <a:srgbClr val="215968"/>
                </a:solidFill>
                <a:latin typeface="Cuprum"/>
              </a:rPr>
              <a:t> найд_шь. За двумя зайцами погон_шься, ни одного </a:t>
            </a:r>
            <a:r>
              <a:rPr b="0" lang="ru-RU" sz="2800" spc="-1" strike="noStrike">
                <a:solidFill>
                  <a:srgbClr val="215968"/>
                </a:solidFill>
                <a:latin typeface="Cuprum"/>
              </a:rPr>
              <a:t>(</a:t>
            </a:r>
            <a:r>
              <a:rPr b="0" i="1" lang="ru-RU" sz="2800" spc="-1" strike="noStrike">
                <a:solidFill>
                  <a:srgbClr val="215968"/>
                </a:solidFill>
                <a:latin typeface="Cuprum"/>
              </a:rPr>
              <a:t>не</a:t>
            </a:r>
            <a:r>
              <a:rPr b="0" lang="ru-RU" sz="2800" spc="-1" strike="noStrike">
                <a:solidFill>
                  <a:srgbClr val="215968"/>
                </a:solidFill>
                <a:latin typeface="Cuprum"/>
              </a:rPr>
              <a:t>)</a:t>
            </a:r>
            <a:r>
              <a:rPr b="0" i="1" lang="ru-RU" sz="2800" spc="-1" strike="noStrike">
                <a:solidFill>
                  <a:srgbClr val="215968"/>
                </a:solidFill>
                <a:latin typeface="Cuprum"/>
              </a:rPr>
              <a:t> пойма_шь. Воду в решете </a:t>
            </a:r>
            <a:r>
              <a:rPr b="0" lang="ru-RU" sz="2800" spc="-1" strike="noStrike">
                <a:solidFill>
                  <a:srgbClr val="215968"/>
                </a:solidFill>
                <a:latin typeface="Cuprum"/>
              </a:rPr>
              <a:t>(</a:t>
            </a:r>
            <a:r>
              <a:rPr b="0" i="1" lang="ru-RU" sz="2800" spc="-1" strike="noStrike">
                <a:solidFill>
                  <a:srgbClr val="215968"/>
                </a:solidFill>
                <a:latin typeface="Cuprum"/>
              </a:rPr>
              <a:t>не</a:t>
            </a:r>
            <a:r>
              <a:rPr b="0" lang="ru-RU" sz="2800" spc="-1" strike="noStrike">
                <a:solidFill>
                  <a:srgbClr val="215968"/>
                </a:solidFill>
                <a:latin typeface="Cuprum"/>
              </a:rPr>
              <a:t>)</a:t>
            </a:r>
            <a:r>
              <a:rPr b="0" i="1" lang="ru-RU" sz="2800" spc="-1" strike="noStrike">
                <a:solidFill>
                  <a:srgbClr val="215968"/>
                </a:solidFill>
                <a:latin typeface="Cuprum"/>
              </a:rPr>
              <a:t> удерж_шь. Конь вырвется – догон_шь, а слова сказанного </a:t>
            </a:r>
            <a:r>
              <a:rPr b="0" lang="ru-RU" sz="2800" spc="-1" strike="noStrike">
                <a:solidFill>
                  <a:srgbClr val="215968"/>
                </a:solidFill>
                <a:latin typeface="Cuprum"/>
              </a:rPr>
              <a:t>(</a:t>
            </a:r>
            <a:r>
              <a:rPr b="0" i="1" lang="ru-RU" sz="2800" spc="-1" strike="noStrike">
                <a:solidFill>
                  <a:srgbClr val="215968"/>
                </a:solidFill>
                <a:latin typeface="Cuprum"/>
              </a:rPr>
              <a:t>не</a:t>
            </a:r>
            <a:r>
              <a:rPr b="0" lang="ru-RU" sz="2800" spc="-1" strike="noStrike">
                <a:solidFill>
                  <a:srgbClr val="215968"/>
                </a:solidFill>
                <a:latin typeface="Cuprum"/>
              </a:rPr>
              <a:t>)</a:t>
            </a:r>
            <a:r>
              <a:rPr b="0" i="1" lang="ru-RU" sz="2800" spc="-1" strike="noStrike">
                <a:solidFill>
                  <a:srgbClr val="215968"/>
                </a:solidFill>
                <a:latin typeface="Cuprum"/>
              </a:rPr>
              <a:t> ворот_шь.</a:t>
            </a:r>
            <a:endParaRPr b="0" lang="en-US" sz="2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2349360" y="71280"/>
            <a:ext cx="474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МАШНЯЯ РАБОТА: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pic>
        <p:nvPicPr>
          <p:cNvPr id="154" name="Рисунок 3" descr=""/>
          <p:cNvPicPr/>
          <p:nvPr/>
        </p:nvPicPr>
        <p:blipFill>
          <a:blip r:embed="rId1"/>
          <a:stretch/>
        </p:blipFill>
        <p:spPr>
          <a:xfrm>
            <a:off x="-6480" y="109440"/>
            <a:ext cx="9144000" cy="5042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https://avatars.mds.yandex.net/i?id=991593f963c23868bd556e3df66a4a57bb8eae0c-8191391-images-thumbs&amp;n=13"/>
          <p:cNvPicPr/>
          <p:nvPr/>
        </p:nvPicPr>
        <p:blipFill>
          <a:blip r:embed="rId2"/>
          <a:stretch/>
        </p:blipFill>
        <p:spPr>
          <a:xfrm>
            <a:off x="3995640" y="339840"/>
            <a:ext cx="4900680" cy="3671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https://avatars.mds.yandex.net/i?id=7553fdfd971e047eec8aabfa41f029471d464e93-5910048-images-thumbs&amp;n=13"/>
          <p:cNvPicPr/>
          <p:nvPr/>
        </p:nvPicPr>
        <p:blipFill>
          <a:blip r:embed="rId3"/>
          <a:srcRect l="0" t="19381" r="64259" b="16629"/>
          <a:stretch/>
        </p:blipFill>
        <p:spPr>
          <a:xfrm>
            <a:off x="179280" y="339840"/>
            <a:ext cx="2779920" cy="372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User\Desktop\Новая папка\узор цветы.png"/>
          <p:cNvPicPr/>
          <p:nvPr/>
        </p:nvPicPr>
        <p:blipFill>
          <a:blip r:embed="rId1"/>
          <a:stretch/>
        </p:blipFill>
        <p:spPr>
          <a:xfrm>
            <a:off x="2693880" y="480960"/>
            <a:ext cx="3299040" cy="4249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User\Desktop\Новая папка\узор цветы.png"/>
          <p:cNvPicPr/>
          <p:nvPr/>
        </p:nvPicPr>
        <p:blipFill>
          <a:blip r:embed="rId2"/>
          <a:stretch/>
        </p:blipFill>
        <p:spPr>
          <a:xfrm>
            <a:off x="-92160" y="480960"/>
            <a:ext cx="3292560" cy="42498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"/>
          <p:cNvPicPr/>
          <p:nvPr/>
        </p:nvPicPr>
        <p:blipFill>
          <a:blip r:embed="rId3"/>
          <a:stretch/>
        </p:blipFill>
        <p:spPr>
          <a:xfrm>
            <a:off x="5219640" y="1281240"/>
            <a:ext cx="3529080" cy="298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8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4"/>
          <a:stretch/>
        </p:blipFill>
        <p:spPr>
          <a:xfrm>
            <a:off x="450720" y="339840"/>
            <a:ext cx="4686480" cy="35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2"/>
          <p:cNvSpPr/>
          <p:nvPr/>
        </p:nvSpPr>
        <p:spPr>
          <a:xfrm>
            <a:off x="2465280" y="339840"/>
            <a:ext cx="4213440" cy="10792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uprum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арь Ушакова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ворить -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ворить, творю, твориш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( сотворить).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upru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grpSp>
        <p:nvGrpSpPr>
          <p:cNvPr id="88" name="Группа 4"/>
          <p:cNvGrpSpPr/>
          <p:nvPr/>
        </p:nvGrpSpPr>
        <p:grpSpPr>
          <a:xfrm>
            <a:off x="476280" y="1852560"/>
            <a:ext cx="8191440" cy="2590920"/>
            <a:chOff x="476280" y="1852560"/>
            <a:chExt cx="8191440" cy="2590920"/>
          </a:xfrm>
        </p:grpSpPr>
        <p:pic>
          <p:nvPicPr>
            <p:cNvPr id="89" name="Рисунок 5" descr=""/>
            <p:cNvPicPr/>
            <p:nvPr/>
          </p:nvPicPr>
          <p:blipFill>
            <a:blip r:embed="rId1"/>
            <a:stretch/>
          </p:blipFill>
          <p:spPr>
            <a:xfrm>
              <a:off x="7540200" y="1852560"/>
              <a:ext cx="11275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Рисунок 6" descr=""/>
            <p:cNvPicPr/>
            <p:nvPr/>
          </p:nvPicPr>
          <p:blipFill>
            <a:blip r:embed="rId2"/>
            <a:stretch/>
          </p:blipFill>
          <p:spPr>
            <a:xfrm>
              <a:off x="476280" y="1852560"/>
              <a:ext cx="1127520" cy="259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Прямоугольник 7"/>
          <p:cNvSpPr/>
          <p:nvPr/>
        </p:nvSpPr>
        <p:spPr>
          <a:xfrm>
            <a:off x="2256480" y="2211480"/>
            <a:ext cx="46306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рить - создавать, </a:t>
            </a:r>
            <a:endParaRPr b="0" lang="en-US" sz="3600" spc="-1" strike="noStrike">
              <a:solidFill>
                <a:srgbClr val="000000"/>
              </a:solidFill>
              <a:latin typeface="Cuprum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изводить, созид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92" name="Прямоугольник 8"/>
          <p:cNvSpPr/>
          <p:nvPr/>
        </p:nvSpPr>
        <p:spPr>
          <a:xfrm>
            <a:off x="2286000" y="3814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uprum"/>
                <a:ea typeface="Arial"/>
              </a:rPr>
              <a:t>Измените глаголы, поставив их в форму 2 л. ,ед. ч.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Группа 1"/>
          <p:cNvGrpSpPr/>
          <p:nvPr/>
        </p:nvGrpSpPr>
        <p:grpSpPr>
          <a:xfrm>
            <a:off x="476280" y="1852560"/>
            <a:ext cx="8191440" cy="2590920"/>
            <a:chOff x="476280" y="1852560"/>
            <a:chExt cx="8191440" cy="2590920"/>
          </a:xfrm>
        </p:grpSpPr>
        <p:pic>
          <p:nvPicPr>
            <p:cNvPr id="94" name="Рисунок 2" descr=""/>
            <p:cNvPicPr/>
            <p:nvPr/>
          </p:nvPicPr>
          <p:blipFill>
            <a:blip r:embed="rId1"/>
            <a:stretch/>
          </p:blipFill>
          <p:spPr>
            <a:xfrm>
              <a:off x="7540200" y="1852560"/>
              <a:ext cx="11275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Рисунок 3" descr=""/>
            <p:cNvPicPr/>
            <p:nvPr/>
          </p:nvPicPr>
          <p:blipFill>
            <a:blip r:embed="rId2"/>
            <a:stretch/>
          </p:blipFill>
          <p:spPr>
            <a:xfrm>
              <a:off x="476280" y="1852560"/>
              <a:ext cx="1127520" cy="259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Picture 3" descr="screen15"/>
          <p:cNvPicPr/>
          <p:nvPr/>
        </p:nvPicPr>
        <p:blipFill>
          <a:blip r:embed="rId3"/>
          <a:stretch/>
        </p:blipFill>
        <p:spPr>
          <a:xfrm>
            <a:off x="2771640" y="1868400"/>
            <a:ext cx="3454560" cy="25923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6"/>
          <p:cNvSpPr/>
          <p:nvPr/>
        </p:nvSpPr>
        <p:spPr>
          <a:xfrm>
            <a:off x="2050920" y="268200"/>
            <a:ext cx="53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uprum"/>
                <a:ea typeface="Arial"/>
              </a:rPr>
              <a:t>Тема урока: </a:t>
            </a:r>
            <a:endParaRPr b="0" lang="en-US" sz="2800" spc="-1" strike="noStrike">
              <a:solidFill>
                <a:srgbClr val="000000"/>
              </a:solidFill>
              <a:latin typeface="Cupr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uprum"/>
                <a:ea typeface="Arial"/>
              </a:rPr>
              <a:t>Правописание безударных личных окончаний глаголов.</a:t>
            </a:r>
            <a:endParaRPr b="0" lang="en-US" sz="28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  <p:transition spd="med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74840" y="1276200"/>
            <a:ext cx="8192880" cy="25909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2"/>
          <p:cNvSpPr/>
          <p:nvPr/>
        </p:nvSpPr>
        <p:spPr>
          <a:xfrm>
            <a:off x="1835280" y="627120"/>
            <a:ext cx="502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uprum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  <a:p>
            <a:pPr>
              <a:buClr>
                <a:srgbClr val="000000"/>
              </a:buClr>
              <a:buFont typeface="Cupr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uprum"/>
              </a:rPr>
              <a:t>Закрепить умение правильно писать безударные личные окончания глаголов.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uprum"/>
              </a:rPr>
              <a:t>2.Закрепить умение обосновывать написание безударных личных окончаний глаголов.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6" descr=""/>
          <p:cNvPicPr/>
          <p:nvPr/>
        </p:nvPicPr>
        <p:blipFill>
          <a:blip r:embed="rId1"/>
          <a:stretch/>
        </p:blipFill>
        <p:spPr>
          <a:xfrm>
            <a:off x="0" y="1131840"/>
            <a:ext cx="9144000" cy="5043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1700280" y="411120"/>
            <a:ext cx="5743440" cy="4314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6" descr=""/>
          <p:cNvPicPr/>
          <p:nvPr/>
        </p:nvPicPr>
        <p:blipFill>
          <a:blip r:embed="rId1"/>
          <a:stretch/>
        </p:blipFill>
        <p:spPr>
          <a:xfrm>
            <a:off x="0" y="1131840"/>
            <a:ext cx="9144000" cy="50436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"/>
          <p:cNvSpPr/>
          <p:nvPr/>
        </p:nvSpPr>
        <p:spPr>
          <a:xfrm>
            <a:off x="2268360" y="358920"/>
            <a:ext cx="4248360" cy="772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МИНУТКА</a:t>
            </a:r>
            <a:endParaRPr b="0" lang="en-US" sz="40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05" name="Прямоугольник 1"/>
          <p:cNvSpPr/>
          <p:nvPr/>
        </p:nvSpPr>
        <p:spPr>
          <a:xfrm>
            <a:off x="1332000" y="1276200"/>
            <a:ext cx="59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ы спряженье  выбирали?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 немножечко устали.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 теперь все дружно встали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 движенья показали.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"/>
          <p:cNvSpPr/>
          <p:nvPr/>
        </p:nvSpPr>
        <p:spPr>
          <a:xfrm>
            <a:off x="1476360" y="206280"/>
            <a:ext cx="5832360" cy="7732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uprum"/>
              </a:rPr>
              <a:t>Работа над темой урока</a:t>
            </a:r>
            <a:endParaRPr b="0" lang="en-US" sz="2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826920" y="2332080"/>
            <a:ext cx="749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Топором </a:t>
            </a:r>
            <a:r>
              <a:rPr b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(</a:t>
            </a:r>
            <a:r>
              <a:rPr b="1" i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колоть</a:t>
            </a:r>
            <a:r>
              <a:rPr b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)</a:t>
            </a:r>
            <a:r>
              <a:rPr b="1" i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,  ножом </a:t>
            </a:r>
            <a:r>
              <a:rPr b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(</a:t>
            </a:r>
            <a:r>
              <a:rPr b="1" i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резать</a:t>
            </a:r>
            <a:r>
              <a:rPr b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)</a:t>
            </a:r>
            <a:r>
              <a:rPr b="1" i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,  пилой </a:t>
            </a:r>
            <a:r>
              <a:rPr b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(</a:t>
            </a:r>
            <a:r>
              <a:rPr b="1" i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пилить</a:t>
            </a:r>
            <a:r>
              <a:rPr b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)</a:t>
            </a:r>
            <a:r>
              <a:rPr b="1" i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,  щёткой </a:t>
            </a:r>
            <a:r>
              <a:rPr b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(</a:t>
            </a:r>
            <a:r>
              <a:rPr b="1" i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чистить</a:t>
            </a:r>
            <a:r>
              <a:rPr b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)</a:t>
            </a:r>
            <a:r>
              <a:rPr b="1" i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, лопатой </a:t>
            </a:r>
            <a:r>
              <a:rPr b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(</a:t>
            </a:r>
            <a:r>
              <a:rPr b="1" i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копать</a:t>
            </a:r>
            <a:r>
              <a:rPr b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)</a:t>
            </a:r>
            <a:r>
              <a:rPr b="1" i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, краской </a:t>
            </a:r>
            <a:r>
              <a:rPr b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(</a:t>
            </a:r>
            <a:r>
              <a:rPr b="1" i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красить</a:t>
            </a:r>
            <a:r>
              <a:rPr b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)</a:t>
            </a:r>
            <a:r>
              <a:rPr b="1" i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08" name="Прямоугольник 7"/>
          <p:cNvSpPr/>
          <p:nvPr/>
        </p:nvSpPr>
        <p:spPr>
          <a:xfrm>
            <a:off x="684360" y="1131840"/>
            <a:ext cx="7918200" cy="1060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5968"/>
                </a:solidFill>
                <a:latin typeface="Cuprum"/>
              </a:rPr>
              <a:t>Спишите словосочетания, поставьте глаголы в 1-м лице множественного числа. Выделите окончания, укажите спряжение глаголов.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-15840" y="484200"/>
            <a:ext cx="9144000" cy="1150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15968"/>
                </a:solidFill>
                <a:latin typeface="Cuprum"/>
              </a:rPr>
              <a:t>Проверьте себя.</a:t>
            </a:r>
            <a:endParaRPr b="0" lang="en-US" sz="36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10" name="Табличка 2"/>
          <p:cNvSpPr/>
          <p:nvPr/>
        </p:nvSpPr>
        <p:spPr>
          <a:xfrm>
            <a:off x="1332000" y="1876320"/>
            <a:ext cx="6480000" cy="2276280"/>
          </a:xfrm>
          <a:custGeom>
            <a:avLst/>
            <a:gdLst>
              <a:gd name="textAreaLeft" fmla="*/ 268200 w 6480000"/>
              <a:gd name="textAreaRight" fmla="*/ 6211800 w 6480000"/>
              <a:gd name="textAreaTop" fmla="*/ 268200 h 2276280"/>
              <a:gd name="textAreaBottom" fmla="*/ 2008080 h 2276280"/>
            </a:gdLst>
            <a:ahLst/>
            <a:rect l="textAreaLeft" t="textAreaTop" r="textAreaRight" b="textAreaBottom"/>
            <a:pathLst>
              <a:path w="6148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7883" y="21600"/>
                </a:lnTo>
                <a:arcTo wR="3600" hR="3600" stAng="10800000" swAng="5400000"/>
                <a:lnTo>
                  <a:pt x="61483" y="3600"/>
                </a:lnTo>
                <a:arcTo wR="3600" hR="3600" stAng="5400000" swAng="5400000"/>
                <a:close/>
              </a:path>
            </a:pathLst>
          </a:cu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15968"/>
                </a:solidFill>
                <a:latin typeface="Cuprum"/>
              </a:rPr>
              <a:t>Топором колем,  ножом режем,  пилой пилим,  щёткой чистим, лопатой копаем, краской красим.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3503520" y="2389320"/>
            <a:ext cx="420840" cy="237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12" name="Прямоугольник 5"/>
          <p:cNvSpPr/>
          <p:nvPr/>
        </p:nvSpPr>
        <p:spPr>
          <a:xfrm>
            <a:off x="4824360" y="2948040"/>
            <a:ext cx="349200" cy="237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4757760" y="3487680"/>
            <a:ext cx="347760" cy="238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14" name="Прямоугольник 10"/>
          <p:cNvSpPr/>
          <p:nvPr/>
        </p:nvSpPr>
        <p:spPr>
          <a:xfrm>
            <a:off x="2384280" y="3487680"/>
            <a:ext cx="347760" cy="238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15" name="Прямоугольник 11"/>
          <p:cNvSpPr/>
          <p:nvPr/>
        </p:nvSpPr>
        <p:spPr>
          <a:xfrm>
            <a:off x="2230560" y="2943360"/>
            <a:ext cx="480960" cy="237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16" name="Прямоугольник 12"/>
          <p:cNvSpPr/>
          <p:nvPr/>
        </p:nvSpPr>
        <p:spPr>
          <a:xfrm>
            <a:off x="5721480" y="2389320"/>
            <a:ext cx="315720" cy="237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17" name="Прямоугольник 13"/>
          <p:cNvSpPr/>
          <p:nvPr/>
        </p:nvSpPr>
        <p:spPr>
          <a:xfrm>
            <a:off x="1563840" y="25779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uprum"/>
                <a:ea typeface="Arial"/>
              </a:rPr>
              <a:t>II</a:t>
            </a:r>
            <a:r>
              <a:rPr b="0" i="1" lang="ru-RU" sz="1800" spc="-1" strike="noStrike">
                <a:solidFill>
                  <a:srgbClr val="ff0000"/>
                </a:solidFill>
                <a:latin typeface="Cuprum"/>
                <a:ea typeface="Arial"/>
              </a:rPr>
              <a:t> спр.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18" name="Прямоугольник 15"/>
          <p:cNvSpPr/>
          <p:nvPr/>
        </p:nvSpPr>
        <p:spPr>
          <a:xfrm>
            <a:off x="4071960" y="26272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uprum"/>
                <a:ea typeface="Arial"/>
              </a:rPr>
              <a:t>II</a:t>
            </a:r>
            <a:r>
              <a:rPr b="0" i="1" lang="ru-RU" sz="1800" spc="-1" strike="noStrike">
                <a:solidFill>
                  <a:srgbClr val="ff0000"/>
                </a:solidFill>
                <a:latin typeface="Cuprum"/>
                <a:ea typeface="Arial"/>
              </a:rPr>
              <a:t> спр.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19" name="Прямоугольник 16"/>
          <p:cNvSpPr/>
          <p:nvPr/>
        </p:nvSpPr>
        <p:spPr>
          <a:xfrm>
            <a:off x="4213440" y="3114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uprum"/>
                <a:ea typeface="Arial"/>
              </a:rPr>
              <a:t>II</a:t>
            </a:r>
            <a:r>
              <a:rPr b="0" i="1" lang="ru-RU" sz="1800" spc="-1" strike="noStrike">
                <a:solidFill>
                  <a:srgbClr val="ff0000"/>
                </a:solidFill>
                <a:latin typeface="Cuprum"/>
                <a:ea typeface="Arial"/>
              </a:rPr>
              <a:t> спр.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20" name="Прямоугольник 17"/>
          <p:cNvSpPr/>
          <p:nvPr/>
        </p:nvSpPr>
        <p:spPr>
          <a:xfrm>
            <a:off x="3024360" y="205740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uprum"/>
                <a:ea typeface="Arial"/>
              </a:rPr>
              <a:t>I</a:t>
            </a:r>
            <a:r>
              <a:rPr b="0" i="1" lang="ru-RU" sz="1800" spc="-1" strike="noStrike">
                <a:solidFill>
                  <a:srgbClr val="ff0000"/>
                </a:solidFill>
                <a:latin typeface="Cuprum"/>
                <a:ea typeface="Arial"/>
              </a:rPr>
              <a:t> спр.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21" name="Прямоугольник 18"/>
          <p:cNvSpPr/>
          <p:nvPr/>
        </p:nvSpPr>
        <p:spPr>
          <a:xfrm>
            <a:off x="5089680" y="204948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uprum"/>
                <a:ea typeface="Arial"/>
              </a:rPr>
              <a:t>I</a:t>
            </a:r>
            <a:r>
              <a:rPr b="0" i="1" lang="ru-RU" sz="1800" spc="-1" strike="noStrike">
                <a:solidFill>
                  <a:srgbClr val="ff0000"/>
                </a:solidFill>
                <a:latin typeface="Cuprum"/>
                <a:ea typeface="Arial"/>
              </a:rPr>
              <a:t> спр.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22" name="Прямоугольник 19"/>
          <p:cNvSpPr/>
          <p:nvPr/>
        </p:nvSpPr>
        <p:spPr>
          <a:xfrm>
            <a:off x="1428120" y="321300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uprum"/>
                <a:ea typeface="Arial"/>
              </a:rPr>
              <a:t>I</a:t>
            </a:r>
            <a:r>
              <a:rPr b="0" i="1" lang="ru-RU" sz="1800" spc="-1" strike="noStrike">
                <a:solidFill>
                  <a:srgbClr val="ff0000"/>
                </a:solidFill>
                <a:latin typeface="Cuprum"/>
                <a:ea typeface="Arial"/>
              </a:rPr>
              <a:t> спр.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9T06:49:55Z</dcterms:created>
  <dc:creator>User</dc:creator>
  <dc:description/>
  <dc:language>en-US</dc:language>
  <cp:lastModifiedBy>admin</cp:lastModifiedBy>
  <dcterms:modified xsi:type="dcterms:W3CDTF">2024-01-17T09:29:50Z</dcterms:modified>
  <cp:revision>227</cp:revision>
  <dc:subject/>
  <dc:title>Презентация PowerPoint</dc:title>
</cp:coreProperties>
</file>