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E6C-D87F-4AAE-A8D3-DE247E65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9BC-688D-4961-A1D0-A24963C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A27-6D71-4E38-A6EF-5E4B0B3B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D01-70D9-4177-ABDE-EEC643A3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70F-DB39-4AE8-BC64-E8800F51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561-62CC-41AA-824A-5E89DE7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C98-1E32-475E-A5B6-0B662564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EE2-0218-4FB9-84FF-53A83C7A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AA4-FDB2-43BC-A631-404560A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6BE-67CF-4461-804E-D7CF3C2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2D3-4C98-4877-954F-CE9BBFB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475-2A3F-4AEF-9303-6971B6C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0E74-9FAA-4B0C-945D-C2C253098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-а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785880" y="-187560"/>
            <a:ext cx="8143920" cy="71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й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цип обучения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ю и пись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удентка группы ПМНО-1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бина Л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рсеилова А.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:\Documents and Settings\Пользователь\Мои документы\Downloads\___20160215_1791897161.png"/>
          <p:cNvPicPr/>
          <p:nvPr/>
        </p:nvPicPr>
        <p:blipFill>
          <a:blip r:embed="rId2"/>
          <a:stretch/>
        </p:blipFill>
        <p:spPr>
          <a:xfrm>
            <a:off x="7072200" y="5000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Пользователь\Рабочий стол\___20130309_1443495640.png"/>
          <p:cNvPicPr/>
          <p:nvPr/>
        </p:nvPicPr>
        <p:blipFill>
          <a:blip r:embed="rId3"/>
          <a:stretch/>
        </p:blipFill>
        <p:spPr>
          <a:xfrm>
            <a:off x="1285920" y="2857680"/>
            <a:ext cx="30718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285840" y="55440"/>
            <a:ext cx="85723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ой способ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своения детьми устной и письменной речи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ая речевая деятельность ребенка и анализ соответствия речевых средств конкретной ситуа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дальнейших этапах обучения не столько увеличивается объем материала, сколько изменяется степень глубины, сложности и многоаспектности его анализа. Техника чтения и письма формируется 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новном в период обучения грам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:\Documents and Settings\Пользователь\Рабочий стол\___20130309_1443495640.png"/>
          <p:cNvPicPr/>
          <p:nvPr/>
        </p:nvPicPr>
        <p:blipFill>
          <a:blip r:embed="rId2"/>
          <a:stretch/>
        </p:blipFill>
        <p:spPr>
          <a:xfrm>
            <a:off x="571680" y="4270320"/>
            <a:ext cx="1785600" cy="20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Пользователь\Мои документы\Downloads\____20160209_1749474282.png"/>
          <p:cNvPicPr/>
          <p:nvPr/>
        </p:nvPicPr>
        <p:blipFill>
          <a:blip r:embed="rId3"/>
          <a:stretch/>
        </p:blipFill>
        <p:spPr>
          <a:xfrm>
            <a:off x="5643720" y="4727520"/>
            <a:ext cx="3214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8964720" cy="6684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57120" y="105480"/>
            <a:ext cx="83581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учение чтению строится по методике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тико-синтетического и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о-буквенного метода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торый включает в себ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   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довательное неразрывно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звучивание каждой буквы с учетом позиционных м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500040" y="257184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степенно, от этапа к этапу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астает длина слов, появляется стечение согласных, расхождение звукового и буквенного состава, расхождение количества звуков и количества букв.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акой подход к порядку изучения букв и постепенному усложнению слов позволяет детям самостоятельно открыть правила чтения; вывести правила написания звонких согласных и проверяемых безударных гласных в корне; осознать написание гласных после шипящих и проч., т.е. вполне естественно войти в грамматическую систему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:\Documents and Settings\Пользователь\Мои документы\Downloads\___20160215_1791897161.png"/>
          <p:cNvPicPr/>
          <p:nvPr/>
        </p:nvPicPr>
        <p:blipFill>
          <a:blip r:embed="rId2"/>
          <a:stretch/>
        </p:blipFill>
        <p:spPr>
          <a:xfrm>
            <a:off x="6643800" y="285840"/>
            <a:ext cx="2071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24000" y="9079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7120" y="37728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енное расширение языкового материала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вляется необходимым условием для организации активной мыслительной деятельности школьников, связанной с эмоциями, переживаниями, волевым напряжением, для освоения ими адекватных форм и средств общения, для ускоренного формирования навыков чтения и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714760" y="3286080"/>
            <a:ext cx="61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же в букварный пери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оме традиционно центральной тем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Фонетика",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еникам предоставляется возможность широких грамматических наблюдений в област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аксиса, морфологии и слово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Пользователь\Рабочий стол\___20130309_1443495640.png"/>
          <p:cNvPicPr/>
          <p:nvPr/>
        </p:nvPicPr>
        <p:blipFill>
          <a:blip r:embed="rId2"/>
          <a:stretch/>
        </p:blipFill>
        <p:spPr>
          <a:xfrm>
            <a:off x="357120" y="3500280"/>
            <a:ext cx="23576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500040" y="3866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наблюдений в этот перио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особствовать формированию навыков правильного чтения и правильного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ее достижению приводят следующи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нии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ичное осознание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зличения слов по   смыслу,грамматическому и звуко-буквенному сост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ое наблю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тьми трех основных принципов русской орфографии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етического, морфемного, традиционного, или историче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429680" y="57862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57120" y="-220680"/>
            <a:ext cx="8001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7000920" y="392904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285840" y="314280"/>
            <a:ext cx="82868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программе предусмотрено наблюдение сильных и слабых позиций звуков в слове, расхождения написания и произношения слов, вводятся понятия родственных слов и форм слов, понятие "корень", сравниваются слова с проверяемыми написаниями в корне (нора - норы, снег - снега) с написаниями непроверяемыми, традиционными (ча, ща, чу, щу, жи, ши, же, ше); наблюдение изменения грамматической структуры слов в предложении, в зависимости от цели высказывания, практическое ознакомление с основными признаками предложения и слова. Этой функции служит 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ложений, различающихся по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казывания и интонации, 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спользования других средств, выраж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мысл предложения: форм с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ужебных слов, порядка слов, инто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428760" y="214200"/>
            <a:ext cx="85010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заданий и упражнений для учащихся в период обучения грам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апный фонетический разбор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ключа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новные способы ведения фонетической работы – наблюдение над артикуляцией звуков, предъявление приема протяжного или усиленного произнесения звука, выполнение действия по образцу, фонетический опыт (эксперимент), моделирование, фонетическое констру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вуковой анализ сл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зван помочь первоклассникам накопить фонетический опыт и отточить фонетические умения. В основе фонетической работы на всем протяжении обучения должны лежать собственные действия ученика со звучащим слов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лавная рекомендация учител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скажи и послушай слово».— это прие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могающий маленькому школьнику обр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вой собственный опыт.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7643880" y="464328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Documents and Settings\Пользователь\Мои документы\Downloads\___20160215_1791897161.png"/>
          <p:cNvPicPr/>
          <p:nvPr/>
        </p:nvPicPr>
        <p:blipFill>
          <a:blip r:embed="rId3"/>
          <a:stretch/>
        </p:blipFill>
        <p:spPr>
          <a:xfrm>
            <a:off x="8143920" y="285840"/>
            <a:ext cx="10000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0-3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7246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47840" y="78408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7120" y="128916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6215040" y="3929040"/>
            <a:ext cx="2643120" cy="278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214200" y="4643280"/>
            <a:ext cx="2357640" cy="2000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оздание специальных проблемных ситу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28760" y="871200"/>
            <a:ext cx="8286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воляет детям почувствовать и осознать </a:t>
            </a: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обходимость в новом знании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решения учебно-практической задачи письма и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Букварь же представляет собой последовательность учебно-практических задач, решая которые дети открывают законы русской графики и орфогра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907920"/>
            <a:ext cx="83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428760" y="3571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7200"/>
            <a:ext cx="8143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Артикуляционная разм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-59760"/>
            <a:ext cx="87152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доске: Дед Данила делил дын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льку – Дине, Дольку - Ди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) чтение х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) чтение по рядам с нужной интон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festival.1september.ru/2004_2005/articles/213892/Image40.gif"/>
          <p:cNvPicPr/>
          <p:nvPr/>
        </p:nvPicPr>
        <p:blipFill>
          <a:blip r:embed="rId2"/>
          <a:stretch/>
        </p:blipFill>
        <p:spPr>
          <a:xfrm>
            <a:off x="1500120" y="3071880"/>
            <a:ext cx="4929120" cy="1368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428760" y="1525320"/>
            <a:ext cx="8072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Сколько раз встретилась буква Д, которая обозначает мягкий зву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Сколько раз - тверды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В каких словах букв больше, чем зву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C:\Documents and Settings\Пользователь\Мои документы\Downloads\_____20160209_1592596846.png"/>
          <p:cNvPicPr/>
          <p:nvPr/>
        </p:nvPicPr>
        <p:blipFill>
          <a:blip r:embed="rId3"/>
          <a:stretch/>
        </p:blipFill>
        <p:spPr>
          <a:xfrm>
            <a:off x="6786720" y="500040"/>
            <a:ext cx="18907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Пользователь\Мои документы\Downloads\__20140207_1708834928.png"/>
          <p:cNvPicPr/>
          <p:nvPr/>
        </p:nvPicPr>
        <p:blipFill>
          <a:blip r:embed="rId4"/>
          <a:stretch/>
        </p:blipFill>
        <p:spPr>
          <a:xfrm>
            <a:off x="7500960" y="55008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40-3"/>
          <p:cNvPicPr/>
          <p:nvPr/>
        </p:nvPicPr>
        <p:blipFill>
          <a:blip r:embed="rId1"/>
          <a:stretch/>
        </p:blipFill>
        <p:spPr>
          <a:xfrm>
            <a:off x="-214200" y="-214200"/>
            <a:ext cx="9358200" cy="7246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447840" y="784080"/>
            <a:ext cx="82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7120" y="972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Упражнения, вырабатывающие внимание к слову и его частям и являющиеся предпосылкой правильн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57120" y="13060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трудных слов с доски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последующим объяснением значения этих слов, чтение слов наобор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ецнлос       ансев         ця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наложенных друг на друга сл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9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142920" y="3143160"/>
            <a:ext cx="7072200" cy="242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Documents and Settings\Пользователь\Мои документы\Downloads\___20140207_1606907618.jpg"/>
          <p:cNvPicPr/>
          <p:nvPr/>
        </p:nvPicPr>
        <p:blipFill>
          <a:blip r:embed="rId3"/>
          <a:stretch/>
        </p:blipFill>
        <p:spPr>
          <a:xfrm>
            <a:off x="7072200" y="3643200"/>
            <a:ext cx="1928880" cy="30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Пользователь\Мои документы\Downloads\__20140207_1708834928.png"/>
          <p:cNvPicPr/>
          <p:nvPr/>
        </p:nvPicPr>
        <p:blipFill>
          <a:blip r:embed="rId4"/>
          <a:stretch/>
        </p:blipFill>
        <p:spPr>
          <a:xfrm>
            <a:off x="214200" y="5786280"/>
            <a:ext cx="15717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50920" y="2602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85840" y="-45360"/>
            <a:ext cx="857232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ние согласных по таблице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ащиеся делают глубокий вдох и на выдохе читают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5 согласных одного ря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ТМПВЧФКНШЛЖЗЦС КВМСПЛБШГРДБЛСТ ПРЛГНТВСЧЦФБХНМ ВМРГКТБДЗЩЗБЧВН ФЩМЖДШХЧМКПБРВС                   ПТКЗРМВДГБФКЗР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  Чтение по таблице – треугольник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ащиеся смотрят только на точку и читают все слоги: ма; мо; му; мы; ми (или смотрят на цифру 1 и читают все слог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1000080" y="4402080"/>
            <a:ext cx="7786800" cy="202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7643880" y="14292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nts and Settings\Пользователь\Мои документы\Downloads\___20140207_1606907618.jpg"/>
          <p:cNvPicPr/>
          <p:nvPr/>
        </p:nvPicPr>
        <p:blipFill>
          <a:blip r:embed="rId4"/>
          <a:stretch/>
        </p:blipFill>
        <p:spPr>
          <a:xfrm>
            <a:off x="4286160" y="4286160"/>
            <a:ext cx="1500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0-3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95280" y="1628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27360"/>
            <a:ext cx="84297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грамоте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вляется органической частью      учебного предмета «русский язык» и имеет с ним общую коммуникативно-познавательную осно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с отвечает целям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гуманистической школы, интересам и потребностям ребенка, он призван сформировать высокую культуру речевого общения, развить творческие способности учащихся, приобщить их к духовно-нравственным ценностям.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рса «Обучение грамоте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воение первоначальных знаний о лексике, фонетике,  грамматике рус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6572160" y="5000760"/>
            <a:ext cx="20005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1-а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14200" y="26856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 Ролевое ч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857160" y="785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зывает массу чувств, эмо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714240" y="1214280"/>
            <a:ext cx="842976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«Игра в прятки»           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дущий начинает читать не сначала, а где попало, называя только страницу, остальные должны найти и подстроиться под чтение ведущего.</a:t>
            </a:r>
            <a:r>
              <a:rPr b="1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«Мнимое слово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ь в ходе чтения произносит неправильно слово, дети прерывают чтение и прочитывают слово с исправлением. Этот вид чтения привлекателен тем, что они имеют возможность поправить самого учителя, что поднимает их собственный авторитет и придает уверенность в своих сила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786800" y="5715000"/>
            <a:ext cx="13572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-а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714240" y="285840"/>
            <a:ext cx="90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«Чтение за диктором»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ой вид работы помогает слабо читающему уче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785880" y="35280"/>
            <a:ext cx="807228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ктором может быть и учитель, и хорошо читающий ученик, можно использовать и грамзапись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оровое чтение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 уже на равных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ботают все учащиеся: как быстро читающие, так и читающие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C:\Documents and Settings\Пользователь\Рабочий стол\baa91c67ab38.png"/>
          <p:cNvPicPr/>
          <p:nvPr/>
        </p:nvPicPr>
        <p:blipFill>
          <a:blip r:embed="rId2"/>
          <a:stretch/>
        </p:blipFill>
        <p:spPr>
          <a:xfrm>
            <a:off x="5357880" y="2214720"/>
            <a:ext cx="3357360" cy="2786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Пользователь\Рабочий стол\___20130309_1443495640.png"/>
          <p:cNvPicPr/>
          <p:nvPr/>
        </p:nvPicPr>
        <p:blipFill>
          <a:blip r:embed="rId3"/>
          <a:stretch/>
        </p:blipFill>
        <p:spPr>
          <a:xfrm>
            <a:off x="1143000" y="2500200"/>
            <a:ext cx="2286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-а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642960" y="34200"/>
            <a:ext cx="792972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лючение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 период обучения грамоте необходимо содействовать развитию мышления учащихся, пробуждать у них бережное отношение и любовь к родной речи, вызывать интерес к знаниям по русскому языку, развивать их языковое чутьё, умение наблюдать факты речи , способность анализировать звуковые явления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ешении этих задач огромное значение имеют различные виды разбора языкового материала, которые различаются по содержанию, объёму и способу выполнения. Учебники и технология обучения должны сделать процесс обучения  психологически комфортным, помочь ребёнку полностью реализовать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858080" y="21420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-23400"/>
            <a:ext cx="8858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держание нового курса и методика обучения ориентированы на решение следующих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4200" y="1381320"/>
            <a:ext cx="87156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формировать умения писать и читать, слушать и говорить, свободно пользоваться родным языком в различных ситуациях об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спечить осознанное усвоение языка как важнейшего средства общения и взаимного понимания люд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спечить взаимосвязь системы обучения грамоте с развитием коммуникативно-речевых умений, литературно-творческих способностей учащихся, с формированием у них духовно-нравственных ценно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ить образное и логическое мышление у каждого ребёнка, привить навыки речевой культуры общения как неотъемлемой части общей культуры чело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350120" y="5715000"/>
            <a:ext cx="1365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14200" y="-350640"/>
            <a:ext cx="8715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 освоении звукобуквенного письма используе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временный вариант звукового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налитико-синтетическог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ет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28760" y="99360"/>
            <a:ext cx="835812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ая система обучения грамоте базируется н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х основных принципах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ммуникативн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навательном,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миотическом (знаков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Пользователь\Рабочий стол\___20130309_1443495640.png"/>
          <p:cNvPicPr/>
          <p:nvPr/>
        </p:nvPicPr>
        <p:blipFill>
          <a:blip r:embed="rId2"/>
          <a:stretch/>
        </p:blipFill>
        <p:spPr>
          <a:xfrm>
            <a:off x="785880" y="3857760"/>
            <a:ext cx="221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760" y="27720"/>
            <a:ext cx="835812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тивная направ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урса позво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формировать процессы чтения и письма как виды письменной речи, а не только как простейшие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ть представление о тексте как продукте речев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ознать язык как средство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формировать умение ориентироваться в ситуации общения: адекватно воспринимать речь собеседника, правильно строить своё высказывание, контролировать и корректировать его в зависимости от ситуации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Пользователь\Мои документы\Downloads\____20160209_1749474282.png"/>
          <p:cNvPicPr/>
          <p:nvPr/>
        </p:nvPicPr>
        <p:blipFill>
          <a:blip r:embed="rId2"/>
          <a:stretch/>
        </p:blipFill>
        <p:spPr>
          <a:xfrm>
            <a:off x="4357800" y="5500800"/>
            <a:ext cx="4357440" cy="13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7215120" y="214200"/>
            <a:ext cx="14288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57120" y="31320"/>
            <a:ext cx="850104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ая ориентация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урса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учать язык как культурно-исторический процесс — от устных форм общения к письменным, т. е. от игры, жеста, рисунков, пиктографии к алфавитному звукобуквенному письму 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00" indent="-81000"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воить язык как средство взаимопонимания, средство п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спечить поэтапное усвоение основных языковых и речевых понятий на иллюстративно-образной основе с учётом особенностей познавательной деятельности ребёнка через развитие всех видов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ить языковое мышление, которое базируется на умении ребёнка осознавать и гармонически сочетать форму и содержание речи, умении воспроизводить её смысл и значение в различных формах, умении увидеть общий смыс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ировать языковое мышление учащихся, развивая образное и абстрактное логическое мышление, интуи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715160" y="38160"/>
            <a:ext cx="12146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0-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50920" y="90792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85840" y="351720"/>
            <a:ext cx="8429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иотический принцип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ёт возможнос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крыть язык как знаковую систему, в которой к языковым знакам можно отнести только двусторонние единицы языка, такие, как слово, морфема и т. д. (а не букву, как часто полагают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ознать специфику слова как языкового знака, как «заместителя» действительност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делить исходные понятия и отношения, которые помогли бы ребёнку проникнуть в смысл языкового знака: знак — значение, значение — звучание (содержание — форма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накомить детей с различными знаковыми системами и средствами общения: мимикой и жестом  знаками-сигналами, знаками-символами, языком искусства и т. 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Пользователь\Мои документы\Downloads\__20140207_1708834928.png"/>
          <p:cNvPicPr/>
          <p:nvPr/>
        </p:nvPicPr>
        <p:blipFill>
          <a:blip r:embed="rId2"/>
          <a:stretch/>
        </p:blipFill>
        <p:spPr>
          <a:xfrm>
            <a:off x="7778880" y="0"/>
            <a:ext cx="1079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57120" y="-563400"/>
            <a:ext cx="8001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од обучения грамоте включ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 этап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Добукварный пери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Букварный пери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Послебукварный пери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Documents and Settings\Пользователь\Мои документы\Downloads\___20140207_1606907618.jpg"/>
          <p:cNvPicPr/>
          <p:nvPr/>
        </p:nvPicPr>
        <p:blipFill>
          <a:blip r:embed="rId2"/>
          <a:stretch/>
        </p:blipFill>
        <p:spPr>
          <a:xfrm>
            <a:off x="6500880" y="171468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0-3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50920" y="8571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28760" y="357120"/>
            <a:ext cx="8072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дро программы обучения грам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авляет начальное осознание  детьми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связи между целевой, содержательной сторонами речи и формальными средствами ее выражения (грамматикой, знака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Слово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этот период выступает как основная анализируемая единица речи на фоне предложения и текста. В ходе активного употребления языка ребенок сам открывает его правила, сам устанавливает объективно существующие взаимосвязи, осмысливая таким образом собственный дошкольный опыт пользования языковой систе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Пользователь\Мои документы\Downloads\___20160215_1791897161.png"/>
          <p:cNvPicPr/>
          <p:nvPr/>
        </p:nvPicPr>
        <p:blipFill>
          <a:blip r:embed="rId2"/>
          <a:stretch/>
        </p:blipFill>
        <p:spPr>
          <a:xfrm>
            <a:off x="7072200" y="21420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Пользователь\Мои документы\Downloads\__20140207_1708834928.png"/>
          <p:cNvPicPr/>
          <p:nvPr/>
        </p:nvPicPr>
        <p:blipFill>
          <a:blip r:embed="rId3"/>
          <a:stretch/>
        </p:blipFill>
        <p:spPr>
          <a:xfrm>
            <a:off x="7429680" y="5357880"/>
            <a:ext cx="14284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4:15:41Z</dcterms:created>
  <dc:creator>1</dc:creator>
  <dc:description/>
  <dc:language>en-US</dc:language>
  <cp:lastModifiedBy>Admin</cp:lastModifiedBy>
  <dcterms:modified xsi:type="dcterms:W3CDTF">2020-11-23T07:04:46Z</dcterms:modified>
  <cp:revision>40</cp:revision>
  <dc:subject/>
  <dc:title>Методика обучения письму младших школьников («письмо с секретом»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f0000000000010243100207f6000400038000</vt:lpwstr>
  </property>
</Properties>
</file>