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EC4A-AA23-4F6C-92F2-BB2FE304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44AD-0A80-4B25-A464-2924106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EBD0-4737-4DFE-80B3-631913B4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8CBA-0DB4-455D-B400-99C0DEC6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4265-563D-4DCD-92A1-FF1B5696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8D45-ACCC-451B-BF20-5796DC40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AD94-BFDB-48EB-B3FB-38A906CA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3E20-830E-4E6B-87BA-F39D65E8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EB98-B68C-4F06-86EC-5B11AB5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28D9-54E8-47B8-8703-A72D480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419-0D2A-491D-B757-83B8524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C232-284E-498A-9C91-49D20442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2215-F931-445C-9914-678F6F3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F05-C321-45A9-BACD-ECB85D21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EFB7-F67B-47BE-8B89-85725F9B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9CA8-6EFC-4B8F-9B6D-F2536C59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8CB-C092-4067-AEF3-D182F472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C248-C181-4590-AD35-C505B01C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8CB9-E32E-4C23-B456-39B311EE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D150-205D-4E64-B172-73F874DC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D588-4754-4CE1-8F33-1BBC4BB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C28E-674A-4D53-BAFE-88A7CDE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733D-46DF-4C55-B985-CFCF3CD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B968-9649-4473-8572-68E9716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E7F9-E29A-455F-AC52-CFB4130C5D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428-244C-4AAC-ADC6-71E8AAA36B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28800"/>
            <a:ext cx="6723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Светофоры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4365360"/>
            <a:ext cx="5257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ru-RU" sz="4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300" spc="-1" strike="noStrike">
                <a:solidFill>
                  <a:srgbClr val="9900ff"/>
                </a:solidFill>
                <a:latin typeface="Tahoma"/>
              </a:rPr>
              <a:t>О светофора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300" spc="-1" strike="noStrike">
                <a:solidFill>
                  <a:srgbClr val="9900ff"/>
                </a:solidFill>
                <a:latin typeface="Tahoma"/>
              </a:rPr>
              <a:t>Игра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Сигналы светофора»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Untitled-1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17480" y="4365720"/>
            <a:ext cx="1778040" cy="2303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>
            <a:hlinkClick r:id="rId2" action="ppaction://hlinksldjump"/>
          </p:cNvPr>
          <p:cNvSpPr/>
          <p:nvPr/>
        </p:nvSpPr>
        <p:spPr>
          <a:xfrm>
            <a:off x="3564000" y="429264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>
            <a:hlinkClick r:id="rId3" action="ppaction://hlinksldjump"/>
          </p:cNvPr>
          <p:cNvSpPr/>
          <p:nvPr/>
        </p:nvSpPr>
        <p:spPr>
          <a:xfrm>
            <a:off x="3564000" y="5013360"/>
            <a:ext cx="48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105264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В каком порядке располагаются сигналы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8135640" cy="1592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ы располагаются в нём в строгой последовательност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6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6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90" name="AutoShap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Как выглядит </a:t>
            </a:r>
            <a:r>
              <a:rPr b="1" lang="ru-RU" sz="3600" spc="-1" strike="noStrike" u="sng">
                <a:solidFill>
                  <a:srgbClr val="00007d"/>
                </a:solidFill>
                <a:uFillTx/>
                <a:latin typeface="Arial"/>
              </a:rPr>
              <a:t>светофор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, предназначенный только </a:t>
            </a:r>
            <a:br>
              <a:rPr sz="3600"/>
            </a:br>
            <a:r>
              <a:rPr b="1" lang="ru-RU" sz="3600" spc="-1" strike="noStrike" u="sng">
                <a:solidFill>
                  <a:srgbClr val="00007d"/>
                </a:solidFill>
                <a:uFillTx/>
                <a:latin typeface="Arial"/>
              </a:rPr>
              <a:t>для пешеходов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539640" y="3500280"/>
            <a:ext cx="8229600" cy="180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форы, предназначенные только для пешеходов, имеют только две секции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асн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зелён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AutoShape 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96" name="AutoShape 4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7"/>
          <p:cNvSpPr/>
          <p:nvPr/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очему мужчина ругает маль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Untitled-16"/>
          <p:cNvPicPr/>
          <p:nvPr/>
        </p:nvPicPr>
        <p:blipFill>
          <a:blip r:embed="rId3"/>
          <a:stretch/>
        </p:blipFill>
        <p:spPr>
          <a:xfrm>
            <a:off x="826920" y="1989000"/>
            <a:ext cx="4392720" cy="3915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200" name="Rectangle 9"/>
          <p:cNvSpPr/>
          <p:nvPr/>
        </p:nvSpPr>
        <p:spPr>
          <a:xfrm>
            <a:off x="5651640" y="3068640"/>
            <a:ext cx="3241440" cy="2376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неверно переходит дор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обозначают сигналы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92720" y="2204640"/>
            <a:ext cx="3240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ТОЙ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ИД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Untitled-17"/>
          <p:cNvPicPr/>
          <p:nvPr/>
        </p:nvPicPr>
        <p:blipFill>
          <a:blip r:embed="rId2"/>
          <a:stretch/>
        </p:blipFill>
        <p:spPr>
          <a:xfrm>
            <a:off x="900000" y="1916280"/>
            <a:ext cx="4095720" cy="4103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grpSp>
        <p:nvGrpSpPr>
          <p:cNvPr id="205" name="AutoShape 8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06" name="AutoShape 8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AutoShape 7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10" name="AutoShape 7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авильно ли поступил пешехо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11280" y="3068640"/>
            <a:ext cx="8229600" cy="25210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еход поступил неправи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исит знак «Пешеходный переход», дорогу нужно переходить только по «зеб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Новый рисунок (4)"/>
          <p:cNvPicPr/>
          <p:nvPr/>
        </p:nvPicPr>
        <p:blipFill>
          <a:blip r:embed="rId3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Назови эти дорожные зн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8000" y="2204640"/>
            <a:ext cx="367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одземный пешеходный 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2</a:t>
            </a:r>
            <a:r>
              <a:rPr b="1" lang="ru-RU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Транспортный свето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 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ешеходный свето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611280" y="1557360"/>
            <a:ext cx="4320720" cy="4320720"/>
            <a:chOff x="611280" y="1557360"/>
            <a:chExt cx="4320720" cy="4320720"/>
          </a:xfrm>
        </p:grpSpPr>
        <p:pic>
          <p:nvPicPr>
            <p:cNvPr id="219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7880" y="1756440"/>
              <a:ext cx="4150440" cy="41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6"/>
            <p:cNvSpPr txBox="1"/>
            <p:nvPr/>
          </p:nvSpPr>
          <p:spPr>
            <a:xfrm>
              <a:off x="611280" y="508104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1" name="WordArt 7"/>
            <p:cNvSpPr txBox="1"/>
            <p:nvPr/>
          </p:nvSpPr>
          <p:spPr>
            <a:xfrm>
              <a:off x="61128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2" name="WordArt 8"/>
            <p:cNvSpPr txBox="1"/>
            <p:nvPr/>
          </p:nvSpPr>
          <p:spPr>
            <a:xfrm>
              <a:off x="436860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3" name="WordArt 9"/>
            <p:cNvSpPr txBox="1"/>
            <p:nvPr/>
          </p:nvSpPr>
          <p:spPr>
            <a:xfrm>
              <a:off x="2653920" y="155736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4" name="WordArt 10"/>
            <p:cNvSpPr txBox="1"/>
            <p:nvPr/>
          </p:nvSpPr>
          <p:spPr>
            <a:xfrm>
              <a:off x="4696560" y="5347800"/>
              <a:ext cx="23544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5" name="AutoShape 1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26" name="AutoShape 14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Объясни действия мальч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4167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ди.               Стой на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766764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Untitled-14"/>
          <p:cNvPicPr/>
          <p:nvPr/>
        </p:nvPicPr>
        <p:blipFill>
          <a:blip r:embed="rId2"/>
          <a:stretch/>
        </p:blipFill>
        <p:spPr>
          <a:xfrm>
            <a:off x="755640" y="1413000"/>
            <a:ext cx="3046320" cy="38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232" name="Picture 6" descr="Untitled-15"/>
          <p:cNvPicPr/>
          <p:nvPr/>
        </p:nvPicPr>
        <p:blipFill>
          <a:blip r:embed="rId3"/>
          <a:stretch/>
        </p:blipFill>
        <p:spPr>
          <a:xfrm>
            <a:off x="4264200" y="1413000"/>
            <a:ext cx="3187440" cy="3884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grpSp>
        <p:nvGrpSpPr>
          <p:cNvPr id="233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34" name="AutoShape 10" descr=""/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AutoShape 7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38" name="AutoShape 7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авильно ли поступил водитель автомоби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11280" y="3068640"/>
            <a:ext cx="8229600" cy="25210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итель поступил неправи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, где есть знак «Дети», любому транспорту запрещено передвигаться на высокой скор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Новый рисунок (4)"/>
          <p:cNvPicPr/>
          <p:nvPr/>
        </p:nvPicPr>
        <p:blipFill>
          <a:blip r:embed="rId3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10"/>
          <p:cNvSpPr txBox="1"/>
          <p:nvPr/>
        </p:nvSpPr>
        <p:spPr>
          <a:xfrm>
            <a:off x="900000" y="549360"/>
            <a:ext cx="712944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ешеходный свето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03640" y="1125360"/>
            <a:ext cx="5689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форы, предназначенные только для пешеходов , имеют только две секции – красную и зелёную, с изображением красного неподвижного человечка – запрещающий сигнал, зелёного шагающего человечка – разрешающий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Untitled-1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4000" y="1773360"/>
            <a:ext cx="3054240" cy="331128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826920" y="5950080"/>
            <a:ext cx="1441440" cy="609480"/>
          </a:xfrm>
          <a:custGeom>
            <a:avLst/>
            <a:gdLst>
              <a:gd name="textAreaLeft" fmla="*/ 39240 w 1441440"/>
              <a:gd name="textAreaRight" fmla="*/ 1402200 w 144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067" h="21600">
                <a:moveTo>
                  <a:pt x="0" y="0"/>
                </a:moveTo>
                <a:lnTo>
                  <a:pt x="51067" y="0"/>
                </a:lnTo>
                <a:lnTo>
                  <a:pt x="51067" y="21600"/>
                </a:lnTo>
                <a:lnTo>
                  <a:pt x="0" y="21600"/>
                </a:lnTo>
                <a:close/>
              </a:path>
              <a:path fill="lightenLess" w="51067" h="21600">
                <a:moveTo>
                  <a:pt x="0" y="0"/>
                </a:moveTo>
                <a:lnTo>
                  <a:pt x="51067" y="0"/>
                </a:lnTo>
                <a:lnTo>
                  <a:pt x="49667" y="1400"/>
                </a:lnTo>
                <a:lnTo>
                  <a:pt x="1400" y="1400"/>
                </a:lnTo>
                <a:close/>
              </a:path>
              <a:path fill="darken" w="51067" h="21600">
                <a:moveTo>
                  <a:pt x="51067" y="0"/>
                </a:moveTo>
                <a:lnTo>
                  <a:pt x="51067" y="21600"/>
                </a:lnTo>
                <a:lnTo>
                  <a:pt x="49667" y="20200"/>
                </a:lnTo>
                <a:lnTo>
                  <a:pt x="49667" y="1400"/>
                </a:lnTo>
                <a:close/>
              </a:path>
              <a:path fill="darkenLess" w="51067" h="21600">
                <a:moveTo>
                  <a:pt x="51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67" y="20200"/>
                </a:lnTo>
                <a:close/>
              </a:path>
              <a:path fill="lighten" w="51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>
              <a:alpha val="42000"/>
            </a:srgbClr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987280" y="475920"/>
            <a:ext cx="5832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Светофо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устройство, которое световыми сигналами разрешает или запрещает движение транспорта и пеше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ы располагаются в нём в строгой последовательности: красный, жёлтый, зелё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офоры устанавливают на самых опасных участках дор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ы подходишь к дороге, а зелёный сигнал начал мигать, подожди, когда включился немигающий зелёный сиг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Новый рисунок (4)"/>
          <p:cNvPicPr/>
          <p:nvPr/>
        </p:nvPicPr>
        <p:blipFill>
          <a:blip r:embed="rId1"/>
          <a:stretch/>
        </p:blipFill>
        <p:spPr>
          <a:xfrm>
            <a:off x="324000" y="836640"/>
            <a:ext cx="2590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ть не хочешь о тревогах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что очень молод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! Гибнет на дорог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жегодно целый 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4000680" y="192852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 flipV="1">
            <a:off x="6643080" y="192852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9"/>
          <p:cNvSpPr/>
          <p:nvPr/>
        </p:nvSpPr>
        <p:spPr>
          <a:xfrm flipV="1">
            <a:off x="357120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 flipV="1">
            <a:off x="4714200" y="2500200"/>
            <a:ext cx="142920" cy="21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 flipV="1">
            <a:off x="635724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 flipV="1">
            <a:off x="264240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 flipV="1">
            <a:off x="407124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664308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5"/>
          <p:cNvSpPr/>
          <p:nvPr/>
        </p:nvSpPr>
        <p:spPr>
          <a:xfrm flipV="1">
            <a:off x="3357720" y="342864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 flipV="1">
            <a:off x="464256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V="1">
            <a:off x="607140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ть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х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ч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ш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тревогах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ч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н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лод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! Гибнет на дорог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жегодно целый 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4"/>
          <p:cNvSpPr/>
          <p:nvPr/>
        </p:nvSpPr>
        <p:spPr>
          <a:xfrm flipV="1">
            <a:off x="4000680" y="192852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 flipV="1">
            <a:off x="6643080" y="192852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 flipV="1">
            <a:off x="357120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V="1">
            <a:off x="4714200" y="2500200"/>
            <a:ext cx="142920" cy="21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 flipV="1">
            <a:off x="635724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 flipV="1">
            <a:off x="264240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 flipV="1">
            <a:off x="407124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664308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5"/>
          <p:cNvSpPr/>
          <p:nvPr/>
        </p:nvSpPr>
        <p:spPr>
          <a:xfrm flipV="1">
            <a:off x="3357720" y="342864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6"/>
          <p:cNvSpPr/>
          <p:nvPr/>
        </p:nvSpPr>
        <p:spPr>
          <a:xfrm flipV="1">
            <a:off x="464256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7"/>
          <p:cNvSpPr/>
          <p:nvPr/>
        </p:nvSpPr>
        <p:spPr>
          <a:xfrm flipV="1">
            <a:off x="607140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987280" y="475920"/>
            <a:ext cx="5832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Новый рисунок (4)"/>
          <p:cNvPicPr/>
          <p:nvPr/>
        </p:nvPicPr>
        <p:blipFill>
          <a:blip r:embed="rId1"/>
          <a:stretch/>
        </p:blipFill>
        <p:spPr>
          <a:xfrm>
            <a:off x="2857680" y="714240"/>
            <a:ext cx="3071520" cy="54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8"/>
          <p:cNvSpPr/>
          <p:nvPr/>
        </p:nvSpPr>
        <p:spPr>
          <a:xfrm>
            <a:off x="755640" y="620640"/>
            <a:ext cx="7921800" cy="935280"/>
          </a:xfrm>
          <a:custGeom>
            <a:avLst/>
            <a:gdLst>
              <a:gd name="textAreaLeft" fmla="*/ 60480 w 7921800"/>
              <a:gd name="textAreaRight" fmla="*/ 7861320 w 79218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182889" h="21600">
                <a:moveTo>
                  <a:pt x="0" y="0"/>
                </a:moveTo>
                <a:lnTo>
                  <a:pt x="182889" y="0"/>
                </a:lnTo>
                <a:lnTo>
                  <a:pt x="182889" y="21600"/>
                </a:lnTo>
                <a:lnTo>
                  <a:pt x="0" y="21600"/>
                </a:lnTo>
                <a:close/>
              </a:path>
              <a:path fill="lightenLess" w="182889" h="21600">
                <a:moveTo>
                  <a:pt x="0" y="0"/>
                </a:moveTo>
                <a:lnTo>
                  <a:pt x="182889" y="0"/>
                </a:lnTo>
                <a:lnTo>
                  <a:pt x="181489" y="1400"/>
                </a:lnTo>
                <a:lnTo>
                  <a:pt x="1400" y="1400"/>
                </a:lnTo>
                <a:close/>
              </a:path>
              <a:path fill="darken" w="182889" h="21600">
                <a:moveTo>
                  <a:pt x="182889" y="0"/>
                </a:moveTo>
                <a:lnTo>
                  <a:pt x="182889" y="21600"/>
                </a:lnTo>
                <a:lnTo>
                  <a:pt x="181489" y="20200"/>
                </a:lnTo>
                <a:lnTo>
                  <a:pt x="181489" y="1400"/>
                </a:lnTo>
                <a:close/>
              </a:path>
              <a:path fill="darkenLess" w="182889" h="21600">
                <a:moveTo>
                  <a:pt x="18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1489" y="20200"/>
                </a:lnTo>
                <a:close/>
              </a:path>
              <a:path fill="lighten" w="18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>
              <a:alpha val="72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0000ff"/>
                </a:solidFill>
                <a:latin typeface="a_BodoniOrtoNrTtlCm"/>
              </a:rPr>
              <a:t>«Сигналы  светофор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34"/>
          <p:cNvGrpSpPr/>
          <p:nvPr/>
        </p:nvGrpSpPr>
        <p:grpSpPr>
          <a:xfrm>
            <a:off x="7504200" y="6156360"/>
            <a:ext cx="1431720" cy="469800"/>
            <a:chOff x="7504200" y="6156360"/>
            <a:chExt cx="1431720" cy="469800"/>
          </a:xfrm>
        </p:grpSpPr>
        <p:pic>
          <p:nvPicPr>
            <p:cNvPr id="147" name="AutoShape 3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04200" y="6156360"/>
              <a:ext cx="1431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24720" y="6172200"/>
              <a:ext cx="1390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ы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48" descr="Новый рисунок (4)"/>
          <p:cNvPicPr/>
          <p:nvPr/>
        </p:nvPicPr>
        <p:blipFill>
          <a:blip r:embed="rId3"/>
          <a:stretch/>
        </p:blipFill>
        <p:spPr>
          <a:xfrm>
            <a:off x="851040" y="1797120"/>
            <a:ext cx="2346120" cy="41702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49"/>
          <p:cNvSpPr/>
          <p:nvPr/>
        </p:nvSpPr>
        <p:spPr>
          <a:xfrm>
            <a:off x="3487680" y="208584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0"/>
          <p:cNvSpPr txBox="1"/>
          <p:nvPr/>
        </p:nvSpPr>
        <p:spPr>
          <a:xfrm>
            <a:off x="3720960" y="2336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AutoShape 51"/>
          <p:cNvSpPr/>
          <p:nvPr/>
        </p:nvSpPr>
        <p:spPr>
          <a:xfrm>
            <a:off x="4927680" y="208584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2"/>
          <p:cNvSpPr/>
          <p:nvPr/>
        </p:nvSpPr>
        <p:spPr>
          <a:xfrm>
            <a:off x="6296040" y="208584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3"/>
          <p:cNvSpPr/>
          <p:nvPr/>
        </p:nvSpPr>
        <p:spPr>
          <a:xfrm>
            <a:off x="3487680" y="338292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4"/>
          <p:cNvSpPr/>
          <p:nvPr/>
        </p:nvSpPr>
        <p:spPr>
          <a:xfrm>
            <a:off x="4927680" y="33829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5"/>
          <p:cNvSpPr/>
          <p:nvPr/>
        </p:nvSpPr>
        <p:spPr>
          <a:xfrm>
            <a:off x="6296040" y="33829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3487680" y="467820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4927680" y="467820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6296040" y="467820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9"/>
          <p:cNvSpPr txBox="1"/>
          <p:nvPr/>
        </p:nvSpPr>
        <p:spPr>
          <a:xfrm>
            <a:off x="516888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WordArt 60"/>
          <p:cNvSpPr txBox="1"/>
          <p:nvPr/>
        </p:nvSpPr>
        <p:spPr>
          <a:xfrm>
            <a:off x="6540480" y="2260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61"/>
          <p:cNvSpPr txBox="1"/>
          <p:nvPr/>
        </p:nvSpPr>
        <p:spPr>
          <a:xfrm>
            <a:off x="372096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WordArt 62"/>
          <p:cNvSpPr txBox="1"/>
          <p:nvPr/>
        </p:nvSpPr>
        <p:spPr>
          <a:xfrm>
            <a:off x="516888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WordArt 63"/>
          <p:cNvSpPr txBox="1"/>
          <p:nvPr/>
        </p:nvSpPr>
        <p:spPr>
          <a:xfrm>
            <a:off x="6540480" y="36320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WordArt 64"/>
          <p:cNvSpPr txBox="1"/>
          <p:nvPr/>
        </p:nvSpPr>
        <p:spPr>
          <a:xfrm>
            <a:off x="3797280" y="49276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WordArt 65"/>
          <p:cNvSpPr txBox="1"/>
          <p:nvPr/>
        </p:nvSpPr>
        <p:spPr>
          <a:xfrm>
            <a:off x="51688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WordArt 66"/>
          <p:cNvSpPr txBox="1"/>
          <p:nvPr/>
        </p:nvSpPr>
        <p:spPr>
          <a:xfrm>
            <a:off x="65404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64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 такое  светоф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223992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ветоф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устройство, которое разрешает или запрещает движение транспорта и пеше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Новый рисунок (4)"/>
          <p:cNvPicPr/>
          <p:nvPr/>
        </p:nvPicPr>
        <p:blipFill>
          <a:blip r:embed="rId2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  <p:grpSp>
        <p:nvGrpSpPr>
          <p:cNvPr id="172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73" name="AutoShap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280" y="1052640"/>
            <a:ext cx="5483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Где устанавливают светофо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1150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форы устанавливают на самых опасных участках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Новый рисунок (4)"/>
          <p:cNvPicPr/>
          <p:nvPr/>
        </p:nvPicPr>
        <p:blipFill>
          <a:blip r:embed="rId2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  <p:grpSp>
        <p:nvGrpSpPr>
          <p:cNvPr id="179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0" name="AutoShape 10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25:06Z</dcterms:created>
  <dc:creator>Ольга</dc:creator>
  <dc:description/>
  <dc:language>en-US</dc:language>
  <cp:lastModifiedBy>Молодых</cp:lastModifiedBy>
  <dcterms:modified xsi:type="dcterms:W3CDTF">2014-11-14T08:14:14Z</dcterms:modified>
  <cp:revision>65</cp:revision>
  <dc:subject/>
  <dc:title>Слайд 1</dc:title>
</cp:coreProperties>
</file>