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1033-DAF8-47B2-ADF3-13403577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4C73-B38C-4091-8B9D-B104BD00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ED03-89BE-4205-82BA-8AACF2DD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9077A-3C25-487A-A572-5A4C9B7E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204D-C033-4B83-BF58-DCD51B35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3CF4-1D26-4721-9673-616A11FA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A72A-6BE7-4C93-9681-DB2BACA1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16E7-2BC2-4B03-8DE8-1FED4318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D86C-FA9A-4653-BC47-05152371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6AD9-F168-49F7-84F9-A761DA24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D645-161F-4FB9-B653-EA3CF6E6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090E-0996-466E-8202-CDB02F14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9DDA-5BD0-4EA2-A531-304132F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A88E-27C4-4EDC-90CE-6C28A235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5264-74AB-4754-82EB-9088BBF8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903D-3861-40ED-A204-8F4B20B7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B03E-6A92-4890-9367-6E305322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7ECC-88AA-47C3-8FA3-101D3A61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CAD9-20ED-49F2-A5DF-398F5C88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9162-99E8-41A3-B626-CF68AD5B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91B8F-1FC3-4423-9733-0F093984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C273-0B29-4237-9642-DA4BC11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3323-805A-4B0C-841F-328035AC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3D80-DFF4-4849-BC3D-6F8976A7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24F-BF1F-4A35-95EE-D7C3D38883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FE4E-91A3-460C-BD8B-F4AFDA6D6A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28800"/>
            <a:ext cx="6723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Светофоры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4365360"/>
            <a:ext cx="5257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ru-RU" sz="4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300" spc="-1" strike="noStrike">
                <a:solidFill>
                  <a:srgbClr val="9900ff"/>
                </a:solidFill>
                <a:latin typeface="Tahoma"/>
              </a:rPr>
              <a:t>О светофорах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300" spc="-1" strike="noStrike">
                <a:solidFill>
                  <a:srgbClr val="9900ff"/>
                </a:solidFill>
                <a:latin typeface="Tahoma"/>
              </a:rPr>
              <a:t>Игра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Сигналы светофора»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Untitled-1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17480" y="4365720"/>
            <a:ext cx="1778040" cy="2303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">
            <a:hlinkClick r:id="rId2" action="ppaction://hlinksldjump"/>
          </p:cNvPr>
          <p:cNvSpPr/>
          <p:nvPr/>
        </p:nvSpPr>
        <p:spPr>
          <a:xfrm>
            <a:off x="3564000" y="429264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>
            <a:hlinkClick r:id="rId3" action="ppaction://hlinksldjump"/>
          </p:cNvPr>
          <p:cNvSpPr/>
          <p:nvPr/>
        </p:nvSpPr>
        <p:spPr>
          <a:xfrm>
            <a:off x="3564000" y="5013360"/>
            <a:ext cx="482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105264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В каком порядке располагаются сигналы светоф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8135640" cy="1592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ы располагаются в нём в строгой последовательност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жёлт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зелё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AutoShape 9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86" name="AutoShap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6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90" name="AutoShap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9"/>
          <p:cNvSpPr/>
          <p:nvPr/>
        </p:nvSpPr>
        <p:spPr>
          <a:xfrm>
            <a:off x="324000" y="549360"/>
            <a:ext cx="75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Как выглядит </a:t>
            </a:r>
            <a:r>
              <a:rPr b="1" lang="ru-RU" sz="3600" spc="-1" strike="noStrike" u="sng">
                <a:solidFill>
                  <a:srgbClr val="00007d"/>
                </a:solidFill>
                <a:uFillTx/>
                <a:latin typeface="Arial"/>
              </a:rPr>
              <a:t>светофор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, предназначенный только </a:t>
            </a:r>
            <a:br>
              <a:rPr sz="3600"/>
            </a:br>
            <a:r>
              <a:rPr b="1" lang="ru-RU" sz="3600" spc="-1" strike="noStrike" u="sng">
                <a:solidFill>
                  <a:srgbClr val="00007d"/>
                </a:solidFill>
                <a:uFillTx/>
                <a:latin typeface="Arial"/>
              </a:rPr>
              <a:t>для пешеходов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539640" y="3500280"/>
            <a:ext cx="8229600" cy="180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офоры, предназначенные только для пешеходов, имеют только две секции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асну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зелёну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AutoShape 4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96" name="AutoShape 4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7"/>
          <p:cNvSpPr/>
          <p:nvPr/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очему мужчина ругает мальч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Untitled-16"/>
          <p:cNvPicPr/>
          <p:nvPr/>
        </p:nvPicPr>
        <p:blipFill>
          <a:blip r:embed="rId3"/>
          <a:stretch/>
        </p:blipFill>
        <p:spPr>
          <a:xfrm>
            <a:off x="826920" y="1989000"/>
            <a:ext cx="4392720" cy="39150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sp>
        <p:nvSpPr>
          <p:cNvPr id="200" name="Rectangle 9"/>
          <p:cNvSpPr/>
          <p:nvPr/>
        </p:nvSpPr>
        <p:spPr>
          <a:xfrm>
            <a:off x="5651640" y="3068640"/>
            <a:ext cx="3241440" cy="2376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 неверно переходит дор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Что обозначают сигналы светоф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292720" y="2204640"/>
            <a:ext cx="3240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ТОЙ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НИМАНИЕ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ИДИ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Untitled-17"/>
          <p:cNvPicPr/>
          <p:nvPr/>
        </p:nvPicPr>
        <p:blipFill>
          <a:blip r:embed="rId2"/>
          <a:stretch/>
        </p:blipFill>
        <p:spPr>
          <a:xfrm>
            <a:off x="900000" y="1916280"/>
            <a:ext cx="4095720" cy="41036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grpSp>
        <p:nvGrpSpPr>
          <p:cNvPr id="205" name="AutoShape 8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06" name="AutoShape 8" descr=""/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AutoShape 7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10" name="AutoShape 7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10"/>
          <p:cNvSpPr/>
          <p:nvPr/>
        </p:nvSpPr>
        <p:spPr>
          <a:xfrm>
            <a:off x="684360" y="1268280"/>
            <a:ext cx="741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авильно ли поступил пешехо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611280" y="3068640"/>
            <a:ext cx="8229600" cy="25210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шеход поступил неправиль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исит знак «Пешеходный переход», дорогу нужно переходить только по «зеб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Новый рисунок (4)"/>
          <p:cNvPicPr/>
          <p:nvPr/>
        </p:nvPicPr>
        <p:blipFill>
          <a:blip r:embed="rId3"/>
          <a:stretch/>
        </p:blipFill>
        <p:spPr>
          <a:xfrm>
            <a:off x="468360" y="692280"/>
            <a:ext cx="73008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Назови эти дорожные зна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8000" y="2204640"/>
            <a:ext cx="3671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 Narrow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Подземный пешеходный пер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 Narrow"/>
              </a:rPr>
              <a:t>2</a:t>
            </a:r>
            <a:r>
              <a:rPr b="1" lang="ru-RU" sz="2400" spc="-1" strike="noStrike">
                <a:solidFill>
                  <a:srgbClr val="660033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Транспортный свето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 Narrow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Пешеход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 Narrow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 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 Narrow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Пешеходный свето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611280" y="1557360"/>
            <a:ext cx="4320720" cy="4320720"/>
            <a:chOff x="611280" y="1557360"/>
            <a:chExt cx="4320720" cy="4320720"/>
          </a:xfrm>
        </p:grpSpPr>
        <p:pic>
          <p:nvPicPr>
            <p:cNvPr id="219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677880" y="1756440"/>
              <a:ext cx="4150440" cy="41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WordArt 6"/>
            <p:cNvSpPr txBox="1"/>
            <p:nvPr/>
          </p:nvSpPr>
          <p:spPr>
            <a:xfrm>
              <a:off x="611280" y="5081040"/>
              <a:ext cx="23508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1" name="WordArt 7"/>
            <p:cNvSpPr txBox="1"/>
            <p:nvPr/>
          </p:nvSpPr>
          <p:spPr>
            <a:xfrm>
              <a:off x="611280" y="1822680"/>
              <a:ext cx="23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2" name="WordArt 8"/>
            <p:cNvSpPr txBox="1"/>
            <p:nvPr/>
          </p:nvSpPr>
          <p:spPr>
            <a:xfrm>
              <a:off x="4368600" y="1822680"/>
              <a:ext cx="23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3" name="WordArt 9"/>
            <p:cNvSpPr txBox="1"/>
            <p:nvPr/>
          </p:nvSpPr>
          <p:spPr>
            <a:xfrm>
              <a:off x="2653920" y="1557360"/>
              <a:ext cx="23508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4" name="WordArt 10"/>
            <p:cNvSpPr txBox="1"/>
            <p:nvPr/>
          </p:nvSpPr>
          <p:spPr>
            <a:xfrm>
              <a:off x="4696560" y="5347800"/>
              <a:ext cx="23544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25" name="AutoShape 14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26" name="AutoShape 14" descr=""/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Объясни действия мальч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5444640"/>
            <a:ext cx="741672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ди.               Стой на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766764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Untitled-14"/>
          <p:cNvPicPr/>
          <p:nvPr/>
        </p:nvPicPr>
        <p:blipFill>
          <a:blip r:embed="rId2"/>
          <a:stretch/>
        </p:blipFill>
        <p:spPr>
          <a:xfrm>
            <a:off x="755640" y="1413000"/>
            <a:ext cx="3046320" cy="38876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232" name="Picture 6" descr="Untitled-15"/>
          <p:cNvPicPr/>
          <p:nvPr/>
        </p:nvPicPr>
        <p:blipFill>
          <a:blip r:embed="rId3"/>
          <a:stretch/>
        </p:blipFill>
        <p:spPr>
          <a:xfrm>
            <a:off x="4264200" y="1413000"/>
            <a:ext cx="3187440" cy="38844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grpSp>
        <p:nvGrpSpPr>
          <p:cNvPr id="233" name="AutoShape 10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34" name="AutoShape 10" descr=""/>
            <p:cNvPicPr/>
            <p:nvPr/>
          </p:nvPicPr>
          <p:blipFill>
            <a:blip r:embed="rId4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AutoShape 7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38" name="AutoShape 7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"/>
          <p:cNvSpPr/>
          <p:nvPr/>
        </p:nvSpPr>
        <p:spPr>
          <a:xfrm>
            <a:off x="684360" y="1268280"/>
            <a:ext cx="741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авильно ли поступил водитель автомоби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11280" y="3068640"/>
            <a:ext cx="8229600" cy="25210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итель поступил неправиль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м, где есть знак «Дети», любому транспорту запрещено передвигаться на высокой скор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Новый рисунок (4)"/>
          <p:cNvPicPr/>
          <p:nvPr/>
        </p:nvPicPr>
        <p:blipFill>
          <a:blip r:embed="rId3"/>
          <a:stretch/>
        </p:blipFill>
        <p:spPr>
          <a:xfrm>
            <a:off x="468360" y="692280"/>
            <a:ext cx="73008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10"/>
          <p:cNvSpPr txBox="1"/>
          <p:nvPr/>
        </p:nvSpPr>
        <p:spPr>
          <a:xfrm>
            <a:off x="900000" y="549360"/>
            <a:ext cx="712944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ешеходный светоф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03640" y="1125360"/>
            <a:ext cx="5689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офоры, предназначенные только для пешеходов , имеют только две секции – красную и зелёную, с изображением красного неподвижного человечка – запрещающий сигнал, зелёного шагающего человечка – разрешающий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Untitled-1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24000" y="1773360"/>
            <a:ext cx="3054240" cy="331128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sp>
        <p:nvSpPr>
          <p:cNvPr id="114" name="AutoShape 5">
            <a:hlinkClick r:id="rId2" action="ppaction://hlinksldjump"/>
          </p:cNvPr>
          <p:cNvSpPr/>
          <p:nvPr/>
        </p:nvSpPr>
        <p:spPr>
          <a:xfrm>
            <a:off x="826920" y="5950080"/>
            <a:ext cx="1441440" cy="609480"/>
          </a:xfrm>
          <a:custGeom>
            <a:avLst/>
            <a:gdLst>
              <a:gd name="textAreaLeft" fmla="*/ 39240 w 1441440"/>
              <a:gd name="textAreaRight" fmla="*/ 1402200 w 144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067" h="21600">
                <a:moveTo>
                  <a:pt x="0" y="0"/>
                </a:moveTo>
                <a:lnTo>
                  <a:pt x="51067" y="0"/>
                </a:lnTo>
                <a:lnTo>
                  <a:pt x="51067" y="21600"/>
                </a:lnTo>
                <a:lnTo>
                  <a:pt x="0" y="21600"/>
                </a:lnTo>
                <a:close/>
              </a:path>
              <a:path fill="lightenLess" w="51067" h="21600">
                <a:moveTo>
                  <a:pt x="0" y="0"/>
                </a:moveTo>
                <a:lnTo>
                  <a:pt x="51067" y="0"/>
                </a:lnTo>
                <a:lnTo>
                  <a:pt x="49667" y="1400"/>
                </a:lnTo>
                <a:lnTo>
                  <a:pt x="1400" y="1400"/>
                </a:lnTo>
                <a:close/>
              </a:path>
              <a:path fill="darken" w="51067" h="21600">
                <a:moveTo>
                  <a:pt x="51067" y="0"/>
                </a:moveTo>
                <a:lnTo>
                  <a:pt x="51067" y="21600"/>
                </a:lnTo>
                <a:lnTo>
                  <a:pt x="49667" y="20200"/>
                </a:lnTo>
                <a:lnTo>
                  <a:pt x="49667" y="1400"/>
                </a:lnTo>
                <a:close/>
              </a:path>
              <a:path fill="darkenLess" w="51067" h="21600">
                <a:moveTo>
                  <a:pt x="51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67" y="20200"/>
                </a:lnTo>
                <a:close/>
              </a:path>
              <a:path fill="lighten" w="51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>
              <a:alpha val="42000"/>
            </a:srgbClr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987280" y="475920"/>
            <a:ext cx="5832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Светофо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устройство, которое световыми сигналами разрешает или запрещает движение транспорта и пешех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гналы располагаются в нём в строгой последовательности: красный, жёлтый, зелё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офоры устанавливают на самых опасных участках дор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ты подходишь к дороге, а зелёный сигнал начал мигать, подожди, когда включился немигающий зелёный сиг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Новый рисунок (4)"/>
          <p:cNvPicPr/>
          <p:nvPr/>
        </p:nvPicPr>
        <p:blipFill>
          <a:blip r:embed="rId1"/>
          <a:stretch/>
        </p:blipFill>
        <p:spPr>
          <a:xfrm>
            <a:off x="324000" y="836640"/>
            <a:ext cx="25905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ть не хочешь о тревогах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му что очень молод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ни! Гибнет на дорога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жегодно целый г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4000680" y="1928520"/>
            <a:ext cx="14256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 flipV="1">
            <a:off x="6643080" y="192852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9"/>
          <p:cNvSpPr/>
          <p:nvPr/>
        </p:nvSpPr>
        <p:spPr>
          <a:xfrm flipV="1">
            <a:off x="3571200" y="242856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0"/>
          <p:cNvSpPr/>
          <p:nvPr/>
        </p:nvSpPr>
        <p:spPr>
          <a:xfrm flipV="1">
            <a:off x="4714200" y="2500200"/>
            <a:ext cx="142920" cy="21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1"/>
          <p:cNvSpPr/>
          <p:nvPr/>
        </p:nvSpPr>
        <p:spPr>
          <a:xfrm flipV="1">
            <a:off x="6357240" y="242856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2"/>
          <p:cNvSpPr/>
          <p:nvPr/>
        </p:nvSpPr>
        <p:spPr>
          <a:xfrm flipV="1">
            <a:off x="264240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 flipV="1">
            <a:off x="407124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4"/>
          <p:cNvSpPr/>
          <p:nvPr/>
        </p:nvSpPr>
        <p:spPr>
          <a:xfrm flipV="1">
            <a:off x="664308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5"/>
          <p:cNvSpPr/>
          <p:nvPr/>
        </p:nvSpPr>
        <p:spPr>
          <a:xfrm flipV="1">
            <a:off x="3357720" y="3428640"/>
            <a:ext cx="14256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 flipV="1">
            <a:off x="4642560" y="342864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V="1">
            <a:off x="6071400" y="342864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ть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хо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ч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ш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тревогах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му ч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ч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н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олод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ни! Гибнет на дорога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жегодно целый г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4"/>
          <p:cNvSpPr/>
          <p:nvPr/>
        </p:nvSpPr>
        <p:spPr>
          <a:xfrm flipV="1">
            <a:off x="4000680" y="1928520"/>
            <a:ext cx="14256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8"/>
          <p:cNvSpPr/>
          <p:nvPr/>
        </p:nvSpPr>
        <p:spPr>
          <a:xfrm flipV="1">
            <a:off x="6643080" y="192852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9"/>
          <p:cNvSpPr/>
          <p:nvPr/>
        </p:nvSpPr>
        <p:spPr>
          <a:xfrm flipV="1">
            <a:off x="3571200" y="242856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V="1">
            <a:off x="4714200" y="2500200"/>
            <a:ext cx="142920" cy="21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1"/>
          <p:cNvSpPr/>
          <p:nvPr/>
        </p:nvSpPr>
        <p:spPr>
          <a:xfrm flipV="1">
            <a:off x="6357240" y="242856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 flipV="1">
            <a:off x="264240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 flipV="1">
            <a:off x="407124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6643080" y="292860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5"/>
          <p:cNvSpPr/>
          <p:nvPr/>
        </p:nvSpPr>
        <p:spPr>
          <a:xfrm flipV="1">
            <a:off x="3357720" y="3428640"/>
            <a:ext cx="14256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6"/>
          <p:cNvSpPr/>
          <p:nvPr/>
        </p:nvSpPr>
        <p:spPr>
          <a:xfrm flipV="1">
            <a:off x="4642560" y="342864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7"/>
          <p:cNvSpPr/>
          <p:nvPr/>
        </p:nvSpPr>
        <p:spPr>
          <a:xfrm flipV="1">
            <a:off x="6071400" y="3428640"/>
            <a:ext cx="142920" cy="214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987280" y="475920"/>
            <a:ext cx="5832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Новый рисунок (4)"/>
          <p:cNvPicPr/>
          <p:nvPr/>
        </p:nvPicPr>
        <p:blipFill>
          <a:blip r:embed="rId1"/>
          <a:stretch/>
        </p:blipFill>
        <p:spPr>
          <a:xfrm>
            <a:off x="2857680" y="714240"/>
            <a:ext cx="3071520" cy="546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8"/>
          <p:cNvSpPr/>
          <p:nvPr/>
        </p:nvSpPr>
        <p:spPr>
          <a:xfrm>
            <a:off x="755640" y="620640"/>
            <a:ext cx="7921800" cy="935280"/>
          </a:xfrm>
          <a:custGeom>
            <a:avLst/>
            <a:gdLst>
              <a:gd name="textAreaLeft" fmla="*/ 60480 w 7921800"/>
              <a:gd name="textAreaRight" fmla="*/ 7861320 w 79218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182889" h="21600">
                <a:moveTo>
                  <a:pt x="0" y="0"/>
                </a:moveTo>
                <a:lnTo>
                  <a:pt x="182889" y="0"/>
                </a:lnTo>
                <a:lnTo>
                  <a:pt x="182889" y="21600"/>
                </a:lnTo>
                <a:lnTo>
                  <a:pt x="0" y="21600"/>
                </a:lnTo>
                <a:close/>
              </a:path>
              <a:path fill="lightenLess" w="182889" h="21600">
                <a:moveTo>
                  <a:pt x="0" y="0"/>
                </a:moveTo>
                <a:lnTo>
                  <a:pt x="182889" y="0"/>
                </a:lnTo>
                <a:lnTo>
                  <a:pt x="181489" y="1400"/>
                </a:lnTo>
                <a:lnTo>
                  <a:pt x="1400" y="1400"/>
                </a:lnTo>
                <a:close/>
              </a:path>
              <a:path fill="darken" w="182889" h="21600">
                <a:moveTo>
                  <a:pt x="182889" y="0"/>
                </a:moveTo>
                <a:lnTo>
                  <a:pt x="182889" y="21600"/>
                </a:lnTo>
                <a:lnTo>
                  <a:pt x="181489" y="20200"/>
                </a:lnTo>
                <a:lnTo>
                  <a:pt x="181489" y="1400"/>
                </a:lnTo>
                <a:close/>
              </a:path>
              <a:path fill="darkenLess" w="182889" h="21600">
                <a:moveTo>
                  <a:pt x="18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1489" y="20200"/>
                </a:lnTo>
                <a:close/>
              </a:path>
              <a:path fill="lighten" w="18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>
              <a:alpha val="72000"/>
            </a:srgbClr>
          </a:solidFill>
          <a:ln w="47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0000ff"/>
                </a:solidFill>
                <a:latin typeface="a_BodoniOrtoNrTtlCm"/>
              </a:rPr>
              <a:t>«Сигналы  светофор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34"/>
          <p:cNvGrpSpPr/>
          <p:nvPr/>
        </p:nvGrpSpPr>
        <p:grpSpPr>
          <a:xfrm>
            <a:off x="7504200" y="6156360"/>
            <a:ext cx="1431720" cy="469800"/>
            <a:chOff x="7504200" y="6156360"/>
            <a:chExt cx="1431720" cy="469800"/>
          </a:xfrm>
        </p:grpSpPr>
        <p:pic>
          <p:nvPicPr>
            <p:cNvPr id="147" name="AutoShape 3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04200" y="6156360"/>
              <a:ext cx="1431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524720" y="6172200"/>
              <a:ext cx="13906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Вых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48" descr="Новый рисунок (4)"/>
          <p:cNvPicPr/>
          <p:nvPr/>
        </p:nvPicPr>
        <p:blipFill>
          <a:blip r:embed="rId3"/>
          <a:stretch/>
        </p:blipFill>
        <p:spPr>
          <a:xfrm>
            <a:off x="851040" y="1797120"/>
            <a:ext cx="2346120" cy="41702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49"/>
          <p:cNvSpPr/>
          <p:nvPr/>
        </p:nvSpPr>
        <p:spPr>
          <a:xfrm>
            <a:off x="3487680" y="2085840"/>
            <a:ext cx="1152720" cy="115272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50"/>
          <p:cNvSpPr txBox="1"/>
          <p:nvPr/>
        </p:nvSpPr>
        <p:spPr>
          <a:xfrm>
            <a:off x="3720960" y="233676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AutoShape 51"/>
          <p:cNvSpPr/>
          <p:nvPr/>
        </p:nvSpPr>
        <p:spPr>
          <a:xfrm>
            <a:off x="4927680" y="208584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2"/>
          <p:cNvSpPr/>
          <p:nvPr/>
        </p:nvSpPr>
        <p:spPr>
          <a:xfrm>
            <a:off x="6296040" y="208584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3"/>
          <p:cNvSpPr/>
          <p:nvPr/>
        </p:nvSpPr>
        <p:spPr>
          <a:xfrm>
            <a:off x="3487680" y="3382920"/>
            <a:ext cx="1152720" cy="115272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4"/>
          <p:cNvSpPr/>
          <p:nvPr/>
        </p:nvSpPr>
        <p:spPr>
          <a:xfrm>
            <a:off x="4927680" y="338292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5"/>
          <p:cNvSpPr/>
          <p:nvPr/>
        </p:nvSpPr>
        <p:spPr>
          <a:xfrm>
            <a:off x="6296040" y="338292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6"/>
          <p:cNvSpPr/>
          <p:nvPr/>
        </p:nvSpPr>
        <p:spPr>
          <a:xfrm>
            <a:off x="3487680" y="4678200"/>
            <a:ext cx="1152720" cy="115272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7"/>
          <p:cNvSpPr/>
          <p:nvPr/>
        </p:nvSpPr>
        <p:spPr>
          <a:xfrm>
            <a:off x="4927680" y="467820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8"/>
          <p:cNvSpPr/>
          <p:nvPr/>
        </p:nvSpPr>
        <p:spPr>
          <a:xfrm>
            <a:off x="6296040" y="467820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9"/>
          <p:cNvSpPr txBox="1"/>
          <p:nvPr/>
        </p:nvSpPr>
        <p:spPr>
          <a:xfrm>
            <a:off x="5168880" y="226044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WordArt 60"/>
          <p:cNvSpPr txBox="1"/>
          <p:nvPr/>
        </p:nvSpPr>
        <p:spPr>
          <a:xfrm>
            <a:off x="6540480" y="226044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WordArt 61"/>
          <p:cNvSpPr txBox="1"/>
          <p:nvPr/>
        </p:nvSpPr>
        <p:spPr>
          <a:xfrm>
            <a:off x="3720960" y="363204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WordArt 62"/>
          <p:cNvSpPr txBox="1"/>
          <p:nvPr/>
        </p:nvSpPr>
        <p:spPr>
          <a:xfrm>
            <a:off x="5168880" y="363204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WordArt 63"/>
          <p:cNvSpPr txBox="1"/>
          <p:nvPr/>
        </p:nvSpPr>
        <p:spPr>
          <a:xfrm>
            <a:off x="6540480" y="363204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WordArt 64"/>
          <p:cNvSpPr txBox="1"/>
          <p:nvPr/>
        </p:nvSpPr>
        <p:spPr>
          <a:xfrm>
            <a:off x="3797280" y="492768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WordArt 65"/>
          <p:cNvSpPr txBox="1"/>
          <p:nvPr/>
        </p:nvSpPr>
        <p:spPr>
          <a:xfrm>
            <a:off x="5168880" y="4927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WordArt 66"/>
          <p:cNvSpPr txBox="1"/>
          <p:nvPr/>
        </p:nvSpPr>
        <p:spPr>
          <a:xfrm>
            <a:off x="6540480" y="4927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64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Что  такое  светоф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3141720"/>
            <a:ext cx="8229600" cy="2239920"/>
          </a:xfrm>
          <a:prstGeom prst="rect">
            <a:avLst/>
          </a:prstGeom>
          <a:noFill/>
          <a:ln w="76320">
            <a:solidFill>
              <a:srgbClr val="66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ветоф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устройство, которое разрешает или запрещает движение транспорта и пеше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Новый рисунок (4)"/>
          <p:cNvPicPr/>
          <p:nvPr/>
        </p:nvPicPr>
        <p:blipFill>
          <a:blip r:embed="rId2"/>
          <a:stretch/>
        </p:blipFill>
        <p:spPr>
          <a:xfrm>
            <a:off x="468360" y="692280"/>
            <a:ext cx="730080" cy="1298520"/>
          </a:xfrm>
          <a:prstGeom prst="rect">
            <a:avLst/>
          </a:prstGeom>
          <a:ln w="0">
            <a:noFill/>
          </a:ln>
        </p:spPr>
      </p:pic>
      <p:grpSp>
        <p:nvGrpSpPr>
          <p:cNvPr id="172" name="AutoShape 9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73" name="AutoShap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63280" y="1052640"/>
            <a:ext cx="5483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Где устанавливают светофо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29600" cy="1150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офоры устанавливают на самых опасных участках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Новый рисунок (4)"/>
          <p:cNvPicPr/>
          <p:nvPr/>
        </p:nvPicPr>
        <p:blipFill>
          <a:blip r:embed="rId2"/>
          <a:stretch/>
        </p:blipFill>
        <p:spPr>
          <a:xfrm>
            <a:off x="468360" y="692280"/>
            <a:ext cx="730080" cy="1298520"/>
          </a:xfrm>
          <a:prstGeom prst="rect">
            <a:avLst/>
          </a:prstGeom>
          <a:ln w="0">
            <a:noFill/>
          </a:ln>
        </p:spPr>
      </p:pic>
      <p:grpSp>
        <p:nvGrpSpPr>
          <p:cNvPr id="179" name="AutoShape 10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80" name="AutoShape 10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2:25:06Z</dcterms:created>
  <dc:creator>Ольга</dc:creator>
  <dc:description/>
  <dc:language>en-US</dc:language>
  <cp:lastModifiedBy>Молодых</cp:lastModifiedBy>
  <dcterms:modified xsi:type="dcterms:W3CDTF">2014-11-14T08:14:14Z</dcterms:modified>
  <cp:revision>65</cp:revision>
  <dc:subject/>
  <dc:title>Слайд 1</dc:title>
</cp:coreProperties>
</file>