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53A-CD72-4C63-A61E-1D4D0CC6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CF5-6985-4AD5-B2DA-73C8586C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C11-A0A7-477F-B13C-17624553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598-2100-4ED3-96EF-22685136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87D9-430F-407C-B979-45585109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04B6-58C9-4D07-A17E-17A4148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5172-E068-4B2C-9EE9-93BDAD1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46AF-6F7C-4499-9359-4B89716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D0D-C531-47EE-8366-CC0B609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3CB5-53BC-4A2B-8448-AFEF2173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CD4-4F79-4DCC-A395-01BF79F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628-394A-42F3-99F6-EB15FBE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17F-FF3B-4B7D-B4C3-80ABA41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57F1-CEB0-4C65-AD6D-FE7834A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40E6-2EF1-476D-8A87-AFC2BB61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EB62-CE0C-4856-889A-0B7D981B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4872-346E-4200-AD6E-6694D010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118-898C-4BC6-908D-398CC2C7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017-5461-4FAD-87C4-A83C366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576-CE8F-486E-9EDE-9114D15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D53-8B8D-4D6D-B4F3-9BD919C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6E5-86C3-425F-89B4-03095EA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8B9-2FAC-4819-921E-FAC68D5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57C-46E9-4B5E-B541-0693721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C635-554F-48D5-A4B6-4629720AD8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5D5E-6C84-4138-B6CE-2E19702E16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igi42.ru/userfiles/image/catalog/1251300479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kniga.ru/upload/image/1000343459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00book.ru/b262512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2;&#1086;&#1081;&#1085;&#1086;&#1081;_&#1085;&#1086;&#1095;&#1080;,_&#1084;&#1072;&#1083;&#1099;&#1096;&#1080;!" TargetMode="External"/><Relationship Id="rId2" Type="http://schemas.openxmlformats.org/officeDocument/2006/relationships/hyperlink" Target="http://ru.wikipedia.org/wiki/&#1040;&#1041;&#1042;&#1043;&#1044;&#1077;&#1081;&#1082;&#1072;" TargetMode="External"/><Relationship Id="rId3" Type="http://schemas.openxmlformats.org/officeDocument/2006/relationships/hyperlink" Target="http://ru.wikipedia.org/wiki/&#1056;&#1072;&#1076;&#1080;&#1086;&#1085;&#1103;&#1085;&#1103;" TargetMode="External"/><Relationship Id="rId4" Type="http://schemas.openxmlformats.org/officeDocument/2006/relationships/hyperlink" Target="http://ru.wikipedia.org/wiki/&#1042;_&#1085;&#1072;&#1096;&#1091;_&#1075;&#1072;&#1074;&#1072;&#1085;&#1100;_&#1079;&#1072;&#1093;&#1086;&#1076;&#1080;&#1083;&#1080;_&#1082;&#1086;&#1088;&#1072;&#1073;&#1083;&#1080;" TargetMode="External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22_&#1076;&#1077;&#1082;&#1072;&#1073;&#1088;&#1103;" TargetMode="External"/><Relationship Id="rId4" Type="http://schemas.openxmlformats.org/officeDocument/2006/relationships/hyperlink" Target="http://ru.wikipedia.org/wiki/1937" TargetMode="External"/><Relationship Id="rId5" Type="http://schemas.openxmlformats.org/officeDocument/2006/relationships/hyperlink" Target="http://ru.wikipedia.org/wiki/&#1045;&#1075;&#1086;&#1088;&#1100;&#1077;&#1074;&#1089;&#1082;" TargetMode="External"/><Relationship Id="rId6" Type="http://schemas.openxmlformats.org/officeDocument/2006/relationships/hyperlink" Target="http://ru.wikipedia.org/wiki/&#1052;&#1086;&#1089;&#1082;&#1086;&#1074;&#1089;&#1082;&#1072;&#1103;_&#1086;&#1073;&#1083;&#1072;&#1089;&#1090;&#1100;" TargetMode="External"/><Relationship Id="rId7" Type="http://schemas.openxmlformats.org/officeDocument/2006/relationships/image" Target="../media/image2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89;&#1080;&#1103;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d/d0/EduardUspenskiy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72;&#1074;&#1080;&#1072;&#1094;&#1080;&#1086;&#1085;&#1085;&#1099;&#1081;_&#1080;&#1085;&#1089;&#1090;&#1080;&#1090;&#1091;&#1090;" TargetMode="External"/><Relationship Id="rId2" Type="http://schemas.openxmlformats.org/officeDocument/2006/relationships/hyperlink" Target="http://ru.wikipedia.org/wiki/&#1048;&#1085;&#1078;&#1077;&#1085;&#1077;&#1088;" TargetMode="External"/><Relationship Id="rId3" Type="http://schemas.openxmlformats.org/officeDocument/2006/relationships/hyperlink" Target="http://ru.wikipedia.org/wiki/&#1052;&#1091;&#1083;&#1100;&#1090;&#1080;&#1087;&#1083;&#1080;&#1082;&#1072;&#1094;&#1080;&#1103;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83;&#1091;&#1073;_12_&#1089;&#1090;&#1091;&#1083;&#1100;&#1077;&#1074;&amp;action=edit&amp;redlink=1" TargetMode="External"/><Relationship Id="rId2" Type="http://schemas.openxmlformats.org/officeDocument/2006/relationships/hyperlink" Target="http://ru.wikipedia.org/wiki/&#1051;&#1080;&#1090;&#1077;&#1088;&#1072;&#1090;&#1091;&#1088;&#1085;&#1072;&#1103;_&#1075;&#1072;&#1079;&#1077;&#1090;&#1072;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4" TargetMode="External"/><Relationship Id="rId2" Type="http://schemas.openxmlformats.org/officeDocument/2006/relationships/hyperlink" Target="http://www.char.ru/books/p1292640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79;&#1076;&#1086;&#1084;&#1085;&#1099;&#1077;_&#1078;&#1080;&#1074;&#1086;&#1090;&#1085;&#1099;&#1077;" TargetMode="External"/><Relationship Id="rId2" Type="http://schemas.openxmlformats.org/officeDocument/2006/relationships/hyperlink" Target="http://ru.wikipedia.org/wiki/&#1064;&#1072;&#1088;&#1080;&#1082;" TargetMode="External"/><Relationship Id="rId3" Type="http://schemas.openxmlformats.org/officeDocument/2006/relationships/hyperlink" Target="http://ru.wikipedia.org/wiki/&#1055;&#1088;&#1086;&#1089;&#1090;&#1086;&#1082;&#1074;&#1072;&#1096;&#1080;&#1085;&#1086;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86;&#1077;_&#1080;&#1079;_&#1055;&#1088;&#1086;&#1089;&#1090;&#1086;&#1082;&#1074;&#1072;&#1096;&#1080;&#1085;&#1086;_(&#1084;&#1091;&#1083;&#1100;&#1090;&#1092;&#1080;&#1083;&#1100;&#1084;)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755640" y="333360"/>
            <a:ext cx="684072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ЭДУАРД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НИКОЛАЕВИЧ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УСПЕНСКИЙ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</p:txBody>
      </p:sp>
      <p:pic>
        <p:nvPicPr>
          <p:cNvPr id="98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7740360" y="1052280"/>
            <a:ext cx="102240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749720" y="292428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:\Content\English\Children\Faces\FACE_13.WMF"/>
          <p:cNvPicPr/>
          <p:nvPr/>
        </p:nvPicPr>
        <p:blipFill>
          <a:blip r:embed="rId3"/>
          <a:stretch/>
        </p:blipFill>
        <p:spPr>
          <a:xfrm rot="19974600">
            <a:off x="7811640" y="515736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569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Эдуард Успенский получил широкую известность как автор детских книжек «Крокодил Гена и его друзья» 1966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«Вниз по волшебной реке» 1972, «Чебурашка и его друзья» 19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323640" y="501336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6 из 2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4198680" cy="626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10003434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9360" y="260280"/>
            <a:ext cx="413064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43280" y="907560"/>
            <a:ext cx="450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роизведения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ереведе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более ч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на 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языков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108 из 2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416480" cy="596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799308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Эдуард Успенский является создателем таких передач, как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Спокойной ночи, малыши!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АБВГДейка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Радионяня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4"/>
              </a:rPr>
              <a:t>В нашу гавань заходили корабли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99736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050920" y="5013360"/>
            <a:ext cx="51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:\Content\English\Children\Faces\FACE_13.WMF"/>
          <p:cNvPicPr/>
          <p:nvPr/>
        </p:nvPicPr>
        <p:blipFill>
          <a:blip r:embed="rId5"/>
          <a:stretch/>
        </p:blipFill>
        <p:spPr>
          <a:xfrm rot="19974600">
            <a:off x="395280" y="486900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G:\Content\English\Children\Faces\FACE_22.WMF"/>
          <p:cNvPicPr/>
          <p:nvPr/>
        </p:nvPicPr>
        <p:blipFill>
          <a:blip r:embed="rId6"/>
          <a:stretch/>
        </p:blipFill>
        <p:spPr>
          <a:xfrm rot="1429200">
            <a:off x="7299360" y="4995360"/>
            <a:ext cx="1682640" cy="1497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АБВГДЕЙ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Картинка 2 из 939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28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G:\Content\English\Children\Faces\FACE_13.WMF"/>
          <p:cNvPicPr/>
          <p:nvPr/>
        </p:nvPicPr>
        <p:blipFill>
          <a:blip r:embed="rId2"/>
          <a:stretch/>
        </p:blipFill>
        <p:spPr>
          <a:xfrm rot="19974600">
            <a:off x="250920" y="188640"/>
            <a:ext cx="138564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Картинка 1 из 3980"/>
          <p:cNvPicPr/>
          <p:nvPr/>
        </p:nvPicPr>
        <p:blipFill>
          <a:blip r:embed="rId1"/>
          <a:stretch/>
        </p:blipFill>
        <p:spPr>
          <a:xfrm>
            <a:off x="250920" y="260280"/>
            <a:ext cx="4537080" cy="619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mp43426big"/>
          <p:cNvPicPr/>
          <p:nvPr/>
        </p:nvPicPr>
        <p:blipFill>
          <a:blip r:embed="rId2"/>
          <a:stretch/>
        </p:blipFill>
        <p:spPr>
          <a:xfrm>
            <a:off x="5076720" y="333360"/>
            <a:ext cx="3721320" cy="6024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НАШУ ГАВАНЬ ЗАХОДИЛИ КОРАБ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Картинка 3 из 560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504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G:\Content\English\Children\Faces\FACE_13.WMF"/>
          <p:cNvPicPr/>
          <p:nvPr/>
        </p:nvPicPr>
        <p:blipFill>
          <a:blip r:embed="rId2"/>
          <a:stretch/>
        </p:blipFill>
        <p:spPr>
          <a:xfrm rot="19974600">
            <a:off x="324000" y="2923920"/>
            <a:ext cx="1385640" cy="14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6899040" y="4844520"/>
            <a:ext cx="1825560" cy="162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Картинка 13 из 2672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918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Картинка 114 из 2672"/>
          <p:cNvPicPr/>
          <p:nvPr/>
        </p:nvPicPr>
        <p:blipFill>
          <a:blip r:embed="rId1"/>
          <a:stretch/>
        </p:blipFill>
        <p:spPr>
          <a:xfrm>
            <a:off x="250920" y="260280"/>
            <a:ext cx="4254480" cy="604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Картинка 127 из 2672"/>
          <p:cNvPicPr/>
          <p:nvPr/>
        </p:nvPicPr>
        <p:blipFill>
          <a:blip r:embed="rId2"/>
          <a:stretch/>
        </p:blipFill>
        <p:spPr>
          <a:xfrm>
            <a:off x="4788000" y="333360"/>
            <a:ext cx="4103640" cy="598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Картинка 132 из 2672"/>
          <p:cNvPicPr/>
          <p:nvPr/>
        </p:nvPicPr>
        <p:blipFill>
          <a:blip r:embed="rId1"/>
          <a:stretch/>
        </p:blipFill>
        <p:spPr>
          <a:xfrm>
            <a:off x="324000" y="260280"/>
            <a:ext cx="4243320" cy="597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Картинка 134 из 2672"/>
          <p:cNvPicPr/>
          <p:nvPr/>
        </p:nvPicPr>
        <p:blipFill>
          <a:blip r:embed="rId2"/>
          <a:stretch/>
        </p:blipFill>
        <p:spPr>
          <a:xfrm>
            <a:off x="4748040" y="260280"/>
            <a:ext cx="407700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Ed"/>
          <p:cNvPicPr/>
          <p:nvPr/>
        </p:nvPicPr>
        <p:blipFill>
          <a:blip r:embed="rId1"/>
          <a:stretch/>
        </p:blipFill>
        <p:spPr>
          <a:xfrm>
            <a:off x="324000" y="476280"/>
            <a:ext cx="4535280" cy="5905440"/>
          </a:xfrm>
          <a:prstGeom prst="rect">
            <a:avLst/>
          </a:prstGeom>
          <a:ln w="0">
            <a:noFill/>
          </a:ln>
        </p:spPr>
      </p:pic>
      <p:pic>
        <p:nvPicPr>
          <p:cNvPr id="102" name="Uspenskiy.wav" descr=""/>
          <p:cNvPicPr/>
          <p:nvPr/>
        </p:nvPicPr>
        <p:blipFill>
          <a:blip r:embed="rId2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076720" y="692280"/>
            <a:ext cx="3888000" cy="42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Род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22 декабря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1937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в 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Егорьевске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Московской об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G:\Content\English\Children\Faces\FACE_22.WMF"/>
          <p:cNvPicPr/>
          <p:nvPr/>
        </p:nvPicPr>
        <p:blipFill>
          <a:blip r:embed="rId7"/>
          <a:stretch/>
        </p:blipFill>
        <p:spPr>
          <a:xfrm rot="1429200">
            <a:off x="7749720" y="544500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:\Content\English\Children\Faces\FACE_13.WMF"/>
          <p:cNvPicPr/>
          <p:nvPr/>
        </p:nvPicPr>
        <p:blipFill>
          <a:blip r:embed="rId8"/>
          <a:stretch/>
        </p:blipFill>
        <p:spPr>
          <a:xfrm rot="19974600">
            <a:off x="4284360" y="54900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Comic Sans MS"/>
              </a:rPr>
              <a:t>п</a:t>
            </a: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8800" spc="-1" strike="noStrike">
                <a:solidFill>
                  <a:srgbClr val="33cc33"/>
                </a:solidFill>
                <a:latin typeface="Comic Sans MS"/>
              </a:rPr>
              <a:t>с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ru-RU" sz="8800" spc="-1" strike="noStrike">
                <a:solidFill>
                  <a:srgbClr val="33cc33"/>
                </a:solidFill>
                <a:latin typeface="Comic Sans MS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j0437990"/>
          <p:cNvPicPr/>
          <p:nvPr/>
        </p:nvPicPr>
        <p:blipFill>
          <a:blip r:embed="rId1"/>
          <a:stretch/>
        </p:blipFill>
        <p:spPr>
          <a:xfrm>
            <a:off x="25092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437990"/>
          <p:cNvPicPr/>
          <p:nvPr/>
        </p:nvPicPr>
        <p:blipFill>
          <a:blip r:embed="rId2"/>
          <a:stretch/>
        </p:blipFill>
        <p:spPr>
          <a:xfrm>
            <a:off x="341964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j0437990"/>
          <p:cNvPicPr/>
          <p:nvPr/>
        </p:nvPicPr>
        <p:blipFill>
          <a:blip r:embed="rId3"/>
          <a:stretch/>
        </p:blipFill>
        <p:spPr>
          <a:xfrm>
            <a:off x="4572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j0437990"/>
          <p:cNvPicPr/>
          <p:nvPr/>
        </p:nvPicPr>
        <p:blipFill>
          <a:blip r:embed="rId4"/>
          <a:stretch/>
        </p:blipFill>
        <p:spPr>
          <a:xfrm>
            <a:off x="565164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j0437990"/>
          <p:cNvPicPr/>
          <p:nvPr/>
        </p:nvPicPr>
        <p:blipFill>
          <a:blip r:embed="rId5"/>
          <a:stretch/>
        </p:blipFill>
        <p:spPr>
          <a:xfrm>
            <a:off x="6804000" y="333360"/>
            <a:ext cx="792360" cy="75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j0437990"/>
          <p:cNvPicPr/>
          <p:nvPr/>
        </p:nvPicPr>
        <p:blipFill>
          <a:blip r:embed="rId6"/>
          <a:stretch/>
        </p:blipFill>
        <p:spPr>
          <a:xfrm>
            <a:off x="8028000" y="33336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j0437990"/>
          <p:cNvPicPr/>
          <p:nvPr/>
        </p:nvPicPr>
        <p:blipFill>
          <a:blip r:embed="rId7"/>
          <a:stretch/>
        </p:blipFill>
        <p:spPr>
          <a:xfrm>
            <a:off x="2340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437990"/>
          <p:cNvPicPr/>
          <p:nvPr/>
        </p:nvPicPr>
        <p:blipFill>
          <a:blip r:embed="rId8"/>
          <a:stretch/>
        </p:blipFill>
        <p:spPr>
          <a:xfrm>
            <a:off x="1332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G:\Content\English\Children\Faces\FACE_13.WMF"/>
          <p:cNvPicPr/>
          <p:nvPr/>
        </p:nvPicPr>
        <p:blipFill>
          <a:blip r:embed="rId9"/>
          <a:stretch/>
        </p:blipFill>
        <p:spPr>
          <a:xfrm rot="19974600">
            <a:off x="2555640" y="465300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G:\Content\English\Children\Faces\FACE_22.WMF"/>
          <p:cNvPicPr/>
          <p:nvPr/>
        </p:nvPicPr>
        <p:blipFill>
          <a:blip r:embed="rId10"/>
          <a:stretch/>
        </p:blipFill>
        <p:spPr>
          <a:xfrm rot="1429200">
            <a:off x="4606560" y="4626000"/>
            <a:ext cx="1655640" cy="1473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Презентацию подготови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3150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емья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ль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риго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 063"/>
          <p:cNvPicPr/>
          <p:nvPr/>
        </p:nvPicPr>
        <p:blipFill>
          <a:blip r:embed="rId1"/>
          <a:stretch/>
        </p:blipFill>
        <p:spPr>
          <a:xfrm>
            <a:off x="4211640" y="220500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Р</a:t>
            </a:r>
            <a:r>
              <a:rPr b="0" lang="ru-RU" sz="60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оссийский</a:t>
            </a: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 писатель и автор детских книг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вуцвфывыф"/>
          <p:cNvPicPr/>
          <p:nvPr/>
        </p:nvPicPr>
        <p:blipFill>
          <a:blip r:embed="rId3"/>
          <a:stretch/>
        </p:blipFill>
        <p:spPr>
          <a:xfrm>
            <a:off x="468360" y="2637000"/>
            <a:ext cx="3612960" cy="399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Файл:EduardUspenski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773360"/>
            <a:ext cx="3294000" cy="43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ontent\English\Children\Faces\FACE_13.WMF"/>
          <p:cNvPicPr/>
          <p:nvPr/>
        </p:nvPicPr>
        <p:blipFill>
          <a:blip r:embed="rId6"/>
          <a:stretch/>
        </p:blipFill>
        <p:spPr>
          <a:xfrm rot="19974600">
            <a:off x="610920" y="98064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3978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учив образование в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Московском авиационном институт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МАИ) и став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инженер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он зарабатывал на жизнь тем, что писал и создавал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мультфильм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83n-s22"/>
          <p:cNvPicPr/>
          <p:nvPr/>
        </p:nvPicPr>
        <p:blipFill>
          <a:blip r:embed="rId4"/>
          <a:stretch/>
        </p:blipFill>
        <p:spPr>
          <a:xfrm>
            <a:off x="2195640" y="260280"/>
            <a:ext cx="5256000" cy="374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:\Content\English\Children\Faces\FACE_13.WMF"/>
          <p:cNvPicPr/>
          <p:nvPr/>
        </p:nvPicPr>
        <p:blipFill>
          <a:blip r:embed="rId5"/>
          <a:stretch/>
        </p:blipFill>
        <p:spPr>
          <a:xfrm rot="19974600">
            <a:off x="352440" y="104148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G:\Content\English\Children\Faces\FACE_22.WMF"/>
          <p:cNvPicPr/>
          <p:nvPr/>
        </p:nvPicPr>
        <p:blipFill>
          <a:blip r:embed="rId6"/>
          <a:stretch/>
        </p:blipFill>
        <p:spPr>
          <a:xfrm rot="1429200">
            <a:off x="7749720" y="314172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147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Поначалу Успенский писал юмористические рассказы, но многие рассказы уходили «под нож» («зарезаны» цензурой), хотя кое-какие его произведения появлялись в юмористическом отделе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Клуб 12 стульев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»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Литературной газеты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», поэтому писатель ушёл в детскую литерату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:\Content\English\Children\Faces\FACE_13.WMF"/>
          <p:cNvPicPr/>
          <p:nvPr/>
        </p:nvPicPr>
        <p:blipFill>
          <a:blip r:embed="rId3"/>
          <a:stretch/>
        </p:blipFill>
        <p:spPr>
          <a:xfrm rot="19974600">
            <a:off x="250560" y="386064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7749720" y="544500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643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книга Успенского про Дядю Фёдо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Дядя Фёдор, пёс и кот» была опубликована в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97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Картинка 90 из 26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4176720" cy="633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385092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Главный герой - шестилетний мальчик, которого звали Дядей Фёдором за то, что он был очень серьёзным. После того, как родители запретили ему оставить в квартире говорящего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бездомного кота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 Матроскина, Дядя Фёдор ушёл из дома. Вместе с Матроскиным и псом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Шариком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 они втроём поселились в деревне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ростоквашино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. Найдя клад, они смогли купить трактор, ездящий на супе и картош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12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о книге был сделан успешный мультипликационный фильм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Трое из Простоквашино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». 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матроскин"/>
          <p:cNvPicPr/>
          <p:nvPr/>
        </p:nvPicPr>
        <p:blipFill>
          <a:blip r:embed="rId2"/>
          <a:stretch/>
        </p:blipFill>
        <p:spPr>
          <a:xfrm>
            <a:off x="250920" y="3573360"/>
            <a:ext cx="3811320" cy="304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rostokvashino_02"/>
          <p:cNvPicPr/>
          <p:nvPr/>
        </p:nvPicPr>
        <p:blipFill>
          <a:blip r:embed="rId3"/>
          <a:stretch/>
        </p:blipFill>
        <p:spPr>
          <a:xfrm>
            <a:off x="3348000" y="2060640"/>
            <a:ext cx="5364360" cy="405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G:\Content\English\Children\Faces\FACE_13.WMF"/>
          <p:cNvPicPr/>
          <p:nvPr/>
        </p:nvPicPr>
        <p:blipFill>
          <a:blip r:embed="rId4"/>
          <a:stretch/>
        </p:blipFill>
        <p:spPr>
          <a:xfrm rot="19974600">
            <a:off x="468360" y="191628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G:\Content\English\Children\Faces\FACE_22.WMF"/>
          <p:cNvPicPr/>
          <p:nvPr/>
        </p:nvPicPr>
        <p:blipFill>
          <a:blip r:embed="rId5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Творческий путь он начинал как юморист. По его собственному признанию, в  детскую литературу он попал случай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Его детские стихи начали печатать как юмористические в «Литературной газет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219240" y="5324400"/>
            <a:ext cx="1247760" cy="129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1:45Z</dcterms:created>
  <dc:creator>Алексей</dc:creator>
  <dc:description/>
  <dc:language>en-US</dc:language>
  <cp:lastModifiedBy>Милена</cp:lastModifiedBy>
  <dcterms:modified xsi:type="dcterms:W3CDTF">2017-12-04T13:06:08Z</dcterms:modified>
  <cp:revision>20</cp:revision>
  <dc:subject/>
  <dc:title>Слайд 1</dc:title>
</cp:coreProperties>
</file>