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0EA-BB50-489D-8C1A-8DD66BED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A35-C16C-4BE6-B13A-90B9620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4C8-8F09-4D60-B517-07E0D1B4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C00-0C30-48E2-B6A2-4151B88F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166-4D8A-44B6-B1BB-1EDA3D4A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B443-DAFA-43A8-8C7C-1CD44FE6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596D-BB35-4165-B4E1-9BDA778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0547-B88A-4CE1-8DBA-AC446B53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6AF-45E8-4F3F-AFAD-48224E1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BE94-AEB0-42D0-A724-CE5D8BB5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76F5-42C6-4275-95EA-614806F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9B8-C0BD-4939-AA1D-D2E96F03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894D-2551-4311-8786-D147FFE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F716-1ECE-492B-82A3-27B059A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AFBD-85CA-4D4B-BF57-089B73D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A2A-E0B3-45C1-B5AA-3C7885C9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A03-A84E-43D9-AC53-0C2A4160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22C-34E2-4875-8CC7-3CCD610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B20-E6CB-4A06-BE19-BD4F5D87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0B4-8053-4636-8406-332D816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991-C74B-44C7-9C1F-981271E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C33-75A9-4C8E-97B4-0376229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C78-9B97-47A8-9AAA-F85EDCD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FE5-0565-4FF3-875A-4CE9075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BE38-846F-4DFD-90AC-4A701D3569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3BE-6DE3-418A-A07C-E9581E02CD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nigi42.ru/userfiles/image/catalog/1251300479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kniga.ru/upload/image/1000343459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00book.ru/b262512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2;&#1086;&#1081;&#1085;&#1086;&#1081;_&#1085;&#1086;&#1095;&#1080;,_&#1084;&#1072;&#1083;&#1099;&#1096;&#1080;!" TargetMode="External"/><Relationship Id="rId2" Type="http://schemas.openxmlformats.org/officeDocument/2006/relationships/hyperlink" Target="http://ru.wikipedia.org/wiki/&#1040;&#1041;&#1042;&#1043;&#1044;&#1077;&#1081;&#1082;&#1072;" TargetMode="External"/><Relationship Id="rId3" Type="http://schemas.openxmlformats.org/officeDocument/2006/relationships/hyperlink" Target="http://ru.wikipedia.org/wiki/&#1056;&#1072;&#1076;&#1080;&#1086;&#1085;&#1103;&#1085;&#1103;" TargetMode="External"/><Relationship Id="rId4" Type="http://schemas.openxmlformats.org/officeDocument/2006/relationships/hyperlink" Target="http://ru.wikipedia.org/wiki/&#1042;_&#1085;&#1072;&#1096;&#1091;_&#1075;&#1072;&#1074;&#1072;&#1085;&#1100;_&#1079;&#1072;&#1093;&#1086;&#1076;&#1080;&#1083;&#1080;_&#1082;&#1086;&#1088;&#1072;&#1073;&#1083;&#1080;" TargetMode="External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22_&#1076;&#1077;&#1082;&#1072;&#1073;&#1088;&#1103;" TargetMode="External"/><Relationship Id="rId4" Type="http://schemas.openxmlformats.org/officeDocument/2006/relationships/hyperlink" Target="http://ru.wikipedia.org/wiki/1937" TargetMode="External"/><Relationship Id="rId5" Type="http://schemas.openxmlformats.org/officeDocument/2006/relationships/hyperlink" Target="http://ru.wikipedia.org/wiki/&#1045;&#1075;&#1086;&#1088;&#1100;&#1077;&#1074;&#1089;&#1082;" TargetMode="External"/><Relationship Id="rId6" Type="http://schemas.openxmlformats.org/officeDocument/2006/relationships/hyperlink" Target="http://ru.wikipedia.org/wiki/&#1052;&#1086;&#1089;&#1082;&#1086;&#1074;&#1089;&#1082;&#1072;&#1103;_&#1086;&#1073;&#1083;&#1072;&#1089;&#1090;&#1100;" TargetMode="External"/><Relationship Id="rId7" Type="http://schemas.openxmlformats.org/officeDocument/2006/relationships/image" Target="../media/image2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89;&#1080;&#1103;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d/d0/EduardUspenskiy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86;&#1074;&#1089;&#1082;&#1080;&#1081;_&#1072;&#1074;&#1080;&#1072;&#1094;&#1080;&#1086;&#1085;&#1085;&#1099;&#1081;_&#1080;&#1085;&#1089;&#1090;&#1080;&#1090;&#1091;&#1090;" TargetMode="External"/><Relationship Id="rId2" Type="http://schemas.openxmlformats.org/officeDocument/2006/relationships/hyperlink" Target="http://ru.wikipedia.org/wiki/&#1048;&#1085;&#1078;&#1077;&#1085;&#1077;&#1088;" TargetMode="External"/><Relationship Id="rId3" Type="http://schemas.openxmlformats.org/officeDocument/2006/relationships/hyperlink" Target="http://ru.wikipedia.org/wiki/&#1052;&#1091;&#1083;&#1100;&#1090;&#1080;&#1087;&#1083;&#1080;&#1082;&#1072;&#1094;&#1080;&#1103;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83;&#1091;&#1073;_12_&#1089;&#1090;&#1091;&#1083;&#1100;&#1077;&#1074;&amp;action=edit&amp;redlink=1" TargetMode="External"/><Relationship Id="rId2" Type="http://schemas.openxmlformats.org/officeDocument/2006/relationships/hyperlink" Target="http://ru.wikipedia.org/wiki/&#1051;&#1080;&#1090;&#1077;&#1088;&#1072;&#1090;&#1091;&#1088;&#1085;&#1072;&#1103;_&#1075;&#1072;&#1079;&#1077;&#1090;&#1072;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4" TargetMode="External"/><Relationship Id="rId2" Type="http://schemas.openxmlformats.org/officeDocument/2006/relationships/hyperlink" Target="http://www.char.ru/books/p1292640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79;&#1076;&#1086;&#1084;&#1085;&#1099;&#1077;_&#1078;&#1080;&#1074;&#1086;&#1090;&#1085;&#1099;&#1077;" TargetMode="External"/><Relationship Id="rId2" Type="http://schemas.openxmlformats.org/officeDocument/2006/relationships/hyperlink" Target="http://ru.wikipedia.org/wiki/&#1064;&#1072;&#1088;&#1080;&#1082;" TargetMode="External"/><Relationship Id="rId3" Type="http://schemas.openxmlformats.org/officeDocument/2006/relationships/hyperlink" Target="http://ru.wikipedia.org/wiki/&#1055;&#1088;&#1086;&#1089;&#1090;&#1086;&#1082;&#1074;&#1072;&#1096;&#1080;&#1085;&#1086;" TargetMode="Externa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86;&#1077;_&#1080;&#1079;_&#1055;&#1088;&#1086;&#1089;&#1090;&#1086;&#1082;&#1074;&#1072;&#1096;&#1080;&#1085;&#1086;_(&#1084;&#1091;&#1083;&#1100;&#1090;&#1092;&#1080;&#1083;&#1100;&#1084;)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755640" y="333360"/>
            <a:ext cx="684072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ЭДУАРД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НИКОЛАЕВИЧ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76859"/>
                </a:solidFill>
                <a:latin typeface="Arial"/>
              </a:rPr>
              <a:t>УСПЕНСКИЙ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76859"/>
              </a:solidFill>
              <a:latin typeface="Arial"/>
              <a:ea typeface="Arial"/>
            </a:endParaRPr>
          </a:p>
        </p:txBody>
      </p:sp>
      <p:pic>
        <p:nvPicPr>
          <p:cNvPr id="98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7740360" y="1052280"/>
            <a:ext cx="102240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749720" y="292428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:\Content\English\Children\Faces\FACE_13.WMF"/>
          <p:cNvPicPr/>
          <p:nvPr/>
        </p:nvPicPr>
        <p:blipFill>
          <a:blip r:embed="rId3"/>
          <a:stretch/>
        </p:blipFill>
        <p:spPr>
          <a:xfrm rot="19974600">
            <a:off x="7811640" y="515736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569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Эдуард Успенский получил широкую известность как автор детских книжек «Крокодил Гена и его друзья» 1966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«Вниз по волшебной реке» 1972, «Чебурашка и его друзья» 19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323640" y="501336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6 из 2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4198680" cy="626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10003434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9360" y="260280"/>
            <a:ext cx="413064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43280" y="907560"/>
            <a:ext cx="450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роизведения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ереведе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более ч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на 2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языков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108 из 26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416480" cy="596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799308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Эдуард Успенский является создателем таких передач, как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Спокойной ночи, малыши!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АБВГДейка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Радионяня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hlinkClick r:id="rId4"/>
              </a:rPr>
              <a:t>В нашу гавань заходили корабли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99736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050920" y="5013360"/>
            <a:ext cx="51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:\Content\English\Children\Faces\FACE_13.WMF"/>
          <p:cNvPicPr/>
          <p:nvPr/>
        </p:nvPicPr>
        <p:blipFill>
          <a:blip r:embed="rId5"/>
          <a:stretch/>
        </p:blipFill>
        <p:spPr>
          <a:xfrm rot="19974600">
            <a:off x="395280" y="486900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G:\Content\English\Children\Faces\FACE_22.WMF"/>
          <p:cNvPicPr/>
          <p:nvPr/>
        </p:nvPicPr>
        <p:blipFill>
          <a:blip r:embed="rId6"/>
          <a:stretch/>
        </p:blipFill>
        <p:spPr>
          <a:xfrm rot="1429200">
            <a:off x="7299360" y="4995360"/>
            <a:ext cx="1682640" cy="1497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АБВГДЕЙ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Картинка 2 из 939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28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G:\Content\English\Children\Faces\FACE_13.WMF"/>
          <p:cNvPicPr/>
          <p:nvPr/>
        </p:nvPicPr>
        <p:blipFill>
          <a:blip r:embed="rId2"/>
          <a:stretch/>
        </p:blipFill>
        <p:spPr>
          <a:xfrm rot="19974600">
            <a:off x="250920" y="188640"/>
            <a:ext cx="138564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Картинка 1 из 3980"/>
          <p:cNvPicPr/>
          <p:nvPr/>
        </p:nvPicPr>
        <p:blipFill>
          <a:blip r:embed="rId1"/>
          <a:stretch/>
        </p:blipFill>
        <p:spPr>
          <a:xfrm>
            <a:off x="250920" y="260280"/>
            <a:ext cx="4537080" cy="619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mp43426big"/>
          <p:cNvPicPr/>
          <p:nvPr/>
        </p:nvPicPr>
        <p:blipFill>
          <a:blip r:embed="rId2"/>
          <a:stretch/>
        </p:blipFill>
        <p:spPr>
          <a:xfrm>
            <a:off x="5076720" y="333360"/>
            <a:ext cx="3721320" cy="6024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НАШУ ГАВАНЬ ЗАХОДИЛИ КОРАБЛ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Картинка 3 из 560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504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G:\Content\English\Children\Faces\FACE_13.WMF"/>
          <p:cNvPicPr/>
          <p:nvPr/>
        </p:nvPicPr>
        <p:blipFill>
          <a:blip r:embed="rId2"/>
          <a:stretch/>
        </p:blipFill>
        <p:spPr>
          <a:xfrm rot="19974600">
            <a:off x="324000" y="2923920"/>
            <a:ext cx="1385640" cy="14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G:\Content\English\Children\Faces\FACE_22.WMF"/>
          <p:cNvPicPr/>
          <p:nvPr/>
        </p:nvPicPr>
        <p:blipFill>
          <a:blip r:embed="rId3"/>
          <a:stretch/>
        </p:blipFill>
        <p:spPr>
          <a:xfrm rot="1429200">
            <a:off x="6899040" y="4844520"/>
            <a:ext cx="1825560" cy="162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Картинка 13 из 2672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918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Картинка 114 из 2672"/>
          <p:cNvPicPr/>
          <p:nvPr/>
        </p:nvPicPr>
        <p:blipFill>
          <a:blip r:embed="rId1"/>
          <a:stretch/>
        </p:blipFill>
        <p:spPr>
          <a:xfrm>
            <a:off x="250920" y="260280"/>
            <a:ext cx="4254480" cy="604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Картинка 127 из 2672"/>
          <p:cNvPicPr/>
          <p:nvPr/>
        </p:nvPicPr>
        <p:blipFill>
          <a:blip r:embed="rId2"/>
          <a:stretch/>
        </p:blipFill>
        <p:spPr>
          <a:xfrm>
            <a:off x="4788000" y="333360"/>
            <a:ext cx="4103640" cy="598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Картинка 132 из 2672"/>
          <p:cNvPicPr/>
          <p:nvPr/>
        </p:nvPicPr>
        <p:blipFill>
          <a:blip r:embed="rId1"/>
          <a:stretch/>
        </p:blipFill>
        <p:spPr>
          <a:xfrm>
            <a:off x="324000" y="260280"/>
            <a:ext cx="4243320" cy="597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Картинка 134 из 2672"/>
          <p:cNvPicPr/>
          <p:nvPr/>
        </p:nvPicPr>
        <p:blipFill>
          <a:blip r:embed="rId2"/>
          <a:stretch/>
        </p:blipFill>
        <p:spPr>
          <a:xfrm>
            <a:off x="4748040" y="260280"/>
            <a:ext cx="407700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Ed"/>
          <p:cNvPicPr/>
          <p:nvPr/>
        </p:nvPicPr>
        <p:blipFill>
          <a:blip r:embed="rId1"/>
          <a:stretch/>
        </p:blipFill>
        <p:spPr>
          <a:xfrm>
            <a:off x="324000" y="476280"/>
            <a:ext cx="4535280" cy="5905440"/>
          </a:xfrm>
          <a:prstGeom prst="rect">
            <a:avLst/>
          </a:prstGeom>
          <a:ln w="0">
            <a:noFill/>
          </a:ln>
        </p:spPr>
      </p:pic>
      <p:pic>
        <p:nvPicPr>
          <p:cNvPr id="102" name="Uspenskiy.wav" descr=""/>
          <p:cNvPicPr/>
          <p:nvPr/>
        </p:nvPicPr>
        <p:blipFill>
          <a:blip r:embed="rId2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076720" y="692280"/>
            <a:ext cx="3888000" cy="42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Род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22 декабря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1937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в 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Егорьевске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Московской об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G:\Content\English\Children\Faces\FACE_22.WMF"/>
          <p:cNvPicPr/>
          <p:nvPr/>
        </p:nvPicPr>
        <p:blipFill>
          <a:blip r:embed="rId7"/>
          <a:stretch/>
        </p:blipFill>
        <p:spPr>
          <a:xfrm rot="1429200">
            <a:off x="7749720" y="544500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:\Content\English\Children\Faces\FACE_13.WMF"/>
          <p:cNvPicPr/>
          <p:nvPr/>
        </p:nvPicPr>
        <p:blipFill>
          <a:blip r:embed="rId8"/>
          <a:stretch/>
        </p:blipFill>
        <p:spPr>
          <a:xfrm rot="19974600">
            <a:off x="4284360" y="54900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Comic Sans MS"/>
              </a:rPr>
              <a:t>п</a:t>
            </a: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8800" spc="-1" strike="noStrike">
                <a:solidFill>
                  <a:srgbClr val="33cc33"/>
                </a:solidFill>
                <a:latin typeface="Comic Sans MS"/>
              </a:rPr>
              <a:t>с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ru-RU" sz="8800" spc="-1" strike="noStrike">
                <a:solidFill>
                  <a:srgbClr val="33cc33"/>
                </a:solidFill>
                <a:latin typeface="Comic Sans MS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j0437990"/>
          <p:cNvPicPr/>
          <p:nvPr/>
        </p:nvPicPr>
        <p:blipFill>
          <a:blip r:embed="rId1"/>
          <a:stretch/>
        </p:blipFill>
        <p:spPr>
          <a:xfrm>
            <a:off x="25092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437990"/>
          <p:cNvPicPr/>
          <p:nvPr/>
        </p:nvPicPr>
        <p:blipFill>
          <a:blip r:embed="rId2"/>
          <a:stretch/>
        </p:blipFill>
        <p:spPr>
          <a:xfrm>
            <a:off x="341964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j0437990"/>
          <p:cNvPicPr/>
          <p:nvPr/>
        </p:nvPicPr>
        <p:blipFill>
          <a:blip r:embed="rId3"/>
          <a:stretch/>
        </p:blipFill>
        <p:spPr>
          <a:xfrm>
            <a:off x="4572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j0437990"/>
          <p:cNvPicPr/>
          <p:nvPr/>
        </p:nvPicPr>
        <p:blipFill>
          <a:blip r:embed="rId4"/>
          <a:stretch/>
        </p:blipFill>
        <p:spPr>
          <a:xfrm>
            <a:off x="565164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j0437990"/>
          <p:cNvPicPr/>
          <p:nvPr/>
        </p:nvPicPr>
        <p:blipFill>
          <a:blip r:embed="rId5"/>
          <a:stretch/>
        </p:blipFill>
        <p:spPr>
          <a:xfrm>
            <a:off x="6804000" y="333360"/>
            <a:ext cx="792360" cy="75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j0437990"/>
          <p:cNvPicPr/>
          <p:nvPr/>
        </p:nvPicPr>
        <p:blipFill>
          <a:blip r:embed="rId6"/>
          <a:stretch/>
        </p:blipFill>
        <p:spPr>
          <a:xfrm>
            <a:off x="8028000" y="33336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j0437990"/>
          <p:cNvPicPr/>
          <p:nvPr/>
        </p:nvPicPr>
        <p:blipFill>
          <a:blip r:embed="rId7"/>
          <a:stretch/>
        </p:blipFill>
        <p:spPr>
          <a:xfrm>
            <a:off x="2340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437990"/>
          <p:cNvPicPr/>
          <p:nvPr/>
        </p:nvPicPr>
        <p:blipFill>
          <a:blip r:embed="rId8"/>
          <a:stretch/>
        </p:blipFill>
        <p:spPr>
          <a:xfrm>
            <a:off x="1332000" y="26028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G:\Content\English\Children\Faces\FACE_13.WMF"/>
          <p:cNvPicPr/>
          <p:nvPr/>
        </p:nvPicPr>
        <p:blipFill>
          <a:blip r:embed="rId9"/>
          <a:stretch/>
        </p:blipFill>
        <p:spPr>
          <a:xfrm rot="19974600">
            <a:off x="2555640" y="465300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G:\Content\English\Children\Faces\FACE_22.WMF"/>
          <p:cNvPicPr/>
          <p:nvPr/>
        </p:nvPicPr>
        <p:blipFill>
          <a:blip r:embed="rId10"/>
          <a:stretch/>
        </p:blipFill>
        <p:spPr>
          <a:xfrm rot="1429200">
            <a:off x="4606560" y="4626000"/>
            <a:ext cx="1655640" cy="1473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Презентацию подготови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3150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емья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ль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риго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 063"/>
          <p:cNvPicPr/>
          <p:nvPr/>
        </p:nvPicPr>
        <p:blipFill>
          <a:blip r:embed="rId1"/>
          <a:stretch/>
        </p:blipFill>
        <p:spPr>
          <a:xfrm>
            <a:off x="4211640" y="220500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Р</a:t>
            </a:r>
            <a:r>
              <a:rPr b="0" lang="ru-RU" sz="60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оссийский</a:t>
            </a: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 писатель и автор детских книг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вуцвфывыф"/>
          <p:cNvPicPr/>
          <p:nvPr/>
        </p:nvPicPr>
        <p:blipFill>
          <a:blip r:embed="rId3"/>
          <a:stretch/>
        </p:blipFill>
        <p:spPr>
          <a:xfrm>
            <a:off x="468360" y="2637000"/>
            <a:ext cx="3612960" cy="399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Файл:EduardUspenski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773360"/>
            <a:ext cx="3294000" cy="43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ontent\English\Children\Faces\FACE_13.WMF"/>
          <p:cNvPicPr/>
          <p:nvPr/>
        </p:nvPicPr>
        <p:blipFill>
          <a:blip r:embed="rId6"/>
          <a:stretch/>
        </p:blipFill>
        <p:spPr>
          <a:xfrm rot="19974600">
            <a:off x="610920" y="980640"/>
            <a:ext cx="1022400" cy="106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3978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учив образование в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Московском авиационном институт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МАИ) и став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инженер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он зарабатывал на жизнь тем, что писал и создавал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мультфильм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83n-s22"/>
          <p:cNvPicPr/>
          <p:nvPr/>
        </p:nvPicPr>
        <p:blipFill>
          <a:blip r:embed="rId4"/>
          <a:stretch/>
        </p:blipFill>
        <p:spPr>
          <a:xfrm>
            <a:off x="2195640" y="260280"/>
            <a:ext cx="5256000" cy="374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:\Content\English\Children\Faces\FACE_13.WMF"/>
          <p:cNvPicPr/>
          <p:nvPr/>
        </p:nvPicPr>
        <p:blipFill>
          <a:blip r:embed="rId5"/>
          <a:stretch/>
        </p:blipFill>
        <p:spPr>
          <a:xfrm rot="19974600">
            <a:off x="352440" y="104148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G:\Content\English\Children\Faces\FACE_22.WMF"/>
          <p:cNvPicPr/>
          <p:nvPr/>
        </p:nvPicPr>
        <p:blipFill>
          <a:blip r:embed="rId6"/>
          <a:stretch/>
        </p:blipFill>
        <p:spPr>
          <a:xfrm rot="1429200">
            <a:off x="7749720" y="314172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147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Поначалу Успенский писал юмористические рассказы, но многие рассказы уходили «под нож» («зарезаны» цензурой), хотя кое-какие его произведения появлялись в юмористическом отделе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Клуб 12 стульев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»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Литературной газеты</a:t>
            </a: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», поэтому писатель ушёл в детскую литерату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:\Content\English\Children\Faces\FACE_13.WMF"/>
          <p:cNvPicPr/>
          <p:nvPr/>
        </p:nvPicPr>
        <p:blipFill>
          <a:blip r:embed="rId3"/>
          <a:stretch/>
        </p:blipFill>
        <p:spPr>
          <a:xfrm rot="19974600">
            <a:off x="250560" y="3860640"/>
            <a:ext cx="13856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7749720" y="544500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643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книга Успенского про Дядю Фёдо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Дядя Фёдор, пёс и кот» была опубликована в </a:t>
            </a:r>
            <a:r>
              <a:rPr b="0" lang="ru-RU" sz="4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97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Картинка 90 из 26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4176720" cy="633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385092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Главный герой - шестилетний мальчик, которого звали Дядей Фёдором за то, что он был очень серьёзным. После того, как родители запретили ему оставить в квартире говорящего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бездомного кота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 Матроскина, Дядя Фёдор ушёл из дома. Вместе с Матроскиным и псом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Шариком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 они втроём поселились в деревне </a:t>
            </a: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ростоквашино</a:t>
            </a:r>
            <a:r>
              <a:rPr b="1" lang="ru-RU" sz="3600" spc="-1" strike="noStrike">
                <a:solidFill>
                  <a:srgbClr val="330033"/>
                </a:solidFill>
                <a:latin typeface="Arial"/>
              </a:rPr>
              <a:t>. Найдя клад, они смогли купить трактор, ездящий на супе и картош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G:\Content\English\Children\Faces\FACE_22.WMF"/>
          <p:cNvPicPr/>
          <p:nvPr/>
        </p:nvPicPr>
        <p:blipFill>
          <a:blip r:embed="rId4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12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о книге был сделан успешный мультипликационный фильм «</a:t>
            </a:r>
            <a:r>
              <a:rPr b="0" lang="ru-RU" sz="40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Трое из Простоквашино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». 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матроскин"/>
          <p:cNvPicPr/>
          <p:nvPr/>
        </p:nvPicPr>
        <p:blipFill>
          <a:blip r:embed="rId2"/>
          <a:stretch/>
        </p:blipFill>
        <p:spPr>
          <a:xfrm>
            <a:off x="250920" y="3573360"/>
            <a:ext cx="3811320" cy="304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rostokvashino_02"/>
          <p:cNvPicPr/>
          <p:nvPr/>
        </p:nvPicPr>
        <p:blipFill>
          <a:blip r:embed="rId3"/>
          <a:stretch/>
        </p:blipFill>
        <p:spPr>
          <a:xfrm>
            <a:off x="3348000" y="2060640"/>
            <a:ext cx="5364360" cy="405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G:\Content\English\Children\Faces\FACE_13.WMF"/>
          <p:cNvPicPr/>
          <p:nvPr/>
        </p:nvPicPr>
        <p:blipFill>
          <a:blip r:embed="rId4"/>
          <a:stretch/>
        </p:blipFill>
        <p:spPr>
          <a:xfrm rot="19974600">
            <a:off x="468360" y="1916280"/>
            <a:ext cx="13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G:\Content\English\Children\Faces\FACE_22.WMF"/>
          <p:cNvPicPr/>
          <p:nvPr/>
        </p:nvPicPr>
        <p:blipFill>
          <a:blip r:embed="rId5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Творческий путь он начинал как юморист. По его собственному признанию, в  детскую литературу он попал случай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Его детские стихи начали печатать как юмористические в «Литературной газет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G:\Content\English\Children\Faces\FACE_13.WMF"/>
          <p:cNvPicPr/>
          <p:nvPr/>
        </p:nvPicPr>
        <p:blipFill>
          <a:blip r:embed="rId1"/>
          <a:stretch/>
        </p:blipFill>
        <p:spPr>
          <a:xfrm rot="19974600">
            <a:off x="219240" y="5324400"/>
            <a:ext cx="1247760" cy="129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G:\Content\English\Children\Faces\FACE_22.WMF"/>
          <p:cNvPicPr/>
          <p:nvPr/>
        </p:nvPicPr>
        <p:blipFill>
          <a:blip r:embed="rId2"/>
          <a:stretch/>
        </p:blipFill>
        <p:spPr>
          <a:xfrm rot="1429200">
            <a:off x="7524360" y="5300640"/>
            <a:ext cx="1393920" cy="12398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1:45Z</dcterms:created>
  <dc:creator>Алексей</dc:creator>
  <dc:description/>
  <dc:language>en-US</dc:language>
  <cp:lastModifiedBy>Милена</cp:lastModifiedBy>
  <dcterms:modified xsi:type="dcterms:W3CDTF">2017-12-04T13:06:08Z</dcterms:modified>
  <cp:revision>20</cp:revision>
  <dc:subject/>
  <dc:title>Слайд 1</dc:title>
</cp:coreProperties>
</file>