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1E1-2F87-45A6-AFA3-322B6EAF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1F34-4451-4F07-9566-C6DB3B66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6F8-A4E9-4CC9-9D16-D653931B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37B-DAA3-4BF4-936D-BDB9F0FE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FE62-B751-4F88-A556-4A7370E1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6FA7-FC29-4E4E-BDB6-844F2770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AF14-2EA5-4C5E-AC7D-C143EEAF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9F05-58D2-4E86-9C7B-6A5AEE71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AC66-D81A-4240-8C7B-8DBE7E34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764B-BA3B-4FCD-A0D5-939AB9AE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5A29-CE50-42F6-B176-09EA95A1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F41-6A30-4B8A-A1E9-C2C4AD1C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6CCD-06E5-4F84-85A0-7AB7CDED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3488-F415-4D93-AFDA-E8CA844C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483C-CCB1-43C9-BF2F-982D84DD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9BEF-72E2-44F6-A631-A4C8BA92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CFC4-E43D-4E06-8A19-A7AF596E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3DB2-B7E7-4A0B-BC02-0E0C7B53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C8855-9779-41F5-86A9-09CEA702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F76EC-AA78-4317-8679-DDC24918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61FF4-05EB-4952-956E-AD39BEB3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B814-46E8-4F36-8003-0B373475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1F1-6379-4608-8685-90DE7D80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272DD-D1AE-4741-9BC5-B812573F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6F5C6-97BA-4B6A-B1F5-068FCF1E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4BAF-C628-4403-B1D1-C33CDA60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9336-3244-41E2-9BFD-FDE66BBC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F57FE-EBBA-4C48-B8F5-AC72FE2D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285F-1C32-4A21-9A6A-CDABC48E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2CF1-2605-43EB-B807-63557A08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27A-5A7A-43D6-80E6-97DE6834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D35-1138-4783-B427-34BFDFFF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8F1-8AA8-4B88-81A2-555DAA85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E1C-D014-4159-9811-D777ABCB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258-080E-4227-B812-308AC299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8D9-ED6D-4752-A5A8-D6D86DBC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6581-42DF-4F99-BD22-3A52D176776E}" type="slidenum">
              <a:rPr b="1" lang="ru-RU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248B-699D-4160-BA02-F645BDD92F4F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CBE2-F32F-4675-82D2-7BBE68600A13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8"/>
          <p:cNvSpPr/>
          <p:nvPr/>
        </p:nvSpPr>
        <p:spPr>
          <a:xfrm>
            <a:off x="250920" y="404640"/>
            <a:ext cx="8664480" cy="1151280"/>
          </a:xfrm>
          <a:custGeom>
            <a:avLst/>
            <a:gdLst>
              <a:gd name="textAreaLeft" fmla="*/ 74520 w 8664480"/>
              <a:gd name="textAreaRight" fmla="*/ 8589960 w 8664480"/>
              <a:gd name="textAreaTop" fmla="*/ 74520 h 1151280"/>
              <a:gd name="textAreaBottom" fmla="*/ 1076760 h 1151280"/>
            </a:gdLst>
            <a:ahLst/>
            <a:rect l="textAreaLeft" t="textAreaTop" r="textAreaRight" b="textAreaBottom"/>
            <a:pathLst>
              <a:path w="162517" h="21600">
                <a:moveTo>
                  <a:pt x="0" y="0"/>
                </a:moveTo>
                <a:lnTo>
                  <a:pt x="162517" y="0"/>
                </a:lnTo>
                <a:lnTo>
                  <a:pt x="162517" y="21600"/>
                </a:lnTo>
                <a:lnTo>
                  <a:pt x="0" y="21600"/>
                </a:lnTo>
                <a:close/>
              </a:path>
              <a:path fill="lightenLess" w="162517" h="21600">
                <a:moveTo>
                  <a:pt x="0" y="0"/>
                </a:moveTo>
                <a:lnTo>
                  <a:pt x="162517" y="0"/>
                </a:lnTo>
                <a:lnTo>
                  <a:pt x="161117" y="1400"/>
                </a:lnTo>
                <a:lnTo>
                  <a:pt x="1400" y="1400"/>
                </a:lnTo>
                <a:close/>
              </a:path>
              <a:path fill="darken" w="162517" h="21600">
                <a:moveTo>
                  <a:pt x="162517" y="0"/>
                </a:moveTo>
                <a:lnTo>
                  <a:pt x="162517" y="21600"/>
                </a:lnTo>
                <a:lnTo>
                  <a:pt x="161117" y="20200"/>
                </a:lnTo>
                <a:lnTo>
                  <a:pt x="161117" y="1400"/>
                </a:lnTo>
                <a:close/>
              </a:path>
              <a:path fill="darkenLess" w="162517" h="21600">
                <a:moveTo>
                  <a:pt x="162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117" y="20200"/>
                </a:lnTo>
                <a:close/>
              </a:path>
              <a:path fill="lighten" w="162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>
              <a:alpha val="72000"/>
            </a:srgbClr>
          </a:solidFill>
          <a:ln w="47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ff"/>
                </a:solidFill>
                <a:latin typeface="a_BodoniOrtoNrTtlCm"/>
              </a:rPr>
              <a:t>«Техника безопасности при терроризм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AutoShape 34"/>
          <p:cNvGrpSpPr/>
          <p:nvPr/>
        </p:nvGrpSpPr>
        <p:grpSpPr>
          <a:xfrm>
            <a:off x="7510320" y="6162840"/>
            <a:ext cx="1420920" cy="457200"/>
            <a:chOff x="7510320" y="6162840"/>
            <a:chExt cx="1420920" cy="457200"/>
          </a:xfrm>
        </p:grpSpPr>
        <p:pic>
          <p:nvPicPr>
            <p:cNvPr id="131" name="AutoShape 3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10320" y="6162840"/>
              <a:ext cx="14209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524720" y="6172200"/>
              <a:ext cx="13906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Вых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AutoShape 49"/>
          <p:cNvSpPr/>
          <p:nvPr/>
        </p:nvSpPr>
        <p:spPr>
          <a:xfrm>
            <a:off x="2987640" y="2065320"/>
            <a:ext cx="1152720" cy="115272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50"/>
          <p:cNvSpPr txBox="1"/>
          <p:nvPr/>
        </p:nvSpPr>
        <p:spPr>
          <a:xfrm>
            <a:off x="3111480" y="226044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AutoShape 51"/>
          <p:cNvSpPr/>
          <p:nvPr/>
        </p:nvSpPr>
        <p:spPr>
          <a:xfrm>
            <a:off x="4605480" y="206532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2"/>
          <p:cNvSpPr/>
          <p:nvPr/>
        </p:nvSpPr>
        <p:spPr>
          <a:xfrm>
            <a:off x="2987640" y="3494160"/>
            <a:ext cx="1152720" cy="115236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3"/>
          <p:cNvSpPr/>
          <p:nvPr/>
        </p:nvSpPr>
        <p:spPr>
          <a:xfrm>
            <a:off x="4605480" y="3494160"/>
            <a:ext cx="1152360" cy="115236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4"/>
          <p:cNvSpPr/>
          <p:nvPr/>
        </p:nvSpPr>
        <p:spPr>
          <a:xfrm>
            <a:off x="2297160" y="4889520"/>
            <a:ext cx="1152360" cy="115236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5"/>
          <p:cNvSpPr/>
          <p:nvPr/>
        </p:nvSpPr>
        <p:spPr>
          <a:xfrm>
            <a:off x="3857760" y="4889520"/>
            <a:ext cx="1152360" cy="115236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6"/>
          <p:cNvSpPr/>
          <p:nvPr/>
        </p:nvSpPr>
        <p:spPr>
          <a:xfrm>
            <a:off x="5375160" y="4889520"/>
            <a:ext cx="1152720" cy="1152360"/>
          </a:xfrm>
          <a:custGeom>
            <a:avLst/>
            <a:gdLst>
              <a:gd name="textAreaLeft" fmla="*/ 74520 w 1152720"/>
              <a:gd name="textAreaRight" fmla="*/ 1078200 w 115272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59"/>
          <p:cNvSpPr txBox="1"/>
          <p:nvPr/>
        </p:nvSpPr>
        <p:spPr>
          <a:xfrm>
            <a:off x="4956120" y="226044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WordArt 60"/>
          <p:cNvSpPr txBox="1"/>
          <p:nvPr/>
        </p:nvSpPr>
        <p:spPr>
          <a:xfrm>
            <a:off x="3206880" y="364644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WordArt 61"/>
          <p:cNvSpPr txBox="1"/>
          <p:nvPr/>
        </p:nvSpPr>
        <p:spPr>
          <a:xfrm>
            <a:off x="4808520" y="368460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WordArt 62"/>
          <p:cNvSpPr txBox="1"/>
          <p:nvPr/>
        </p:nvSpPr>
        <p:spPr>
          <a:xfrm>
            <a:off x="2530440" y="512280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WordArt 63"/>
          <p:cNvSpPr txBox="1"/>
          <p:nvPr/>
        </p:nvSpPr>
        <p:spPr>
          <a:xfrm>
            <a:off x="4140360" y="51228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WordArt 64"/>
          <p:cNvSpPr txBox="1"/>
          <p:nvPr/>
        </p:nvSpPr>
        <p:spPr>
          <a:xfrm>
            <a:off x="5646600" y="512748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AutoShape 4"/>
          <p:cNvGrpSpPr/>
          <p:nvPr/>
        </p:nvGrpSpPr>
        <p:grpSpPr>
          <a:xfrm>
            <a:off x="6864480" y="6413400"/>
            <a:ext cx="2066760" cy="457200"/>
            <a:chOff x="6864480" y="6413400"/>
            <a:chExt cx="2066760" cy="457200"/>
          </a:xfrm>
        </p:grpSpPr>
        <p:pic>
          <p:nvPicPr>
            <p:cNvPr id="209" name="AutoShape 4" descr=""/>
            <p:cNvPicPr/>
            <p:nvPr/>
          </p:nvPicPr>
          <p:blipFill>
            <a:blip r:embed="rId2"/>
            <a:stretch/>
          </p:blipFill>
          <p:spPr>
            <a:xfrm>
              <a:off x="6864480" y="641340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877080" y="642456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7"/>
          <p:cNvSpPr/>
          <p:nvPr/>
        </p:nvSpPr>
        <p:spPr>
          <a:xfrm>
            <a:off x="457200" y="457200"/>
            <a:ext cx="685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485640" y="264960"/>
            <a:ext cx="682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делать, если вы оказались в </a:t>
            </a:r>
            <a:r>
              <a:rPr b="1" i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ложниках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2" descr=""/>
          <p:cNvPicPr/>
          <p:nvPr/>
        </p:nvPicPr>
        <p:blipFill>
          <a:blip r:embed="rId3"/>
          <a:stretch/>
        </p:blipFill>
        <p:spPr>
          <a:xfrm>
            <a:off x="87480" y="1706400"/>
            <a:ext cx="4630680" cy="34228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3" descr=""/>
          <p:cNvPicPr/>
          <p:nvPr/>
        </p:nvPicPr>
        <p:blipFill>
          <a:blip r:embed="rId4"/>
          <a:stretch/>
        </p:blipFill>
        <p:spPr>
          <a:xfrm>
            <a:off x="4718160" y="3338640"/>
            <a:ext cx="417492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994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овите номера телефонов служб спасения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AutoShape 8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218" name="AutoShape 8" descr=""/>
            <p:cNvPicPr/>
            <p:nvPr/>
          </p:nvPicPr>
          <p:blipFill>
            <a:blip r:embed="rId2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Picture 15" descr="N:\РАБОТА\Классные часы\Трагедия Беслана\155127742014pojarnaya-tehnika.jpg"/>
          <p:cNvPicPr/>
          <p:nvPr/>
        </p:nvPicPr>
        <p:blipFill>
          <a:blip r:embed="rId3"/>
          <a:stretch/>
        </p:blipFill>
        <p:spPr>
          <a:xfrm>
            <a:off x="527040" y="1413000"/>
            <a:ext cx="2392200" cy="1584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N:\РАБОТА\Классные часы\Трагедия Беслана\kak-pozvonit-v-policiyu11.jpg"/>
          <p:cNvPicPr/>
          <p:nvPr/>
        </p:nvPicPr>
        <p:blipFill>
          <a:blip r:embed="rId4"/>
          <a:stretch/>
        </p:blipFill>
        <p:spPr>
          <a:xfrm>
            <a:off x="527040" y="3284640"/>
            <a:ext cx="2405160" cy="158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N:\РАБОТА\Классные часы\Трагедия Беслана\skoraya-pomoshh.jpg"/>
          <p:cNvPicPr/>
          <p:nvPr/>
        </p:nvPicPr>
        <p:blipFill>
          <a:blip r:embed="rId5"/>
          <a:stretch/>
        </p:blipFill>
        <p:spPr>
          <a:xfrm>
            <a:off x="527040" y="5146560"/>
            <a:ext cx="2405160" cy="1575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427640" y="1844280"/>
            <a:ext cx="388944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жарная служб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ли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корая помощ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1760" y="69840"/>
            <a:ext cx="6994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овите номера телефонов служб спасения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AutoShape 8"/>
          <p:cNvGrpSpPr/>
          <p:nvPr/>
        </p:nvGrpSpPr>
        <p:grpSpPr>
          <a:xfrm>
            <a:off x="6937200" y="6394320"/>
            <a:ext cx="2060640" cy="457200"/>
            <a:chOff x="6937200" y="6394320"/>
            <a:chExt cx="2060640" cy="457200"/>
          </a:xfrm>
        </p:grpSpPr>
        <p:pic>
          <p:nvPicPr>
            <p:cNvPr id="227" name="AutoShape 8" descr=""/>
            <p:cNvPicPr/>
            <p:nvPr/>
          </p:nvPicPr>
          <p:blipFill>
            <a:blip r:embed="rId2"/>
            <a:stretch/>
          </p:blipFill>
          <p:spPr>
            <a:xfrm>
              <a:off x="6937200" y="6394320"/>
              <a:ext cx="206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948360" y="640872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N:\РАБОТА\Классные часы\Трагедия Беслана\155127742014pojarnaya-tehnika.jpg"/>
          <p:cNvPicPr/>
          <p:nvPr/>
        </p:nvPicPr>
        <p:blipFill>
          <a:blip r:embed="rId3"/>
          <a:stretch/>
        </p:blipFill>
        <p:spPr>
          <a:xfrm>
            <a:off x="527040" y="1413000"/>
            <a:ext cx="2392200" cy="1584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N:\РАБОТА\Классные часы\Трагедия Беслана\kak-pozvonit-v-policiyu11.jpg"/>
          <p:cNvPicPr/>
          <p:nvPr/>
        </p:nvPicPr>
        <p:blipFill>
          <a:blip r:embed="rId4"/>
          <a:stretch/>
        </p:blipFill>
        <p:spPr>
          <a:xfrm>
            <a:off x="527040" y="3284640"/>
            <a:ext cx="2405160" cy="1584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N:\РАБОТА\Классные часы\Трагедия Беслана\skoraya-pomoshh.jpg"/>
          <p:cNvPicPr/>
          <p:nvPr/>
        </p:nvPicPr>
        <p:blipFill>
          <a:blip r:embed="rId5"/>
          <a:stretch/>
        </p:blipFill>
        <p:spPr>
          <a:xfrm>
            <a:off x="527040" y="5146560"/>
            <a:ext cx="2405160" cy="1575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427640" y="1663200"/>
            <a:ext cx="3889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жарная служб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ли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корая помощ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5500800" y="2212920"/>
            <a:ext cx="187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5535720" y="4076640"/>
            <a:ext cx="187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5614920" y="5824440"/>
            <a:ext cx="187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AutoShape 7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238" name="AutoShape 7" descr=""/>
            <p:cNvPicPr/>
            <p:nvPr/>
          </p:nvPicPr>
          <p:blipFill>
            <a:blip r:embed="rId2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0"/>
          <p:cNvSpPr/>
          <p:nvPr/>
        </p:nvSpPr>
        <p:spPr>
          <a:xfrm>
            <a:off x="684360" y="1268280"/>
            <a:ext cx="741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"/>
          <p:cNvSpPr/>
          <p:nvPr/>
        </p:nvSpPr>
        <p:spPr>
          <a:xfrm>
            <a:off x="971640" y="98424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овите единый номер службы спас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AutoShape 7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244" name="AutoShape 7" descr=""/>
            <p:cNvPicPr/>
            <p:nvPr/>
          </p:nvPicPr>
          <p:blipFill>
            <a:blip r:embed="rId2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Rectangle 10"/>
          <p:cNvSpPr/>
          <p:nvPr/>
        </p:nvSpPr>
        <p:spPr>
          <a:xfrm>
            <a:off x="684360" y="1268280"/>
            <a:ext cx="741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971640" y="98424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овите единый номер службы спас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1555920" y="2247840"/>
            <a:ext cx="5097240" cy="40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10"/>
          <p:cNvSpPr txBox="1"/>
          <p:nvPr/>
        </p:nvSpPr>
        <p:spPr>
          <a:xfrm>
            <a:off x="900000" y="549360"/>
            <a:ext cx="712944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 !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6985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дна из форм организованного насилия – это …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3141720"/>
            <a:ext cx="8229600" cy="223992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героизм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террориз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патриотиз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AutoShape 9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151" name="AutoShape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Прямая соединительная линия 6"/>
          <p:cNvSpPr/>
          <p:nvPr/>
        </p:nvSpPr>
        <p:spPr>
          <a:xfrm flipV="1">
            <a:off x="2701080" y="3933720"/>
            <a:ext cx="142920" cy="21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4"/>
          <a:stretch/>
        </p:blipFill>
        <p:spPr>
          <a:xfrm>
            <a:off x="2263680" y="3193920"/>
            <a:ext cx="158760" cy="2257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ая соединительная линия 8"/>
          <p:cNvSpPr/>
          <p:nvPr/>
        </p:nvSpPr>
        <p:spPr>
          <a:xfrm flipV="1">
            <a:off x="3059280" y="4652640"/>
            <a:ext cx="14256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6985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дна из форм организованного насилия – это …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360" y="3141720"/>
            <a:ext cx="8229600" cy="223992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террориз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AutoShape 9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160" name="AutoShape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Прямая соединительная линия 6"/>
          <p:cNvSpPr/>
          <p:nvPr/>
        </p:nvSpPr>
        <p:spPr>
          <a:xfrm flipV="1">
            <a:off x="2770920" y="3933720"/>
            <a:ext cx="142920" cy="21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6778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ди, которых силой удерживают террористы являются …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5280" y="3213000"/>
            <a:ext cx="8229600" cy="2448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картёжника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чертёжника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заложника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AutoShape 10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167" name="AutoShape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Прямая соединительная линия 6"/>
          <p:cNvSpPr/>
          <p:nvPr/>
        </p:nvSpPr>
        <p:spPr>
          <a:xfrm flipV="1">
            <a:off x="1978920" y="4727160"/>
            <a:ext cx="14292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7"/>
          <p:cNvSpPr/>
          <p:nvPr/>
        </p:nvSpPr>
        <p:spPr>
          <a:xfrm flipV="1">
            <a:off x="2195640" y="3284280"/>
            <a:ext cx="14436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8"/>
          <p:cNvSpPr/>
          <p:nvPr/>
        </p:nvSpPr>
        <p:spPr>
          <a:xfrm flipV="1">
            <a:off x="2121840" y="3862440"/>
            <a:ext cx="142920" cy="216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6778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ди, которых силой удерживают террористы являются …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95280" y="3213000"/>
            <a:ext cx="8229600" cy="2448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ложникам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AutoShape 10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176" name="AutoShape 10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ая соединительная линия 6"/>
          <p:cNvSpPr/>
          <p:nvPr/>
        </p:nvSpPr>
        <p:spPr>
          <a:xfrm flipV="1">
            <a:off x="2050200" y="4005000"/>
            <a:ext cx="14292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4800" y="1268280"/>
            <a:ext cx="756144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Возьмите в руки, откройте, разверните подозрительные сумки, пакеты, чемоданы, портфели. </a:t>
            </a:r>
            <a:br>
              <a:rPr sz="29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AutoShape 9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182" name="AutoShape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8" descr="N:\РАБОТА\Классные часы\Трагедия Беслана\20160927155227.jpg"/>
          <p:cNvPicPr/>
          <p:nvPr/>
        </p:nvPicPr>
        <p:blipFill>
          <a:blip r:embed="rId4"/>
          <a:stretch/>
        </p:blipFill>
        <p:spPr>
          <a:xfrm>
            <a:off x="250920" y="2781360"/>
            <a:ext cx="4105080" cy="2981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N:\РАБОТА\Классные часы\Трагедия Беслана\PM458image002.jpg"/>
          <p:cNvPicPr/>
          <p:nvPr/>
        </p:nvPicPr>
        <p:blipFill>
          <a:blip r:embed="rId5"/>
          <a:stretch/>
        </p:blipFill>
        <p:spPr>
          <a:xfrm>
            <a:off x="4529160" y="2781360"/>
            <a:ext cx="421308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4800" y="1268280"/>
            <a:ext cx="756144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Возьмите в руки, откройте, разверните подозрительные сумки, пакеты, чемоданы, портфели. </a:t>
            </a:r>
            <a:br>
              <a:rPr sz="29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AutoShape 9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189" name="AutoShape 9" descr=""/>
            <p:cNvPicPr/>
            <p:nvPr/>
          </p:nvPicPr>
          <p:blipFill>
            <a:blip r:embed="rId2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" descr=""/>
          <p:cNvPicPr/>
          <p:nvPr/>
        </p:nvPicPr>
        <p:blipFill>
          <a:blip r:embed="rId3"/>
          <a:stretch/>
        </p:blipFill>
        <p:spPr>
          <a:xfrm>
            <a:off x="2771640" y="3213000"/>
            <a:ext cx="3322800" cy="245772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2"/>
          <p:cNvSpPr/>
          <p:nvPr/>
        </p:nvSpPr>
        <p:spPr>
          <a:xfrm>
            <a:off x="3107520" y="3573360"/>
            <a:ext cx="275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AutoShape 6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195" name="AutoShape 6" descr=""/>
            <p:cNvPicPr/>
            <p:nvPr/>
          </p:nvPicPr>
          <p:blipFill>
            <a:blip r:embed="rId2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324000" y="549360"/>
            <a:ext cx="75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"/>
          <p:cNvSpPr/>
          <p:nvPr/>
        </p:nvSpPr>
        <p:spPr>
          <a:xfrm>
            <a:off x="324000" y="539640"/>
            <a:ext cx="71276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Если увидели подозрительного человека, сообщите об этом родителям, учителям, сотрудникам правоохранительных орга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AutoShape 6"/>
          <p:cNvGrpSpPr/>
          <p:nvPr/>
        </p:nvGrpSpPr>
        <p:grpSpPr>
          <a:xfrm>
            <a:off x="6864480" y="6162840"/>
            <a:ext cx="2066760" cy="457200"/>
            <a:chOff x="6864480" y="6162840"/>
            <a:chExt cx="2066760" cy="457200"/>
          </a:xfrm>
        </p:grpSpPr>
        <p:pic>
          <p:nvPicPr>
            <p:cNvPr id="201" name="AutoShape 6" descr=""/>
            <p:cNvPicPr/>
            <p:nvPr/>
          </p:nvPicPr>
          <p:blipFill>
            <a:blip r:embed="rId2"/>
            <a:stretch/>
          </p:blipFill>
          <p:spPr>
            <a:xfrm>
              <a:off x="6864480" y="6162840"/>
              <a:ext cx="2066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9"/>
          <p:cNvSpPr/>
          <p:nvPr/>
        </p:nvSpPr>
        <p:spPr>
          <a:xfrm>
            <a:off x="324000" y="549360"/>
            <a:ext cx="75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"/>
          <p:cNvSpPr/>
          <p:nvPr/>
        </p:nvSpPr>
        <p:spPr>
          <a:xfrm>
            <a:off x="324000" y="539640"/>
            <a:ext cx="71276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Если увидели подозрительного человека, сообщите об этом родителям, учителям, сотрудникам правоохранительных орга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124080" y="3573360"/>
            <a:ext cx="3241800" cy="23767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7"/>
          <p:cNvSpPr/>
          <p:nvPr/>
        </p:nvSpPr>
        <p:spPr>
          <a:xfrm>
            <a:off x="3795120" y="3860640"/>
            <a:ext cx="189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2:25:06Z</dcterms:created>
  <dc:creator>Ольга</dc:creator>
  <dc:description/>
  <dc:language>en-US</dc:language>
  <cp:lastModifiedBy>user</cp:lastModifiedBy>
  <dcterms:modified xsi:type="dcterms:W3CDTF">2017-11-21T02:37:40Z</dcterms:modified>
  <cp:revision>96</cp:revision>
  <dc:subject/>
  <dc:title>Слайд 1</dc:title>
</cp:coreProperties>
</file>