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580A-1B56-47E3-8318-9978AB9C1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585E-CC61-40D1-A752-4D093D29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0368-B28F-4DBB-89DD-D5C1E11F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A446-1126-48FF-8DD8-80D2BC23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E911-4BA3-4B3E-98E8-2A1C3621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45D1-17B9-42B8-82CE-ADCBC95B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2EE6-ED50-4EB5-A3BA-79EF5519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CB1F-200A-4FC4-B5E9-CDC4F41F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DB13-4B90-4C0F-BF85-5D6EA89E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18BD-86F3-4FD4-9577-7F9189C4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9CA1-B6C9-4BB4-AF06-B6396D2B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C192-F589-43B3-BADC-498FE303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4909-BA12-4F35-A0FC-57C69962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C39B-52F0-433F-8104-79D66C5D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60C8-FB1A-4651-9353-D0852267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18F5-5F0A-487D-9299-E97C0576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2A3D-88DE-497D-AD88-BE1837A8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F3541-C942-4F0F-9931-7409D6D1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C1CC3-2EA1-424F-A47F-24196CBB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4DD27-E74B-47DA-82BE-0FEF361D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EBDD9-E66A-46B8-8ED5-D67F9225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2D431-91F0-480E-A92A-905D45B2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6DEA-59D3-4945-83F5-60222E18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66D2B-D5B7-4F55-9FC9-26C1B488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F26C4-DE5C-4A40-88F8-916BB7BB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D22FE-004D-4691-8DD9-D4D10B30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A760E-152D-4736-957C-DEF0560A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8D79C-2053-491F-9DC5-A1881B0E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C6EBA-9421-4C33-9FB5-64C5E31B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E088B-90B6-4ADD-B6C0-60B59B56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3167-5686-4EFC-8726-A8DCC7C0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8F79-EE66-4FA8-AA36-61B9548E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0142-27A0-4FCF-A28C-50ED6BC2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DBEF-94A2-474B-895E-83389E10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8AC0-A3D1-43BD-826A-C1DBAB0D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FB7D-D423-4565-8F3A-96627B80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410F-1009-4299-84FE-DD23764D6E90}" type="slidenum">
              <a:rPr b="1" lang="ru-RU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8933-3035-4E19-BA18-C30B81DF169C}" type="slidenum">
              <a:rPr b="1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3E9C-C9A3-40A0-AA67-3BFC37C96EC1}" type="slidenum">
              <a:rPr b="1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.xm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.xml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8"/>
          <p:cNvSpPr/>
          <p:nvPr/>
        </p:nvSpPr>
        <p:spPr>
          <a:xfrm>
            <a:off x="250920" y="404640"/>
            <a:ext cx="8664480" cy="1151280"/>
          </a:xfrm>
          <a:custGeom>
            <a:avLst/>
            <a:gdLst>
              <a:gd name="textAreaLeft" fmla="*/ 74520 w 8664480"/>
              <a:gd name="textAreaRight" fmla="*/ 8589960 w 8664480"/>
              <a:gd name="textAreaTop" fmla="*/ 74520 h 1151280"/>
              <a:gd name="textAreaBottom" fmla="*/ 1076760 h 1151280"/>
            </a:gdLst>
            <a:ahLst/>
            <a:rect l="textAreaLeft" t="textAreaTop" r="textAreaRight" b="textAreaBottom"/>
            <a:pathLst>
              <a:path w="162517" h="21600">
                <a:moveTo>
                  <a:pt x="0" y="0"/>
                </a:moveTo>
                <a:lnTo>
                  <a:pt x="162517" y="0"/>
                </a:lnTo>
                <a:lnTo>
                  <a:pt x="162517" y="21600"/>
                </a:lnTo>
                <a:lnTo>
                  <a:pt x="0" y="21600"/>
                </a:lnTo>
                <a:close/>
              </a:path>
              <a:path fill="lightenLess" w="162517" h="21600">
                <a:moveTo>
                  <a:pt x="0" y="0"/>
                </a:moveTo>
                <a:lnTo>
                  <a:pt x="162517" y="0"/>
                </a:lnTo>
                <a:lnTo>
                  <a:pt x="161117" y="1400"/>
                </a:lnTo>
                <a:lnTo>
                  <a:pt x="1400" y="1400"/>
                </a:lnTo>
                <a:close/>
              </a:path>
              <a:path fill="darken" w="162517" h="21600">
                <a:moveTo>
                  <a:pt x="162517" y="0"/>
                </a:moveTo>
                <a:lnTo>
                  <a:pt x="162517" y="21600"/>
                </a:lnTo>
                <a:lnTo>
                  <a:pt x="161117" y="20200"/>
                </a:lnTo>
                <a:lnTo>
                  <a:pt x="161117" y="1400"/>
                </a:lnTo>
                <a:close/>
              </a:path>
              <a:path fill="darkenLess" w="162517" h="21600">
                <a:moveTo>
                  <a:pt x="1625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1117" y="20200"/>
                </a:lnTo>
                <a:close/>
              </a:path>
              <a:path fill="lighten" w="1625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>
              <a:alpha val="72000"/>
            </a:srgbClr>
          </a:solidFill>
          <a:ln w="47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ff0000"/>
                </a:solidFill>
                <a:latin typeface="Tahoma"/>
              </a:rPr>
              <a:t>Игра</a:t>
            </a: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ff"/>
                </a:solidFill>
                <a:latin typeface="a_BodoniOrtoNrTtlCm"/>
              </a:rPr>
              <a:t>«Техника безопасности при терроризме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AutoShape 34"/>
          <p:cNvGrpSpPr/>
          <p:nvPr/>
        </p:nvGrpSpPr>
        <p:grpSpPr>
          <a:xfrm>
            <a:off x="7510320" y="6162840"/>
            <a:ext cx="1420920" cy="457200"/>
            <a:chOff x="7510320" y="6162840"/>
            <a:chExt cx="1420920" cy="457200"/>
          </a:xfrm>
        </p:grpSpPr>
        <p:pic>
          <p:nvPicPr>
            <p:cNvPr id="131" name="AutoShape 3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510320" y="6162840"/>
              <a:ext cx="14209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524720" y="6172200"/>
              <a:ext cx="13906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Выхо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AutoShape 49"/>
          <p:cNvSpPr/>
          <p:nvPr/>
        </p:nvSpPr>
        <p:spPr>
          <a:xfrm>
            <a:off x="2987640" y="2065320"/>
            <a:ext cx="1152720" cy="1152720"/>
          </a:xfrm>
          <a:custGeom>
            <a:avLst/>
            <a:gdLst>
              <a:gd name="textAreaLeft" fmla="*/ 74520 w 1152720"/>
              <a:gd name="textAreaRight" fmla="*/ 1078200 w 1152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50"/>
          <p:cNvSpPr txBox="1"/>
          <p:nvPr/>
        </p:nvSpPr>
        <p:spPr>
          <a:xfrm>
            <a:off x="3111480" y="226044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5" name="AutoShape 51"/>
          <p:cNvSpPr/>
          <p:nvPr/>
        </p:nvSpPr>
        <p:spPr>
          <a:xfrm>
            <a:off x="4605480" y="2065320"/>
            <a:ext cx="1152360" cy="115272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2"/>
          <p:cNvSpPr/>
          <p:nvPr/>
        </p:nvSpPr>
        <p:spPr>
          <a:xfrm>
            <a:off x="2987640" y="3494160"/>
            <a:ext cx="1152720" cy="1152360"/>
          </a:xfrm>
          <a:custGeom>
            <a:avLst/>
            <a:gdLst>
              <a:gd name="textAreaLeft" fmla="*/ 74520 w 1152720"/>
              <a:gd name="textAreaRight" fmla="*/ 1078200 w 115272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3"/>
          <p:cNvSpPr/>
          <p:nvPr/>
        </p:nvSpPr>
        <p:spPr>
          <a:xfrm>
            <a:off x="4605480" y="3494160"/>
            <a:ext cx="1152360" cy="115236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4"/>
          <p:cNvSpPr/>
          <p:nvPr/>
        </p:nvSpPr>
        <p:spPr>
          <a:xfrm>
            <a:off x="2297160" y="4889520"/>
            <a:ext cx="1152360" cy="115236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5"/>
          <p:cNvSpPr/>
          <p:nvPr/>
        </p:nvSpPr>
        <p:spPr>
          <a:xfrm>
            <a:off x="3857760" y="4889520"/>
            <a:ext cx="1152360" cy="115236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6"/>
          <p:cNvSpPr/>
          <p:nvPr/>
        </p:nvSpPr>
        <p:spPr>
          <a:xfrm>
            <a:off x="5375160" y="4889520"/>
            <a:ext cx="1152720" cy="1152360"/>
          </a:xfrm>
          <a:custGeom>
            <a:avLst/>
            <a:gdLst>
              <a:gd name="textAreaLeft" fmla="*/ 74520 w 1152720"/>
              <a:gd name="textAreaRight" fmla="*/ 1078200 w 115272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59"/>
          <p:cNvSpPr txBox="1"/>
          <p:nvPr/>
        </p:nvSpPr>
        <p:spPr>
          <a:xfrm>
            <a:off x="4956120" y="226044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2" name="WordArt 60"/>
          <p:cNvSpPr txBox="1"/>
          <p:nvPr/>
        </p:nvSpPr>
        <p:spPr>
          <a:xfrm>
            <a:off x="3206880" y="364644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3" name="WordArt 61"/>
          <p:cNvSpPr txBox="1"/>
          <p:nvPr/>
        </p:nvSpPr>
        <p:spPr>
          <a:xfrm>
            <a:off x="4808520" y="368460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4" name="WordArt 62"/>
          <p:cNvSpPr txBox="1"/>
          <p:nvPr/>
        </p:nvSpPr>
        <p:spPr>
          <a:xfrm>
            <a:off x="2530440" y="512280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5" name="WordArt 63"/>
          <p:cNvSpPr txBox="1"/>
          <p:nvPr/>
        </p:nvSpPr>
        <p:spPr>
          <a:xfrm>
            <a:off x="4140360" y="51228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6" name="WordArt 64"/>
          <p:cNvSpPr txBox="1"/>
          <p:nvPr/>
        </p:nvSpPr>
        <p:spPr>
          <a:xfrm>
            <a:off x="5646600" y="5127480"/>
            <a:ext cx="609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2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AutoShape 4"/>
          <p:cNvGrpSpPr/>
          <p:nvPr/>
        </p:nvGrpSpPr>
        <p:grpSpPr>
          <a:xfrm>
            <a:off x="6864480" y="6413400"/>
            <a:ext cx="2066760" cy="457200"/>
            <a:chOff x="6864480" y="6413400"/>
            <a:chExt cx="2066760" cy="457200"/>
          </a:xfrm>
        </p:grpSpPr>
        <p:pic>
          <p:nvPicPr>
            <p:cNvPr id="209" name="AutoShape 4" descr=""/>
            <p:cNvPicPr/>
            <p:nvPr/>
          </p:nvPicPr>
          <p:blipFill>
            <a:blip r:embed="rId2"/>
            <a:stretch/>
          </p:blipFill>
          <p:spPr>
            <a:xfrm>
              <a:off x="6864480" y="6413400"/>
              <a:ext cx="20667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877080" y="642456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ectangle 7"/>
          <p:cNvSpPr/>
          <p:nvPr/>
        </p:nvSpPr>
        <p:spPr>
          <a:xfrm>
            <a:off x="457200" y="457200"/>
            <a:ext cx="6851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"/>
          <p:cNvSpPr/>
          <p:nvPr/>
        </p:nvSpPr>
        <p:spPr>
          <a:xfrm>
            <a:off x="485640" y="264960"/>
            <a:ext cx="682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делать, если вы оказались в </a:t>
            </a:r>
            <a:r>
              <a:rPr b="1" i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ложниках</a:t>
            </a: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2" descr=""/>
          <p:cNvPicPr/>
          <p:nvPr/>
        </p:nvPicPr>
        <p:blipFill>
          <a:blip r:embed="rId3"/>
          <a:stretch/>
        </p:blipFill>
        <p:spPr>
          <a:xfrm>
            <a:off x="87480" y="1706400"/>
            <a:ext cx="4630680" cy="342288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3" descr=""/>
          <p:cNvPicPr/>
          <p:nvPr/>
        </p:nvPicPr>
        <p:blipFill>
          <a:blip r:embed="rId4"/>
          <a:stretch/>
        </p:blipFill>
        <p:spPr>
          <a:xfrm>
            <a:off x="4718160" y="3338640"/>
            <a:ext cx="4174920" cy="30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9944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зовите номера телефонов служб спасения</a:t>
            </a:r>
            <a:endParaRPr b="0" lang="en-US" sz="40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AutoShape 8"/>
          <p:cNvGrpSpPr/>
          <p:nvPr/>
        </p:nvGrpSpPr>
        <p:grpSpPr>
          <a:xfrm>
            <a:off x="6864480" y="6162840"/>
            <a:ext cx="2066760" cy="457200"/>
            <a:chOff x="6864480" y="6162840"/>
            <a:chExt cx="2066760" cy="457200"/>
          </a:xfrm>
        </p:grpSpPr>
        <p:pic>
          <p:nvPicPr>
            <p:cNvPr id="218" name="AutoShape 8" descr=""/>
            <p:cNvPicPr/>
            <p:nvPr/>
          </p:nvPicPr>
          <p:blipFill>
            <a:blip r:embed="rId2"/>
            <a:stretch/>
          </p:blipFill>
          <p:spPr>
            <a:xfrm>
              <a:off x="6864480" y="6162840"/>
              <a:ext cx="20667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Picture 15" descr="N:\РАБОТА\Классные часы\Трагедия Беслана\155127742014pojarnaya-tehnika.jpg"/>
          <p:cNvPicPr/>
          <p:nvPr/>
        </p:nvPicPr>
        <p:blipFill>
          <a:blip r:embed="rId3"/>
          <a:stretch/>
        </p:blipFill>
        <p:spPr>
          <a:xfrm>
            <a:off x="527040" y="1413000"/>
            <a:ext cx="2392200" cy="1584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N:\РАБОТА\Классные часы\Трагедия Беслана\kak-pozvonit-v-policiyu11.jpg"/>
          <p:cNvPicPr/>
          <p:nvPr/>
        </p:nvPicPr>
        <p:blipFill>
          <a:blip r:embed="rId4"/>
          <a:stretch/>
        </p:blipFill>
        <p:spPr>
          <a:xfrm>
            <a:off x="527040" y="3284640"/>
            <a:ext cx="2405160" cy="1584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7" descr="N:\РАБОТА\Классные часы\Трагедия Беслана\skoraya-pomoshh.jpg"/>
          <p:cNvPicPr/>
          <p:nvPr/>
        </p:nvPicPr>
        <p:blipFill>
          <a:blip r:embed="rId5"/>
          <a:stretch/>
        </p:blipFill>
        <p:spPr>
          <a:xfrm>
            <a:off x="527040" y="5146560"/>
            <a:ext cx="2405160" cy="1575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427640" y="1844280"/>
            <a:ext cx="388944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жарная служб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лиц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корая помощ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1760" y="69840"/>
            <a:ext cx="69944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зовите номера телефонов служб спасения</a:t>
            </a:r>
            <a:endParaRPr b="0" lang="en-US" sz="40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AutoShape 8"/>
          <p:cNvGrpSpPr/>
          <p:nvPr/>
        </p:nvGrpSpPr>
        <p:grpSpPr>
          <a:xfrm>
            <a:off x="6937200" y="6394320"/>
            <a:ext cx="2060640" cy="457200"/>
            <a:chOff x="6937200" y="6394320"/>
            <a:chExt cx="2060640" cy="457200"/>
          </a:xfrm>
        </p:grpSpPr>
        <p:pic>
          <p:nvPicPr>
            <p:cNvPr id="227" name="AutoShape 8" descr=""/>
            <p:cNvPicPr/>
            <p:nvPr/>
          </p:nvPicPr>
          <p:blipFill>
            <a:blip r:embed="rId2"/>
            <a:stretch/>
          </p:blipFill>
          <p:spPr>
            <a:xfrm>
              <a:off x="6937200" y="6394320"/>
              <a:ext cx="20606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948360" y="640872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15" descr="N:\РАБОТА\Классные часы\Трагедия Беслана\155127742014pojarnaya-tehnika.jpg"/>
          <p:cNvPicPr/>
          <p:nvPr/>
        </p:nvPicPr>
        <p:blipFill>
          <a:blip r:embed="rId3"/>
          <a:stretch/>
        </p:blipFill>
        <p:spPr>
          <a:xfrm>
            <a:off x="527040" y="1413000"/>
            <a:ext cx="2392200" cy="1584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N:\РАБОТА\Классные часы\Трагедия Беслана\kak-pozvonit-v-policiyu11.jpg"/>
          <p:cNvPicPr/>
          <p:nvPr/>
        </p:nvPicPr>
        <p:blipFill>
          <a:blip r:embed="rId4"/>
          <a:stretch/>
        </p:blipFill>
        <p:spPr>
          <a:xfrm>
            <a:off x="527040" y="3284640"/>
            <a:ext cx="2405160" cy="1584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N:\РАБОТА\Классные часы\Трагедия Беслана\skoraya-pomoshh.jpg"/>
          <p:cNvPicPr/>
          <p:nvPr/>
        </p:nvPicPr>
        <p:blipFill>
          <a:blip r:embed="rId5"/>
          <a:stretch/>
        </p:blipFill>
        <p:spPr>
          <a:xfrm>
            <a:off x="527040" y="5146560"/>
            <a:ext cx="2405160" cy="1575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427640" y="1663200"/>
            <a:ext cx="3889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жарная служб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лиц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корая помощ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5500800" y="2212920"/>
            <a:ext cx="1871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5535720" y="4076640"/>
            <a:ext cx="1871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5614920" y="5824440"/>
            <a:ext cx="1871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4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AutoShape 7"/>
          <p:cNvGrpSpPr/>
          <p:nvPr/>
        </p:nvGrpSpPr>
        <p:grpSpPr>
          <a:xfrm>
            <a:off x="6864480" y="6162840"/>
            <a:ext cx="2066760" cy="457200"/>
            <a:chOff x="6864480" y="6162840"/>
            <a:chExt cx="2066760" cy="457200"/>
          </a:xfrm>
        </p:grpSpPr>
        <p:pic>
          <p:nvPicPr>
            <p:cNvPr id="238" name="AutoShape 7" descr=""/>
            <p:cNvPicPr/>
            <p:nvPr/>
          </p:nvPicPr>
          <p:blipFill>
            <a:blip r:embed="rId2"/>
            <a:stretch/>
          </p:blipFill>
          <p:spPr>
            <a:xfrm>
              <a:off x="6864480" y="6162840"/>
              <a:ext cx="20667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0"/>
          <p:cNvSpPr/>
          <p:nvPr/>
        </p:nvSpPr>
        <p:spPr>
          <a:xfrm>
            <a:off x="684360" y="1268280"/>
            <a:ext cx="7416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1"/>
          <p:cNvSpPr/>
          <p:nvPr/>
        </p:nvSpPr>
        <p:spPr>
          <a:xfrm>
            <a:off x="971640" y="984240"/>
            <a:ext cx="62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зовите единый номер службы спас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4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AutoShape 7"/>
          <p:cNvGrpSpPr/>
          <p:nvPr/>
        </p:nvGrpSpPr>
        <p:grpSpPr>
          <a:xfrm>
            <a:off x="6864480" y="6162840"/>
            <a:ext cx="2066760" cy="457200"/>
            <a:chOff x="6864480" y="6162840"/>
            <a:chExt cx="2066760" cy="457200"/>
          </a:xfrm>
        </p:grpSpPr>
        <p:pic>
          <p:nvPicPr>
            <p:cNvPr id="244" name="AutoShape 7" descr=""/>
            <p:cNvPicPr/>
            <p:nvPr/>
          </p:nvPicPr>
          <p:blipFill>
            <a:blip r:embed="rId2"/>
            <a:stretch/>
          </p:blipFill>
          <p:spPr>
            <a:xfrm>
              <a:off x="6864480" y="6162840"/>
              <a:ext cx="20667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Rectangle 10"/>
          <p:cNvSpPr/>
          <p:nvPr/>
        </p:nvSpPr>
        <p:spPr>
          <a:xfrm>
            <a:off x="684360" y="1268280"/>
            <a:ext cx="7416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"/>
          <p:cNvSpPr/>
          <p:nvPr/>
        </p:nvSpPr>
        <p:spPr>
          <a:xfrm>
            <a:off x="971640" y="984240"/>
            <a:ext cx="62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зовите единый номер службы спас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3"/>
          <a:stretch/>
        </p:blipFill>
        <p:spPr>
          <a:xfrm>
            <a:off x="1555920" y="2247840"/>
            <a:ext cx="5097240" cy="403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10"/>
          <p:cNvSpPr txBox="1"/>
          <p:nvPr/>
        </p:nvSpPr>
        <p:spPr>
          <a:xfrm>
            <a:off x="900000" y="549360"/>
            <a:ext cx="7129440" cy="58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9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 !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2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4920" y="907920"/>
            <a:ext cx="6985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дна из форм организованного насилия – это …</a:t>
            </a:r>
            <a:endParaRPr b="0" lang="en-US" sz="4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360" y="3141720"/>
            <a:ext cx="8229600" cy="2239920"/>
          </a:xfrm>
          <a:prstGeom prst="rect">
            <a:avLst/>
          </a:prstGeom>
          <a:noFill/>
          <a:ln w="7632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героизм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терроризм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) патриотизм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AutoShape 9"/>
          <p:cNvGrpSpPr/>
          <p:nvPr/>
        </p:nvGrpSpPr>
        <p:grpSpPr>
          <a:xfrm>
            <a:off x="6864480" y="6162840"/>
            <a:ext cx="2066760" cy="457200"/>
            <a:chOff x="6864480" y="6162840"/>
            <a:chExt cx="2066760" cy="457200"/>
          </a:xfrm>
        </p:grpSpPr>
        <p:pic>
          <p:nvPicPr>
            <p:cNvPr id="151" name="AutoShape 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6864480" y="6162840"/>
              <a:ext cx="20667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Прямая соединительная линия 6"/>
          <p:cNvSpPr/>
          <p:nvPr/>
        </p:nvSpPr>
        <p:spPr>
          <a:xfrm flipV="1">
            <a:off x="2701080" y="3933720"/>
            <a:ext cx="142920" cy="21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"/>
          <p:cNvPicPr/>
          <p:nvPr/>
        </p:nvPicPr>
        <p:blipFill>
          <a:blip r:embed="rId4"/>
          <a:stretch/>
        </p:blipFill>
        <p:spPr>
          <a:xfrm>
            <a:off x="2263680" y="3193920"/>
            <a:ext cx="158760" cy="22572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ая соединительная линия 8"/>
          <p:cNvSpPr/>
          <p:nvPr/>
        </p:nvSpPr>
        <p:spPr>
          <a:xfrm flipV="1">
            <a:off x="3059280" y="4652640"/>
            <a:ext cx="142560" cy="21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907920"/>
            <a:ext cx="6985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дна из форм организованного насилия – это …</a:t>
            </a:r>
            <a:endParaRPr b="0" lang="en-US" sz="4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8360" y="3141720"/>
            <a:ext cx="8229600" cy="2239920"/>
          </a:xfrm>
          <a:prstGeom prst="rect">
            <a:avLst/>
          </a:prstGeom>
          <a:noFill/>
          <a:ln w="7632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) терроризм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AutoShape 9"/>
          <p:cNvGrpSpPr/>
          <p:nvPr/>
        </p:nvGrpSpPr>
        <p:grpSpPr>
          <a:xfrm>
            <a:off x="6864480" y="6162840"/>
            <a:ext cx="2066760" cy="457200"/>
            <a:chOff x="6864480" y="6162840"/>
            <a:chExt cx="2066760" cy="457200"/>
          </a:xfrm>
        </p:grpSpPr>
        <p:pic>
          <p:nvPicPr>
            <p:cNvPr id="160" name="AutoShape 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6864480" y="6162840"/>
              <a:ext cx="20667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Прямая соединительная линия 6"/>
          <p:cNvSpPr/>
          <p:nvPr/>
        </p:nvSpPr>
        <p:spPr>
          <a:xfrm flipV="1">
            <a:off x="2770920" y="3933720"/>
            <a:ext cx="142920" cy="21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67784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юди, которых силой удерживают террористы являются …</a:t>
            </a:r>
            <a:endParaRPr b="0" lang="en-US" sz="4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95280" y="3213000"/>
            <a:ext cx="8229600" cy="2448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картёжникам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чертёжникам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) заложникам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AutoShape 10"/>
          <p:cNvGrpSpPr/>
          <p:nvPr/>
        </p:nvGrpSpPr>
        <p:grpSpPr>
          <a:xfrm>
            <a:off x="6864480" y="6162840"/>
            <a:ext cx="2066760" cy="457200"/>
            <a:chOff x="6864480" y="6162840"/>
            <a:chExt cx="2066760" cy="457200"/>
          </a:xfrm>
        </p:grpSpPr>
        <p:pic>
          <p:nvPicPr>
            <p:cNvPr id="167" name="AutoShape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6864480" y="6162840"/>
              <a:ext cx="20667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Прямая соединительная линия 6"/>
          <p:cNvSpPr/>
          <p:nvPr/>
        </p:nvSpPr>
        <p:spPr>
          <a:xfrm flipV="1">
            <a:off x="1978920" y="4727160"/>
            <a:ext cx="142920" cy="21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7"/>
          <p:cNvSpPr/>
          <p:nvPr/>
        </p:nvSpPr>
        <p:spPr>
          <a:xfrm flipV="1">
            <a:off x="2195640" y="3284280"/>
            <a:ext cx="144360" cy="142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8"/>
          <p:cNvSpPr/>
          <p:nvPr/>
        </p:nvSpPr>
        <p:spPr>
          <a:xfrm flipV="1">
            <a:off x="2121840" y="3862440"/>
            <a:ext cx="142920" cy="216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67784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юди, которых силой удерживают террористы являются …</a:t>
            </a:r>
            <a:endParaRPr b="0" lang="en-US" sz="4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95280" y="3213000"/>
            <a:ext cx="8229600" cy="2448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) </a:t>
            </a:r>
            <a:r>
              <a:rPr b="0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ложникам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AutoShape 10"/>
          <p:cNvGrpSpPr/>
          <p:nvPr/>
        </p:nvGrpSpPr>
        <p:grpSpPr>
          <a:xfrm>
            <a:off x="6864480" y="6162840"/>
            <a:ext cx="2066760" cy="457200"/>
            <a:chOff x="6864480" y="6162840"/>
            <a:chExt cx="2066760" cy="457200"/>
          </a:xfrm>
        </p:grpSpPr>
        <p:pic>
          <p:nvPicPr>
            <p:cNvPr id="176" name="AutoShape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6864480" y="6162840"/>
              <a:ext cx="20667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Прямая соединительная линия 6"/>
          <p:cNvSpPr/>
          <p:nvPr/>
        </p:nvSpPr>
        <p:spPr>
          <a:xfrm flipV="1">
            <a:off x="2050200" y="4005000"/>
            <a:ext cx="142920" cy="21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4800" y="1268280"/>
            <a:ext cx="756144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Возьмите в руки, откройте, разверните подозрительные сумки, пакеты, чемоданы, портфели. </a:t>
            </a:r>
            <a:br>
              <a:rPr sz="2900"/>
            </a:b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AutoShape 9"/>
          <p:cNvGrpSpPr/>
          <p:nvPr/>
        </p:nvGrpSpPr>
        <p:grpSpPr>
          <a:xfrm>
            <a:off x="6864480" y="6162840"/>
            <a:ext cx="2066760" cy="457200"/>
            <a:chOff x="6864480" y="6162840"/>
            <a:chExt cx="2066760" cy="457200"/>
          </a:xfrm>
        </p:grpSpPr>
        <p:pic>
          <p:nvPicPr>
            <p:cNvPr id="182" name="AutoShape 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6864480" y="6162840"/>
              <a:ext cx="20667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Picture 8" descr="N:\РАБОТА\Классные часы\Трагедия Беслана\20160927155227.jpg"/>
          <p:cNvPicPr/>
          <p:nvPr/>
        </p:nvPicPr>
        <p:blipFill>
          <a:blip r:embed="rId4"/>
          <a:stretch/>
        </p:blipFill>
        <p:spPr>
          <a:xfrm>
            <a:off x="250920" y="2781360"/>
            <a:ext cx="4105080" cy="2981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N:\РАБОТА\Классные часы\Трагедия Беслана\PM458image002.jpg"/>
          <p:cNvPicPr/>
          <p:nvPr/>
        </p:nvPicPr>
        <p:blipFill>
          <a:blip r:embed="rId5"/>
          <a:stretch/>
        </p:blipFill>
        <p:spPr>
          <a:xfrm>
            <a:off x="4529160" y="2781360"/>
            <a:ext cx="4213080" cy="29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4800" y="1268280"/>
            <a:ext cx="756144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Возьмите в руки, откройте, разверните подозрительные сумки, пакеты, чемоданы, портфели. </a:t>
            </a:r>
            <a:br>
              <a:rPr sz="2900"/>
            </a:b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AutoShape 9"/>
          <p:cNvGrpSpPr/>
          <p:nvPr/>
        </p:nvGrpSpPr>
        <p:grpSpPr>
          <a:xfrm>
            <a:off x="6864480" y="6162840"/>
            <a:ext cx="2066760" cy="457200"/>
            <a:chOff x="6864480" y="6162840"/>
            <a:chExt cx="2066760" cy="457200"/>
          </a:xfrm>
        </p:grpSpPr>
        <p:pic>
          <p:nvPicPr>
            <p:cNvPr id="189" name="AutoShape 9" descr=""/>
            <p:cNvPicPr/>
            <p:nvPr/>
          </p:nvPicPr>
          <p:blipFill>
            <a:blip r:embed="rId2"/>
            <a:stretch/>
          </p:blipFill>
          <p:spPr>
            <a:xfrm>
              <a:off x="6864480" y="6162840"/>
              <a:ext cx="20667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2" descr=""/>
          <p:cNvPicPr/>
          <p:nvPr/>
        </p:nvPicPr>
        <p:blipFill>
          <a:blip r:embed="rId3"/>
          <a:stretch/>
        </p:blipFill>
        <p:spPr>
          <a:xfrm>
            <a:off x="2771640" y="3213000"/>
            <a:ext cx="3322800" cy="245772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2"/>
          <p:cNvSpPr/>
          <p:nvPr/>
        </p:nvSpPr>
        <p:spPr>
          <a:xfrm>
            <a:off x="3107520" y="3573360"/>
            <a:ext cx="275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4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AutoShape 6"/>
          <p:cNvGrpSpPr/>
          <p:nvPr/>
        </p:nvGrpSpPr>
        <p:grpSpPr>
          <a:xfrm>
            <a:off x="6864480" y="6162840"/>
            <a:ext cx="2066760" cy="457200"/>
            <a:chOff x="6864480" y="6162840"/>
            <a:chExt cx="2066760" cy="457200"/>
          </a:xfrm>
        </p:grpSpPr>
        <p:pic>
          <p:nvPicPr>
            <p:cNvPr id="195" name="AutoShape 6" descr=""/>
            <p:cNvPicPr/>
            <p:nvPr/>
          </p:nvPicPr>
          <p:blipFill>
            <a:blip r:embed="rId2"/>
            <a:stretch/>
          </p:blipFill>
          <p:spPr>
            <a:xfrm>
              <a:off x="6864480" y="6162840"/>
              <a:ext cx="20667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324000" y="549360"/>
            <a:ext cx="7524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1"/>
          <p:cNvSpPr/>
          <p:nvPr/>
        </p:nvSpPr>
        <p:spPr>
          <a:xfrm>
            <a:off x="324000" y="539640"/>
            <a:ext cx="71276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Если увидели подозрительного человека, сообщите об этом родителям, учителям, сотрудникам правоохранительных орган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4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AutoShape 6"/>
          <p:cNvGrpSpPr/>
          <p:nvPr/>
        </p:nvGrpSpPr>
        <p:grpSpPr>
          <a:xfrm>
            <a:off x="6864480" y="6162840"/>
            <a:ext cx="2066760" cy="457200"/>
            <a:chOff x="6864480" y="6162840"/>
            <a:chExt cx="2066760" cy="457200"/>
          </a:xfrm>
        </p:grpSpPr>
        <p:pic>
          <p:nvPicPr>
            <p:cNvPr id="201" name="AutoShape 6" descr=""/>
            <p:cNvPicPr/>
            <p:nvPr/>
          </p:nvPicPr>
          <p:blipFill>
            <a:blip r:embed="rId2"/>
            <a:stretch/>
          </p:blipFill>
          <p:spPr>
            <a:xfrm>
              <a:off x="6864480" y="6162840"/>
              <a:ext cx="20667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9"/>
          <p:cNvSpPr/>
          <p:nvPr/>
        </p:nvSpPr>
        <p:spPr>
          <a:xfrm>
            <a:off x="324000" y="549360"/>
            <a:ext cx="7524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"/>
          <p:cNvSpPr/>
          <p:nvPr/>
        </p:nvSpPr>
        <p:spPr>
          <a:xfrm>
            <a:off x="324000" y="539640"/>
            <a:ext cx="71276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Если увидели подозрительного человека, сообщите об этом родителям, учителям, сотрудникам правоохранительных орган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124080" y="3573360"/>
            <a:ext cx="3241800" cy="23767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7"/>
          <p:cNvSpPr/>
          <p:nvPr/>
        </p:nvSpPr>
        <p:spPr>
          <a:xfrm>
            <a:off x="3795120" y="3860640"/>
            <a:ext cx="189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02:25:06Z</dcterms:created>
  <dc:creator>Ольга</dc:creator>
  <dc:description/>
  <dc:language>en-US</dc:language>
  <cp:lastModifiedBy>user</cp:lastModifiedBy>
  <dcterms:modified xsi:type="dcterms:W3CDTF">2017-11-21T02:37:40Z</dcterms:modified>
  <cp:revision>96</cp:revision>
  <dc:subject/>
  <dc:title>Слайд 1</dc:title>
</cp:coreProperties>
</file>