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F3C-615C-4344-A944-3055CA73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CD7-962B-441D-B86C-FCFC1BE0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1C4-F34E-436C-A8B1-E7106EA2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747-48F8-462A-ADCF-B45C608D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A115-2628-4B37-9B26-32FD2540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B0F-AD81-494E-A6CB-70636F3A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4B3C-5BD1-4516-98DA-201D2898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6558-75A2-4B6F-B95E-A230B4C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2A3-CCE4-4689-BF22-6AE12E6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4F2B-051D-4405-A2D6-9E13F6C8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69D2-3134-4A1E-9F6C-3937975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DAF-C0DA-44CC-BD82-7ADA6B63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712B-0D5E-4A7E-818B-4C4BDEF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B6F1-8861-4874-A05D-61F4921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E949-7268-48D7-A125-4B4B69BC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B6C-8009-4267-95BD-E28B5A0D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65B5-7544-457E-B29F-F99CF426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B735-1894-4646-8E02-5A6D0363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B0AE-7ABD-459E-81D3-258D8BFC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BE12-2C2E-4777-A8E9-90E8C872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6B830-DC62-4C2D-A834-6599A333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64CD-8761-4C2B-A19C-2BA39CF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CDA-2AB3-434F-95AA-E36D49AF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AEBA-CD19-4634-B926-D6A3AB04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0428-AC58-4E3E-9E9B-27F4F7F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08B6-FB43-4D95-B21A-8E5F2E18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BC69-C668-49F0-96D2-FB0B2372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CA3CA-2751-4174-B9B4-EAFD3851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B543-8A3A-4A16-9E1F-9336B7B8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3881-E1DE-4397-A088-06D6B40C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986B-1C21-4950-97F1-9BA47E69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699D-2D01-4907-9089-CEAE1546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F1FD-A747-447C-8CB0-0657485F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7D9-FE66-49A8-87DA-3414E75A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75B4-27B4-40D6-8309-BC47692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BE90-928E-4A1A-8EA5-5845A22A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B647-F91E-4DD4-864D-96C7C78A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51EF-D855-494F-B2C6-6D30187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55D4-CAE1-4561-8DFC-461C36E5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88BE-B4D8-4ADA-BCEC-BC793DC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DF93-BEC0-49CE-B7AB-68BFA94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7829-D053-4137-9CC6-B68090CF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04B1-15E9-47FD-90FA-3E972054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07CDF-7EC9-4DE3-BFC7-B8398F40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3B4-2EE0-490B-ABDE-689E811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F9C8-1C86-4DA0-8DA8-6F0B76F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0F93-EEB8-4E1B-B45E-F88D0D7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81F0-8EE6-43BE-BEEC-5DA1992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572B-C606-4F83-841E-75C0262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C500-DAC9-48AF-845B-C77BC4C7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CDFA-2ACE-4801-8D3F-563EE61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4D1F-7E0D-403D-B70C-81AA4AA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6CAC-039D-4079-8D1F-8FFAAFC2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2ECB-43F7-4158-93B8-5BF9DA67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0F46F-6ED3-48E5-9E04-E8D91089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5F2-42D8-4B7B-B84F-89A4CC89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283A-4B9D-4404-94F2-2CF210C6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34EB-E808-4070-B484-D88A6F14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7F175-5412-4C07-8EEA-B1C70872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11C1-D41D-4157-A450-F4D59E1D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C8D3C-2284-477E-8406-78D689F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1E75-3794-4E8C-A1FB-6695E7F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C520-F799-46CF-8042-FEA04E1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D5FFD-BE7D-4387-ACAC-1CFDF59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F394D-6653-4AB9-BC7A-58A9FD2A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7413-CE7C-4AA0-89EE-1626B3B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945-4344-4DF1-AD49-E92021D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4BB9-C5D1-4894-AB88-4BC2B15B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B882-975F-4522-88FC-C1231251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C1EE-3CA9-455A-AA5F-949A1E2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DD0-B483-45C3-A525-AE4840A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E07-8049-491A-9B46-F6FF857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604-E025-418B-8B83-8B70D5169EA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46F8-14FF-4D5E-9112-5B23C54DEF0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6280-4E5A-4EB3-A913-C015BC3AFC0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63F6-152D-4254-AB5B-DC8E0D67693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D58-9D8D-4D65-948C-4654FC25F05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19D3-2571-4BBE-B533-D8D22FDE653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C:\Documents and Settings\&#1040;&#1076;&#1084;&#1080;&#1085;&#1080;&#1089;&#1090;&#1088;&#1072;&#1090;&#1086;&#1088;\&#1056;&#1072;&#1073;&#1086;&#1095;&#1080;&#1081; &#1089;&#1090;&#1086;&#1083;\&#1082;&#1074;&#1072;&#1076;&#1088;&#1072;&#1090;&#1085;&#1099;&#1081; &#1082;&#1086;&#1088;&#1077;&#1085;&#1100;\27.ex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4"/>
          <p:cNvSpPr txBox="1"/>
          <p:nvPr/>
        </p:nvSpPr>
        <p:spPr>
          <a:xfrm>
            <a:off x="1752480" y="6858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рифметическ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е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7" name="Picture 5" descr="p8519"/>
          <p:cNvPicPr/>
          <p:nvPr/>
        </p:nvPicPr>
        <p:blipFill>
          <a:blip r:embed="rId1"/>
          <a:stretch/>
        </p:blipFill>
        <p:spPr>
          <a:xfrm>
            <a:off x="533520" y="3352680"/>
            <a:ext cx="2273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4">
            <a:hlinkClick r:id="rId1"/>
          </p:cNvPr>
          <p:cNvSpPr/>
          <p:nvPr/>
        </p:nvSpPr>
        <p:spPr>
          <a:xfrm>
            <a:off x="6095880" y="3352680"/>
            <a:ext cx="1219320" cy="14479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447920"/>
              <a:gd name="textAreaBottom" fmla="*/ 1369080 h 1447920"/>
            </a:gdLst>
            <a:ahLst/>
            <a:rect l="textAreaLeft" t="textAreaTop" r="textAreaRight" b="textAreaBottom"/>
            <a:pathLst>
              <a:path w="21600" h="25648">
                <a:moveTo>
                  <a:pt x="0" y="0"/>
                </a:moveTo>
                <a:lnTo>
                  <a:pt x="21600" y="0"/>
                </a:lnTo>
                <a:lnTo>
                  <a:pt x="21600" y="25648"/>
                </a:lnTo>
                <a:lnTo>
                  <a:pt x="0" y="25648"/>
                </a:lnTo>
                <a:close/>
              </a:path>
              <a:path fill="lightenLess" w="21600" h="25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8">
                <a:moveTo>
                  <a:pt x="21600" y="0"/>
                </a:moveTo>
                <a:lnTo>
                  <a:pt x="21600" y="25648"/>
                </a:lnTo>
                <a:lnTo>
                  <a:pt x="20200" y="24248"/>
                </a:lnTo>
                <a:lnTo>
                  <a:pt x="20200" y="1400"/>
                </a:lnTo>
                <a:close/>
              </a:path>
              <a:path fill="darkenLess" w="21600" h="25648">
                <a:moveTo>
                  <a:pt x="21600" y="25648"/>
                </a:moveTo>
                <a:lnTo>
                  <a:pt x="0" y="25648"/>
                </a:lnTo>
                <a:lnTo>
                  <a:pt x="1400" y="24248"/>
                </a:lnTo>
                <a:lnTo>
                  <a:pt x="20200" y="24248"/>
                </a:lnTo>
                <a:close/>
              </a:path>
              <a:path fill="lighten" w="21600" h="25648">
                <a:moveTo>
                  <a:pt x="0" y="25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8"/>
                </a:lnTo>
                <a:close/>
              </a:path>
              <a:path fill="darkenLess" w="21600" h="25648">
                <a:moveTo>
                  <a:pt x="5273" y="6009"/>
                </a:moveTo>
                <a:lnTo>
                  <a:pt x="12271" y="6009"/>
                </a:lnTo>
                <a:lnTo>
                  <a:pt x="16327" y="9508"/>
                </a:lnTo>
                <a:lnTo>
                  <a:pt x="16327" y="19639"/>
                </a:lnTo>
                <a:lnTo>
                  <a:pt x="5273" y="19639"/>
                </a:lnTo>
                <a:close/>
              </a:path>
              <a:path fill="darken" w="21600" h="25648">
                <a:moveTo>
                  <a:pt x="12271" y="6009"/>
                </a:moveTo>
                <a:lnTo>
                  <a:pt x="16327" y="9508"/>
                </a:lnTo>
                <a:lnTo>
                  <a:pt x="12271" y="9508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rebuchet MS"/>
              </a:rPr>
              <a:t>Тест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rebuchet MS"/>
              </a:rPr>
              <a:t>Найти значение квадратного корн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9" name="Picture 8" descr="i?id=65561379&amp;tov=3"/>
          <p:cNvPicPr/>
          <p:nvPr/>
        </p:nvPicPr>
        <p:blipFill>
          <a:blip r:embed="rId2"/>
          <a:stretch/>
        </p:blipFill>
        <p:spPr>
          <a:xfrm>
            <a:off x="1143000" y="2819520"/>
            <a:ext cx="2379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rebuchet MS"/>
              </a:rPr>
              <a:t>Итог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33520" y="1523880"/>
            <a:ext cx="6705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улировать определение арифметического квадратного кор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ошибк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6"/>
              <p:cNvSpPr txBox="1"/>
              <p:nvPr/>
            </p:nvSpPr>
            <p:spPr>
              <a:xfrm>
                <a:off x="2971800" y="2286000"/>
                <a:ext cx="2516040" cy="38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омашнее задани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. 20 (знать определение арифметического квадратного корн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№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11, 31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96" name="Picture 5" descr="i?id=153470312&amp;tov=7"/>
          <p:cNvPicPr/>
          <p:nvPr/>
        </p:nvPicPr>
        <p:blipFill>
          <a:blip r:embed="rId1"/>
          <a:stretch/>
        </p:blipFill>
        <p:spPr>
          <a:xfrm>
            <a:off x="5029200" y="3733920"/>
            <a:ext cx="28195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rebuchet MS"/>
              </a:rPr>
              <a:t>Цели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ассмотреть определение арифметического квадратного кор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аучиться находить арифметические квадратные корн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аботать над развитием математической реч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ес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609480" y="1295280"/>
            <a:ext cx="800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1.Вычислить: 6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12;              Б) 36;         В) 8;      Г) не зн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2. Вычислить:  0,8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6,4;              Б) 1,6;             В) 0,64;               Г) 0,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3. Вычислить: - 7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49;     Б) - 49;     В) 14;         Г) –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4. Вычислить (-0,05)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0,1;       Б) 0,0025;     В) -0,0025;    Г) -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5. Какое число или числа нужно поставить вместо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, чтобы получилось верное равенство 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20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= 16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4;     Б) - 4;    В) 4 или - 4;    Г) 8 или 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ка тес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57200" y="1600200"/>
          <a:ext cx="8229600" cy="1828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81" descr="i?id=16731528&amp;tov=8"/>
          <p:cNvPicPr/>
          <p:nvPr/>
        </p:nvPicPr>
        <p:blipFill>
          <a:blip r:embed="rId1"/>
          <a:stretch/>
        </p:blipFill>
        <p:spPr>
          <a:xfrm>
            <a:off x="2666880" y="3733920"/>
            <a:ext cx="35053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457200" y="1828800"/>
            <a:ext cx="3200400" cy="3200400"/>
          </a:xfrm>
          <a:prstGeom prst="rect">
            <a:avLst/>
          </a:prstGeom>
          <a:solidFill>
            <a:srgbClr val="b9d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62120" y="457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«Площадь земельного участка  64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торону этого участ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809880" y="31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678320" y="52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343400" y="1371600"/>
            <a:ext cx="411480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: Пусть сторона земельного участка будет х м. Зная, что площадь квадрата находится по форму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авим уравнение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4. Решим это уравнение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64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 – 8)(х + 8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– 8 = 0,  х + 8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= 8             х 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609480" y="380880"/>
            <a:ext cx="815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8 и – 8 называются квадратными корнями из числа 64. Одно из них положительное. Это число называют арифметическим квадратным корнем и обозначают           .   Таким образ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рифметическим квадратным корнем из числа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называется неотрицательное число, квадрат которого равен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3352680" y="2895480"/>
                <a:ext cx="202572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2" name="Text Box 6"/>
          <p:cNvSpPr/>
          <p:nvPr/>
        </p:nvSpPr>
        <p:spPr>
          <a:xfrm>
            <a:off x="4556160" y="605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5486400" y="3200400"/>
            <a:ext cx="3352680" cy="685800"/>
          </a:xfrm>
          <a:prstGeom prst="wedgeRoundRectCallout">
            <a:avLst>
              <a:gd name="adj1" fmla="val -64537"/>
              <a:gd name="adj2" fmla="val 69907"/>
              <a:gd name="adj3" fmla="val 16667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5640840" y="3352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одкоренное 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 flipH="1" rot="20484600">
            <a:off x="0" y="4191120"/>
            <a:ext cx="2895480" cy="685800"/>
          </a:xfrm>
          <a:prstGeom prst="wedgeRoundRectCallout">
            <a:avLst>
              <a:gd name="adj1" fmla="val -88393"/>
              <a:gd name="adj2" fmla="val 12875"/>
              <a:gd name="adj3" fmla="val 16667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Знак арифметического квадратного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981080" y="48006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Арифметический квадратный корень из чис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1"/>
              <p:cNvSpPr txBox="1"/>
              <p:nvPr/>
            </p:nvSpPr>
            <p:spPr>
              <a:xfrm>
                <a:off x="1066680" y="5410080"/>
                <a:ext cx="7250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3"/>
              <p:cNvSpPr txBox="1"/>
              <p:nvPr/>
            </p:nvSpPr>
            <p:spPr>
              <a:xfrm>
                <a:off x="6934320" y="990720"/>
                <a:ext cx="5731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4"/>
              <p:cNvSpPr txBox="1"/>
              <p:nvPr/>
            </p:nvSpPr>
            <p:spPr>
              <a:xfrm>
                <a:off x="1828800" y="1295280"/>
                <a:ext cx="106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Важно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2286000" y="1371600"/>
                <a:ext cx="533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3"/>
              <p:cNvSpPr txBox="1"/>
              <p:nvPr/>
            </p:nvSpPr>
            <p:spPr>
              <a:xfrm>
                <a:off x="3352680" y="2362320"/>
                <a:ext cx="26654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а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5"/>
              <p:cNvSpPr txBox="1"/>
              <p:nvPr/>
            </p:nvSpPr>
            <p:spPr>
              <a:xfrm>
                <a:off x="609480" y="4361040"/>
                <a:ext cx="78501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пример</m:t>
                    </m:r>
                    <m:r>
                      <m:t xml:space="preserve">: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,6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Text Box 8"/>
          <p:cNvSpPr/>
          <p:nvPr/>
        </p:nvSpPr>
        <p:spPr>
          <a:xfrm>
            <a:off x="4572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2895480" y="1371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смысл только пр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53352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юб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 котором выражение имеет смысл, верн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0880" y="4275000"/>
          <a:ext cx="8229600" cy="2590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ч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ая по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ext Box 6"/>
          <p:cNvSpPr/>
          <p:nvPr/>
        </p:nvSpPr>
        <p:spPr>
          <a:xfrm>
            <a:off x="83808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Индейское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 rot="16200000">
            <a:off x="838080" y="1295280"/>
            <a:ext cx="457200" cy="762120"/>
          </a:xfrm>
          <a:prstGeom prst="flowChartDelay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538200" y="1442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2286000" y="1371600"/>
            <a:ext cx="762120" cy="762120"/>
          </a:xfrm>
          <a:prstGeom prst="ellipse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2666880" y="1066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1"/>
          <p:cNvSpPr/>
          <p:nvPr/>
        </p:nvSpPr>
        <p:spPr>
          <a:xfrm>
            <a:off x="3048120" y="175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"/>
          <p:cNvSpPr/>
          <p:nvPr/>
        </p:nvSpPr>
        <p:spPr>
          <a:xfrm>
            <a:off x="2666880" y="2133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>
            <a:off x="1981080" y="1752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14"/>
          <p:cNvSpPr/>
          <p:nvPr/>
        </p:nvSpPr>
        <p:spPr>
          <a:xfrm flipH="1" flipV="1" rot="5400000">
            <a:off x="4290120" y="818280"/>
            <a:ext cx="866880" cy="1671840"/>
          </a:xfrm>
          <a:custGeom>
            <a:avLst/>
            <a:gdLst/>
            <a:ahLst/>
            <a:rect l="l" t="t" r="r" b="b"/>
            <a:pathLst>
              <a:path fill="none" w="25678" h="43200">
                <a:moveTo>
                  <a:pt x="1028" y="216"/>
                </a:moveTo>
                <a:cubicBezTo>
                  <a:pt x="2038" y="72"/>
                  <a:pt x="3057" y="0"/>
                  <a:pt x="4078" y="0"/>
                </a:cubicBezTo>
                <a:cubicBezTo>
                  <a:pt x="16007" y="0"/>
                  <a:pt x="25678" y="9670"/>
                  <a:pt x="25678" y="21600"/>
                </a:cubicBezTo>
                <a:cubicBezTo>
                  <a:pt x="25678" y="-32007"/>
                  <a:pt x="16007" y="-22336"/>
                  <a:pt x="4078" y="-22336"/>
                </a:cubicBezTo>
                <a:cubicBezTo>
                  <a:pt x="2709" y="-22336"/>
                  <a:pt x="1344" y="-22467"/>
                  <a:pt x="0" y="-22725"/>
                </a:cubicBezTo>
              </a:path>
              <a:path stroke="0" w="25678" h="43200">
                <a:moveTo>
                  <a:pt x="1028" y="216"/>
                </a:moveTo>
                <a:cubicBezTo>
                  <a:pt x="2038" y="72"/>
                  <a:pt x="3057" y="0"/>
                  <a:pt x="4078" y="0"/>
                </a:cubicBezTo>
                <a:cubicBezTo>
                  <a:pt x="16007" y="0"/>
                  <a:pt x="25678" y="9670"/>
                  <a:pt x="25678" y="21600"/>
                </a:cubicBezTo>
                <a:cubicBezTo>
                  <a:pt x="25678" y="-32007"/>
                  <a:pt x="16007" y="-22336"/>
                  <a:pt x="4078" y="-22336"/>
                </a:cubicBezTo>
                <a:cubicBezTo>
                  <a:pt x="2709" y="-22336"/>
                  <a:pt x="1344" y="-22467"/>
                  <a:pt x="0" y="-22725"/>
                </a:cubicBezTo>
                <a:lnTo>
                  <a:pt x="4078" y="21600"/>
                </a:lnTo>
                <a:lnTo>
                  <a:pt x="1028" y="21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629400" y="1371600"/>
            <a:ext cx="609480" cy="609480"/>
          </a:xfrm>
          <a:prstGeom prst="ellipse">
            <a:avLst/>
          </a:prstGeom>
          <a:solidFill>
            <a:srgbClr val="90c2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6886440" y="1643040"/>
            <a:ext cx="76320" cy="76320"/>
          </a:xfrm>
          <a:prstGeom prst="ellipse">
            <a:avLst/>
          </a:prstGeom>
          <a:solidFill>
            <a:srgbClr val="90c22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6934320" y="1143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6934320" y="1981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7238880" y="1676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 flipH="1">
            <a:off x="6248520" y="1676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2"/>
          <p:cNvSpPr/>
          <p:nvPr/>
        </p:nvSpPr>
        <p:spPr>
          <a:xfrm rot="5400000">
            <a:off x="3924000" y="2857320"/>
            <a:ext cx="762120" cy="83808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3"/>
          <p:cNvSpPr/>
          <p:nvPr/>
        </p:nvSpPr>
        <p:spPr>
          <a:xfrm>
            <a:off x="5638680" y="2590920"/>
            <a:ext cx="1067040" cy="1066680"/>
          </a:xfrm>
          <a:prstGeom prst="ellipse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 flipV="1">
            <a:off x="5943600" y="3009600"/>
            <a:ext cx="452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>
            <a:off x="5896080" y="292428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6172200" y="27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7"/>
          <p:cNvSpPr/>
          <p:nvPr/>
        </p:nvSpPr>
        <p:spPr>
          <a:xfrm>
            <a:off x="1523880" y="2743200"/>
            <a:ext cx="1332000" cy="985680"/>
          </a:xfrm>
          <a:custGeom>
            <a:avLst/>
            <a:gdLst/>
            <a:ahLst/>
            <a:rect l="l" t="t" r="r" b="b"/>
            <a:pathLst>
              <a:path w="839" h="621">
                <a:moveTo>
                  <a:pt x="7" y="0"/>
                </a:moveTo>
                <a:cubicBezTo>
                  <a:pt x="13" y="62"/>
                  <a:pt x="0" y="149"/>
                  <a:pt x="71" y="173"/>
                </a:cubicBezTo>
                <a:cubicBezTo>
                  <a:pt x="135" y="217"/>
                  <a:pt x="149" y="199"/>
                  <a:pt x="245" y="192"/>
                </a:cubicBezTo>
                <a:cubicBezTo>
                  <a:pt x="236" y="195"/>
                  <a:pt x="225" y="194"/>
                  <a:pt x="218" y="201"/>
                </a:cubicBezTo>
                <a:cubicBezTo>
                  <a:pt x="189" y="230"/>
                  <a:pt x="198" y="360"/>
                  <a:pt x="236" y="384"/>
                </a:cubicBezTo>
                <a:cubicBezTo>
                  <a:pt x="260" y="399"/>
                  <a:pt x="291" y="402"/>
                  <a:pt x="318" y="411"/>
                </a:cubicBezTo>
                <a:cubicBezTo>
                  <a:pt x="327" y="414"/>
                  <a:pt x="346" y="420"/>
                  <a:pt x="346" y="420"/>
                </a:cubicBezTo>
                <a:cubicBezTo>
                  <a:pt x="379" y="417"/>
                  <a:pt x="413" y="418"/>
                  <a:pt x="446" y="411"/>
                </a:cubicBezTo>
                <a:cubicBezTo>
                  <a:pt x="455" y="409"/>
                  <a:pt x="458" y="398"/>
                  <a:pt x="465" y="393"/>
                </a:cubicBezTo>
                <a:cubicBezTo>
                  <a:pt x="474" y="386"/>
                  <a:pt x="492" y="375"/>
                  <a:pt x="492" y="375"/>
                </a:cubicBezTo>
                <a:cubicBezTo>
                  <a:pt x="467" y="451"/>
                  <a:pt x="488" y="506"/>
                  <a:pt x="529" y="567"/>
                </a:cubicBezTo>
                <a:cubicBezTo>
                  <a:pt x="535" y="576"/>
                  <a:pt x="537" y="591"/>
                  <a:pt x="547" y="594"/>
                </a:cubicBezTo>
                <a:cubicBezTo>
                  <a:pt x="585" y="607"/>
                  <a:pt x="566" y="598"/>
                  <a:pt x="602" y="621"/>
                </a:cubicBezTo>
                <a:cubicBezTo>
                  <a:pt x="648" y="618"/>
                  <a:pt x="694" y="619"/>
                  <a:pt x="739" y="612"/>
                </a:cubicBezTo>
                <a:cubicBezTo>
                  <a:pt x="763" y="608"/>
                  <a:pt x="787" y="575"/>
                  <a:pt x="812" y="567"/>
                </a:cubicBezTo>
                <a:cubicBezTo>
                  <a:pt x="821" y="558"/>
                  <a:pt x="839" y="539"/>
                  <a:pt x="839" y="53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8"/>
          <p:cNvSpPr/>
          <p:nvPr/>
        </p:nvSpPr>
        <p:spPr>
          <a:xfrm flipH="1">
            <a:off x="1371240" y="29718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 flipH="1">
            <a:off x="1523520" y="308124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0"/>
          <p:cNvSpPr/>
          <p:nvPr/>
        </p:nvSpPr>
        <p:spPr>
          <a:xfrm flipH="1">
            <a:off x="1676160" y="33336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1"/>
          <p:cNvSpPr/>
          <p:nvPr/>
        </p:nvSpPr>
        <p:spPr>
          <a:xfrm flipH="1">
            <a:off x="1928520" y="3429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2"/>
          <p:cNvSpPr/>
          <p:nvPr/>
        </p:nvSpPr>
        <p:spPr>
          <a:xfrm flipH="1">
            <a:off x="2123640" y="36241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9144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289548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45720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6"/>
          <p:cNvSpPr/>
          <p:nvPr/>
        </p:nvSpPr>
        <p:spPr>
          <a:xfrm>
            <a:off x="73152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7"/>
          <p:cNvSpPr/>
          <p:nvPr/>
        </p:nvSpPr>
        <p:spPr>
          <a:xfrm>
            <a:off x="13716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8"/>
          <p:cNvSpPr/>
          <p:nvPr/>
        </p:nvSpPr>
        <p:spPr>
          <a:xfrm>
            <a:off x="47242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9"/>
          <p:cNvSpPr/>
          <p:nvPr/>
        </p:nvSpPr>
        <p:spPr>
          <a:xfrm>
            <a:off x="67057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1066680" y="2286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371600" y="91440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ая по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Text Box 43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шифрованное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воскресенье ночью шел дождь, сегодня днем – солнце, ясная по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305</dc:creator>
  <dc:description/>
  <dc:language>en-US</dc:language>
  <cp:lastModifiedBy>user</cp:lastModifiedBy>
  <cp:lastPrinted>2019-10-31T22:06:48Z</cp:lastPrinted>
  <dcterms:modified xsi:type="dcterms:W3CDTF">2024-02-08T02:48:2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