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738-D385-4311-A4F9-411313F8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DCA-D336-4B43-98EC-BDAD7C8A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C29-4DBF-4698-81FC-21BBD136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274D-23C9-40B0-846C-6D03DB13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9A2A-1589-4EAC-B17E-D0D850F1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FC43-9664-42EF-878F-96682433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B818-F363-4D35-8ABE-3C9B8768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6E81-2694-434E-96E8-1CAEC4FB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F737-11A7-46CB-90F2-8F66A08C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7667-0342-4AB9-84DC-15B5F17F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E751-48F8-4093-801A-5ECCBAB6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C50-5447-401A-B41D-D50E0244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07DF-3EC7-4BB3-A13F-4D119A75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4E67-1220-4226-A2A8-FB5350F5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7EA7-7CA6-4CEE-A3F2-C73144AA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3525-9885-4790-B68D-A3C33A93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9BAD-6C5F-4FD5-9D7D-5F115B1B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D791F-9DF9-4C38-98D0-C4C0ACD0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5814A-D925-4AE8-98E7-B4D427DE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3EFB2-26FA-4F36-8DF9-AC5EDE77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E6294-AC77-40B9-984F-8E6D4B94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18E21-9EC1-431D-9887-5D5FFCA3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3D8-8DC4-4B0B-BF54-39C64E4A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DC67C-1F16-4B1D-909E-8C2246A3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C4571-9735-4E94-83A8-44802C55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2CC73-0FAB-4F35-893E-7E6CCAF4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F5114-C7DB-479F-98FD-236FD768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86E2B-783D-4396-B19C-1BBA1376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3C05D-848F-4A59-88AA-E62EC361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07931-3135-4AB2-B005-529ECB4C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18662-039D-48DA-9D52-7885853C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BE1B2-7745-45BC-AAB3-4CA5987E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AECD9-2198-4106-9173-9AB8A3E0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2FC-5DBE-4609-AA79-BDCB917D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B446E-190E-4F74-B171-80B7DA63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E5613-051F-4441-A37D-FBD27434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46C4D-D434-4C33-9B44-444ADBBA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B2AA7-68AE-4EF8-B3F6-C698E897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1894B-4372-466B-AE23-FD71E367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95D8F-6CF7-4100-8871-20A9986C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0065E-6EE8-4A9C-B2E9-3A8B9DD0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358FB-F0D8-41B9-9D6B-7393364D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C680C-72E3-467C-9264-512CCA01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1D718-E787-44FE-A6C0-95C15D6D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091-B268-420E-9185-BE821D39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40064-A4E0-4BBB-83FD-B1CAE0F4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77499-4BD8-436C-B62A-82CF4363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48B7D-0B0B-497C-8A78-F9BAD6BC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4B35B-26C7-41C4-A36C-9257B541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4255A-D2A3-46B6-8BB8-6175E3FA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EAF03-EF4F-4836-8F78-5B95119E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A8DE3-1A4F-408D-811F-0DABDC3C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09049-B50A-4305-A3EF-920049FD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3A81C-CFC3-47EA-96A3-2A6C97E0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A45E1-C173-4EB7-86D8-6779774C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16DB-FDE8-47C3-A684-3E29A519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887B6-276B-4A5D-9284-D3F25795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D9FB6-39C8-49DF-BB82-70424EAB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18602-B134-417D-B9AA-12EA7600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B85A7-C3CA-4AF6-A869-374CA378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35CEE-A84E-470F-84C0-513C4250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93EEC-28E8-45E9-864F-9DCC2FE8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87495-097A-46C3-BAD6-AF90A49D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DB46E-2D6F-4A1F-8C05-932D76B1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6F085-BF45-49C7-B226-BD86A50A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7DB21-4C1D-487D-8AC9-4222C779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8E5C-3007-4398-A33E-181616B6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3ABF3-6DA1-4A06-80F5-ADCA4918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3B854-8110-416D-8F0D-9898940F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95622-A727-4736-B09E-A719D25F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8FE-0841-4894-849C-1D52A1D6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77E7-AA4B-468E-BAFC-EB43AFF8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8A62-6C43-45EA-AA96-A26401678778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27D0-EC4A-408A-97F9-A591999E63CB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DFFC-B944-4B94-A002-322CB4517E18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DB78-7BDE-47FA-B0FA-64482BD44E58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E0A1-CC38-41C6-B39E-0E6AB1BF2EF3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A7F9-1104-44B1-AA8D-D7110D07FD6A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C:\Documents and Settings\&#1040;&#1076;&#1084;&#1080;&#1085;&#1080;&#1089;&#1090;&#1088;&#1072;&#1090;&#1086;&#1088;\&#1056;&#1072;&#1073;&#1086;&#1095;&#1080;&#1081; &#1089;&#1090;&#1086;&#1083;\&#1082;&#1074;&#1072;&#1076;&#1088;&#1072;&#1090;&#1085;&#1099;&#1081; &#1082;&#1086;&#1088;&#1077;&#1085;&#1100;\27.ex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4"/>
          <p:cNvSpPr txBox="1"/>
          <p:nvPr/>
        </p:nvSpPr>
        <p:spPr>
          <a:xfrm>
            <a:off x="1752480" y="685800"/>
            <a:ext cx="66294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рифметический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вадрат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рен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7" name="Picture 5" descr="p8519"/>
          <p:cNvPicPr/>
          <p:nvPr/>
        </p:nvPicPr>
        <p:blipFill>
          <a:blip r:embed="rId1"/>
          <a:stretch/>
        </p:blipFill>
        <p:spPr>
          <a:xfrm>
            <a:off x="533520" y="3352680"/>
            <a:ext cx="2273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AutoShape 4">
            <a:hlinkClick r:id="rId1"/>
          </p:cNvPr>
          <p:cNvSpPr/>
          <p:nvPr/>
        </p:nvSpPr>
        <p:spPr>
          <a:xfrm>
            <a:off x="6095880" y="3352680"/>
            <a:ext cx="1219320" cy="14479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447920"/>
              <a:gd name="textAreaBottom" fmla="*/ 1369080 h 1447920"/>
            </a:gdLst>
            <a:ahLst/>
            <a:rect l="textAreaLeft" t="textAreaTop" r="textAreaRight" b="textAreaBottom"/>
            <a:pathLst>
              <a:path w="21600" h="25648">
                <a:moveTo>
                  <a:pt x="0" y="0"/>
                </a:moveTo>
                <a:lnTo>
                  <a:pt x="21600" y="0"/>
                </a:lnTo>
                <a:lnTo>
                  <a:pt x="21600" y="25648"/>
                </a:lnTo>
                <a:lnTo>
                  <a:pt x="0" y="25648"/>
                </a:lnTo>
                <a:close/>
              </a:path>
              <a:path fill="lightenLess" w="21600" h="25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48">
                <a:moveTo>
                  <a:pt x="21600" y="0"/>
                </a:moveTo>
                <a:lnTo>
                  <a:pt x="21600" y="25648"/>
                </a:lnTo>
                <a:lnTo>
                  <a:pt x="20200" y="24248"/>
                </a:lnTo>
                <a:lnTo>
                  <a:pt x="20200" y="1400"/>
                </a:lnTo>
                <a:close/>
              </a:path>
              <a:path fill="darkenLess" w="21600" h="25648">
                <a:moveTo>
                  <a:pt x="21600" y="25648"/>
                </a:moveTo>
                <a:lnTo>
                  <a:pt x="0" y="25648"/>
                </a:lnTo>
                <a:lnTo>
                  <a:pt x="1400" y="24248"/>
                </a:lnTo>
                <a:lnTo>
                  <a:pt x="20200" y="24248"/>
                </a:lnTo>
                <a:close/>
              </a:path>
              <a:path fill="lighten" w="21600" h="25648">
                <a:moveTo>
                  <a:pt x="0" y="25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48"/>
                </a:lnTo>
                <a:close/>
              </a:path>
              <a:path fill="darkenLess" w="21600" h="25648">
                <a:moveTo>
                  <a:pt x="5273" y="6009"/>
                </a:moveTo>
                <a:lnTo>
                  <a:pt x="12271" y="6009"/>
                </a:lnTo>
                <a:lnTo>
                  <a:pt x="16327" y="9508"/>
                </a:lnTo>
                <a:lnTo>
                  <a:pt x="16327" y="19639"/>
                </a:lnTo>
                <a:lnTo>
                  <a:pt x="5273" y="19639"/>
                </a:lnTo>
                <a:close/>
              </a:path>
              <a:path fill="darken" w="21600" h="25648">
                <a:moveTo>
                  <a:pt x="12271" y="6009"/>
                </a:moveTo>
                <a:lnTo>
                  <a:pt x="16327" y="9508"/>
                </a:lnTo>
                <a:lnTo>
                  <a:pt x="12271" y="9508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Trebuchet MS"/>
              </a:rPr>
              <a:t>Тест 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47920" y="2133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Trebuchet MS"/>
              </a:rPr>
              <a:t>Найти значение квадратного корня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89" name="Picture 8" descr="i?id=65561379&amp;tov=3"/>
          <p:cNvPicPr/>
          <p:nvPr/>
        </p:nvPicPr>
        <p:blipFill>
          <a:blip r:embed="rId2"/>
          <a:stretch/>
        </p:blipFill>
        <p:spPr>
          <a:xfrm>
            <a:off x="1143000" y="2819520"/>
            <a:ext cx="23796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rebuchet MS"/>
              </a:rPr>
              <a:t>Итог урока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533520" y="1523880"/>
            <a:ext cx="6705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ормулировать определение арифметического квадратного кор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ошибк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6"/>
              <p:cNvSpPr txBox="1"/>
              <p:nvPr/>
            </p:nvSpPr>
            <p:spPr>
              <a:xfrm>
                <a:off x="2971800" y="2286000"/>
                <a:ext cx="2516040" cy="38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Домашнее задание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. 20 (знать определение арифметического квадратного корня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№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311, 31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96" name="Picture 5" descr="i?id=153470312&amp;tov=7"/>
          <p:cNvPicPr/>
          <p:nvPr/>
        </p:nvPicPr>
        <p:blipFill>
          <a:blip r:embed="rId1"/>
          <a:stretch/>
        </p:blipFill>
        <p:spPr>
          <a:xfrm>
            <a:off x="5029200" y="3733920"/>
            <a:ext cx="28195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rebuchet MS"/>
              </a:rPr>
              <a:t>Цели урока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Рассмотреть определение арифметического квадратного корн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Научиться находить арифметические квадратные корн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Работать над развитием математической реч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Тест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609480" y="1295280"/>
            <a:ext cx="8001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1.Вычислить: 6</a:t>
            </a:r>
            <a:r>
              <a:rPr b="1" lang="ru-RU" sz="2000" spc="-1" strike="noStrike" baseline="30000">
                <a:solidFill>
                  <a:srgbClr val="99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12;              Б) 36;         В) 8;      Г) не зн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2. Вычислить:  0,8</a:t>
            </a:r>
            <a:r>
              <a:rPr b="1" lang="ru-RU" sz="2000" spc="-1" strike="noStrike" baseline="30000">
                <a:solidFill>
                  <a:srgbClr val="99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6,4;              Б) 1,6;             В) 0,64;               Г) 0,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3. Вычислить: - 7</a:t>
            </a:r>
            <a:r>
              <a:rPr b="1" lang="ru-RU" sz="2000" spc="-1" strike="noStrike" baseline="30000">
                <a:solidFill>
                  <a:srgbClr val="99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49;     Б) - 49;     В) 14;         Г) – 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4. Вычислить (-0,05)</a:t>
            </a:r>
            <a:r>
              <a:rPr b="1" lang="ru-RU" sz="2000" spc="-1" strike="noStrike" baseline="30000">
                <a:solidFill>
                  <a:srgbClr val="99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0,1;       Б) 0,0025;     В) -0,0025;    Г) -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5. Какое число или числа нужно поставить вместо </a:t>
            </a: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х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, чтобы получилось верное равенство  </a:t>
            </a: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х</a:t>
            </a:r>
            <a:r>
              <a:rPr b="1" lang="ru-RU" sz="2000" spc="-1" strike="noStrike" baseline="30000">
                <a:solidFill>
                  <a:srgbClr val="9933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= 16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4;     Б) - 4;    В) 4 или - 4;    Г) 8 или 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оверка тес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57200" y="1600200"/>
          <a:ext cx="8229600" cy="1828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81" descr="i?id=16731528&amp;tov=8"/>
          <p:cNvPicPr/>
          <p:nvPr/>
        </p:nvPicPr>
        <p:blipFill>
          <a:blip r:embed="rId1"/>
          <a:stretch/>
        </p:blipFill>
        <p:spPr>
          <a:xfrm>
            <a:off x="2666880" y="3733920"/>
            <a:ext cx="350532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457200" y="1828800"/>
            <a:ext cx="3200400" cy="320040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762120" y="4572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: «Площадь земельного участка  64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сторону этого участ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809880" y="3124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1678320" y="5257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343400" y="1371600"/>
            <a:ext cx="4114800" cy="56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: Пусть сторона земельного участка будет х м. Зная, что площадь квадрата находится по форму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ставим уравнение 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64. Решим это уравнение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64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8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х – 8)(х + 8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 – 8 = 0,  х + 8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 = 8             х = 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4"/>
          <p:cNvSpPr/>
          <p:nvPr/>
        </p:nvSpPr>
        <p:spPr>
          <a:xfrm>
            <a:off x="609480" y="380880"/>
            <a:ext cx="81536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а 8 и – 8 называются квадратными корнями из числа 64. Одно из них положительное. Это число называют арифметическим квадратным корнем и обозначают           .   Таким образ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Арифметическим квадратным корнем из числа </a:t>
            </a: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называется неотрицательное число, квадрат которого равен </a:t>
            </a: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5"/>
              <p:cNvSpPr txBox="1"/>
              <p:nvPr/>
            </p:nvSpPr>
            <p:spPr>
              <a:xfrm>
                <a:off x="3352680" y="2895480"/>
                <a:ext cx="2025720" cy="19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32" name="Text Box 6"/>
          <p:cNvSpPr/>
          <p:nvPr/>
        </p:nvSpPr>
        <p:spPr>
          <a:xfrm>
            <a:off x="4556160" y="605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7"/>
          <p:cNvSpPr/>
          <p:nvPr/>
        </p:nvSpPr>
        <p:spPr>
          <a:xfrm>
            <a:off x="5486400" y="3200400"/>
            <a:ext cx="3352680" cy="685800"/>
          </a:xfrm>
          <a:prstGeom prst="wedgeRoundRectCallout">
            <a:avLst>
              <a:gd name="adj1" fmla="val -64537"/>
              <a:gd name="adj2" fmla="val 69907"/>
              <a:gd name="adj3" fmla="val 16667"/>
            </a:avLst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5640840" y="3352680"/>
            <a:ext cx="30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одкоренное вы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9"/>
          <p:cNvSpPr/>
          <p:nvPr/>
        </p:nvSpPr>
        <p:spPr>
          <a:xfrm flipH="1" rot="20484600">
            <a:off x="0" y="4191120"/>
            <a:ext cx="2895480" cy="685800"/>
          </a:xfrm>
          <a:prstGeom prst="wedgeRoundRectCallout">
            <a:avLst>
              <a:gd name="adj1" fmla="val -88393"/>
              <a:gd name="adj2" fmla="val 12875"/>
              <a:gd name="adj3" fmla="val 16667"/>
            </a:avLst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Знак арифметического квадратного кор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1981080" y="48006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Арифметический квадратный корень из чис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11"/>
              <p:cNvSpPr txBox="1"/>
              <p:nvPr/>
            </p:nvSpPr>
            <p:spPr>
              <a:xfrm>
                <a:off x="1066680" y="5410080"/>
                <a:ext cx="72504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;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;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  <m:r>
                      <m:t xml:space="preserve">;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e>
                    </m:rad>
                    <m:r>
                      <m:t xml:space="preserve">;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rad>
                    <m:r>
                      <m:t xml:space="preserve">;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;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3"/>
              <p:cNvSpPr txBox="1"/>
              <p:nvPr/>
            </p:nvSpPr>
            <p:spPr>
              <a:xfrm>
                <a:off x="6934320" y="990720"/>
                <a:ext cx="5731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14"/>
              <p:cNvSpPr txBox="1"/>
              <p:nvPr/>
            </p:nvSpPr>
            <p:spPr>
              <a:xfrm>
                <a:off x="1828800" y="1295280"/>
                <a:ext cx="1066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Важно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9"/>
              <p:cNvSpPr txBox="1"/>
              <p:nvPr/>
            </p:nvSpPr>
            <p:spPr>
              <a:xfrm>
                <a:off x="2286000" y="1371600"/>
                <a:ext cx="5335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3"/>
              <p:cNvSpPr txBox="1"/>
              <p:nvPr/>
            </p:nvSpPr>
            <p:spPr>
              <a:xfrm>
                <a:off x="3352680" y="2362320"/>
                <a:ext cx="26654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а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15"/>
              <p:cNvSpPr txBox="1"/>
              <p:nvPr/>
            </p:nvSpPr>
            <p:spPr>
              <a:xfrm>
                <a:off x="609480" y="4361040"/>
                <a:ext cx="785016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апример</m:t>
                    </m:r>
                    <m:r>
                      <m:t xml:space="preserve">: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,6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,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Text Box 8"/>
          <p:cNvSpPr/>
          <p:nvPr/>
        </p:nvSpPr>
        <p:spPr>
          <a:xfrm>
            <a:off x="45720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2895480" y="13716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смысл только пр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≥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2"/>
          <p:cNvSpPr/>
          <p:nvPr/>
        </p:nvSpPr>
        <p:spPr>
          <a:xfrm>
            <a:off x="533520" y="1905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любом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и котором выражение имеет смысл, верно раве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80880" y="4275000"/>
          <a:ext cx="8229600" cy="2590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ч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ная по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ж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кресе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Text Box 6"/>
          <p:cNvSpPr/>
          <p:nvPr/>
        </p:nvSpPr>
        <p:spPr>
          <a:xfrm>
            <a:off x="838080" y="4572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Индейское пись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7"/>
          <p:cNvSpPr/>
          <p:nvPr/>
        </p:nvSpPr>
        <p:spPr>
          <a:xfrm rot="16200000">
            <a:off x="838080" y="1295280"/>
            <a:ext cx="457200" cy="762120"/>
          </a:xfrm>
          <a:prstGeom prst="flowChartDelay">
            <a:avLst/>
          </a:prstGeom>
          <a:solidFill>
            <a:srgbClr val="90c2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8"/>
          <p:cNvSpPr/>
          <p:nvPr/>
        </p:nvSpPr>
        <p:spPr>
          <a:xfrm>
            <a:off x="538200" y="14428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9"/>
          <p:cNvSpPr/>
          <p:nvPr/>
        </p:nvSpPr>
        <p:spPr>
          <a:xfrm>
            <a:off x="2286000" y="1371600"/>
            <a:ext cx="762120" cy="762120"/>
          </a:xfrm>
          <a:prstGeom prst="ellipse">
            <a:avLst/>
          </a:prstGeom>
          <a:solidFill>
            <a:srgbClr val="90c2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0"/>
          <p:cNvSpPr/>
          <p:nvPr/>
        </p:nvSpPr>
        <p:spPr>
          <a:xfrm>
            <a:off x="2666880" y="1066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1"/>
          <p:cNvSpPr/>
          <p:nvPr/>
        </p:nvSpPr>
        <p:spPr>
          <a:xfrm>
            <a:off x="3048120" y="17524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2"/>
          <p:cNvSpPr/>
          <p:nvPr/>
        </p:nvSpPr>
        <p:spPr>
          <a:xfrm>
            <a:off x="2666880" y="2133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3"/>
          <p:cNvSpPr/>
          <p:nvPr/>
        </p:nvSpPr>
        <p:spPr>
          <a:xfrm>
            <a:off x="1981080" y="17524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rc 14"/>
          <p:cNvSpPr/>
          <p:nvPr/>
        </p:nvSpPr>
        <p:spPr>
          <a:xfrm flipH="1" flipV="1" rot="5400000">
            <a:off x="4290120" y="818280"/>
            <a:ext cx="866880" cy="1671840"/>
          </a:xfrm>
          <a:custGeom>
            <a:avLst/>
            <a:gdLst/>
            <a:ahLst/>
            <a:rect l="l" t="t" r="r" b="b"/>
            <a:pathLst>
              <a:path fill="none" w="25678" h="43200">
                <a:moveTo>
                  <a:pt x="1028" y="216"/>
                </a:moveTo>
                <a:cubicBezTo>
                  <a:pt x="2038" y="72"/>
                  <a:pt x="3057" y="0"/>
                  <a:pt x="4078" y="0"/>
                </a:cubicBezTo>
                <a:cubicBezTo>
                  <a:pt x="16007" y="0"/>
                  <a:pt x="25678" y="9670"/>
                  <a:pt x="25678" y="21600"/>
                </a:cubicBezTo>
                <a:cubicBezTo>
                  <a:pt x="25678" y="-32007"/>
                  <a:pt x="16007" y="-22336"/>
                  <a:pt x="4078" y="-22336"/>
                </a:cubicBezTo>
                <a:cubicBezTo>
                  <a:pt x="2709" y="-22336"/>
                  <a:pt x="1344" y="-22467"/>
                  <a:pt x="0" y="-22725"/>
                </a:cubicBezTo>
              </a:path>
              <a:path stroke="0" w="25678" h="43200">
                <a:moveTo>
                  <a:pt x="1028" y="216"/>
                </a:moveTo>
                <a:cubicBezTo>
                  <a:pt x="2038" y="72"/>
                  <a:pt x="3057" y="0"/>
                  <a:pt x="4078" y="0"/>
                </a:cubicBezTo>
                <a:cubicBezTo>
                  <a:pt x="16007" y="0"/>
                  <a:pt x="25678" y="9670"/>
                  <a:pt x="25678" y="21600"/>
                </a:cubicBezTo>
                <a:cubicBezTo>
                  <a:pt x="25678" y="-32007"/>
                  <a:pt x="16007" y="-22336"/>
                  <a:pt x="4078" y="-22336"/>
                </a:cubicBezTo>
                <a:cubicBezTo>
                  <a:pt x="2709" y="-22336"/>
                  <a:pt x="1344" y="-22467"/>
                  <a:pt x="0" y="-22725"/>
                </a:cubicBezTo>
                <a:lnTo>
                  <a:pt x="4078" y="21600"/>
                </a:lnTo>
                <a:lnTo>
                  <a:pt x="1028" y="216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5"/>
          <p:cNvSpPr/>
          <p:nvPr/>
        </p:nvSpPr>
        <p:spPr>
          <a:xfrm>
            <a:off x="3886200" y="1905120"/>
            <a:ext cx="228600" cy="228600"/>
          </a:xfrm>
          <a:prstGeom prst="ellipse">
            <a:avLst/>
          </a:prstGeom>
          <a:solidFill>
            <a:srgbClr val="90c2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6"/>
          <p:cNvSpPr/>
          <p:nvPr/>
        </p:nvSpPr>
        <p:spPr>
          <a:xfrm>
            <a:off x="6629400" y="1371600"/>
            <a:ext cx="609480" cy="609480"/>
          </a:xfrm>
          <a:prstGeom prst="ellipse">
            <a:avLst/>
          </a:prstGeom>
          <a:solidFill>
            <a:srgbClr val="90c2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7"/>
          <p:cNvSpPr/>
          <p:nvPr/>
        </p:nvSpPr>
        <p:spPr>
          <a:xfrm>
            <a:off x="6886440" y="1643040"/>
            <a:ext cx="76320" cy="76320"/>
          </a:xfrm>
          <a:prstGeom prst="ellipse">
            <a:avLst/>
          </a:prstGeom>
          <a:solidFill>
            <a:srgbClr val="90c22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8"/>
          <p:cNvSpPr/>
          <p:nvPr/>
        </p:nvSpPr>
        <p:spPr>
          <a:xfrm>
            <a:off x="6934320" y="1143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9"/>
          <p:cNvSpPr/>
          <p:nvPr/>
        </p:nvSpPr>
        <p:spPr>
          <a:xfrm>
            <a:off x="6934320" y="1981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0"/>
          <p:cNvSpPr/>
          <p:nvPr/>
        </p:nvSpPr>
        <p:spPr>
          <a:xfrm>
            <a:off x="7238880" y="1676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1"/>
          <p:cNvSpPr/>
          <p:nvPr/>
        </p:nvSpPr>
        <p:spPr>
          <a:xfrm flipH="1">
            <a:off x="6248520" y="16765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22"/>
          <p:cNvSpPr/>
          <p:nvPr/>
        </p:nvSpPr>
        <p:spPr>
          <a:xfrm rot="5400000">
            <a:off x="3924000" y="2857320"/>
            <a:ext cx="762120" cy="838080"/>
          </a:xfrm>
          <a:prstGeom prst="flowChartDelay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23"/>
          <p:cNvSpPr/>
          <p:nvPr/>
        </p:nvSpPr>
        <p:spPr>
          <a:xfrm>
            <a:off x="5638680" y="2590920"/>
            <a:ext cx="1067040" cy="1066680"/>
          </a:xfrm>
          <a:prstGeom prst="ellipse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4"/>
          <p:cNvSpPr/>
          <p:nvPr/>
        </p:nvSpPr>
        <p:spPr>
          <a:xfrm flipV="1">
            <a:off x="5943600" y="3009600"/>
            <a:ext cx="4525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5"/>
          <p:cNvSpPr/>
          <p:nvPr/>
        </p:nvSpPr>
        <p:spPr>
          <a:xfrm>
            <a:off x="5896080" y="2924280"/>
            <a:ext cx="5331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6"/>
          <p:cNvSpPr/>
          <p:nvPr/>
        </p:nvSpPr>
        <p:spPr>
          <a:xfrm>
            <a:off x="6172200" y="2757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27"/>
          <p:cNvSpPr/>
          <p:nvPr/>
        </p:nvSpPr>
        <p:spPr>
          <a:xfrm>
            <a:off x="1523880" y="2743200"/>
            <a:ext cx="1332000" cy="985680"/>
          </a:xfrm>
          <a:custGeom>
            <a:avLst/>
            <a:gdLst/>
            <a:ahLst/>
            <a:rect l="l" t="t" r="r" b="b"/>
            <a:pathLst>
              <a:path w="839" h="621">
                <a:moveTo>
                  <a:pt x="7" y="0"/>
                </a:moveTo>
                <a:cubicBezTo>
                  <a:pt x="13" y="62"/>
                  <a:pt x="0" y="149"/>
                  <a:pt x="71" y="173"/>
                </a:cubicBezTo>
                <a:cubicBezTo>
                  <a:pt x="135" y="217"/>
                  <a:pt x="149" y="199"/>
                  <a:pt x="245" y="192"/>
                </a:cubicBezTo>
                <a:cubicBezTo>
                  <a:pt x="236" y="195"/>
                  <a:pt x="225" y="194"/>
                  <a:pt x="218" y="201"/>
                </a:cubicBezTo>
                <a:cubicBezTo>
                  <a:pt x="189" y="230"/>
                  <a:pt x="198" y="360"/>
                  <a:pt x="236" y="384"/>
                </a:cubicBezTo>
                <a:cubicBezTo>
                  <a:pt x="260" y="399"/>
                  <a:pt x="291" y="402"/>
                  <a:pt x="318" y="411"/>
                </a:cubicBezTo>
                <a:cubicBezTo>
                  <a:pt x="327" y="414"/>
                  <a:pt x="346" y="420"/>
                  <a:pt x="346" y="420"/>
                </a:cubicBezTo>
                <a:cubicBezTo>
                  <a:pt x="379" y="417"/>
                  <a:pt x="413" y="418"/>
                  <a:pt x="446" y="411"/>
                </a:cubicBezTo>
                <a:cubicBezTo>
                  <a:pt x="455" y="409"/>
                  <a:pt x="458" y="398"/>
                  <a:pt x="465" y="393"/>
                </a:cubicBezTo>
                <a:cubicBezTo>
                  <a:pt x="474" y="386"/>
                  <a:pt x="492" y="375"/>
                  <a:pt x="492" y="375"/>
                </a:cubicBezTo>
                <a:cubicBezTo>
                  <a:pt x="467" y="451"/>
                  <a:pt x="488" y="506"/>
                  <a:pt x="529" y="567"/>
                </a:cubicBezTo>
                <a:cubicBezTo>
                  <a:pt x="535" y="576"/>
                  <a:pt x="537" y="591"/>
                  <a:pt x="547" y="594"/>
                </a:cubicBezTo>
                <a:cubicBezTo>
                  <a:pt x="585" y="607"/>
                  <a:pt x="566" y="598"/>
                  <a:pt x="602" y="621"/>
                </a:cubicBezTo>
                <a:cubicBezTo>
                  <a:pt x="648" y="618"/>
                  <a:pt x="694" y="619"/>
                  <a:pt x="739" y="612"/>
                </a:cubicBezTo>
                <a:cubicBezTo>
                  <a:pt x="763" y="608"/>
                  <a:pt x="787" y="575"/>
                  <a:pt x="812" y="567"/>
                </a:cubicBezTo>
                <a:cubicBezTo>
                  <a:pt x="821" y="558"/>
                  <a:pt x="839" y="539"/>
                  <a:pt x="839" y="53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8"/>
          <p:cNvSpPr/>
          <p:nvPr/>
        </p:nvSpPr>
        <p:spPr>
          <a:xfrm flipH="1">
            <a:off x="1371240" y="29718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9"/>
          <p:cNvSpPr/>
          <p:nvPr/>
        </p:nvSpPr>
        <p:spPr>
          <a:xfrm flipH="1">
            <a:off x="1523520" y="308124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0"/>
          <p:cNvSpPr/>
          <p:nvPr/>
        </p:nvSpPr>
        <p:spPr>
          <a:xfrm flipH="1">
            <a:off x="1676160" y="33336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1"/>
          <p:cNvSpPr/>
          <p:nvPr/>
        </p:nvSpPr>
        <p:spPr>
          <a:xfrm flipH="1">
            <a:off x="1928520" y="34290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2"/>
          <p:cNvSpPr/>
          <p:nvPr/>
        </p:nvSpPr>
        <p:spPr>
          <a:xfrm flipH="1">
            <a:off x="2123640" y="362412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3"/>
          <p:cNvSpPr/>
          <p:nvPr/>
        </p:nvSpPr>
        <p:spPr>
          <a:xfrm>
            <a:off x="914400" y="2133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4"/>
          <p:cNvSpPr/>
          <p:nvPr/>
        </p:nvSpPr>
        <p:spPr>
          <a:xfrm>
            <a:off x="2895480" y="2286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4572000" y="2057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6"/>
          <p:cNvSpPr/>
          <p:nvPr/>
        </p:nvSpPr>
        <p:spPr>
          <a:xfrm>
            <a:off x="7315200" y="2057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7"/>
          <p:cNvSpPr/>
          <p:nvPr/>
        </p:nvSpPr>
        <p:spPr>
          <a:xfrm>
            <a:off x="1371600" y="3733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8"/>
          <p:cNvSpPr/>
          <p:nvPr/>
        </p:nvSpPr>
        <p:spPr>
          <a:xfrm>
            <a:off x="4724280" y="3581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9"/>
          <p:cNvSpPr/>
          <p:nvPr/>
        </p:nvSpPr>
        <p:spPr>
          <a:xfrm>
            <a:off x="670572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1066680" y="2286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371600" y="914400"/>
          <a:ext cx="6095880" cy="40640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кресе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ж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ная по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Text Box 43"/>
          <p:cNvSpPr/>
          <p:nvPr/>
        </p:nvSpPr>
        <p:spPr>
          <a:xfrm>
            <a:off x="380880" y="5410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шифрованное письм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 воскресенье ночью шел дождь, сегодня днем – солнце, ясная по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305</dc:creator>
  <dc:description/>
  <dc:language>en-US</dc:language>
  <cp:lastModifiedBy>user</cp:lastModifiedBy>
  <cp:lastPrinted>2019-10-31T22:06:48Z</cp:lastPrinted>
  <dcterms:modified xsi:type="dcterms:W3CDTF">2024-02-08T02:48:2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