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1.gif" ContentType="image/gif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4.wmf" ContentType="image/x-wmf"/>
  <Override PartName="/ppt/media/image3.png" ContentType="image/pn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D6B-C6DA-4084-A43F-53AA9ADF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021-8771-4E63-9E48-D7B783CA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46F-1EDF-499C-9716-95D668F1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695-18EB-4B23-B9E6-DEE22872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1679-E989-48DE-9F4B-C671D534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9989-3239-4610-93B9-B11040DB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2A1C-11E1-4608-9BE5-49C70137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F4F9-A69E-4372-8E7A-B3DAC199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1D37-7746-4D30-A2BA-46160894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47C8-BE25-474F-BC39-D5578A7A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A938-857D-4A85-B1DD-596F0396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AB1-3FB7-49CA-8CF8-A45B9CA9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8117-F64A-4E8F-BD10-6F4EDDA1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26D7-7CFC-4605-B73F-4042A977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9AC7-EC44-4B4D-A2B5-F3F1CEB6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E1B5-0FF2-4D5B-83D7-ABCDBAB8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7AF3-FF89-4955-A653-44CC0AFF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3CDC2-679E-4AC0-A61E-76A2A1FC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12FD-8400-417B-AC72-E2457C0D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220D2-CD3A-4B57-A648-62CCFF26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53F5D-2415-4DA9-AEBB-C7A2AF7F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E6220-B682-40F9-A9C1-4F91BDFB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76C-66F2-4F13-95CF-B6525B67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D965-3F22-4EA8-A312-CBB80CD2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2DB41-3003-4D58-BA0B-88953D27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438F-1EF2-4F94-81C2-4A0558E9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2B59A-5F9A-4496-B659-15A306B1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76E76-102C-4788-A902-C0878993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95AEE-3210-44B7-BC5D-53E168F5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71FAA-E9D3-477F-8F5A-3C734777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3243F-D8C0-4741-A55A-DB04F0FD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0DFDF-A785-423A-9032-6A15F0DF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B53D5-1A14-47DC-9E27-02FC826B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B90-2EA4-4DF9-BAAA-4032E3A2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BDFF9-3399-403A-B7F8-9606B6C5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1060C-535C-41BA-A362-46980185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B1DA5-075D-4B28-857B-565C0484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BF296-BCAB-40B3-87AB-AC5DAE73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E1C8-1D14-4C38-94C3-50BC3A6B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8388-4F71-4262-8632-E0F47AEB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D9BF0-EBEA-4ED8-B1FE-327243A3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DC3C0-6EB7-4E91-B758-28C2D371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5368A-4179-45E3-ACC7-2F2C55E1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2F7-F370-4F15-8906-80B4E52B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7E3-AED7-437C-AD83-FC9D55F4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33A-B4ED-4BD7-80CC-BE8B7685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5E8B-45C4-40E3-B9F9-B487519C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954-CD6E-49C2-9EB0-CBB2582D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D2C9-FBB1-472D-9F71-9820C72C78C4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CBED-6424-4BEE-83F6-7F68358FFD6D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CB97-BFA9-4E49-8BEA-6A6BADB75F5D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9118-F460-4E98-96A0-9E290B5F84F1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26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« Сумма и разность кубов двух выражений»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                                                  </a:t>
            </a: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алгебра 7 класс</a:t>
            </a:r>
            <a:endParaRPr b="0" lang="en-US" sz="1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3789000"/>
            <a:ext cx="519444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2"/>
          <p:cNvSpPr/>
          <p:nvPr/>
        </p:nvSpPr>
        <p:spPr>
          <a:xfrm>
            <a:off x="539640" y="83664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ff0000"/>
                </a:solidFill>
                <a:uFillTx/>
                <a:latin typeface="Times New Roman"/>
              </a:rPr>
              <a:t>Спасибо за урок 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Рисунок 3" descr="2787.gif"/>
          <p:cNvPicPr/>
          <p:nvPr/>
        </p:nvPicPr>
        <p:blipFill>
          <a:blip r:embed="rId1"/>
          <a:stretch/>
        </p:blipFill>
        <p:spPr>
          <a:xfrm>
            <a:off x="1042920" y="2924280"/>
            <a:ext cx="39070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78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rebuchet MS"/>
              </a:rPr>
              <a:t>Сделаем из мухи слона</a:t>
            </a: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:  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36280"/>
            <a:ext cx="8445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Пусть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 </a:t>
            </a: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масса слона,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– масса мухи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≠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 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</a:t>
            </a: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²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n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+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</a:t>
            </a:r>
            <a:r>
              <a:rPr b="1" lang="en-US" sz="1400" spc="-1" strike="noStrike">
                <a:solidFill>
                  <a:srgbClr val="404040"/>
                </a:solidFill>
                <a:latin typeface="Trebuchet MS"/>
              </a:rPr>
              <a:t>²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</a:t>
            </a:r>
            <a:r>
              <a:rPr b="1" lang="en-US" sz="1400" spc="-1" strike="noStrike">
                <a:solidFill>
                  <a:srgbClr val="404040"/>
                </a:solidFill>
                <a:latin typeface="Trebuchet MS"/>
              </a:rPr>
              <a:t>²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1" lang="en-US" sz="1400" spc="-1" strike="noStrike">
                <a:solidFill>
                  <a:srgbClr val="404040"/>
                </a:solidFill>
                <a:latin typeface="Trebuchet MS"/>
              </a:rPr>
              <a:t>mn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+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</a:t>
            </a:r>
            <a:r>
              <a:rPr b="1" lang="en-US" sz="1400" spc="-1" strike="noStrike">
                <a:solidFill>
                  <a:srgbClr val="404040"/>
                </a:solidFill>
                <a:latin typeface="Trebuchet MS"/>
              </a:rPr>
              <a:t>²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то по формулам сокращённого умножения получаем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(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)</a:t>
            </a:r>
            <a:r>
              <a:rPr b="1" lang="en-US" sz="1400" spc="-1" strike="noStrike">
                <a:solidFill>
                  <a:srgbClr val="404040"/>
                </a:solidFill>
                <a:latin typeface="Trebuchet MS"/>
              </a:rPr>
              <a:t>²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= (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 – m)</a:t>
            </a:r>
            <a:r>
              <a:rPr b="1" lang="en-US" sz="1400" spc="-1" strike="noStrike">
                <a:solidFill>
                  <a:srgbClr val="404040"/>
                </a:solidFill>
                <a:latin typeface="Trebuchet MS"/>
              </a:rPr>
              <a:t>²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+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+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2m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2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Рисунок 3" descr="слон.png"/>
          <p:cNvPicPr/>
          <p:nvPr/>
        </p:nvPicPr>
        <p:blipFill>
          <a:blip r:embed="rId1"/>
          <a:stretch/>
        </p:blipFill>
        <p:spPr>
          <a:xfrm>
            <a:off x="2556000" y="2133720"/>
            <a:ext cx="4824360" cy="48243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4" descr="муха.png"/>
          <p:cNvPicPr/>
          <p:nvPr/>
        </p:nvPicPr>
        <p:blipFill>
          <a:blip r:embed="rId2"/>
          <a:stretch/>
        </p:blipFill>
        <p:spPr>
          <a:xfrm>
            <a:off x="7093080" y="1916280"/>
            <a:ext cx="1674720" cy="167616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5"/>
          <p:cNvSpPr/>
          <p:nvPr/>
        </p:nvSpPr>
        <p:spPr>
          <a:xfrm>
            <a:off x="0" y="623736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 есть масса мухи равна массе слон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Равно 6"/>
          <p:cNvSpPr/>
          <p:nvPr/>
        </p:nvSpPr>
        <p:spPr>
          <a:xfrm rot="20116200">
            <a:off x="6665400" y="30020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188366"/>
                </a:moveTo>
                <a:lnTo>
                  <a:pt x="793196" y="188366"/>
                </a:lnTo>
                <a:lnTo>
                  <a:pt x="793196" y="403433"/>
                </a:lnTo>
                <a:lnTo>
                  <a:pt x="121204" y="403433"/>
                </a:lnTo>
                <a:lnTo>
                  <a:pt x="121204" y="188366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726034"/>
                </a:lnTo>
                <a:lnTo>
                  <a:pt x="121204" y="726034"/>
                </a:lnTo>
                <a:lnTo>
                  <a:pt x="121204" y="510967"/>
                </a:lnTo>
                <a:close/>
              </a:path>
            </a:pathLst>
          </a:custGeom>
          <a:solidFill>
            <a:srgbClr val="ff0000"/>
          </a:solidFill>
          <a:ln cap="rnd" w="19080">
            <a:solidFill>
              <a:srgbClr val="4495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581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rebuchet MS"/>
              </a:rPr>
              <a:t>В чём же фокус?</a:t>
            </a: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:  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140000" y="1052280"/>
            <a:ext cx="500364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СОФИЗМ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(греч. sophisma — хитрая уловка, измышление) — рассуждение, кажущееся правильным, но содержащее скрытую логическую ошибку и служащее для придания видимости истинности ложному утверждени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4356000" y="1413000"/>
            <a:ext cx="43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зм древнегреческого философа Зенона “Ахиллес и черепаха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5 век до Н. Э.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Рисунок 4" descr="zenos-paradoxes.jpg"/>
          <p:cNvPicPr/>
          <p:nvPr/>
        </p:nvPicPr>
        <p:blipFill>
          <a:blip r:embed="rId1"/>
          <a:stretch/>
        </p:blipFill>
        <p:spPr>
          <a:xfrm>
            <a:off x="324000" y="1052640"/>
            <a:ext cx="3857400" cy="33526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5" descr="ахиллес.png"/>
          <p:cNvPicPr/>
          <p:nvPr/>
        </p:nvPicPr>
        <p:blipFill>
          <a:blip r:embed="rId2"/>
          <a:stretch/>
        </p:blipFill>
        <p:spPr>
          <a:xfrm>
            <a:off x="468360" y="2924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6" descr="весы.png"/>
          <p:cNvPicPr/>
          <p:nvPr/>
        </p:nvPicPr>
        <p:blipFill>
          <a:blip r:embed="rId3"/>
          <a:stretch/>
        </p:blipFill>
        <p:spPr>
          <a:xfrm>
            <a:off x="0" y="1341360"/>
            <a:ext cx="43560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195640" y="333360"/>
            <a:ext cx="6640560" cy="2104920"/>
          </a:xfrm>
          <a:prstGeom prst="rect">
            <a:avLst/>
          </a:prstGeom>
          <a:gradFill rotWithShape="0">
            <a:gsLst>
              <a:gs pos="0">
                <a:srgbClr val="d3eef9"/>
              </a:gs>
              <a:gs pos="100000">
                <a:srgbClr val="7cd1f1"/>
              </a:gs>
            </a:gsLst>
            <a:lin ang="5400000"/>
          </a:gradFill>
          <a:ln cap="rnd" w="1260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rebuchet MS"/>
              </a:rPr>
              <a:t>«У математиков существует свой язык – это формулы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Рисунок 3" descr="Ковалевская.jpg"/>
          <p:cNvPicPr/>
          <p:nvPr/>
        </p:nvPicPr>
        <p:blipFill>
          <a:blip r:embed="rId1"/>
          <a:stretch/>
        </p:blipFill>
        <p:spPr>
          <a:xfrm>
            <a:off x="0" y="1700280"/>
            <a:ext cx="3564000" cy="4751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4"/>
          <p:cNvSpPr/>
          <p:nvPr/>
        </p:nvSpPr>
        <p:spPr>
          <a:xfrm>
            <a:off x="3132000" y="2784960"/>
            <a:ext cx="60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фья Михайловна КОВАЛЕВСКАЯ (1850 – 1891 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203640" y="4155840"/>
            <a:ext cx="45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e22"/>
                </a:solidFill>
                <a:latin typeface="Times New Roman"/>
              </a:rPr>
              <a:t>Первая в мире женщина-профессор матема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36716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rebuchet MS"/>
              </a:rPr>
              <a:t>Одночлены</a:t>
            </a: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:  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1954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1" lang="en-US" sz="3400" spc="-1" strike="noStrike">
                <a:solidFill>
                  <a:srgbClr val="404040"/>
                </a:solidFill>
                <a:latin typeface="Trebuchet MS"/>
              </a:rPr>
              <a:t>a; b; 2ab; a²; b²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4427640" y="549360"/>
            <a:ext cx="3671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rebuchet MS"/>
              </a:rPr>
              <a:t>Многочлены</a:t>
            </a:r>
            <a:r>
              <a:rPr b="1" i="1" lang="ru-RU" sz="4400" spc="-1" strike="noStrike">
                <a:solidFill>
                  <a:srgbClr val="ff0000"/>
                </a:solidFill>
                <a:latin typeface="Trebuchet MS"/>
              </a:rPr>
              <a:t>: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Содержимое 3"/>
          <p:cNvSpPr/>
          <p:nvPr/>
        </p:nvSpPr>
        <p:spPr>
          <a:xfrm>
            <a:off x="826920" y="4292640"/>
            <a:ext cx="14414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³; b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Содержимое 3"/>
          <p:cNvSpPr/>
          <p:nvPr/>
        </p:nvSpPr>
        <p:spPr>
          <a:xfrm>
            <a:off x="4067280" y="1700280"/>
            <a:ext cx="41050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(a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b); (a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b); (a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b)²; a²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b²; (a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b)²;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²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2ab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²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²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2ab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b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Рисунок 7" descr="кубик 1.png"/>
          <p:cNvPicPr/>
          <p:nvPr/>
        </p:nvPicPr>
        <p:blipFill>
          <a:blip r:embed="rId1"/>
          <a:stretch/>
        </p:blipFill>
        <p:spPr>
          <a:xfrm>
            <a:off x="-900000" y="342900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8" descr="кубик 2.png"/>
          <p:cNvPicPr/>
          <p:nvPr/>
        </p:nvPicPr>
        <p:blipFill>
          <a:blip r:embed="rId2"/>
          <a:stretch/>
        </p:blipFill>
        <p:spPr>
          <a:xfrm>
            <a:off x="3564000" y="227664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Плюс 9"/>
          <p:cNvSpPr/>
          <p:nvPr/>
        </p:nvSpPr>
        <p:spPr>
          <a:xfrm>
            <a:off x="356400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lnTo>
                  <a:pt x="121204" y="349667"/>
                </a:lnTo>
                <a:close/>
              </a:path>
            </a:pathLst>
          </a:custGeom>
          <a:solidFill>
            <a:srgbClr val="ff0000"/>
          </a:solidFill>
          <a:ln cap="rnd" w="19080">
            <a:solidFill>
              <a:srgbClr val="4495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инус 10"/>
          <p:cNvSpPr/>
          <p:nvPr/>
        </p:nvSpPr>
        <p:spPr>
          <a:xfrm>
            <a:off x="4427640" y="4149720"/>
            <a:ext cx="792000" cy="792000"/>
          </a:xfrm>
          <a:custGeom>
            <a:avLst/>
            <a:gdLst/>
            <a:ahLst/>
            <a:rect l="l" t="t" r="r" b="b"/>
            <a:pathLst>
              <a:path w="792162" h="792163">
                <a:moveTo>
                  <a:pt x="105001" y="302923"/>
                </a:moveTo>
                <a:lnTo>
                  <a:pt x="687161" y="302923"/>
                </a:lnTo>
                <a:lnTo>
                  <a:pt x="687161" y="489240"/>
                </a:lnTo>
                <a:lnTo>
                  <a:pt x="105001" y="489240"/>
                </a:lnTo>
                <a:lnTo>
                  <a:pt x="105001" y="302923"/>
                </a:lnTo>
                <a:close/>
              </a:path>
            </a:pathLst>
          </a:custGeom>
          <a:solidFill>
            <a:srgbClr val="7030a0"/>
          </a:solidFill>
          <a:ln cap="rnd" w="19080">
            <a:solidFill>
              <a:srgbClr val="4495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86018E-006 L 0.07083 -0.38988 E">
                                      <p:cBhvr>
                                        <p:cTn id="3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379080"/>
            <a:ext cx="88200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Найдите кубы следующих одночленов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16360" y="5229000"/>
            <a:ext cx="3981600" cy="20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70000" y="1197000"/>
          <a:ext cx="8893080" cy="2087640"/>
        </p:xfrm>
        <a:graphic>
          <a:graphicData uri="http://schemas.openxmlformats.org/drawingml/2006/table">
            <a:tbl>
              <a:tblPr/>
              <a:tblGrid>
                <a:gridCol w="1871640"/>
                <a:gridCol w="780840"/>
                <a:gridCol w="857520"/>
                <a:gridCol w="858600"/>
                <a:gridCol w="701640"/>
                <a:gridCol w="1014480"/>
                <a:gridCol w="1101600"/>
                <a:gridCol w="854280"/>
                <a:gridCol w="852480"/>
              </a:tblGrid>
              <a:tr h="10447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ночле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0000"/>
                      </a:srgbClr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0000"/>
                      </a:srgbClr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0000"/>
                      </a:srgbClr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0000"/>
                      </a:srgbClr>
                    </a:solidFill>
                  </a:tcPr>
                </a:tc>
              </a:tr>
              <a:tr h="1042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б одноч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0000"/>
                      </a:srgbClr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0000"/>
                      </a:srgbClr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0000"/>
                      </a:srgbClr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0000"/>
                      </a:srgbClr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0" name="Object 52" descr=""/>
          <p:cNvPicPr/>
          <p:nvPr/>
        </p:nvPicPr>
        <p:blipFill>
          <a:blip r:embed="rId1"/>
          <a:stretch/>
        </p:blipFill>
        <p:spPr>
          <a:xfrm>
            <a:off x="5435640" y="1341360"/>
            <a:ext cx="360360" cy="79236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54" descr=""/>
          <p:cNvPicPr/>
          <p:nvPr/>
        </p:nvPicPr>
        <p:blipFill>
          <a:blip r:embed="rId2"/>
          <a:stretch/>
        </p:blipFill>
        <p:spPr>
          <a:xfrm>
            <a:off x="7596360" y="1341360"/>
            <a:ext cx="36504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Проверь себ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3" name="Рисунок 3" descr=""/>
          <p:cNvPicPr/>
          <p:nvPr/>
        </p:nvPicPr>
        <p:blipFill>
          <a:blip r:embed="rId1"/>
          <a:stretch/>
        </p:blipFill>
        <p:spPr>
          <a:xfrm>
            <a:off x="163440" y="1628640"/>
            <a:ext cx="9004320" cy="21574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"/>
          <p:cNvPicPr/>
          <p:nvPr/>
        </p:nvPicPr>
        <p:blipFill>
          <a:blip r:embed="rId2"/>
          <a:stretch/>
        </p:blipFill>
        <p:spPr>
          <a:xfrm>
            <a:off x="457200" y="4581360"/>
            <a:ext cx="3608280" cy="15606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465120" y="3906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й оценки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360972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rebuchet MS"/>
              </a:rPr>
              <a:t>Формулы</a:t>
            </a:r>
            <a:r>
              <a:rPr b="1" i="1" lang="ru-RU" sz="4000" spc="-1" strike="noStrike">
                <a:solidFill>
                  <a:srgbClr val="ff0000"/>
                </a:solidFill>
                <a:latin typeface="Trebuchet MS"/>
              </a:rPr>
              <a:t>: 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12682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rebuchet MS"/>
              </a:rPr>
              <a:t>a</a:t>
            </a:r>
            <a:r>
              <a:rPr b="1" lang="pt-BR" sz="4400" spc="-1" strike="noStrike">
                <a:solidFill>
                  <a:srgbClr val="404040"/>
                </a:solidFill>
                <a:latin typeface="Trebuchet MS"/>
              </a:rPr>
              <a:t>³ + b³ = (a + b) (a² - ab + b²)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b00000"/>
                </a:solidFill>
                <a:latin typeface="Trebuchet MS"/>
              </a:rPr>
              <a:t>Сумм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b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b00000"/>
                </a:solidFill>
                <a:latin typeface="Trebuchet MS"/>
              </a:rPr>
              <a:t>кубов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Прямоугольник 6"/>
          <p:cNvSpPr/>
          <p:nvPr/>
        </p:nvSpPr>
        <p:spPr>
          <a:xfrm>
            <a:off x="2556000" y="2133720"/>
            <a:ext cx="221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Сумм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выраж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оугольник 7"/>
          <p:cNvSpPr/>
          <p:nvPr/>
        </p:nvSpPr>
        <p:spPr>
          <a:xfrm>
            <a:off x="5003640" y="213372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Неполный 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их раз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Содержимое 4"/>
          <p:cNvSpPr/>
          <p:nvPr/>
        </p:nvSpPr>
        <p:spPr>
          <a:xfrm>
            <a:off x="395280" y="3429000"/>
            <a:ext cx="82296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1" lang="pt-BR" sz="4800" spc="-1" strike="noStrike">
                <a:solidFill>
                  <a:srgbClr val="000000"/>
                </a:solidFill>
                <a:latin typeface="Trebuchet MS"/>
              </a:rPr>
              <a:t>³ </a:t>
            </a: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pt-BR" sz="4800" spc="-1" strike="noStrike">
                <a:solidFill>
                  <a:srgbClr val="000000"/>
                </a:solidFill>
                <a:latin typeface="Trebuchet MS"/>
              </a:rPr>
              <a:t> b³ = (a </a:t>
            </a: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pt-BR" sz="4800" spc="-1" strike="noStrike">
                <a:solidFill>
                  <a:srgbClr val="000000"/>
                </a:solidFill>
                <a:latin typeface="Trebuchet MS"/>
              </a:rPr>
              <a:t> b) (a² </a:t>
            </a: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pt-BR" sz="4800" spc="-1" strike="noStrike">
                <a:solidFill>
                  <a:srgbClr val="000000"/>
                </a:solidFill>
                <a:latin typeface="Trebuchet MS"/>
              </a:rPr>
              <a:t> ab + b²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rebuchet MS"/>
              </a:rPr>
              <a:t>Раз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b00000"/>
                </a:solidFill>
                <a:latin typeface="Trebuchet MS"/>
              </a:rPr>
              <a:t>куб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оугольник 10"/>
          <p:cNvSpPr/>
          <p:nvPr/>
        </p:nvSpPr>
        <p:spPr>
          <a:xfrm>
            <a:off x="2627280" y="4292640"/>
            <a:ext cx="221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Раз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выраж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11"/>
          <p:cNvSpPr/>
          <p:nvPr/>
        </p:nvSpPr>
        <p:spPr>
          <a:xfrm>
            <a:off x="4859280" y="429264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Неполный 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их сумм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Скругленный прямоугольник 12"/>
          <p:cNvSpPr/>
          <p:nvPr/>
        </p:nvSpPr>
        <p:spPr>
          <a:xfrm>
            <a:off x="412920" y="1268280"/>
            <a:ext cx="7921440" cy="2160720"/>
          </a:xfrm>
          <a:prstGeom prst="roundRect">
            <a:avLst>
              <a:gd name="adj" fmla="val 16667"/>
            </a:avLst>
          </a:prstGeom>
          <a:solidFill>
            <a:srgbClr val="5fcbef">
              <a:alpha val="5000"/>
            </a:srgbClr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Скругленный прямоугольник 13"/>
          <p:cNvSpPr/>
          <p:nvPr/>
        </p:nvSpPr>
        <p:spPr>
          <a:xfrm>
            <a:off x="395280" y="3516480"/>
            <a:ext cx="7993080" cy="2158920"/>
          </a:xfrm>
          <a:prstGeom prst="roundRect">
            <a:avLst>
              <a:gd name="adj" fmla="val 16667"/>
            </a:avLst>
          </a:prstGeom>
          <a:solidFill>
            <a:srgbClr val="5fcbef">
              <a:alpha val="5000"/>
            </a:srgbClr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41988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rebuchet MS"/>
              </a:rPr>
              <a:t>Проверьте себя</a:t>
            </a: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: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716360" y="5229000"/>
            <a:ext cx="3981600" cy="20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900000" y="12945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(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²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"/>
          <p:cNvSpPr/>
          <p:nvPr/>
        </p:nvSpPr>
        <p:spPr>
          <a:xfrm flipV="1" rot="10800000">
            <a:off x="539280" y="278208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a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²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7" descr="смайлики обои.jpg"/>
          <p:cNvPicPr/>
          <p:nvPr/>
        </p:nvPicPr>
        <p:blipFill>
          <a:blip r:embed="rId1"/>
          <a:stretch/>
        </p:blipFill>
        <p:spPr>
          <a:xfrm>
            <a:off x="468360" y="476280"/>
            <a:ext cx="7635960" cy="42987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8" descr="2784.gif"/>
          <p:cNvPicPr/>
          <p:nvPr/>
        </p:nvPicPr>
        <p:blipFill>
          <a:blip r:embed="rId2"/>
          <a:stretch/>
        </p:blipFill>
        <p:spPr>
          <a:xfrm>
            <a:off x="1547640" y="4149720"/>
            <a:ext cx="2171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418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rebuchet MS"/>
              </a:rPr>
              <a:t>Домашнее задание</a:t>
            </a: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: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885960"/>
            <a:ext cx="88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8, стр. 117, вопросы 1 – 6, учить форму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6, 678 (1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не получили оценку в Задании 1, то выполните № 6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 урок Вы получили оценку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дания 1 и 4), то попробуйте выполнить № 678 (5-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ематические софизмы» А. Г. Мадер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А.Мадер. М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щение,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Рисунок 4" descr="MOI20.gif"/>
          <p:cNvPicPr/>
          <p:nvPr/>
        </p:nvPicPr>
        <p:blipFill>
          <a:blip r:embed="rId1"/>
          <a:stretch/>
        </p:blipFill>
        <p:spPr>
          <a:xfrm>
            <a:off x="1476360" y="4365720"/>
            <a:ext cx="2536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24-02-12T02:17:50Z</dcterms:modified>
  <cp:revision>1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140000000000010243100207f6000400038000</vt:lpwstr>
  </property>
</Properties>
</file>