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1.gif" ContentType="image/gif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4.wmf" ContentType="image/x-wmf"/>
  <Override PartName="/ppt/media/image3.png" ContentType="image/pn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A44-FF74-4D06-A40E-6800F907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072-FCF2-4BC9-9C61-28BE9E74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480-B175-4644-8CB3-8E62893B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12B-9984-4B76-87A1-6182CC62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E2A9-E443-4909-BA93-3F65B441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40D6-DC4F-4A87-8A7B-67BC670A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832C-7478-4BC2-A510-BEC237AA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345C-CDE1-4E01-9180-9B8103A0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3BFA-DE78-499C-B6A2-8AA8320A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36D5-BF7F-4306-8434-9A38034B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C52D-63AF-4FB9-8C7E-4EC452A6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F439-C318-4C52-9215-BB31B40A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D9ED-85B6-443B-BE78-A85C2F5E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CC6E-9F82-4B5E-B53E-260C5DB7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82A2-82DD-4295-A12C-63A24313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EE58-A724-496C-8129-AE75BEFB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8F36-459B-4F41-ADC3-67619D0E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F244C-7AC9-4054-B4E1-45450004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84F45-E849-4285-9974-114338B3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4477-DD9D-4E54-B85F-F7E98698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49A4-7512-4908-989E-7B6DBFF5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92A9B-8B4B-4535-BD40-26D7DE3F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31E8-A67E-4316-92A2-968E644F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CF4B1-5440-4486-BC94-4C1CCFEA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4B573-397B-434F-8515-E3F7AE64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4B9B-3021-48CB-ACCF-FE32EBBF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421AF-8905-430D-B204-260BA2B1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E98DB-9CD0-460F-9D65-FC948625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8ABD8-CCAC-4C00-B559-D747B36B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4F051-75F9-4CA6-B7C3-BE00ED44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CAB15-74AB-4BAA-B758-4D748596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6FA72-F194-46F1-A403-B5A9B828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78CE0-6725-4346-8D62-0B701F3E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EB4-981C-4CDF-903A-D6E3D433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4AAE5-83E5-4DDB-9A70-BC0AC852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EC896-FA28-4A49-9935-3BD0CA2D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C96E7-ED13-4A77-8C7E-D5335804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9CE55-BF88-45E9-A3EC-74BA42D6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C0DD6-BE63-4662-B304-F0A75E60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A87F3-1335-4F54-B80A-005D5E38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EB7EC-5141-4B7E-BDFF-5DBAA3F8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3FD60-167B-4E45-999D-61548A09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DEFC-FC77-4FC6-AC4A-92879E8D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527-1698-4AE1-A7B9-8D5157CE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FAE-926A-46D8-9BF3-1E313760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B72-1A90-4772-A865-0A559A9B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FCA-5CBA-4972-A7B3-52D84CD0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6E0-43D7-434B-9D85-2FAB1D98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6A32-E6F9-42DC-9293-65972C6DDE93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2EE9-9F4B-438A-A8B5-9608261D85B0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F8B1-15B2-4897-A3F6-FB8456EDB9A3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F6DA-F29F-4704-B840-0E8DCA87E53B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26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« Сумма и разность кубов двух выражений»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                                                  </a:t>
            </a: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алгебра 7 класс</a:t>
            </a:r>
            <a:endParaRPr b="0" lang="en-US" sz="1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3789000"/>
            <a:ext cx="519444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2"/>
          <p:cNvSpPr/>
          <p:nvPr/>
        </p:nvSpPr>
        <p:spPr>
          <a:xfrm>
            <a:off x="539640" y="83664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ff0000"/>
                </a:solidFill>
                <a:uFillTx/>
                <a:latin typeface="Times New Roman"/>
              </a:rPr>
              <a:t>Спасибо за урок 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Рисунок 3" descr="2787.gif"/>
          <p:cNvPicPr/>
          <p:nvPr/>
        </p:nvPicPr>
        <p:blipFill>
          <a:blip r:embed="rId1"/>
          <a:stretch/>
        </p:blipFill>
        <p:spPr>
          <a:xfrm>
            <a:off x="1042920" y="2924280"/>
            <a:ext cx="39070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78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rebuchet MS"/>
              </a:rPr>
              <a:t>Сделаем из мухи слона</a:t>
            </a: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:  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36280"/>
            <a:ext cx="8445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Пусть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 </a:t>
            </a: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масса слона,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– масса мухи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≠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 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</a:t>
            </a: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²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n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+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</a:t>
            </a:r>
            <a:r>
              <a:rPr b="1" lang="en-US" sz="1400" spc="-1" strike="noStrike">
                <a:solidFill>
                  <a:srgbClr val="404040"/>
                </a:solidFill>
                <a:latin typeface="Trebuchet MS"/>
              </a:rPr>
              <a:t>²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</a:t>
            </a:r>
            <a:r>
              <a:rPr b="1" lang="en-US" sz="1400" spc="-1" strike="noStrike">
                <a:solidFill>
                  <a:srgbClr val="404040"/>
                </a:solidFill>
                <a:latin typeface="Trebuchet MS"/>
              </a:rPr>
              <a:t>²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1" lang="en-US" sz="1400" spc="-1" strike="noStrike">
                <a:solidFill>
                  <a:srgbClr val="404040"/>
                </a:solidFill>
                <a:latin typeface="Trebuchet MS"/>
              </a:rPr>
              <a:t>mn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+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</a:t>
            </a:r>
            <a:r>
              <a:rPr b="1" lang="en-US" sz="1400" spc="-1" strike="noStrike">
                <a:solidFill>
                  <a:srgbClr val="404040"/>
                </a:solidFill>
                <a:latin typeface="Trebuchet MS"/>
              </a:rPr>
              <a:t>²</a:t>
            </a: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то по формулам сокращённого умножения получаем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(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)</a:t>
            </a:r>
            <a:r>
              <a:rPr b="1" lang="en-US" sz="1400" spc="-1" strike="noStrike">
                <a:solidFill>
                  <a:srgbClr val="404040"/>
                </a:solidFill>
                <a:latin typeface="Trebuchet MS"/>
              </a:rPr>
              <a:t>²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= (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 – m)</a:t>
            </a:r>
            <a:r>
              <a:rPr b="1" lang="en-US" sz="1400" spc="-1" strike="noStrike">
                <a:solidFill>
                  <a:srgbClr val="404040"/>
                </a:solidFill>
                <a:latin typeface="Trebuchet MS"/>
              </a:rPr>
              <a:t>²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+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+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2m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2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m </a:t>
            </a: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Рисунок 3" descr="слон.png"/>
          <p:cNvPicPr/>
          <p:nvPr/>
        </p:nvPicPr>
        <p:blipFill>
          <a:blip r:embed="rId1"/>
          <a:stretch/>
        </p:blipFill>
        <p:spPr>
          <a:xfrm>
            <a:off x="2556000" y="2133720"/>
            <a:ext cx="4824360" cy="48243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4" descr="муха.png"/>
          <p:cNvPicPr/>
          <p:nvPr/>
        </p:nvPicPr>
        <p:blipFill>
          <a:blip r:embed="rId2"/>
          <a:stretch/>
        </p:blipFill>
        <p:spPr>
          <a:xfrm>
            <a:off x="7093080" y="1916280"/>
            <a:ext cx="1674720" cy="167616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5"/>
          <p:cNvSpPr/>
          <p:nvPr/>
        </p:nvSpPr>
        <p:spPr>
          <a:xfrm>
            <a:off x="0" y="623736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 есть масса мухи равна массе слон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Равно 6"/>
          <p:cNvSpPr/>
          <p:nvPr/>
        </p:nvSpPr>
        <p:spPr>
          <a:xfrm rot="20116200">
            <a:off x="6665400" y="30020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188366"/>
                </a:moveTo>
                <a:lnTo>
                  <a:pt x="793196" y="188366"/>
                </a:lnTo>
                <a:lnTo>
                  <a:pt x="793196" y="403433"/>
                </a:lnTo>
                <a:lnTo>
                  <a:pt x="121204" y="403433"/>
                </a:lnTo>
                <a:lnTo>
                  <a:pt x="121204" y="188366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726034"/>
                </a:lnTo>
                <a:lnTo>
                  <a:pt x="121204" y="726034"/>
                </a:lnTo>
                <a:lnTo>
                  <a:pt x="121204" y="510967"/>
                </a:lnTo>
                <a:close/>
              </a:path>
            </a:pathLst>
          </a:custGeom>
          <a:solidFill>
            <a:srgbClr val="ff0000"/>
          </a:solidFill>
          <a:ln cap="rnd" w="19080">
            <a:solidFill>
              <a:srgbClr val="4495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581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rebuchet MS"/>
              </a:rPr>
              <a:t>В чём же фокус?</a:t>
            </a: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:  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140000" y="1052280"/>
            <a:ext cx="500364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СОФИЗМ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(греч. sophisma — хитрая уловка, измышление) — рассуждение, кажущееся правильным, но содержащее скрытую логическую ошибку и служащее для придания видимости истинности ложному утверждени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4356000" y="1413000"/>
            <a:ext cx="43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зм древнегреческого философа Зенона “Ахиллес и черепаха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5 век до Н. Э.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Рисунок 4" descr="zenos-paradoxes.jpg"/>
          <p:cNvPicPr/>
          <p:nvPr/>
        </p:nvPicPr>
        <p:blipFill>
          <a:blip r:embed="rId1"/>
          <a:stretch/>
        </p:blipFill>
        <p:spPr>
          <a:xfrm>
            <a:off x="324000" y="1052640"/>
            <a:ext cx="3857400" cy="33526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5" descr="ахиллес.png"/>
          <p:cNvPicPr/>
          <p:nvPr/>
        </p:nvPicPr>
        <p:blipFill>
          <a:blip r:embed="rId2"/>
          <a:stretch/>
        </p:blipFill>
        <p:spPr>
          <a:xfrm>
            <a:off x="468360" y="2924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6" descr="весы.png"/>
          <p:cNvPicPr/>
          <p:nvPr/>
        </p:nvPicPr>
        <p:blipFill>
          <a:blip r:embed="rId3"/>
          <a:stretch/>
        </p:blipFill>
        <p:spPr>
          <a:xfrm>
            <a:off x="0" y="1341360"/>
            <a:ext cx="43560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195640" y="333360"/>
            <a:ext cx="6640560" cy="2104920"/>
          </a:xfrm>
          <a:prstGeom prst="rect">
            <a:avLst/>
          </a:prstGeom>
          <a:gradFill rotWithShape="0">
            <a:gsLst>
              <a:gs pos="0">
                <a:srgbClr val="d3eef9"/>
              </a:gs>
              <a:gs pos="100000">
                <a:srgbClr val="7cd1f1"/>
              </a:gs>
            </a:gsLst>
            <a:lin ang="5400000"/>
          </a:gradFill>
          <a:ln cap="rnd" w="12600">
            <a:solidFill>
              <a:srgbClr val="5fcb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rebuchet MS"/>
              </a:rPr>
              <a:t>«У математиков существует свой язык – это формулы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Рисунок 3" descr="Ковалевская.jpg"/>
          <p:cNvPicPr/>
          <p:nvPr/>
        </p:nvPicPr>
        <p:blipFill>
          <a:blip r:embed="rId1"/>
          <a:stretch/>
        </p:blipFill>
        <p:spPr>
          <a:xfrm>
            <a:off x="0" y="1700280"/>
            <a:ext cx="3564000" cy="4751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4"/>
          <p:cNvSpPr/>
          <p:nvPr/>
        </p:nvSpPr>
        <p:spPr>
          <a:xfrm>
            <a:off x="3132000" y="2784960"/>
            <a:ext cx="60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фья Михайловна КОВАЛЕВСКАЯ (1850 – 1891 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203640" y="4155840"/>
            <a:ext cx="45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e22"/>
                </a:solidFill>
                <a:latin typeface="Times New Roman"/>
              </a:rPr>
              <a:t>Первая в мире женщина-профессор матема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367164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rebuchet MS"/>
              </a:rPr>
              <a:t>Одночлены</a:t>
            </a: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:  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1954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1" lang="en-US" sz="3400" spc="-1" strike="noStrike">
                <a:solidFill>
                  <a:srgbClr val="404040"/>
                </a:solidFill>
                <a:latin typeface="Trebuchet MS"/>
              </a:rPr>
              <a:t>a; b; 2ab; a²; b²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4427640" y="549360"/>
            <a:ext cx="3671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rebuchet MS"/>
              </a:rPr>
              <a:t>Многочлены</a:t>
            </a:r>
            <a:r>
              <a:rPr b="1" i="1" lang="ru-RU" sz="4400" spc="-1" strike="noStrike">
                <a:solidFill>
                  <a:srgbClr val="ff0000"/>
                </a:solidFill>
                <a:latin typeface="Trebuchet MS"/>
              </a:rPr>
              <a:t>: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Содержимое 3"/>
          <p:cNvSpPr/>
          <p:nvPr/>
        </p:nvSpPr>
        <p:spPr>
          <a:xfrm>
            <a:off x="826920" y="4292640"/>
            <a:ext cx="14414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a³; b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Содержимое 3"/>
          <p:cNvSpPr/>
          <p:nvPr/>
        </p:nvSpPr>
        <p:spPr>
          <a:xfrm>
            <a:off x="4067280" y="1700280"/>
            <a:ext cx="41050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(a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b); (a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b); (a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b)²; a²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b²; (a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b)²;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a²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2ab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²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a²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2ab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b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Рисунок 7" descr="кубик 1.png"/>
          <p:cNvPicPr/>
          <p:nvPr/>
        </p:nvPicPr>
        <p:blipFill>
          <a:blip r:embed="rId1"/>
          <a:stretch/>
        </p:blipFill>
        <p:spPr>
          <a:xfrm>
            <a:off x="-900000" y="342900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8" descr="кубик 2.png"/>
          <p:cNvPicPr/>
          <p:nvPr/>
        </p:nvPicPr>
        <p:blipFill>
          <a:blip r:embed="rId2"/>
          <a:stretch/>
        </p:blipFill>
        <p:spPr>
          <a:xfrm>
            <a:off x="3564000" y="227664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Плюс 9"/>
          <p:cNvSpPr/>
          <p:nvPr/>
        </p:nvSpPr>
        <p:spPr>
          <a:xfrm>
            <a:off x="356400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lnTo>
                  <a:pt x="121204" y="349667"/>
                </a:lnTo>
                <a:close/>
              </a:path>
            </a:pathLst>
          </a:custGeom>
          <a:solidFill>
            <a:srgbClr val="ff0000"/>
          </a:solidFill>
          <a:ln cap="rnd" w="19080">
            <a:solidFill>
              <a:srgbClr val="4495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инус 10"/>
          <p:cNvSpPr/>
          <p:nvPr/>
        </p:nvSpPr>
        <p:spPr>
          <a:xfrm>
            <a:off x="4427640" y="4149720"/>
            <a:ext cx="792000" cy="792000"/>
          </a:xfrm>
          <a:custGeom>
            <a:avLst/>
            <a:gdLst/>
            <a:ahLst/>
            <a:rect l="l" t="t" r="r" b="b"/>
            <a:pathLst>
              <a:path w="792162" h="792163">
                <a:moveTo>
                  <a:pt x="105001" y="302923"/>
                </a:moveTo>
                <a:lnTo>
                  <a:pt x="687161" y="302923"/>
                </a:lnTo>
                <a:lnTo>
                  <a:pt x="687161" y="489240"/>
                </a:lnTo>
                <a:lnTo>
                  <a:pt x="105001" y="489240"/>
                </a:lnTo>
                <a:lnTo>
                  <a:pt x="105001" y="302923"/>
                </a:lnTo>
                <a:close/>
              </a:path>
            </a:pathLst>
          </a:custGeom>
          <a:solidFill>
            <a:srgbClr val="7030a0"/>
          </a:solidFill>
          <a:ln cap="rnd" w="19080">
            <a:solidFill>
              <a:srgbClr val="4495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86018E-006 L 0.07083 -0.38988 E">
                                      <p:cBhvr>
                                        <p:cTn id="36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379080"/>
            <a:ext cx="88200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Найдите кубы следующих одночленов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16360" y="5229000"/>
            <a:ext cx="3981600" cy="20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70000" y="1197000"/>
          <a:ext cx="8893080" cy="2087640"/>
        </p:xfrm>
        <a:graphic>
          <a:graphicData uri="http://schemas.openxmlformats.org/drawingml/2006/table">
            <a:tbl>
              <a:tblPr/>
              <a:tblGrid>
                <a:gridCol w="1871640"/>
                <a:gridCol w="780840"/>
                <a:gridCol w="857520"/>
                <a:gridCol w="858600"/>
                <a:gridCol w="701640"/>
                <a:gridCol w="1014480"/>
                <a:gridCol w="1101600"/>
                <a:gridCol w="854280"/>
                <a:gridCol w="852480"/>
              </a:tblGrid>
              <a:tr h="10447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ночле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0000"/>
                      </a:srgbClr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0000"/>
                      </a:srgbClr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0000"/>
                      </a:srgbClr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0000"/>
                      </a:srgbClr>
                    </a:solidFill>
                  </a:tcPr>
                </a:tc>
              </a:tr>
              <a:tr h="1042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б одноч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0000"/>
                      </a:srgbClr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0000"/>
                      </a:srgbClr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0000"/>
                      </a:srgbClr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0000"/>
                      </a:srgbClr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0" name="Object 52" descr=""/>
          <p:cNvPicPr/>
          <p:nvPr/>
        </p:nvPicPr>
        <p:blipFill>
          <a:blip r:embed="rId1"/>
          <a:stretch/>
        </p:blipFill>
        <p:spPr>
          <a:xfrm>
            <a:off x="5435640" y="1341360"/>
            <a:ext cx="360360" cy="79236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54" descr=""/>
          <p:cNvPicPr/>
          <p:nvPr/>
        </p:nvPicPr>
        <p:blipFill>
          <a:blip r:embed="rId2"/>
          <a:stretch/>
        </p:blipFill>
        <p:spPr>
          <a:xfrm>
            <a:off x="7596360" y="1341360"/>
            <a:ext cx="36504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Проверь себ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3" name="Рисунок 3" descr=""/>
          <p:cNvPicPr/>
          <p:nvPr/>
        </p:nvPicPr>
        <p:blipFill>
          <a:blip r:embed="rId1"/>
          <a:stretch/>
        </p:blipFill>
        <p:spPr>
          <a:xfrm>
            <a:off x="163440" y="1628640"/>
            <a:ext cx="9004320" cy="21574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"/>
          <p:cNvPicPr/>
          <p:nvPr/>
        </p:nvPicPr>
        <p:blipFill>
          <a:blip r:embed="rId2"/>
          <a:stretch/>
        </p:blipFill>
        <p:spPr>
          <a:xfrm>
            <a:off x="457200" y="4581360"/>
            <a:ext cx="3608280" cy="15606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465120" y="3906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й оценки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55640" y="333360"/>
            <a:ext cx="360972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rebuchet MS"/>
              </a:rPr>
              <a:t>Формулы</a:t>
            </a:r>
            <a:r>
              <a:rPr b="1" i="1" lang="ru-RU" sz="4000" spc="-1" strike="noStrike">
                <a:solidFill>
                  <a:srgbClr val="ff0000"/>
                </a:solidFill>
                <a:latin typeface="Trebuchet MS"/>
              </a:rPr>
              <a:t>: 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12682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rebuchet MS"/>
              </a:rPr>
              <a:t>a</a:t>
            </a:r>
            <a:r>
              <a:rPr b="1" lang="pt-BR" sz="4400" spc="-1" strike="noStrike">
                <a:solidFill>
                  <a:srgbClr val="404040"/>
                </a:solidFill>
                <a:latin typeface="Trebuchet MS"/>
              </a:rPr>
              <a:t>³ + b³ = (a + b) (a² - ab + b²)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b00000"/>
                </a:solidFill>
                <a:latin typeface="Trebuchet MS"/>
              </a:rPr>
              <a:t>Сумм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b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b00000"/>
                </a:solidFill>
                <a:latin typeface="Trebuchet MS"/>
              </a:rPr>
              <a:t>кубов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Прямоугольник 6"/>
          <p:cNvSpPr/>
          <p:nvPr/>
        </p:nvSpPr>
        <p:spPr>
          <a:xfrm>
            <a:off x="2556000" y="2133720"/>
            <a:ext cx="221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Сумм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выраж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оугольник 7"/>
          <p:cNvSpPr/>
          <p:nvPr/>
        </p:nvSpPr>
        <p:spPr>
          <a:xfrm>
            <a:off x="5003640" y="213372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Неполный 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их раз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Содержимое 4"/>
          <p:cNvSpPr/>
          <p:nvPr/>
        </p:nvSpPr>
        <p:spPr>
          <a:xfrm>
            <a:off x="395280" y="3429000"/>
            <a:ext cx="82296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1" lang="pt-BR" sz="4800" spc="-1" strike="noStrike">
                <a:solidFill>
                  <a:srgbClr val="000000"/>
                </a:solidFill>
                <a:latin typeface="Trebuchet MS"/>
              </a:rPr>
              <a:t>³ </a:t>
            </a: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pt-BR" sz="4800" spc="-1" strike="noStrike">
                <a:solidFill>
                  <a:srgbClr val="000000"/>
                </a:solidFill>
                <a:latin typeface="Trebuchet MS"/>
              </a:rPr>
              <a:t> b³ = (a </a:t>
            </a: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1" lang="pt-BR" sz="4800" spc="-1" strike="noStrike">
                <a:solidFill>
                  <a:srgbClr val="000000"/>
                </a:solidFill>
                <a:latin typeface="Trebuchet MS"/>
              </a:rPr>
              <a:t> b) (a² </a:t>
            </a: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pt-BR" sz="4800" spc="-1" strike="noStrike">
                <a:solidFill>
                  <a:srgbClr val="000000"/>
                </a:solidFill>
                <a:latin typeface="Trebuchet MS"/>
              </a:rPr>
              <a:t> ab + b²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rebuchet MS"/>
              </a:rPr>
              <a:t>Раз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b00000"/>
                </a:solidFill>
                <a:latin typeface="Trebuchet MS"/>
              </a:rPr>
              <a:t>куб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оугольник 10"/>
          <p:cNvSpPr/>
          <p:nvPr/>
        </p:nvSpPr>
        <p:spPr>
          <a:xfrm>
            <a:off x="2627280" y="4292640"/>
            <a:ext cx="221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Раз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выраж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11"/>
          <p:cNvSpPr/>
          <p:nvPr/>
        </p:nvSpPr>
        <p:spPr>
          <a:xfrm>
            <a:off x="4859280" y="429264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Неполный 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их сумм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Скругленный прямоугольник 12"/>
          <p:cNvSpPr/>
          <p:nvPr/>
        </p:nvSpPr>
        <p:spPr>
          <a:xfrm>
            <a:off x="412920" y="1268280"/>
            <a:ext cx="7921440" cy="2160720"/>
          </a:xfrm>
          <a:prstGeom prst="roundRect">
            <a:avLst>
              <a:gd name="adj" fmla="val 16667"/>
            </a:avLst>
          </a:prstGeom>
          <a:solidFill>
            <a:srgbClr val="5fcbef">
              <a:alpha val="5000"/>
            </a:srgbClr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Скругленный прямоугольник 13"/>
          <p:cNvSpPr/>
          <p:nvPr/>
        </p:nvSpPr>
        <p:spPr>
          <a:xfrm>
            <a:off x="395280" y="3516480"/>
            <a:ext cx="7993080" cy="2158920"/>
          </a:xfrm>
          <a:prstGeom prst="roundRect">
            <a:avLst>
              <a:gd name="adj" fmla="val 16667"/>
            </a:avLst>
          </a:prstGeom>
          <a:solidFill>
            <a:srgbClr val="5fcbef">
              <a:alpha val="5000"/>
            </a:srgbClr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41988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rebuchet MS"/>
              </a:rPr>
              <a:t>Проверьте себя</a:t>
            </a: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: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716360" y="5229000"/>
            <a:ext cx="3981600" cy="20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…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900000" y="12945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(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²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"/>
          <p:cNvSpPr/>
          <p:nvPr/>
        </p:nvSpPr>
        <p:spPr>
          <a:xfrm flipV="1" rot="10800000">
            <a:off x="539280" y="278208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a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²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7" descr="смайлики обои.jpg"/>
          <p:cNvPicPr/>
          <p:nvPr/>
        </p:nvPicPr>
        <p:blipFill>
          <a:blip r:embed="rId1"/>
          <a:stretch/>
        </p:blipFill>
        <p:spPr>
          <a:xfrm>
            <a:off x="468360" y="476280"/>
            <a:ext cx="7635960" cy="42987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8" descr="2784.gif"/>
          <p:cNvPicPr/>
          <p:nvPr/>
        </p:nvPicPr>
        <p:blipFill>
          <a:blip r:embed="rId2"/>
          <a:stretch/>
        </p:blipFill>
        <p:spPr>
          <a:xfrm>
            <a:off x="1547640" y="4149720"/>
            <a:ext cx="2171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418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rebuchet MS"/>
              </a:rPr>
              <a:t>Домашнее задание</a:t>
            </a: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: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885960"/>
            <a:ext cx="88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8, стр. 117, вопросы 1 – 6, учить форму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6, 678 (1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не получили оценку в Задании 1, то выполните № 6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 урок Вы получили оценку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дания 1 и 4), то попробуйте выполнить № 678 (5-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ематические софизмы» А. Г. Мадер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А.Мадер. М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щение,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Рисунок 4" descr="MOI20.gif"/>
          <p:cNvPicPr/>
          <p:nvPr/>
        </p:nvPicPr>
        <p:blipFill>
          <a:blip r:embed="rId1"/>
          <a:stretch/>
        </p:blipFill>
        <p:spPr>
          <a:xfrm>
            <a:off x="1476360" y="4365720"/>
            <a:ext cx="2536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24-02-12T02:17:50Z</dcterms:modified>
  <cp:revision>1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140000000000010243100207f6000400038000</vt:lpwstr>
  </property>
</Properties>
</file>