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BA3-90FC-4A85-B866-2BCDBAC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D07-A244-46A5-A878-6526427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2F8-D949-4C16-B627-29BE6F5B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F0B-9F72-4804-A187-9FB9EBD5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7BF-3127-487D-9278-4589DC3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FD1-0269-42E5-9819-A93BFF2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12C-343A-4097-B82F-35C122E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EBB-088B-4FB2-9B84-468EE45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CAF-87E6-4E72-AAF2-5BFD8099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CCD-F34B-44CD-BF74-0B42191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E43-6DB3-4047-BB13-88AB36A2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C9F-F2FC-4FEF-83B4-19356CB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0D0-05BF-4011-8D94-E0251E57B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2571840" y="858960"/>
            <a:ext cx="56149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C:\Users\админ\Desktop\5122c3a9631efb826237eef94d2080429f.jpg"/>
          <p:cNvPicPr/>
          <p:nvPr/>
        </p:nvPicPr>
        <p:blipFill>
          <a:blip r:embed="rId2"/>
          <a:stretch/>
        </p:blipFill>
        <p:spPr>
          <a:xfrm>
            <a:off x="3081240" y="1052640"/>
            <a:ext cx="473076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4400" y="28440"/>
            <a:ext cx="91728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1000" y="237960"/>
            <a:ext cx="898200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админ\Desktop\8327d1aa2dfbd6d900c4a0618ae230f9cd.jpg"/>
          <p:cNvPicPr/>
          <p:nvPr/>
        </p:nvPicPr>
        <p:blipFill>
          <a:blip r:embed="rId1"/>
          <a:stretch/>
        </p:blipFill>
        <p:spPr>
          <a:xfrm>
            <a:off x="-27000" y="-27000"/>
            <a:ext cx="9171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3160" y="42840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примеров №1 стр.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2571840" y="42861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805120" y="1989000"/>
            <a:ext cx="53229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14760" y="114264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дачи № 6 стр. 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861840" y="2205000"/>
            <a:ext cx="7420320" cy="19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00240" y="1142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шение урав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653720" y="2643120"/>
            <a:ext cx="197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6 : Х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* Х =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3000240" y="1143000"/>
            <a:ext cx="48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2627280" y="2643120"/>
            <a:ext cx="70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йди площадь квад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 стороной 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3000240" y="1143000"/>
            <a:ext cx="48578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771640" y="26431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. 24 № 2, стр. 25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Зоя</cp:lastModifiedBy>
  <dcterms:modified xsi:type="dcterms:W3CDTF">2024-02-11T19:03:53Z</dcterms:modified>
  <cp:revision>726</cp:revision>
  <dc:subject/>
  <dc:title>Слайд 1</dc:title>
</cp:coreProperties>
</file>