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163-6212-4DE9-964E-4EAF554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C1F-7898-4E90-A340-6E9E63A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939-61F0-4C4D-9B72-E587639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6D1-9FC3-4FF6-8723-44E74D2F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0F3-97B8-4BAD-9F7F-9C75F1D2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5AA-D682-4018-8533-2D0F1ABC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4AC-A59D-434E-8321-FA6FAF58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CEA-7176-4C86-BC99-69E513D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9A7-FFA1-48A3-97E5-E451DF6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0F9-C8E9-4553-A4EE-103AD41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016-827A-4BE1-A1ED-9917CA6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3FE-F118-4CCF-88F5-B917771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DAE-E9ED-415A-BA4B-4D6AB6AA9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2571840" y="858960"/>
            <a:ext cx="56149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C:\Users\админ\Desktop\5122c3a9631efb826237eef94d2080429f.jpg"/>
          <p:cNvPicPr/>
          <p:nvPr/>
        </p:nvPicPr>
        <p:blipFill>
          <a:blip r:embed="rId2"/>
          <a:stretch/>
        </p:blipFill>
        <p:spPr>
          <a:xfrm>
            <a:off x="3081240" y="1052640"/>
            <a:ext cx="473076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28440"/>
            <a:ext cx="91728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1000" y="237960"/>
            <a:ext cx="8982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админ\Desktop\8327d1aa2dfbd6d900c4a0618ae230f9cd.jpg"/>
          <p:cNvPicPr/>
          <p:nvPr/>
        </p:nvPicPr>
        <p:blipFill>
          <a:blip r:embed="rId1"/>
          <a:stretch/>
        </p:blipFill>
        <p:spPr>
          <a:xfrm>
            <a:off x="-27000" y="-27000"/>
            <a:ext cx="9171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3160" y="42840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примеров №1 стр.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571840" y="42861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805120" y="1989000"/>
            <a:ext cx="5322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14760" y="114264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дачи № 6 стр.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861840" y="2205000"/>
            <a:ext cx="7420320" cy="19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00240" y="1142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ние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653720" y="2643120"/>
            <a:ext cx="197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6 : Х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* Х =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3000240" y="1143000"/>
            <a:ext cx="48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2627280" y="2643120"/>
            <a:ext cx="70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ди площадь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 стороной 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0" descr="C:\Documents and Settings\Admin\Рабочий стол\тесты к уроку\трен с отметкой\Новые с отметкой + шаблон  Февраль\P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000240" y="1143000"/>
            <a:ext cx="4857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771640" y="26431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 24 № 2, стр. 25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Зоя</cp:lastModifiedBy>
  <dcterms:modified xsi:type="dcterms:W3CDTF">2024-02-11T19:03:53Z</dcterms:modified>
  <cp:revision>726</cp:revision>
  <dc:subject/>
  <dc:title>Слайд 1</dc:title>
</cp:coreProperties>
</file>