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2F82-9698-4590-9B23-4229B61FFC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1780-7D86-4728-B799-73AF03E884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F878-98E9-4B3E-8EDD-0DEE3862D6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9CB-2F07-4B4B-9214-D4A7360E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7B13-4FF6-4AB3-A783-89F0F092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8B7-DDF0-4B74-A19A-1C717443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632-1345-4A90-A405-CF062D7C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2DDE-8483-4A43-9F0F-4604B8CE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1DF5-F645-4E58-864E-E5E6EB30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C84A-73B3-40BB-BE77-790B33C9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5745-BEAE-4138-A6E7-A7FBA4EB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D53D-D4CE-45B2-BD45-AF4F0192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EE6F-A768-40F6-89A8-B5485055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E91C-F1C3-4D72-A360-9854FF41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082-CF94-4A6C-93DC-B205DDE9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FDB4-5E44-4996-B170-CE9418CF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B983-B234-44EF-BA80-94A8BA55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B145-1D00-4A8E-A5B4-7F2F9761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F3E0-BA58-4B6D-9139-EE7311E5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C1F4-8143-4F0B-BCAA-293BF5B2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F38-80A1-4E88-A4BC-34237843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779-E889-44EB-8644-9E92955D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5EA-EB14-401B-851F-63B1A4BF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828-D494-40C6-BDC3-54C6CA04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A6B1-AEE3-4CC0-8984-3459ABB9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A32B-CA35-4D69-9E3A-3DA87AA4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C5C-108F-4E06-B623-DC2D35B8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63CC-5565-4006-AF27-9050CF7896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F11D-A448-478E-A5A3-CC07960552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1280" y="404280"/>
            <a:ext cx="583272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Aharoni"/>
              </a:rPr>
              <a:t>Подготовка к ВПР по русскому языку в 6 классе (тренировочный вариант 1)</a:t>
            </a:r>
            <a:br>
              <a:rPr sz="4000"/>
            </a:br>
            <a:br>
              <a:rPr sz="4000"/>
            </a:br>
            <a:br>
              <a:rPr sz="3200"/>
            </a:br>
            <a:br>
              <a:rPr sz="3200"/>
            </a:b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0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дготовила учитель русского языка и    литературы МБОУ «Шахтёрская СШ №19»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вчинникова Людмила Васил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 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 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5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д каждым словом напишите, какой частью речи оно является.</a:t>
            </a:r>
            <a:br>
              <a:rPr sz="32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а каждом дереве ребята повесили по два скворечника для птичьих семей.</a:t>
            </a:r>
            <a:br>
              <a:rPr sz="28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26920" y="2395440"/>
            <a:ext cx="87868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6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Найдите и исправьте ошибку(ошибки)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разовании формы слова. Запиш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ильный вариант формы слова(сл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с обоими друзья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весёлое какад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самый жаркий ден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мой выбор более удачн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4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едл.   мест.                  сущ.               сущ.                глаг.               пред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 каждом дереве ребята повесили п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числ.        сущ.                            предл.    прилаг.              сущ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ва скворечника для птичьих семей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0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ёлый какаду, мой выбор более удач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0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0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ёлый какаду, мой выбор удачн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7.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пишите предложение, в котором необходимо поставить тире. (Знаки препинания внутри предложений  не расставлены). Напишите, на каком основании Вы сделали выбо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5480" y="2357280"/>
            <a:ext cx="86439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Вчера подул резкий вет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Глубокие и чистые под деревьями      сугроб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Июль макушка л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Живуч оказался дед Щукар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859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этом предложении подлежащее и   сказуемое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ыражены именем существительным в Им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ущ., им.п. сущ., им.п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юль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−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кушк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ле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900000" y="1844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Июль – макушка 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81867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8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пишите предложение, в котором необходимо поставить две запятые. (Знаки препинания не расставлены.) Напишите, на каком основании вы сделали свой выб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81160" y="213336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Наш сосед вырастил огромную тыкву принёс её в дом и угостил все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На уроке истории мы вспоминаем подвиги наших солдат и чтим память о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На клумбе расцвели розы и они заполнили красками весь дв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Постарайтесь друзья не ссориться ни с кем и не руга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971640" y="2852640"/>
            <a:ext cx="748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, друзья, не ссориться ни с кем и не руг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едложение с обращен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читайте текст и выполните задания 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9-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кст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1)Для того чтобы считать дни, требовались большие числа: десятки, сотни и даже тысячи. (2)Никаких пальцев для счёта хватить не могло! (3)А ведь в счёте времени ошибаться нельзя. (4)Прошедший день исчезает, и его не вернёшь, не присоединишь к други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5)Но древние люди додумались: можно каждый день делать зарубку на палке и потом зарубки эти сосчитать. (6)Так началась первая на земле запись прожитых дней. (7)Только делали её не пером, а топором. (8)Именно таким деревянным календарём пользовался на необитаемом острове Робинзон Крузо. (9)Через каждые тридцать дней, то есть каждое новолуние, он делал на своём календаре зарубку подлиннее. (10)Получалась отметка месяца, а из месяцев складывался го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11)Интересно, что на Руси зарубками на палках – вроде робинзоновского календаря – пользовались для счёта каких-нибудь двести лет назад. (12)Только на них «записывали» не дни, а по́дати, налоги и долги. (13)Большинство крестьян в те времена было неграмотным. (14)Поэтому, когда приходилось платить по́дать или обро́к, крестьянин, чтобы не забыть, делал на специальной палочке столько надрезов, сколько мешков или мер зерна забирал у него сборщик налогов. (15)Потом палочку раскалывали вдоль на две половинки: одна оставалась у крестьянина и служила распиской, а другую вместо квитанции забирал с собой сборщик налогов. (16)Так простая палочка с зарубками не только помогала считать, но и служила документом – квитанцией или распиской. (17)А некоторые народы, например, индейцы в Северной Америке, вместо зарубок на палке завязывали узлы на шнуре или верёвке. (18)Таким оригинальным способом люди постепенно научились считать до сотен и тысяч и даже «записывать» большие числа. (19)И приноровились считать не только предметы, но и такие отвлечённые понятия, как дни или действ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(По И. Депману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9.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Определите и запишите основную мысль текс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2760" y="4220640"/>
            <a:ext cx="8229600" cy="36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10.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ставьте и запишите план текста из трёх пунк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446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971640" y="1341360"/>
            <a:ext cx="748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Зарубки на палке в древности, а также узлы на шнуре или верёвке − оригинальные и удобные способы счёта отвлечённых понятий и записи больши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мысль текста может быть приведена в иной, близкой по смыслу формулиров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Как считать д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Первая запись прожитых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Первые квитанции или распи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01720" y="267840"/>
            <a:ext cx="840096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11.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В чём, по мнению автора текста, заключается удобство такого счёта, как зарубки на палке?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87400" y="292248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50"/>
                </a:solidFill>
                <a:latin typeface="Calibri"/>
              </a:rPr>
              <a:t>12.</a:t>
            </a: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пределите и запишите лексическо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значение слова «считать» из предложения 1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одберите и запишите предложение, в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отором данное многозначное слов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употреблялось бы в другом значении.</a:t>
            </a:r>
            <a:br>
              <a:rPr sz="33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Рисунок19-min-m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6"/>
          <p:cNvSpPr/>
          <p:nvPr/>
        </p:nvSpPr>
        <p:spPr>
          <a:xfrm>
            <a:off x="1357200" y="142920"/>
            <a:ext cx="7786800" cy="63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От  педагога  зависит, чем  станет  сердце  ребенка 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нежным  цветком   или засушенной  корой.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  </a:t>
            </a: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В.А.Сухомли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826920" y="2421000"/>
            <a:ext cx="756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очки с зарубками для счёта можно было носить с собой в качестве напоминания или документа, их могли сделать топором и использовать даже неграмотные 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может быть дан в иной, близкой по смыслу формулиров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55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12.Считать – определять количество или последовательность чего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ет быть дано иное, близкое по смыслу объяснение. В объяснении в той или иной форме в контексте указанного в задании предложения должно быть сформулировано значение сл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олгое время нашего соседа все считали чудаком и фантазёр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ы варианты предложения, в контексте которых данное многозначное слово употреблено в иных значени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14400" y="404280"/>
            <a:ext cx="822960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1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ите стилистическую окраск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ова «приноровились» из предложения 1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пишите. Подберите и запишите синоним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синонимы) к этому слову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1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ясните значение фразеологиз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витать в облаках», запиш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пользуя не менее  двух предложени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ишите ситуацию, в которой будет умест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требление этого фразеологиз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ключите фразеологизм в одно и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лож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55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13.Приноровились – разговор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ильный ответ может содержать один из следующ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иноним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иноровились – приспособились, изловчили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ет быть подобран другой синон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4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итать в облаках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– находиться в мечтательном состоянии, фантазировать, не замечать происходящего вокру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а концерте звучала музыка. Очарованные мелодией, многие слушатели витали в обла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быть представлены другие жизненные ситуации, в которых возможно употребление указанного фразеологиз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6" descr=""/>
          <p:cNvPicPr/>
          <p:nvPr/>
        </p:nvPicPr>
        <p:blipFill>
          <a:blip r:embed="rId1"/>
          <a:stretch/>
        </p:blipFill>
        <p:spPr>
          <a:xfrm>
            <a:off x="1173240" y="1457280"/>
            <a:ext cx="6802200" cy="3675240"/>
          </a:xfrm>
          <a:prstGeom prst="rect">
            <a:avLst/>
          </a:prstGeom>
          <a:ln w="0">
            <a:noFill/>
          </a:ln>
        </p:spPr>
      </p:pic>
      <p:sp>
        <p:nvSpPr>
          <p:cNvPr id="146" name="Shape 187"/>
          <p:cNvSpPr/>
          <p:nvPr/>
        </p:nvSpPr>
        <p:spPr>
          <a:xfrm>
            <a:off x="3059280" y="2563920"/>
            <a:ext cx="2916000" cy="205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Все наши замыслы, все поиски и построения превращаются в прах, если у ученика нет желания учиться…                                                      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                           В.А. Сухомли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2" descr="Рисунок19-min-min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6"/>
          <p:cNvSpPr/>
          <p:nvPr/>
        </p:nvSpPr>
        <p:spPr>
          <a:xfrm>
            <a:off x="2195640" y="1125360"/>
            <a:ext cx="6081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Учение, лишенное всякого интереса и взятое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только силой принуждения, убивает в ученик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хоту к овладению знания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                                                             </a:t>
            </a:r>
            <a:r>
              <a:rPr b="1" i="1" lang="ru-RU" sz="36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К.Д. Ушин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3" descr="Рисунок15-min-m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4572000" y="785880"/>
            <a:ext cx="3929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Самым важным явлением в  школ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самым поучительным предмет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самым живым примером для ученика является сам учитель. </a:t>
            </a:r>
            <a:r>
              <a:rPr b="1" i="1" lang="ru-RU" sz="3200" spc="-1" strike="noStrike">
                <a:solidFill>
                  <a:srgbClr val="002060"/>
                </a:solidFill>
                <a:latin typeface="Monotype Corsiva"/>
              </a:rPr>
              <a:t>А.Дистерв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11280" y="404280"/>
            <a:ext cx="583272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3300"/>
                </a:solidFill>
                <a:latin typeface="Bookman Old Style"/>
              </a:rPr>
              <a:t>БЛАГОДАРЮ</a:t>
            </a:r>
            <a:br>
              <a:rPr sz="3200"/>
            </a:br>
            <a:r>
              <a:rPr b="1" i="1" lang="ru-RU" sz="3200" spc="-1" strike="noStrike">
                <a:solidFill>
                  <a:srgbClr val="ff3300"/>
                </a:solidFill>
                <a:latin typeface="Bookman Old Style"/>
              </a:rPr>
              <a:t>ЗА </a:t>
            </a:r>
            <a:br>
              <a:rPr sz="3200"/>
            </a:br>
            <a:r>
              <a:rPr b="1" i="1" lang="ru-RU" sz="3200" spc="-1" strike="noStrike">
                <a:solidFill>
                  <a:srgbClr val="ff3300"/>
                </a:solidFill>
                <a:latin typeface="Bookman Old Style"/>
              </a:rPr>
              <a:t>ВНИМАНИЕ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1.Перепишите текст, раскрывая скобки, вставляя, где это необходимо, пропущенные буквы и знаки препи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2920" y="1356840"/>
            <a:ext cx="8858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кст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(северо)в..сточной част.. нашего леса есть (не)большая реч..ка. Вокруг неё ран..ше была болот..стая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(2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с..ность. Теперь в сухую п..году можно наблюдать, как на речк.. работают б..бры. Это уд..вительные животные! Вроде бы обыкнове(н,нн)ые грызуны но какие сильные! Лет..м они едят водные соч..ные р..стения, а на зиму пр..пасают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(3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тки берёзы ольхи или осины. Они подгрызают зубами пр..брежные д..ревья и вал..т их в воду.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..бры с р..ждения знают, что делать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вать их тоже (н..)кто (не)учит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ьи б..бров ж..вут обычно в норах, которые вырыты в берегу. Если нору вырыть нельзя, то они стро..т из веток и глины проч..ные хатки. Эти хатки всегда выше ур..вня воды, но вход в такое жилищ.. находит..ся под вод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По С. Горево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 северо-восточной части нашего леса есть небольшая речка. Вокруг неё раньше была болотистая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Calibri"/>
              </a:rPr>
              <a:t>(2)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естность. Теперь в сухую погоду можно наблюдать, как на речке работают бобры. Это удивительные животные! Вроде бы обыкновенные грызуны, но какие сильные! Летом они едят водные сочные растения, а на зиму припасают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Calibri"/>
              </a:rPr>
              <a:t>(3)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етки берёзы, ольхи или осины. Они подгрызают зубами прибрежные деревья и валят их в воду.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Calibri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обры с рождения знают, что делать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лавать их тоже никто не учит.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емьи бобров живут обычно в норах, которые вырыты в берегу. Если нору вырыть нельзя, то они строят из веток и глины прочные хатки. Эти хатки всегда выше уровня воды, но вход в такое жилище находится под вод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По С. Горево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Выполните обозначенные цифрами в тексте к заданию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языковые разбор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4360" y="24843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(2) – морфемный и           словообразовательные разборы сло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(3) – морфологический разбор сло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(4) – синтаксический разбор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mage 349" descr=""/>
          <p:cNvPicPr/>
          <p:nvPr/>
        </p:nvPicPr>
        <p:blipFill>
          <a:blip r:embed="rId1"/>
          <a:stretch/>
        </p:blipFill>
        <p:spPr>
          <a:xfrm>
            <a:off x="1390680" y="2276640"/>
            <a:ext cx="3181320" cy="866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887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рфемный и словообразовательные разборы 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рфологический разбор 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пасают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Припасают (что делают?) – глагол, н. ф. – припас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Пост. – несов. вид, невозвр., переходн., I спр.; непост. – в форме изъявит. накл., наст. вр., 3-го л., мн. 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В предложении является сказуем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77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нтаксический разбор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1098720" y="2205000"/>
            <a:ext cx="6946560" cy="37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5160" algn="just">
              <a:lnSpc>
                <a:spcPts val="1375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подгрызают зубами прибрежные деревья и валят их в воду.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  повествовательное,  невосклицательное,  простое,  распространённое, с однородными сказуем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матическая основа: они (подлежащее, выражено местоимением) подгрызают (и) вал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днородные сказуемые, выражены глагола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степенные члены предложения: (подгрызают) зубами – дополнение, выражено именем существительным (возможно: обстоятельство); (подгрызают) деревья – дополнение, выражено именем существительным; (деревья) прибрежные – определение, выражено именем прилагательным; (валят) их – дополнение, выражено местоимением; (валят) в воду – обстоятельство, выражено именем существительным с предло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выделенном предложении найдите слово, в котором не совпадает количество букв и звуков, выпишите это слово. Объясните причину данного несовпа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авьте знак ударения в следующих слов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Щавель, (она) начала, красивее, шарф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1241280" y="2087640"/>
            <a:ext cx="6661440" cy="35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00">
              <a:lnSpc>
                <a:spcPts val="8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ts val="8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ве 7 букв и 6 звуков, так как буква ь не обозначает зв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Щaвe´ль, (oнa) нaчaлa´ , кpacu´ вee, шa´ pф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лэпа</dc:creator>
  <dc:description/>
  <dc:language>en-US</dc:language>
  <cp:lastModifiedBy>SAMSUNG</cp:lastModifiedBy>
  <dcterms:modified xsi:type="dcterms:W3CDTF">2024-02-10T14:53:11Z</dcterms:modified>
  <cp:revision>183</cp:revision>
  <dc:subject/>
  <dc:title>Презентация PowerPoint</dc:title>
</cp:coreProperties>
</file>