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C802-F281-493D-B488-62A8354A38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BC43-2E8D-4F8B-ACEF-86AF0918E5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4399-5EDC-4979-BBDD-9D62D8BDF5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1280-F40A-429E-8851-850B00906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F3E1-6BAA-47CC-8FFA-D828F229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EC71-654C-436B-A348-F3DEC4B79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BF23-4DD7-4929-8440-4EDE24A86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65DF-BD20-4B09-AF30-F126FB49E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21F1-D791-4552-A6BD-E65CFA58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023F-AC2C-4FCD-98D2-99FD2804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ABF0-D917-4DF1-87D5-64E06D50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44E2-78A8-4803-95BC-2E81647D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B748-45A6-4D44-9487-297B3931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F629-42EE-401C-A920-DAE00219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6EF9-5BA1-4551-A6BD-930D45E8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14FB-13BF-429A-A20D-CC34641C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E004-1EC8-46B5-ADC8-4B194E7A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127C-9635-437E-9BE6-1EA7A78B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54D0-C016-42AE-93A9-229E2F89C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1EC3-59CB-4B59-8A41-F6C4D777E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088E-0259-4526-98A3-8E20BE5D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1D3C-7427-4058-91DD-E6E1E345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9254-5966-4F7D-A234-4B3E29EE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DF86-68DC-4043-A2DB-A5F11EDB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FB01-B11D-46D3-8B4B-ACF2B59B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1E04-2751-4E45-9436-75835D3A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8950-5388-4F86-B57E-02093EFD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779C-6FC4-462E-A9F6-71E774271E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post-279854-1298288370.png"/>
          <p:cNvPicPr/>
          <p:nvPr/>
        </p:nvPicPr>
        <p:blipFill>
          <a:blip r:embed="rId3"/>
          <a:stretch/>
        </p:blipFill>
        <p:spPr>
          <a:xfrm>
            <a:off x="7500960" y="-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post-279854-1298288370.png"/>
          <p:cNvPicPr/>
          <p:nvPr/>
        </p:nvPicPr>
        <p:blipFill>
          <a:blip r:embed="rId4"/>
          <a:stretch/>
        </p:blipFill>
        <p:spPr>
          <a:xfrm>
            <a:off x="0" y="21420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97e6b01896c7.png"/>
          <p:cNvPicPr/>
          <p:nvPr/>
        </p:nvPicPr>
        <p:blipFill>
          <a:blip r:embed="rId5"/>
          <a:stretch/>
        </p:blipFill>
        <p:spPr>
          <a:xfrm rot="20340000">
            <a:off x="-628200" y="-348840"/>
            <a:ext cx="3330360" cy="2681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2A3F-5275-44B0-9BD9-D95D5FD84F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11280" y="404280"/>
            <a:ext cx="5832720" cy="37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4000" spc="-1" strike="noStrike">
                <a:solidFill>
                  <a:srgbClr val="ff0000"/>
                </a:solidFill>
                <a:latin typeface="Monotype Corsiva"/>
                <a:ea typeface="Aharoni"/>
              </a:rPr>
              <a:t>Подготовка к ВПР по русскому языку в 6 классе (тренировочный вариант 1)</a:t>
            </a:r>
            <a:br>
              <a:rPr sz="4000"/>
            </a:br>
            <a:br>
              <a:rPr sz="4000"/>
            </a:br>
            <a:br>
              <a:rPr sz="3200"/>
            </a:br>
            <a:br>
              <a:rPr sz="3200"/>
            </a:br>
            <a:br>
              <a:rPr sz="48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0509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одготовила учитель русского языка и    литературы МБОУ «Шахтёрская СШ №19»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вчинникова Людмила Василь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-36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  </a:t>
            </a:r>
            <a:br>
              <a:rPr sz="3200"/>
            </a:b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  </a:t>
            </a:r>
            <a:br>
              <a:rPr sz="3200"/>
            </a:b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5.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д каждым словом напишите, какой частью речи оно является.</a:t>
            </a:r>
            <a:br>
              <a:rPr sz="32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На каждом дереве ребята повесили по два скворечника для птичьих семей.</a:t>
            </a:r>
            <a:br>
              <a:rPr sz="28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26920" y="2395440"/>
            <a:ext cx="878688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6.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Найдите и исправьте ошибку(ошибки) 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разовании формы слова. Запиши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авильный вариант формы слова(слов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с обоими друзья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весёлое какад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самый жаркий ден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мой выбор более удачне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авильный 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4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едл.   мест.                  сущ.               сущ.                глаг.               пред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а каждом дереве ребята повесили п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числ.        сущ.                            предл.    прилаг.              сущ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ва скворечника для птичьих семей.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0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ёлый какаду, мой выбор более удачны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0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0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ёлый какаду, мой выбор удачне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alibri"/>
              </a:rPr>
              <a:t>7.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пишите предложение, в котором необходимо поставить тире. (Знаки препинания внутри предложений  не расставлены). Напишите, на каком основании Вы сделали выбор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85480" y="2357280"/>
            <a:ext cx="864396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) Вчера подул резкий вете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)Глубокие и чистые под деревьями      сугроб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)Июль макушка ле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)Живуч оказался дед Щукар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авильный 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859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 этом предложении подлежащее и   сказуемое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ыражены именем существительным в Им. 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ущ., им.п. сущ., им.п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Июль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−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акушка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ле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3"/>
          <p:cNvSpPr/>
          <p:nvPr/>
        </p:nvSpPr>
        <p:spPr>
          <a:xfrm>
            <a:off x="900000" y="184464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Июль – макушка л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818676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8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пишите предложение, в котором необходимо поставить две запятые. (Знаки препинания не расставлены.) Напишите, на каком основании вы сделали свой выбо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81160" y="213336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Наш сосед вырастил огромную тыкву принёс её в дом и угостил все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На уроке истории мы вспоминаем подвиги наших солдат и чтим память о н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На клумбе расцвели розы и они заполнили красками весь дво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Постарайтесь друзья не ссориться ни с кем и не ругать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авильный 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971640" y="2852640"/>
            <a:ext cx="748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райтесь, друзья, не ссориться ни с кем и не руга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едложение с обращени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очитайте текст и выполните задания </a:t>
            </a: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9-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екст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1)Для того чтобы считать дни, требовались большие числа: десятки, сотни и даже тысячи. (2)Никаких пальцев для счёта хватить не могло! (3)А ведь в счёте времени ошибаться нельзя. (4)Прошедший день исчезает, и его не вернёшь, не присоединишь к други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5)Но древние люди додумались: можно каждый день делать зарубку на палке и потом зарубки эти сосчитать. (6)Так началась первая на земле запись прожитых дней. (7)Только делали её не пером, а топором. (8)Именно таким деревянным календарём пользовался на необитаемом острове Робинзон Крузо. (9)Через каждые тридцать дней, то есть каждое новолуние, он делал на своём календаре зарубку подлиннее. (10)Получалась отметка месяца, а из месяцев складывался год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11)Интересно, что на Руси зарубками на палках – вроде робинзоновского календаря – пользовались для счёта каких-нибудь двести лет назад. (12)Только на них «записывали» не дни, а по́дати, налоги и долги. (13)Большинство крестьян в те времена было неграмотным. (14)Поэтому, когда приходилось платить по́дать или обро́к, крестьянин, чтобы не забыть, делал на специальной палочке столько надрезов, сколько мешков или мер зерна забирал у него сборщик налогов. (15)Потом палочку раскалывали вдоль на две половинки: одна оставалась у крестьянина и служила распиской, а другую вместо квитанции забирал с собой сборщик налогов. (16)Так простая палочка с зарубками не только помогала считать, но и служила документом – квитанцией или распиской. (17)А некоторые народы, например, индейцы в Северной Америке, вместо зарубок на палке завязывали узлы на шнуре или верёвке. (18)Таким оригинальным способом люди постепенно научились считать до сотен и тысяч и даже «записывать» большие числа. (19)И приноровились считать не только предметы, но и такие отвлечённые понятия, как дни или действ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(По И. Депману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9.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Определите и запишите основную мысль текст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82760" y="4220640"/>
            <a:ext cx="8229600" cy="36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     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10.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оставьте и запишите план текста из трёх пункт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авильный 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44600" y="27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3"/>
          <p:cNvSpPr/>
          <p:nvPr/>
        </p:nvSpPr>
        <p:spPr>
          <a:xfrm>
            <a:off x="971640" y="1341360"/>
            <a:ext cx="7488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Зарубки на палке в древности, а также узлы на шнуре или верёвке − оригинальные и удобные способы счёта отвлечённых понятий и записи больших чи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мысль текста может быть приведена в иной, близкой по смыслу формулиров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.Как считать д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.Первая запись прожитых д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3.Первые квитанции или распис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01720" y="267840"/>
            <a:ext cx="8400960" cy="26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11.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В чём, по мнению автора текста, заключается удобство такого счёта, как зарубки на палке?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87400" y="292248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b050"/>
                </a:solidFill>
                <a:latin typeface="Calibri"/>
              </a:rPr>
              <a:t>12.</a:t>
            </a: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пределите и запишите лексическое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значение слова «считать» из предложения 1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одберите и запишите предложение, в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котором данное многозначное слово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употреблялось бы в другом значении.</a:t>
            </a:r>
            <a:br>
              <a:rPr sz="33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2" descr="Рисунок19-min-m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6"/>
          <p:cNvSpPr/>
          <p:nvPr/>
        </p:nvSpPr>
        <p:spPr>
          <a:xfrm>
            <a:off x="1357200" y="142920"/>
            <a:ext cx="7786800" cy="63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От  педагога  зависит, чем  станет  сердце  ребенка –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нежным  цветком   или засушенной  корой.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               </a:t>
            </a:r>
            <a:r>
              <a:rPr b="1" lang="ru-RU" sz="4400" spc="-1" strike="noStrike">
                <a:solidFill>
                  <a:srgbClr val="002060"/>
                </a:solidFill>
                <a:latin typeface="Monotype Corsiva"/>
              </a:rPr>
              <a:t>В.А.Сухомлин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авильный 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826920" y="2421000"/>
            <a:ext cx="7561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очки с зарубками для счёта можно было носить с собой в качестве напоминания или документа, их могли сделать топором и использовать даже неграмотные лю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может быть дан в иной, близкой по смыслу формулиров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авильный 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55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12.Считать – определять количество или последовательность чего-либ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жет быть дано иное, близкое по смыслу объяснение. В объяснении в той или иной форме в контексте указанного в задании предложения должно быть сформулировано значение сл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Долгое время нашего соседа все считали чудаком и фантазёр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можны варианты предложения, в контексте которых данное многозначное слово употреблено в иных значения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914400" y="404280"/>
            <a:ext cx="8229600" cy="621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13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ределите стилистическую окраск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лова «приноровились» из предложения 19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пишите. Подберите и запишите синоним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синонимы) к этому слову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14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ъясните значение фразеологиз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витать в облаках», запиши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спользуя не менее  двух предложений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ишите ситуацию, в которой будет уместн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потребление этого фразеологизм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ключите фразеологизм в одно из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ложе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авильный 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55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13.Приноровились – разговорн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вильный ответ может содержать один из следующих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инонимо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риноровились – приспособились, изловчилис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жет быть подобран другой синони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авильный 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4.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Витать в облаках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– находиться в мечтательном состоянии, фантазировать, не замечать происходящего вокру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На концерте звучала музыка. Очарованные мелодией, многие слушатели витали в облак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гут быть представлены другие жизненные ситуации, в которых возможно употребление указанного фразеологиз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6" descr=""/>
          <p:cNvPicPr/>
          <p:nvPr/>
        </p:nvPicPr>
        <p:blipFill>
          <a:blip r:embed="rId1"/>
          <a:stretch/>
        </p:blipFill>
        <p:spPr>
          <a:xfrm>
            <a:off x="1173240" y="1457280"/>
            <a:ext cx="6802200" cy="3675240"/>
          </a:xfrm>
          <a:prstGeom prst="rect">
            <a:avLst/>
          </a:prstGeom>
          <a:ln w="0">
            <a:noFill/>
          </a:ln>
        </p:spPr>
      </p:pic>
      <p:sp>
        <p:nvSpPr>
          <p:cNvPr id="146" name="Shape 187"/>
          <p:cNvSpPr/>
          <p:nvPr/>
        </p:nvSpPr>
        <p:spPr>
          <a:xfrm>
            <a:off x="3059280" y="2563920"/>
            <a:ext cx="2916000" cy="20541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Все наши замыслы, все поиски и построения превращаются в прах, если у ученика нет желания учиться…                                                      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                                                                                               В.А. Сухомлин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2" descr="Рисунок19-min-min.jpg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6"/>
          <p:cNvSpPr/>
          <p:nvPr/>
        </p:nvSpPr>
        <p:spPr>
          <a:xfrm>
            <a:off x="2195640" y="1125360"/>
            <a:ext cx="6081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Учение, лишенное всякого интереса и взятое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только силой принуждения, убивает в ученик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охоту к овладению знаниям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                                                              </a:t>
            </a:r>
            <a:r>
              <a:rPr b="1" i="1" lang="ru-RU" sz="36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К.Д. Ушин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3" descr="Рисунок15-min-m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4"/>
          <p:cNvSpPr/>
          <p:nvPr/>
        </p:nvSpPr>
        <p:spPr>
          <a:xfrm>
            <a:off x="4572000" y="785880"/>
            <a:ext cx="39290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Самым важным явлением в  школ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самым поучительным предмет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самым живым примером для ученика является сам учитель. </a:t>
            </a:r>
            <a:r>
              <a:rPr b="1" i="1" lang="ru-RU" sz="3200" spc="-1" strike="noStrike">
                <a:solidFill>
                  <a:srgbClr val="002060"/>
                </a:solidFill>
                <a:latin typeface="Monotype Corsiva"/>
              </a:rPr>
              <a:t>А.Дистерв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11280" y="404280"/>
            <a:ext cx="5832720" cy="37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ff3300"/>
                </a:solidFill>
                <a:latin typeface="Bookman Old Style"/>
              </a:rPr>
              <a:t>БЛАГОДАРЮ</a:t>
            </a:r>
            <a:br>
              <a:rPr sz="3200"/>
            </a:br>
            <a:r>
              <a:rPr b="1" i="1" lang="ru-RU" sz="3200" spc="-1" strike="noStrike">
                <a:solidFill>
                  <a:srgbClr val="ff3300"/>
                </a:solidFill>
                <a:latin typeface="Bookman Old Style"/>
              </a:rPr>
              <a:t>ЗА </a:t>
            </a:r>
            <a:br>
              <a:rPr sz="3200"/>
            </a:br>
            <a:r>
              <a:rPr b="1" i="1" lang="ru-RU" sz="3200" spc="-1" strike="noStrike">
                <a:solidFill>
                  <a:srgbClr val="ff3300"/>
                </a:solidFill>
                <a:latin typeface="Bookman Old Style"/>
              </a:rPr>
              <a:t>ВНИМАНИЕ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1.Перепишите текст, раскрывая скобки, вставляя, где это необходимо, пропущенные буквы и знаки препин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42920" y="1356840"/>
            <a:ext cx="88581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кст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(северо)в..сточной част.. нашего леса есть (не)большая реч..ка. Вокруг неё ран..ше была болот..стая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(2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с..ность. Теперь в сухую п..году можно наблюдать, как на речк.. работают б..бры. Это уд..вительные животные! Вроде бы обыкнове(н,нн)ые грызуны но какие сильные! Лет..м они едят водные соч..ные р..стения, а на зиму пр..пасают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(3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тки берёзы ольхи или осины. Они подгрызают зубами пр..брежные д..ревья и вал..т их в воду.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..бры с р..ждения знают, что делать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лавать их тоже (н..)кто (не)учит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мьи б..бров ж..вут обычно в норах, которые вырыты в берегу. Если нору вырыть нельзя, то они стро..т из веток и глины проч..ные хатки. Эти хатки всегда выше ур..вня воды, но вход в такое жилищ.. находит..ся под вод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По С. Горево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авильный 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 северо-восточной части нашего леса есть небольшая речка. Вокруг неё раньше была болотистая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Calibri"/>
              </a:rPr>
              <a:t>(2)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естность. Теперь в сухую погоду можно наблюдать, как на речке работают бобры. Это удивительные животные! Вроде бы обыкновенные грызуны, но какие сильные! Летом они едят водные сочные растения, а на зиму припасают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Calibri"/>
              </a:rPr>
              <a:t>(3)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етки берёзы, ольхи или осины. Они подгрызают зубами прибрежные деревья и валят их в воду.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Calibri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Бобры с рождения знают, что делать.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лавать их тоже никто не учит.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емьи бобров живут обычно в норах, которые вырыты в берегу. Если нору вырыть нельзя, то они строят из веток и глины прочные хатки. Эти хатки всегда выше уровня воды, но вход в такое жилище находится под вод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(По С. Горево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Выполните обозначенные цифрами в тексте к заданию 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1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языковые разбор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4360" y="248436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(2) – морфемный и           словообразовательные разборы слов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(3) – морфологический разбор слов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(4) – синтаксический разбор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авильный 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Image 349" descr=""/>
          <p:cNvPicPr/>
          <p:nvPr/>
        </p:nvPicPr>
        <p:blipFill>
          <a:blip r:embed="rId1"/>
          <a:stretch/>
        </p:blipFill>
        <p:spPr>
          <a:xfrm>
            <a:off x="1390680" y="2276640"/>
            <a:ext cx="3181320" cy="8665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8874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рфемный и словообразовательные разборы сл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рфологический разбор сл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пасают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Припасают (что делают?) – глагол, н. ф. – припаса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Пост. – несов. вид, невозвр., переходн., I спр.; непост. – в форме изъявит. накл., наст. вр., 3-го л., мн. 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В предложении является сказуем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авильный 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777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нтаксический разбор предло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1"/>
          <p:cNvSpPr/>
          <p:nvPr/>
        </p:nvSpPr>
        <p:spPr>
          <a:xfrm>
            <a:off x="1098720" y="2205000"/>
            <a:ext cx="6946560" cy="37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5160" algn="just">
              <a:lnSpc>
                <a:spcPts val="1375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подгрызают зубами прибрежные деревья и валят их в воду.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е  повествовательное,  невосклицательное,  простое,  распространённое, с однородными сказуем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матическая основа: они (подлежащее, выражено местоимением) подгрызают (и) вал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днородные сказуемые, выражены глаголам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степенные члены предложения: (подгрызают) зубами – дополнение, выражено именем существительным (возможно: обстоятельство); (подгрызают) деревья – дополнение, выражено именем существительным; (деревья) прибрежные – определение, выражено именем прилагательным; (валят) их – дополнение, выражено местоимением; (валят) в воду – обстоятельство, выражено именем существительным с предло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alibri"/>
              </a:rPr>
              <a:t>   </a:t>
            </a:r>
            <a:r>
              <a:rPr b="1" i="1" lang="ru-RU" sz="3200" spc="-1" strike="noStrike">
                <a:solidFill>
                  <a:srgbClr val="00b050"/>
                </a:solidFill>
                <a:latin typeface="Calibri"/>
              </a:rPr>
              <a:t>3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выделенном предложении найдите слово, в котором не совпадает количество букв и звуков, выпишите это слово. Объясните причину данного несовпад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alibri"/>
              </a:rPr>
              <a:t>  </a:t>
            </a:r>
            <a:r>
              <a:rPr b="1" i="1" lang="ru-RU" sz="3200" spc="-1" strike="noStrike">
                <a:solidFill>
                  <a:srgbClr val="00b050"/>
                </a:solidFill>
                <a:latin typeface="Calibri"/>
              </a:rPr>
              <a:t>4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ставьте знак ударения в следующих слов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Щавель, (она) начала, красивее, шарф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авильный 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3"/>
          <p:cNvSpPr/>
          <p:nvPr/>
        </p:nvSpPr>
        <p:spPr>
          <a:xfrm>
            <a:off x="1241280" y="2087640"/>
            <a:ext cx="6661440" cy="35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600">
              <a:lnSpc>
                <a:spcPts val="8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600">
              <a:lnSpc>
                <a:spcPts val="8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в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ве 7 букв и 6 звуков, так как буква ь не обозначает зву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Щaвe´ль, (oнa) нaчaлa´ , кpacu´ вee, шa´ pф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23:19:04Z</dcterms:created>
  <dc:creator>лэпа</dc:creator>
  <dc:description/>
  <dc:language>en-US</dc:language>
  <cp:lastModifiedBy>SAMSUNG</cp:lastModifiedBy>
  <dcterms:modified xsi:type="dcterms:W3CDTF">2024-02-10T14:53:11Z</dcterms:modified>
  <cp:revision>183</cp:revision>
  <dc:subject/>
  <dc:title>Презентация PowerPoint</dc:title>
</cp:coreProperties>
</file>