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29.png" ContentType="image/png"/>
  <Override PartName="/ppt/media/image25.jpeg" ContentType="image/jpe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8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FF1-1B66-4DD7-A00D-BEA78034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301-E2D5-4495-A1D0-26EC295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C95-E915-4457-9526-E7DB8EE0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5D5-20CD-4AE4-A0AE-4569637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1C1-6186-4FE6-BC06-0264DB2D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FF9-4154-4B2E-B157-4DAEC13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1F1-B4A0-46C2-B86B-3A1F3EB4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E6A-C9D3-4A4A-AE55-4A58769E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F75-6D7C-4EF8-8B4C-9193E5A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E37-58BC-4AA2-8751-565D32F3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EE7-BAC4-403A-93B2-B5B3481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938-8125-4A27-8B5E-8FEE215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759-1377-4594-A910-06E0A7CDB5F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627D-6627-4410-BAF4-C577059FB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rieltour.ru/gogolevskiy-most-v-yoshkar-ole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iz00017"/>
          <p:cNvPicPr/>
          <p:nvPr/>
        </p:nvPicPr>
        <p:blipFill>
          <a:blip r:embed="rId1"/>
          <a:stretch/>
        </p:blipFill>
        <p:spPr>
          <a:xfrm>
            <a:off x="179280" y="2492280"/>
            <a:ext cx="6140520" cy="3624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4360" y="1844640"/>
            <a:ext cx="8280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Литературные памятники Йошкар-О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Picture 25" descr="C:\Documents and Settings\Бабанова НЮ\Рабочий стол\3.jpg"/>
          <p:cNvPicPr/>
          <p:nvPr/>
        </p:nvPicPr>
        <p:blipFill>
          <a:blip r:embed="rId2"/>
          <a:stretch/>
        </p:blipFill>
        <p:spPr>
          <a:xfrm>
            <a:off x="7093080" y="4365720"/>
            <a:ext cx="1428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роект  «12 апостолов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8" descr="http://www.marieltour.ru/sites/default/files/yola-chasy.jpg"/>
          <p:cNvPicPr/>
          <p:nvPr/>
        </p:nvPicPr>
        <p:blipFill>
          <a:blip r:embed="rId1"/>
          <a:stretch/>
        </p:blipFill>
        <p:spPr>
          <a:xfrm>
            <a:off x="3492360" y="1341360"/>
            <a:ext cx="540072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187280" y="39812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кульптурная композиция. Впереди на ослике Сам Учитель - Иисус Христос. А следом и Его ученики - апостолы композиция повторяет известный евангельский сюжет. Идею  проекта «12 апостолов» генерировал глава республики, а за ее практическое воплощение взялись народный художник Российской Федерации Андрей Ковальчук и научный руководитель лаборатории «Мехатронные системы» Марийского государственного технического университета Игорь Кудряв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https://i02.fotocdn.net/s16/256/gallery_m/245/47379711.jpg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8"/>
          <p:cNvPicPr/>
          <p:nvPr/>
        </p:nvPicPr>
        <p:blipFill>
          <a:blip r:embed="rId3"/>
          <a:stretch/>
        </p:blipFill>
        <p:spPr>
          <a:xfrm>
            <a:off x="395280" y="189000"/>
            <a:ext cx="584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школа без а"/>
          <p:cNvPicPr/>
          <p:nvPr/>
        </p:nvPicPr>
        <p:blipFill>
          <a:blip r:embed="rId1"/>
          <a:stretch/>
        </p:blipFill>
        <p:spPr>
          <a:xfrm>
            <a:off x="250920" y="1125360"/>
            <a:ext cx="118908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mage029"/>
          <p:cNvPicPr/>
          <p:nvPr/>
        </p:nvPicPr>
        <p:blipFill>
          <a:blip r:embed="rId2"/>
          <a:stretch/>
        </p:blipFill>
        <p:spPr>
          <a:xfrm>
            <a:off x="684360" y="1268280"/>
            <a:ext cx="6769080" cy="4281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340640" y="3429000"/>
            <a:ext cx="57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9"/>
          <p:cNvPicPr/>
          <p:nvPr/>
        </p:nvPicPr>
        <p:blipFill>
          <a:blip r:embed="rId3"/>
          <a:stretch/>
        </p:blipFill>
        <p:spPr>
          <a:xfrm>
            <a:off x="395280" y="260280"/>
            <a:ext cx="5698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95076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900000" y="126828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Цель  рабо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9640" y="3141720"/>
            <a:ext cx="85899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Собрать информацию о литературных памятниках  г. Йошкар-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Собрать фото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Создать электронную презен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Monotype Corsiva"/>
              </a:rPr>
              <a:t>Провести опрос среди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55640" y="213372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Изучение  литературных скульптурных  памятников и композиций нашего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71640" y="314172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Задачи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611280" y="260280"/>
            <a:ext cx="42840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1835280" y="189000"/>
            <a:ext cx="489744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Сергею Чавайну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51" name="Picture 11" descr="attantion"/>
          <p:cNvPicPr/>
          <p:nvPr/>
        </p:nvPicPr>
        <p:blipFill>
          <a:blip r:embed="rId2"/>
          <a:stretch/>
        </p:blipFill>
        <p:spPr>
          <a:xfrm>
            <a:off x="7524720" y="5661000"/>
            <a:ext cx="139068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http://www.marieltour.ru/sites/default/files/yola-chavain.jpg"/>
          <p:cNvPicPr/>
          <p:nvPr/>
        </p:nvPicPr>
        <p:blipFill>
          <a:blip r:embed="rId3"/>
          <a:stretch/>
        </p:blipFill>
        <p:spPr>
          <a:xfrm>
            <a:off x="539640" y="148428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8"/>
          <p:cNvSpPr/>
          <p:nvPr/>
        </p:nvSpPr>
        <p:spPr>
          <a:xfrm>
            <a:off x="4572000" y="1844640"/>
            <a:ext cx="360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Памятник основоположнику марийской литературы Сергею Чавайну находится на одноименном, центральном бульваре города. На постаменте торжественно открытого в 1978 году памятника как дата гибели писателя указан 1942 год, хотя он был расстрелян в НКВД 11 ноября 193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- художник Борис Дюж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s3-eu-central-1.amazonaws.com/mediapotok/wp-content/uploads/2017/09/06110758/4ca85a362be2d52dc73a13b684ef57c4.jpg"/>
          <p:cNvPicPr/>
          <p:nvPr/>
        </p:nvPicPr>
        <p:blipFill>
          <a:blip r:embed="rId4"/>
          <a:stretch/>
        </p:blipFill>
        <p:spPr>
          <a:xfrm>
            <a:off x="539640" y="4365720"/>
            <a:ext cx="29527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А.С.Пушкин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Прямоугольник 18"/>
          <p:cNvSpPr/>
          <p:nvPr/>
        </p:nvSpPr>
        <p:spPr>
          <a:xfrm>
            <a:off x="179280" y="4508640"/>
            <a:ext cx="41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Памятник А.С.Пушкину на площади Пушкина был установлен 5 июня 1980 г., а торжественно открыт ровно через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 неизвест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21" descr="http://www.marieltour.ru/sites/default/files/yola-pushkin1.jpg"/>
          <p:cNvPicPr/>
          <p:nvPr/>
        </p:nvPicPr>
        <p:blipFill>
          <a:blip r:embed="rId1"/>
          <a:stretch/>
        </p:blipFill>
        <p:spPr>
          <a:xfrm>
            <a:off x="539640" y="1413000"/>
            <a:ext cx="3024360" cy="28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2"/>
          <p:cNvPicPr/>
          <p:nvPr/>
        </p:nvPicPr>
        <p:blipFill>
          <a:blip r:embed="rId2"/>
          <a:stretch/>
        </p:blipFill>
        <p:spPr>
          <a:xfrm>
            <a:off x="539640" y="260280"/>
            <a:ext cx="542880" cy="797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3" descr="http://www.marieltour.ru/sites/default/files/yola-pushkin.jpg"/>
          <p:cNvPicPr/>
          <p:nvPr/>
        </p:nvPicPr>
        <p:blipFill>
          <a:blip r:embed="rId3"/>
          <a:stretch/>
        </p:blipFill>
        <p:spPr>
          <a:xfrm>
            <a:off x="4500720" y="3933720"/>
            <a:ext cx="4032000" cy="2646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3995640" y="946800"/>
            <a:ext cx="460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Памятник открыт 31 августа 2011 года в преддверии дня знаний на Воскресенской набережной, в месте начала улицы Пушкина.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  Александр Пушкин изображен вместе с главным героем своего романа «Евгений Онегин». Автором памятника является заслуженный художник России, скульптор Андрей Ковальчук.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  Оригинальность замысла заключается в объединении в одной скульптурной композиции писателя и и его литературного ге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Аркадию Крупняков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4643280" y="1844640"/>
            <a:ext cx="36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Памятник  марийскому писателю, журналисту, участнику Великой Отечественной Войны торжественно открыт 4 ноября 20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7" descr="http://www.marieltour.ru/sites/default/files/yola-krup.jpg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3960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http://parlament.mari.ru/2011/05/DSC_8157b.jpg"/>
          <p:cNvPicPr/>
          <p:nvPr/>
        </p:nvPicPr>
        <p:blipFill>
          <a:blip r:embed="rId2"/>
          <a:stretch/>
        </p:blipFill>
        <p:spPr>
          <a:xfrm>
            <a:off x="5076720" y="4437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3"/>
          <p:cNvPicPr/>
          <p:nvPr/>
        </p:nvPicPr>
        <p:blipFill>
          <a:blip r:embed="rId3"/>
          <a:stretch/>
        </p:blipFill>
        <p:spPr>
          <a:xfrm>
            <a:off x="493560" y="260280"/>
            <a:ext cx="549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 Йывану Кырле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67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10" descr="http://www.marieltour.ru/sites/default/files/yola-mustafa.jpg"/>
          <p:cNvPicPr/>
          <p:nvPr/>
        </p:nvPicPr>
        <p:blipFill>
          <a:blip r:embed="rId1"/>
          <a:stretch/>
        </p:blipFill>
        <p:spPr>
          <a:xfrm>
            <a:off x="324000" y="1916280"/>
            <a:ext cx="3743280" cy="3744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1187280" y="6003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Мустафа на дре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4716360" y="2413080"/>
            <a:ext cx="37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Бронзовый монумент, изображающий талантливого марийца верхом на дрезине, открыт 2 ноября 2009 г. Установлен на площади перед зданием железнодорожного вокзала, увековечив память поэта и первого марийского 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4"/>
          <p:cNvPicPr/>
          <p:nvPr/>
        </p:nvPicPr>
        <p:blipFill>
          <a:blip r:embed="rId2"/>
          <a:stretch/>
        </p:blipFill>
        <p:spPr>
          <a:xfrm>
            <a:off x="395280" y="189000"/>
            <a:ext cx="6364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 Н.В.Гоголю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4572000" y="873000"/>
            <a:ext cx="388764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На набережной, около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ea typeface="Times New Roman"/>
                <a:hlinkClick r:id="rId1"/>
              </a:rPr>
              <a:t>Гоголевского моста</a:t>
            </a: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и улицы Гоголя  установлен памятник Николаю Васильевичу Гоголю. Напомним, что в великих "Мёртвых душах" прозвучало упоминание города,  тогда он назывался Царевококшайск. При открытии памятника состоялось театрализованное представление в костюмах тех времен.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   Автор памятника Андрей Николаевич Ковальч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5"/>
          <p:cNvPicPr/>
          <p:nvPr/>
        </p:nvPicPr>
        <p:blipFill>
          <a:blip r:embed="rId2"/>
          <a:stretch/>
        </p:blipFill>
        <p:spPr>
          <a:xfrm>
            <a:off x="250920" y="189000"/>
            <a:ext cx="495360" cy="7189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7" descr="https://fs00.infourok.ru/images/doc/123/144672/img11.jpg"/>
          <p:cNvPicPr/>
          <p:nvPr/>
        </p:nvPicPr>
        <p:blipFill>
          <a:blip r:embed="rId3"/>
          <a:stretch/>
        </p:blipFill>
        <p:spPr>
          <a:xfrm>
            <a:off x="539640" y="1600200"/>
            <a:ext cx="352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«Лукоморье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4572000" y="34851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7" descr="http://www.marieltour.ru/sites/default/files/yola-lukomor1.jpg"/>
          <p:cNvPicPr/>
          <p:nvPr/>
        </p:nvPicPr>
        <p:blipFill>
          <a:blip r:embed="rId1"/>
          <a:stretch/>
        </p:blipFill>
        <p:spPr>
          <a:xfrm>
            <a:off x="250920" y="1484280"/>
            <a:ext cx="2376360" cy="3240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4356000" y="162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0" descr="http://www.marieltour.ru/sites/default/files/yola-lukomor.jpg"/>
          <p:cNvPicPr/>
          <p:nvPr/>
        </p:nvPicPr>
        <p:blipFill>
          <a:blip r:embed="rId2"/>
          <a:stretch/>
        </p:blipFill>
        <p:spPr>
          <a:xfrm>
            <a:off x="2987640" y="198900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1"/>
          <p:cNvSpPr/>
          <p:nvPr/>
        </p:nvSpPr>
        <p:spPr>
          <a:xfrm>
            <a:off x="2050920" y="472428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В Йошкар-Оле возле стен кремля стоит памятник литературным героям Александра Сергеевича Пушкина - «Русалка на ветвях и кот учены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 памятника-экспозиции «Лукоморье» Сергей Слесарев и художник Геннадий Ефр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124000" y="593208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20 сентября 2012 года появились новые персонажи - баба Яга и Соловей-разбой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2" descr="https://otvet.imgsmail.ru/download/2d769f7c0abce9f132259376e1b302f2_s-11110.jpg"/>
          <p:cNvPicPr/>
          <p:nvPr/>
        </p:nvPicPr>
        <p:blipFill>
          <a:blip r:embed="rId3"/>
          <a:stretch/>
        </p:blipFill>
        <p:spPr>
          <a:xfrm>
            <a:off x="6588000" y="1413000"/>
            <a:ext cx="2381400" cy="316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6"/>
          <p:cNvPicPr/>
          <p:nvPr/>
        </p:nvPicPr>
        <p:blipFill>
          <a:blip r:embed="rId4"/>
          <a:stretch/>
        </p:blipFill>
        <p:spPr>
          <a:xfrm>
            <a:off x="395280" y="189000"/>
            <a:ext cx="6066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6"/>
          <p:cNvSpPr txBox="1"/>
          <p:nvPr/>
        </p:nvSpPr>
        <p:spPr>
          <a:xfrm>
            <a:off x="1979640" y="260280"/>
            <a:ext cx="4753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амятник  Петру и Феврони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Прямоугольник 18"/>
          <p:cNvSpPr/>
          <p:nvPr/>
        </p:nvSpPr>
        <p:spPr>
          <a:xfrm>
            <a:off x="4643280" y="1844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4572000" y="3352680"/>
            <a:ext cx="3887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7" descr="http://www.marieltour.ru/sites/default/files/yola-petr1.jpg"/>
          <p:cNvPicPr/>
          <p:nvPr/>
        </p:nvPicPr>
        <p:blipFill>
          <a:blip r:embed="rId1"/>
          <a:stretch/>
        </p:blipFill>
        <p:spPr>
          <a:xfrm>
            <a:off x="755640" y="1830240"/>
            <a:ext cx="3168720" cy="4067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427640" y="2205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4 ноября 2010 года в Йошкар-Оле на Патриаршей площади открыт памятник-фонтан Петру и Февронии, изготовленный народным художником России Андреем Ковальчу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4427640" y="357336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Согласно преданию, князь Петр правил в Муроме в начале XIII века, а в жены взял простую крестьянскую девушку Февронию, исцелившую его от страшного нед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Monotype Corsiva"/>
              </a:rPr>
              <a:t>Автор А. Ковальч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7"/>
          <p:cNvPicPr/>
          <p:nvPr/>
        </p:nvPicPr>
        <p:blipFill>
          <a:blip r:embed="rId2"/>
          <a:stretch/>
        </p:blipFill>
        <p:spPr>
          <a:xfrm>
            <a:off x="250920" y="189000"/>
            <a:ext cx="649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20:56:21Z</dcterms:created>
  <dc:creator>admin</dc:creator>
  <dc:description/>
  <dc:language>en-US</dc:language>
  <cp:lastModifiedBy>user</cp:lastModifiedBy>
  <dcterms:modified xsi:type="dcterms:W3CDTF">2018-04-19T16:13:24Z</dcterms:modified>
  <cp:revision>74</cp:revision>
  <dc:subject/>
  <dc:title>Слайд 1</dc:title>
</cp:coreProperties>
</file>