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D06-D888-4BDD-B1A8-614A3E44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763-DE0F-4A25-B359-8FFEB41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370-8D85-4456-948D-C16EA435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655-8B2E-4B0F-AD7B-29D886B8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71A8-CC0E-4587-AF2F-B3FBD361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81EC-CFD2-422F-A6B9-4F22AC2F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531C-CF97-4ECE-B464-D7F220F0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70AF-FEEA-46C0-88E5-EE262C91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349-7CCD-4FFC-9CF2-5198C804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386C-33D7-4F6F-B800-CE81E294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A28C-4DA9-4E30-89DF-6006357F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671-9EBC-4FD3-96D3-708DC0F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A9E4-8B8E-4853-86BD-1DBE2621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DDF0-D7FE-446B-B408-0135CD4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1875-7EF1-4DA1-83E4-D5DF6BA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671C-6FFD-45CA-9EB8-1B0CF4E9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258-13F4-44CE-B493-7FD8C416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FF7-94A7-4203-BC79-60BA6A0E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7AA-B933-48A4-85F2-E45FEA01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E6F-F610-4E07-B196-38FE16AC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425-75F0-40A7-A406-53E0A4C7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F83-4C25-46FD-B0C2-E7CE32E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649-ED44-4636-AFF6-CBFDD36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1E0-894C-44DD-A2B1-C0AD8EB8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buClr>
                    <a:srgbClr val="003366"/>
                  </a:buClr>
                  <a:buSzPct val="75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buClr>
                    <a:srgbClr val="003366"/>
                  </a:buClr>
                  <a:buSzPct val="75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buClr>
                    <a:srgbClr val="003366"/>
                  </a:buClr>
                  <a:buSzPct val="75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6C30-2AF7-423B-837A-D2FEAB1D5FB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3A1C-486B-4E29-88AD-D5495F9C694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ма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Роль Центрального Банка в кредитно-денежной системе страны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ры по стабилизации кредитно-банковской системы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овершенствование банковского законодательст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иведение в соответствие уровня банковских резервов и уровня учетной ставк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ие новых форм кредитно-банковских услуг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егулирование емкости кредитного рын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371600" y="2895480"/>
            <a:ext cx="6705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47920" y="2819520"/>
            <a:ext cx="6553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Document"/>
          <p:cNvSpPr/>
          <p:nvPr/>
        </p:nvSpPr>
        <p:spPr>
          <a:xfrm>
            <a:off x="2590920" y="2666880"/>
            <a:ext cx="4724280" cy="3495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приятие берет кредит 100 тыс. р. на 2 года под 15% годовых. Рассчитайте, сколько должно будет заплатить предприят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задачи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DownRibbonSharp"/>
          <p:cNvSpPr/>
          <p:nvPr/>
        </p:nvSpPr>
        <p:spPr>
          <a:xfrm rot="21151800">
            <a:off x="761760" y="3276720"/>
            <a:ext cx="8153280" cy="19047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0+100*0,15*2=130 т. 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2514600" y="2743200"/>
            <a:ext cx="4724280" cy="33526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ставьте план погашения займа в 250 тыс. р., выданного на 5 лет. Долг погашается равными частями. 10% годовых начисляются 1 раз в год на остаток долг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задачи 2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2590920"/>
          <a:ext cx="7848720" cy="3768480"/>
        </p:xfrm>
        <a:graphic>
          <a:graphicData uri="http://schemas.openxmlformats.org/drawingml/2006/table">
            <a:tbl>
              <a:tblPr/>
              <a:tblGrid>
                <a:gridCol w="700200"/>
                <a:gridCol w="2409840"/>
                <a:gridCol w="1865160"/>
                <a:gridCol w="1633680"/>
                <a:gridCol w="1239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аток долга на начало год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гашение основного долг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цент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мма уплат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задачи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2666880"/>
          <a:ext cx="7772400" cy="3740400"/>
        </p:xfrm>
        <a:graphic>
          <a:graphicData uri="http://schemas.openxmlformats.org/drawingml/2006/table">
            <a:tbl>
              <a:tblPr/>
              <a:tblGrid>
                <a:gridCol w="692280"/>
                <a:gridCol w="2387520"/>
                <a:gridCol w="1847880"/>
                <a:gridCol w="1616040"/>
                <a:gridCol w="1228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аток долга на начало год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гашение основного долг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цент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мма уплат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Document"/>
          <p:cNvSpPr/>
          <p:nvPr/>
        </p:nvSpPr>
        <p:spPr>
          <a:xfrm>
            <a:off x="2590920" y="2523960"/>
            <a:ext cx="4724280" cy="3495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считайте величину обязательного резерва и количество денег, которое банк может ссужать фирмам, если норма резервирования составляет 20%, а у банка есть 100 млн. 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задачи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Cloud"/>
          <p:cNvSpPr/>
          <p:nvPr/>
        </p:nvSpPr>
        <p:spPr>
          <a:xfrm>
            <a:off x="1143000" y="2514600"/>
            <a:ext cx="7238880" cy="404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100*0,2=20 млн.р. – величина обязательного резер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100-20=80 млн. р. – банк может ссужать фирм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уктура современной банковской систе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струменты кредитно-денежного регулирования  Ц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ры по стабилизации кредитно-банковской систе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0440" y="22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. Структура современной банковской систем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1447560"/>
            <a:ext cx="71596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 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Банковская систе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(двухуровнева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Центральный бан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ммерческие б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. 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пециализированные финансово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е институ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енсионные фон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траховые комп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вестиционные банки и д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Центральный банк России (ЦБ России)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ыл создан в 1991 г. и действует в соответствии с Законом о Центральном банке. Он является государственным учреждением и находится в федеральной собствен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8080" y="533160"/>
            <a:ext cx="76932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ункции ЦБ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эмиссия денег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хранение резервного фонда других кредитны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учреждений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 хранение государственного золотовалютного резерва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денежно-кредитное регулирование экономик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кредитование коммерческих бан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Определяет стандарты и порядок расчетов и платежей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управляет счетами правительства, осуществляет зарубежные финансовые опер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66"/>
                </a:solidFill>
                <a:uFillTx/>
                <a:latin typeface="Arial"/>
              </a:rPr>
              <a:t>Коммерческие банк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оммерческие банки 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 кредитно- финансовые учреждения, занимающиеся привлечением и размещением денежных ресурсов (до 200 видов услуг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 кредитно-расчетное обслуживание субъектов хозяйств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прием вкладов и выдачу кредит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купля-продажа ценных бумаг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консультации по финансово- кредитным вопросам и др.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.Инструменты кредитно-денежного регулирования  ЦБ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914400" y="2514600"/>
            <a:ext cx="236232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упля-прода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ых бума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открытом рын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581280" y="2514600"/>
            <a:ext cx="236232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ределение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ровня  учетно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вки проц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6248520" y="2514600"/>
            <a:ext cx="236196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ор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язатель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зерв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066680" y="4038480"/>
            <a:ext cx="7543800" cy="1828800"/>
          </a:xfrm>
          <a:prstGeom prst="downArrowCallout">
            <a:avLst>
              <a:gd name="adj1" fmla="val 103135"/>
              <a:gd name="adj2" fmla="val 10312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воздейств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066680" y="5867280"/>
            <a:ext cx="3505320" cy="762120"/>
          </a:xfrm>
          <a:prstGeom prst="hexagon">
            <a:avLst>
              <a:gd name="adj" fmla="val 114986"/>
              <a:gd name="vf" fmla="val 115470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енежная мас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5105520" y="5867280"/>
            <a:ext cx="3504960" cy="762120"/>
          </a:xfrm>
          <a:prstGeom prst="hexagon">
            <a:avLst>
              <a:gd name="adj" fmla="val 114974"/>
              <a:gd name="vf" fmla="val 115470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вка проц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лияние изменения нормы обязательных резервов на денежную массу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066680" y="2590920"/>
            <a:ext cx="2438640" cy="1371600"/>
          </a:xfrm>
          <a:prstGeom prst="rightArrowCallout">
            <a:avLst>
              <a:gd name="adj1" fmla="val 25002"/>
              <a:gd name="adj2" fmla="val 25000"/>
              <a:gd name="adj3" fmla="val 29633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90720" y="2590920"/>
            <a:ext cx="1828800" cy="1218960"/>
          </a:xfrm>
          <a:prstGeom prst="right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UTurnArrow"/>
          <p:cNvSpPr/>
          <p:nvPr/>
        </p:nvSpPr>
        <p:spPr>
          <a:xfrm>
            <a:off x="1981080" y="3581280"/>
            <a:ext cx="809640" cy="733680"/>
          </a:xfrm>
          <a:custGeom>
            <a:avLst/>
            <a:gdLst>
              <a:gd name="textAreaLeft" fmla="*/ 0 w 809640"/>
              <a:gd name="textAreaRight" fmla="*/ 208800 w 809640"/>
              <a:gd name="textAreaTop" fmla="*/ 282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UTurnArrow"/>
          <p:cNvSpPr/>
          <p:nvPr/>
        </p:nvSpPr>
        <p:spPr>
          <a:xfrm>
            <a:off x="4038480" y="2895480"/>
            <a:ext cx="809640" cy="733680"/>
          </a:xfrm>
          <a:custGeom>
            <a:avLst/>
            <a:gdLst>
              <a:gd name="textAreaLeft" fmla="*/ 0 w 809640"/>
              <a:gd name="textAreaRight" fmla="*/ 208800 w 809640"/>
              <a:gd name="textAreaTop" fmla="*/ 282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UTurnArrow"/>
          <p:cNvSpPr/>
          <p:nvPr/>
        </p:nvSpPr>
        <p:spPr>
          <a:xfrm>
            <a:off x="6095880" y="2362320"/>
            <a:ext cx="809640" cy="733320"/>
          </a:xfrm>
          <a:custGeom>
            <a:avLst/>
            <a:gdLst>
              <a:gd name="textAreaLeft" fmla="*/ 0 w 809640"/>
              <a:gd name="textAreaRight" fmla="*/ 208800 w 809640"/>
              <a:gd name="textAreaTop" fmla="*/ 28224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38080" y="441972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рм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езерв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величилас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уменьши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ас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Document"/>
          <p:cNvSpPr/>
          <p:nvPr/>
        </p:nvSpPr>
        <p:spPr>
          <a:xfrm>
            <a:off x="2895480" y="373392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личеств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сужаем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не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меньшилос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увеличилос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4952880" y="312408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рм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еру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ньш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больше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реди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Document"/>
          <p:cNvSpPr/>
          <p:nvPr/>
        </p:nvSpPr>
        <p:spPr>
          <a:xfrm>
            <a:off x="7010280" y="236232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нежна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асса в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ращен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меньшилас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увеличилас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лияние изменения учетной ставки процента на денежную масс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Document"/>
          <p:cNvSpPr/>
          <p:nvPr/>
        </p:nvSpPr>
        <p:spPr>
          <a:xfrm>
            <a:off x="838080" y="441972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етн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ав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ц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тет (падает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Document"/>
          <p:cNvSpPr/>
          <p:nvPr/>
        </p:nvSpPr>
        <p:spPr>
          <a:xfrm>
            <a:off x="2895480" y="380988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реди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ановят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оле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ороги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дешевыми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5029200" y="320040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ир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еру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еньш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больш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реди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Document"/>
          <p:cNvSpPr/>
          <p:nvPr/>
        </p:nvSpPr>
        <p:spPr>
          <a:xfrm>
            <a:off x="7086600" y="243828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нежна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асса 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ращен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меньшаетс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увеличивает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я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UTurnArrow"/>
          <p:cNvSpPr/>
          <p:nvPr/>
        </p:nvSpPr>
        <p:spPr>
          <a:xfrm>
            <a:off x="6095880" y="2438280"/>
            <a:ext cx="990720" cy="685800"/>
          </a:xfrm>
          <a:custGeom>
            <a:avLst/>
            <a:gdLst>
              <a:gd name="textAreaLeft" fmla="*/ 0 w 990720"/>
              <a:gd name="textAreaRight" fmla="*/ 255600 w 990720"/>
              <a:gd name="textAreaTop" fmla="*/ 2638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UTurnArrow"/>
          <p:cNvSpPr/>
          <p:nvPr/>
        </p:nvSpPr>
        <p:spPr>
          <a:xfrm>
            <a:off x="4038480" y="3048120"/>
            <a:ext cx="990720" cy="685800"/>
          </a:xfrm>
          <a:custGeom>
            <a:avLst/>
            <a:gdLst>
              <a:gd name="textAreaLeft" fmla="*/ 0 w 990720"/>
              <a:gd name="textAreaRight" fmla="*/ 255600 w 990720"/>
              <a:gd name="textAreaTop" fmla="*/ 2638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UTurnArrow"/>
          <p:cNvSpPr/>
          <p:nvPr/>
        </p:nvSpPr>
        <p:spPr>
          <a:xfrm>
            <a:off x="1828800" y="3657600"/>
            <a:ext cx="990720" cy="685800"/>
          </a:xfrm>
          <a:custGeom>
            <a:avLst/>
            <a:gdLst>
              <a:gd name="textAreaLeft" fmla="*/ 0 w 990720"/>
              <a:gd name="textAreaRight" fmla="*/ 255600 w 990720"/>
              <a:gd name="textAreaTop" fmla="*/ 2638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2-11T12:47:3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50000000000010243100207f6000400038000</vt:lpwstr>
  </property>
  <property fmtid="{D5CDD505-2E9C-101B-9397-08002B2CF9AE}" pid="3" name="Version">
    <vt:r8>1</vt:r8>
  </property>
</Properties>
</file>