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C606-7E93-4761-A1F4-6E064FF06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E996-D279-4BE2-AF34-2E5E55720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6EAD-12EE-44A0-8A9A-95501F691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1C1A-0928-445C-B896-856902CC9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98738-2FBB-4EC3-AF10-46C0BE1DC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11470-D7C5-44C0-B6EE-8340AA73E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D2CAE-4C40-4616-9C9A-698F52D0C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34A09-03FF-4A74-980B-0F1C70D9A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DA188-8EB3-4DFF-A522-ABEC5A2C8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8A5E1-A636-4D41-AEB5-2575E6D2D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35D6B-047A-407C-ADF2-8E44E9EA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B39B-39F2-45BE-8831-6F8B0DD96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C5338-A5CE-4335-BCBE-A8F87AA7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3A355-A99A-4536-946B-42FFEFF12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02FB9-2854-41BF-9CB6-B114DA14D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784C0-27B2-49D9-A0F9-55D7F8A49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0F731-4246-4320-93A7-2360E0FFC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BE1C-DA28-42B2-8353-2A9247960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2475-D416-47F3-9F29-A3BA5BD3D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8E77-5066-4E39-B1D0-80A26732B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BFA9-F7C0-4BCE-9C03-D4B5FACE1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D344-413E-43EC-84D9-0E682263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49AD-580F-4DFF-BF8D-8E92409D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5FE5-954B-4BFF-827D-BB234F1E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601"/>
                  </a:spcBef>
                  <a:buClr>
                    <a:srgbClr val="003366"/>
                  </a:buClr>
                  <a:buSzPct val="75000"/>
                  <a:buFont typeface="Wingdings" charset="2"/>
                  <a:buChar char="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601"/>
                  </a:spcBef>
                  <a:buClr>
                    <a:srgbClr val="003366"/>
                  </a:buClr>
                  <a:buSzPct val="75000"/>
                  <a:buFont typeface="Wingdings" charset="2"/>
                  <a:buChar char="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601"/>
                  </a:spcBef>
                  <a:buClr>
                    <a:srgbClr val="003366"/>
                  </a:buClr>
                  <a:buSzPct val="75000"/>
                  <a:buFont typeface="Wingdings" charset="2"/>
                  <a:buChar char="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6FF2D-E304-48F7-9EFC-28F195AFCB1C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601"/>
                </a:spcBef>
                <a:buClr>
                  <a:srgbClr val="003366"/>
                </a:buClr>
                <a:buSzPct val="7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601"/>
                </a:spcBef>
                <a:buClr>
                  <a:srgbClr val="003366"/>
                </a:buClr>
                <a:buSzPct val="7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4A31A-C12B-4125-9461-B8C86A3C0404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Тема урока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66"/>
                </a:solidFill>
                <a:latin typeface="Arial"/>
              </a:rPr>
              <a:t>Роль Центрального Банка в кредитно-денежной системе страны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II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Меры по стабилизации кредитно-банковской системы</a:t>
            </a:r>
            <a:r>
              <a:rPr b="1" i="1" lang="ru-RU" sz="3200" spc="-1" strike="noStrike">
                <a:solidFill>
                  <a:srgbClr val="006666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Совершенствование банковского законодательства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Приведение в соответствие уровня банковских резервов и уровня учетной ставки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Развитие новых форм кредитно-банковских услуг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Регулирование емкости кредитного рынк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адача 1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1371600" y="2895480"/>
            <a:ext cx="670572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1447920" y="2819520"/>
            <a:ext cx="65530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Document"/>
          <p:cNvSpPr/>
          <p:nvPr/>
        </p:nvSpPr>
        <p:spPr>
          <a:xfrm>
            <a:off x="2590920" y="2666880"/>
            <a:ext cx="4724280" cy="349596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едприятие берет кредит 100 тыс. р. на 2 года под 15% годовых. Рассчитайте, сколько должно будет заплатить предприяти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ешение задачи 1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DownRibbonSharp"/>
          <p:cNvSpPr/>
          <p:nvPr/>
        </p:nvSpPr>
        <p:spPr>
          <a:xfrm rot="21151800">
            <a:off x="761760" y="3276720"/>
            <a:ext cx="8153280" cy="190476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100+100*0,15*2=130 т. р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адача 2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2514600" y="2743200"/>
            <a:ext cx="4724280" cy="335268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оставьте план погашения займа в 250 тыс. р., выданного на 5 лет. Долг погашается равными частями. 10% годовых начисляются 1 раз в год на остаток долг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ешение задачи 2.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914400" y="2590920"/>
          <a:ext cx="7848720" cy="3768480"/>
        </p:xfrm>
        <a:graphic>
          <a:graphicData uri="http://schemas.openxmlformats.org/drawingml/2006/table">
            <a:tbl>
              <a:tblPr/>
              <a:tblGrid>
                <a:gridCol w="700200"/>
                <a:gridCol w="2409840"/>
                <a:gridCol w="1865160"/>
                <a:gridCol w="1633680"/>
                <a:gridCol w="123984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год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Остаток долга на начало года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огашение основного долга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роценты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умма уплаты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1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1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1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1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ешение задачи 2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45080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066680" y="2666880"/>
          <a:ext cx="7772400" cy="3740400"/>
        </p:xfrm>
        <a:graphic>
          <a:graphicData uri="http://schemas.openxmlformats.org/drawingml/2006/table">
            <a:tbl>
              <a:tblPr/>
              <a:tblGrid>
                <a:gridCol w="692280"/>
                <a:gridCol w="2387520"/>
                <a:gridCol w="1847880"/>
                <a:gridCol w="1616040"/>
                <a:gridCol w="122868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год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Остаток долга на начало года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огашение основного долга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роценты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умма уплаты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0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5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0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5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1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0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адача 3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Document"/>
          <p:cNvSpPr/>
          <p:nvPr/>
        </p:nvSpPr>
        <p:spPr>
          <a:xfrm>
            <a:off x="2590920" y="2523960"/>
            <a:ext cx="4724280" cy="349596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ассчитайте величину обязательного резерва и количество денег, которое банк может ссужать фирмам, если норма резервирования составляет 20%, а у банка есть 100 млн. р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ешение задачи 3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Cloud"/>
          <p:cNvSpPr/>
          <p:nvPr/>
        </p:nvSpPr>
        <p:spPr>
          <a:xfrm>
            <a:off x="1143000" y="2514600"/>
            <a:ext cx="7238880" cy="404352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1) 100*0,2=20 млн.р. – величина обязательного резерва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2) 100-20=80 млн. р. – банк может ссужать фирмам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труктура современной банковской систем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 </a:t>
            </a: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нструменты кредитно-денежного регулирования  ЦБ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еры по стабилизации кредитно-банковской систем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910440" y="22428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. Структура современной банковской системы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371600" y="1447560"/>
            <a:ext cx="7159680" cy="46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. </a:t>
            </a:r>
            <a:r>
              <a:rPr b="1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Банковская систем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(двухуровневая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Центральный банк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Коммерческие ба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к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2. </a:t>
            </a:r>
            <a:r>
              <a:rPr b="1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Специализированные финансово-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кредитные институт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Пенсионные фонд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Страховые компани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Инвестиционные банки и др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Центральный банк России (ЦБ России) 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был создан в 1991 г. и действует в соответствии с Законом о Центральном банке. Он является государственным учреждением и находится в федеральной собственност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8080" y="533160"/>
            <a:ext cx="7693200" cy="55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Функции ЦБ</a:t>
            </a:r>
            <a:r>
              <a:rPr b="1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эмиссия денег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-хранение резервного фонда других кредитных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учреждений; 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- хранение государственного золотовалютного резерва; 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-денежно-кредитное регулирование экономики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-кредитование коммерческих банков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-Определяет стандарты и порядок расчетов и платежей; 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-управляет счетами правительства, осуществляет зарубежные финансовые операци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3366"/>
                </a:solidFill>
                <a:uFillTx/>
                <a:latin typeface="Arial"/>
              </a:rPr>
              <a:t>Коммерческие банки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    </a:t>
            </a:r>
            <a:r>
              <a:rPr b="1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Коммерческие банки 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– кредитно- финансовые учреждения, занимающиеся привлечением и размещением денежных ресурсов (до 200 видов услуг)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- кредитно-расчетное обслуживание субъектов хозяйствования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-прием вкладов и выдачу кредитов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-купля-продажа ценных бумаг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-консультации по финансово- кредитным вопросам и др. 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I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.Инструменты кредитно-денежного регулирования  ЦБ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AutoShape 5"/>
          <p:cNvSpPr/>
          <p:nvPr/>
        </p:nvSpPr>
        <p:spPr>
          <a:xfrm>
            <a:off x="914400" y="2514600"/>
            <a:ext cx="2362320" cy="1295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Купля-продаж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ценных бумаг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на открытом рынк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AutoShape 6"/>
          <p:cNvSpPr/>
          <p:nvPr/>
        </p:nvSpPr>
        <p:spPr>
          <a:xfrm>
            <a:off x="3581280" y="2514600"/>
            <a:ext cx="2362320" cy="1295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пределение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уровня  учетной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тавки процент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AutoShape 7"/>
          <p:cNvSpPr/>
          <p:nvPr/>
        </p:nvSpPr>
        <p:spPr>
          <a:xfrm>
            <a:off x="6248520" y="2514600"/>
            <a:ext cx="2361960" cy="1295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пределени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нормы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бязательных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резервов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AutoShape 8"/>
          <p:cNvSpPr/>
          <p:nvPr/>
        </p:nvSpPr>
        <p:spPr>
          <a:xfrm>
            <a:off x="1066680" y="4038480"/>
            <a:ext cx="7543800" cy="1828800"/>
          </a:xfrm>
          <a:prstGeom prst="downArrowCallout">
            <a:avLst>
              <a:gd name="adj1" fmla="val 103135"/>
              <a:gd name="adj2" fmla="val 103125"/>
              <a:gd name="adj3" fmla="val 16667"/>
              <a:gd name="adj4" fmla="val 66667"/>
            </a:avLst>
          </a:prstGeom>
          <a:solidFill>
            <a:srgbClr val="cc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воздействуе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AutoShape 9"/>
          <p:cNvSpPr/>
          <p:nvPr/>
        </p:nvSpPr>
        <p:spPr>
          <a:xfrm>
            <a:off x="1066680" y="5867280"/>
            <a:ext cx="3505320" cy="762120"/>
          </a:xfrm>
          <a:prstGeom prst="hexagon">
            <a:avLst>
              <a:gd name="adj" fmla="val 114986"/>
              <a:gd name="vf" fmla="val 115470"/>
            </a:avLst>
          </a:prstGeom>
          <a:solidFill>
            <a:srgbClr val="cc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Денежная масс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AutoShape 10"/>
          <p:cNvSpPr/>
          <p:nvPr/>
        </p:nvSpPr>
        <p:spPr>
          <a:xfrm>
            <a:off x="5105520" y="5867280"/>
            <a:ext cx="3504960" cy="762120"/>
          </a:xfrm>
          <a:prstGeom prst="hexagon">
            <a:avLst>
              <a:gd name="adj" fmla="val 114974"/>
              <a:gd name="vf" fmla="val 115470"/>
            </a:avLst>
          </a:prstGeom>
          <a:solidFill>
            <a:srgbClr val="cc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тавка процент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Влияние изменения нормы обязательных резервов на денежную массу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1066680" y="2590920"/>
            <a:ext cx="2438640" cy="1371600"/>
          </a:xfrm>
          <a:prstGeom prst="rightArrowCallout">
            <a:avLst>
              <a:gd name="adj1" fmla="val 25002"/>
              <a:gd name="adj2" fmla="val 25000"/>
              <a:gd name="adj3" fmla="val 29633"/>
              <a:gd name="adj4" fmla="val 6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AutoShape 6"/>
          <p:cNvSpPr/>
          <p:nvPr/>
        </p:nvSpPr>
        <p:spPr>
          <a:xfrm>
            <a:off x="990720" y="2590920"/>
            <a:ext cx="1828800" cy="1218960"/>
          </a:xfrm>
          <a:prstGeom prst="rightArrowCallout">
            <a:avLst>
              <a:gd name="adj1" fmla="val 25002"/>
              <a:gd name="adj2" fmla="val 25000"/>
              <a:gd name="adj3" fmla="val 25005"/>
              <a:gd name="adj4" fmla="val 6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UTurnArrow"/>
          <p:cNvSpPr/>
          <p:nvPr/>
        </p:nvSpPr>
        <p:spPr>
          <a:xfrm>
            <a:off x="1981080" y="3581280"/>
            <a:ext cx="809640" cy="733680"/>
          </a:xfrm>
          <a:custGeom>
            <a:avLst/>
            <a:gdLst>
              <a:gd name="textAreaLeft" fmla="*/ 0 w 809640"/>
              <a:gd name="textAreaRight" fmla="*/ 208800 w 809640"/>
              <a:gd name="textAreaTop" fmla="*/ 282240 h 733680"/>
              <a:gd name="textAreaBottom" fmla="*/ 734040 h 733680"/>
            </a:gdLst>
            <a:ahLst/>
            <a:rect l="textAreaLeft" t="textAreaTop" r="textAreaRight" b="textAreaBottom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cubicBezTo>
                  <a:pt x="18450" y="3721"/>
                  <a:pt x="14320" y="0"/>
                  <a:pt x="9225" y="0"/>
                </a:cubicBezTo>
                <a:cubicBezTo>
                  <a:pt x="4130" y="0"/>
                  <a:pt x="0" y="3799"/>
                  <a:pt x="0" y="8485"/>
                </a:cubicBezTo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cubicBezTo>
                  <a:pt x="5574" y="6664"/>
                  <a:pt x="7055" y="5330"/>
                  <a:pt x="8882" y="5330"/>
                </a:cubicBezTo>
                <a:lnTo>
                  <a:pt x="9568" y="5330"/>
                </a:lnTo>
                <a:cubicBezTo>
                  <a:pt x="11395" y="5330"/>
                  <a:pt x="12876" y="6664"/>
                  <a:pt x="12876" y="8310"/>
                </a:cubicBezTo>
                <a:lnTo>
                  <a:pt x="12876" y="8826"/>
                </a:lnTo>
                <a:lnTo>
                  <a:pt x="9725" y="8826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UTurnArrow"/>
          <p:cNvSpPr/>
          <p:nvPr/>
        </p:nvSpPr>
        <p:spPr>
          <a:xfrm>
            <a:off x="4038480" y="2895480"/>
            <a:ext cx="809640" cy="733680"/>
          </a:xfrm>
          <a:custGeom>
            <a:avLst/>
            <a:gdLst>
              <a:gd name="textAreaLeft" fmla="*/ 0 w 809640"/>
              <a:gd name="textAreaRight" fmla="*/ 208800 w 809640"/>
              <a:gd name="textAreaTop" fmla="*/ 282240 h 733680"/>
              <a:gd name="textAreaBottom" fmla="*/ 734040 h 733680"/>
            </a:gdLst>
            <a:ahLst/>
            <a:rect l="textAreaLeft" t="textAreaTop" r="textAreaRight" b="textAreaBottom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cubicBezTo>
                  <a:pt x="18450" y="3721"/>
                  <a:pt x="14320" y="0"/>
                  <a:pt x="9225" y="0"/>
                </a:cubicBezTo>
                <a:cubicBezTo>
                  <a:pt x="4130" y="0"/>
                  <a:pt x="0" y="3799"/>
                  <a:pt x="0" y="8485"/>
                </a:cubicBezTo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cubicBezTo>
                  <a:pt x="5574" y="6664"/>
                  <a:pt x="7055" y="5330"/>
                  <a:pt x="8882" y="5330"/>
                </a:cubicBezTo>
                <a:lnTo>
                  <a:pt x="9568" y="5330"/>
                </a:lnTo>
                <a:cubicBezTo>
                  <a:pt x="11395" y="5330"/>
                  <a:pt x="12876" y="6664"/>
                  <a:pt x="12876" y="8310"/>
                </a:cubicBezTo>
                <a:lnTo>
                  <a:pt x="12876" y="8826"/>
                </a:lnTo>
                <a:lnTo>
                  <a:pt x="9725" y="8826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UTurnArrow"/>
          <p:cNvSpPr/>
          <p:nvPr/>
        </p:nvSpPr>
        <p:spPr>
          <a:xfrm>
            <a:off x="6095880" y="2362320"/>
            <a:ext cx="809640" cy="733320"/>
          </a:xfrm>
          <a:custGeom>
            <a:avLst/>
            <a:gdLst>
              <a:gd name="textAreaLeft" fmla="*/ 0 w 809640"/>
              <a:gd name="textAreaRight" fmla="*/ 208800 w 809640"/>
              <a:gd name="textAreaTop" fmla="*/ 282240 h 733320"/>
              <a:gd name="textAreaBottom" fmla="*/ 733680 h 733320"/>
            </a:gdLst>
            <a:ahLst/>
            <a:rect l="textAreaLeft" t="textAreaTop" r="textAreaRight" b="textAreaBottom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cubicBezTo>
                  <a:pt x="18450" y="3721"/>
                  <a:pt x="14320" y="0"/>
                  <a:pt x="9225" y="0"/>
                </a:cubicBezTo>
                <a:cubicBezTo>
                  <a:pt x="4130" y="0"/>
                  <a:pt x="0" y="3799"/>
                  <a:pt x="0" y="8485"/>
                </a:cubicBezTo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cubicBezTo>
                  <a:pt x="5574" y="6664"/>
                  <a:pt x="7055" y="5330"/>
                  <a:pt x="8882" y="5330"/>
                </a:cubicBezTo>
                <a:lnTo>
                  <a:pt x="9568" y="5330"/>
                </a:lnTo>
                <a:cubicBezTo>
                  <a:pt x="11395" y="5330"/>
                  <a:pt x="12876" y="6664"/>
                  <a:pt x="12876" y="8310"/>
                </a:cubicBezTo>
                <a:lnTo>
                  <a:pt x="12876" y="8826"/>
                </a:lnTo>
                <a:lnTo>
                  <a:pt x="9725" y="8826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38080" y="4419720"/>
            <a:ext cx="1828800" cy="228600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Норма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резерва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увеличилась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(уменьши-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лась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Document"/>
          <p:cNvSpPr/>
          <p:nvPr/>
        </p:nvSpPr>
        <p:spPr>
          <a:xfrm>
            <a:off x="2895480" y="3733920"/>
            <a:ext cx="1828800" cy="228600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Количество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ссужаемых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денег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уменьшилось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(увеличилось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4952880" y="3124080"/>
            <a:ext cx="1828800" cy="228600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Фирмы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берут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меньш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(больше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кредитов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Document"/>
          <p:cNvSpPr/>
          <p:nvPr/>
        </p:nvSpPr>
        <p:spPr>
          <a:xfrm>
            <a:off x="7010280" y="2362320"/>
            <a:ext cx="1828800" cy="228600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Денежная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масса в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обращении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уменьшилась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(увеличилась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Влияние изменения учетной ставки процента на денежную массу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Document"/>
          <p:cNvSpPr/>
          <p:nvPr/>
        </p:nvSpPr>
        <p:spPr>
          <a:xfrm>
            <a:off x="838080" y="4419720"/>
            <a:ext cx="1828800" cy="228600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Учетная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ставка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процент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растет (падает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Document"/>
          <p:cNvSpPr/>
          <p:nvPr/>
        </p:nvSpPr>
        <p:spPr>
          <a:xfrm>
            <a:off x="2895480" y="3809880"/>
            <a:ext cx="1828800" cy="228600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Кредиты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становятс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боле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дорогими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(дешевыми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Document"/>
          <p:cNvSpPr/>
          <p:nvPr/>
        </p:nvSpPr>
        <p:spPr>
          <a:xfrm>
            <a:off x="5029200" y="3200400"/>
            <a:ext cx="1828800" cy="228600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Фирмы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берут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меньш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(больше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кредитов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Document"/>
          <p:cNvSpPr/>
          <p:nvPr/>
        </p:nvSpPr>
        <p:spPr>
          <a:xfrm>
            <a:off x="7086600" y="2438280"/>
            <a:ext cx="1828800" cy="228600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Денежная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масса в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обращении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уменьшается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(увеличивает-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ся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UTurnArrow"/>
          <p:cNvSpPr/>
          <p:nvPr/>
        </p:nvSpPr>
        <p:spPr>
          <a:xfrm>
            <a:off x="6095880" y="2438280"/>
            <a:ext cx="990720" cy="685800"/>
          </a:xfrm>
          <a:custGeom>
            <a:avLst/>
            <a:gdLst>
              <a:gd name="textAreaLeft" fmla="*/ 0 w 990720"/>
              <a:gd name="textAreaRight" fmla="*/ 255600 w 990720"/>
              <a:gd name="textAreaTop" fmla="*/ 26388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cubicBezTo>
                  <a:pt x="18450" y="3721"/>
                  <a:pt x="14320" y="0"/>
                  <a:pt x="9225" y="0"/>
                </a:cubicBezTo>
                <a:cubicBezTo>
                  <a:pt x="4130" y="0"/>
                  <a:pt x="0" y="3799"/>
                  <a:pt x="0" y="8485"/>
                </a:cubicBezTo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cubicBezTo>
                  <a:pt x="5574" y="6664"/>
                  <a:pt x="7055" y="5330"/>
                  <a:pt x="8882" y="5330"/>
                </a:cubicBezTo>
                <a:lnTo>
                  <a:pt x="9568" y="5330"/>
                </a:lnTo>
                <a:cubicBezTo>
                  <a:pt x="11395" y="5330"/>
                  <a:pt x="12876" y="6664"/>
                  <a:pt x="12876" y="8310"/>
                </a:cubicBezTo>
                <a:lnTo>
                  <a:pt x="12876" y="8826"/>
                </a:lnTo>
                <a:lnTo>
                  <a:pt x="9725" y="8826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UTurnArrow"/>
          <p:cNvSpPr/>
          <p:nvPr/>
        </p:nvSpPr>
        <p:spPr>
          <a:xfrm>
            <a:off x="4038480" y="3048120"/>
            <a:ext cx="990720" cy="685800"/>
          </a:xfrm>
          <a:custGeom>
            <a:avLst/>
            <a:gdLst>
              <a:gd name="textAreaLeft" fmla="*/ 0 w 990720"/>
              <a:gd name="textAreaRight" fmla="*/ 255600 w 990720"/>
              <a:gd name="textAreaTop" fmla="*/ 26388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cubicBezTo>
                  <a:pt x="18450" y="3721"/>
                  <a:pt x="14320" y="0"/>
                  <a:pt x="9225" y="0"/>
                </a:cubicBezTo>
                <a:cubicBezTo>
                  <a:pt x="4130" y="0"/>
                  <a:pt x="0" y="3799"/>
                  <a:pt x="0" y="8485"/>
                </a:cubicBezTo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cubicBezTo>
                  <a:pt x="5574" y="6664"/>
                  <a:pt x="7055" y="5330"/>
                  <a:pt x="8882" y="5330"/>
                </a:cubicBezTo>
                <a:lnTo>
                  <a:pt x="9568" y="5330"/>
                </a:lnTo>
                <a:cubicBezTo>
                  <a:pt x="11395" y="5330"/>
                  <a:pt x="12876" y="6664"/>
                  <a:pt x="12876" y="8310"/>
                </a:cubicBezTo>
                <a:lnTo>
                  <a:pt x="12876" y="8826"/>
                </a:lnTo>
                <a:lnTo>
                  <a:pt x="9725" y="8826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UTurnArrow"/>
          <p:cNvSpPr/>
          <p:nvPr/>
        </p:nvSpPr>
        <p:spPr>
          <a:xfrm>
            <a:off x="1828800" y="3657600"/>
            <a:ext cx="990720" cy="685800"/>
          </a:xfrm>
          <a:custGeom>
            <a:avLst/>
            <a:gdLst>
              <a:gd name="textAreaLeft" fmla="*/ 0 w 990720"/>
              <a:gd name="textAreaRight" fmla="*/ 255600 w 990720"/>
              <a:gd name="textAreaTop" fmla="*/ 26388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cubicBezTo>
                  <a:pt x="18450" y="3721"/>
                  <a:pt x="14320" y="0"/>
                  <a:pt x="9225" y="0"/>
                </a:cubicBezTo>
                <a:cubicBezTo>
                  <a:pt x="4130" y="0"/>
                  <a:pt x="0" y="3799"/>
                  <a:pt x="0" y="8485"/>
                </a:cubicBezTo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cubicBezTo>
                  <a:pt x="5574" y="6664"/>
                  <a:pt x="7055" y="5330"/>
                  <a:pt x="8882" y="5330"/>
                </a:cubicBezTo>
                <a:lnTo>
                  <a:pt x="9568" y="5330"/>
                </a:lnTo>
                <a:cubicBezTo>
                  <a:pt x="11395" y="5330"/>
                  <a:pt x="12876" y="6664"/>
                  <a:pt x="12876" y="8310"/>
                </a:cubicBezTo>
                <a:lnTo>
                  <a:pt x="12876" y="8826"/>
                </a:lnTo>
                <a:lnTo>
                  <a:pt x="9725" y="8826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24-02-11T12:47:31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8050000000000010243100207f6000400038000</vt:lpwstr>
  </property>
  <property fmtid="{D5CDD505-2E9C-101B-9397-08002B2CF9AE}" pid="3" name="Version">
    <vt:r8>1</vt:r8>
  </property>
</Properties>
</file>