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B5B-75C4-430A-967B-44EC3A55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14A-A8A3-4D83-B426-0BA764F3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DA0-6A78-4D47-9C16-3BF073DC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303-0AC5-4488-A65E-59CFA6BD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BDBA-300A-484F-B186-E1B8DB7F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BD5C-20C8-4430-91C7-15EA1B98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628F-BB1D-4786-BF3D-BE348D1E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07F2-F53B-4B4D-A15B-035E10F9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428C-2F41-472D-A362-9996B0CA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828D-8B51-4EDD-9A68-6C86373C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896D-041E-4BDB-B15E-08EE26F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C05-1D99-43C5-A2F1-186C3C50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95B3-EC36-451D-B1DF-6E907BA3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A5D5-D5D2-4F91-BA9B-9B858753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A13E-5253-42B6-BB91-583D8323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26A1-6A6A-40FD-8990-C9F01C25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94BB-5958-4AA3-90C9-975BEF7D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E0B-34F3-4FE2-BAF8-8D043B57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C77-3448-4475-8E4D-F7990AA4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0B3-FBF8-4537-A3A5-CFD4AB6D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23D-DE1D-42B7-BF61-3F381F07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41A-A9D7-41A9-B7C8-4206359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359-86E4-419C-A91E-05908B88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922-946C-43F0-8788-E0AF7B3B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2B8-E138-43BA-B73B-041326602F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6904-DA99-48C8-BA95-A4F0D9FE2B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есто и роль Австралии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в мире.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2920" y="3499920"/>
            <a:ext cx="6481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5105520" cy="32860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611280" y="14842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я с экономической картой страны определите ведущие отрасли промышленности,  виды с/х, особенности развития 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Население матер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характеристику населения по плану (работа с картами атласа, учебником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 населения по полу, возрасту, национальностям, религ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ественный прир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раз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урбанизации. Крупные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476360" y="4508640"/>
            <a:ext cx="2886120" cy="209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5076720" y="4724280"/>
            <a:ext cx="24703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ренное население матер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акой расе относятся коренные жители? Какой процент в составе населения занимают коренные жители? Поч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лишь в 1967 году был принят закон, уравнивающий аборигенов во всех пра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584360" cy="1060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137160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5867280" y="2205000"/>
            <a:ext cx="2303640" cy="1530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4"/>
          <a:stretch/>
        </p:blipFill>
        <p:spPr>
          <a:xfrm>
            <a:off x="6300720" y="3881520"/>
            <a:ext cx="1943280" cy="1303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1476360" y="3573360"/>
            <a:ext cx="14270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крепление материал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вы знаете Австрал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ьей колонией была в Австрал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животные изображены на государственном гербе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эндемиков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риродными ресурсами богат матер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Австралия – самый сухой матер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уровню социально-экономического развития Австралия относить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й части населения наиболее высока плотность насе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уктуре промышленности велика доля … отрас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в 50-е г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, говорили, что экономика Австралии «едет на овце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сельскохозяйственные культуры выращивают в Австрал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олодцы!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и и задач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географического  положения и политического устройства Австр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экономико-географическую характеристику реги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ь уникальные особенности Австрал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располагается под 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, очевидно, ходят вверх ног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расцветают в октябре са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протекают реки без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ни в пустыне пропадают где-т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в зарослях следы бескрылых пт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кошкам в пищу достаются зме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аются зверята из я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м собаки лаять не уме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ья сами лезут из к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кролики страшней, сем наводнень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24360" cy="227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755640" y="4241880"/>
            <a:ext cx="2808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Австралийский Союз – уникальная страна. Почему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 фра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риторию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амый … мате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амая … ст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единственная страна, где не происходят … и нет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только … г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амый … мате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нет следо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240000" cy="197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30513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обенности природы матер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843280" y="2943360"/>
            <a:ext cx="2376360" cy="1790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5580000" y="3500280"/>
            <a:ext cx="2592360" cy="2583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8"/>
          <p:cNvSpPr/>
          <p:nvPr/>
        </p:nvSpPr>
        <p:spPr>
          <a:xfrm>
            <a:off x="611280" y="134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раясь на знания, полученные в курсе географии опишите особенности рельефа, климата, вод и природных зон мат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Визитная карточка» стра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форзацем учебн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страны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енность населе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й язык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правления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административно-территориального устройст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уровню социально-экономического развития страна относится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Штаты и территории Австралийского Союз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аты: Новый Южный Уэльс, Виктория, Квинсленд, Южная Австралия, Тасмания, Западная Австра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терри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на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и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133640" y="3068640"/>
            <a:ext cx="285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обенности ЭГ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я с картами атласа определите особенности ЭГП страны по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753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иродные ресурсы Австрал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природными ресурсами богата страна? (работа с картами атл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2619720" cy="1742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2:42:26Z</dcterms:created>
  <dc:creator>UserXP</dc:creator>
  <dc:description/>
  <dc:language>en-US</dc:language>
  <cp:lastModifiedBy>пользователь</cp:lastModifiedBy>
  <dcterms:modified xsi:type="dcterms:W3CDTF">2024-02-10T12:02:32Z</dcterms:modified>
  <cp:revision>15</cp:revision>
  <dc:subject/>
  <dc:title>Австралия и Океания урок географии в11 классе</dc:title>
</cp:coreProperties>
</file>