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B171-6967-4DA4-A1AC-245C97D7F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3D45-BCED-4C20-96DF-158D98D79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74BB-BC80-4D93-AF0F-89F6BF9B7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CB97-98DD-4BFC-8378-84F4EB2F6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32F35-7303-4CC0-B633-5D5A17A9C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EAD43-B2BC-4623-9E8B-70A94F145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60A37-263F-4D57-9CC1-001460EA6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61C73-C4C9-45C5-90DC-48B826F4F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D4582-8CFB-4E99-86DC-FD54C88A2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3F319-7546-4215-BE00-4E020C444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CAC99-CA88-4246-BCF3-B61181AC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2096-9B3C-43A0-B8BB-2A3CBE78C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94C83-F974-463A-96E9-DE20F931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F9C2E-BDC2-4DA2-A53B-0E4767DE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A2BB2-5082-48C9-9DEF-2D6D79495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33DCA-B12F-4539-B9A3-31245759D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B9C09-1CB9-41C9-B7F9-F8EA68A64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1B01-9CFD-4773-B453-0970BCA02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72E2-6E7D-4C71-885C-7AF59E270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148B-10B4-4FBA-89A1-692618060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83FA-D406-41D8-A343-8A7FF5A0E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A3BB-D432-49FE-A944-16F07ECC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5DFD-B90F-4400-ADBD-173EC58D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55D7-D161-4093-8A7F-2E7C216C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91178-4F25-4765-AE0A-8D50D66057A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7D62D-ACE7-4D93-A7BA-3BB45BDBA43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125000"/>
            <a:ext cx="7772400" cy="247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Место и роль Австралии</a:t>
            </a:r>
            <a:br>
              <a:rPr sz="4600"/>
            </a:b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   в мире.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02920" y="3499920"/>
            <a:ext cx="6481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2050920" y="2708280"/>
            <a:ext cx="5105520" cy="328608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4"/>
          <p:cNvSpPr/>
          <p:nvPr/>
        </p:nvSpPr>
        <p:spPr>
          <a:xfrm>
            <a:off x="611280" y="1484280"/>
            <a:ext cx="79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я с экономической картой страны определите ведущие отрасли промышленности,  виды с/х, особенности развития транспо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Население материк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ить характеристику населения по плану (работа с картами атласа, учебником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ccff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 населения по полу, возрасту, национальностям, религ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ccff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тественный приро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ccff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обенности разме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ccff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вень урбанизации. Крупные гор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1476360" y="4508640"/>
            <a:ext cx="2886120" cy="2095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"/>
          <p:cNvPicPr/>
          <p:nvPr/>
        </p:nvPicPr>
        <p:blipFill>
          <a:blip r:embed="rId2"/>
          <a:stretch/>
        </p:blipFill>
        <p:spPr>
          <a:xfrm>
            <a:off x="5076720" y="4724280"/>
            <a:ext cx="2470320" cy="18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Коренное население материк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какой расе относятся коренные жители? Какой процент в составе населения занимают коренные жители? Почему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лько лишь в 1967 году был принят закон, уравнивающий аборигенов во всех прав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1584360" cy="1060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"/>
          <p:cNvPicPr/>
          <p:nvPr/>
        </p:nvPicPr>
        <p:blipFill>
          <a:blip r:embed="rId2"/>
          <a:stretch/>
        </p:blipFill>
        <p:spPr>
          <a:xfrm>
            <a:off x="3564000" y="2492280"/>
            <a:ext cx="1371600" cy="1728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"/>
          <p:cNvPicPr/>
          <p:nvPr/>
        </p:nvPicPr>
        <p:blipFill>
          <a:blip r:embed="rId3"/>
          <a:stretch/>
        </p:blipFill>
        <p:spPr>
          <a:xfrm>
            <a:off x="5867280" y="2205000"/>
            <a:ext cx="2303640" cy="1530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"/>
          <p:cNvPicPr/>
          <p:nvPr/>
        </p:nvPicPr>
        <p:blipFill>
          <a:blip r:embed="rId4"/>
          <a:stretch/>
        </p:blipFill>
        <p:spPr>
          <a:xfrm>
            <a:off x="6300720" y="3881520"/>
            <a:ext cx="1943280" cy="13032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"/>
          <p:cNvPicPr/>
          <p:nvPr/>
        </p:nvPicPr>
        <p:blipFill>
          <a:blip r:embed="rId5"/>
          <a:stretch/>
        </p:blipFill>
        <p:spPr>
          <a:xfrm>
            <a:off x="1476360" y="3573360"/>
            <a:ext cx="142704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Закрепление материала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ак вы знаете Австралию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ьей колонией была в Австрал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е животные изображены на государственном гербе стран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овите эндемиков Австрал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ми природными ресурсами богат матери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ему Австралия – самый сухой матери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уровню социально-экономического развития Австралия относиться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какой части населения наиболее высока плотность насел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труктуре промышленности велика доля … отрас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ему в 50-е год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ека, говорили, что экономика Австралии «едет на овце»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е сельскохозяйственные культуры выращивают в Австрал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Молодцы!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Цели и задачи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обенности географического  положения и политического устройства Австрал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ить экономико-географическую характеристику регион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делить уникальные особенности Австрал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а располагается под н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м, очевидно, ходят вверх ногам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м расцветают в октябре сад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м протекают реки без 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ни в пустыне пропадают где-т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м в зарослях следы бескрылых птиц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м кошкам в пищу достаются зме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ждаются зверята из яиц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там собаки лаять не умею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ревья сами лезут из ко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м кролики страшней, сем наводненье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3024360" cy="2279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2"/>
          <a:stretch/>
        </p:blipFill>
        <p:spPr>
          <a:xfrm>
            <a:off x="755640" y="4241880"/>
            <a:ext cx="280836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Австралийский Союз – уникальная страна. Почему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олжите фраз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нима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рриторию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самый … матер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самая … стр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единственная страна, где не происходят … и нет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ет только … гра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самый … матер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десь нет следов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5435640" y="1557360"/>
            <a:ext cx="3240000" cy="1976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5076720" y="4076640"/>
            <a:ext cx="305136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собенности природы матери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900000" y="3284640"/>
            <a:ext cx="1819440" cy="2514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2843280" y="2943360"/>
            <a:ext cx="2376360" cy="1790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"/>
          <p:cNvPicPr/>
          <p:nvPr/>
        </p:nvPicPr>
        <p:blipFill>
          <a:blip r:embed="rId3"/>
          <a:stretch/>
        </p:blipFill>
        <p:spPr>
          <a:xfrm>
            <a:off x="5580000" y="3500280"/>
            <a:ext cx="2592360" cy="258300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8"/>
          <p:cNvSpPr/>
          <p:nvPr/>
        </p:nvSpPr>
        <p:spPr>
          <a:xfrm>
            <a:off x="611280" y="134136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ираясь на знания, полученные в курсе географии опишите особенности рельефа, климата, вод и природных зон матер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«Визитная карточка» стран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 с форзацем учебни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ощадь страны -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исленность населения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сударственный язык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а правления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а административно-территориального устройства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уровню социально-экономического развития страна относится -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Штаты и территории Австралийского Союза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таты: Новый Южный Уэльс, Виктория, Квинсленд, Южная Австралия, Тасмания, Западная Австрал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территор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верная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олич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1133640" y="3068640"/>
            <a:ext cx="28587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собенности ЭГП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я с картами атласа определите особенности ЭГП страны по пла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826920" y="2781360"/>
            <a:ext cx="77536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Природные ресурсы Австралии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ми природными ресурсами богата страна? (работа с картами атлас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826920" y="2637000"/>
            <a:ext cx="2619720" cy="17427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2"/>
          <a:stretch/>
        </p:blipFill>
        <p:spPr>
          <a:xfrm>
            <a:off x="5796000" y="2637000"/>
            <a:ext cx="2592360" cy="1944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"/>
          <p:cNvPicPr/>
          <p:nvPr/>
        </p:nvPicPr>
        <p:blipFill>
          <a:blip r:embed="rId3"/>
          <a:stretch/>
        </p:blipFill>
        <p:spPr>
          <a:xfrm>
            <a:off x="3348000" y="429264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9T12:42:26Z</dcterms:created>
  <dc:creator>UserXP</dc:creator>
  <dc:description/>
  <dc:language>en-US</dc:language>
  <cp:lastModifiedBy>пользователь</cp:lastModifiedBy>
  <dcterms:modified xsi:type="dcterms:W3CDTF">2024-02-10T12:02:32Z</dcterms:modified>
  <cp:revision>15</cp:revision>
  <dc:subject/>
  <dc:title>Австралия и Океания урок географии в11 классе</dc:title>
</cp:coreProperties>
</file>