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900-2743-4702-82FD-B0E26185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361-6EFF-4AF4-99D8-67C6B281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925-94A8-4F01-82F7-80B20722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5F7-6FE0-4FEC-BFB2-D3A25A3C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06DE-D0F6-4F00-82C1-955E95DB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7266-BD3D-4E54-BFA4-72F53257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EAC-823C-4749-914A-21C75AAB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6157-E09C-4A91-A78D-63176CB0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A516-803A-475E-B68D-33DE98DC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53F2-4ABC-434E-B988-7448AFC3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FC0C-5720-460E-B0EE-54144E1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679-7EF1-4B83-B8A0-4895EABE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060B-A76C-4DCF-8634-A2101055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5787-1244-4813-8460-32978334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4DA6-BA9E-4854-8F23-EFAED2AE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161A-DC03-4BDE-8E5F-46F942B6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807B-4755-47D6-B3EB-48099B99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98D5C-B5AA-46A7-AD85-D5B9834B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DB906-2B26-489C-82C4-52D78A39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400BF-B2D5-477E-9E9C-7BAC77AF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E24E7-76D7-464E-93BC-12BA1D4C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5E5EC-1698-458E-BB3C-6C7E6F32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579-BC4B-450B-BBF8-0FA12EC3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1F062-A082-40F8-B9EB-E103ECBA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7DA1B-12E8-493A-A993-596B41D2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2E63B-5960-4680-A509-549B504B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FD213-1026-459B-BBA7-D1AF622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438EA-CB7D-40D4-A1FA-AB5DA33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24FEB-7E60-418B-809A-125280BA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FC2C2-D885-4E4C-8F2D-15A5361D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6DDF-BAC3-44FD-BBDC-E14784F2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872F4-39FB-46E0-9C22-117674A4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D30E-E022-4EF3-A193-25F52EDE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163-9274-40BC-8F2D-4555BDA7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D2D97-A49C-47F4-86E9-923C801A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B1DB-2BE4-4F8E-AB1D-393BFAA2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29435-3AC8-408D-91CF-41A3FBC7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EC8E-6042-4367-B781-BDC8C05C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300F-36B8-404D-AFE9-C8FF3CA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EBB3-5FB6-464B-BB1F-9ED22DF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B6EE-6205-4224-85FC-0B7F0D58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CCBE-6061-487E-8087-4F79EB18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5DCE-7B02-4076-AC4A-503FF1BD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946D1-2D39-4B4D-AFF7-C2FB74A9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385-F9E0-4CC8-AEEE-60B2ED5A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54ED2-C962-465A-94D4-6438AE6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AD5E5-CE33-40E2-9C8E-663B7933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BE870-B357-4F6B-AD93-6326B5B0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35340-2FD1-42A7-8647-F9A25B3F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EFCE1-9840-401B-B3A4-4A47CA46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AAA7F-BCCC-40FF-9021-A698205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F933E-30A3-4082-9C96-A021920B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E774A-0334-4319-B295-CD9E40C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447B0-B2A3-4521-94C4-5C9A9464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9CDE2-E128-40BD-BA0C-0FDFA2EA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F05-5CFD-45FF-AA89-AF062929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40FA5-8AB0-40C2-82B0-FE786152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60D35-9EE4-463F-B88E-5E81EB9E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31B34-0828-4FBD-937F-C4B8001C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753CD-B850-4C67-B554-76499DF0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1B5FD-E789-49FE-9129-34F00F24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4AD4B-8FE7-4220-BC4E-9805B031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1239F-753C-4612-AF7B-51F189C3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A85BE-D126-4E38-A122-B1CB459C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D62DF-8B51-4C70-9366-3CA82C7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ECB64-3F6C-4A94-B403-D532F12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0D4-3BC0-4AC6-8B39-A711A0AA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1E747-DE2B-4185-89D4-82F37CF2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FC86A-9496-4B77-962F-47725BE0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3150A-CC7C-4714-A11F-13C75DCB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FE4DA-6D61-47FA-96F4-04EB80BD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4ABD3-FC1E-4A31-A3F4-A4E62FAD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FB3CF-03B1-44DB-863C-297D655E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CFFE5-BFDA-4EE2-A390-0B7FCB3A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4EC06-F55A-48D7-980A-D4D56623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D2558-666A-4F79-A2F0-F4CFBBC1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2864F-98CE-4507-BC26-9C577AA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3B1-B513-4E77-BD02-02B8EA05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2B1D6-6445-42EA-BE3B-68219340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B89A9-6A11-4C7B-837B-D5E4599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144DB-F556-4CFD-A653-E44B0022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C3083-0AA3-4EEC-9F5E-48671668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EE0A1-18A8-43D6-97EA-DB3DCB40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165-26CE-4A43-9C93-DBE115E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D7C4-221A-448C-8CD8-42479EA130A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4EE3-7542-4B67-8A87-44C69EC8A1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AE8D-EFC5-4B8E-A526-683A499643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09E0-AD7C-4F66-A871-94ADE9E429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248C-1D05-47EB-A9A1-02E227CB13E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AB81-8400-441F-8D2E-2143B3AEBB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202-A946-43B9-A7E5-41B2858893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71640" y="357120"/>
            <a:ext cx="568656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ЬНЫЕ ПРОЗВИЩА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00320" y="4286160"/>
            <a:ext cx="2571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6012000" y="5500800"/>
            <a:ext cx="2846160" cy="58068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Иванов Максим, обучающийся 7б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https://gallery.kissclipart.com/20181004/lkw/kissclipart-nio-saludando-gif-animado-clipart-worshipkids-ef2ae016527b01de.jpg"/>
          <p:cNvPicPr/>
          <p:nvPr/>
        </p:nvPicPr>
        <p:blipFill>
          <a:blip r:embed="rId1"/>
          <a:stretch/>
        </p:blipFill>
        <p:spPr>
          <a:xfrm>
            <a:off x="2987640" y="1844640"/>
            <a:ext cx="3960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7129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РЕЗУЛЬТАТЫ АНКЕТИРОВАНИЯ ШКОЛЬНИКОВ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197000"/>
            <a:ext cx="7643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"Я считаю, что прозвище это -…" ребята закончили следующим образом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а) свидетельство невоспитанности того человека, который называет другого не по имени –  1 челове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видетельство неуважения к тому, к кому обращаются – 2  человека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в) свидетельство того, что человек популярен в коллективе (группе, классе, компании) – 6 челове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ормальное явление, на него не следует обращать внимание – 17 челове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РЕЗУЛЬТАТЫ АНКЕТИРОВАНИЯ ШКОЛЬНИКОВ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4000" y="1125360"/>
            <a:ext cx="518472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ужны ли прозвищ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Диаграмма 5" descr=""/>
          <p:cNvPicPr/>
          <p:nvPr/>
        </p:nvPicPr>
        <p:blipFill>
          <a:blip r:embed="rId1"/>
          <a:stretch/>
        </p:blipFill>
        <p:spPr>
          <a:xfrm>
            <a:off x="-50760" y="2298600"/>
            <a:ext cx="5646600" cy="4205520"/>
          </a:xfrm>
          <a:prstGeom prst="rect">
            <a:avLst/>
          </a:prstGeom>
          <a:ln w="0">
            <a:noFill/>
          </a:ln>
        </p:spPr>
      </p:pic>
      <p:pic>
        <p:nvPicPr>
          <p:cNvPr id="379" name="Диаграмма 7" descr=""/>
          <p:cNvPicPr/>
          <p:nvPr/>
        </p:nvPicPr>
        <p:blipFill>
          <a:blip r:embed="rId2"/>
          <a:stretch/>
        </p:blipFill>
        <p:spPr>
          <a:xfrm>
            <a:off x="1208160" y="-4114800"/>
            <a:ext cx="174600" cy="147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i.ytimg.com/vi/EGzZxcJ10_s/maxresdefault.jpg"/>
          <p:cNvPicPr/>
          <p:nvPr/>
        </p:nvPicPr>
        <p:blipFill>
          <a:blip r:embed="rId3"/>
          <a:stretch/>
        </p:blipFill>
        <p:spPr>
          <a:xfrm>
            <a:off x="4788000" y="1628640"/>
            <a:ext cx="3671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                          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438120" y="476280"/>
            <a:ext cx="76089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ВЕДЕНИЕ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3" descr=""/>
          <p:cNvPicPr/>
          <p:nvPr/>
        </p:nvPicPr>
        <p:blipFill>
          <a:blip r:embed="rId1"/>
          <a:stretch/>
        </p:blipFill>
        <p:spPr>
          <a:xfrm>
            <a:off x="328680" y="1170000"/>
            <a:ext cx="7669080" cy="548640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26920" y="213840"/>
            <a:ext cx="7058160" cy="635796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Century Schoolbook"/>
              </a:rPr>
              <a:t>Цель исследова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личие прозвищ и особенности их происхождения у школьников 6 б класса, проанализировать отношение к прозвищ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прозвищ как языкового явления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историю возникновения прозвищ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кетирование с целью изучения особенностей и происхождения прозвищ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отношение школьников к прозвищам; систематизировать полученные данны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39280" y="40428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 закреплены как в литературе, так и в истории. Если мы обратимся к истории возникновения имен, то узнаем, что в Древней Руси имен было много. Нам они сейчас кажутся смешными, но отмечали они наиболее характерные признаки или внешние особенности человека. Были имена, которые часто отражали порядок появления детей. (Первой, Старшой.)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имена характеризовали время рождения ребенка, явления природы, христианские праздники. Другие имена отражали какие-либо особенности новорожденных (Пискун). Наряду с именами были распространены прозвища. Они всегда отражали определенные свойства, качества человека или род его занятий: Рыболов, Дьяк, Грамотей, Скоморох, Богомол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прозвища, которые указывали на происхождение из определенной местности или национальную принадлежность: Муромец, Селянин, Казанец, Новожил, Татарин. Встречались прозвища, происходившие от названия еды: Ковриша, Тюря, Сахар, Борщ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 существовали со времён Древней Руси. Это отражает учебник истории, из него мы узнаём причины возникновения прозвищ во времена Древней Руси. Этот факт свидетельствует о том, что без прозвищ не обойтись, что они существовали и существуют до наших дней и искоренятся не скоро. Да ещё бесспорный факт, который доказан лингвистами: началом многих фамилий послужили, несомненно, прозвищ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6" descr="https://xoxo.ru/wp-content/uploads/2020/11/dr1.png"/>
          <p:cNvPicPr/>
          <p:nvPr/>
        </p:nvPicPr>
        <p:blipFill>
          <a:blip r:embed="rId1"/>
          <a:stretch/>
        </p:blipFill>
        <p:spPr>
          <a:xfrm>
            <a:off x="1547640" y="4221000"/>
            <a:ext cx="5616720" cy="2376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6232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ВОЗНИКНОВЕНИЯ ПРОЗВИЩ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Содержимое 3" descr=""/>
          <p:cNvPicPr/>
          <p:nvPr/>
        </p:nvPicPr>
        <p:blipFill>
          <a:blip r:embed="rId1"/>
          <a:stretch/>
        </p:blipFill>
        <p:spPr>
          <a:xfrm>
            <a:off x="-12600" y="974880"/>
            <a:ext cx="7473960" cy="570060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5"/>
          <p:cNvSpPr/>
          <p:nvPr/>
        </p:nvSpPr>
        <p:spPr>
          <a:xfrm>
            <a:off x="539640" y="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прозвище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 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05228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</a:rPr>
              <a:t>Дают конкретную оценочную характеристику отдельных ли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внешнему признак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различным (свойствам характера, поведения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 линии внутренних качест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 особенностям реч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 месту прежнего местожительст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 прозвищу кого-либо из родственников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556000" y="333360"/>
            <a:ext cx="38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ение прозв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188640"/>
            <a:ext cx="7526160" cy="638316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ть ли у вас прозвище? Назовите его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то дал вам прозвище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связи с чем оно у вас появилось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разовалось от фамили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бразовалось от имен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ано по поведению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дано по внешност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дано по поступку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читаете ли вы его обидным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потребляете ли вы прозвища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икогда не употребляю, так как для этого есть имя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потребляю, если  только человек  не проти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  употребляю, даже если это не нравится человеку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мне все равно, никогда не задумывался над этим.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акончите предложение "Я считаю, что прозвище это -…"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видетельство невоспитанности того человека, который называет другого не по имен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видетельство неуважения к тому, к кому обращаются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видетельство того, что человек популярен в коллективе (группе, классе, компании);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ормальное явление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ужны ли прозвища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РЕЗУЛЬТАТЫ АНКЕТИРОВАНИЯ ШКОЛЬНИКОВ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79280" y="764640"/>
            <a:ext cx="633744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человек из 26 имеют прозвищ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Диаграмма 6" descr=""/>
          <p:cNvPicPr/>
          <p:nvPr/>
        </p:nvPicPr>
        <p:blipFill>
          <a:blip r:embed="rId1"/>
          <a:stretch/>
        </p:blipFill>
        <p:spPr>
          <a:xfrm>
            <a:off x="272880" y="1700280"/>
            <a:ext cx="7539120" cy="4897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http://batarejki2010.narod.ru/gfx/Prozvishhe3.jpg"/>
          <p:cNvPicPr/>
          <p:nvPr/>
        </p:nvPicPr>
        <p:blipFill>
          <a:blip r:embed="rId2"/>
          <a:stretch/>
        </p:blipFill>
        <p:spPr>
          <a:xfrm>
            <a:off x="5651640" y="1773360"/>
            <a:ext cx="3097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3640" y="213840"/>
            <a:ext cx="7777080" cy="635796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названиями животных, птиц..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, Морж, Хомяк, Барсик, Петушок, Куропат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именем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я (Кирилл), Абуч (Абу), Серый (Сергей), Жека (Женя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фамилией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уха (Петрушин), Лебедь (Лебедев), Сметана (Сметанина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тивные прозвищ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уща ( люблю сгущенку), Гусь (намек на фамилию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особенностями фигуры и внешнего вида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ая, Шпал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действием, характером для данного человек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озавр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 с неясной этимологией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6:40:06Z</dcterms:created>
  <dc:creator>XTreme</dc:creator>
  <dc:description/>
  <dc:language>en-US</dc:language>
  <cp:lastModifiedBy>user</cp:lastModifiedBy>
  <dcterms:modified xsi:type="dcterms:W3CDTF">2024-02-11T17:36:36Z</dcterms:modified>
  <cp:revision>52</cp:revision>
  <dc:subject/>
  <dc:title>Школьные прозвища</dc:title>
</cp:coreProperties>
</file>