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FB6-9952-4727-8CCE-1EDF83EF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30D-36DF-4093-AE23-C33AA77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C06-CC35-4177-BEA5-B6E8CFF5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AA0-2EE5-4833-B06A-FDD8EDEE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95B-7E50-4457-ACD2-7A48CF9C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37D-9E63-47A0-9EC3-92A6156E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64B-8CDA-4D94-A678-8178C58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6F3-BF3F-4C3C-AC45-DE7A8E9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F834-8580-4A4C-8614-F0AAD9D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0C4-A032-4F58-9EEA-FA7009B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1218-2848-4D4A-97A2-6648B2B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0BB-88D1-4B73-840E-E005F11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EE4-6CEC-43AB-87CA-BD9063E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18D2-6BA7-4D19-8313-22C3D33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4EE-5B4D-4947-8769-11A4C381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B445-B96E-4A57-9094-B244F534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6090-E49D-4DC0-B1A3-7C0EC75F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8D94B-39EC-4A09-B254-0BAF717E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22A91-2BA0-4F4B-84B0-06DF7176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963A1-14FD-4C87-B2ED-A197887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BF010-9C36-48F8-A825-9D83FE8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37A16-62FA-4C72-878E-DEBE505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9DA-C335-467C-A675-848DA6E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7B5E0-FE6E-4BF7-AD49-6CB06EAE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7DB72-7D4A-4171-90E0-CFD215C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4AE63-2B07-4793-92E5-017D674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978C9-9F64-4875-9981-7F013F4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0ADC8-A02D-414F-BCF1-7006232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7E82-2591-428D-8C9D-5520278C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EB8F7-7128-401C-B683-84EFA6F8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A95A-80DD-4F9D-82B7-ACE5AEC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27C2-BDA5-4F37-9C13-4935DA7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B427-2899-4D98-A40C-5D6D4ED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17C-3786-468D-99F8-6355D7A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060E-D223-4FE3-AD99-2128023D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ABF3-A54C-4731-8DCE-0B844018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5D63-2897-412C-8757-7DD0446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2B3B-D86C-4B5B-A1EF-BCC6102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39D2-EB01-486C-8F94-12283CD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7EAF-1B75-4E96-974F-6C56F6D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2AF8-A232-4B65-A3AB-FB6C074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3537-A50E-4735-B980-1AF5065E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CB2D-D21A-4470-824C-93A6E385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059B9-3CAD-4446-AA49-8A4D8144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6DE-1ED6-4FA2-9C7D-A26B63B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44F6B-D4BE-41E3-BFBC-93121D3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DA9A2-CA3D-4B91-840B-5DBD061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0AF07-8AA1-49C4-9ED9-E959849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20C30-D1A9-49D8-B415-CC2182C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5C832-3DE0-4439-A12E-3B98A697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2C73F-9D83-4117-AF84-8724894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E326E-5A05-469D-ADBA-1F03A07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CB073-E2D5-4D09-9E4E-6878B5C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0F40A-C070-4F07-8330-5EF76C9B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0FA1B-3924-4C04-BF00-C4CFCCE8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44A-EB0F-4782-BCB5-775864B7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A6EAF-F493-441F-A4E0-B0CB81FA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4FAAC-4FCD-4BD7-B94B-AE9E8FEF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5244F-A297-4423-ADCD-06A4BA8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8BF2F-2240-462F-97C5-F6CAC18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5D17C-C96A-4186-93D5-3722E6A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FEDBB-2374-4696-AE4D-9193F6A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65E48-0473-43B3-BB81-B89B4E9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1E2F3-5C7C-462F-BDB8-8154E4F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CCD85-1D77-462F-94E5-16A6F61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C0B64-A63A-49E8-9C7C-94DECEA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B7E-63AF-4D92-A36F-CD1CCC7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6BA69-8DEA-4EDD-A987-F5EC4BF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2AF27-1950-4DF7-AA4E-63BEED0E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DA42A-D1C4-45DC-A0B8-30963A7C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ADE0D-D8CE-4F6D-8CED-B33F47DA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65C00-5866-46CD-86C5-CEA3660C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124F9-35DD-4BD3-BF5E-38AB46A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14EC4-F1A1-4885-8D19-CEEF66AB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09F5D-B32D-4A44-866B-7A5BF3C3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F6F6A-BB22-4917-9E59-0E191DE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38E9F-5AFE-4BCC-ADA8-AA5F8C4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AB0-A961-4874-B83F-23414AD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1CEB4-7F70-4DB4-AD51-823EA0D0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AA4DB-2D56-4F4B-AB81-54EF7C6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F4989-3AD4-4EA7-870D-C068F0E3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95793-593A-450F-90B6-AB07539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CC852-E08B-4984-9BA6-5D1CB14D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769-3DA1-486A-983D-3F15480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33F-E516-4918-B9B0-AAC62C4EA8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47CF-3B18-4B19-A5CC-73767C5390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95E6-0920-4B7F-8377-7A1517F254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27B-647A-4F30-8599-EBAE162459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92D-CCF5-42B0-8FE5-5F886865E7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A12-747A-45B4-86FE-E1EDBF50A5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EC38-C3C2-46B3-96B3-51F41C0123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71640" y="357120"/>
            <a:ext cx="568656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ЫЕ ПРОЗВИЩА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00320" y="4286160"/>
            <a:ext cx="2571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6012000" y="5500800"/>
            <a:ext cx="2846160" cy="58068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Иванов Максим, обучающийся 7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https://gallery.kissclipart.com/20181004/lkw/kissclipart-nio-saludando-gif-animado-clipart-worshipkids-ef2ae016527b01de.jpg"/>
          <p:cNvPicPr/>
          <p:nvPr/>
        </p:nvPicPr>
        <p:blipFill>
          <a:blip r:embed="rId1"/>
          <a:stretch/>
        </p:blipFill>
        <p:spPr>
          <a:xfrm>
            <a:off x="2987640" y="1844640"/>
            <a:ext cx="3960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712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197000"/>
            <a:ext cx="7643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"Я считаю, что прозвище это -…" ребята закончили следующим образо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а) свидетельство невоспитанности того человека, который называет другого не по имени –  1 челове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идетельство неуважения к тому, к кому обращаются – 2  человека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в) свидетельство того, что человек популярен в коллективе (группе, классе, компании) – 6 челов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рмальное явление, на него не следует обращать внимание – 17 челове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4000" y="1125360"/>
            <a:ext cx="51847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ужны ли прозвищ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Диаграмма 5" descr=""/>
          <p:cNvPicPr/>
          <p:nvPr/>
        </p:nvPicPr>
        <p:blipFill>
          <a:blip r:embed="rId1"/>
          <a:stretch/>
        </p:blipFill>
        <p:spPr>
          <a:xfrm>
            <a:off x="-50760" y="2298600"/>
            <a:ext cx="5646600" cy="4205520"/>
          </a:xfrm>
          <a:prstGeom prst="rect">
            <a:avLst/>
          </a:prstGeom>
          <a:ln w="0">
            <a:noFill/>
          </a:ln>
        </p:spPr>
      </p:pic>
      <p:pic>
        <p:nvPicPr>
          <p:cNvPr id="379" name="Диаграмма 7" descr=""/>
          <p:cNvPicPr/>
          <p:nvPr/>
        </p:nvPicPr>
        <p:blipFill>
          <a:blip r:embed="rId2"/>
          <a:stretch/>
        </p:blipFill>
        <p:spPr>
          <a:xfrm>
            <a:off x="1208160" y="-4114800"/>
            <a:ext cx="174600" cy="147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i.ytimg.com/vi/EGzZxcJ10_s/maxresdefault.jpg"/>
          <p:cNvPicPr/>
          <p:nvPr/>
        </p:nvPicPr>
        <p:blipFill>
          <a:blip r:embed="rId3"/>
          <a:stretch/>
        </p:blipFill>
        <p:spPr>
          <a:xfrm>
            <a:off x="4788000" y="1628640"/>
            <a:ext cx="3671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    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438120" y="476280"/>
            <a:ext cx="76089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328680" y="1170000"/>
            <a:ext cx="7669080" cy="548640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26920" y="213840"/>
            <a:ext cx="7058160" cy="63579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Century Schoolbook"/>
              </a:rPr>
              <a:t>Цель исследова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личие прозвищ и особенности их происхождения у школьников 6 б класса, проанализировать отношение к прозвищ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прозвищ как языкового явления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историю возникновения прозвищ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 с целью изучения особенностей и происхождения прозвищ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тношение школьников к прозвищам; систематизировать полученные данны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39280" y="40428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закреплены как в литературе, так и в истории. Если мы обратимся к истории возникновения имен, то узнаем, что в Древней Руси имен было много. Нам они сейчас кажутся смешными, но отмечали они наиболее характерные признаки или внешние особенности человека. Были имена, которые часто отражали порядок появления детей. (Первой, Старшой.)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имена характеризовали время рождения ребенка, явления природы, христианские праздники. Другие имена отражали какие-либо особенности новорожденных (Пискун). Наряду с именами были распространены прозвища. Они всегда отражали определенные свойства, качества человека или род его занятий: Рыболов, Дьяк, Грамотей, Скоморох, Богомол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розвища, которые указывали на происхождение из определенной местности или национальную принадлежность: Муромец, Селянин, Казанец, Новожил, Татарин. Встречались прозвища, происходившие от названия еды: Ковриша, Тюря, Сахар, Борщ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существовали со времён Древней Руси. Это отражает учебник истории, из него мы узнаём причины возникновения прозвищ во времена Древней Руси. Этот факт свидетельствует о том, что без прозвищ не обойтись, что они существовали и существуют до наших дней и искоренятся не скоро. Да ещё бесспорный факт, который доказан лингвистами: началом многих фамилий послужили, несомненно, прозвищ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6" descr="https://xoxo.ru/wp-content/uploads/2020/11/dr1.png"/>
          <p:cNvPicPr/>
          <p:nvPr/>
        </p:nvPicPr>
        <p:blipFill>
          <a:blip r:embed="rId1"/>
          <a:stretch/>
        </p:blipFill>
        <p:spPr>
          <a:xfrm>
            <a:off x="1547640" y="4221000"/>
            <a:ext cx="5616720" cy="23767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232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ВОЗНИКНОВЕНИЯ ПРОЗВИЩ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3" descr=""/>
          <p:cNvPicPr/>
          <p:nvPr/>
        </p:nvPicPr>
        <p:blipFill>
          <a:blip r:embed="rId1"/>
          <a:stretch/>
        </p:blipFill>
        <p:spPr>
          <a:xfrm>
            <a:off x="-12600" y="974880"/>
            <a:ext cx="7473960" cy="57006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5"/>
          <p:cNvSpPr/>
          <p:nvPr/>
        </p:nvSpPr>
        <p:spPr>
          <a:xfrm>
            <a:off x="539640" y="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прозвище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 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052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Дают конкретную оценочную характеристику отдельных ли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внешнему признак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различным (свойствам характера, поведения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линии внутренних качест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 особенностям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 месту прежнего местожительст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 прозвищу кого-либо из родственников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556000" y="33336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прозв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188640"/>
            <a:ext cx="7526160" cy="63831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ь ли у вас прозвище? Назовите его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то дал вам прозвище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связи с чем оно у вас появилось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разовалось от фамили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разовалось от имен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ано по поведению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ано по внешност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дано по поступку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читаете ли вы его обидным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отребляете ли вы прозвища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икогда не употребляю, так как для этого есть им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потребляю, если  только человек  не проти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  употребляю, даже если это не нравится человеку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мне все равно, никогда не задумывался над этим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кончите предложение "Я считаю, что прозвище это -…"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видетельство невоспитанности того человека, который называет другого не по имен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идетельство неуважения к тому, к кому обращаютс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идетельство того, что человек популярен в коллективе (группе, классе, компании);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рмальное явлени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ужны ли прозвища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РЕЗУЛЬТАТЫ АНКЕТИРОВАНИЯ ШКОЛЬНИК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764640"/>
            <a:ext cx="63374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человек из 26 имеют прозвищ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Диаграмма 6" descr=""/>
          <p:cNvPicPr/>
          <p:nvPr/>
        </p:nvPicPr>
        <p:blipFill>
          <a:blip r:embed="rId1"/>
          <a:stretch/>
        </p:blipFill>
        <p:spPr>
          <a:xfrm>
            <a:off x="272880" y="1700280"/>
            <a:ext cx="7539120" cy="4897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ttp://batarejki2010.narod.ru/gfx/Prozvishhe3.jpg"/>
          <p:cNvPicPr/>
          <p:nvPr/>
        </p:nvPicPr>
        <p:blipFill>
          <a:blip r:embed="rId2"/>
          <a:stretch/>
        </p:blipFill>
        <p:spPr>
          <a:xfrm>
            <a:off x="5651640" y="1773360"/>
            <a:ext cx="3097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3640" y="213840"/>
            <a:ext cx="7777080" cy="635796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названиями животных, птиц..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, Морж, Хомяк, Барсик, Петушок, Куропат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имене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я (Кирилл), Абуч (Абу), Серый (Сергей), Жека (Женя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фамилией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ха (Петрушин), Лебедь (Лебедев), Сметана (Сметанина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тивные прозвищ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уща ( люблю сгущенку), Гусь (намек на фамилию)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особенностями фигуры и внешнего вид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, Шпал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, связанные с действием, характером для данного человек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озавр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с неясной этимологией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6:40:06Z</dcterms:created>
  <dc:creator>XTreme</dc:creator>
  <dc:description/>
  <dc:language>en-US</dc:language>
  <cp:lastModifiedBy>user</cp:lastModifiedBy>
  <dcterms:modified xsi:type="dcterms:W3CDTF">2024-02-11T17:36:36Z</dcterms:modified>
  <cp:revision>52</cp:revision>
  <dc:subject/>
  <dc:title>Школьные прозвища</dc:title>
</cp:coreProperties>
</file>