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D1AA-4A0F-49F1-AFA1-604DBC74FF6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Э  ЕГ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2978-DE83-44B6-BA50-EBF290806A6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2F23-9451-466E-AF3D-062D54B73B2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кажется , что я уже не один раз это сказал и все поняли. 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D36C-3B8E-492E-BBAB-153C035214D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 опыта известно, что недостаточно знать экзаменационный материал, недостаточно просто грамотно писать – необходимо научиться сдавать экзамен. Знать специфику заданий и их формулировок, уметь обходить «ловушки». Верно или неверно; ответ слово или цифра(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685D-3F4D-4B9F-A206-869A9CF0DA9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ьной школе, в среднем зве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4424-73AC-4277-BA4C-3D3807DB3DC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ЫЕ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6F54-EC34-4838-B0A4-168CD8B2F03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ная материалы ОГЭ 9 класса и ЕГЭ 11 класса, необходимо  уже с  5 класса акцентировать  свое внимание на тех вопросах, которые изучаются с  5 класса и выносятся на ГИ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8298-1ABC-44D2-A560-4B7BE92FF51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8B34-B67C-4150-AA0A-80CE8D18522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02124"/>
                </a:solidFill>
                <a:latin typeface="Arial"/>
              </a:rPr>
              <a:t>формирование личности ученика и продвижение его в развитии осуществляется не тогда, когда он воспринимает знания в готовом виде, а в процессе его собственной деятельности</a:t>
            </a:r>
            <a:r>
              <a:rPr b="0" lang="ru-RU" sz="1200" spc="-1" strike="noStrike">
                <a:solidFill>
                  <a:srgbClr val="202124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F3B8-5C92-4BBA-B33B-B6C127DCAC1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тное и раздельное написание ; одна и две н ; слитное и дефисное написание 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457E-93D5-49C3-8D1A-4D994A01E21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E8F9-A84A-4884-8D50-817EC5DFFF5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 речи , части слова, члены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6059-B12E-49CD-8629-230F7E87A7C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шкалу перевода балла в оценку. Для «Слабых» учеников и для «сильных». Знать «особен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440C-6698-47D9-89E2-7C4CFDB80DC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ляют скрины. Один-на од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C282-2A1E-4804-998F-1958DCC48B0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DD9-E5E9-4CEB-8094-52C19BB1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634-F77B-4D37-A459-BA5D76A1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3C9-3595-4DE7-BCCE-6AD074C5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4CB-1B1E-42E4-92CD-B5AB6B80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429A-88AD-4B26-BF79-15188F75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D10A-3F58-48AE-A8BE-A2FDD758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672A-ACC3-43CD-922B-C793BDB3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BF7A-BA58-4B23-A5B3-9940B6BB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F136-390E-422C-B898-FC9D595E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09A3-5F22-4E09-B9BD-17C11B84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0DC7-0A87-40B4-831A-BA20897A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B94-715C-4FC4-A78D-3991762F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8386-667E-46A3-8634-8186F6E5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46FC-FD40-4D61-8368-8F082CB5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2FA5-B1A9-4551-B72D-C22639A4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98A9-CB40-4ACC-857F-E0AD794D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9B1E-AE25-409A-ABB0-459B9ED4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3C1-0DFF-4DCE-957C-DB4037DA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288-1881-42CE-98EF-B5AAFC2D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6AE-06CA-4B1C-9071-3E219234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044-9F77-4200-BEE7-7B02F18F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CD7-76F8-4336-A6BC-89E1B23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9AA-00CD-438E-A8E2-36A96FAD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D3A-7CF0-43F5-BDA4-F591006C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BB51-4CE6-4BAE-A6FD-C6F2E6241F9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FEAF-DE86-4F40-BF38-8807F0DB473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 пути к успех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48836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2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Совершенствование подготовки к ГИ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2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 русскому язык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2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2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24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нисимова И.И. учитель русского язы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сихолог в помощ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обратить внимание на психологическое сопровождение выпускников 9-х, 11-х классов, выработку объективного отношения обучающихся и их родителей (законных представителей) к процедуре ГИА, формирование осознанного подхода к образован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то я? Где я? Что я могу и умею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ущему участнику экзамена надо чётко определиться с тем, какие цели он ставит и, соответственно, в какую из групп по уровню результатов планирует попа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ому выпускнику, осваивающему образовательные программы основного общего и среднего общего образования, должна быть доступна и понятна информация - о самом экзамене, - об особенностях его проведения, - о том, как можно проверить свою готовность к нему, - как следует организовать себя при выполнении экзаменационной работ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моверси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одготовке обучающихся к экзамену необходимо подробно объяснять цели этого испытания и структуру экзаменационной работы по предмету, рассматривая демонстрационные версии экзамена только как ориентиры, показывающие примерные образцы заданий, которые могут стоять на соответствующих позиция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нимание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191592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жно обращать внимание обучающихся на необходимость внимательного прочтения формулировок заданий, инструкций к их выполнени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известно, что недостаточно знать экзаменационный материал, недостаточно просто грамотно писать – необходимо научиться сдавать экзамен. Знать специфику заданий и их формулировок, уметь обходить «ловушки». Верно или неверно; ответ слово(а) или цифра(ы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оответств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ь учеников извлекать из инструкции максимум информации,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четкому переносу ответов в бланк в строгом соответствии с инструкци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ориентируясь н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разе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писания букв и циф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Calibri"/>
              </a:rPr>
              <a:t>тренировочные работы по предметам в формате КИ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этого можно использовать Открытый банк заданий ОГЭ и ЕГЭ http://www.fipi.ru/content/otkrytyy-bank-zadaniy-ege , http://www.fipi.ru/content/otkrytyybank-zadaniy-o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КОМЕНДА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о-методические материалы для председателей и членов региональных предметных комиссий по проверке выполнения заданий с развернутым ответом экзаменационных работ ОГЭ и ЕГЭ http://www.fipi.ru/oge-i-gve-9/dlya-predmetnyh-komissiy-subektov-rf и http://www.fipi.ru/ege-igve-11/dlya-predmetnyh-komissiy-subektov-rf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КОМЕНДА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ть методические и аналитические рекомендации на основе анализа типичных ошибок участников ОГЭ и ЕГЭ прошлых лет http://fipi.ru/ege-i-gve-11/analiticheskie-i-metodicheskie-materialy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8043840" cy="14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рта успешности учащего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920" y="1916280"/>
            <a:ext cx="8128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чиная с первой диагностической работы и на протяжении 10-11 классов ведется индивидуальная карта, в которую заносятся результаты проверочных рабо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 позволяет выявлять типичные ошибки, прокладывать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индивидуальную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екторию ученика при подготовке к экзамену и корректировать работу по ликвидации пробелов в знания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ИНОНИ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3a3a"/>
                </a:solidFill>
                <a:latin typeface="Verdana"/>
              </a:rPr>
              <a:t>СОВЕРШЕНСТВОВАНИЕ</a:t>
            </a:r>
            <a:r>
              <a:rPr b="0" lang="ru-RU" sz="3200" spc="-1" strike="noStrike">
                <a:solidFill>
                  <a:srgbClr val="3a3a3a"/>
                </a:solidFill>
                <a:latin typeface="Verdana"/>
              </a:rPr>
              <a:t> -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3a3a"/>
                </a:solidFill>
                <a:latin typeface="Verdana"/>
              </a:rPr>
              <a:t>Шаг вперед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4000" spc="-1" strike="noStrike">
                <a:solidFill>
                  <a:srgbClr val="3a3a3a"/>
                </a:solidFill>
                <a:latin typeface="Verdana"/>
              </a:rPr>
              <a:t> повышение качества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4000" spc="-1" strike="noStrike">
                <a:solidFill>
                  <a:srgbClr val="3a3a3a"/>
                </a:solidFill>
                <a:latin typeface="Verdana"/>
              </a:rPr>
              <a:t>движение вперёд, повышение, улучшение,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a3a3a"/>
                </a:solidFill>
                <a:latin typeface="Verdana"/>
              </a:rPr>
              <a:t>сдви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ло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всего курса орфографии и пунктуации повторяется блок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локи позволяют минимизировать учебный материал и алгоритмизировать действия учащихся при решении лингвистических задач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AN00790_"/>
          <p:cNvPicPr/>
          <p:nvPr/>
        </p:nvPicPr>
        <p:blipFill>
          <a:blip r:embed="rId1"/>
          <a:stretch/>
        </p:blipFill>
        <p:spPr>
          <a:xfrm>
            <a:off x="7308720" y="5229360"/>
            <a:ext cx="16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404640"/>
            <a:ext cx="77929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ло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694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локи отражают задания ЕГЭ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Правописание гласных в корнях слов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Правописание приставок» (здесь же употребление Ь и Ъ знаков, переход И в Ы после приставок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ыбор гласной в окончаниях глаголов и суффиксах причастий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НЕ с разными частями речи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AN00790_"/>
          <p:cNvPicPr/>
          <p:nvPr/>
        </p:nvPicPr>
        <p:blipFill>
          <a:blip r:embed="rId1"/>
          <a:stretch/>
        </p:blipFill>
        <p:spPr>
          <a:xfrm>
            <a:off x="7308720" y="5229360"/>
            <a:ext cx="16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ЛО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) «Слитное, раздельное, дефисное написание слов разных частей речи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) «Н и НН в суффиксах прилагательных, причастий и наречий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локи по синтаксис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Простое предложение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Простое осложненное предложение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Сложное предложение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Обособленные члены предложения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Вводные и вставные конструкции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4000" y="19162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всем этим блокам создан учебно-дидактический комплекс, который представляет собой индивидуальные папки, а также  мультимедийный теоретический и практический комплек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дивидуальные пап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держание папо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оретический минимум, представленный в виде таблиц и опорных схе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ктические задания, сформулированные  в соответствии со спецификой ЕГЭ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стовые зада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стема работы на уро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4360" y="2017440"/>
            <a:ext cx="827064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им образом, уже много лет мы с учащимися пользуемся «золотым правилом»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ая часть ре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ая часть сло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два важных момента, которые чаще всего являются условием выбора орфограм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подготовке к ЕГЭ в 10-11 классах  урок строю в соответствии с намеченной целью, но для совершенствования грамотности учащихся в каждый урок включаю обязательные этап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стема работы на уро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варно-орфоэпическая работ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ксико-стилистическа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фографическа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нктуационн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стема работы на уро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ология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дагогика сотруднич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 тогда усваивает материал, когда он его озвучивает, проговарива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ятельность ученика – важная составляющая успе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 5-го класса                      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овать деятельность обучающихся на уроках в соответствии с основными требованиями, предъявляемыми к результатам обучения по образовательным программам основного общего и средне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AN00790_"/>
          <p:cNvPicPr/>
          <p:nvPr/>
        </p:nvPicPr>
        <p:blipFill>
          <a:blip r:embed="rId1"/>
          <a:stretch/>
        </p:blipFill>
        <p:spPr>
          <a:xfrm>
            <a:off x="7294680" y="404640"/>
            <a:ext cx="16556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этой целью часто учащиеся, заранее подготовившись,  выступают в роли учителя на уро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сожалению, количество уроков русского языка (2 часа в неделю) не позволяет отрабатывать умения по каждому правилу со всеми учащимися одновременно. Поэтому в классном коллективе работает группа консультантов, которые помогают учителю и одноклассника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AN00790_"/>
          <p:cNvPicPr/>
          <p:nvPr/>
        </p:nvPicPr>
        <p:blipFill>
          <a:blip r:embed="rId1"/>
          <a:stretch/>
        </p:blipFill>
        <p:spPr>
          <a:xfrm>
            <a:off x="7308720" y="5229360"/>
            <a:ext cx="16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792920" cy="33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4" descr="AN00790_"/>
          <p:cNvPicPr/>
          <p:nvPr/>
        </p:nvPicPr>
        <p:blipFill>
          <a:blip r:embed="rId1"/>
          <a:stretch/>
        </p:blipFill>
        <p:spPr>
          <a:xfrm>
            <a:off x="7308720" y="5229360"/>
            <a:ext cx="16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????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ывать образовательный процесс на уроках на основе системнодеятельностного подхода, обеспечивая формирование у школьников универсальных учебных действ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5" descr="AN00790_"/>
          <p:cNvPicPr/>
          <p:nvPr/>
        </p:nvPicPr>
        <p:blipFill>
          <a:blip r:embed="rId1"/>
          <a:stretch/>
        </p:blipFill>
        <p:spPr>
          <a:xfrm>
            <a:off x="7308720" y="5229360"/>
            <a:ext cx="16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чт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читательские умения обучающихся: находить информацию в тексте, интегрировать, интерпретировать, анализировать информацию и делать выводы, использовать задания, в которых информация представлена в разных знаковых системах (текст, таблица, график, рисунок, схема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ивать дифференцированный подход к обучающимся, следить за усвоением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семи обучающимися миниму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ржания на базовом уровне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вторение-мать уч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ланировании уроков выделять резерв времени для повторения и закрепления наиболее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начимых и сложных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 учебного предмет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Знать в лиц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О ознакомить учеников / выпускников с критериями оценивания ответов; со шкалой перевода балла в оценку или шкалой перевода первичного балла в тестовы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нтроль никто не отменя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целью своевременного контроля усвоения обучающимися учебной программы, уровня овладения умениями и навыками, а также формирования умения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ыполнять тестовые задания, проводить текущие мониторинги и другие виды контроля качества знаний, включая задания ГИ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их на уроке и дом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4:47:51Z</dcterms:created>
  <dc:creator>User</dc:creator>
  <dc:description/>
  <dc:language>en-US</dc:language>
  <cp:lastModifiedBy>Ирина</cp:lastModifiedBy>
  <dcterms:modified xsi:type="dcterms:W3CDTF">2023-02-15T19:13:18Z</dcterms:modified>
  <cp:revision>48</cp:revision>
  <dc:subject/>
  <dc:title>Слайд 1</dc:title>
</cp:coreProperties>
</file>