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998-1A35-45DE-BDD1-1ADB0CC5A9F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Э 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35A-EDB9-43F6-AA66-D9D4409003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9CB-D366-453A-87B8-72BBE627BA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кажется , что я уже не один раз это сказал и все поняли. 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CAC-3F8C-4B22-A904-978DB537C4E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опыта известно, что недостаточно знать экзаменационный материал, недостаточно просто грамотно писать – необходимо научиться сдавать экзамен. Знать специфику заданий и их формулировок, уметь обходить «ловушки». Верно или неверно; ответ слово или цифра(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5C3-EDB0-4178-8117-89421E14B3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ьной школе, в среднем зве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E1AB-E4FB-4DF6-8A5D-CD11CC6119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Ы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03AD-845C-41EC-8297-4C1013FA1D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я материалы ОГЭ 9 класса и ЕГЭ 11 класса, необходимо  уже с  5 класса акцентировать  свое внимание на тех вопросах, которые изучаются с  5 класса и выносятся на ГИ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F43-B6B5-4512-968C-3FCD3063068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03E-B334-4931-815F-75D41A3AAB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2124"/>
                </a:solidFill>
                <a:latin typeface="Arial"/>
              </a:rPr>
              <a:t>формирование личности ученика и продвижение его в развитии осуществляется не тогда, когда он воспринимает знания в готовом виде, а в процессе его собственной деятельности</a:t>
            </a:r>
            <a:r>
              <a:rPr b="0" lang="ru-RU" sz="1200" spc="-1" strike="noStrike">
                <a:solidFill>
                  <a:srgbClr val="202124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4D6-3B86-416D-B042-5974B470044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тное и раздельное написание ; одна и две н ; слитное и дефисное написание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7F0-E5B2-4C87-B4F8-28FF44F2F97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4690-0756-430C-8DF8-D0691D2260C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речи , части слова, члены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B5B-7C1D-4D99-B14A-DD70A25D4B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шкалу перевода балла в оценку. Для «Слабых» учеников и для «сильных». Знать «особен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1CA-2962-4A3B-AFA4-1952FE2ACC5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ют скрины. Один-на о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015-EA0E-4AC7-B8D3-78F5FACBFE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27F-8FC7-47F6-9E9A-2EBA7EB8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639-CFAF-40D6-BB5C-001DC05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276-B20A-474C-8EE7-4762ED19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568-39E0-443E-9108-29BB42DF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3D2-1A61-403D-BFFF-BE71C999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082E-8FDD-4AB2-B6D8-46D6E4F7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3CD-24C3-4B43-8A5A-707A485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E3C-FDDE-4855-A781-A6BA0202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318C-69BF-4CF6-96BF-05D9C16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D710-54FA-4E20-B6A1-3ED83455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330D-E342-4FFB-99D5-A022F1A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A6E-568A-4E44-A261-0C119EB7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0C6B-ED5E-4DA7-A978-C014D04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5D99-9597-4DE9-9D85-6175A37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7B1E-0AFA-4A86-A94B-ACD2D58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5BD-95CF-48BC-A92B-55DA4024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F3C-E122-4B67-9428-C6C66B4F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2D0-2557-4CB0-A2C2-13D5869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2A7-1389-4DA7-8119-DE6020B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3F1-846D-4053-ADEF-97D5CC42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D6C-60BC-47A0-92DB-6863BB8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745-8850-409F-8461-49D6A34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CC5-5581-4159-8310-986700C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E4D-E3A8-46C7-A4F7-06B8BB1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DA0-9488-4989-9853-893119D33D6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3180-764A-4713-A44C-FEA20671E0D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 пути к успех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488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овершенствование подготовки к ГИ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 русскому язык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исимова И.И. учитель русского язы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сихолог в помощ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обратить внимание на психологическое сопровождение выпускников 9-х, 11-х классов, выработку объективного отношения обучающихся и их родителей (законных представителей) к процедуре ГИА, формирование осознанного подхода к образова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то я? Где я? Что я могу и умею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ущему участнику экзамена надо чётко определиться с тем, какие цели он ставит и, соответственно, в какую из групп по уровню результатов планирует попа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ому выпускнику, осваивающему образовательные программы основного общего и среднего общего образования, должна быть доступна и понятна информация - о самом экзамене, - об особенностях его проведения, - о том, как можно проверить свою готовность к нему, - как следует организовать себя при выполнении экзаменационной рабо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моверси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обучающихся к экзамену необходимо подробно объяснять цели этого испытания и структуру экзаменационной работы по предмету, рассматривая демонстрационные версии экзамена только как ориентиры, показывающие примерные образцы заданий, которые могут стоять на соответствующих позиция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нимание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19159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 обращать внимание обучающихся на необходимость внимательного прочтения формулировок заданий, инструкций к их выполнен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известно, что недостаточно знать экзаменационный материал, недостаточно просто грамотно писать – необходимо научиться сдавать экзамен. Знать специфику заданий и их формулировок, уметь обходить «ловушки». Верно или неверно; ответ слово(а) или цифра(ы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оответств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учеников извлекать из инструкции максимум информации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четкому переносу ответов в бланк в строгом соответствии с инструкц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риентируясь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раз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писания букв и циф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Calibri"/>
              </a:rPr>
              <a:t>тренировочные работы по предметам в формате КИ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этого можно использовать Открытый банк заданий ОГЭ и ЕГЭ http://www.fipi.ru/content/otkrytyy-bank-zadaniy-ege , http://www.fipi.ru/content/otkrytyybank-zadaniy-o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КОМЕНД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о-методические материалы для председателей и членов региональных предметных комиссий по проверке выполнения заданий с развернутым ответом экзаменационных работ ОГЭ и ЕГЭ http://www.fipi.ru/oge-i-gve-9/dlya-predmetnyh-komissiy-subektov-rf и http://www.fipi.ru/ege-igve-11/dlya-predmetnyh-komissiy-subektov-rf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КОМЕНД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ть методические и аналитические рекомендации на основе анализа типичных ошибок участников ОГЭ и ЕГЭ прошлых лет http://fipi.ru/ege-i-gve-11/analiticheskie-i-metodicheskie-materialy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043840" cy="14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рта успешности учащего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916280"/>
            <a:ext cx="812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чиная с первой диагностической работы и на протяжении 10-11 классов ведется индивидуальная карта, в которую заносятся результаты проверочных рабо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позволяет выявлять типичные ошибки, прокладыват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ндивидуальную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екторию ученика при подготовке к экзамену и корректировать работу по ликвидации пробелов в знан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ИНОНИ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3a3a"/>
                </a:solidFill>
                <a:latin typeface="Verdana"/>
              </a:rPr>
              <a:t>СОВЕРШЕНСТВОВАНИЕ</a:t>
            </a:r>
            <a:r>
              <a:rPr b="0" lang="ru-RU" sz="3200" spc="-1" strike="noStrike">
                <a:solidFill>
                  <a:srgbClr val="3a3a3a"/>
                </a:solidFill>
                <a:latin typeface="Verdana"/>
              </a:rPr>
              <a:t> -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Шаг вперед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 повышение качеств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движение вперёд, повышение, улучшение,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сдви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всего курса орфографии и пунктуации повторяется бло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оки позволяют минимизировать учебный материал и алгоритмизировать действия учащихся при решении лингвистических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404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694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оки отражают задания ЕГЭ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авописание гласных в корнях слов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авописание приставок» (здесь же употребление Ь и Ъ знаков, переход И в Ы после приставок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ыбор гласной в окончаниях глаголов и суффиксах причастий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Е с разными частями реч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«Слитное, раздельное, дефисное написание слов разных частей речи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) «Н и НН в суффиксах прилагательных, причастий и наречий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 по синтаксис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ост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остое осложненн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Сложн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Обособленные члены предложени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Вводные и вставные конструкци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91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всем этим блокам создан учебно-дидактический комплекс, который представляет собой индивидуальные папки, а также  мультимедийный теоретический и практический комплек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дивидуальные пап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ние папо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етический минимум, представленный в виде таблиц и опорных сх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ие задания, сформулированные  в соответствии со спецификой 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стовые зад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360" y="2017440"/>
            <a:ext cx="827064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, уже много лет мы с учащимися пользуемся «золотым правилом»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ая часть ре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ая часть сло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два важных момента, которые чаще всего являются условием выбора орфограм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дготовке к ЕГЭ в 10-11 классах  урок строю в соответствии с намеченной целью, но для совершенствования грамотности учащихся в каждый урок включаю обязатель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арно-орфоэпическая рабо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сико-стилистическа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фографическа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нктуацион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ика сотруднич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 тогда усваивает материал, когда он его озвучивает, проговарив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ятельность ученика – важная составляющая успе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 5-го класса                  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ть деятельность обучающихся на уроках в соответствии с основными требованиями, предъявляемыми к результатам обучения по образовательным программам основного общего и средне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AN00790_"/>
          <p:cNvPicPr/>
          <p:nvPr/>
        </p:nvPicPr>
        <p:blipFill>
          <a:blip r:embed="rId1"/>
          <a:stretch/>
        </p:blipFill>
        <p:spPr>
          <a:xfrm>
            <a:off x="7294680" y="404640"/>
            <a:ext cx="16556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этой целью часто учащиеся, заранее подготовившись,  выступают в роли учителя на уро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сожалению, количество уроков русского языка (2 часа в неделю) не позволяет отрабатывать умения по каждому правилу со всеми учащимися одновременно. Поэтому в классном коллективе работает группа консультантов, которые помогают учителю и одноклассник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792920" cy="33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???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ывать образовательный процесс на уроках на основе системнодеятельностного подхода, обеспечивая формирование у школьников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т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читательские умения обучающихся: находить информацию в тексте, интегрировать, интерпретировать, анализировать информацию и делать выводы, использовать задания, в которых информация представлена в разных знаковых системах (текст, таблица, график, рисунок, схем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ть дифференцированный подход к обучающимся, следить за усвоением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семи обучающимися миниму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я на базовом уровн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вторение-мать 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ланировании уроков выделять резерв времени для повторения и закрепления наиболее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начимых и сложны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 учебного предме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нать в лиц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 ознакомить учеников / выпускников с критериями оценивания ответов; со шкалой перевода балла в оценку или шкалой перевода первичного балла в тестов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нтроль никто не отменя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своевременного контроля усвоения обучающимися учебной программы, уровня овладения умениями и навыками, а также формирования умени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полнять тестовые задания, проводить текущие мониторинги и другие виды контроля качества знаний, включая задания ГИ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их на уроке и дом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4:47:51Z</dcterms:created>
  <dc:creator>User</dc:creator>
  <dc:description/>
  <dc:language>en-US</dc:language>
  <cp:lastModifiedBy>Ирина</cp:lastModifiedBy>
  <dcterms:modified xsi:type="dcterms:W3CDTF">2023-02-15T19:13:18Z</dcterms:modified>
  <cp:revision>48</cp:revision>
  <dc:subject/>
  <dc:title>Слайд 1</dc:title>
</cp:coreProperties>
</file>