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321-0614-4EDD-BA0D-B25DE9C0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569-EEC3-4790-9F30-F6ECAD8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CCF-6371-401D-B2E3-8D682EF6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6A4-FC63-40F2-A63A-C25D751C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7BF-6CC5-4468-B3DC-256F1D8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A1B-7EBC-4F07-8A06-04327C6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1F4-412D-4B08-A17B-9B6BC8E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A36-AA75-49F4-9CAC-EC71A79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9AF-DF18-42C9-8733-E3E87241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C0E-5A00-4D1E-8CF4-8C5328C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63D-23FF-46C3-BD87-74B3150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F15-F37A-4630-AC3F-3FA21A0A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BEB-9261-48CF-8444-B1F74CF846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7;&#1099;&#1083;&#1077;&#1089;&#1086;&#1089;%20&#1082;&#1072;&#1088;&#1090;&#1080;&#1085;&#1082;&#1072;&amp;noreask=1&amp;pos=16&amp;lr=198&amp;rpt=simage&amp;uinfo=ww-1349-wh-673-fw-1124-fh-467-pd-1&amp;img_url=http://is.mixmarket.biz/images/of/3551/808979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Домашние помощник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http://topchiy.com.ua/wp-content/uploads/2013/02/6fa3b73f2b18.gif"/>
          <p:cNvPicPr/>
          <p:nvPr/>
        </p:nvPicPr>
        <p:blipFill>
          <a:blip r:embed="rId1"/>
          <a:stretch/>
        </p:blipFill>
        <p:spPr>
          <a:xfrm>
            <a:off x="3132000" y="333360"/>
            <a:ext cx="2519640" cy="208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Содержимое 3" descr="http://btplus.com.ua/origimg/fCBM10710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ктическая рабо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Валя, утюг, рубашка, гладит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Нина, бельё, машинка, стирать, в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Ковёр, чистит, пылесос, Андрей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Подметать, пол, Максим, веник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Плита, обед, готовит, Толя, н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3" descr="http://topchiy.com.ua/wp-content/uploads/2013/02/23a9ade6c4ad.gif"/>
          <p:cNvPicPr/>
          <p:nvPr/>
        </p:nvPicPr>
        <p:blipFill>
          <a:blip r:embed="rId1"/>
          <a:stretch/>
        </p:blipFill>
        <p:spPr>
          <a:xfrm flipH="1">
            <a:off x="5579640" y="4724280"/>
            <a:ext cx="302436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бята, если вы были на занятии активны, хорошо себя вели, то высоко поднимите руки ввер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если нет – присядьте и поднимите руки в той степени, насколько считаете нужны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Рисунок 3" descr="http://topchiy.com.ua/wp-content/uploads/2013/02/7.gif"/>
          <p:cNvPicPr/>
          <p:nvPr/>
        </p:nvPicPr>
        <p:blipFill>
          <a:blip r:embed="rId1"/>
          <a:stretch/>
        </p:blipFill>
        <p:spPr>
          <a:xfrm flipH="1">
            <a:off x="4571640" y="3645000"/>
            <a:ext cx="30402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Содержимое 3" descr="http://topchiy.com.ua/wp-content/uploads/2013/02/3D_girl_computer.gif"/>
          <p:cNvPicPr/>
          <p:nvPr/>
        </p:nvPicPr>
        <p:blipFill>
          <a:blip r:embed="rId1"/>
          <a:stretch/>
        </p:blipFill>
        <p:spPr>
          <a:xfrm>
            <a:off x="2987640" y="2133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тюг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1619280" y="1844640"/>
          <a:ext cx="595944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59594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полотняной стране, по реке просты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лывёт паро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о назад, то вперё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за ним такая гладь, ни морщинки не ви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ыль увижу-заворчу, заверчу и проглоч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ть у меня в квартире робот, у него огромный хобо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юбит робот чистоту и гудит как лайнер «ТУ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н охотно пыль глота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болеет, не чиха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тропинкам я бег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тропинки не мог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меня, ребята, н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зажжётся в доме с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гад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Шипит как паровоз, а красоту волосам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елает всерьёз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***************************************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У окошка я сижу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на весь мир в него гляжу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******************************************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Если кнопочку нажать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будет музыка звучать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ираль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1212840" y="1989000"/>
          <a:ext cx="629748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629748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2411280" y="1341360"/>
          <a:ext cx="595944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59594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2340000" y="1700280"/>
          <a:ext cx="595944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595944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2700360" y="1484280"/>
          <a:ext cx="59594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84280"/>
                    <a:ext cx="59594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09:28:53Z</dcterms:created>
  <dc:creator>User</dc:creator>
  <dc:description/>
  <dc:language>en-US</dc:language>
  <cp:lastModifiedBy>Батор</cp:lastModifiedBy>
  <dcterms:modified xsi:type="dcterms:W3CDTF">2019-02-16T13:53:18Z</dcterms:modified>
  <cp:revision>12</cp:revision>
  <dc:subject/>
  <dc:title>Воспитательский час</dc:title>
</cp:coreProperties>
</file>