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gif" ContentType="image/gif"/>
  <Override PartName="/ppt/media/image8.gif" ContentType="image/gi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FF8-C169-49D9-BD7C-9390A676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3BB-0AD4-455F-BC11-793024C1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1ED-D48F-4DBF-9FED-86C9360E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872-66A9-443B-B030-C7010ECA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C65-228C-44D1-A776-44AC788E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3C4-A17B-4A5B-BEF9-F8DCB5F9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902-C12D-4FB1-818B-897B23C0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B91-66AC-46C8-B15B-57056DF7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F8B-DB4C-4F3F-8053-DEAA6FFD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219-1516-4D47-B0C4-AC2E08D5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8AD-0C1D-4431-BEC3-DEB7D34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FBC-F94C-4212-8D93-9637D6F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2592-7D64-49C2-9490-94080A0BD7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7;&#1099;&#1083;&#1077;&#1089;&#1086;&#1089;%20&#1082;&#1072;&#1088;&#1090;&#1080;&#1085;&#1082;&#1072;&amp;noreask=1&amp;pos=16&amp;lr=198&amp;rpt=simage&amp;uinfo=ww-1349-wh-673-fw-1124-fh-467-pd-1&amp;img_url=http://is.mixmarket.biz/images/of/3551/808979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лассный ча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Домашние помощники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3" descr="http://topchiy.com.ua/wp-content/uploads/2013/02/6fa3b73f2b18.gif"/>
          <p:cNvPicPr/>
          <p:nvPr/>
        </p:nvPicPr>
        <p:blipFill>
          <a:blip r:embed="rId1"/>
          <a:stretch/>
        </p:blipFill>
        <p:spPr>
          <a:xfrm>
            <a:off x="3132000" y="333360"/>
            <a:ext cx="2519640" cy="208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Содержимое 3" descr="http://btplus.com.ua/origimg/fCBM107103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актическая рабо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Валя, утюг, рубашка, гладит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Нина, бельё, машинка, стирать, в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Ковёр, чистит, пылесос, Андрей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Подметать, пол, Максим, веник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Плита, обед, готовит, Толя, н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Рисунок 3" descr="http://topchiy.com.ua/wp-content/uploads/2013/02/23a9ade6c4ad.gif"/>
          <p:cNvPicPr/>
          <p:nvPr/>
        </p:nvPicPr>
        <p:blipFill>
          <a:blip r:embed="rId1"/>
          <a:stretch/>
        </p:blipFill>
        <p:spPr>
          <a:xfrm flipH="1">
            <a:off x="5579640" y="4724280"/>
            <a:ext cx="3024360" cy="18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бята, если вы были на занятии активны, хорошо себя вели, то высоко поднимите руки ввер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если нет – присядьте и поднимите руки в той степени, насколько считаете нужны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Рисунок 3" descr="http://topchiy.com.ua/wp-content/uploads/2013/02/7.gif"/>
          <p:cNvPicPr/>
          <p:nvPr/>
        </p:nvPicPr>
        <p:blipFill>
          <a:blip r:embed="rId1"/>
          <a:stretch/>
        </p:blipFill>
        <p:spPr>
          <a:xfrm flipH="1">
            <a:off x="4571640" y="3645000"/>
            <a:ext cx="30402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асибо за внимание 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Содержимое 3" descr="http://topchiy.com.ua/wp-content/uploads/2013/02/3D_girl_computer.gif"/>
          <p:cNvPicPr/>
          <p:nvPr/>
        </p:nvPicPr>
        <p:blipFill>
          <a:blip r:embed="rId1"/>
          <a:stretch/>
        </p:blipFill>
        <p:spPr>
          <a:xfrm>
            <a:off x="2987640" y="2133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тюг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0" name="Object 2"/>
          <p:cNvGraphicFramePr/>
          <p:nvPr/>
        </p:nvGraphicFramePr>
        <p:xfrm>
          <a:off x="1619280" y="1844640"/>
          <a:ext cx="595944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595944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гад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полотняной стране, по реке простын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лывёт парох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о назад, то вперё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за ним такая гладь, ни морщинки не ви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ыль увижу-заворчу, заверчу и проглоч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ть у меня в квартире робот, у него огромный хобо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юбит робот чистоту и гудит как лайнер «ТУ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н охотно пыль глота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 болеет, не чиха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тропинкам я бег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з тропинки не мог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 меня, ребята, н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 зажжётся в доме с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агад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Шипит как паровоз, а красоту волосам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елает всерьёз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***************************************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У окошка я сижу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на весь мир в него гляжу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******************************************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Если кнопочку нажать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будет музыка звучать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ираль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1212840" y="1989000"/>
          <a:ext cx="629748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629748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2411280" y="1341360"/>
          <a:ext cx="595944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341360"/>
                    <a:ext cx="59594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2340000" y="1700280"/>
          <a:ext cx="595944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595944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2700360" y="1484280"/>
          <a:ext cx="595944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484280"/>
                    <a:ext cx="59594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09:28:53Z</dcterms:created>
  <dc:creator>User</dc:creator>
  <dc:description/>
  <dc:language>en-US</dc:language>
  <cp:lastModifiedBy>Батор</cp:lastModifiedBy>
  <dcterms:modified xsi:type="dcterms:W3CDTF">2019-02-16T13:53:18Z</dcterms:modified>
  <cp:revision>12</cp:revision>
  <dc:subject/>
  <dc:title>Воспитательский час</dc:title>
</cp:coreProperties>
</file>