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4CB-A951-4FD4-84F9-A64772D8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52D-8F74-46E6-A834-DE0B8BF5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983-F8D6-48A2-9910-3DD47BDE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09E-6788-4364-9C97-AD935218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E04-B3B3-4367-A029-6FA8BF81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9D3-95C2-442A-9658-EF2A8B8E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C50-84C7-464D-8A80-4A90DBB8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784-014A-4512-9CE0-7FE95F5A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DCF-D396-401F-9B9C-28ADE57D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EB5-D9EE-4154-A39B-D400933D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DAC-4454-4254-82C9-6AB249DC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8C2-5515-479F-98E8-EFA6303D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4859-57CE-4263-98B3-0EBE896843A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428616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Чтоб радость завтрашнего дня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Сумел ты ощутить.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Должна быть чистою Земля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И небо чистым бы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А Землю эту, не щадя.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Терзал за веком век,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И брал все только для себя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«Разумный»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2" descr="C:\Users\Владелец\Desktop\Кл.час по экологии (МО город. 2013)\5094bd4a7f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7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Владелец\Desktop\Кл.час по экологии (МО город. 2013)\0428ebbf53.jpg"/>
          <p:cNvPicPr/>
          <p:nvPr/>
        </p:nvPicPr>
        <p:blipFill>
          <a:blip r:embed="rId3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8"/>
          <p:cNvSpPr/>
          <p:nvPr/>
        </p:nvSpPr>
        <p:spPr>
          <a:xfrm>
            <a:off x="4572000" y="4143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Сейчас же кинулись спасать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«Природную среду»,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Но почему ж так поздно мы</a:t>
            </a:r>
            <a:br>
              <a:rPr sz="1800"/>
            </a:br>
            <a:r>
              <a:rPr b="1" lang="en-US" sz="1800" spc="-1" strike="noStrike">
                <a:solidFill>
                  <a:srgbClr val="8a0000"/>
                </a:solidFill>
                <a:latin typeface="Verdana"/>
              </a:rPr>
              <a:t>Почуяли бед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71680" y="272520"/>
            <a:ext cx="85723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mbria"/>
                <a:ea typeface="Arial"/>
              </a:rPr>
              <a:t>Берегите эти земли, эти воды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mbria"/>
                <a:ea typeface="Arial"/>
              </a:rPr>
              <a:t>Даже малую былиночку люб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mbria"/>
                <a:ea typeface="Arial"/>
              </a:rPr>
              <a:t>Берегите всех зверей внутри природы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mbria"/>
                <a:ea typeface="Arial"/>
              </a:rPr>
              <a:t>Убивайте лишь зверей внутри себя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ambria"/>
                <a:ea typeface="Arial"/>
              </a:rPr>
              <a:t>Е.Евтушенк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http://1.bp.blogspot.com/-vsoU7eFr2dA/TuSaSebqW4I/AAAAAAAAA-0/HtAlBNe3J5s/s1600/101211+%25D1%2580%25D1%2583%25D1%2581+swa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Прямоугольник 12" descr=""/>
          <p:cNvPicPr/>
          <p:nvPr/>
        </p:nvPicPr>
        <p:blipFill>
          <a:blip r:embed="rId3"/>
          <a:stretch/>
        </p:blipFill>
        <p:spPr>
          <a:xfrm>
            <a:off x="-360360" y="5157720"/>
            <a:ext cx="96696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Владелец\Desktop\Кл.час по экологии (МО город. 2013)\851_o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Владелец\Desktop\Кл.час по экологии (МО город. 2013)\cathedral.jpg"/>
          <p:cNvPicPr/>
          <p:nvPr/>
        </p:nvPicPr>
        <p:blipFill>
          <a:blip r:embed="rId2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Владелец\Desktop\Кл.час по экологии (МО город. 2013)\9784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Владелец\Downloads\04-big.jpg"/>
          <p:cNvPicPr/>
          <p:nvPr/>
        </p:nvPicPr>
        <p:blipFill>
          <a:blip r:embed="rId2"/>
          <a:stretch/>
        </p:blipFill>
        <p:spPr>
          <a:xfrm>
            <a:off x="0" y="0"/>
            <a:ext cx="4950000" cy="333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Владелец\Downloads\1407.jpg"/>
          <p:cNvPicPr/>
          <p:nvPr/>
        </p:nvPicPr>
        <p:blipFill>
          <a:blip r:embed="rId3"/>
          <a:stretch/>
        </p:blipFill>
        <p:spPr>
          <a:xfrm>
            <a:off x="4148280" y="3286080"/>
            <a:ext cx="499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47216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Verdana"/>
              </a:rPr>
              <a:t>Законы экологии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Б.Коммонер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400" y="1714320"/>
            <a:ext cx="754380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24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7030a0"/>
                </a:solidFill>
                <a:latin typeface="Comic Sans MS"/>
              </a:rPr>
              <a:t>Всё связано со всем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366120" y="2643120"/>
            <a:ext cx="83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Всё должно куда-то девать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354240" y="3786120"/>
            <a:ext cx="64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Природа знает лучш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370440" y="4857840"/>
            <a:ext cx="681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Ничто не даётся дар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298520" y="5627520"/>
            <a:ext cx="6954840" cy="457200"/>
          </a:xfrm>
          <a:prstGeom prst="rect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Всё должно куда-то девать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298520" y="5072040"/>
            <a:ext cx="6954840" cy="5176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Природа знает лучш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285920" y="6143760"/>
            <a:ext cx="7000920" cy="45720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Всё связано со вс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298520" y="4594320"/>
            <a:ext cx="6954840" cy="457200"/>
          </a:xfrm>
          <a:prstGeom prst="rect">
            <a:avLst/>
          </a:prstGeom>
          <a:solidFill>
            <a:srgbClr val="00b0f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Ничто не даётся дар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1419120" y="2571840"/>
            <a:ext cx="1393920" cy="1581120"/>
          </a:xfrm>
          <a:custGeom>
            <a:avLst/>
            <a:gdLst>
              <a:gd name="textAreaLeft" fmla="*/ 68040 w 1393920"/>
              <a:gd name="textAreaRight" fmla="*/ 1325880 w 1393920"/>
              <a:gd name="textAreaTop" fmla="*/ 68040 h 1581120"/>
              <a:gd name="textAreaBottom" fmla="*/ 1513080 h 1581120"/>
            </a:gdLst>
            <a:ahLst/>
            <a:rect l="textAreaLeft" t="textAreaTop" r="textAreaRight" b="textAreaBottom"/>
            <a:pathLst>
              <a:path w="21600" h="24500">
                <a:moveTo>
                  <a:pt x="3600" y="0"/>
                </a:moveTo>
                <a:arcTo wR="3600" hR="3600" stAng="16200000" swAng="-5400000"/>
                <a:lnTo>
                  <a:pt x="0" y="20900"/>
                </a:lnTo>
                <a:arcTo wR="3600" hR="3600" stAng="10800000" swAng="-5400000"/>
                <a:lnTo>
                  <a:pt x="18000" y="24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Ум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вид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облем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4989600" y="2571840"/>
            <a:ext cx="1484280" cy="1581120"/>
          </a:xfrm>
          <a:custGeom>
            <a:avLst/>
            <a:gdLst>
              <a:gd name="textAreaLeft" fmla="*/ 72360 w 1484280"/>
              <a:gd name="textAreaRight" fmla="*/ 1411920 w 1484280"/>
              <a:gd name="textAreaTop" fmla="*/ 72360 h 1581120"/>
              <a:gd name="textAreaBottom" fmla="*/ 1508760 h 1581120"/>
            </a:gdLst>
            <a:ahLst/>
            <a:rect l="textAreaLeft" t="textAreaTop" r="textAreaRight" b="textAreaBottom"/>
            <a:pathLst>
              <a:path w="21600" h="23009">
                <a:moveTo>
                  <a:pt x="3600" y="0"/>
                </a:moveTo>
                <a:arcTo wR="3600" hR="3600" stAng="16200000" swAng="-5400000"/>
                <a:lnTo>
                  <a:pt x="0" y="19409"/>
                </a:lnTo>
                <a:arcTo wR="3600" hR="3600" stAng="10800000" swAng="-5400000"/>
                <a:lnTo>
                  <a:pt x="18000" y="230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e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Соблюд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ави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000240" y="2571840"/>
            <a:ext cx="1830600" cy="1581120"/>
          </a:xfrm>
          <a:prstGeom prst="roundRect">
            <a:avLst>
              <a:gd name="adj" fmla="val 16667"/>
            </a:avLst>
          </a:prstGeom>
          <a:solidFill>
            <a:srgbClr val="f2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едотврати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оявл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облем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6586560" y="1820880"/>
            <a:ext cx="1666800" cy="2773440"/>
          </a:xfrm>
          <a:prstGeom prst="rect">
            <a:avLst/>
          </a:prstGeom>
          <a:solidFill>
            <a:srgbClr val="e3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Реш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714240" y="0"/>
            <a:ext cx="7929720" cy="1714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Ст. 42 Конституции Р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C:\Users\Владелец\Desktop\Кл.час по экологии (МО город. 2013)\23964_html_m5705d76d.png"/>
          <p:cNvPicPr/>
          <p:nvPr/>
        </p:nvPicPr>
        <p:blipFill>
          <a:blip r:embed="rId2"/>
          <a:stretch/>
        </p:blipFill>
        <p:spPr>
          <a:xfrm>
            <a:off x="1857240" y="0"/>
            <a:ext cx="51134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8:24:15Z</dcterms:created>
  <dc:creator>Владелец</dc:creator>
  <dc:description/>
  <dc:language>en-US</dc:language>
  <cp:lastModifiedBy>Домашний</cp:lastModifiedBy>
  <dcterms:modified xsi:type="dcterms:W3CDTF">2013-12-10T06:40:50Z</dcterms:modified>
  <cp:revision>19</cp:revision>
  <dc:subject/>
  <dc:title>Слайд 1</dc:title>
</cp:coreProperties>
</file>