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  <p:custShowLst>
    <p:custShow name="Произвольный показ 1" id="0">
      <p:sldLst>
        <p:sld r:id="rId4"/>
        <p:sld r:id="rId6"/>
        <p:sld r:id="rId7"/>
        <p:sld r:id="rId8"/>
        <p:sld r:id="rId9"/>
        <p:sld r:id="rId22"/>
        <p:sld r:id="rId23"/>
        <p:sld r:id="rId24"/>
        <p:sld r:id="rId25"/>
        <p:sld r:id="rId26"/>
        <p:sld r:id="rId27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D054-064F-42E7-82DB-128288EB77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5139-8566-4B1D-A046-DA03E56CDC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E6AA-B190-48AE-ADC4-3DD396931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33D3-2B7B-458B-96DD-D6ADFB08C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89D0-1E3B-471E-A7BA-FD5DCF295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32F-BAAD-45BA-92DB-D1389EBC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4F1-B5A6-4960-B608-A58232E8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858-E446-4662-AD51-D0C8DAA6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7F9-B1FF-4309-9191-9E9F0427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014-D19A-4BE5-9DDF-B23BAC80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BC2-36F3-4DF9-83B8-14827DC7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527-B57D-4AC4-AD6A-63BD60EE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857-8673-4E50-A188-03D21FDC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9D8-0EDF-4290-9F53-B7A908F2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78F-EDF3-4221-A067-D98F52E8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DB1-037A-45CA-AE85-3DDBF329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6E1-39F1-4A1C-9A18-B473F775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0AF1-8997-4F2C-A5B7-3F5F61098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99"/>
                </a:solidFill>
                <a:latin typeface="comic"/>
              </a:rPr>
              <a:t>SEASONS </a:t>
            </a:r>
            <a:br>
              <a:rPr sz="6600"/>
            </a:br>
            <a:r>
              <a:rPr b="1" lang="en-US" sz="6600" spc="-1" strike="noStrike">
                <a:solidFill>
                  <a:srgbClr val="cc0099"/>
                </a:solidFill>
                <a:latin typeface="comic"/>
              </a:rPr>
              <a:t>AND </a:t>
            </a:r>
            <a:br>
              <a:rPr sz="6600"/>
            </a:br>
            <a:r>
              <a:rPr b="1" lang="en-US" sz="6600" spc="-1" strike="noStrike">
                <a:solidFill>
                  <a:srgbClr val="cc0099"/>
                </a:solidFill>
                <a:latin typeface="comic"/>
              </a:rPr>
              <a:t>MONTH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IMG_9426"/>
          <p:cNvPicPr/>
          <p:nvPr/>
        </p:nvPicPr>
        <p:blipFill>
          <a:blip r:embed="rId1"/>
          <a:stretch/>
        </p:blipFill>
        <p:spPr>
          <a:xfrm>
            <a:off x="0" y="1143000"/>
            <a:ext cx="2506680" cy="16700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50" name="Picture 13" descr="DSC03524"/>
          <p:cNvPicPr/>
          <p:nvPr/>
        </p:nvPicPr>
        <p:blipFill>
          <a:blip r:embed="rId2"/>
          <a:stretch/>
        </p:blipFill>
        <p:spPr>
          <a:xfrm>
            <a:off x="6858000" y="214200"/>
            <a:ext cx="2082960" cy="1562040"/>
          </a:xfrm>
          <a:prstGeom prst="rect">
            <a:avLst/>
          </a:prstGeom>
          <a:ln w="76320">
            <a:solidFill>
              <a:srgbClr val="ff3399"/>
            </a:solidFill>
            <a:miter/>
          </a:ln>
        </p:spPr>
      </p:pic>
      <p:pic>
        <p:nvPicPr>
          <p:cNvPr id="51" name="Picture 16" descr="IMG_8233"/>
          <p:cNvPicPr/>
          <p:nvPr/>
        </p:nvPicPr>
        <p:blipFill>
          <a:blip r:embed="rId3"/>
          <a:stretch/>
        </p:blipFill>
        <p:spPr>
          <a:xfrm>
            <a:off x="928800" y="3714840"/>
            <a:ext cx="4064040" cy="2708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52" name="Picture 15" descr="zima 2006 030"/>
          <p:cNvPicPr/>
          <p:nvPr/>
        </p:nvPicPr>
        <p:blipFill>
          <a:blip r:embed="rId4"/>
          <a:stretch/>
        </p:blipFill>
        <p:spPr>
          <a:xfrm>
            <a:off x="6357960" y="2786040"/>
            <a:ext cx="2557440" cy="3143160"/>
          </a:xfrm>
          <a:prstGeom prst="rect">
            <a:avLst/>
          </a:prstGeom>
          <a:ln w="57240">
            <a:solidFill>
              <a:srgbClr val="def6f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dc6ff"/>
                </a:solidFill>
                <a:latin typeface="Arial Black"/>
              </a:rPr>
              <a:t>WINTER IS W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uha 002"/>
          <p:cNvPicPr/>
          <p:nvPr/>
        </p:nvPicPr>
        <p:blipFill>
          <a:blip r:embed="rId1"/>
          <a:stretch/>
        </p:blipFill>
        <p:spPr>
          <a:xfrm>
            <a:off x="228600" y="915840"/>
            <a:ext cx="8686800" cy="578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4771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все зеле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SC02137"/>
          <p:cNvPicPr/>
          <p:nvPr/>
        </p:nvPicPr>
        <p:blipFill>
          <a:blip r:embed="rId1"/>
          <a:stretch/>
        </p:blipFill>
        <p:spPr>
          <a:xfrm>
            <a:off x="685800" y="152280"/>
            <a:ext cx="8051760" cy="603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6217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все яр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more2007 227"/>
          <p:cNvPicPr/>
          <p:nvPr/>
        </p:nvPicPr>
        <p:blipFill>
          <a:blip r:embed="rId1"/>
          <a:stretch/>
        </p:blipFill>
        <p:spPr>
          <a:xfrm>
            <a:off x="533520" y="5724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все жел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DSC02080"/>
          <p:cNvPicPr/>
          <p:nvPr/>
        </p:nvPicPr>
        <p:blipFill>
          <a:blip r:embed="rId1"/>
          <a:stretch/>
        </p:blipFill>
        <p:spPr>
          <a:xfrm>
            <a:off x="533520" y="763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6171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все б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DSC0227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09480" y="9540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85840" y="428400"/>
            <a:ext cx="85723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I like this season, because I can swim and play football. It is bright and hot. This season is after spr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What season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4714920" y="3929040"/>
            <a:ext cx="3970440" cy="292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DSC03677"/>
          <p:cNvPicPr/>
          <p:nvPr/>
        </p:nvPicPr>
        <p:blipFill>
          <a:blip r:embed="rId2"/>
          <a:stretch/>
        </p:blipFill>
        <p:spPr>
          <a:xfrm>
            <a:off x="500040" y="4178160"/>
            <a:ext cx="35719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85840" y="35712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I like this season, because I can ski and skate. It is white and cold. It is after autum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What season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572000" y="328608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SC02269"/>
          <p:cNvPicPr/>
          <p:nvPr/>
        </p:nvPicPr>
        <p:blipFill>
          <a:blip r:embed="rId2"/>
          <a:stretch/>
        </p:blipFill>
        <p:spPr>
          <a:xfrm>
            <a:off x="285840" y="3286080"/>
            <a:ext cx="3873240" cy="290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11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16292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2"/>
          <a:stretch/>
        </p:blipFill>
        <p:spPr>
          <a:xfrm>
            <a:off x="-6480" y="317520"/>
            <a:ext cx="9369720" cy="1944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hop like a rab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jump like a fr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run like a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fly like a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swim like a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be still, like a good chi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still as you w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Winter months are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79280" y="1682640"/>
            <a:ext cx="8425080" cy="5175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468360" y="182304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Decembe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411280" y="343296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Janua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211640" y="476964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February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532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1440000"/>
            <a:ext cx="83818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>
            <a:off x="857160" y="380880"/>
            <a:ext cx="76438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ather Song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Rectangle 5"/>
          <p:cNvSpPr/>
          <p:nvPr/>
        </p:nvSpPr>
        <p:spPr>
          <a:xfrm flipV="1" rot="10800000">
            <a:off x="1371600" y="1526040"/>
            <a:ext cx="6843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hen the weather is we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e must not fr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hen the weather is col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e must not sc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hen the weather is war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e must not storm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But we thankful togethe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hatever the wea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pring 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777080" cy="4981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84360" y="220500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R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348000" y="35298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RIL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96000" y="47505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Summer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97800" cy="4584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15320" y="2069280"/>
            <a:ext cx="215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Ju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 flipV="1" rot="10847400">
            <a:off x="3132000" y="335592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Ju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500720" y="463932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ugu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Autumn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8360" y="1700280"/>
            <a:ext cx="8353440" cy="4824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95280" y="17737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eptemb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35280" y="3643920"/>
            <a:ext cx="51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Octob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19640" y="4941000"/>
            <a:ext cx="740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Novemb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en is your              birthday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My birthday is in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187164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5715000" y="4286160"/>
            <a:ext cx="3143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8400" y="1900080"/>
            <a:ext cx="808668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at colour is    Spring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Summer, Winter,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utum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572080" y="3857760"/>
            <a:ext cx="2857680" cy="278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at are Spring month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Spring months ar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0" y="28584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6786720" y="4357800"/>
            <a:ext cx="192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UTUM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NTER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SPRING IS 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MG_9415"/>
          <p:cNvPicPr/>
          <p:nvPr/>
        </p:nvPicPr>
        <p:blipFill>
          <a:blip r:embed="rId1"/>
          <a:stretch/>
        </p:blipFill>
        <p:spPr>
          <a:xfrm>
            <a:off x="6103800" y="3505320"/>
            <a:ext cx="2963880" cy="32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IMG_9418"/>
          <p:cNvPicPr/>
          <p:nvPr/>
        </p:nvPicPr>
        <p:blipFill>
          <a:blip r:embed="rId2"/>
          <a:stretch/>
        </p:blipFill>
        <p:spPr>
          <a:xfrm>
            <a:off x="5257800" y="152280"/>
            <a:ext cx="3809880" cy="312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IMG_9421"/>
          <p:cNvPicPr/>
          <p:nvPr/>
        </p:nvPicPr>
        <p:blipFill>
          <a:blip r:embed="rId3"/>
          <a:stretch/>
        </p:blipFill>
        <p:spPr>
          <a:xfrm>
            <a:off x="228600" y="1066680"/>
            <a:ext cx="3809880" cy="395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MG_9429"/>
          <p:cNvPicPr/>
          <p:nvPr/>
        </p:nvPicPr>
        <p:blipFill>
          <a:blip r:embed="rId4"/>
          <a:stretch/>
        </p:blipFill>
        <p:spPr>
          <a:xfrm>
            <a:off x="1879560" y="4073400"/>
            <a:ext cx="406404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76320" y="75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 Black"/>
              </a:rPr>
              <a:t>SUMMER IS B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DSC03677"/>
          <p:cNvPicPr/>
          <p:nvPr/>
        </p:nvPicPr>
        <p:blipFill>
          <a:blip r:embed="rId1"/>
          <a:stretch/>
        </p:blipFill>
        <p:spPr>
          <a:xfrm>
            <a:off x="914400" y="11430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Black"/>
              </a:rPr>
              <a:t>AUTUMN IS 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DSC02078"/>
          <p:cNvPicPr/>
          <p:nvPr/>
        </p:nvPicPr>
        <p:blipFill>
          <a:blip r:embed="rId1"/>
          <a:stretch/>
        </p:blipFill>
        <p:spPr>
          <a:xfrm>
            <a:off x="838080" y="1143000"/>
            <a:ext cx="7696440" cy="559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8:06Z</dcterms:created>
  <dc:creator>Loner-XP</dc:creator>
  <dc:description/>
  <dc:language>en-US</dc:language>
  <cp:lastModifiedBy>User</cp:lastModifiedBy>
  <dcterms:modified xsi:type="dcterms:W3CDTF">2010-03-16T21:09:28Z</dcterms:modified>
  <cp:revision>24</cp:revision>
  <dc:subject/>
  <dc:title>SEASONS AND MONTHS</dc:title>
</cp:coreProperties>
</file>