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  <p:custShowLst>
    <p:custShow name="Произвольный показ 1" id="0">
      <p:sldLst>
        <p:sld r:id="rId4"/>
        <p:sld r:id="rId6"/>
        <p:sld r:id="rId7"/>
        <p:sld r:id="rId8"/>
        <p:sld r:id="rId9"/>
        <p:sld r:id="rId22"/>
        <p:sld r:id="rId23"/>
        <p:sld r:id="rId24"/>
        <p:sld r:id="rId25"/>
        <p:sld r:id="rId26"/>
        <p:sld r:id="rId27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F9F0-9DD9-485C-B438-070B009E2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8282-7671-4712-9FD0-72FDB67641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B811-03C2-472C-BBBB-51735DE4A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DD6C-767B-4E1A-887B-30A7FB27B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0C29-C443-4289-ACCD-B3DDC1435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85B-22D9-4867-A9AD-39A5F21C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752-967A-43E9-8D55-AD59F6A6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16C-61F3-4276-8092-4B2B0493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1F7-7706-4FE4-B751-70220543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BB7-E80F-45FB-8DD6-66A3E6F2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F89-3D1B-4C35-9A35-F3EE91C4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156-6375-49DF-86AD-65451FE1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3F1-AF17-4BDE-B108-0CDAE35A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8C1-1D1B-4115-804B-7812EDEF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A16-A2CB-4745-A7E7-3C2F5E7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CC6-5B2A-4A8A-B600-AF8A0DF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6DB-CD12-4F45-BD67-4FC8309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317B-5876-4411-ADAF-B816D721A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99"/>
                </a:solidFill>
                <a:latin typeface="comic"/>
              </a:rPr>
              <a:t>SEASONS </a:t>
            </a:r>
            <a:br>
              <a:rPr sz="6600"/>
            </a:br>
            <a:r>
              <a:rPr b="1" lang="en-US" sz="6600" spc="-1" strike="noStrike">
                <a:solidFill>
                  <a:srgbClr val="cc0099"/>
                </a:solidFill>
                <a:latin typeface="comic"/>
              </a:rPr>
              <a:t>AND </a:t>
            </a:r>
            <a:br>
              <a:rPr sz="6600"/>
            </a:br>
            <a:r>
              <a:rPr b="1" lang="en-US" sz="6600" spc="-1" strike="noStrike">
                <a:solidFill>
                  <a:srgbClr val="cc0099"/>
                </a:solidFill>
                <a:latin typeface="comic"/>
              </a:rPr>
              <a:t>MONTH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IMG_9426"/>
          <p:cNvPicPr/>
          <p:nvPr/>
        </p:nvPicPr>
        <p:blipFill>
          <a:blip r:embed="rId1"/>
          <a:stretch/>
        </p:blipFill>
        <p:spPr>
          <a:xfrm>
            <a:off x="0" y="1143000"/>
            <a:ext cx="2506680" cy="16700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50" name="Picture 13" descr="DSC03524"/>
          <p:cNvPicPr/>
          <p:nvPr/>
        </p:nvPicPr>
        <p:blipFill>
          <a:blip r:embed="rId2"/>
          <a:stretch/>
        </p:blipFill>
        <p:spPr>
          <a:xfrm>
            <a:off x="6858000" y="214200"/>
            <a:ext cx="2082960" cy="1562040"/>
          </a:xfrm>
          <a:prstGeom prst="rect">
            <a:avLst/>
          </a:prstGeom>
          <a:ln w="76320">
            <a:solidFill>
              <a:srgbClr val="ff3399"/>
            </a:solidFill>
            <a:miter/>
          </a:ln>
        </p:spPr>
      </p:pic>
      <p:pic>
        <p:nvPicPr>
          <p:cNvPr id="51" name="Picture 16" descr="IMG_8233"/>
          <p:cNvPicPr/>
          <p:nvPr/>
        </p:nvPicPr>
        <p:blipFill>
          <a:blip r:embed="rId3"/>
          <a:stretch/>
        </p:blipFill>
        <p:spPr>
          <a:xfrm>
            <a:off x="928800" y="3714840"/>
            <a:ext cx="4064040" cy="2708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52" name="Picture 15" descr="zima 2006 030"/>
          <p:cNvPicPr/>
          <p:nvPr/>
        </p:nvPicPr>
        <p:blipFill>
          <a:blip r:embed="rId4"/>
          <a:stretch/>
        </p:blipFill>
        <p:spPr>
          <a:xfrm>
            <a:off x="6357960" y="2786040"/>
            <a:ext cx="2557440" cy="3143160"/>
          </a:xfrm>
          <a:prstGeom prst="rect">
            <a:avLst/>
          </a:prstGeom>
          <a:ln w="57240">
            <a:solidFill>
              <a:srgbClr val="def6f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dc6ff"/>
                </a:solidFill>
                <a:latin typeface="Arial Black"/>
              </a:rPr>
              <a:t>WINTER IS W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uha 002"/>
          <p:cNvPicPr/>
          <p:nvPr/>
        </p:nvPicPr>
        <p:blipFill>
          <a:blip r:embed="rId1"/>
          <a:stretch/>
        </p:blipFill>
        <p:spPr>
          <a:xfrm>
            <a:off x="228600" y="915840"/>
            <a:ext cx="8686800" cy="578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4771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все зеле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SC02137"/>
          <p:cNvPicPr/>
          <p:nvPr/>
        </p:nvPicPr>
        <p:blipFill>
          <a:blip r:embed="rId1"/>
          <a:stretch/>
        </p:blipFill>
        <p:spPr>
          <a:xfrm>
            <a:off x="685800" y="152280"/>
            <a:ext cx="8051760" cy="603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6217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все яр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more2007 227"/>
          <p:cNvPicPr/>
          <p:nvPr/>
        </p:nvPicPr>
        <p:blipFill>
          <a:blip r:embed="rId1"/>
          <a:stretch/>
        </p:blipFill>
        <p:spPr>
          <a:xfrm>
            <a:off x="533520" y="5724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21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все жел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DSC02080"/>
          <p:cNvPicPr/>
          <p:nvPr/>
        </p:nvPicPr>
        <p:blipFill>
          <a:blip r:embed="rId1"/>
          <a:stretch/>
        </p:blipFill>
        <p:spPr>
          <a:xfrm>
            <a:off x="533520" y="763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6171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все б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DSC0227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09480" y="9540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85840" y="428400"/>
            <a:ext cx="85723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I like this season, because I can swim and play football. It is bright and hot. This season is after spr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What season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4714920" y="3929040"/>
            <a:ext cx="3970440" cy="292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DSC03677"/>
          <p:cNvPicPr/>
          <p:nvPr/>
        </p:nvPicPr>
        <p:blipFill>
          <a:blip r:embed="rId2"/>
          <a:stretch/>
        </p:blipFill>
        <p:spPr>
          <a:xfrm>
            <a:off x="500040" y="4178160"/>
            <a:ext cx="35719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85840" y="35712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I like this season, because I can ski and skate. It is white and cold. It is after autum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What season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572000" y="328608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SC02269"/>
          <p:cNvPicPr/>
          <p:nvPr/>
        </p:nvPicPr>
        <p:blipFill>
          <a:blip r:embed="rId2"/>
          <a:stretch/>
        </p:blipFill>
        <p:spPr>
          <a:xfrm>
            <a:off x="285840" y="3286080"/>
            <a:ext cx="3873240" cy="290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112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16292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2"/>
          <a:stretch/>
        </p:blipFill>
        <p:spPr>
          <a:xfrm>
            <a:off x="-6480" y="317520"/>
            <a:ext cx="9369720" cy="1944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hop like a rab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jump like a fr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run like a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fly like a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swim like a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be still, like a good chi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still as you w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Winter months are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79280" y="1682640"/>
            <a:ext cx="8425080" cy="5175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468360" y="182304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Decembe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411280" y="343296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Janua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211640" y="476964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February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532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1440000"/>
            <a:ext cx="83818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>
            <a:off x="857160" y="380880"/>
            <a:ext cx="76438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ather Song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Rectangle 5"/>
          <p:cNvSpPr/>
          <p:nvPr/>
        </p:nvSpPr>
        <p:spPr>
          <a:xfrm flipV="1" rot="10800000">
            <a:off x="1371600" y="1526040"/>
            <a:ext cx="6843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hen the weather is we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e must not fr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hen the weather is col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e must not sc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hen the weather is war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e must not storm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But we thankful togethe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94ff"/>
                </a:solidFill>
                <a:latin typeface="Arial"/>
              </a:rPr>
              <a:t>Whatever the wea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pring 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777080" cy="4981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84360" y="220500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R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348000" y="35298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RIL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96000" y="47505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Summer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97800" cy="4584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15320" y="2069280"/>
            <a:ext cx="215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Ju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 flipV="1" rot="10847400">
            <a:off x="3132000" y="335592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Ju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500720" y="463932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ugus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Autumn months 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8360" y="1700280"/>
            <a:ext cx="8353440" cy="4824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95280" y="17737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eptemb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35280" y="3643920"/>
            <a:ext cx="51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Octob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19640" y="4941000"/>
            <a:ext cx="740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Novemb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en is your              birthday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My birthday is in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187164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5715000" y="4286160"/>
            <a:ext cx="3143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8400" y="1900080"/>
            <a:ext cx="808668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at colour is    Spring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Summer, Winter,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utum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572080" y="3857760"/>
            <a:ext cx="2857680" cy="278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Questions</a:t>
            </a: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What are Spring month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Spring months ar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0" y="28584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6786720" y="4357800"/>
            <a:ext cx="192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UTUM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NTER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SPRING IS 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MG_9415"/>
          <p:cNvPicPr/>
          <p:nvPr/>
        </p:nvPicPr>
        <p:blipFill>
          <a:blip r:embed="rId1"/>
          <a:stretch/>
        </p:blipFill>
        <p:spPr>
          <a:xfrm>
            <a:off x="6103800" y="3505320"/>
            <a:ext cx="2963880" cy="32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IMG_9418"/>
          <p:cNvPicPr/>
          <p:nvPr/>
        </p:nvPicPr>
        <p:blipFill>
          <a:blip r:embed="rId2"/>
          <a:stretch/>
        </p:blipFill>
        <p:spPr>
          <a:xfrm>
            <a:off x="5257800" y="152280"/>
            <a:ext cx="3809880" cy="312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IMG_9421"/>
          <p:cNvPicPr/>
          <p:nvPr/>
        </p:nvPicPr>
        <p:blipFill>
          <a:blip r:embed="rId3"/>
          <a:stretch/>
        </p:blipFill>
        <p:spPr>
          <a:xfrm>
            <a:off x="228600" y="1066680"/>
            <a:ext cx="3809880" cy="395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MG_9429"/>
          <p:cNvPicPr/>
          <p:nvPr/>
        </p:nvPicPr>
        <p:blipFill>
          <a:blip r:embed="rId4"/>
          <a:stretch/>
        </p:blipFill>
        <p:spPr>
          <a:xfrm>
            <a:off x="1879560" y="4073400"/>
            <a:ext cx="406404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76320" y="75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 Black"/>
              </a:rPr>
              <a:t>SUMMER IS B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DSC03677"/>
          <p:cNvPicPr/>
          <p:nvPr/>
        </p:nvPicPr>
        <p:blipFill>
          <a:blip r:embed="rId1"/>
          <a:stretch/>
        </p:blipFill>
        <p:spPr>
          <a:xfrm>
            <a:off x="914400" y="11430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Black"/>
              </a:rPr>
              <a:t>AUTUMN IS 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DSC02078"/>
          <p:cNvPicPr/>
          <p:nvPr/>
        </p:nvPicPr>
        <p:blipFill>
          <a:blip r:embed="rId1"/>
          <a:stretch/>
        </p:blipFill>
        <p:spPr>
          <a:xfrm>
            <a:off x="838080" y="1143000"/>
            <a:ext cx="7696440" cy="559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8:06Z</dcterms:created>
  <dc:creator>Loner-XP</dc:creator>
  <dc:description/>
  <dc:language>en-US</dc:language>
  <cp:lastModifiedBy>User</cp:lastModifiedBy>
  <dcterms:modified xsi:type="dcterms:W3CDTF">2010-03-16T21:09:28Z</dcterms:modified>
  <cp:revision>24</cp:revision>
  <dc:subject/>
  <dc:title>SEASONS AND MONTHS</dc:title>
</cp:coreProperties>
</file>