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7C10-16DE-476B-9067-C3DC7E4BD3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4251-DA25-456F-991D-BDDFD7FB4D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FCE-C34A-4BB8-A73B-56B065C8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E29-5570-4CB2-A505-063B891C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B17-BA2F-461B-9BFC-4CA54B93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808-DFAB-4EFC-93F9-1BAA8B75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A6E5-45B6-4F8F-BA76-BD143A66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7080-92F9-4BD8-A99E-DE153C7E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921E-DFA2-487E-81E4-40C22F03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BE23-E84C-4E68-9B94-3F46E09D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5715-A727-492C-96BB-C359AFBC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9F9B-41B1-440C-AF27-E27F15AD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E245-1E94-4D9E-80E9-C7C637C6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548-A96B-4423-8415-2AD58025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A6E2-5CDB-4365-BE1E-9BB81A6E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9B08-E7D4-4793-85DC-D8118C7F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ABB4-71C7-4479-BF7A-A6CAB189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95D2-6947-4A31-B081-5B36F3D1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7CC6-BDED-43A5-BBF7-62FA7CC9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55AE-30DF-445E-AA4C-D243F582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0DD1C-8E0B-4E96-9328-DE2156F7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151D7-7EB3-4A00-B056-6917455E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01F0-CA88-4DB0-92D2-F91B7FEC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B67E-9F3C-4EA0-B467-5430B979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FED-9F24-466C-BA47-DAEAEBF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72AE8-18ED-4C1C-9C56-C3BB60F4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D163-7A88-464B-953F-1B5E967C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EA2FF-322A-46D0-A201-8A5CE0C7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4C01-70E2-4A82-8DEC-91D5C8A9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89435-1376-46D3-B8E8-BA3D789B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2CFE4-2721-4DCB-9B6F-B3755F81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1851-4C20-47C9-AD4C-C2516F7F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E6FE2-CA33-45EA-8975-A9F72B87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F5ADF-9AA0-48CC-AD6C-063DB5AB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D2D0-A3FA-4832-B08E-F64E71C6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8C3-B683-4AD7-AD2F-8089B7D3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5D7A-0944-4E63-81AB-8983A5A9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D8C1B-B318-4063-ACE7-F42A80C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C55C-1780-44CB-BF78-6BC47FAC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050C-4F04-4541-9C60-BCA85868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FBA1-8469-4210-B608-C7D30735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320FE-09B4-46A7-8B36-7B65E56E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A4416-298E-4A26-9B8F-E8DB82FA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CD8C-7A17-451A-957F-2A8EEE74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2F337-DF74-4A2E-AC91-5A5A88F3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9CEEB-08B4-4CFE-9908-1041D2BE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07D-AE03-42CF-807B-E64F279E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9BDEC-2550-40AD-A8FD-395C82AC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D0808-5B7C-4E70-A5AF-F5F49181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95446-96D4-4480-94B4-CBD3CD03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91E3-DB33-4E47-A749-886FF786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0C06E-7B00-458F-B0C9-1EE1DEB5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05114-B193-4E7F-80D9-67D0CA06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9ECB-2718-428F-98BE-4A10046A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5912-2822-49DF-A3CB-0F2190CB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62203-B04E-4C0E-A043-BA75DCAB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2BA67-2C77-4AE8-AAD7-9B4975D8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AE1-6F51-4180-9263-B762CA44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9AB6D-0E4A-4F5D-BF8B-432F3741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FFF7B-739A-491F-8127-10E22FCD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6E0DA-05D4-4E77-A1AF-1CC017AB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F4482-0DED-4D1A-9925-1D9E5E23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D69A6-DEFD-447F-827D-B94B780A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62A37-9687-44BC-898D-4595C98A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A6AE3-AA48-486D-A44C-20E7CFF7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F90E6-829B-444B-98FA-0E274D1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B3574-0822-44C0-9C47-937F5FB8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1A2FA-684A-4AB8-9A7D-1B0F5A5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937-48BE-4B6B-82EA-3E7E09D8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806D6-D0A2-4CFC-B066-9101E2AE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BA63A-AC74-4904-AE56-7B332EAB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BB1D4-64EC-4676-84D3-0FE1D79D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AE3-CABC-485A-8CB4-EE4605E6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FF0-AEB6-4544-AE93-BEC917E2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30CD-9602-4544-AFC6-4B284F4744A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Straight Connector 7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traight Connector 10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40F7-531B-41B4-9036-7492906FB62D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d2cb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Straight Connector 11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d2cb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0EAB-C1CD-4BE2-BE87-C02B1FC430D6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74B0-3105-4919-85AC-AE41EA283D1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a9a5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E0B9-95AE-47CA-9903-22622B0C10BA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b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7286-F3BE-42C9-99B1-742F9D41892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57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ПОУ Курганский технологический колледж имени Героя Советского Союза Н. Я. Анфиногенов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87520" y="4581000"/>
            <a:ext cx="7656480" cy="22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сова Ксен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геевна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дентк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4группы,  специальность 40.02.0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организация соц.обеспечен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      Репина Алла Владимировна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даватель английского язык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ган 202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1"/>
          <a:stretch/>
        </p:blipFill>
        <p:spPr>
          <a:xfrm>
            <a:off x="7896240" y="0"/>
            <a:ext cx="1216080" cy="18748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"/>
          <p:cNvPicPr/>
          <p:nvPr/>
        </p:nvPicPr>
        <p:blipFill>
          <a:blip r:embed="rId2"/>
          <a:stretch/>
        </p:blipFill>
        <p:spPr>
          <a:xfrm>
            <a:off x="33480" y="4944960"/>
            <a:ext cx="1423800" cy="19083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"/>
          <p:cNvPicPr/>
          <p:nvPr/>
        </p:nvPicPr>
        <p:blipFill>
          <a:blip r:embed="rId3"/>
          <a:stretch/>
        </p:blipFill>
        <p:spPr>
          <a:xfrm>
            <a:off x="27000" y="-76320"/>
            <a:ext cx="1695600" cy="20275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2"/>
          <p:cNvSpPr/>
          <p:nvPr/>
        </p:nvSpPr>
        <p:spPr>
          <a:xfrm>
            <a:off x="1547640" y="2405160"/>
            <a:ext cx="665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клад Величайшей английской королевы Виктории в истори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012160" y="-3723120"/>
            <a:ext cx="4608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79280" y="2421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анско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я сложилась городская бытовая цивилизация: улично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вещение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отуары, санитария и гигиена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провод и канализа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р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это время были изобретены и широко распространились кухонное оборудование и консервные банки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тография, музыкальные шкатулки и механическое пианино, игрушки, открытки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же практика подарков и театрализованное празднование Рождества появились в Викторианскую эпоху. Родилась массовая культура в ходе приобщения народа к достижениям цивилиз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Рисунок 3" descr=""/>
          <p:cNvPicPr/>
          <p:nvPr/>
        </p:nvPicPr>
        <p:blipFill>
          <a:blip r:embed="rId1"/>
          <a:stretch/>
        </p:blipFill>
        <p:spPr>
          <a:xfrm>
            <a:off x="108000" y="28440"/>
            <a:ext cx="3024000" cy="23241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3" descr=""/>
          <p:cNvPicPr/>
          <p:nvPr/>
        </p:nvPicPr>
        <p:blipFill>
          <a:blip r:embed="rId2"/>
          <a:stretch/>
        </p:blipFill>
        <p:spPr>
          <a:xfrm>
            <a:off x="5770440" y="28440"/>
            <a:ext cx="3346560" cy="227664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4" descr=""/>
          <p:cNvPicPr/>
          <p:nvPr/>
        </p:nvPicPr>
        <p:blipFill>
          <a:blip r:embed="rId3"/>
          <a:stretch/>
        </p:blipFill>
        <p:spPr>
          <a:xfrm>
            <a:off x="7115040" y="5487840"/>
            <a:ext cx="2054520" cy="137016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"/>
          <p:cNvPicPr/>
          <p:nvPr/>
        </p:nvPicPr>
        <p:blipFill>
          <a:blip r:embed="rId4"/>
          <a:stretch/>
        </p:blipFill>
        <p:spPr>
          <a:xfrm>
            <a:off x="3419640" y="115920"/>
            <a:ext cx="2125440" cy="196848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6" descr=""/>
          <p:cNvPicPr/>
          <p:nvPr/>
        </p:nvPicPr>
        <p:blipFill>
          <a:blip r:embed="rId5"/>
          <a:stretch/>
        </p:blipFill>
        <p:spPr>
          <a:xfrm>
            <a:off x="3736800" y="5705640"/>
            <a:ext cx="1489320" cy="11523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3" descr=""/>
          <p:cNvPicPr/>
          <p:nvPr/>
        </p:nvPicPr>
        <p:blipFill>
          <a:blip r:embed="rId6"/>
          <a:stretch/>
        </p:blipFill>
        <p:spPr>
          <a:xfrm>
            <a:off x="7407360" y="2719440"/>
            <a:ext cx="1709640" cy="244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8240" y="1155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АНСКАЯ ЭПОХА</a:t>
            </a:r>
            <a:br>
              <a:rPr sz="16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СОСТАВИЛА СПИСОК КЛЮЧЕВЫХ ДАТ ПРАВЛЕНИЯ КОРОЛЕВЫ ВИКТОРИИ, ИЗУЧИВ РАЗЛИЧНЫЕ ИСТОЧНИКИ. ОНИ ПРИВЕДЕНЫ НИЖЕ</a:t>
            </a:r>
            <a:br>
              <a:rPr sz="14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ЕВЫЕ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Ы:</a:t>
            </a:r>
            <a:br>
              <a:rPr sz="28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26560" y="1341360"/>
            <a:ext cx="7231320" cy="496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37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иктория становится королевой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40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ие почтовых марок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я выходит замуж за Альберта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46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нулирование «хлебных» законов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51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рвая всемирная выставка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54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6 Крымская война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61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мерть принца Альберта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67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торая парламентская реформа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70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ль об образовании: введени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й школьной реформы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72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ведение тайного голосования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76-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я провозглашен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ператрицей Индии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84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сеобщее голосование для мужчин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86-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ол либеральной партии из-з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правления Ирландии</a:t>
            </a:r>
            <a:br>
              <a:rPr sz="16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93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ний законопроект Гладстон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самоуправлении</a:t>
            </a: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99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1902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Англо-бурская война</a:t>
            </a:r>
            <a:br>
              <a:rPr sz="1400"/>
            </a:b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01-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рть королевы Виктории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560" y="18720"/>
            <a:ext cx="72896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4067280" y="404640"/>
            <a:ext cx="5076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, укрепление морального авторитета английской короны ассоциировалось с именем Виктории, время ее правления получило названи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икторианск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эпохи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икторианство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тронуло все стороны жизни Британии: экономику, политику, культуру и даже спорт. </a:t>
            </a:r>
            <a:r>
              <a:rPr b="0" lang="ru-RU" sz="2000" spc="-1" strike="noStrike">
                <a:solidFill>
                  <a:srgbClr val="ebf2f2"/>
                </a:solidFill>
                <a:latin typeface="Times New Roman"/>
              </a:rPr>
              <a:t>ее </a:t>
            </a:r>
            <a:r>
              <a:rPr b="0" lang="ru-RU" sz="2000" spc="-1" strike="noStrike">
                <a:solidFill>
                  <a:srgbClr val="eaedeb"/>
                </a:solidFill>
                <a:latin typeface="Times New Roman"/>
              </a:rPr>
              <a:t>имя, став еще и нарицательным, на мой </a:t>
            </a:r>
            <a:r>
              <a:rPr b="0" lang="ru-RU" sz="2000" spc="-1" strike="noStrike">
                <a:solidFill>
                  <a:srgbClr val="f7f7f2"/>
                </a:solidFill>
                <a:latin typeface="Times New Roman"/>
              </a:rPr>
              <a:t>взгляд, оправдало себя в полной мере-продвижения, подъем  в различных сферах жизни, означал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маленькие победы» </a:t>
            </a:r>
            <a:r>
              <a:rPr b="0" lang="ru-RU" sz="2000" spc="-1" strike="noStrike">
                <a:solidFill>
                  <a:srgbClr val="eeede5"/>
                </a:solidFill>
                <a:latin typeface="Times New Roman"/>
              </a:rPr>
              <a:t>в развитии </a:t>
            </a:r>
            <a:r>
              <a:rPr b="0" lang="ru-RU" sz="2000" spc="-1" strike="noStrike">
                <a:solidFill>
                  <a:srgbClr val="ebf2f2"/>
                </a:solidFill>
                <a:latin typeface="Times New Roman"/>
              </a:rPr>
              <a:t>страны</a:t>
            </a:r>
            <a:r>
              <a:rPr b="0" lang="ru-RU" sz="2000" spc="-1" strike="noStrike">
                <a:solidFill>
                  <a:srgbClr val="eeede5"/>
                </a:solidFill>
                <a:latin typeface="Times New Roman"/>
              </a:rPr>
              <a:t>. Безусловно, не имя красит человека, а поступки, и много знаменитых правителей, ученых и т.д. с другими именами, но налицо удивительное сочетание значения имени с деятельностью королев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Очевидно,  чт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ролева Виктория оставила, безусловно, яркий след в истории не только своей страны, но и 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6" descr="4ak0618i"/>
          <p:cNvPicPr/>
          <p:nvPr/>
        </p:nvPicPr>
        <p:blipFill>
          <a:blip r:embed="rId1"/>
          <a:stretch/>
        </p:blipFill>
        <p:spPr>
          <a:xfrm>
            <a:off x="179280" y="981000"/>
            <a:ext cx="2448000" cy="270360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" descr=""/>
          <p:cNvPicPr/>
          <p:nvPr/>
        </p:nvPicPr>
        <p:blipFill>
          <a:blip r:embed="rId2"/>
          <a:stretch/>
        </p:blipFill>
        <p:spPr>
          <a:xfrm>
            <a:off x="76320" y="3684600"/>
            <a:ext cx="26542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00000" y="-100440"/>
            <a:ext cx="55436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КЕТ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8000" y="692280"/>
            <a:ext cx="8928000" cy="612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e113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чем у вас ассоциируется слово «Виктория»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а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Женское имя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Ягод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я Виктория заимствовано из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инского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еческого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Английского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Открытки были изобретены во время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ления Елизаветы 2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Мировой Войны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авлени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ы Виктории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о называли «Бабушкой Европы»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ию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у Викторию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толицу Росс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Викторианская эпоха — это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поха побед Великобритании в войне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b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поха правления королев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поха правления короля Виктор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КЕТИРОВАНИЕ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СТУДЕНТ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4" name="Рисунок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902640" cy="4032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68240" y="2286000"/>
            <a:ext cx="7290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19308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СОК ГЕОГРАФИЧЕСКИХ ОБЪЕКТОВ, НОСЯЩИХ ИМ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6560" y="1341360"/>
            <a:ext cx="7231320" cy="489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а самым популярным монархом Великобритании. Ее именем названы штат Австралии, самое большое озеро в Африке, знаменитый водопад на реке Замбези, главный город канадской провинции Британская Колумбия и столица Сейшельских островов. Как наиболее популярному монарху, Виктории поставлено больше всего памятников в Англии, самый известный из которых – монумент около Букингемского дворца. Крест Виктории, учрежденный в 1856 г., является высшей военной наградой в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анад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встрал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еликобритании и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овой Зеланд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ень Виктор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- государственный праздник в Канаде и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которых районах Шотланд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3738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ЖЕ ПРИВЕДЕН СПИСОК  ГЕОГРАФИЧЕСКИХ ОБЪЕКТОВ, КОТОРЫЕ ЯВЛЯЮТСЯ  «ТЕЗКАМИ» КОРОЛЕВЫ ВИКТОРИИ 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539640" y="2444760"/>
            <a:ext cx="792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опад Виктория — знаменитый водопад в Африк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зеро Виктория — крупнейшее озеро Афри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ия — штат Австрал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ия — город в Камерун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ия — город в Канад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ия — город на Сейшельских островах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тров Виктория — остров в составе Канадского Арктического архипелага, принадлежит Канад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тров Виктория — остров в Арктике, юго-западнее Земли Франца Иосифа, принадлежит Росс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к Виктория в Гонконг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ия (Виктория-Сити) — исторический центр Гонконг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КТИЧЕСКАЯ ЦЕННОСТЬ РАБОТЫ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ю, полученную из данной работы можно применить на классных часах, при составлении вопросов интеллектуальных игр, для повышения образовательного уровн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-387360"/>
            <a:ext cx="7218360" cy="19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СОК ИСПОЛЬЗУЕМЫХ ИСТОЧНИКОВ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00000" y="764640"/>
            <a:ext cx="7128000" cy="609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5000"/>
          </a:bodyPr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.Заяц И. А. Виктория – значение имени, происхождение, характеристики, гороскоп Источник: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www.infoniac.ru/news/Viktoriya-znachenie-imeni-proishozhdenie-harakteristiki-goroskop.html#15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Карпов С. Имена. Значение древнеславянских имен, названий и слов. Источник: 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zema.su/blog/imena-znacheniya-drevneslavyanskikh-imen-nazvanii-i-slov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Бабушка всей Европы 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s://clck.ru/TJkM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нуки королевы Виктории и принца Альберта https://clck.ru/TJjrJ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История королевы Виктории https://clck.ru/TJjw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оролева Виктория – символ на троне https://clck.ru/TJkSB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Чем прославилась королева Виктория https://clck.ru/TJjo3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Королева Виктория и ее 9 детей https://clck.ru/TJk7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История Европы: https://clck.ru/TJjo3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Эпоха королевы Виктории https://clck.ru/TJkH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79400" y="2421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8520" y="620280"/>
            <a:ext cx="72896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БОТЫ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ТЬ, ЧТО  КОРОЛЕВА АНГЛИИ ВИКТОРИЯ  ВНЕСЛА ВЕСОМЫЙ ВКЛАД КАК  В ИСТОРИЮ СВОЕЙ СТРАНЫ, ТАК И ВСЕОБЩУЮ  ИСТОРИЮ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55280" y="2060640"/>
            <a:ext cx="728964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Изучить источники по данной тем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Узнать значение и происхождение имени Виктор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роследить и установить связь имени с исторической эпохо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Провести анкетирование студент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Узнать, что еще названо именем «Виктория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2896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ОМ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НИЯ  ЯВЛЯЕТСЯ ИСТОРИЧЕСКАЯ ЛИЧНОСТЬ ,КОРОЛЕВА АНГЛИИ ВИКТОРИЯ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55280" y="1483920"/>
            <a:ext cx="7302600" cy="48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ом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ния являются  значение имени «Виктория» , вся  эпоха от рождения до смерти королевы Виктории, географические объекты с названием «Виктория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з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щательно изучить  и проанализировать жизнь и деятельность английской  королевы Виктори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можно сделать вывод о весомости ее вклада в  историю  своей и зарубежных стран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Чтение и анализ книг по данной тем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Изучение и анализ Интернет-ресурсов по данной тем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роведение анкетирован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Сравнение собственных выводов с данными, приведенными в разных источниках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1818"/>
                </a:solidFill>
                <a:latin typeface="Times New Roman"/>
                <a:ea typeface="Times New Roman"/>
              </a:rPr>
              <a:t>КОРОЛЕВА, </a:t>
            </a:r>
            <a:r>
              <a:rPr b="0" i="1" lang="ru-RU" sz="3200" spc="-1" strike="noStrike">
                <a:solidFill>
                  <a:srgbClr val="eeede5"/>
                </a:solidFill>
                <a:latin typeface="Times New Roman"/>
                <a:ea typeface="Times New Roman"/>
              </a:rPr>
              <a:t>СТАВШАЯ СИМВОЛОМ ВЕЛИЧИЯ АНГЛИИ. ЕЕ ЖИЗНЬ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7880" y="2179800"/>
            <a:ext cx="3565800" cy="8222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89c9a"/>
                </a:solidFill>
                <a:latin typeface="Calibri"/>
              </a:rPr>
              <a:t>Королева Виктория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2" name="Содержимое 6" descr="queen-victoria-winterhalter-1843_jpg.jpg"/>
          <p:cNvPicPr/>
          <p:nvPr/>
        </p:nvPicPr>
        <p:blipFill>
          <a:blip r:embed="rId1"/>
          <a:stretch/>
        </p:blipFill>
        <p:spPr>
          <a:xfrm>
            <a:off x="571680" y="2500200"/>
            <a:ext cx="3481200" cy="3527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492800" y="2421000"/>
            <a:ext cx="79200" cy="58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rmAutofit fontScale="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689c9a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4720" y="1500120"/>
            <a:ext cx="4498920" cy="646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24.5.1819, Лондон - 22.1.1901, Осборн) - королева Великобритании с 1837г. Единственный ребенок принца Эдуарда, герцога Кентского, вигов премьер-министра Мельбурна. Даже в ранние годы Виктории были свойственны независимость и сила дух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Происхождение</a:t>
            </a:r>
            <a:r>
              <a:rPr b="1" lang="ru-RU" sz="3600" spc="-1" strike="noStrike">
                <a:solidFill>
                  <a:srgbClr val="1d69d9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имен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219320"/>
            <a:ext cx="4495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Имя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я</a:t>
            </a:r>
            <a:r>
              <a:rPr b="0" lang="en-US" sz="28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 – это женская форма имени Виктор, которое заимствовано из латинского языка, от слова «victory». Значение имени Виктория – «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еда</a:t>
            </a:r>
            <a:r>
              <a:rPr b="0" lang="en-US" sz="28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», «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едительница</a:t>
            </a:r>
            <a:r>
              <a:rPr b="0" lang="en-US" sz="2800" spc="-1" strike="noStrike">
                <a:solidFill>
                  <a:srgbClr val="f6f5e2"/>
                </a:solidFill>
                <a:latin typeface="Times New Roman"/>
                <a:ea typeface="Times New Roman"/>
              </a:rPr>
              <a:t>». Так звали римскую богиню победы, которой в мифологии Древней Греции соответствовала богиня Ника.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7" name="Google Shape;141;p21" descr="nika2"/>
          <p:cNvPicPr/>
          <p:nvPr/>
        </p:nvPicPr>
        <p:blipFill>
          <a:blip r:embed="rId1"/>
          <a:stretch/>
        </p:blipFill>
        <p:spPr>
          <a:xfrm>
            <a:off x="5324400" y="1447920"/>
            <a:ext cx="2692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62560" y="764640"/>
            <a:ext cx="46195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РСТВОВАВШАЯ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3 ГОДА 7 МЕСЯЦЕВ 2 ДНЯ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АНГЛИЙСКИЙ ПРЕСТОЛ БЫЛА ВОЗВЕДЕНА 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37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У. 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4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НА ВЫШЛА ЗАМУЖ ЗА ПРИНЦА АЛЬБЕРТА САКСЕН-КОБУРГ-ГОТСКОГО. У НИХ БЫЛ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ЕТЕЙ 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К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Rectangle 6"/>
          <p:cNvSpPr/>
          <p:nvPr/>
        </p:nvSpPr>
        <p:spPr>
          <a:xfrm rot="10501800">
            <a:off x="2244240" y="324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Рисунок 1" descr=""/>
          <p:cNvPicPr/>
          <p:nvPr/>
        </p:nvPicPr>
        <p:blipFill>
          <a:blip r:embed="rId1"/>
          <a:stretch/>
        </p:blipFill>
        <p:spPr>
          <a:xfrm>
            <a:off x="149400" y="836640"/>
            <a:ext cx="4313160" cy="4313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403280" y="5661000"/>
            <a:ext cx="1873440" cy="72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1022040"/>
            <a:ext cx="2363760" cy="11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7880" y="2179440"/>
            <a:ext cx="203400" cy="16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rmAutofit fontScale="27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689c9a"/>
              </a:solidFill>
              <a:latin typeface="Calibri"/>
            </a:endParaRPr>
          </a:p>
        </p:txBody>
      </p:sp>
      <p:pic>
        <p:nvPicPr>
          <p:cNvPr id="284" name="Содержимое 6" descr="mar.jpg"/>
          <p:cNvPicPr/>
          <p:nvPr/>
        </p:nvPicPr>
        <p:blipFill>
          <a:blip r:embed="rId1"/>
          <a:stretch/>
        </p:blipFill>
        <p:spPr>
          <a:xfrm>
            <a:off x="-1440" y="519120"/>
            <a:ext cx="4213080" cy="30178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058240" y="3002040"/>
            <a:ext cx="317520" cy="4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-720" bIns="-72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689c9a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334040" y="620640"/>
            <a:ext cx="4714560" cy="568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ти все исследователи описывают историю любви Виктории и Альберта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ьберт был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зен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иктории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на 3 месяца позже нее .Их бабушка, вдовствующая герцогиня Кобургская, с самого начала мечтала их поженить. Когда дети подросли, такое же желание возникло у короля Леопольда (дяди Виктории)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ае 1836г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ьберт впервые приезжает с братом в Англию и знакомится со своей кузиной. Молодые люди составили друг о друге в целом хорошее мнение. Спустя чуть более 3 лет Виктория вышла замуж за Альберта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Рисунок 3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2670120" cy="2671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20592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У ВИКТОРИЮ НАЗЫВАЛИ «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БУШКОЙ ЕВРОП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 НА ПЛАКАТЕ  И ФОТО ИЗОБРАЖЕН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 ДЕТЕЙ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КОВ И ИХ СЕМЬ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7" descr="b5d140i"/>
          <p:cNvPicPr/>
          <p:nvPr/>
        </p:nvPicPr>
        <p:blipFill>
          <a:blip r:embed="rId1"/>
          <a:stretch/>
        </p:blipFill>
        <p:spPr>
          <a:xfrm>
            <a:off x="2422440" y="1844640"/>
            <a:ext cx="4319640" cy="48070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1" descr=""/>
          <p:cNvPicPr/>
          <p:nvPr/>
        </p:nvPicPr>
        <p:blipFill>
          <a:blip r:embed="rId2"/>
          <a:stretch/>
        </p:blipFill>
        <p:spPr>
          <a:xfrm>
            <a:off x="6767640" y="1341360"/>
            <a:ext cx="2376360" cy="251928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7" descr=""/>
          <p:cNvPicPr/>
          <p:nvPr/>
        </p:nvPicPr>
        <p:blipFill>
          <a:blip r:embed="rId3"/>
          <a:stretch/>
        </p:blipFill>
        <p:spPr>
          <a:xfrm>
            <a:off x="-39600" y="1849320"/>
            <a:ext cx="2394000" cy="1689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b5d138i"/>
          <p:cNvPicPr/>
          <p:nvPr/>
        </p:nvPicPr>
        <p:blipFill>
          <a:blip r:embed="rId4"/>
          <a:stretch/>
        </p:blipFill>
        <p:spPr>
          <a:xfrm>
            <a:off x="155520" y="3876840"/>
            <a:ext cx="2130480" cy="248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280" y="-95760"/>
            <a:ext cx="7302600" cy="21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 ПРАВЛ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55640" y="1267920"/>
            <a:ext cx="5400720" cy="4862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онца 1840-х годов английска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ступила в полосу стремительног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ъема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нстрацией ее технических возможностей стала прошедшая с огромным успехом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ндонская всемирная промышленная выставка 185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онный комитет выставки возглавил принц Альберт, открыла выставку сама Виктория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арх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овилась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мволом стабильности, процветания, прогресс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я ей в Англии сохранялась относительна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бильность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гда в 1848 году по Европе прошла волна революци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Picture 4" descr="b5d128i"/>
          <p:cNvPicPr/>
          <p:nvPr/>
        </p:nvPicPr>
        <p:blipFill>
          <a:blip r:embed="rId1"/>
          <a:stretch/>
        </p:blipFill>
        <p:spPr>
          <a:xfrm>
            <a:off x="6732720" y="225360"/>
            <a:ext cx="2266920" cy="274968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1" descr=""/>
          <p:cNvPicPr/>
          <p:nvPr/>
        </p:nvPicPr>
        <p:blipFill>
          <a:blip r:embed="rId2"/>
          <a:stretch/>
        </p:blipFill>
        <p:spPr>
          <a:xfrm>
            <a:off x="6665760" y="3295800"/>
            <a:ext cx="2333880" cy="3457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24:52Z</dcterms:created>
  <dc:creator>User</dc:creator>
  <dc:description/>
  <dc:language>en-US</dc:language>
  <cp:lastModifiedBy>Ева</cp:lastModifiedBy>
  <dcterms:modified xsi:type="dcterms:W3CDTF">2024-02-11T17:16:03Z</dcterms:modified>
  <cp:revision>82</cp:revision>
  <dc:subject/>
  <dc:title>Королева Виктория</dc:title>
</cp:coreProperties>
</file>