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B625-3EAE-4E5D-AC26-6FD0BA01D6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B7A3-4417-48EB-9084-E5ECF34A94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A4E-CB1F-45A6-AB2A-A21A5E1C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C21-098B-4109-8E97-37B02E8C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35A-C3FF-44E3-BAF9-F7D04293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A21-4DBD-47AB-BFF9-C4274D4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8C34-5E82-4449-8BC9-39C834DA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C11B-835C-4435-B70E-D46D2C0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E4B-47B7-4B78-83AD-48EA65C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62E4-DC25-42B0-9C0B-1919423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94DC-883D-4E7E-8F94-5B77013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B036-482A-4882-AB30-1E39DDB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37F5-E376-401B-8677-9517649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7ED-1485-423E-8B10-18B22E54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C6C9-8247-47E5-9936-EE4D81D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0BDD-F043-4AC6-8FF2-770379F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0320-E8DF-496C-9285-A4D6141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E6A7-A445-4D04-9259-63D9DACA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3047-5DE6-4602-976C-25213F22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119B-880C-4AA9-9AD6-D040221E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39A3-9D90-450A-A6AF-42FB680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6338-AA36-4A09-8EEF-CA590B39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510A-C134-419A-9655-AC395F8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748E-C632-45FF-B730-6A65C5EB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F5C-4215-46C5-85DC-08362F2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5A2B-C13B-417E-8F8A-3D1C07D4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1D67-5F99-4C12-B12D-752A3074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F996-56BA-45F8-9C1F-B3A3692D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1023-BDEA-4C94-8972-7455A8E9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83DE-84F6-495F-BD85-82C80A1E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292A-1DE6-411D-8722-76186416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A15CD-9490-4139-8BFE-86F479DD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125A-DE47-4145-AE3E-B5278A27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AB62-544B-4565-9D6E-DA42C75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D635-FB18-4569-8D5F-1A5507C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CE2-F273-4D87-8480-8D3D903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8154-FD74-4CF0-AD7F-6431A1D9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6119-91C0-4C34-9B0F-F562E057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A775-D5B0-427C-B6CE-1FD4A27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71D4-A629-4FE9-BD97-F2460A5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103A-8DCA-439D-8291-06CB19E7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2767-D913-46AB-A004-F69D62BC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1562-FDF3-47FD-9609-8B94E32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2917F-6730-4F68-8AC5-52E092F7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3727-6A40-4F9E-A6EA-EB15CE39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49BF-5573-4AA9-A374-BC2B06A0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127-D835-4366-A194-587D9566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54B6-85D1-4101-81CF-E2564AC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E98F-7F0B-4CAD-B0F0-0FD1060A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9E64-F614-4AF7-8084-8868E7D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532B-328F-49E3-AE8A-8B7B6288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BE3D-5B82-4E70-B3A2-2C05AB3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9BEB-8B12-443A-969B-359FAFC9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8B84-A6AA-4228-89D2-F48A034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88F06-82C8-4FA3-971B-124407E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E62B-AF23-47A5-9629-61D2AC0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F5832-1B2C-4493-96AF-E929A283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2BF-7973-4763-BE98-552D9A7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C445-AC6D-4796-946A-D91D5517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573C-37B9-4EA9-BC8B-B6B8193A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0CCE-B8BA-42A3-9D1F-00BEC99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4D8E0-4637-4DC2-A498-5C1EDC1A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DCB3-2D67-4127-A648-94986AA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2124-7109-4632-B82A-461FFD01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F40F7-BA11-4FCA-94C7-AAA00D4B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5476-4D0C-455D-921C-5721368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D0CF-2835-4194-BCA5-C6E9C99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5E7D-F1BD-412C-800A-ADDFA292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C43-93EC-4738-8F15-BA1921F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C9E5-C1F5-47DE-9F42-83F50EF0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C273-8721-439E-A739-1F4C4ABC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6E89-9D79-41A9-B06D-ADCCFB28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15F-3FD5-4780-B104-A04A672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2F7-E956-47A3-B46B-D0641D3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9B71-8EBD-4775-B350-F76C6BA2159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Straight Connector 7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10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57F-C33C-4D85-BA1E-51D523A0F9F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Straight Connector 11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CDBD-98D4-42DE-8DFB-9EE20BC8713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D63-496B-411A-88E5-10276D7A415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a9a5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AECF-6EC8-49E2-8B26-A8474B1FB77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298-BE81-4A27-8D55-0A148884876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7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ПОУ Курганский технологический колледж имени Героя Советского Союза Н. Я. Анфиногено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87520" y="4581000"/>
            <a:ext cx="765648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сова Кс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геевн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тк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4группы,  специальность 40.02.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организация соц.обеспеч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      Репина Алла Владимировна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ь английского язы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ган 202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7896240" y="0"/>
            <a:ext cx="1216080" cy="18748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"/>
          <p:cNvPicPr/>
          <p:nvPr/>
        </p:nvPicPr>
        <p:blipFill>
          <a:blip r:embed="rId2"/>
          <a:stretch/>
        </p:blipFill>
        <p:spPr>
          <a:xfrm>
            <a:off x="33480" y="4944960"/>
            <a:ext cx="1423800" cy="1908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"/>
          <p:cNvPicPr/>
          <p:nvPr/>
        </p:nvPicPr>
        <p:blipFill>
          <a:blip r:embed="rId3"/>
          <a:stretch/>
        </p:blipFill>
        <p:spPr>
          <a:xfrm>
            <a:off x="27000" y="-76320"/>
            <a:ext cx="1695600" cy="20275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1547640" y="2405160"/>
            <a:ext cx="66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клад Величайшей английской королевы Виктории в истор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012160" y="-3723120"/>
            <a:ext cx="460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2421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анско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я сложилась городская бытовая цивилизация: улично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вещение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отуары, санитария и гигиена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провод и канализ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р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это время были изобретены и широко распространились кухонное оборудование и консервные банки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тография, музыкальные шкатулки и механическое пианино, игрушки, открытки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же практика подарков и театрализованное празднование Рождества появились в Викторианскую эпоху. Родилась массовая культура в ходе приобщения народа к достижениям цивилиз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108000" y="28440"/>
            <a:ext cx="3024000" cy="23241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3" descr=""/>
          <p:cNvPicPr/>
          <p:nvPr/>
        </p:nvPicPr>
        <p:blipFill>
          <a:blip r:embed="rId2"/>
          <a:stretch/>
        </p:blipFill>
        <p:spPr>
          <a:xfrm>
            <a:off x="5770440" y="28440"/>
            <a:ext cx="3346560" cy="22766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" descr=""/>
          <p:cNvPicPr/>
          <p:nvPr/>
        </p:nvPicPr>
        <p:blipFill>
          <a:blip r:embed="rId3"/>
          <a:stretch/>
        </p:blipFill>
        <p:spPr>
          <a:xfrm>
            <a:off x="7115040" y="5487840"/>
            <a:ext cx="2054520" cy="13701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"/>
          <p:cNvPicPr/>
          <p:nvPr/>
        </p:nvPicPr>
        <p:blipFill>
          <a:blip r:embed="rId4"/>
          <a:stretch/>
        </p:blipFill>
        <p:spPr>
          <a:xfrm>
            <a:off x="3419640" y="115920"/>
            <a:ext cx="2125440" cy="19684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"/>
          <p:cNvPicPr/>
          <p:nvPr/>
        </p:nvPicPr>
        <p:blipFill>
          <a:blip r:embed="rId5"/>
          <a:stretch/>
        </p:blipFill>
        <p:spPr>
          <a:xfrm>
            <a:off x="3736800" y="5705640"/>
            <a:ext cx="1489320" cy="11523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"/>
          <p:cNvPicPr/>
          <p:nvPr/>
        </p:nvPicPr>
        <p:blipFill>
          <a:blip r:embed="rId6"/>
          <a:stretch/>
        </p:blipFill>
        <p:spPr>
          <a:xfrm>
            <a:off x="7407360" y="2719440"/>
            <a:ext cx="1709640" cy="24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1155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АНСКАЯ ЭПОХА</a:t>
            </a:r>
            <a:br>
              <a:rPr sz="16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СОСТАВИЛА СПИСОК КЛЮЧЕВЫХ ДАТ ПРАВЛЕНИЯ КОРОЛЕВЫ ВИКТОРИИ, ИЗУЧИВ РАЗЛИЧНЫЕ ИСТОЧНИКИ. ОНИ ПРИВЕДЕНЫ НИЖЕ</a:t>
            </a:r>
            <a:br>
              <a:rPr sz="14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Ы: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26560" y="1341360"/>
            <a:ext cx="7231320" cy="496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37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ктория становится королевой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40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почтовых марок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я выходит замуж за Альберта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46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нулирование «хлебных» законов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51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рвая всемирная выставка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54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6 Крымская война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61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мерть принца Альберта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67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ая парламентская реформа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70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ль об образовании: введ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й школьной реформы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72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ведение тайного голосования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76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я провозглаше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ератрицей Индии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84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сеобщее голосование для мужчин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86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ол либеральной партии из-з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правления Ирландии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93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ий законопроект Гладсто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самоуправлении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99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190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Англо-бурская война</a:t>
            </a:r>
            <a:br>
              <a:rPr sz="1400"/>
            </a:b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01-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рть королевы Виктории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560" y="18720"/>
            <a:ext cx="72896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4067280" y="404640"/>
            <a:ext cx="5076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укрепление морального авторитета английской короны ассоциировалось с именем Виктории, время ее правления получило названи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икторианск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похи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икторианств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онуло все стороны жизни Британии: экономику, политику, культуру и даже спорт. </a:t>
            </a:r>
            <a:r>
              <a:rPr b="0" lang="ru-RU" sz="2000" spc="-1" strike="noStrike">
                <a:solidFill>
                  <a:srgbClr val="ebf2f2"/>
                </a:solidFill>
                <a:latin typeface="Times New Roman"/>
              </a:rPr>
              <a:t>ее </a:t>
            </a:r>
            <a:r>
              <a:rPr b="0" lang="ru-RU" sz="2000" spc="-1" strike="noStrike">
                <a:solidFill>
                  <a:srgbClr val="eaedeb"/>
                </a:solidFill>
                <a:latin typeface="Times New Roman"/>
              </a:rPr>
              <a:t>имя, став еще и нарицательным, на мой </a:t>
            </a:r>
            <a:r>
              <a:rPr b="0" lang="ru-RU" sz="2000" spc="-1" strike="noStrike">
                <a:solidFill>
                  <a:srgbClr val="f7f7f2"/>
                </a:solidFill>
                <a:latin typeface="Times New Roman"/>
              </a:rPr>
              <a:t>взгляд, оправдало себя в полной мере-продвижения, подъем  в различных сферах жизни, означал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маленькие победы» </a:t>
            </a:r>
            <a:r>
              <a:rPr b="0" lang="ru-RU" sz="2000" spc="-1" strike="noStrike">
                <a:solidFill>
                  <a:srgbClr val="eeede5"/>
                </a:solidFill>
                <a:latin typeface="Times New Roman"/>
              </a:rPr>
              <a:t>в развитии </a:t>
            </a:r>
            <a:r>
              <a:rPr b="0" lang="ru-RU" sz="2000" spc="-1" strike="noStrike">
                <a:solidFill>
                  <a:srgbClr val="ebf2f2"/>
                </a:solidFill>
                <a:latin typeface="Times New Roman"/>
              </a:rPr>
              <a:t>страны</a:t>
            </a:r>
            <a:r>
              <a:rPr b="0" lang="ru-RU" sz="2000" spc="-1" strike="noStrike">
                <a:solidFill>
                  <a:srgbClr val="eeede5"/>
                </a:solidFill>
                <a:latin typeface="Times New Roman"/>
              </a:rPr>
              <a:t>. Безусловно, не имя красит человека, а поступки, и много знаменитых правителей, ученых и т.д. с другими именами, но налицо удивительное сочетание значения имени с деятельностью королев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Очевидно,  чт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ролева Виктория оставила, безусловно, яркий след в истории не только своей страны, но и 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6" descr="4ak0618i"/>
          <p:cNvPicPr/>
          <p:nvPr/>
        </p:nvPicPr>
        <p:blipFill>
          <a:blip r:embed="rId1"/>
          <a:stretch/>
        </p:blipFill>
        <p:spPr>
          <a:xfrm>
            <a:off x="179280" y="981000"/>
            <a:ext cx="2448000" cy="27036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" descr=""/>
          <p:cNvPicPr/>
          <p:nvPr/>
        </p:nvPicPr>
        <p:blipFill>
          <a:blip r:embed="rId2"/>
          <a:stretch/>
        </p:blipFill>
        <p:spPr>
          <a:xfrm>
            <a:off x="76320" y="3684600"/>
            <a:ext cx="26542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00000" y="-100440"/>
            <a:ext cx="55436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ЕТ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8000" y="69228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e113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чем у вас ассоциируется слово «Виктория»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а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Женское имя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Ягод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Виктория заимствовано из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инского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еческого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Английског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Открытки были изобретены во время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ления Елизаветы 2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Мировой Войны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лени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ы Виктории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о называли «Бабушкой Европы»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ию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у Викторию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олицу Росс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Викторианская эпоха — это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поха побед Великобритании в войне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поха правления королев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поха правления короля Викто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ЕТИРОВАНИЕ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СТУДЕНТ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4" name="Рисунок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902640" cy="4032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68240" y="2286000"/>
            <a:ext cx="7290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19308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ГЕОГРАФИЧЕСКИХ ОБЪЕКТОВ, НОСЯЩИХ ИМ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6560" y="1341360"/>
            <a:ext cx="7231320" cy="489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 самым популярным монархом Великобритании. Ее именем названы штат Австралии, самое большое озеро в Африке, знаменитый водопад на реке Замбези, главный город канадской провинции Британская Колумбия и столица Сейшельских островов. Как наиболее популярному монарху, Виктории поставлено больше всего памятников в Англии, самый известный из которых – монумент около Букингемского дворца. Крест Виктории, учрежденный в 1856 г., является высшей военной наградой в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ана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встрал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еликобритании и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овой Зеланд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нь Виктор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государственный праздник в Канаде и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которых районах Шотланд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3738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Е ПРИВЕДЕН СПИСОК  ГЕОГРАФИЧЕСКИХ ОБЪЕКТОВ, КОТОРЫЕ ЯВЛЯЮТСЯ  «ТЕЗКАМИ» КОРОЛЕВЫ ВИКТОРИИ 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539640" y="2444760"/>
            <a:ext cx="79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опад Виктория — знаменитый водопад в Афри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зеро Виктория — крупнейшее озеро Афри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штат Австрал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город в Камерун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город в Канад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город на Сейшельских острова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тров Виктория — остров в составе Канадского Арктического архипелага, принадлежит Канад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тров Виктория — остров в Арктике, юго-западнее Земли Франца Иосифа, принадлежит Росс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 Виктория в Гонконг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(Виктория-Сити) — исторический центр Гонкон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АЯ ЦЕННОСТЬ РАБОТЫ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ю, полученную из данной работы можно применить на классных часах, при составлении вопросов интеллектуальных игр, для повышения образовательного уровн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-387360"/>
            <a:ext cx="721836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ИСПОЛЬЗУЕМЫХ ИСТОЧНИКОВ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00000" y="764640"/>
            <a:ext cx="7128000" cy="609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.Заяц И. А. Виктория – значение имени, происхождение, характеристики, гороскоп Источник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infoniac.ru/news/Viktoriya-znachenie-imeni-proishozhdenie-harakteristiki-goroskop.html#15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рпов С. Имена. Значение древнеславянских имен, названий и слов. Источник: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zema.su/blog/imena-znacheniya-drevneslavyanskikh-imen-nazvanii-i-slo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Бабушка всей Европы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s://clck.ru/TJkM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нуки королевы Виктории и принца Альберта https://clck.ru/TJjrJ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История королевы Виктории https://clck.ru/TJjw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оролева Виктория – символ на троне https://clck.ru/TJkSB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Чем прославилась королева Виктория https://clck.ru/TJjo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оролева Виктория и ее 9 детей https://clck.ru/TJk7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История Европы: https://clck.ru/TJjo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Эпоха королевы Виктории https://clck.ru/TJkH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79400" y="2421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8520" y="620280"/>
            <a:ext cx="72896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БОТЫ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Ь, ЧТО  КОРОЛЕВА АНГЛИИ ВИКТОРИЯ  ВНЕСЛА ВЕСОМЫЙ ВКЛАД КАК  В ИСТОРИЮ СВОЕЙ СТРАНЫ, ТАК И ВСЕОБЩУЮ  ИСТОРИЮ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55280" y="2060640"/>
            <a:ext cx="728964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учить источники по данной те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Узнать значение и происхождение имени Виктор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следить и установить связь имени с исторической эпох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Провести анкетирование студен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Узнать, что еще названо именем «Виктория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289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О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 ЯВЛЯЕТСЯ ИСТОРИЧЕСКАЯ ЛИЧНОСТЬ ,КОРОЛЕВА АНГЛИИ ВИКТОРИЯ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55280" y="1483920"/>
            <a:ext cx="7302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ом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являются  значение имени «Виктория» , вся  эпоха от рождения до смерти королевы Виктории, географические объекты с названием «Виктория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щательно изучить  и проанализировать жизнь и деятельность английской  королевы Виктори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можно сделать вывод о весомости ее вклада в  историю  своей и зарубежных стра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ение и анализ книг по данной тем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Изучение и анализ Интернет-ресурсов по данной тем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ведение анкетирова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Сравнение собственных выводов с данными, приведенными в разных источника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818"/>
                </a:solidFill>
                <a:latin typeface="Times New Roman"/>
                <a:ea typeface="Times New Roman"/>
              </a:rPr>
              <a:t>КОРОЛЕВА, </a:t>
            </a:r>
            <a:r>
              <a:rPr b="0" i="1" lang="ru-RU" sz="3200" spc="-1" strike="noStrike">
                <a:solidFill>
                  <a:srgbClr val="eeede5"/>
                </a:solidFill>
                <a:latin typeface="Times New Roman"/>
                <a:ea typeface="Times New Roman"/>
              </a:rPr>
              <a:t>СТАВШАЯ СИМВОЛОМ ВЕЛИЧИЯ АНГЛИИ. ЕЕ ЖИЗНЬ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7880" y="2179800"/>
            <a:ext cx="356580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89c9a"/>
                </a:solidFill>
                <a:latin typeface="Calibri"/>
              </a:rPr>
              <a:t>Королева Виктория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2" name="Содержимое 6" descr="queen-victoria-winterhalter-1843_jpg.jpg"/>
          <p:cNvPicPr/>
          <p:nvPr/>
        </p:nvPicPr>
        <p:blipFill>
          <a:blip r:embed="rId1"/>
          <a:stretch/>
        </p:blipFill>
        <p:spPr>
          <a:xfrm>
            <a:off x="571680" y="2500200"/>
            <a:ext cx="3481200" cy="3527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92800" y="2421000"/>
            <a:ext cx="79200" cy="58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rmAutofit fontScale="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689c9a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4720" y="1500120"/>
            <a:ext cx="4498920" cy="646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24.5.1819, Лондон - 22.1.1901, Осборн) - королева Великобритании с 1837г. Единственный ребенок принца Эдуарда, герцога Кентского, вигов премьер-министра Мельбурна. Даже в ранние годы Виктории были свойственны независимость и сила дух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Происхождение</a:t>
            </a:r>
            <a:r>
              <a:rPr b="1" lang="ru-RU" sz="3600" spc="-1" strike="noStrike">
                <a:solidFill>
                  <a:srgbClr val="1d69d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имен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19320"/>
            <a:ext cx="4495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Им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 – это женская форма имени Виктор, которое заимствовано из латинского языка, от слова «victory». Значение имени Виктория – «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да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», «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дительница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». Так звали римскую богиню победы, которой в мифологии Древней Греции соответствовала богиня Ника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Google Shape;141;p21" descr="nika2"/>
          <p:cNvPicPr/>
          <p:nvPr/>
        </p:nvPicPr>
        <p:blipFill>
          <a:blip r:embed="rId1"/>
          <a:stretch/>
        </p:blipFill>
        <p:spPr>
          <a:xfrm>
            <a:off x="5324400" y="1447920"/>
            <a:ext cx="269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62560" y="764640"/>
            <a:ext cx="46195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РСТВОВАВШАЯ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3 ГОДА 7 МЕСЯЦЕВ 2 ДНЯ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АНГЛИЙСКИЙ ПРЕСТОЛ БЫЛА ВОЗВЕДЕНА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37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У.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4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НА ВЫШЛА ЗАМУЖ ЗА ПРИНЦА АЛЬБЕРТА САКСЕН-КОБУРГ-ГОТСКОГО. У НИХ БЫЛ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ТЕЙ 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 rot="10501800">
            <a:off x="2244240" y="324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Рисунок 1" descr=""/>
          <p:cNvPicPr/>
          <p:nvPr/>
        </p:nvPicPr>
        <p:blipFill>
          <a:blip r:embed="rId1"/>
          <a:stretch/>
        </p:blipFill>
        <p:spPr>
          <a:xfrm>
            <a:off x="149400" y="836640"/>
            <a:ext cx="4313160" cy="4313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403280" y="5661000"/>
            <a:ext cx="1873440" cy="72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1022040"/>
            <a:ext cx="236376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7880" y="2179440"/>
            <a:ext cx="203400" cy="16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rmAutofit fontScale="27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689c9a"/>
              </a:solidFill>
              <a:latin typeface="Calibri"/>
            </a:endParaRPr>
          </a:p>
        </p:txBody>
      </p:sp>
      <p:pic>
        <p:nvPicPr>
          <p:cNvPr id="284" name="Содержимое 6" descr="mar.jpg"/>
          <p:cNvPicPr/>
          <p:nvPr/>
        </p:nvPicPr>
        <p:blipFill>
          <a:blip r:embed="rId1"/>
          <a:stretch/>
        </p:blipFill>
        <p:spPr>
          <a:xfrm>
            <a:off x="-1440" y="519120"/>
            <a:ext cx="4213080" cy="30178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058240" y="3002040"/>
            <a:ext cx="317520" cy="4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-720" bIns="-72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689c9a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334040" y="620640"/>
            <a:ext cx="4714560" cy="568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ти все исследователи описывают историю любви Виктории и Альберт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берт был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зен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ктории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на 3 месяца позже нее .Их бабушка, вдовствующая герцогиня Кобургская, с самого начала мечтала их поженить. Когда дети подросли, такое же желание возникло у короля Леопольда (дяди Виктории)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ае 1836г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берт впервые приезжает с братом в Англию и знакомится со своей кузиной. Молодые люди составили друг о друге в целом хорошее мнение. Спустя чуть более 3 лет Виктория вышла замуж за Альберт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26701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20592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У ВИКТОРИЮ НАЗЫВАЛИ «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БУШКОЙ ЕВРОП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 НА ПЛАКАТЕ  И ФОТО ИЗОБРАЖЕН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ДЕТЕЙ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КОВ И ИХ СЕМЬ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7" descr="b5d140i"/>
          <p:cNvPicPr/>
          <p:nvPr/>
        </p:nvPicPr>
        <p:blipFill>
          <a:blip r:embed="rId1"/>
          <a:stretch/>
        </p:blipFill>
        <p:spPr>
          <a:xfrm>
            <a:off x="2422440" y="1844640"/>
            <a:ext cx="4319640" cy="4807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6767640" y="1341360"/>
            <a:ext cx="2376360" cy="25192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7" descr=""/>
          <p:cNvPicPr/>
          <p:nvPr/>
        </p:nvPicPr>
        <p:blipFill>
          <a:blip r:embed="rId3"/>
          <a:stretch/>
        </p:blipFill>
        <p:spPr>
          <a:xfrm>
            <a:off x="-39600" y="1849320"/>
            <a:ext cx="2394000" cy="1689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b5d138i"/>
          <p:cNvPicPr/>
          <p:nvPr/>
        </p:nvPicPr>
        <p:blipFill>
          <a:blip r:embed="rId4"/>
          <a:stretch/>
        </p:blipFill>
        <p:spPr>
          <a:xfrm>
            <a:off x="155520" y="3876840"/>
            <a:ext cx="2130480" cy="248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-95760"/>
            <a:ext cx="7302600" cy="21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 ПРАВЛ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5640" y="1267920"/>
            <a:ext cx="5400720" cy="486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онца 1840-х годов английска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ступила в полосу стремительног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ъем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ей ее технических возможностей стала прошедшая с огромным успехом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ндонская всемирная промышленная выставка 185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й комитет выставки возглавил принц Альберт, открыла выставку сама Виктория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арх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овилас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волом стабильности, процветания, прогресс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я ей в Англии сохранялась относительна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ьность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гда в 1848 году по Европе прошла волна революци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4" descr="b5d128i"/>
          <p:cNvPicPr/>
          <p:nvPr/>
        </p:nvPicPr>
        <p:blipFill>
          <a:blip r:embed="rId1"/>
          <a:stretch/>
        </p:blipFill>
        <p:spPr>
          <a:xfrm>
            <a:off x="6732720" y="225360"/>
            <a:ext cx="2266920" cy="27496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1" descr=""/>
          <p:cNvPicPr/>
          <p:nvPr/>
        </p:nvPicPr>
        <p:blipFill>
          <a:blip r:embed="rId2"/>
          <a:stretch/>
        </p:blipFill>
        <p:spPr>
          <a:xfrm>
            <a:off x="6665760" y="3295800"/>
            <a:ext cx="2333880" cy="345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24:52Z</dcterms:created>
  <dc:creator>User</dc:creator>
  <dc:description/>
  <dc:language>en-US</dc:language>
  <cp:lastModifiedBy>Ева</cp:lastModifiedBy>
  <dcterms:modified xsi:type="dcterms:W3CDTF">2024-02-11T17:16:03Z</dcterms:modified>
  <cp:revision>82</cp:revision>
  <dc:subject/>
  <dc:title>Королева Виктория</dc:title>
</cp:coreProperties>
</file>