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0521-1A19-4C5F-A56E-9977EF547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1068-1513-4946-9F7F-D3044AF23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Я.Виленкин, 2006 г.и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553-4509-4767-A196-8101DDD3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2EB-C98F-442F-9BD2-6230DB71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41B-1C8C-4843-AA90-8E7BD9F5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DB2-76BF-44D1-9945-5CE23758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D47-B1E4-4954-B6B3-A6ADB7B9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7F9-46F7-4899-A22B-E499ECF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11D-83C1-470F-B9C0-9C3BEF29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C2D-1D39-488C-A9FA-7787DA5B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796-C403-4E78-ABDB-95955674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C49-9318-455E-865B-A76D23F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3C1-659F-4515-9708-2E933ECE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FCE-F56B-43D2-B665-C339E5E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1D64-E445-4AA3-B3FA-49AA1A91F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4933800" y="3751200"/>
            <a:ext cx="2819520" cy="2238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684360" y="404640"/>
            <a:ext cx="770400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читание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ых чисел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914400" y="3751200"/>
            <a:ext cx="274320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1371600" y="5029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– 8 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858000" y="40384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 - 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+(-8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332000" y="3645000"/>
            <a:ext cx="63370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машнее  задание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187280" y="5084640"/>
            <a:ext cx="6985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.20, №751, 754, 758(б).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380988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4495680" y="1905120"/>
            <a:ext cx="121932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пас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р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0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17120" y="714240"/>
            <a:ext cx="5525280" cy="3015360"/>
          </a:xfrm>
          <a:prstGeom prst="rect">
            <a:avLst/>
          </a:prstGeom>
          <a:solidFill>
            <a:srgbClr val="00ffff"/>
          </a:solidFill>
          <a:ln w="9360">
            <a:solidFill>
              <a:srgbClr val="9933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! Вычитание можно заменить сложением.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 - 8 = 3 + (- 8) 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371600" y="2743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Чтобы из одного числа вычесть другое, надо к уменьшаемому прибавить число, противоположное вычитаем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502920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>
            <a:off x="324000" y="0"/>
            <a:ext cx="8820000" cy="6172200"/>
          </a:xfrm>
          <a:prstGeom prst="cloudCallout">
            <a:avLst>
              <a:gd name="adj1" fmla="val 28833"/>
              <a:gd name="adj2" fmla="val 5406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133720" y="685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ычисление разности чисел а и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886200" y="1371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828800" y="1219320"/>
            <a:ext cx="10666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2362320" y="1676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09480" y="1981080"/>
            <a:ext cx="4267440" cy="398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ыделите вычитаемое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23623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609480" y="2666880"/>
            <a:ext cx="5486400" cy="7038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пишите число, противоположное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ычитаемому -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236232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1295280" y="3733920"/>
            <a:ext cx="2667240" cy="398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оставьте а +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(-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762120" y="4495680"/>
            <a:ext cx="3809880" cy="398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ычислите сумму а + (-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6019920" y="1219320"/>
            <a:ext cx="13716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6324480" y="1905120"/>
            <a:ext cx="9144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5943600" y="3581280"/>
            <a:ext cx="175248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 + (-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5029200" y="4495680"/>
            <a:ext cx="236232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 + (- 8)=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/>
          <p:cNvSpPr/>
          <p:nvPr/>
        </p:nvSpPr>
        <p:spPr>
          <a:xfrm>
            <a:off x="609480" y="228600"/>
            <a:ext cx="8820360" cy="3733920"/>
          </a:xfrm>
          <a:prstGeom prst="cloudCallout">
            <a:avLst>
              <a:gd name="adj1" fmla="val -29462"/>
              <a:gd name="adj2" fmla="val 90388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46483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124080" y="762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ы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438280" y="1447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) - 3 –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4382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)  1 – (- 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3828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) 4 – (-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438280" y="2895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) - 2 –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7734240" y="5359320"/>
            <a:ext cx="1409760" cy="14986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3"/>
          <p:cNvSpPr/>
          <p:nvPr/>
        </p:nvSpPr>
        <p:spPr>
          <a:xfrm>
            <a:off x="2895480" y="3124080"/>
            <a:ext cx="4419720" cy="2971800"/>
          </a:xfrm>
          <a:prstGeom prst="cloudCallout">
            <a:avLst>
              <a:gd name="adj1" fmla="val 60597"/>
              <a:gd name="adj2" fmla="val 3803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352680" y="365760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Укажите в каждом случае вычитаемое и найдите чис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ему противопол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172200" y="914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            - b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6172200" y="1447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              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019920" y="1981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- 2             - (- 2)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095880" y="24382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- 5    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6248520" y="2819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              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533520" y="228600"/>
            <a:ext cx="8820000" cy="4952880"/>
          </a:xfrm>
          <a:prstGeom prst="cloudCallout">
            <a:avLst>
              <a:gd name="adj1" fmla="val -30453"/>
              <a:gd name="adj2" fmla="val 65194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057400" y="8380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тавьте пропущенные знаки операций или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81952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) 2 – 5 = 2 … (- 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819520" y="2362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) 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(- 12)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= 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…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819520" y="2895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) 12 – 15 = 12 + (…1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819520" y="3352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) 13 – (-7) = 13 + (…7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19520" y="38862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) -171 – (- 99) = -171 + (… 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943600" y="3429000"/>
            <a:ext cx="401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800600" y="1752480"/>
            <a:ext cx="4572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5867280" y="2286000"/>
            <a:ext cx="4572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867280" y="2895480"/>
            <a:ext cx="304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934320" y="3886200"/>
            <a:ext cx="4572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3" descr=""/>
          <p:cNvPicPr/>
          <p:nvPr/>
        </p:nvPicPr>
        <p:blipFill>
          <a:blip r:embed="rId1"/>
          <a:stretch/>
        </p:blipFill>
        <p:spPr>
          <a:xfrm>
            <a:off x="0" y="4572000"/>
            <a:ext cx="182880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5"/>
          <p:cNvSpPr/>
          <p:nvPr/>
        </p:nvSpPr>
        <p:spPr>
          <a:xfrm>
            <a:off x="380880" y="0"/>
            <a:ext cx="8763120" cy="6095880"/>
          </a:xfrm>
          <a:prstGeom prst="cloudCallout">
            <a:avLst>
              <a:gd name="adj1" fmla="val -37972"/>
              <a:gd name="adj2" fmla="val 52004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590920" y="1143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йдите пары по образ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905120" y="2133720"/>
            <a:ext cx="121896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 -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1295280" y="205740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37160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752480" y="2819520"/>
            <a:ext cx="144792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5 -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1143000" y="281952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295280" y="2895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752480" y="3429000"/>
            <a:ext cx="144792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5 +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9"/>
          <p:cNvSpPr/>
          <p:nvPr/>
        </p:nvSpPr>
        <p:spPr>
          <a:xfrm>
            <a:off x="1143000" y="350532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21932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0"/>
          <p:cNvSpPr/>
          <p:nvPr/>
        </p:nvSpPr>
        <p:spPr>
          <a:xfrm>
            <a:off x="6095880" y="342900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5715000" y="403848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3"/>
          <p:cNvSpPr/>
          <p:nvPr/>
        </p:nvSpPr>
        <p:spPr>
          <a:xfrm>
            <a:off x="5943600" y="213372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4"/>
          <p:cNvSpPr/>
          <p:nvPr/>
        </p:nvSpPr>
        <p:spPr>
          <a:xfrm>
            <a:off x="6324480" y="274320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5"/>
          <p:cNvSpPr/>
          <p:nvPr/>
        </p:nvSpPr>
        <p:spPr>
          <a:xfrm>
            <a:off x="3124080" y="152388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6"/>
          <p:cNvSpPr/>
          <p:nvPr/>
        </p:nvSpPr>
        <p:spPr>
          <a:xfrm>
            <a:off x="1447920" y="4191120"/>
            <a:ext cx="53316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7"/>
          <p:cNvSpPr/>
          <p:nvPr/>
        </p:nvSpPr>
        <p:spPr>
          <a:xfrm>
            <a:off x="3809880" y="4952880"/>
            <a:ext cx="533520" cy="4572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2057400" y="4114800"/>
            <a:ext cx="17524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02 + 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15238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809880" y="4952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4419720" y="4876920"/>
            <a:ext cx="17524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5 + (- 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5791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6324480" y="4038480"/>
            <a:ext cx="137160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4 +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61722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6781680" y="3352680"/>
            <a:ext cx="175284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 + (-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640080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934320" y="2666880"/>
            <a:ext cx="22096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02 – (-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6553080" y="1981080"/>
            <a:ext cx="205740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5 + (- 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3200400" y="1600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3733920" y="1523880"/>
            <a:ext cx="1752480" cy="459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-14 – (-2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3200400" y="2362320"/>
            <a:ext cx="289548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5"/>
          <p:cNvSpPr/>
          <p:nvPr/>
        </p:nvSpPr>
        <p:spPr>
          <a:xfrm>
            <a:off x="3200400" y="3200400"/>
            <a:ext cx="1295280" cy="99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6"/>
          <p:cNvSpPr/>
          <p:nvPr/>
        </p:nvSpPr>
        <p:spPr>
          <a:xfrm flipH="1">
            <a:off x="4191120" y="4191120"/>
            <a:ext cx="30456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7"/>
          <p:cNvSpPr/>
          <p:nvPr/>
        </p:nvSpPr>
        <p:spPr>
          <a:xfrm flipH="1">
            <a:off x="3657600" y="2971800"/>
            <a:ext cx="2666880" cy="11430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8"/>
          <p:cNvSpPr/>
          <p:nvPr/>
        </p:nvSpPr>
        <p:spPr>
          <a:xfrm>
            <a:off x="4876920" y="2133720"/>
            <a:ext cx="91440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434340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 flipH="1">
            <a:off x="1371600" y="0"/>
            <a:ext cx="7772400" cy="5562720"/>
          </a:xfrm>
          <a:prstGeom prst="cloudCallout">
            <a:avLst>
              <a:gd name="adj1" fmla="val 26263"/>
              <a:gd name="adj2" fmla="val 5259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66880" y="685800"/>
            <a:ext cx="61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ет ли ошибок в замене вычитания сложением? Если есть , то исправьте их. Выполните с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14600" y="2209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) - 9 – 4 = - 9 + (- 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514600" y="2819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 10 – (- 4) = 10 + (- 4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590920" y="3429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) 8 – (- 4) = 8 +  4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590920" y="4038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) - 4 – 10 = 4 + (- 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638680" y="2209680"/>
            <a:ext cx="9907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f92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5257800" y="2895120"/>
            <a:ext cx="53352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095880" y="2819520"/>
            <a:ext cx="21337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f92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+ 4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5638680" y="3429000"/>
            <a:ext cx="762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f92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343400" y="4114440"/>
            <a:ext cx="3049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6019920" y="4038480"/>
            <a:ext cx="2666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f92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4 + (-10) = 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3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2209680" cy="1676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5"/>
          <p:cNvSpPr/>
          <p:nvPr/>
        </p:nvSpPr>
        <p:spPr>
          <a:xfrm flipH="1">
            <a:off x="0" y="228600"/>
            <a:ext cx="7391520" cy="5562720"/>
          </a:xfrm>
          <a:prstGeom prst="cloudCallout">
            <a:avLst>
              <a:gd name="adj1" fmla="val -51291"/>
              <a:gd name="adj2" fmla="val 45115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371600" y="8380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полните пропус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8580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) 12 – (-5) = 12 +  (…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62120" y="2133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 12 – (…)   = 12 + (- 2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808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)  … – 6=   …  + (- 6) =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57200" y="3276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) - 76 – (- 79) = …        +      …    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85800" y="3886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) - 32 – (           ) = …           +  …      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600200" y="44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)      … – (-71) + …    + (   …     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3429000" y="1447920"/>
            <a:ext cx="533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267080" y="1447920"/>
            <a:ext cx="6858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7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1905120" y="2057400"/>
            <a:ext cx="6858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4648320" y="2133720"/>
            <a:ext cx="761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 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057400" y="2666880"/>
            <a:ext cx="533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762120" y="2666880"/>
            <a:ext cx="5331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2819520" y="3276720"/>
            <a:ext cx="761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7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267080" y="3276720"/>
            <a:ext cx="7621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7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5410080" y="3276720"/>
            <a:ext cx="91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3505320" y="3886200"/>
            <a:ext cx="99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 3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05520" y="3886200"/>
            <a:ext cx="761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7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209680" y="3886200"/>
            <a:ext cx="7621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27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5181480" y="4495680"/>
            <a:ext cx="838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 7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4114800" y="4495680"/>
            <a:ext cx="533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2057400" y="4495680"/>
            <a:ext cx="6858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b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2057400" cy="21337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 flipH="1">
            <a:off x="304200" y="228600"/>
            <a:ext cx="8839080" cy="5257800"/>
          </a:xfrm>
          <a:prstGeom prst="cloudCallout">
            <a:avLst>
              <a:gd name="adj1" fmla="val -27462"/>
              <a:gd name="adj2" fmla="val 56731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0" y="54864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304812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) Выполните вычит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914400" y="1219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) 15 – (-39) =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91440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) 8 – 42 =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91440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) - 56 – 32 =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914400" y="2590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) 80 – (- 13) =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380880" y="3048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) - 128 – 128 =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495680" y="1219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) - 27 – (- 27) =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495680" y="1752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ж) 0 – 43 =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495680" y="2286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з) 0 – (- 53) =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495680" y="2819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) - 45 – 0 =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 flipH="1">
            <a:off x="1751760" y="3581280"/>
            <a:ext cx="5867640" cy="2895840"/>
          </a:xfrm>
          <a:prstGeom prst="cloudCallout">
            <a:avLst>
              <a:gd name="adj1" fmla="val 54273"/>
              <a:gd name="adj2" fmla="val 35796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133720" y="4038480"/>
            <a:ext cx="533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порядочите ответы по возрастанию, затем замените каждый соответствующей буквой и почтите полученное сл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2971800" y="106668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2895480" y="1600200"/>
            <a:ext cx="762120" cy="5335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>
            <a:off x="2895480" y="198108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2"/>
          <p:cNvSpPr/>
          <p:nvPr/>
        </p:nvSpPr>
        <p:spPr>
          <a:xfrm>
            <a:off x="3048120" y="2438280"/>
            <a:ext cx="761760" cy="685800"/>
          </a:xfrm>
          <a:custGeom>
            <a:avLst/>
            <a:gdLst>
              <a:gd name="textAreaLeft" fmla="*/ 173880 w 761760"/>
              <a:gd name="textAreaRight" fmla="*/ 587880 w 7617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2895480" y="297180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25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4"/>
          <p:cNvSpPr/>
          <p:nvPr/>
        </p:nvSpPr>
        <p:spPr>
          <a:xfrm>
            <a:off x="6781680" y="114300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5"/>
          <p:cNvSpPr/>
          <p:nvPr/>
        </p:nvSpPr>
        <p:spPr>
          <a:xfrm>
            <a:off x="6477120" y="1600200"/>
            <a:ext cx="761760" cy="685800"/>
          </a:xfrm>
          <a:custGeom>
            <a:avLst/>
            <a:gdLst>
              <a:gd name="textAreaLeft" fmla="*/ 173880 w 761760"/>
              <a:gd name="textAreaRight" fmla="*/ 587880 w 76176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6"/>
          <p:cNvSpPr/>
          <p:nvPr/>
        </p:nvSpPr>
        <p:spPr>
          <a:xfrm>
            <a:off x="6553080" y="213372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7"/>
          <p:cNvSpPr/>
          <p:nvPr/>
        </p:nvSpPr>
        <p:spPr>
          <a:xfrm>
            <a:off x="6553080" y="274320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8f94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8f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8"/>
          <p:cNvSpPr/>
          <p:nvPr/>
        </p:nvSpPr>
        <p:spPr>
          <a:xfrm>
            <a:off x="1676520" y="5257800"/>
            <a:ext cx="6095880" cy="1600200"/>
          </a:xfrm>
          <a:custGeom>
            <a:avLst/>
            <a:gdLst>
              <a:gd name="textAreaLeft" fmla="*/ 40320 w 6095880"/>
              <a:gd name="textAreaRight" fmla="*/ 6136560 w 60958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144" y="1400"/>
                </a:moveTo>
                <a:cubicBezTo>
                  <a:pt x="7272" y="-3560"/>
                  <a:pt x="14472" y="6360"/>
                  <a:pt x="21600" y="1400"/>
                </a:cubicBezTo>
                <a:lnTo>
                  <a:pt x="21456" y="20200"/>
                </a:lnTo>
                <a:cubicBezTo>
                  <a:pt x="14328" y="25160"/>
                  <a:pt x="7128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bcfcd1"/>
              </a:gs>
              <a:gs pos="50000">
                <a:srgbClr val="ffffff"/>
              </a:gs>
              <a:gs pos="100000">
                <a:srgbClr val="bcfcd1"/>
              </a:gs>
            </a:gsLst>
            <a:lin ang="5400000"/>
          </a:gradFill>
          <a:ln w="9360">
            <a:solidFill>
              <a:srgbClr val="bcfc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160020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25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236232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8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304812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4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373392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4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449568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- 3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518148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563868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5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32448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6934320" y="556272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5029200"/>
            <a:ext cx="1428840" cy="18288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5"/>
          <p:cNvSpPr/>
          <p:nvPr/>
        </p:nvSpPr>
        <p:spPr>
          <a:xfrm>
            <a:off x="324000" y="228600"/>
            <a:ext cx="8820000" cy="5562720"/>
          </a:xfrm>
          <a:prstGeom prst="cloudCallout">
            <a:avLst>
              <a:gd name="adj1" fmla="val -36050"/>
              <a:gd name="adj2" fmla="val 51541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124080" y="9144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йдите пропущенные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600200" y="1371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) 9 + (   …   ) 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1600200" y="1828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)   …    -  11 =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60020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)   …     + 75 =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44792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) …      + 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1600200" y="3276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) 9 – (    …  )  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152388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) - 3 – (  …    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447920" y="4343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) - 2 – (   …   ) 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800600" y="1905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)   …   + (- 4)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800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) -3 +      …    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) - 2 -    …    =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4800600" y="2819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) 41 –    …   = 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4800600" y="3276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) 86 +  (  …    ) =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4800600" y="3809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) 35 + (    …  ) =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800600" y="4343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) 35 –      …    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2666880" y="13716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3"/>
          <p:cNvSpPr/>
          <p:nvPr/>
        </p:nvSpPr>
        <p:spPr>
          <a:xfrm>
            <a:off x="1981080" y="18288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4"/>
          <p:cNvSpPr/>
          <p:nvPr/>
        </p:nvSpPr>
        <p:spPr>
          <a:xfrm>
            <a:off x="1981080" y="22860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5"/>
          <p:cNvSpPr/>
          <p:nvPr/>
        </p:nvSpPr>
        <p:spPr>
          <a:xfrm>
            <a:off x="1752480" y="27432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6"/>
          <p:cNvSpPr/>
          <p:nvPr/>
        </p:nvSpPr>
        <p:spPr>
          <a:xfrm>
            <a:off x="2666880" y="3276720"/>
            <a:ext cx="838440" cy="53316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2743200" y="380988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8"/>
          <p:cNvSpPr/>
          <p:nvPr/>
        </p:nvSpPr>
        <p:spPr>
          <a:xfrm>
            <a:off x="2743200" y="434340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9"/>
          <p:cNvSpPr/>
          <p:nvPr/>
        </p:nvSpPr>
        <p:spPr>
          <a:xfrm>
            <a:off x="6019920" y="137160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0"/>
          <p:cNvSpPr/>
          <p:nvPr/>
        </p:nvSpPr>
        <p:spPr>
          <a:xfrm>
            <a:off x="5105520" y="182880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1"/>
          <p:cNvSpPr/>
          <p:nvPr/>
        </p:nvSpPr>
        <p:spPr>
          <a:xfrm>
            <a:off x="5867280" y="2286000"/>
            <a:ext cx="838440" cy="533520"/>
          </a:xfrm>
          <a:custGeom>
            <a:avLst/>
            <a:gdLst>
              <a:gd name="textAreaLeft" fmla="*/ 191160 w 838440"/>
              <a:gd name="textAreaRight" fmla="*/ 647280 w 83844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3"/>
          <p:cNvSpPr/>
          <p:nvPr/>
        </p:nvSpPr>
        <p:spPr>
          <a:xfrm>
            <a:off x="5943600" y="2819520"/>
            <a:ext cx="838080" cy="53316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4"/>
          <p:cNvSpPr/>
          <p:nvPr/>
        </p:nvSpPr>
        <p:spPr>
          <a:xfrm>
            <a:off x="6172200" y="3276720"/>
            <a:ext cx="838080" cy="53316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6019920" y="380988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6"/>
          <p:cNvSpPr/>
          <p:nvPr/>
        </p:nvSpPr>
        <p:spPr>
          <a:xfrm>
            <a:off x="6172200" y="4343400"/>
            <a:ext cx="838080" cy="533520"/>
          </a:xfrm>
          <a:custGeom>
            <a:avLst/>
            <a:gdLst>
              <a:gd name="textAreaLeft" fmla="*/ 191160 w 838080"/>
              <a:gd name="textAreaRight" fmla="*/ 646920 w 8380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24-02-11T16:03:4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