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4CF-97AE-4143-AB29-1C2666ACD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ACEB-5573-4EE8-AAF4-06694C7B4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Я.Виленкин, 2006 г.и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B02-0E6F-44D4-899D-1B420030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F3C-9614-4A25-BBB1-4021AF1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914-DB94-46E6-B285-FE9A4EEC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84C-6970-44E6-B2A0-5181D7A1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6BC-7F9E-4573-A343-13768C5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199-F5A8-4F94-87F6-65C6F12B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8A1-86C8-4564-96B1-0862D5C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83D-6F8D-4177-822F-081E48E4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16D-81B6-4275-B82F-D0ACC2C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EC3-A575-49B8-BB90-313C4A6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56E-C595-44D0-B792-FE8096F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5D4-B0AB-4F5D-8F93-6DD29FA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2E7-8605-4064-9649-1D8EF8A88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4933800" y="3751200"/>
            <a:ext cx="2819520" cy="2238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684360" y="404640"/>
            <a:ext cx="770400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тани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ых чисел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914400" y="37512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371600" y="5029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– 8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858000" y="40384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 - 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+(-8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332000" y="3645000"/>
            <a:ext cx="6337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машнее  задание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187280" y="508464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.20, №751, 754, 758(б)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380988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4495680" y="1905120"/>
            <a:ext cx="121932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р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0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17120" y="714240"/>
            <a:ext cx="5525280" cy="3015360"/>
          </a:xfrm>
          <a:prstGeom prst="rect">
            <a:avLst/>
          </a:prstGeom>
          <a:solidFill>
            <a:srgbClr val="00ffff"/>
          </a:solidFill>
          <a:ln w="9360">
            <a:solidFill>
              <a:srgbClr val="9933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! Вычитание можно заменить сложением.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- 8 = 3 + (- 8) 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371600" y="2743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тобы из одного числа вычесть другое, надо к уменьшаемому прибавить число, противоположное вычитае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50292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>
            <a:off x="324000" y="0"/>
            <a:ext cx="8820000" cy="6172200"/>
          </a:xfrm>
          <a:prstGeom prst="cloudCallout">
            <a:avLst>
              <a:gd name="adj1" fmla="val 28833"/>
              <a:gd name="adj2" fmla="val 5406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133720" y="685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ычисление разности чисел а и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886200" y="1371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828800" y="1219320"/>
            <a:ext cx="10666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36232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09480" y="1981080"/>
            <a:ext cx="426744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делите вычитаемое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23623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609480" y="2666880"/>
            <a:ext cx="5486400" cy="7038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пишите число, противоположное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читаемому -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3623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295280" y="3733920"/>
            <a:ext cx="266724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оставьте а +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762120" y="4495680"/>
            <a:ext cx="380988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числите сумму а + (-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6019920" y="1219320"/>
            <a:ext cx="13716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6324480" y="1905120"/>
            <a:ext cx="9144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5943600" y="3581280"/>
            <a:ext cx="175248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+ (-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5029200" y="4495680"/>
            <a:ext cx="236232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+ (- 8)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609480" y="228600"/>
            <a:ext cx="8820360" cy="3733920"/>
          </a:xfrm>
          <a:prstGeom prst="cloudCallout">
            <a:avLst>
              <a:gd name="adj1" fmla="val -29462"/>
              <a:gd name="adj2" fmla="val 90388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4648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124080" y="762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ы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43828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) - 3 –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4382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  1 – (-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3828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) 4 – (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43828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) - 2 –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7734240" y="5359320"/>
            <a:ext cx="1409760" cy="14986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2895480" y="3124080"/>
            <a:ext cx="4419720" cy="2971800"/>
          </a:xfrm>
          <a:prstGeom prst="cloudCallout">
            <a:avLst>
              <a:gd name="adj1" fmla="val 60597"/>
              <a:gd name="adj2" fmla="val 3803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352680" y="365760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Укажите в каждом случае вычитаемое и найдит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172200" y="914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            - b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172200" y="1447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              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0199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- 2             - (- 2)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095880" y="2438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- 5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24852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              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533520" y="228600"/>
            <a:ext cx="8820000" cy="4952880"/>
          </a:xfrm>
          <a:prstGeom prst="cloudCallout">
            <a:avLst>
              <a:gd name="adj1" fmla="val -30453"/>
              <a:gd name="adj2" fmla="val 6519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057400" y="838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тавьте пропущенные знаки операций или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81952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) 2 – 5 = 2 … (- 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819520" y="2362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) 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(- 12)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= 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…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81952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) 12 – 15 = 12 + (…1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819520" y="3352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) 13 – (-7) = 13 + (…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19520" y="3886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) -171 – (- 99) = -171 + (… 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943600" y="3429000"/>
            <a:ext cx="401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00600" y="1752480"/>
            <a:ext cx="4572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867280" y="2286000"/>
            <a:ext cx="4572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867280" y="2895480"/>
            <a:ext cx="304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934320" y="3886200"/>
            <a:ext cx="457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3" descr=""/>
          <p:cNvPicPr/>
          <p:nvPr/>
        </p:nvPicPr>
        <p:blipFill>
          <a:blip r:embed="rId1"/>
          <a:stretch/>
        </p:blipFill>
        <p:spPr>
          <a:xfrm>
            <a:off x="0" y="457200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380880" y="0"/>
            <a:ext cx="8763120" cy="6095880"/>
          </a:xfrm>
          <a:prstGeom prst="cloudCallout">
            <a:avLst>
              <a:gd name="adj1" fmla="val -37972"/>
              <a:gd name="adj2" fmla="val 5200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90920" y="1143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йдите пары по образ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905120" y="2133720"/>
            <a:ext cx="121896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295280" y="20574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37160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752480" y="2819520"/>
            <a:ext cx="144792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-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1143000" y="28195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295280" y="2895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752480" y="3429000"/>
            <a:ext cx="144792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+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1143000" y="35053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21932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6095880" y="34290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5715000" y="40384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5943600" y="21337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6324480" y="27432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3124080" y="15238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6"/>
          <p:cNvSpPr/>
          <p:nvPr/>
        </p:nvSpPr>
        <p:spPr>
          <a:xfrm>
            <a:off x="1447920" y="4191120"/>
            <a:ext cx="53316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7"/>
          <p:cNvSpPr/>
          <p:nvPr/>
        </p:nvSpPr>
        <p:spPr>
          <a:xfrm>
            <a:off x="3809880" y="49528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2057400" y="411480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02 +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15238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80988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4419720" y="487692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+ (-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5791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6324480" y="4038480"/>
            <a:ext cx="137160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4 +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61722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6781680" y="3352680"/>
            <a:ext cx="175284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 + (-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640080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934320" y="2666880"/>
            <a:ext cx="22096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02 – (-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6553080" y="1981080"/>
            <a:ext cx="205740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5 + (-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3200400" y="1600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3733920" y="152388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4 – (-2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3200400" y="2362320"/>
            <a:ext cx="28954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5"/>
          <p:cNvSpPr/>
          <p:nvPr/>
        </p:nvSpPr>
        <p:spPr>
          <a:xfrm>
            <a:off x="3200400" y="3200400"/>
            <a:ext cx="129528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6"/>
          <p:cNvSpPr/>
          <p:nvPr/>
        </p:nvSpPr>
        <p:spPr>
          <a:xfrm flipH="1">
            <a:off x="4191120" y="4191120"/>
            <a:ext cx="30456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7"/>
          <p:cNvSpPr/>
          <p:nvPr/>
        </p:nvSpPr>
        <p:spPr>
          <a:xfrm flipH="1">
            <a:off x="3657600" y="2971800"/>
            <a:ext cx="2666880" cy="1143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8"/>
          <p:cNvSpPr/>
          <p:nvPr/>
        </p:nvSpPr>
        <p:spPr>
          <a:xfrm>
            <a:off x="4876920" y="213372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43434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 flipH="1">
            <a:off x="1371600" y="0"/>
            <a:ext cx="7772400" cy="5562720"/>
          </a:xfrm>
          <a:prstGeom prst="cloudCallout">
            <a:avLst>
              <a:gd name="adj1" fmla="val 26263"/>
              <a:gd name="adj2" fmla="val 5259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66880" y="6858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ет ли ошибок в замене вычитания сложением? Если есть , то исправьте их. Выполните с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1460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- 9 – 4 = - 9 + (-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514600" y="2819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 10 – (- 4) = 10 + (- 4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9092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8 – (- 4) = 8 + 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590920" y="4038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- 4 – 10 = 4 + (- 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638680" y="2209680"/>
            <a:ext cx="990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5257800" y="2895120"/>
            <a:ext cx="53352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095880" y="281952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+ 4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638680" y="3429000"/>
            <a:ext cx="762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343400" y="4114440"/>
            <a:ext cx="3049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6019920" y="4038480"/>
            <a:ext cx="2666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4 + (-10) = 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2209680" cy="1676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 flipH="1">
            <a:off x="0" y="228600"/>
            <a:ext cx="7391520" cy="5562720"/>
          </a:xfrm>
          <a:prstGeom prst="cloudCallout">
            <a:avLst>
              <a:gd name="adj1" fmla="val -51291"/>
              <a:gd name="adj2" fmla="val 45115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371600" y="838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полните пропус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8580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12 – (-5) = 12 +  (…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62120" y="2133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 12 – (…)   = 12 + (- 2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808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 … – 6=   …  + (- 6) =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57200" y="3276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- 76 – (- 79) = …        +      …    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85800" y="3886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) - 32 – (           ) = …           +  …      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600200" y="44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)      … – (-71) + …    + (   …     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3429000" y="144792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67080" y="144792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905120" y="205740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648320" y="213372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057400" y="266688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762120" y="2666880"/>
            <a:ext cx="5331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819520" y="327672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7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267080" y="3276720"/>
            <a:ext cx="762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410080" y="327672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3505320" y="3886200"/>
            <a:ext cx="99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3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05520" y="388620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209680" y="3886200"/>
            <a:ext cx="762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2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181480" y="4495680"/>
            <a:ext cx="838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7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4114800" y="449568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2057400" y="449568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 flipH="1">
            <a:off x="304200" y="228600"/>
            <a:ext cx="8839080" cy="5257800"/>
          </a:xfrm>
          <a:prstGeom prst="cloudCallout">
            <a:avLst>
              <a:gd name="adj1" fmla="val -27462"/>
              <a:gd name="adj2" fmla="val 56731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0" y="54864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04812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) Выполните вычит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1440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) 15 – (-39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9144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) 8 – 42 =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91440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) - 56 – 32 =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91440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) 80 – (- 13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808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) - 128 – 128 =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4956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) - 27 – (- 27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49568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ж) 0 – 43 =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4956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) 0 – (- 53) =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495680" y="2819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) - 45 – 0 =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 flipH="1">
            <a:off x="1751760" y="3581280"/>
            <a:ext cx="5867640" cy="2895840"/>
          </a:xfrm>
          <a:prstGeom prst="cloudCallout">
            <a:avLst>
              <a:gd name="adj1" fmla="val 54273"/>
              <a:gd name="adj2" fmla="val 3579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133720" y="4038480"/>
            <a:ext cx="533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орядочите ответы по возрастанию, затем замените каждый соответствующей буквой и почтите полученное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2971800" y="106668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2895480" y="1600200"/>
            <a:ext cx="762120" cy="5335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2895480" y="198108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3048120" y="2438280"/>
            <a:ext cx="761760" cy="685800"/>
          </a:xfrm>
          <a:custGeom>
            <a:avLst/>
            <a:gdLst>
              <a:gd name="textAreaLeft" fmla="*/ 173880 w 761760"/>
              <a:gd name="textAreaRight" fmla="*/ 587880 w 7617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2895480" y="29718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2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6781680" y="11430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>
            <a:off x="6477120" y="1600200"/>
            <a:ext cx="761760" cy="685800"/>
          </a:xfrm>
          <a:custGeom>
            <a:avLst/>
            <a:gdLst>
              <a:gd name="textAreaLeft" fmla="*/ 173880 w 761760"/>
              <a:gd name="textAreaRight" fmla="*/ 587880 w 7617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6553080" y="213372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6553080" y="27432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1676520" y="5257800"/>
            <a:ext cx="6095880" cy="1600200"/>
          </a:xfrm>
          <a:custGeom>
            <a:avLst/>
            <a:gdLst>
              <a:gd name="textAreaLeft" fmla="*/ 40320 w 6095880"/>
              <a:gd name="textAreaRight" fmla="*/ 6136560 w 60958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144" y="1400"/>
                </a:moveTo>
                <a:cubicBezTo>
                  <a:pt x="7272" y="-3560"/>
                  <a:pt x="14472" y="6360"/>
                  <a:pt x="21600" y="1400"/>
                </a:cubicBezTo>
                <a:lnTo>
                  <a:pt x="21456" y="20200"/>
                </a:lnTo>
                <a:cubicBezTo>
                  <a:pt x="14328" y="25160"/>
                  <a:pt x="7128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bcfcd1"/>
              </a:gs>
              <a:gs pos="50000">
                <a:srgbClr val="ffffff"/>
              </a:gs>
              <a:gs pos="100000">
                <a:srgbClr val="bcfcd1"/>
              </a:gs>
            </a:gsLst>
            <a:lin ang="5400000"/>
          </a:gradFill>
          <a:ln w="9360">
            <a:solidFill>
              <a:srgbClr val="bcfc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160020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25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23623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8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30481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37339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44956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3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51814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56386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3244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9343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5029200"/>
            <a:ext cx="142884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>
            <a:off x="324000" y="228600"/>
            <a:ext cx="8820000" cy="5562720"/>
          </a:xfrm>
          <a:prstGeom prst="cloudCallout">
            <a:avLst>
              <a:gd name="adj1" fmla="val -36050"/>
              <a:gd name="adj2" fmla="val 51541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124080" y="9144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йдите пропущенные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600200" y="1371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9 + (   …   ) 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600200" y="1828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)   …    -  11 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60020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  …     + 75 =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44792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…      +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600200" y="3276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) 9 – (    …  )  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152388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) - 3 – (  …    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44792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) - 2 – (   …   ) 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80060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)   …   + (- 4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800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) -3 +      …    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) - 2 -    …    =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480060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) 41 –    …   = 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80060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) 86 +  (  …    ) =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4800600" y="3809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) 35 + (    …  ) 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80060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) 35 –      …    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2666880" y="13716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1981080" y="18288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1981080" y="22860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5"/>
          <p:cNvSpPr/>
          <p:nvPr/>
        </p:nvSpPr>
        <p:spPr>
          <a:xfrm>
            <a:off x="1752480" y="27432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2666880" y="3276720"/>
            <a:ext cx="838440" cy="53316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2743200" y="380988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2743200" y="43434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9"/>
          <p:cNvSpPr/>
          <p:nvPr/>
        </p:nvSpPr>
        <p:spPr>
          <a:xfrm>
            <a:off x="6019920" y="13716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0"/>
          <p:cNvSpPr/>
          <p:nvPr/>
        </p:nvSpPr>
        <p:spPr>
          <a:xfrm>
            <a:off x="5105520" y="18288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/>
          <p:cNvSpPr/>
          <p:nvPr/>
        </p:nvSpPr>
        <p:spPr>
          <a:xfrm>
            <a:off x="5867280" y="22860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3"/>
          <p:cNvSpPr/>
          <p:nvPr/>
        </p:nvSpPr>
        <p:spPr>
          <a:xfrm>
            <a:off x="5943600" y="2819520"/>
            <a:ext cx="838080" cy="53316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4"/>
          <p:cNvSpPr/>
          <p:nvPr/>
        </p:nvSpPr>
        <p:spPr>
          <a:xfrm>
            <a:off x="6172200" y="3276720"/>
            <a:ext cx="838080" cy="53316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6019920" y="380988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6"/>
          <p:cNvSpPr/>
          <p:nvPr/>
        </p:nvSpPr>
        <p:spPr>
          <a:xfrm>
            <a:off x="6172200" y="43434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4-02-11T16:03:4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