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20.png" ContentType="image/png"/>
  <Override PartName="/ppt/media/image15.gif" ContentType="image/gif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48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53DD-78BB-459D-B374-FD6E6AD0E9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.С. Атанасян.   Геометрия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еометрия 7-9 классы. Учебно-методическое пособие. П.И. Алты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ронта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дактические материалы по геометрии для 7 класса. Б.Г. Зив, В.М. Мейл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ронта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E72-614E-45E1-BB2C-AFC5378C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943-2927-44C4-A124-3E48C6A3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D47-F19A-4608-A812-39B5FC70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2F4-C666-46F2-8C0E-1404AF60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AC1-B3B3-49A4-9F51-B83BEFE6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8D3-FF16-4E1D-9E77-5E846831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8F3-813B-4F3F-B21D-7642DB1A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3C9-5C81-4900-8E03-8EB89E6C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DCF-1EAE-427D-99E1-31B16C2E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9C8-0F91-485C-B2EF-9782E8AB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7EF-D641-4C82-8770-D88DC3EF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4AE-5D66-4A22-9421-8B90ACCE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5610-5743-4049-B85A-14EC85A8D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hyperlink" Target="file:///tmp/home/.config/libreoffice/4/user/gallery/click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hyperlink" Target="file:///tmp/home/.config/libreoffice/4/user/gallery/click.wav" TargetMode="External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hyperlink" Target="file:///tmp/home/.config/libreoffice/4/user/gallery/click.wav" TargetMode="External"/><Relationship Id="rId16" Type="http://schemas.openxmlformats.org/officeDocument/2006/relationships/hyperlink" Target="file:///tmp/home/.config/libreoffice/4/user/gallery/click.wav" TargetMode="External"/><Relationship Id="rId17" Type="http://schemas.openxmlformats.org/officeDocument/2006/relationships/image" Target="../media/image16.gif"/><Relationship Id="rId18" Type="http://schemas.openxmlformats.org/officeDocument/2006/relationships/image" Target="../media/image16.gif"/><Relationship Id="rId19" Type="http://schemas.openxmlformats.org/officeDocument/2006/relationships/image" Target="../media/image16.gif"/><Relationship Id="rId20" Type="http://schemas.openxmlformats.org/officeDocument/2006/relationships/image" Target="../media/image16.gif"/><Relationship Id="rId21" Type="http://schemas.openxmlformats.org/officeDocument/2006/relationships/image" Target="../media/image16.gif"/><Relationship Id="rId22" Type="http://schemas.openxmlformats.org/officeDocument/2006/relationships/image" Target="../media/image17.gif"/><Relationship Id="rId23" Type="http://schemas.openxmlformats.org/officeDocument/2006/relationships/image" Target="../media/image18.gif"/><Relationship Id="rId2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14400" y="1523880"/>
            <a:ext cx="76024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99ff"/>
                    </a:gs>
                    <a:gs pos="100000">
                      <a:srgbClr val="0000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межные и вертикальные углы.</a:t>
            </a:r>
            <a:endParaRPr b="1" lang="en-US" sz="44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99ff"/>
                  </a:gs>
                  <a:gs pos="100000">
                    <a:srgbClr val="0000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65360" y="404280"/>
            <a:ext cx="67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азработка урока геометрии Вараксиной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МОУ Целинная СОШ, п. Целинный, Челябинск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85800" y="98100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886200" cy="2689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523880" y="5867280"/>
            <a:ext cx="612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чебник "Геометрия 7-9"  Автор Л.С. Атанасян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905120" y="1219320"/>
            <a:ext cx="160020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720" y="0"/>
                </a:moveTo>
                <a:lnTo>
                  <a:pt x="0" y="720"/>
                </a:lnTo>
                <a:lnTo>
                  <a:pt x="1008" y="720"/>
                </a:lnTo>
                <a:lnTo>
                  <a:pt x="960" y="432"/>
                </a:lnTo>
                <a:lnTo>
                  <a:pt x="864" y="240"/>
                </a:lnTo>
                <a:lnTo>
                  <a:pt x="72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914400"/>
            <a:ext cx="2590920" cy="1447920"/>
          </a:xfrm>
          <a:custGeom>
            <a:avLst/>
            <a:gdLst/>
            <a:ahLst/>
            <a:rect l="l" t="t" r="r" b="b"/>
            <a:pathLst>
              <a:path w="1632" h="912">
                <a:moveTo>
                  <a:pt x="0" y="912"/>
                </a:moveTo>
                <a:lnTo>
                  <a:pt x="912" y="912"/>
                </a:lnTo>
                <a:lnTo>
                  <a:pt x="1632" y="192"/>
                </a:lnTo>
                <a:lnTo>
                  <a:pt x="1248" y="0"/>
                </a:lnTo>
                <a:lnTo>
                  <a:pt x="912" y="192"/>
                </a:lnTo>
                <a:lnTo>
                  <a:pt x="528" y="240"/>
                </a:lnTo>
                <a:lnTo>
                  <a:pt x="336" y="480"/>
                </a:lnTo>
                <a:lnTo>
                  <a:pt x="0" y="91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905120" y="1142640"/>
            <a:ext cx="1218960" cy="1219320"/>
          </a:xfrm>
          <a:prstGeom prst="line">
            <a:avLst/>
          </a:prstGeom>
          <a:ln w="38160">
            <a:solidFill>
              <a:srgbClr val="532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15680" y="1676520"/>
            <a:ext cx="6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x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1600" y="16765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+40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30400" y="1066680"/>
            <a:ext cx="1870920" cy="834840"/>
            <a:chOff x="230400" y="1066680"/>
            <a:chExt cx="1870920" cy="834840"/>
          </a:xfrm>
        </p:grpSpPr>
        <p:sp>
          <p:nvSpPr>
            <p:cNvPr id="283" name=""/>
            <p:cNvSpPr/>
            <p:nvPr/>
          </p:nvSpPr>
          <p:spPr>
            <a:xfrm>
              <a:off x="1525320" y="1066680"/>
              <a:ext cx="57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gt;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0400" y="1380960"/>
              <a:ext cx="123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на 40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H="1" flipV="1" rot="5230200">
            <a:off x="2359080" y="755640"/>
            <a:ext cx="765360" cy="1223640"/>
          </a:xfrm>
          <a:custGeom>
            <a:avLst/>
            <a:gdLst>
              <a:gd name="textAreaLeft" fmla="*/ 102240 w 765360"/>
              <a:gd name="textAreaRight" fmla="*/ 663120 w 765360"/>
              <a:gd name="textAreaTop" fmla="*/ 220320 h 1223640"/>
              <a:gd name="textAreaBottom" fmla="*/ 86904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96" stAng="-5400000" swAng="5400000"/>
                <a:lnTo>
                  <a:pt x="21600" y="11445"/>
                </a:lnTo>
                <a:arcTo wR="21600" hR="7796" stAng="0" swAng="2735472"/>
                <a:lnTo>
                  <a:pt x="7200" y="21154"/>
                </a:lnTo>
                <a:lnTo>
                  <a:pt x="0" y="17417"/>
                </a:lnTo>
                <a:lnTo>
                  <a:pt x="7200" y="12787"/>
                </a:lnTo>
                <a:lnTo>
                  <a:pt x="7200" y="15146"/>
                </a:lnTo>
                <a:arcTo wR="21600" hR="7796" stAng="2735472" swAng="-2437548"/>
                <a:lnTo>
                  <a:pt x="21000" y="9621"/>
                </a:lnTo>
                <a:arcTo wR="21600" hR="7796" stAng="-297924" swAng="-5102076"/>
                <a:close/>
              </a:path>
              <a:path fill="darkenLess" w="21600" h="21600">
                <a:moveTo>
                  <a:pt x="0" y="0"/>
                </a:moveTo>
                <a:arcTo wR="21600" hR="7796" stAng="-5400000" swAng="5400000"/>
                <a:lnTo>
                  <a:pt x="21600" y="11445"/>
                </a:lnTo>
                <a:arcTo wR="21600" hR="7796" stAng="0" swAng="-297924"/>
                <a:lnTo>
                  <a:pt x="21000" y="9621"/>
                </a:lnTo>
                <a:arcTo wR="21600" hR="7796" stAng="-297924" swAng="-5102076"/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2362320"/>
            <a:ext cx="3200400" cy="0"/>
          </a:xfrm>
          <a:prstGeom prst="line">
            <a:avLst/>
          </a:prstGeom>
          <a:ln w="38160">
            <a:solidFill>
              <a:srgbClr val="532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457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Дано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105520" y="45720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172200" y="45720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5715000" y="533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62920" y="533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смежные угл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398600" y="1828800"/>
                <a:ext cx="250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514600" y="1828800"/>
                <a:ext cx="36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191120" y="1295280"/>
                <a:ext cx="749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4952880" y="15238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4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больш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7086600" y="1295280"/>
                <a:ext cx="838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4038480" y="1905120"/>
            <a:ext cx="472464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2057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62720" y="1981080"/>
                <a:ext cx="5331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629400" y="198108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617220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2895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429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усть х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будет равен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888080" y="3206880"/>
                <a:ext cx="96984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58672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7162920" y="3200400"/>
                <a:ext cx="749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380880" y="3809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вен (х + 40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1771560" y="2038320"/>
            <a:ext cx="3427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8098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к как сумма смежных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4267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вна 18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4648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46483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 +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5120" y="46483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464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+ х = 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29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х = 180 -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54100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х =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5715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 = 140 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6095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 = 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14800" y="52578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+ 4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= 11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400800" y="5105520"/>
                <a:ext cx="7621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419720" y="5943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 11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и 7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0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371600" y="1600200"/>
            <a:ext cx="1828800" cy="762120"/>
          </a:xfrm>
          <a:custGeom>
            <a:avLst/>
            <a:gdLst/>
            <a:ahLst/>
            <a:rect l="l" t="t" r="r" b="b"/>
            <a:pathLst>
              <a:path w="1152" h="480">
                <a:moveTo>
                  <a:pt x="960" y="0"/>
                </a:moveTo>
                <a:lnTo>
                  <a:pt x="0" y="480"/>
                </a:lnTo>
                <a:lnTo>
                  <a:pt x="1152" y="480"/>
                </a:lnTo>
                <a:lnTo>
                  <a:pt x="1152" y="288"/>
                </a:lnTo>
                <a:lnTo>
                  <a:pt x="1104" y="144"/>
                </a:lnTo>
                <a:lnTo>
                  <a:pt x="96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523880"/>
            <a:ext cx="2286000" cy="838440"/>
          </a:xfrm>
          <a:custGeom>
            <a:avLst/>
            <a:gdLst/>
            <a:ahLst/>
            <a:rect l="l" t="t" r="r" b="b"/>
            <a:pathLst>
              <a:path w="1440" h="528">
                <a:moveTo>
                  <a:pt x="0" y="528"/>
                </a:moveTo>
                <a:lnTo>
                  <a:pt x="480" y="528"/>
                </a:lnTo>
                <a:lnTo>
                  <a:pt x="1440" y="48"/>
                </a:lnTo>
                <a:lnTo>
                  <a:pt x="912" y="0"/>
                </a:lnTo>
                <a:lnTo>
                  <a:pt x="624" y="0"/>
                </a:lnTo>
                <a:lnTo>
                  <a:pt x="336" y="192"/>
                </a:lnTo>
                <a:lnTo>
                  <a:pt x="0" y="52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2362320"/>
            <a:ext cx="28191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2057400"/>
            <a:ext cx="2362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371600" y="1599840"/>
            <a:ext cx="1600200" cy="762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53352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Смежные углы относятся как 5:1. Найдите эти уг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143000" y="1981080"/>
                <a:ext cx="1951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878120" y="1981080"/>
                <a:ext cx="28080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33520" y="3048120"/>
                <a:ext cx="6793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609480" y="25909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усть х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будет градусная мера 1 части, 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438280" y="2971800"/>
                <a:ext cx="7686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1143000" y="3124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 5х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31240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 х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3581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. к. сумма смежных углов равна 18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962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5х + х = 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6х = 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4572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 = 180 : 6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828800" y="48769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 = 30 – приходится на 1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85800" y="5181480"/>
                <a:ext cx="7491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124080" y="5181480"/>
                <a:ext cx="838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1295280" y="5334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= 30</a:t>
            </a:r>
            <a:r>
              <a:rPr b="1" i="1" lang="en-US" sz="2000" spc="-1" strike="noStrike">
                <a:solidFill>
                  <a:srgbClr val="6600ff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  <a:ea typeface="Arial"/>
              </a:rPr>
              <a:t>∙5 = 150</a:t>
            </a:r>
            <a:r>
              <a:rPr b="1" i="1" lang="en-US" sz="2000" spc="-1" strike="noStrike">
                <a:solidFill>
                  <a:srgbClr val="6600ff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9880" y="5334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= 30</a:t>
            </a:r>
            <a:r>
              <a:rPr b="1" i="1" lang="en-US" sz="2000" spc="-1" strike="noStrike">
                <a:solidFill>
                  <a:srgbClr val="6600ff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∙1 = 30</a:t>
            </a:r>
            <a:r>
              <a:rPr b="1" i="1" lang="en-US" sz="2000" spc="-1" strike="noStrike">
                <a:solidFill>
                  <a:srgbClr val="6600ff"/>
                </a:solidFill>
                <a:latin typeface="Arial"/>
              </a:rPr>
              <a:t>°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150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30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5943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: 15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3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0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0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5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09480" y="2895480"/>
            <a:ext cx="1295640" cy="1905120"/>
          </a:xfrm>
          <a:custGeom>
            <a:avLst/>
            <a:gdLst/>
            <a:ahLst/>
            <a:rect l="l" t="t" r="r" b="b"/>
            <a:pathLst>
              <a:path w="816" h="1200">
                <a:moveTo>
                  <a:pt x="0" y="432"/>
                </a:moveTo>
                <a:lnTo>
                  <a:pt x="816" y="0"/>
                </a:lnTo>
                <a:lnTo>
                  <a:pt x="432" y="1200"/>
                </a:lnTo>
                <a:lnTo>
                  <a:pt x="96" y="960"/>
                </a:lnTo>
                <a:lnTo>
                  <a:pt x="48" y="720"/>
                </a:lnTo>
                <a:lnTo>
                  <a:pt x="0" y="43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05120" y="1295280"/>
            <a:ext cx="1752480" cy="1600200"/>
          </a:xfrm>
          <a:custGeom>
            <a:avLst/>
            <a:gdLst/>
            <a:ahLst/>
            <a:rect l="l" t="t" r="r" b="b"/>
            <a:pathLst>
              <a:path w="1104" h="1008">
                <a:moveTo>
                  <a:pt x="336" y="0"/>
                </a:moveTo>
                <a:lnTo>
                  <a:pt x="0" y="1008"/>
                </a:lnTo>
                <a:lnTo>
                  <a:pt x="1104" y="480"/>
                </a:lnTo>
                <a:lnTo>
                  <a:pt x="864" y="96"/>
                </a:lnTo>
                <a:lnTo>
                  <a:pt x="528" y="48"/>
                </a:lnTo>
                <a:lnTo>
                  <a:pt x="336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2057400"/>
            <a:ext cx="2286000" cy="2514600"/>
          </a:xfrm>
          <a:custGeom>
            <a:avLst/>
            <a:gdLst/>
            <a:ahLst/>
            <a:rect l="l" t="t" r="r" b="b"/>
            <a:pathLst>
              <a:path w="1440" h="1584">
                <a:moveTo>
                  <a:pt x="0" y="1584"/>
                </a:moveTo>
                <a:lnTo>
                  <a:pt x="336" y="528"/>
                </a:lnTo>
                <a:lnTo>
                  <a:pt x="1440" y="0"/>
                </a:lnTo>
                <a:lnTo>
                  <a:pt x="1344" y="864"/>
                </a:lnTo>
                <a:lnTo>
                  <a:pt x="960" y="1344"/>
                </a:lnTo>
                <a:lnTo>
                  <a:pt x="480" y="1536"/>
                </a:lnTo>
                <a:lnTo>
                  <a:pt x="0" y="158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1295280"/>
            <a:ext cx="1752480" cy="2210040"/>
          </a:xfrm>
          <a:custGeom>
            <a:avLst/>
            <a:gdLst/>
            <a:ahLst/>
            <a:rect l="l" t="t" r="r" b="b"/>
            <a:pathLst>
              <a:path w="1104" h="1392">
                <a:moveTo>
                  <a:pt x="0" y="1392"/>
                </a:moveTo>
                <a:lnTo>
                  <a:pt x="768" y="1008"/>
                </a:lnTo>
                <a:lnTo>
                  <a:pt x="1104" y="0"/>
                </a:lnTo>
                <a:lnTo>
                  <a:pt x="672" y="144"/>
                </a:lnTo>
                <a:lnTo>
                  <a:pt x="336" y="480"/>
                </a:lnTo>
                <a:lnTo>
                  <a:pt x="144" y="1008"/>
                </a:lnTo>
                <a:lnTo>
                  <a:pt x="0" y="1392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905120" y="1981080"/>
            <a:ext cx="1904760" cy="9144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295280" y="2819520"/>
            <a:ext cx="609840" cy="19047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09120" y="2895480"/>
            <a:ext cx="1295640" cy="6858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2320" y="2971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86000" y="2286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4572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. Начертите неразвёрнутый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А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8380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. Постройте луч ВМ и В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дополнительные к его сторон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830240" y="1066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1905120" y="1219320"/>
            <a:ext cx="558720" cy="1676160"/>
          </a:xfrm>
          <a:custGeom>
            <a:avLst/>
            <a:gdLst/>
            <a:ahLst/>
            <a:rect l="l" t="t" r="r" b="b"/>
            <a:pathLst>
              <a:path w="224" h="2324">
                <a:moveTo>
                  <a:pt x="224" y="232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28800" y="2819520"/>
            <a:ext cx="152280" cy="15228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200400" y="3124080"/>
                <a:ext cx="1371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3962520" y="2133720"/>
            <a:ext cx="419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Стороны одного угла являются продолжениями сторон друг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876920" y="3124080"/>
                <a:ext cx="1295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B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457200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19920" y="31240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- вертикаль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33920" y="16002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Что мы получили в этих угл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8720" y="39625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5520" y="15238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81280" y="4191120"/>
            <a:ext cx="495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Есть ли на рисунке ещё вертикальные угл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000"/>
                            </p:stCondLst>
                            <p:childTnLst>
                              <p:par>
                                <p:cTn id="8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8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500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0"/>
                            </p:stCondLst>
                            <p:childTnLst>
                              <p:par>
                                <p:cTn id="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5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828800" y="685800"/>
            <a:ext cx="1447920" cy="1066680"/>
          </a:xfrm>
          <a:custGeom>
            <a:avLst/>
            <a:gdLst/>
            <a:ahLst/>
            <a:rect l="l" t="t" r="r" b="b"/>
            <a:pathLst>
              <a:path w="912" h="672">
                <a:moveTo>
                  <a:pt x="624" y="48"/>
                </a:moveTo>
                <a:lnTo>
                  <a:pt x="0" y="672"/>
                </a:lnTo>
                <a:lnTo>
                  <a:pt x="912" y="672"/>
                </a:lnTo>
                <a:lnTo>
                  <a:pt x="864" y="288"/>
                </a:lnTo>
                <a:lnTo>
                  <a:pt x="672" y="0"/>
                </a:lnTo>
                <a:lnTo>
                  <a:pt x="624" y="4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90720" y="1752480"/>
            <a:ext cx="1981080" cy="762120"/>
          </a:xfrm>
          <a:custGeom>
            <a:avLst/>
            <a:gdLst/>
            <a:ahLst/>
            <a:rect l="l" t="t" r="r" b="b"/>
            <a:pathLst>
              <a:path w="1248" h="480">
                <a:moveTo>
                  <a:pt x="0" y="480"/>
                </a:moveTo>
                <a:lnTo>
                  <a:pt x="480" y="0"/>
                </a:lnTo>
                <a:lnTo>
                  <a:pt x="1248" y="0"/>
                </a:lnTo>
                <a:lnTo>
                  <a:pt x="768" y="336"/>
                </a:lnTo>
                <a:lnTo>
                  <a:pt x="288" y="432"/>
                </a:lnTo>
                <a:lnTo>
                  <a:pt x="0" y="48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914400"/>
            <a:ext cx="1752840" cy="838080"/>
          </a:xfrm>
          <a:custGeom>
            <a:avLst/>
            <a:gdLst/>
            <a:ahLst/>
            <a:rect l="l" t="t" r="r" b="b"/>
            <a:pathLst>
              <a:path w="1104" h="528">
                <a:moveTo>
                  <a:pt x="48" y="528"/>
                </a:moveTo>
                <a:lnTo>
                  <a:pt x="576" y="528"/>
                </a:lnTo>
                <a:lnTo>
                  <a:pt x="1104" y="48"/>
                </a:lnTo>
                <a:lnTo>
                  <a:pt x="528" y="0"/>
                </a:lnTo>
                <a:lnTo>
                  <a:pt x="0" y="384"/>
                </a:lnTo>
                <a:lnTo>
                  <a:pt x="48" y="52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762120" y="609120"/>
            <a:ext cx="2209680" cy="213372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1752480"/>
            <a:ext cx="297180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1337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666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479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52480" y="1828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4952880" y="3048120"/>
                <a:ext cx="15033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1447920" y="49528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Вертикальные углы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048120" y="533520"/>
            <a:ext cx="5790960" cy="2666880"/>
            <a:chOff x="3048120" y="533520"/>
            <a:chExt cx="5790960" cy="2666880"/>
          </a:xfrm>
        </p:grpSpPr>
        <p:sp>
          <p:nvSpPr>
            <p:cNvPr id="386" name=""/>
            <p:cNvSpPr/>
            <p:nvPr/>
          </p:nvSpPr>
          <p:spPr>
            <a:xfrm>
              <a:off x="3048120" y="609480"/>
              <a:ext cx="1752480" cy="251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66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34320" y="609480"/>
              <a:ext cx="1752480" cy="251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81480" y="685800"/>
              <a:ext cx="1295640" cy="251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3276720" y="533520"/>
                  <a:ext cx="5333760" cy="12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3200400" y="1676520"/>
                  <a:ext cx="5638680" cy="12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91" name=""/>
            <p:cNvSpPr/>
            <p:nvPr/>
          </p:nvSpPr>
          <p:spPr>
            <a:xfrm>
              <a:off x="4114800" y="16765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67080" y="16765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5800" y="3124080"/>
            <a:ext cx="2438280" cy="1067040"/>
          </a:xfrm>
          <a:custGeom>
            <a:avLst/>
            <a:gdLst/>
            <a:ahLst/>
            <a:rect l="l" t="t" r="r" b="b"/>
            <a:pathLst>
              <a:path w="1536" h="672">
                <a:moveTo>
                  <a:pt x="0" y="288"/>
                </a:moveTo>
                <a:lnTo>
                  <a:pt x="720" y="0"/>
                </a:lnTo>
                <a:lnTo>
                  <a:pt x="1536" y="384"/>
                </a:lnTo>
                <a:lnTo>
                  <a:pt x="864" y="672"/>
                </a:lnTo>
                <a:lnTo>
                  <a:pt x="336" y="480"/>
                </a:lnTo>
                <a:lnTo>
                  <a:pt x="0" y="28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2057400"/>
            <a:ext cx="2361960" cy="1066680"/>
          </a:xfrm>
          <a:custGeom>
            <a:avLst/>
            <a:gdLst/>
            <a:ahLst/>
            <a:rect l="l" t="t" r="r" b="b"/>
            <a:pathLst>
              <a:path w="1488" h="672">
                <a:moveTo>
                  <a:pt x="0" y="336"/>
                </a:moveTo>
                <a:lnTo>
                  <a:pt x="672" y="672"/>
                </a:lnTo>
                <a:lnTo>
                  <a:pt x="1488" y="336"/>
                </a:lnTo>
                <a:lnTo>
                  <a:pt x="1104" y="0"/>
                </a:lnTo>
                <a:lnTo>
                  <a:pt x="480" y="48"/>
                </a:lnTo>
                <a:lnTo>
                  <a:pt x="0" y="33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28800" y="2666880"/>
            <a:ext cx="1447920" cy="1067040"/>
          </a:xfrm>
          <a:custGeom>
            <a:avLst/>
            <a:gdLst/>
            <a:ahLst/>
            <a:rect l="l" t="t" r="r" b="b"/>
            <a:pathLst>
              <a:path w="912" h="672">
                <a:moveTo>
                  <a:pt x="816" y="0"/>
                </a:moveTo>
                <a:lnTo>
                  <a:pt x="0" y="288"/>
                </a:lnTo>
                <a:lnTo>
                  <a:pt x="816" y="672"/>
                </a:lnTo>
                <a:lnTo>
                  <a:pt x="912" y="336"/>
                </a:lnTo>
                <a:lnTo>
                  <a:pt x="816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2590920"/>
            <a:ext cx="1371600" cy="914400"/>
          </a:xfrm>
          <a:custGeom>
            <a:avLst/>
            <a:gdLst/>
            <a:ahLst/>
            <a:rect l="l" t="t" r="r" b="b"/>
            <a:pathLst>
              <a:path w="864" h="576">
                <a:moveTo>
                  <a:pt x="144" y="0"/>
                </a:moveTo>
                <a:lnTo>
                  <a:pt x="864" y="336"/>
                </a:lnTo>
                <a:lnTo>
                  <a:pt x="144" y="576"/>
                </a:lnTo>
                <a:lnTo>
                  <a:pt x="0" y="288"/>
                </a:lnTo>
                <a:lnTo>
                  <a:pt x="144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335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314f0"/>
                </a:solidFill>
                <a:latin typeface="Arial"/>
              </a:rPr>
              <a:t>При пересечении двух прямых получаются четыре неразвёрнутых угла, которые образу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09480" y="2590560"/>
            <a:ext cx="2590920" cy="99036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2590920"/>
            <a:ext cx="2666880" cy="121896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2819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3352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051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5227200">
            <a:off x="1757160" y="2738520"/>
            <a:ext cx="15264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1752480" y="30474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71600" y="297180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19320" y="2895480"/>
            <a:ext cx="15228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0625400">
            <a:off x="2133000" y="297108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1003400">
            <a:off x="2209320" y="2971440"/>
            <a:ext cx="152640" cy="36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657600" y="1905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Пары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вертикальных уг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733920" y="2590920"/>
                <a:ext cx="39621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3733920" y="3962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Пары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смежных уг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895480" y="4495680"/>
                <a:ext cx="5715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и</m:t>
                        </m:r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и</m:t>
                        </m:r>
                        <m:r>
                          <m:t xml:space="preserve">∠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и</m:t>
                        </m:r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и</m:t>
                        </m:r>
                        <m:r>
                          <m:t xml:space="preserve">∠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6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81280" y="1828800"/>
            <a:ext cx="472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6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017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6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037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14600" y="3352680"/>
            <a:ext cx="914400" cy="609840"/>
          </a:xfrm>
          <a:custGeom>
            <a:avLst/>
            <a:gdLst/>
            <a:ahLst/>
            <a:rect l="l" t="t" r="r" b="b"/>
            <a:pathLst>
              <a:path w="576" h="384">
                <a:moveTo>
                  <a:pt x="192" y="0"/>
                </a:moveTo>
                <a:lnTo>
                  <a:pt x="0" y="384"/>
                </a:lnTo>
                <a:lnTo>
                  <a:pt x="576" y="384"/>
                </a:lnTo>
                <a:lnTo>
                  <a:pt x="480" y="96"/>
                </a:lnTo>
                <a:lnTo>
                  <a:pt x="192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71600" y="3962520"/>
            <a:ext cx="1143000" cy="761760"/>
          </a:xfrm>
          <a:custGeom>
            <a:avLst/>
            <a:gdLst/>
            <a:ahLst/>
            <a:rect l="l" t="t" r="r" b="b"/>
            <a:pathLst>
              <a:path w="720" h="480">
                <a:moveTo>
                  <a:pt x="0" y="0"/>
                </a:moveTo>
                <a:lnTo>
                  <a:pt x="720" y="0"/>
                </a:lnTo>
                <a:lnTo>
                  <a:pt x="432" y="480"/>
                </a:lnTo>
                <a:lnTo>
                  <a:pt x="192" y="28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3962520"/>
            <a:ext cx="1371600" cy="76176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336"/>
                </a:moveTo>
                <a:lnTo>
                  <a:pt x="240" y="0"/>
                </a:lnTo>
                <a:lnTo>
                  <a:pt x="864" y="0"/>
                </a:lnTo>
                <a:lnTo>
                  <a:pt x="624" y="240"/>
                </a:lnTo>
                <a:lnTo>
                  <a:pt x="240" y="480"/>
                </a:lnTo>
                <a:lnTo>
                  <a:pt x="48" y="384"/>
                </a:lnTo>
                <a:lnTo>
                  <a:pt x="0" y="33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3429000"/>
            <a:ext cx="1371600" cy="53352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0" y="336"/>
                </a:moveTo>
                <a:lnTo>
                  <a:pt x="672" y="336"/>
                </a:lnTo>
                <a:lnTo>
                  <a:pt x="864" y="0"/>
                </a:lnTo>
                <a:lnTo>
                  <a:pt x="480" y="0"/>
                </a:lnTo>
                <a:lnTo>
                  <a:pt x="96" y="240"/>
                </a:lnTo>
                <a:lnTo>
                  <a:pt x="0" y="33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819520" y="2819520"/>
            <a:ext cx="1371600" cy="60948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384"/>
                </a:moveTo>
                <a:lnTo>
                  <a:pt x="192" y="48"/>
                </a:lnTo>
                <a:lnTo>
                  <a:pt x="864" y="0"/>
                </a:lnTo>
                <a:lnTo>
                  <a:pt x="720" y="192"/>
                </a:lnTo>
                <a:lnTo>
                  <a:pt x="288" y="384"/>
                </a:lnTo>
                <a:lnTo>
                  <a:pt x="0" y="384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057400" y="2057400"/>
            <a:ext cx="1600200" cy="990720"/>
          </a:xfrm>
          <a:custGeom>
            <a:avLst/>
            <a:gdLst/>
            <a:ahLst/>
            <a:rect l="l" t="t" r="r" b="b"/>
            <a:pathLst>
              <a:path w="960" h="624">
                <a:moveTo>
                  <a:pt x="0" y="624"/>
                </a:moveTo>
                <a:lnTo>
                  <a:pt x="672" y="528"/>
                </a:lnTo>
                <a:lnTo>
                  <a:pt x="960" y="48"/>
                </a:lnTo>
                <a:lnTo>
                  <a:pt x="576" y="0"/>
                </a:lnTo>
                <a:lnTo>
                  <a:pt x="96" y="240"/>
                </a:lnTo>
                <a:lnTo>
                  <a:pt x="0" y="624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7400" y="2895480"/>
            <a:ext cx="1066680" cy="6858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96"/>
                </a:moveTo>
                <a:lnTo>
                  <a:pt x="672" y="0"/>
                </a:lnTo>
                <a:lnTo>
                  <a:pt x="432" y="432"/>
                </a:lnTo>
                <a:lnTo>
                  <a:pt x="144" y="384"/>
                </a:lnTo>
                <a:lnTo>
                  <a:pt x="48" y="192"/>
                </a:lnTo>
                <a:lnTo>
                  <a:pt x="0" y="96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24080" y="1981080"/>
            <a:ext cx="1371600" cy="914400"/>
          </a:xfrm>
          <a:custGeom>
            <a:avLst/>
            <a:gdLst/>
            <a:ahLst/>
            <a:rect l="l" t="t" r="r" b="b"/>
            <a:pathLst>
              <a:path w="864" h="576">
                <a:moveTo>
                  <a:pt x="384" y="0"/>
                </a:moveTo>
                <a:lnTo>
                  <a:pt x="0" y="576"/>
                </a:lnTo>
                <a:lnTo>
                  <a:pt x="864" y="480"/>
                </a:lnTo>
                <a:lnTo>
                  <a:pt x="768" y="192"/>
                </a:lnTo>
                <a:lnTo>
                  <a:pt x="384" y="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59280" y="2852640"/>
            <a:ext cx="3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" y="486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Назовите пары углов, имеющиеся на рисунк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1042920" y="2724120"/>
            <a:ext cx="3800520" cy="41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116000" y="3957480"/>
            <a:ext cx="3595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045880" y="1857240"/>
            <a:ext cx="1731960" cy="284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86320" y="24447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27560" y="366876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526560" y="157968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51920" y="2587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12280" y="2587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9000" y="2924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77360" y="3645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64640" y="3645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93000" y="3933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132640" y="3933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708440" y="35812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5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∠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98080" y="1268280"/>
            <a:ext cx="14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2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otum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56160" y="48006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8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∠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84760" y="24382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4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765840" y="24382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1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842160" y="35812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5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∠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18120" y="12952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2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85840" y="90792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Вертикаль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74840" y="205740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Вертикаль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698880" y="327672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Вертикаль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848480" y="205740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Arial"/>
              </a:rPr>
              <a:t>Смеж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19880" y="320040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Arial"/>
              </a:rPr>
              <a:t>Смеж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488840" y="426708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Вертикаль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81680" y="914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межные уг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2160" y="48006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8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∠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82200" y="434340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Arial"/>
              </a:rPr>
              <a:t>Смеж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044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8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069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3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084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1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092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6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107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122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30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646080" y="988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28720" y="458136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  <a:ea typeface="Arial"/>
              </a:rPr>
              <a:t>63</a:t>
            </a:r>
            <a:r>
              <a:rPr b="0" lang="en-US" sz="2400" spc="-1" strike="noStrike" baseline="30000">
                <a:solidFill>
                  <a:srgbClr val="0000cc"/>
                </a:solidFill>
                <a:latin typeface="Tahoma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13280" y="407664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20720" y="1268280"/>
            <a:ext cx="3095640" cy="3313080"/>
          </a:xfrm>
          <a:prstGeom prst="triangle">
            <a:avLst>
              <a:gd name="adj" fmla="val 78764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716360" y="4581360"/>
            <a:ext cx="136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708440" y="4572000"/>
            <a:ext cx="304920" cy="1434960"/>
          </a:xfrm>
          <a:custGeom>
            <a:avLst/>
            <a:gdLst/>
            <a:ahLst/>
            <a:rect l="l" t="t" r="r" b="b"/>
            <a:pathLst>
              <a:path w="192" h="904">
                <a:moveTo>
                  <a:pt x="0" y="0"/>
                </a:moveTo>
                <a:lnTo>
                  <a:pt x="192" y="90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50920" y="4581360"/>
            <a:ext cx="136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52720" y="260280"/>
            <a:ext cx="208080" cy="1035000"/>
          </a:xfrm>
          <a:custGeom>
            <a:avLst/>
            <a:gdLst/>
            <a:ahLst/>
            <a:rect l="l" t="t" r="r" b="b"/>
            <a:pathLst>
              <a:path w="131" h="652">
                <a:moveTo>
                  <a:pt x="0" y="0"/>
                </a:moveTo>
                <a:lnTo>
                  <a:pt x="131" y="6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62120" y="4581360"/>
            <a:ext cx="849240" cy="1133640"/>
          </a:xfrm>
          <a:custGeom>
            <a:avLst/>
            <a:gdLst/>
            <a:ahLst/>
            <a:rect l="l" t="t" r="r" b="b"/>
            <a:pathLst>
              <a:path w="535" h="714">
                <a:moveTo>
                  <a:pt x="535" y="0"/>
                </a:moveTo>
                <a:lnTo>
                  <a:pt x="0" y="71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997440" y="190440"/>
            <a:ext cx="761760" cy="1168560"/>
          </a:xfrm>
          <a:custGeom>
            <a:avLst/>
            <a:gdLst/>
            <a:ahLst/>
            <a:rect l="l" t="t" r="r" b="b"/>
            <a:pathLst>
              <a:path w="480" h="736">
                <a:moveTo>
                  <a:pt x="480" y="0"/>
                </a:moveTo>
                <a:lnTo>
                  <a:pt x="0" y="7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86520" y="45813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37240" y="455616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  <a:ea typeface="Arial"/>
              </a:rPr>
              <a:t>73</a:t>
            </a:r>
            <a:r>
              <a:rPr b="0" lang="en-US" sz="2400" spc="-1" strike="noStrike" baseline="30000">
                <a:solidFill>
                  <a:srgbClr val="0000cc"/>
                </a:solidFill>
                <a:latin typeface="Tahoma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8720" y="458136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  <a:ea typeface="Arial"/>
              </a:rPr>
              <a:t>63</a:t>
            </a:r>
            <a:r>
              <a:rPr b="0" lang="en-US" sz="2400" spc="-1" strike="noStrike" baseline="30000">
                <a:solidFill>
                  <a:srgbClr val="0000cc"/>
                </a:solidFill>
                <a:latin typeface="Tahoma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71800" y="476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  <a:ea typeface="Arial"/>
              </a:rPr>
              <a:t>44</a:t>
            </a:r>
            <a:r>
              <a:rPr b="0" lang="en-US" sz="2400" spc="-1" strike="noStrike" baseline="30000">
                <a:solidFill>
                  <a:srgbClr val="0000cc"/>
                </a:solidFill>
                <a:latin typeface="Tahoma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37240" y="455616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  <a:ea typeface="Arial"/>
              </a:rPr>
              <a:t>73</a:t>
            </a:r>
            <a:r>
              <a:rPr b="0" lang="en-US" sz="2400" spc="-1" strike="noStrike" baseline="30000">
                <a:solidFill>
                  <a:srgbClr val="0000cc"/>
                </a:solidFill>
                <a:latin typeface="Tahoma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71800" y="476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  <a:ea typeface="Arial"/>
              </a:rPr>
              <a:t>44</a:t>
            </a:r>
            <a:r>
              <a:rPr b="0" lang="en-US" sz="2400" spc="-1" strike="noStrike" baseline="30000">
                <a:solidFill>
                  <a:srgbClr val="0000cc"/>
                </a:solidFill>
                <a:latin typeface="Tahoma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7120" y="414972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1480" y="5589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637160" y="5661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26160" y="41958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18520" y="19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494520" y="19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005600" y="33336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АВ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,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M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88760" y="26370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DFR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F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130880" y="4221000"/>
            <a:ext cx="19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LMC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17200" y="3716280"/>
            <a:ext cx="20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А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M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С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467000" y="4408560"/>
            <a:ext cx="323640" cy="334800"/>
            <a:chOff x="1467000" y="4408560"/>
            <a:chExt cx="323640" cy="334800"/>
          </a:xfrm>
        </p:grpSpPr>
        <p:sp>
          <p:nvSpPr>
            <p:cNvPr id="485" name=""/>
            <p:cNvSpPr/>
            <p:nvPr/>
          </p:nvSpPr>
          <p:spPr>
            <a:xfrm>
              <a:off x="1517760" y="4460760"/>
              <a:ext cx="177840" cy="111240"/>
            </a:xfrm>
            <a:custGeom>
              <a:avLst/>
              <a:gdLst/>
              <a:ahLst/>
              <a:rect l="l" t="t" r="r" b="b"/>
              <a:pathLst>
                <a:path w="112" h="70">
                  <a:moveTo>
                    <a:pt x="112" y="10"/>
                  </a:moveTo>
                  <a:cubicBezTo>
                    <a:pt x="99" y="10"/>
                    <a:pt x="55" y="0"/>
                    <a:pt x="36" y="10"/>
                  </a:cubicBezTo>
                  <a:cubicBezTo>
                    <a:pt x="17" y="20"/>
                    <a:pt x="7" y="58"/>
                    <a:pt x="0" y="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49440" y="4597560"/>
              <a:ext cx="183960" cy="93600"/>
            </a:xfrm>
            <a:custGeom>
              <a:avLst/>
              <a:gdLst/>
              <a:ahLst/>
              <a:rect l="l" t="t" r="r" b="b"/>
              <a:pathLst>
                <a:path w="116" h="59">
                  <a:moveTo>
                    <a:pt x="0" y="41"/>
                  </a:moveTo>
                  <a:cubicBezTo>
                    <a:pt x="13" y="43"/>
                    <a:pt x="57" y="59"/>
                    <a:pt x="76" y="52"/>
                  </a:cubicBezTo>
                  <a:cubicBezTo>
                    <a:pt x="95" y="45"/>
                    <a:pt x="108" y="11"/>
                    <a:pt x="116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23880" y="4591080"/>
              <a:ext cx="266760" cy="152280"/>
            </a:xfrm>
            <a:custGeom>
              <a:avLst/>
              <a:gdLst/>
              <a:ahLst/>
              <a:rect l="l" t="t" r="r" b="b"/>
              <a:pathLst>
                <a:path w="168" h="96">
                  <a:moveTo>
                    <a:pt x="0" y="72"/>
                  </a:moveTo>
                  <a:cubicBezTo>
                    <a:pt x="17" y="74"/>
                    <a:pt x="76" y="96"/>
                    <a:pt x="104" y="84"/>
                  </a:cubicBezTo>
                  <a:cubicBezTo>
                    <a:pt x="132" y="72"/>
                    <a:pt x="155" y="18"/>
                    <a:pt x="16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67000" y="4408560"/>
              <a:ext cx="253800" cy="156960"/>
            </a:xfrm>
            <a:custGeom>
              <a:avLst/>
              <a:gdLst/>
              <a:ahLst/>
              <a:rect l="l" t="t" r="r" b="b"/>
              <a:pathLst>
                <a:path w="160" h="99">
                  <a:moveTo>
                    <a:pt x="160" y="7"/>
                  </a:moveTo>
                  <a:cubicBezTo>
                    <a:pt x="143" y="8"/>
                    <a:pt x="83" y="0"/>
                    <a:pt x="56" y="15"/>
                  </a:cubicBezTo>
                  <a:cubicBezTo>
                    <a:pt x="29" y="30"/>
                    <a:pt x="12" y="82"/>
                    <a:pt x="0" y="99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924240" y="907920"/>
            <a:ext cx="19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L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М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C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948120" y="1117440"/>
            <a:ext cx="219240" cy="266760"/>
            <a:chOff x="3948120" y="1117440"/>
            <a:chExt cx="219240" cy="266760"/>
          </a:xfrm>
        </p:grpSpPr>
        <p:sp>
          <p:nvSpPr>
            <p:cNvPr id="491" name=""/>
            <p:cNvSpPr/>
            <p:nvPr/>
          </p:nvSpPr>
          <p:spPr>
            <a:xfrm>
              <a:off x="4095720" y="1155600"/>
              <a:ext cx="71640" cy="228600"/>
            </a:xfrm>
            <a:custGeom>
              <a:avLst/>
              <a:gdLst/>
              <a:ahLst/>
              <a:rect l="l" t="t" r="r" b="b"/>
              <a:pathLst>
                <a:path w="45" h="144">
                  <a:moveTo>
                    <a:pt x="0" y="144"/>
                  </a:moveTo>
                  <a:cubicBezTo>
                    <a:pt x="7" y="133"/>
                    <a:pt x="35" y="100"/>
                    <a:pt x="40" y="76"/>
                  </a:cubicBezTo>
                  <a:cubicBezTo>
                    <a:pt x="45" y="52"/>
                    <a:pt x="34" y="16"/>
                    <a:pt x="3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48120" y="1117440"/>
              <a:ext cx="71280" cy="24156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45" y="0"/>
                  </a:moveTo>
                  <a:cubicBezTo>
                    <a:pt x="38" y="11"/>
                    <a:pt x="10" y="39"/>
                    <a:pt x="5" y="64"/>
                  </a:cubicBezTo>
                  <a:cubicBezTo>
                    <a:pt x="0" y="89"/>
                    <a:pt x="15" y="134"/>
                    <a:pt x="17" y="15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514760" y="4349880"/>
            <a:ext cx="374760" cy="439560"/>
            <a:chOff x="4514760" y="4349880"/>
            <a:chExt cx="374760" cy="439560"/>
          </a:xfrm>
        </p:grpSpPr>
        <p:sp>
          <p:nvSpPr>
            <p:cNvPr id="494" name=""/>
            <p:cNvSpPr/>
            <p:nvPr/>
          </p:nvSpPr>
          <p:spPr>
            <a:xfrm>
              <a:off x="4629240" y="4572000"/>
              <a:ext cx="1015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0" y="0"/>
                  </a:moveTo>
                  <a:cubicBezTo>
                    <a:pt x="2" y="11"/>
                    <a:pt x="1" y="51"/>
                    <a:pt x="12" y="64"/>
                  </a:cubicBezTo>
                  <a:cubicBezTo>
                    <a:pt x="23" y="77"/>
                    <a:pt x="53" y="74"/>
                    <a:pt x="64" y="7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86480" y="4476600"/>
              <a:ext cx="107640" cy="11448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68" y="72"/>
                  </a:moveTo>
                  <a:cubicBezTo>
                    <a:pt x="66" y="63"/>
                    <a:pt x="67" y="28"/>
                    <a:pt x="56" y="16"/>
                  </a:cubicBezTo>
                  <a:cubicBezTo>
                    <a:pt x="45" y="4"/>
                    <a:pt x="12" y="3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92600" y="441324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96"/>
                  </a:moveTo>
                  <a:cubicBezTo>
                    <a:pt x="91" y="83"/>
                    <a:pt x="84" y="36"/>
                    <a:pt x="68" y="20"/>
                  </a:cubicBezTo>
                  <a:cubicBezTo>
                    <a:pt x="52" y="4"/>
                    <a:pt x="14" y="4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73520" y="4349880"/>
              <a:ext cx="216000" cy="228600"/>
            </a:xfrm>
            <a:custGeom>
              <a:avLst/>
              <a:gdLst/>
              <a:ahLst/>
              <a:rect l="l" t="t" r="r" b="b"/>
              <a:pathLst>
                <a:path w="136" h="144">
                  <a:moveTo>
                    <a:pt x="136" y="144"/>
                  </a:moveTo>
                  <a:cubicBezTo>
                    <a:pt x="128" y="125"/>
                    <a:pt x="118" y="54"/>
                    <a:pt x="95" y="30"/>
                  </a:cubicBezTo>
                  <a:cubicBezTo>
                    <a:pt x="72" y="6"/>
                    <a:pt x="20" y="6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59400" y="4578480"/>
              <a:ext cx="183960" cy="158760"/>
            </a:xfrm>
            <a:custGeom>
              <a:avLst/>
              <a:gdLst/>
              <a:ahLst/>
              <a:rect l="l" t="t" r="r" b="b"/>
              <a:pathLst>
                <a:path w="116" h="100">
                  <a:moveTo>
                    <a:pt x="0" y="0"/>
                  </a:moveTo>
                  <a:cubicBezTo>
                    <a:pt x="3" y="13"/>
                    <a:pt x="1" y="63"/>
                    <a:pt x="20" y="80"/>
                  </a:cubicBezTo>
                  <a:cubicBezTo>
                    <a:pt x="39" y="97"/>
                    <a:pt x="96" y="96"/>
                    <a:pt x="116" y="1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14760" y="4591080"/>
              <a:ext cx="228600" cy="198360"/>
            </a:xfrm>
            <a:custGeom>
              <a:avLst/>
              <a:gdLst/>
              <a:ahLst/>
              <a:rect l="l" t="t" r="r" b="b"/>
              <a:pathLst>
                <a:path w="144" h="125">
                  <a:moveTo>
                    <a:pt x="0" y="0"/>
                  </a:moveTo>
                  <a:cubicBezTo>
                    <a:pt x="5" y="17"/>
                    <a:pt x="8" y="83"/>
                    <a:pt x="32" y="104"/>
                  </a:cubicBezTo>
                  <a:cubicBezTo>
                    <a:pt x="56" y="125"/>
                    <a:pt x="121" y="120"/>
                    <a:pt x="144" y="12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7151760" y="4797360"/>
            <a:ext cx="19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RF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D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11000" y="1989000"/>
            <a:ext cx="20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L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М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,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MF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082840" y="19890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межные углы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91920" y="1413000"/>
            <a:ext cx="20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L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М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C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057280" y="14130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межные углы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098840" y="3213000"/>
            <a:ext cx="19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FR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F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54120" y="32130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межные углы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372680" y="6019920"/>
            <a:ext cx="64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йди пары вертикальных углов и щелкни по ним мыш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nextslide"/>
          </p:cNvPr>
          <p:cNvSpPr/>
          <p:nvPr/>
        </p:nvSpPr>
        <p:spPr>
          <a:xfrm>
            <a:off x="8153280" y="640080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7" dur="indefinite" restart="never" nodeType="tmRoot">
          <p:childTnLst>
            <p:seq>
              <p:cTn id="1138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139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222E-006 L -0.02864 0.17662 E">
                                      <p:cBhvr>
                                        <p:cTn id="1142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144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81481E-006 L -0.07604 -0.07176 E">
                                      <p:cBhvr>
                                        <p:cTn id="1147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.10729 -0.06482 E">
                                      <p:cBhvr>
                                        <p:cTn id="1152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3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154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9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160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166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1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172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9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210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5367240" y="1828800"/>
            <a:ext cx="2386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014840" y="685800"/>
            <a:ext cx="50299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ва угла называются …, если стороны од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вляются продолжением сторон друг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90840" y="1828800"/>
            <a:ext cx="26604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Вертикальные уг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486400" y="4191120"/>
            <a:ext cx="2520720" cy="1655640"/>
            <a:chOff x="5486400" y="4191120"/>
            <a:chExt cx="2520720" cy="1655640"/>
          </a:xfrm>
        </p:grpSpPr>
        <p:sp>
          <p:nvSpPr>
            <p:cNvPr id="513" name=""/>
            <p:cNvSpPr/>
            <p:nvPr/>
          </p:nvSpPr>
          <p:spPr>
            <a:xfrm>
              <a:off x="5486400" y="4191120"/>
              <a:ext cx="2520720" cy="1655640"/>
            </a:xfrm>
            <a:prstGeom prst="cube">
              <a:avLst>
                <a:gd name="adj" fmla="val 35828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5486400" y="4191120"/>
              <a:ext cx="252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62400" y="4191120"/>
              <a:ext cx="1368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79840" y="4263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0560" y="4335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828800" y="3581280"/>
            <a:ext cx="1728720" cy="2232000"/>
            <a:chOff x="1828800" y="3581280"/>
            <a:chExt cx="1728720" cy="2232000"/>
          </a:xfrm>
        </p:grpSpPr>
        <p:sp>
          <p:nvSpPr>
            <p:cNvPr id="519" name=""/>
            <p:cNvSpPr/>
            <p:nvPr/>
          </p:nvSpPr>
          <p:spPr>
            <a:xfrm>
              <a:off x="1828800" y="3581280"/>
              <a:ext cx="1728720" cy="2232000"/>
            </a:xfrm>
            <a:prstGeom prst="triangle">
              <a:avLst>
                <a:gd name="adj" fmla="val 826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549520" y="4734000"/>
              <a:ext cx="100800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1828800" y="3581280"/>
              <a:ext cx="1441440" cy="22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06600" y="473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50960" y="4518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636840" y="228600"/>
            <a:ext cx="66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 каких углах это определение.  Щёлкни мышкой по названию уг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00800" y="3200400"/>
            <a:ext cx="1371600" cy="6094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3200400"/>
            <a:ext cx="2952720" cy="647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Смежные угл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47880" y="601992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Щелкни мышкой по другой карти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26760" y="2514600"/>
            <a:ext cx="514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Щёлкни мышкой по чертежу, где ты нашел эти уг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8" dur="indefinite" restart="never" nodeType="tmRoot">
          <p:childTnLst>
            <p:seq>
              <p:cTn id="1229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230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L 0.65399 -0.11783 E">
                                      <p:cBhvr>
                                        <p:cTn id="1233" dur="1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259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3657600" y="2286000"/>
            <a:ext cx="3657600" cy="4038480"/>
          </a:xfrm>
          <a:custGeom>
            <a:avLst/>
            <a:gdLst/>
            <a:ahLst/>
            <a:rect l="l" t="t" r="r" b="b"/>
            <a:pathLst>
              <a:path w="2304" h="2544">
                <a:moveTo>
                  <a:pt x="0" y="2448"/>
                </a:moveTo>
                <a:lnTo>
                  <a:pt x="624" y="1008"/>
                </a:lnTo>
                <a:lnTo>
                  <a:pt x="2160" y="0"/>
                </a:lnTo>
                <a:lnTo>
                  <a:pt x="2304" y="816"/>
                </a:lnTo>
                <a:lnTo>
                  <a:pt x="1920" y="2256"/>
                </a:lnTo>
                <a:lnTo>
                  <a:pt x="960" y="2544"/>
                </a:lnTo>
                <a:lnTo>
                  <a:pt x="0" y="244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33720" y="1523880"/>
            <a:ext cx="3657600" cy="3810240"/>
          </a:xfrm>
          <a:custGeom>
            <a:avLst/>
            <a:gdLst/>
            <a:ahLst/>
            <a:rect l="l" t="t" r="r" b="b"/>
            <a:pathLst>
              <a:path w="2304" h="2400">
                <a:moveTo>
                  <a:pt x="288" y="2400"/>
                </a:moveTo>
                <a:lnTo>
                  <a:pt x="1584" y="1536"/>
                </a:lnTo>
                <a:lnTo>
                  <a:pt x="2304" y="0"/>
                </a:lnTo>
                <a:lnTo>
                  <a:pt x="1248" y="96"/>
                </a:lnTo>
                <a:lnTo>
                  <a:pt x="672" y="528"/>
                </a:lnTo>
                <a:lnTo>
                  <a:pt x="192" y="1296"/>
                </a:lnTo>
                <a:lnTo>
                  <a:pt x="0" y="1968"/>
                </a:lnTo>
                <a:lnTo>
                  <a:pt x="288" y="2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99080" y="1346040"/>
            <a:ext cx="2311200" cy="2565720"/>
          </a:xfrm>
          <a:custGeom>
            <a:avLst/>
            <a:gdLst/>
            <a:ahLst/>
            <a:rect l="l" t="t" r="r" b="b"/>
            <a:pathLst>
              <a:path w="1456" h="1616">
                <a:moveTo>
                  <a:pt x="712" y="32"/>
                </a:moveTo>
                <a:lnTo>
                  <a:pt x="688" y="56"/>
                </a:lnTo>
                <a:lnTo>
                  <a:pt x="0" y="1616"/>
                </a:lnTo>
                <a:lnTo>
                  <a:pt x="1136" y="840"/>
                </a:lnTo>
                <a:lnTo>
                  <a:pt x="1456" y="648"/>
                </a:lnTo>
                <a:lnTo>
                  <a:pt x="887" y="75"/>
                </a:lnTo>
                <a:lnTo>
                  <a:pt x="736" y="8"/>
                </a:lnTo>
                <a:lnTo>
                  <a:pt x="712" y="32"/>
                </a:lnTo>
                <a:lnTo>
                  <a:pt x="728" y="16"/>
                </a:lnTo>
                <a:lnTo>
                  <a:pt x="736" y="0"/>
                </a:lnTo>
                <a:lnTo>
                  <a:pt x="720" y="24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7400" y="3949560"/>
            <a:ext cx="2712960" cy="2735280"/>
          </a:xfrm>
          <a:custGeom>
            <a:avLst/>
            <a:gdLst/>
            <a:ahLst/>
            <a:rect l="l" t="t" r="r" b="b"/>
            <a:pathLst>
              <a:path w="1709" h="1723">
                <a:moveTo>
                  <a:pt x="864" y="1696"/>
                </a:moveTo>
                <a:lnTo>
                  <a:pt x="896" y="1648"/>
                </a:lnTo>
                <a:lnTo>
                  <a:pt x="1648" y="0"/>
                </a:lnTo>
                <a:lnTo>
                  <a:pt x="0" y="1136"/>
                </a:lnTo>
                <a:lnTo>
                  <a:pt x="384" y="1520"/>
                </a:lnTo>
                <a:lnTo>
                  <a:pt x="816" y="1616"/>
                </a:lnTo>
                <a:lnTo>
                  <a:pt x="1085" y="1659"/>
                </a:lnTo>
                <a:lnTo>
                  <a:pt x="880" y="1712"/>
                </a:lnTo>
                <a:lnTo>
                  <a:pt x="800" y="1696"/>
                </a:lnTo>
                <a:lnTo>
                  <a:pt x="1709" y="1723"/>
                </a:lnTo>
                <a:lnTo>
                  <a:pt x="1677" y="1707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37080" y="1989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9603800">
            <a:off x="1476360" y="3860280"/>
            <a:ext cx="6451560" cy="127080"/>
          </a:xfrm>
          <a:custGeom>
            <a:avLst/>
            <a:gdLst/>
            <a:ahLst/>
            <a:rect l="l" t="t" r="r" b="b"/>
            <a:pathLst>
              <a:path w="4064" h="80">
                <a:moveTo>
                  <a:pt x="4064" y="0"/>
                </a:moveTo>
                <a:lnTo>
                  <a:pt x="0" y="80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3440" y="3003480"/>
            <a:ext cx="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797440" y="126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801680" y="3048120"/>
            <a:ext cx="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rot="3864600">
            <a:off x="2791800" y="1752120"/>
            <a:ext cx="3708360" cy="4470480"/>
          </a:xfrm>
          <a:custGeom>
            <a:avLst/>
            <a:gdLst/>
            <a:ahLst/>
            <a:rect l="l" t="t" r="r" b="b"/>
            <a:pathLst>
              <a:path w="2336" h="2816">
                <a:moveTo>
                  <a:pt x="0" y="2816"/>
                </a:moveTo>
                <a:lnTo>
                  <a:pt x="2336" y="0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43000" y="2286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При пересечении двух прямых один из образовавшихся углов равен 50</a:t>
            </a:r>
            <a:r>
              <a:rPr b="1" i="1" lang="en-US" sz="2400" spc="-1" strike="noStrike">
                <a:solidFill>
                  <a:srgbClr val="6600ff"/>
                </a:solidFill>
                <a:latin typeface="Arial"/>
                <a:ea typeface="Arial"/>
              </a:rPr>
              <a:t>°</a:t>
            </a:r>
            <a:r>
              <a:rPr b="1" i="1" lang="ru-RU" sz="2400" spc="-1" strike="noStrike">
                <a:solidFill>
                  <a:srgbClr val="6600ff"/>
                </a:solidFill>
                <a:latin typeface="Arial"/>
                <a:ea typeface="Arial"/>
              </a:rPr>
              <a:t>. Вычислите оста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3526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4956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19642200">
            <a:off x="3485880" y="320688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19642200">
            <a:off x="3582720" y="327672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4971E-006 L -0.14548 0.20393 E">
                                      <p:cBhvr>
                                        <p:cTn id="1323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7457E-006 L 0.16562 0.11884 E">
                                      <p:cBhvr>
                                        <p:cTn id="1341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0628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 rot="1162800">
            <a:off x="2444400" y="257976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. 11, №17, 18, №61 (а, б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6 (а), 6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1054800">
            <a:off x="3047760" y="1752120"/>
            <a:ext cx="4495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4344000"/>
                </a:gradFill>
                <a:latin typeface="Mistral"/>
              </a:rPr>
              <a:t>Домашнее задание:</a:t>
            </a:r>
            <a:endParaRPr b="0" i="1" lang="en-US" sz="4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4344000"/>
              </a:gradFill>
              <a:latin typeface="Mistral"/>
              <a:ea typeface="Mistr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2133720" y="3886200"/>
            <a:ext cx="5867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0000"/>
                    </a:gs>
                    <a:gs pos="100000">
                      <a:srgbClr val="0000ff"/>
                    </a:gs>
                  </a:gsLst>
                  <a:lin ang="8100000"/>
                </a:gradFill>
                <a:latin typeface="Mistral"/>
              </a:rPr>
              <a:t>ВНИМАНИЕ!!!</a:t>
            </a:r>
            <a:endParaRPr b="0" i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0000"/>
                  </a:gs>
                  <a:gs pos="100000">
                    <a:srgbClr val="0000ff"/>
                  </a:gs>
                </a:gsLst>
                <a:lin ang="8100000"/>
              </a:gradFill>
              <a:latin typeface="Mistral"/>
              <a:ea typeface="Mistr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5334120"/>
            <a:ext cx="8382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Записать и выполнить!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53" name="">
            <a:hlinkClick r:id="" action="ppaction://hlinkshowjump?jump=firstslide"/>
          </p:cNvPr>
          <p:cNvSpPr/>
          <p:nvPr/>
        </p:nvSpPr>
        <p:spPr>
          <a:xfrm>
            <a:off x="7391520" y="6553080"/>
            <a:ext cx="1523880" cy="3682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efefe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0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8" dur="3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2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3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4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4740"/>
                            </p:stCondLst>
                            <p:childTnLst>
                              <p:par>
                                <p:cTn id="13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385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9" dur="385" fill="hold"/>
                                        <p:tgtEl>
                                          <p:spTgt spid="5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1" dur="385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3" dur="385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6" dur="250" autoRev="1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1377" dur="250" autoRev="1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78" dur="250" autoRev="1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740"/>
                            </p:stCondLst>
                            <p:childTnLst>
                              <p:par>
                                <p:cTn id="13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стоятель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Луч ОС проходит между сторонами угла АОВ, равного 120 градусов. Найдите угол АОС, если угол АОС меньше угла СОВ в 2 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Может ли луч с проходить между сторонами уг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                         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286000" y="1600200"/>
                <a:ext cx="2057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7" name=""/>
          <p:cNvGrpSpPr/>
          <p:nvPr/>
        </p:nvGrpSpPr>
        <p:grpSpPr>
          <a:xfrm>
            <a:off x="2057400" y="2057400"/>
            <a:ext cx="1752120" cy="642600"/>
            <a:chOff x="2057400" y="2057400"/>
            <a:chExt cx="1752120" cy="642600"/>
          </a:xfrm>
        </p:grpSpPr>
        <p:sp>
          <p:nvSpPr>
            <p:cNvPr id="58" name=""/>
            <p:cNvSpPr/>
            <p:nvPr/>
          </p:nvSpPr>
          <p:spPr>
            <a:xfrm>
              <a:off x="2434320" y="2057400"/>
              <a:ext cx="137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СО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2057400" y="2203560"/>
                  <a:ext cx="46332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72000" y="1600200"/>
                <a:ext cx="1828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629400" y="1600200"/>
                <a:ext cx="2225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СО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724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124080" y="4343400"/>
            <a:ext cx="2342880" cy="642600"/>
            <a:chOff x="3124080" y="4343400"/>
            <a:chExt cx="2342880" cy="642600"/>
          </a:xfrm>
        </p:grpSpPr>
        <p:sp>
          <p:nvSpPr>
            <p:cNvPr id="66" name=""/>
            <p:cNvSpPr/>
            <p:nvPr/>
          </p:nvSpPr>
          <p:spPr>
            <a:xfrm>
              <a:off x="3495600" y="4343400"/>
              <a:ext cx="19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3124080" y="448812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" name=""/>
          <p:cNvGrpSpPr/>
          <p:nvPr/>
        </p:nvGrpSpPr>
        <p:grpSpPr>
          <a:xfrm>
            <a:off x="5562720" y="4343400"/>
            <a:ext cx="2062800" cy="642600"/>
            <a:chOff x="5562720" y="4343400"/>
            <a:chExt cx="2062800" cy="642600"/>
          </a:xfrm>
        </p:grpSpPr>
        <p:sp>
          <p:nvSpPr>
            <p:cNvPr id="69" name=""/>
            <p:cNvSpPr/>
            <p:nvPr/>
          </p:nvSpPr>
          <p:spPr>
            <a:xfrm>
              <a:off x="5934600" y="4343400"/>
              <a:ext cx="16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5562720" y="448812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" name=""/>
          <p:cNvGrpSpPr/>
          <p:nvPr/>
        </p:nvGrpSpPr>
        <p:grpSpPr>
          <a:xfrm>
            <a:off x="609480" y="4876920"/>
            <a:ext cx="2088720" cy="642600"/>
            <a:chOff x="609480" y="4876920"/>
            <a:chExt cx="2088720" cy="642600"/>
          </a:xfrm>
        </p:grpSpPr>
        <p:sp>
          <p:nvSpPr>
            <p:cNvPr id="72" name=""/>
            <p:cNvSpPr/>
            <p:nvPr/>
          </p:nvSpPr>
          <p:spPr>
            <a:xfrm>
              <a:off x="981360" y="4876920"/>
              <a:ext cx="171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b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609480" y="5021280"/>
                  <a:ext cx="442800" cy="40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" name=""/>
          <p:cNvSpPr/>
          <p:nvPr/>
        </p:nvSpPr>
        <p:spPr>
          <a:xfrm>
            <a:off x="5257800" y="2057400"/>
            <a:ext cx="3808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2666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2057400"/>
            <a:ext cx="22860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638680" y="2286000"/>
            <a:ext cx="10670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1981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981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2057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95280" y="1143000"/>
            <a:ext cx="2667240" cy="3886200"/>
          </a:xfrm>
          <a:custGeom>
            <a:avLst/>
            <a:gdLst/>
            <a:ahLst/>
            <a:rect l="l" t="t" r="r" b="b"/>
            <a:pathLst>
              <a:path w="1680" h="2448">
                <a:moveTo>
                  <a:pt x="1440" y="0"/>
                </a:moveTo>
                <a:lnTo>
                  <a:pt x="1680" y="2304"/>
                </a:lnTo>
                <a:lnTo>
                  <a:pt x="0" y="2448"/>
                </a:lnTo>
                <a:lnTo>
                  <a:pt x="192" y="1776"/>
                </a:lnTo>
                <a:lnTo>
                  <a:pt x="240" y="1104"/>
                </a:lnTo>
                <a:lnTo>
                  <a:pt x="432" y="912"/>
                </a:lnTo>
                <a:lnTo>
                  <a:pt x="816" y="432"/>
                </a:lnTo>
                <a:lnTo>
                  <a:pt x="1152" y="48"/>
                </a:lnTo>
                <a:lnTo>
                  <a:pt x="144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19320" y="4800600"/>
            <a:ext cx="2743200" cy="3049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3240" y="1066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76960" y="4419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43520" y="4563000"/>
            <a:ext cx="6248520" cy="1489680"/>
            <a:chOff x="443520" y="4563000"/>
            <a:chExt cx="6248520" cy="1489680"/>
          </a:xfrm>
        </p:grpSpPr>
        <p:sp>
          <p:nvSpPr>
            <p:cNvPr id="88" name=""/>
            <p:cNvSpPr/>
            <p:nvPr/>
          </p:nvSpPr>
          <p:spPr>
            <a:xfrm rot="21245400">
              <a:off x="455760" y="4878360"/>
              <a:ext cx="6159600" cy="559440"/>
            </a:xfrm>
            <a:custGeom>
              <a:avLst/>
              <a:gdLst/>
              <a:ahLst/>
              <a:rect l="l" t="t" r="r" b="b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7221800">
              <a:off x="753120" y="5369400"/>
              <a:ext cx="14796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1245400">
              <a:off x="487080" y="5214960"/>
              <a:ext cx="619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1245400">
              <a:off x="457200" y="5084640"/>
              <a:ext cx="619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 1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 3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 5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7        8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       10      11      12       13      14      15      16      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927600" y="1638000"/>
            <a:ext cx="1540800" cy="3099240"/>
            <a:chOff x="3927600" y="1638000"/>
            <a:chExt cx="1540800" cy="3099240"/>
          </a:xfrm>
        </p:grpSpPr>
        <p:sp>
          <p:nvSpPr>
            <p:cNvPr id="93" name=""/>
            <p:cNvSpPr/>
            <p:nvPr/>
          </p:nvSpPr>
          <p:spPr>
            <a:xfrm flipH="1" rot="186600">
              <a:off x="4034520" y="1672200"/>
              <a:ext cx="1352520" cy="30304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6600">
              <a:off x="3943080" y="4124160"/>
              <a:ext cx="341640" cy="588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68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186600">
              <a:off x="3942360" y="4467600"/>
              <a:ext cx="129960" cy="2239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044600" y="1641240"/>
              <a:ext cx="1417320" cy="2625840"/>
              <a:chOff x="4044600" y="1641240"/>
              <a:chExt cx="1417320" cy="2625840"/>
            </a:xfrm>
          </p:grpSpPr>
          <p:sp>
            <p:nvSpPr>
              <p:cNvPr id="97" name=""/>
              <p:cNvSpPr/>
              <p:nvPr/>
            </p:nvSpPr>
            <p:spPr>
              <a:xfrm flipH="1" rot="186600">
                <a:off x="4112280" y="1704240"/>
                <a:ext cx="1181160" cy="253224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rot="18469800">
                <a:off x="5310720" y="1619640"/>
                <a:ext cx="66600" cy="245880"/>
              </a:xfrm>
              <a:custGeom>
                <a:avLst/>
                <a:gdLst/>
                <a:ahLst/>
                <a:rect l="l" t="t" r="r" b="b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"/>
          <p:cNvSpPr/>
          <p:nvPr/>
        </p:nvSpPr>
        <p:spPr>
          <a:xfrm>
            <a:off x="3812040" y="4952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53352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. Начертите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А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91440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Постройте луч ОС, дополненный к стороне 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4440" y="5181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219320"/>
            <a:ext cx="3429000" cy="3581280"/>
          </a:xfrm>
          <a:custGeom>
            <a:avLst/>
            <a:gdLst/>
            <a:ahLst/>
            <a:rect l="l" t="t" r="r" b="b"/>
            <a:pathLst>
              <a:path w="2208" h="2256">
                <a:moveTo>
                  <a:pt x="0" y="0"/>
                </a:moveTo>
                <a:lnTo>
                  <a:pt x="240" y="2256"/>
                </a:lnTo>
                <a:lnTo>
                  <a:pt x="1920" y="2112"/>
                </a:lnTo>
                <a:lnTo>
                  <a:pt x="2208" y="2112"/>
                </a:lnTo>
                <a:lnTo>
                  <a:pt x="2064" y="1488"/>
                </a:lnTo>
                <a:lnTo>
                  <a:pt x="1872" y="1152"/>
                </a:lnTo>
                <a:lnTo>
                  <a:pt x="1584" y="960"/>
                </a:lnTo>
                <a:lnTo>
                  <a:pt x="1296" y="528"/>
                </a:lnTo>
                <a:lnTo>
                  <a:pt x="768" y="336"/>
                </a:lnTo>
                <a:lnTo>
                  <a:pt x="52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1066680"/>
            <a:ext cx="355680" cy="3689640"/>
          </a:xfrm>
          <a:custGeom>
            <a:avLst/>
            <a:gdLst/>
            <a:ahLst/>
            <a:rect l="l" t="t" r="r" b="b"/>
            <a:pathLst>
              <a:path w="224" h="2324">
                <a:moveTo>
                  <a:pt x="224" y="2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495680"/>
            <a:ext cx="3276720" cy="304920"/>
          </a:xfrm>
          <a:custGeom>
            <a:avLst/>
            <a:gdLst/>
            <a:ahLst/>
            <a:rect l="l" t="t" r="r" b="b"/>
            <a:pathLst>
              <a:path w="2143" h="26">
                <a:moveTo>
                  <a:pt x="0" y="26"/>
                </a:moveTo>
                <a:lnTo>
                  <a:pt x="2143" y="0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4724280"/>
            <a:ext cx="152280" cy="15264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6765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 Получили два угла: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АОВ и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АОС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133800" y="3962520"/>
                <a:ext cx="361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70400" y="3889440"/>
                <a:ext cx="2509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666880" y="5486400"/>
                <a:ext cx="9144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724280" y="297180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У них одна сторона общая, а две другие являются продолжениями одна дру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267080" y="5424480"/>
                <a:ext cx="11430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3733920" y="5791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5715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- 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23623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Что вы заметили в этих угл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6185E-006 L -0.27691 0.05526 E">
                                      <p:cBhvr>
                                        <p:cTn id="9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114800" y="838080"/>
            <a:ext cx="1600200" cy="685800"/>
          </a:xfrm>
          <a:prstGeom prst="wedgeEllipseCallout">
            <a:avLst>
              <a:gd name="adj1" fmla="val -70537"/>
              <a:gd name="adj2" fmla="val 6527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80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Найдите на рисунке смежные уг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952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1905120"/>
            <a:ext cx="1676520" cy="718920"/>
          </a:xfrm>
          <a:prstGeom prst="wedgeEllipseCallout">
            <a:avLst>
              <a:gd name="adj1" fmla="val -80587"/>
              <a:gd name="adj2" fmla="val 9724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 ве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600200" y="1295280"/>
            <a:ext cx="2514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904760" y="83772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5146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6576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47242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438280"/>
            <a:ext cx="106704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362320" y="2209320"/>
            <a:ext cx="9903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209680" y="1981080"/>
            <a:ext cx="15264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3886200"/>
            <a:ext cx="1981080" cy="719280"/>
          </a:xfrm>
          <a:prstGeom prst="wedgeEllipseCallout">
            <a:avLst>
              <a:gd name="adj1" fmla="val -71875"/>
              <a:gd name="adj2" fmla="val 11953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828800" y="3352680"/>
            <a:ext cx="20574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819520" y="35053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2971800"/>
            <a:ext cx="1600200" cy="685800"/>
          </a:xfrm>
          <a:prstGeom prst="wedgeEllipseCallout">
            <a:avLst>
              <a:gd name="adj1" fmla="val -75296"/>
              <a:gd name="adj2" fmla="val 6527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5105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600200" y="510552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1055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828440" y="441936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9480" y="380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Какие из углов, изображённых на рисунке, являются смеж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1676520"/>
            <a:ext cx="18288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1676520"/>
            <a:ext cx="761760" cy="6094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295280"/>
            <a:ext cx="0" cy="14479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1905120"/>
            <a:ext cx="11430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543800" y="1219320"/>
            <a:ext cx="533520" cy="1218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400440" y="243828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1905120"/>
            <a:ext cx="99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3809880"/>
            <a:ext cx="1828800" cy="106704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2285640" y="2971800"/>
            <a:ext cx="609480" cy="129528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4267080"/>
            <a:ext cx="76320" cy="106704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4114800"/>
            <a:ext cx="838440" cy="6094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477120" y="3809880"/>
            <a:ext cx="1295280" cy="9144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4724280"/>
            <a:ext cx="1371600" cy="2286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28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29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32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33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102,-1)"/>
                                      </p:to>
                                    </p:set>
                                    <p:set>
                                      <p:cBhvr>
                                        <p:cTn id="238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102,-1)"/>
                                      </p:to>
                                    </p:set>
                                    <p:set>
                                      <p:cBhvr>
                                        <p:cTn id="239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102,-1)"/>
                                      </p:to>
                                    </p:set>
                                    <p:set>
                                      <p:cBhvr>
                                        <p:cTn id="242" dur="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102,-1)"/>
                                      </p:to>
                                    </p:set>
                                    <p:set>
                                      <p:cBhvr>
                                        <p:cTn id="243" dur="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48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49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50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52" dur="50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53" dur="50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50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258" dur="50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259" dur="50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50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262" dur="50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263" dur="50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102)"/>
                                      </p:to>
                                    </p:set>
                                    <p:set>
                                      <p:cBhvr>
                                        <p:cTn id="268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102)"/>
                                      </p:to>
                                    </p:set>
                                    <p:set>
                                      <p:cBhvr>
                                        <p:cTn id="269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50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102)"/>
                                      </p:to>
                                    </p:set>
                                    <p:set>
                                      <p:cBhvr>
                                        <p:cTn id="272" dur="50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102)"/>
                                      </p:to>
                                    </p:set>
                                    <p:set>
                                      <p:cBhvr>
                                        <p:cTn id="273" dur="50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791320" y="4952880"/>
            <a:ext cx="1676160" cy="1067040"/>
          </a:xfrm>
          <a:custGeom>
            <a:avLst/>
            <a:gdLst/>
            <a:ahLst/>
            <a:rect l="l" t="t" r="r" b="b"/>
            <a:pathLst>
              <a:path w="1056" h="672">
                <a:moveTo>
                  <a:pt x="192" y="672"/>
                </a:moveTo>
                <a:lnTo>
                  <a:pt x="0" y="0"/>
                </a:lnTo>
                <a:lnTo>
                  <a:pt x="1056" y="0"/>
                </a:lnTo>
                <a:lnTo>
                  <a:pt x="912" y="336"/>
                </a:lnTo>
                <a:lnTo>
                  <a:pt x="384" y="624"/>
                </a:lnTo>
                <a:lnTo>
                  <a:pt x="192" y="67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4952880"/>
            <a:ext cx="2362320" cy="1219320"/>
          </a:xfrm>
          <a:custGeom>
            <a:avLst/>
            <a:gdLst/>
            <a:ahLst/>
            <a:rect l="l" t="t" r="r" b="b"/>
            <a:pathLst>
              <a:path w="1488" h="768">
                <a:moveTo>
                  <a:pt x="0" y="0"/>
                </a:moveTo>
                <a:lnTo>
                  <a:pt x="1248" y="0"/>
                </a:lnTo>
                <a:lnTo>
                  <a:pt x="1488" y="768"/>
                </a:lnTo>
                <a:lnTo>
                  <a:pt x="384" y="67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1752480"/>
            <a:ext cx="1904760" cy="2057400"/>
          </a:xfrm>
          <a:custGeom>
            <a:avLst/>
            <a:gdLst/>
            <a:ahLst/>
            <a:rect l="l" t="t" r="r" b="b"/>
            <a:pathLst>
              <a:path w="1200" h="1296">
                <a:moveTo>
                  <a:pt x="576" y="0"/>
                </a:moveTo>
                <a:lnTo>
                  <a:pt x="0" y="480"/>
                </a:lnTo>
                <a:lnTo>
                  <a:pt x="1008" y="1296"/>
                </a:lnTo>
                <a:lnTo>
                  <a:pt x="1200" y="576"/>
                </a:lnTo>
                <a:lnTo>
                  <a:pt x="576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514600"/>
            <a:ext cx="3962520" cy="1905120"/>
          </a:xfrm>
          <a:custGeom>
            <a:avLst/>
            <a:gdLst/>
            <a:ahLst/>
            <a:rect l="l" t="t" r="r" b="b"/>
            <a:pathLst>
              <a:path w="2496" h="1200">
                <a:moveTo>
                  <a:pt x="0" y="1056"/>
                </a:moveTo>
                <a:lnTo>
                  <a:pt x="1296" y="0"/>
                </a:lnTo>
                <a:lnTo>
                  <a:pt x="2496" y="1008"/>
                </a:lnTo>
                <a:lnTo>
                  <a:pt x="1680" y="1200"/>
                </a:lnTo>
                <a:lnTo>
                  <a:pt x="48" y="1104"/>
                </a:lnTo>
                <a:lnTo>
                  <a:pt x="0" y="105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3886200"/>
            <a:ext cx="1447920" cy="1066680"/>
          </a:xfrm>
          <a:custGeom>
            <a:avLst/>
            <a:gdLst/>
            <a:ahLst/>
            <a:rect l="l" t="t" r="r" b="b"/>
            <a:pathLst>
              <a:path w="912" h="672">
                <a:moveTo>
                  <a:pt x="0" y="672"/>
                </a:moveTo>
                <a:lnTo>
                  <a:pt x="912" y="672"/>
                </a:lnTo>
                <a:lnTo>
                  <a:pt x="672" y="0"/>
                </a:lnTo>
                <a:lnTo>
                  <a:pt x="240" y="144"/>
                </a:lnTo>
                <a:lnTo>
                  <a:pt x="0" y="67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3581280"/>
            <a:ext cx="2210040" cy="1371600"/>
          </a:xfrm>
          <a:custGeom>
            <a:avLst/>
            <a:gdLst/>
            <a:ahLst/>
            <a:rect l="l" t="t" r="r" b="b"/>
            <a:pathLst>
              <a:path w="1392" h="864">
                <a:moveTo>
                  <a:pt x="0" y="288"/>
                </a:moveTo>
                <a:lnTo>
                  <a:pt x="192" y="864"/>
                </a:lnTo>
                <a:lnTo>
                  <a:pt x="1392" y="864"/>
                </a:lnTo>
                <a:lnTo>
                  <a:pt x="720" y="384"/>
                </a:lnTo>
                <a:lnTo>
                  <a:pt x="240" y="0"/>
                </a:lnTo>
                <a:lnTo>
                  <a:pt x="0" y="288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1752480"/>
            <a:ext cx="2590560" cy="2667240"/>
          </a:xfrm>
          <a:custGeom>
            <a:avLst/>
            <a:gdLst/>
            <a:ahLst/>
            <a:rect l="l" t="t" r="r" b="b"/>
            <a:pathLst>
              <a:path w="1632" h="1680">
                <a:moveTo>
                  <a:pt x="432" y="1680"/>
                </a:moveTo>
                <a:lnTo>
                  <a:pt x="0" y="480"/>
                </a:lnTo>
                <a:lnTo>
                  <a:pt x="528" y="0"/>
                </a:lnTo>
                <a:lnTo>
                  <a:pt x="1632" y="1104"/>
                </a:lnTo>
                <a:lnTo>
                  <a:pt x="432" y="168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2514600"/>
            <a:ext cx="3352680" cy="2209680"/>
          </a:xfrm>
          <a:custGeom>
            <a:avLst/>
            <a:gdLst/>
            <a:ahLst/>
            <a:rect l="l" t="t" r="r" b="b"/>
            <a:pathLst>
              <a:path w="2112" h="1392">
                <a:moveTo>
                  <a:pt x="0" y="1392"/>
                </a:moveTo>
                <a:lnTo>
                  <a:pt x="1632" y="0"/>
                </a:lnTo>
                <a:lnTo>
                  <a:pt x="2112" y="1392"/>
                </a:lnTo>
                <a:lnTo>
                  <a:pt x="0" y="1392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4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Выдели на рисунке смежные углы и щёлкни по ним мы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057400" y="1752480"/>
            <a:ext cx="3733920" cy="32004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4952880"/>
            <a:ext cx="58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876920" y="2514240"/>
            <a:ext cx="3047760" cy="24382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2514600"/>
            <a:ext cx="1295280" cy="3657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5029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5791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24680" y="4724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2200" y="1224000"/>
            <a:ext cx="20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ВО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8160" y="2057400"/>
            <a:ext cx="20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О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7440" y="3429000"/>
            <a:ext cx="19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О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7800" y="4114800"/>
            <a:ext cx="20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В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8160" y="2743200"/>
            <a:ext cx="20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ВО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743200"/>
            <a:ext cx="1371600" cy="398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7800" y="5486400"/>
            <a:ext cx="20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О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5486400"/>
            <a:ext cx="1371600" cy="398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438280" y="609480"/>
            <a:ext cx="5181840" cy="2362320"/>
          </a:xfrm>
          <a:custGeom>
            <a:avLst/>
            <a:gdLst/>
            <a:ahLst/>
            <a:rect l="l" t="t" r="r" b="b"/>
            <a:pathLst>
              <a:path w="3264" h="1488">
                <a:moveTo>
                  <a:pt x="0" y="48"/>
                </a:moveTo>
                <a:lnTo>
                  <a:pt x="1056" y="1488"/>
                </a:lnTo>
                <a:lnTo>
                  <a:pt x="3264" y="1488"/>
                </a:lnTo>
                <a:lnTo>
                  <a:pt x="2736" y="816"/>
                </a:lnTo>
                <a:lnTo>
                  <a:pt x="2352" y="432"/>
                </a:lnTo>
                <a:lnTo>
                  <a:pt x="1584" y="432"/>
                </a:lnTo>
                <a:lnTo>
                  <a:pt x="1200" y="144"/>
                </a:lnTo>
                <a:lnTo>
                  <a:pt x="384" y="0"/>
                </a:lnTo>
                <a:lnTo>
                  <a:pt x="0" y="4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762120"/>
            <a:ext cx="2895480" cy="2209680"/>
          </a:xfrm>
          <a:custGeom>
            <a:avLst/>
            <a:gdLst/>
            <a:ahLst/>
            <a:rect l="l" t="t" r="r" b="b"/>
            <a:pathLst>
              <a:path w="1824" h="1392">
                <a:moveTo>
                  <a:pt x="0" y="1392"/>
                </a:moveTo>
                <a:lnTo>
                  <a:pt x="1824" y="1392"/>
                </a:lnTo>
                <a:lnTo>
                  <a:pt x="768" y="0"/>
                </a:lnTo>
                <a:lnTo>
                  <a:pt x="576" y="240"/>
                </a:lnTo>
                <a:lnTo>
                  <a:pt x="288" y="432"/>
                </a:lnTo>
                <a:lnTo>
                  <a:pt x="240" y="672"/>
                </a:lnTo>
                <a:lnTo>
                  <a:pt x="0" y="1104"/>
                </a:lnTo>
                <a:lnTo>
                  <a:pt x="0" y="139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286000" y="533160"/>
            <a:ext cx="1828800" cy="2438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30481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380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30481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2971800"/>
            <a:ext cx="38098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142640" y="2971800"/>
            <a:ext cx="2971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2895480"/>
            <a:ext cx="152640" cy="152640"/>
          </a:xfrm>
          <a:prstGeom prst="ellipse">
            <a:avLst/>
          </a:prstGeom>
          <a:solidFill>
            <a:srgbClr val="d6009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45720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уч ОА и луч ОС образуют развёрнутый угол, знач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52680" y="1219320"/>
                <a:ext cx="54104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ВО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1219320" y="44197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Сумма смежных углов равна 180</a:t>
            </a:r>
            <a:r>
              <a:rPr b="1" i="1" lang="en-US" sz="36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°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83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86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14400" y="685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айдите углы смежные  с уг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2057400"/>
            <a:ext cx="228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990360" y="1600200"/>
            <a:ext cx="1143000" cy="4572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1676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1523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38080" y="3428640"/>
            <a:ext cx="2286000" cy="1522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1371600" y="2361960"/>
            <a:ext cx="914400" cy="1143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3505320"/>
            <a:ext cx="2590560" cy="0"/>
          </a:xfrm>
          <a:prstGeom prst="line">
            <a:avLst/>
          </a:prstGeom>
          <a:ln w="38160">
            <a:solidFill>
              <a:srgbClr val="532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172200" y="2438280"/>
            <a:ext cx="228600" cy="1067040"/>
          </a:xfrm>
          <a:prstGeom prst="line">
            <a:avLst/>
          </a:prstGeom>
          <a:ln w="38160">
            <a:solidFill>
              <a:srgbClr val="532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5638680"/>
            <a:ext cx="2438280" cy="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1640" y="4800600"/>
            <a:ext cx="304920" cy="83808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5029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1600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180</a:t>
            </a:r>
            <a:r>
              <a:rPr b="1" i="1" lang="en-US" sz="3200" spc="-1" strike="noStrike" baseline="30000">
                <a:solidFill>
                  <a:srgbClr val="ff0066"/>
                </a:solidFill>
                <a:latin typeface="Arial"/>
              </a:rPr>
              <a:t>°</a:t>
            </a:r>
            <a:r>
              <a:rPr b="1" i="1" lang="ru-RU" sz="3200" spc="-1" strike="noStrike" baseline="30000">
                <a:solidFill>
                  <a:srgbClr val="ff0066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- 15</a:t>
            </a:r>
            <a:r>
              <a:rPr b="1" i="1" lang="en-US" sz="32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°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 = 165</a:t>
            </a:r>
            <a:r>
              <a:rPr b="1" i="1" lang="en-US" sz="32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95480"/>
            <a:ext cx="838080" cy="457200"/>
          </a:xfrm>
          <a:custGeom>
            <a:avLst/>
            <a:gdLst>
              <a:gd name="textAreaLeft" fmla="*/ 191160 w 838080"/>
              <a:gd name="textAreaRight" fmla="*/ 646920 w 8380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56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2895480"/>
            <a:ext cx="838440" cy="457200"/>
          </a:xfrm>
          <a:custGeom>
            <a:avLst/>
            <a:gdLst>
              <a:gd name="textAreaLeft" fmla="*/ 191160 w 838440"/>
              <a:gd name="textAreaRight" fmla="*/ 647280 w 83844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32eda"/>
              </a:gs>
              <a:gs pos="50000">
                <a:srgbClr val="fefefe"/>
              </a:gs>
              <a:gs pos="100000">
                <a:srgbClr val="532ed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5029200"/>
            <a:ext cx="838440" cy="457200"/>
          </a:xfrm>
          <a:custGeom>
            <a:avLst/>
            <a:gdLst>
              <a:gd name="textAreaLeft" fmla="*/ 191160 w 838440"/>
              <a:gd name="textAreaRight" fmla="*/ 647280 w 83844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fefefe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666880" cy="1676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438280" cy="16002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3276720" y="304920"/>
            <a:ext cx="2666880" cy="1600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2666880" cy="1600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5029200" y="2438280"/>
            <a:ext cx="2666880" cy="1447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276720" y="304920"/>
            <a:ext cx="2666880" cy="163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66ffff">
                  <a:alpha val="46274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457360" y="9915480"/>
            <a:ext cx="33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Теорема Пифаг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6"/>
          </p:cNvPr>
          <p:cNvSpPr/>
          <p:nvPr/>
        </p:nvSpPr>
        <p:spPr>
          <a:xfrm>
            <a:off x="3543480" y="1457280"/>
            <a:ext cx="780840" cy="447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304920"/>
            <a:ext cx="2457360" cy="1638360"/>
          </a:xfrm>
          <a:prstGeom prst="roundRect">
            <a:avLst>
              <a:gd name="adj" fmla="val 16667"/>
            </a:avLst>
          </a:prstGeom>
          <a:solidFill>
            <a:srgbClr val="ffffff">
              <a:alpha val="46000"/>
            </a:srgbClr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29200" y="2362320"/>
            <a:ext cx="2666880" cy="1638360"/>
          </a:xfrm>
          <a:prstGeom prst="roundRect">
            <a:avLst>
              <a:gd name="adj" fmla="val 16667"/>
            </a:avLst>
          </a:prstGeom>
          <a:solidFill>
            <a:srgbClr val="ffffff">
              <a:alpha val="46000"/>
            </a:srgbClr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7"/>
          </p:cNvPr>
          <p:cNvSpPr/>
          <p:nvPr/>
        </p:nvSpPr>
        <p:spPr>
          <a:xfrm>
            <a:off x="4886280" y="1467000"/>
            <a:ext cx="78120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362320"/>
            <a:ext cx="2666880" cy="1638360"/>
          </a:xfrm>
          <a:prstGeom prst="roundRect">
            <a:avLst>
              <a:gd name="adj" fmla="val 16667"/>
            </a:avLst>
          </a:prstGeom>
          <a:solidFill>
            <a:srgbClr val="ffffff">
              <a:alpha val="46000"/>
            </a:srgbClr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285840"/>
            <a:ext cx="2666880" cy="1638360"/>
          </a:xfrm>
          <a:prstGeom prst="roundRect">
            <a:avLst>
              <a:gd name="adj" fmla="val 16667"/>
            </a:avLst>
          </a:prstGeom>
          <a:solidFill>
            <a:srgbClr val="ffffff">
              <a:alpha val="46000"/>
            </a:srgbClr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4181400"/>
            <a:ext cx="3867120" cy="267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-2971800" y="9172440"/>
            <a:ext cx="2257560" cy="943200"/>
          </a:xfrm>
          <a:prstGeom prst="ellipse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4200480"/>
            <a:ext cx="3952800" cy="26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Космиче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путеше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8"/>
          </p:cNvPr>
          <p:cNvSpPr/>
          <p:nvPr/>
        </p:nvSpPr>
        <p:spPr>
          <a:xfrm>
            <a:off x="1838160" y="1467000"/>
            <a:ext cx="78120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9"/>
          </p:cNvPr>
          <p:cNvSpPr/>
          <p:nvPr/>
        </p:nvSpPr>
        <p:spPr>
          <a:xfrm>
            <a:off x="466560" y="1409760"/>
            <a:ext cx="78120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10"/>
          </p:cNvPr>
          <p:cNvSpPr/>
          <p:nvPr/>
        </p:nvSpPr>
        <p:spPr>
          <a:xfrm>
            <a:off x="6629400" y="3505320"/>
            <a:ext cx="78120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1"/>
          </p:cNvPr>
          <p:cNvSpPr/>
          <p:nvPr/>
        </p:nvSpPr>
        <p:spPr>
          <a:xfrm>
            <a:off x="5334120" y="3505320"/>
            <a:ext cx="78084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2"/>
          </p:cNvPr>
          <p:cNvSpPr/>
          <p:nvPr/>
        </p:nvSpPr>
        <p:spPr>
          <a:xfrm>
            <a:off x="1523880" y="3505320"/>
            <a:ext cx="78120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13"/>
          </p:cNvPr>
          <p:cNvSpPr/>
          <p:nvPr/>
        </p:nvSpPr>
        <p:spPr>
          <a:xfrm>
            <a:off x="2819520" y="3505320"/>
            <a:ext cx="78084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rId14"/>
          </p:cNvPr>
          <p:cNvSpPr/>
          <p:nvPr/>
        </p:nvSpPr>
        <p:spPr>
          <a:xfrm>
            <a:off x="6553080" y="1447920"/>
            <a:ext cx="78120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15"/>
          </p:cNvPr>
          <p:cNvSpPr/>
          <p:nvPr/>
        </p:nvSpPr>
        <p:spPr>
          <a:xfrm>
            <a:off x="7620120" y="1447920"/>
            <a:ext cx="78084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200480"/>
            <a:ext cx="3952800" cy="265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М</a:t>
            </a:r>
            <a:r>
              <a:rPr b="1" lang="en-US" sz="4800" spc="-1" strike="noStrike">
                <a:solidFill>
                  <a:srgbClr val="ff6600"/>
                </a:solidFill>
                <a:latin typeface="Arial Narrow"/>
              </a:rPr>
              <a:t>О</a:t>
            </a:r>
            <a:r>
              <a:rPr b="1" lang="en-US" sz="4800" spc="-1" strike="noStrike">
                <a:solidFill>
                  <a:srgbClr val="ffcc00"/>
                </a:solidFill>
                <a:latin typeface="Arial Narrow"/>
              </a:rPr>
              <a:t>Л</a:t>
            </a:r>
            <a:r>
              <a:rPr b="1" lang="en-US" sz="4800" spc="-1" strike="noStrike">
                <a:solidFill>
                  <a:srgbClr val="99cc00"/>
                </a:solidFill>
                <a:latin typeface="Arial Narrow"/>
              </a:rPr>
              <a:t>О</a:t>
            </a:r>
            <a:r>
              <a:rPr b="1" lang="en-US" sz="4800" spc="-1" strike="noStrike">
                <a:solidFill>
                  <a:srgbClr val="3399ff"/>
                </a:solidFill>
                <a:latin typeface="Arial Narrow"/>
              </a:rPr>
              <a:t>Д</a:t>
            </a:r>
            <a:r>
              <a:rPr b="1" lang="en-US" sz="4800" spc="-1" strike="noStrike">
                <a:solidFill>
                  <a:srgbClr val="000099"/>
                </a:solidFill>
                <a:latin typeface="Arial Narrow"/>
              </a:rPr>
              <a:t>Ц</a:t>
            </a:r>
            <a:r>
              <a:rPr b="1" lang="en-US" sz="4800" spc="-1" strike="noStrike">
                <a:solidFill>
                  <a:srgbClr val="cc0099"/>
                </a:solidFill>
                <a:latin typeface="Arial Narrow"/>
              </a:rPr>
              <a:t>Ы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16"/>
          </p:cNvPr>
          <p:cNvSpPr/>
          <p:nvPr/>
        </p:nvSpPr>
        <p:spPr>
          <a:xfrm>
            <a:off x="3886200" y="617220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7"/>
          <a:stretch/>
        </p:blipFill>
        <p:spPr>
          <a:xfrm rot="18397200">
            <a:off x="5867280" y="54100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8"/>
          <a:stretch/>
        </p:blipFill>
        <p:spPr>
          <a:xfrm rot="18397200">
            <a:off x="5562000" y="449568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9"/>
          <a:stretch/>
        </p:blipFill>
        <p:spPr>
          <a:xfrm rot="2934000">
            <a:off x="2971800" y="5562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0"/>
          <a:stretch/>
        </p:blipFill>
        <p:spPr>
          <a:xfrm rot="2934000">
            <a:off x="5410080" y="41907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1"/>
          <a:stretch/>
        </p:blipFill>
        <p:spPr>
          <a:xfrm rot="18397200">
            <a:off x="5638680" y="60192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048120" y="472428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гут ли два угла бы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межн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457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5335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65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 и 115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2590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143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 и 37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81280" y="5335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72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 и 88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00200" y="2666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91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 и 99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533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84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 и 96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2"/>
          <a:stretch/>
        </p:blipFill>
        <p:spPr>
          <a:xfrm>
            <a:off x="0" y="4495680"/>
            <a:ext cx="2286000" cy="17528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3"/>
          <a:stretch/>
        </p:blipFill>
        <p:spPr>
          <a:xfrm>
            <a:off x="6629400" y="4114800"/>
            <a:ext cx="2514600" cy="235584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4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4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5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5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5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5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5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1-02-19T13:10:58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