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gif" ContentType="image/gif"/>
  <Override PartName="/ppt/media/image7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7A89-4193-4468-A8B4-687985DA2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9AE-C205-43CE-BF73-D5FD3E2F9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C1F-DB45-4948-A8A1-ABBE1B4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2E3-18F8-4BAF-8049-2E7F2C3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391-51ED-45FD-8C58-9780CCF8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E8F-32A9-48A1-B60C-4E6B73EA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FE1-8808-436A-9050-F50DBE8F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C3A-A0D5-4E8C-A88E-D18A761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1B9-8AA5-43F7-A617-56C0FA1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17F-9136-4F02-8BF0-9A636D7F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4A3-7BD6-4D5F-8048-635A0292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1A8-79F9-45DD-BD5F-8C36771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4AD-3A6F-428F-845B-B57A78E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09E-F7C1-404E-A29D-9CF503B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3A0-DB34-4CE2-A328-6E43B4A41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9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2"/>
          <p:cNvSpPr txBox="1"/>
          <p:nvPr/>
        </p:nvSpPr>
        <p:spPr>
          <a:xfrm>
            <a:off x="762120" y="1676520"/>
            <a:ext cx="80769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еугольники.</a:t>
            </a:r>
            <a:endParaRPr b="1" lang="en-US" sz="18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&lt;M = 25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&lt;R = 44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&lt;O = 11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66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7"/>
          <p:cNvGrpSpPr/>
          <p:nvPr/>
        </p:nvGrpSpPr>
        <p:grpSpPr>
          <a:xfrm>
            <a:off x="3124080" y="609480"/>
            <a:ext cx="3174840" cy="592560"/>
            <a:chOff x="3124080" y="609480"/>
            <a:chExt cx="3174840" cy="592560"/>
          </a:xfrm>
        </p:grpSpPr>
        <mc:AlternateContent>
          <mc:Choice xmlns:a14="http://schemas.microsoft.com/office/drawing/2010/main" Requires="a14">
            <p:sp>
              <p:nvSpPr>
                <p:cNvPr id="275" name="Object 18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Text Box 19"/>
            <p:cNvSpPr/>
            <p:nvPr/>
          </p:nvSpPr>
          <p:spPr>
            <a:xfrm>
              <a:off x="3484800" y="620640"/>
              <a:ext cx="281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OR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B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20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8" name="Object 32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5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Rectangle 37"/>
          <p:cNvSpPr/>
          <p:nvPr/>
        </p:nvSpPr>
        <p:spPr>
          <a:xfrm>
            <a:off x="838800" y="609480"/>
            <a:ext cx="6461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углы треуголь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CD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3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82" name="Freeform 4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2"/>
          <p:cNvGrpSpPr/>
          <p:nvPr/>
        </p:nvGrpSpPr>
        <p:grpSpPr>
          <a:xfrm>
            <a:off x="3124080" y="609480"/>
            <a:ext cx="3152160" cy="592560"/>
            <a:chOff x="3124080" y="609480"/>
            <a:chExt cx="3152160" cy="592560"/>
          </a:xfrm>
        </p:grpSpPr>
        <mc:AlternateContent>
          <mc:Choice xmlns:a14="http://schemas.microsoft.com/office/drawing/2010/main" Requires="a14">
            <p:sp>
              <p:nvSpPr>
                <p:cNvPr id="291" name="Object 13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Text Box 14"/>
            <p:cNvSpPr/>
            <p:nvPr/>
          </p:nvSpPr>
          <p:spPr>
            <a:xfrm>
              <a:off x="3484800" y="620640"/>
              <a:ext cx="279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ADC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15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4" name="Object 17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8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" name="Rectangle 19"/>
          <p:cNvSpPr/>
          <p:nvPr/>
        </p:nvSpPr>
        <p:spPr>
          <a:xfrm>
            <a:off x="761760" y="685800"/>
            <a:ext cx="7093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треуголь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NK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895480" y="2362320"/>
            <a:ext cx="3200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 = 7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C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д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5 д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99" name="Freeform 3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1"/>
          <p:cNvGrpSpPr/>
          <p:nvPr/>
        </p:nvGrpSpPr>
        <p:grpSpPr>
          <a:xfrm>
            <a:off x="3124080" y="609480"/>
            <a:ext cx="3085560" cy="592560"/>
            <a:chOff x="3124080" y="609480"/>
            <a:chExt cx="3085560" cy="592560"/>
          </a:xfrm>
        </p:grpSpPr>
        <mc:AlternateContent>
          <mc:Choice xmlns:a14="http://schemas.microsoft.com/office/drawing/2010/main" Requires="a14">
            <p:sp>
              <p:nvSpPr>
                <p:cNvPr id="308" name="Object 12"/>
                <p:cNvSpPr txBox="1"/>
                <p:nvPr/>
              </p:nvSpPr>
              <p:spPr>
                <a:xfrm>
                  <a:off x="3124080" y="6094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Text Box 13"/>
            <p:cNvSpPr/>
            <p:nvPr/>
          </p:nvSpPr>
          <p:spPr>
            <a:xfrm>
              <a:off x="3485160" y="620640"/>
              <a:ext cx="27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DBE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KO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14"/>
                <p:cNvSpPr txBox="1"/>
                <p:nvPr/>
              </p:nvSpPr>
              <p:spPr>
                <a:xfrm>
                  <a:off x="4851360" y="6094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Object 16"/>
              <p:cNvSpPr txBox="1"/>
              <p:nvPr/>
            </p:nvSpPr>
            <p:spPr>
              <a:xfrm>
                <a:off x="3200400" y="259092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7"/>
              <p:cNvSpPr txBox="1"/>
              <p:nvPr/>
            </p:nvSpPr>
            <p:spPr>
              <a:xfrm>
                <a:off x="4191120" y="3141720"/>
                <a:ext cx="761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Rectangle 18"/>
          <p:cNvSpPr/>
          <p:nvPr/>
        </p:nvSpPr>
        <p:spPr>
          <a:xfrm>
            <a:off x="838080" y="685800"/>
            <a:ext cx="6934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звестно, что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т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ответствующие эле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∆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OP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895480" y="2362320"/>
            <a:ext cx="320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 = 4,5 c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B =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 = 60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 = 30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08000" y="1141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иная игру в бильярд, необходимо расположить шары в виде треугольника. Для этого используют специальную треугольную рам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76244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3"/>
          <p:cNvGrpSpPr/>
          <p:nvPr/>
        </p:nvGrpSpPr>
        <p:grpSpPr>
          <a:xfrm>
            <a:off x="5364000" y="1244520"/>
            <a:ext cx="3332160" cy="4848480"/>
            <a:chOff x="5364000" y="1244520"/>
            <a:chExt cx="3332160" cy="4848480"/>
          </a:xfrm>
        </p:grpSpPr>
        <p:pic>
          <p:nvPicPr>
            <p:cNvPr id="320" name="Picture 4" descr=""/>
            <p:cNvPicPr/>
            <p:nvPr/>
          </p:nvPicPr>
          <p:blipFill>
            <a:blip r:embed="rId2"/>
            <a:stretch/>
          </p:blipFill>
          <p:spPr>
            <a:xfrm>
              <a:off x="5364000" y="1244520"/>
              <a:ext cx="3332160" cy="48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" descr=""/>
            <p:cNvPicPr/>
            <p:nvPr/>
          </p:nvPicPr>
          <p:blipFill>
            <a:blip r:embed="rId3"/>
            <a:stretch/>
          </p:blipFill>
          <p:spPr>
            <a:xfrm>
              <a:off x="6607080" y="1460520"/>
              <a:ext cx="93636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6"/>
          <p:cNvSpPr/>
          <p:nvPr/>
        </p:nvSpPr>
        <p:spPr>
          <a:xfrm>
            <a:off x="179280" y="258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ановка кеглей в игре Боулинг тоже в виде равностороннего тре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5508720" y="2565360"/>
            <a:ext cx="790560" cy="722520"/>
            <a:chOff x="5508720" y="2565360"/>
            <a:chExt cx="790560" cy="722520"/>
          </a:xfrm>
        </p:grpSpPr>
        <p:sp>
          <p:nvSpPr>
            <p:cNvPr id="324" name="Oval 8"/>
            <p:cNvSpPr/>
            <p:nvPr/>
          </p:nvSpPr>
          <p:spPr>
            <a:xfrm>
              <a:off x="5508720" y="2567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724360" y="2565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5940360" y="25671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6156360" y="25671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"/>
            <p:cNvSpPr/>
            <p:nvPr/>
          </p:nvSpPr>
          <p:spPr>
            <a:xfrm>
              <a:off x="565164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5867280" y="2781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6084720" y="278136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5"/>
            <p:cNvSpPr/>
            <p:nvPr/>
          </p:nvSpPr>
          <p:spPr>
            <a:xfrm>
              <a:off x="5724360" y="29973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"/>
            <p:cNvSpPr/>
            <p:nvPr/>
          </p:nvSpPr>
          <p:spPr>
            <a:xfrm>
              <a:off x="5940360" y="2997360"/>
              <a:ext cx="142920" cy="14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7"/>
            <p:cNvSpPr/>
            <p:nvPr/>
          </p:nvSpPr>
          <p:spPr>
            <a:xfrm>
              <a:off x="5867280" y="3141720"/>
              <a:ext cx="142920" cy="1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18" descr=""/>
          <p:cNvPicPr/>
          <p:nvPr/>
        </p:nvPicPr>
        <p:blipFill>
          <a:blip r:embed="rId4"/>
          <a:stretch/>
        </p:blipFill>
        <p:spPr>
          <a:xfrm>
            <a:off x="5240160" y="765000"/>
            <a:ext cx="1132200" cy="14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9280" y="1568520"/>
            <a:ext cx="9072720" cy="47401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79280" y="1872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сположении товара на прилавках супермаркета, обязательно учитывается правило «золотого треугольника», основанное на психологии покуп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>
            <a:off x="1422360" y="2060640"/>
            <a:ext cx="2057400" cy="1749240"/>
          </a:xfrm>
          <a:custGeom>
            <a:avLst/>
            <a:gdLst/>
            <a:ahLst/>
            <a:rect l="l" t="t" r="r" b="b"/>
            <a:pathLst>
              <a:path w="1296" h="1102">
                <a:moveTo>
                  <a:pt x="0" y="1102"/>
                </a:moveTo>
                <a:lnTo>
                  <a:pt x="714" y="91"/>
                </a:lnTo>
                <a:lnTo>
                  <a:pt x="759" y="0"/>
                </a:lnTo>
                <a:lnTo>
                  <a:pt x="816" y="62"/>
                </a:lnTo>
                <a:lnTo>
                  <a:pt x="1296" y="894"/>
                </a:lnTo>
                <a:lnTo>
                  <a:pt x="112" y="1102"/>
                </a:lnTo>
              </a:path>
            </a:pathLst>
          </a:custGeom>
          <a:solidFill>
            <a:srgbClr val="ff66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484360" y="1916280"/>
            <a:ext cx="289080" cy="35856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5486400" y="2781360"/>
            <a:ext cx="1244520" cy="1028520"/>
          </a:xfrm>
          <a:custGeom>
            <a:avLst/>
            <a:gdLst/>
            <a:ahLst/>
            <a:rect l="l" t="t" r="r" b="b"/>
            <a:pathLst>
              <a:path w="784" h="648">
                <a:moveTo>
                  <a:pt x="0" y="600"/>
                </a:moveTo>
                <a:lnTo>
                  <a:pt x="229" y="91"/>
                </a:lnTo>
                <a:lnTo>
                  <a:pt x="274" y="0"/>
                </a:lnTo>
                <a:lnTo>
                  <a:pt x="416" y="120"/>
                </a:lnTo>
                <a:lnTo>
                  <a:pt x="784" y="408"/>
                </a:lnTo>
                <a:lnTo>
                  <a:pt x="16" y="648"/>
                </a:lnTo>
              </a:path>
            </a:pathLst>
          </a:custGeom>
          <a:solidFill>
            <a:srgbClr val="ffff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796000" y="2637000"/>
            <a:ext cx="288720" cy="358560"/>
          </a:xfrm>
          <a:custGeom>
            <a:avLst/>
            <a:gdLst/>
            <a:ahLst/>
            <a:rect l="l" t="t" r="r" b="b"/>
            <a:pathLst>
              <a:path w="288925" h="358775">
                <a:moveTo>
                  <a:pt x="0" y="137040"/>
                </a:moveTo>
                <a:lnTo>
                  <a:pt x="110360" y="137040"/>
                </a:lnTo>
                <a:lnTo>
                  <a:pt x="144463" y="0"/>
                </a:lnTo>
                <a:lnTo>
                  <a:pt x="178565" y="137040"/>
                </a:lnTo>
                <a:lnTo>
                  <a:pt x="288925" y="137040"/>
                </a:lnTo>
                <a:lnTo>
                  <a:pt x="199641" y="221734"/>
                </a:lnTo>
                <a:lnTo>
                  <a:pt x="233745" y="358774"/>
                </a:lnTo>
                <a:lnTo>
                  <a:pt x="144463" y="274078"/>
                </a:lnTo>
                <a:lnTo>
                  <a:pt x="55180" y="358774"/>
                </a:lnTo>
                <a:lnTo>
                  <a:pt x="89284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1042920" y="486900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5257800" y="1123920"/>
            <a:ext cx="341784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Rectangle 3"/>
          <p:cNvSpPr/>
          <p:nvPr/>
        </p:nvSpPr>
        <p:spPr>
          <a:xfrm>
            <a:off x="179280" y="2286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художественной литературе, телесериалах сюжет часто завязан на «любовном треугольник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4241880" cy="53989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5"/>
          <p:cNvSpPr/>
          <p:nvPr/>
        </p:nvSpPr>
        <p:spPr>
          <a:xfrm>
            <a:off x="1066680" y="1700280"/>
            <a:ext cx="3403800" cy="2084400"/>
          </a:xfrm>
          <a:custGeom>
            <a:avLst/>
            <a:gdLst/>
            <a:ahLst/>
            <a:rect l="l" t="t" r="r" b="b"/>
            <a:pathLst>
              <a:path w="2144" h="1313">
                <a:moveTo>
                  <a:pt x="0" y="1313"/>
                </a:moveTo>
                <a:lnTo>
                  <a:pt x="983" y="0"/>
                </a:lnTo>
                <a:lnTo>
                  <a:pt x="2144" y="801"/>
                </a:lnTo>
                <a:lnTo>
                  <a:pt x="0" y="1313"/>
                </a:lnTo>
                <a:close/>
              </a:path>
            </a:pathLst>
          </a:custGeom>
          <a:solidFill>
            <a:srgbClr val="66ffff">
              <a:alpha val="47000"/>
            </a:srgbClr>
          </a:solidFill>
          <a:ln w="126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5207040" y="3200400"/>
            <a:ext cx="3541680" cy="2289240"/>
          </a:xfrm>
          <a:custGeom>
            <a:avLst/>
            <a:gdLst/>
            <a:ahLst/>
            <a:rect l="l" t="t" r="r" b="b"/>
            <a:pathLst>
              <a:path w="2231" h="1442">
                <a:moveTo>
                  <a:pt x="2231" y="603"/>
                </a:moveTo>
                <a:lnTo>
                  <a:pt x="821" y="1442"/>
                </a:lnTo>
                <a:lnTo>
                  <a:pt x="0" y="0"/>
                </a:lnTo>
                <a:lnTo>
                  <a:pt x="2231" y="603"/>
                </a:lnTo>
                <a:close/>
              </a:path>
            </a:pathLst>
          </a:custGeom>
          <a:solidFill>
            <a:srgbClr val="ffff00">
              <a:alpha val="47000"/>
            </a:srgbClr>
          </a:solidFill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359160" y="0"/>
            <a:ext cx="58086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2600" y="18900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ермуд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реуг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2232000" y="836640"/>
            <a:ext cx="6948360" cy="403056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5"/>
          <p:cNvGrpSpPr/>
          <p:nvPr/>
        </p:nvGrpSpPr>
        <p:grpSpPr>
          <a:xfrm>
            <a:off x="4356000" y="2637000"/>
            <a:ext cx="1297080" cy="1295280"/>
            <a:chOff x="4356000" y="2637000"/>
            <a:chExt cx="1297080" cy="1295280"/>
          </a:xfrm>
        </p:grpSpPr>
        <p:sp>
          <p:nvSpPr>
            <p:cNvPr id="351" name="Freeform 6"/>
            <p:cNvSpPr/>
            <p:nvPr/>
          </p:nvSpPr>
          <p:spPr>
            <a:xfrm>
              <a:off x="4403880" y="2692440"/>
              <a:ext cx="1187280" cy="1187280"/>
            </a:xfrm>
            <a:custGeom>
              <a:avLst/>
              <a:gdLst/>
              <a:ahLst/>
              <a:rect l="l" t="t" r="r" b="b"/>
              <a:pathLst>
                <a:path w="748" h="748">
                  <a:moveTo>
                    <a:pt x="0" y="120"/>
                  </a:moveTo>
                  <a:lnTo>
                    <a:pt x="748" y="0"/>
                  </a:lnTo>
                  <a:lnTo>
                    <a:pt x="448" y="748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7"/>
            <p:cNvSpPr/>
            <p:nvPr/>
          </p:nvSpPr>
          <p:spPr>
            <a:xfrm>
              <a:off x="5580000" y="2637000"/>
              <a:ext cx="73080" cy="7128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"/>
            <p:cNvSpPr/>
            <p:nvPr/>
          </p:nvSpPr>
          <p:spPr>
            <a:xfrm>
              <a:off x="5076720" y="3860640"/>
              <a:ext cx="73080" cy="7164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"/>
            <p:cNvSpPr/>
            <p:nvPr/>
          </p:nvSpPr>
          <p:spPr>
            <a:xfrm>
              <a:off x="4356000" y="2852640"/>
              <a:ext cx="73080" cy="71640"/>
            </a:xfrm>
            <a:prstGeom prst="ellipse">
              <a:avLst/>
            </a:prstGeom>
            <a:solidFill>
              <a:srgbClr val="ff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10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15523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75040" cy="38750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576360" y="356400"/>
            <a:ext cx="86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мудский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йон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ом оке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в котором происходят якобы таинственные исчезновения морских и воздушных с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йон ограничен линиями от Фл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 Бермудск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далее к Пуэрто-Ри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назад к Флориде через Бага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47320" y="63997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011280" y="558864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уэрто-Р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620360" y="4148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лор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6299640" y="2348280"/>
            <a:ext cx="17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ермуд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3924360" y="0"/>
            <a:ext cx="4933800" cy="66610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3"/>
          <p:cNvSpPr/>
          <p:nvPr/>
        </p:nvSpPr>
        <p:spPr>
          <a:xfrm>
            <a:off x="287280" y="341280"/>
            <a:ext cx="60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ептики утверждают, однако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чезновения судов в бермудск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угольнике происходят не чащ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в других районах мирового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ются есте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ами. Такого же м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ерживается Береговая ох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траховая компания Lloyd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762120" y="3299400"/>
            <a:ext cx="2689200" cy="2472840"/>
            <a:chOff x="762120" y="3299400"/>
            <a:chExt cx="2689200" cy="2472840"/>
          </a:xfrm>
        </p:grpSpPr>
        <p:sp>
          <p:nvSpPr>
            <p:cNvPr id="62" name="Freeform 6"/>
            <p:cNvSpPr/>
            <p:nvPr/>
          </p:nvSpPr>
          <p:spPr>
            <a:xfrm>
              <a:off x="2684520" y="5016600"/>
              <a:ext cx="766800" cy="75564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 rot="6724800">
              <a:off x="1485360" y="3390840"/>
              <a:ext cx="76212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62120" y="4602240"/>
              <a:ext cx="7617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9"/>
          <p:cNvSpPr/>
          <p:nvPr/>
        </p:nvSpPr>
        <p:spPr>
          <a:xfrm>
            <a:off x="806400" y="3332160"/>
            <a:ext cx="2664000" cy="244800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589840" y="236232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очки А, В и С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ши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649960" y="2971800"/>
            <a:ext cx="629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резки АВ, ВС и 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орон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2895480" y="4267080"/>
            <a:ext cx="5994720" cy="825480"/>
            <a:chOff x="2895480" y="4267080"/>
            <a:chExt cx="5994720" cy="825480"/>
          </a:xfrm>
        </p:grpSpPr>
        <p:sp>
          <p:nvSpPr>
            <p:cNvPr id="69" name="Text Box 13"/>
            <p:cNvSpPr/>
            <p:nvPr/>
          </p:nvSpPr>
          <p:spPr>
            <a:xfrm>
              <a:off x="3168360" y="4267080"/>
              <a:ext cx="572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,     ВАС,     ВС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    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глы тре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5271840" y="426708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5"/>
                <p:cNvSpPr txBox="1"/>
                <p:nvPr/>
              </p:nvSpPr>
              <p:spPr>
                <a:xfrm>
                  <a:off x="4119480" y="42670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Object 16"/>
                <p:cNvSpPr txBox="1"/>
                <p:nvPr/>
              </p:nvSpPr>
              <p:spPr>
                <a:xfrm>
                  <a:off x="2895480" y="426708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" name="Text Box 17"/>
          <p:cNvSpPr/>
          <p:nvPr/>
        </p:nvSpPr>
        <p:spPr>
          <a:xfrm>
            <a:off x="4421520" y="556272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Р = АВ + ВС +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75" name="Freeform 19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28"/>
          <p:cNvSpPr/>
          <p:nvPr/>
        </p:nvSpPr>
        <p:spPr>
          <a:xfrm>
            <a:off x="3398760" y="5715000"/>
            <a:ext cx="10656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9"/>
          <p:cNvSpPr/>
          <p:nvPr/>
        </p:nvSpPr>
        <p:spPr>
          <a:xfrm>
            <a:off x="1701720" y="3276720"/>
            <a:ext cx="10656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0"/>
          <p:cNvSpPr/>
          <p:nvPr/>
        </p:nvSpPr>
        <p:spPr>
          <a:xfrm>
            <a:off x="762120" y="5219640"/>
            <a:ext cx="10620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1"/>
          <p:cNvGrpSpPr/>
          <p:nvPr/>
        </p:nvGrpSpPr>
        <p:grpSpPr>
          <a:xfrm>
            <a:off x="4266720" y="1676520"/>
            <a:ext cx="1815120" cy="777600"/>
            <a:chOff x="4266720" y="1676520"/>
            <a:chExt cx="1815120" cy="777600"/>
          </a:xfrm>
        </p:grpSpPr>
        <p:sp>
          <p:nvSpPr>
            <p:cNvPr id="87" name="Rectangle 32"/>
            <p:cNvSpPr/>
            <p:nvPr/>
          </p:nvSpPr>
          <p:spPr>
            <a:xfrm>
              <a:off x="4809960" y="1692000"/>
              <a:ext cx="1271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BC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4266720" y="167652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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4"/>
          <p:cNvSpPr/>
          <p:nvPr/>
        </p:nvSpPr>
        <p:spPr>
          <a:xfrm>
            <a:off x="990720" y="304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метим какие - нибудь три точки, не лежащие на одной прямой и соединим их отрез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220968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838080" y="91440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учим геометрическую фигуру, которая называетс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треуголь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дите тре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94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13"/>
          <p:cNvSpPr/>
          <p:nvPr/>
        </p:nvSpPr>
        <p:spPr>
          <a:xfrm rot="19980000">
            <a:off x="456840" y="1066320"/>
            <a:ext cx="1459080" cy="1336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4f2fa"/>
              </a:gs>
            </a:gsLst>
            <a:lin ang="70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9480" y="838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808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981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 rot="16200000">
            <a:off x="3238560" y="1333080"/>
            <a:ext cx="1447560" cy="1219320"/>
          </a:xfrm>
          <a:custGeom>
            <a:avLst/>
            <a:gdLst>
              <a:gd name="textAreaLeft" fmla="*/ 270360 w 1447560"/>
              <a:gd name="textAreaRight" fmla="*/ 1177200 w 1447560"/>
              <a:gd name="textAreaTop" fmla="*/ 227880 h 1219320"/>
              <a:gd name="textAreaBottom" fmla="*/ 9914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76" y="21600"/>
                </a:lnTo>
                <a:lnTo>
                  <a:pt x="171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76002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895480" y="1066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97180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49568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449568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715000" y="1523880"/>
            <a:ext cx="1676520" cy="990720"/>
          </a:xfrm>
          <a:prstGeom prst="parallelogram">
            <a:avLst>
              <a:gd name="adj" fmla="val 42306"/>
            </a:avLst>
          </a:prstGeom>
          <a:gradFill rotWithShape="0">
            <a:gsLst>
              <a:gs pos="0">
                <a:srgbClr val="b1f5b4"/>
              </a:gs>
              <a:gs pos="100000">
                <a:srgbClr val="5271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5715000" y="1523880"/>
            <a:ext cx="167652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4100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5791320" y="1219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7391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7010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7"/>
          <p:cNvSpPr/>
          <p:nvPr/>
        </p:nvSpPr>
        <p:spPr>
          <a:xfrm rot="9735000">
            <a:off x="838080" y="3428280"/>
            <a:ext cx="2702160" cy="1623960"/>
          </a:xfrm>
          <a:prstGeom prst="rtTriangle">
            <a:avLst/>
          </a:prstGeom>
          <a:gradFill rotWithShape="0">
            <a:gsLst>
              <a:gs pos="0">
                <a:srgbClr val="68710e"/>
              </a:gs>
              <a:gs pos="100000">
                <a:srgbClr val="e1f51f"/>
              </a:gs>
            </a:gsLst>
            <a:lin ang="172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3808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2767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73392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251460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6934320" y="3505320"/>
            <a:ext cx="38088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8"/>
          <p:cNvSpPr/>
          <p:nvPr/>
        </p:nvSpPr>
        <p:spPr>
          <a:xfrm flipV="1">
            <a:off x="7315200" y="3733560"/>
            <a:ext cx="990720" cy="1523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9"/>
          <p:cNvSpPr/>
          <p:nvPr/>
        </p:nvSpPr>
        <p:spPr>
          <a:xfrm>
            <a:off x="6934320" y="3505320"/>
            <a:ext cx="533160" cy="685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V="1">
            <a:off x="7467480" y="3733920"/>
            <a:ext cx="838440" cy="457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739152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822960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72388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PieSlice"/>
          <p:cNvSpPr/>
          <p:nvPr/>
        </p:nvSpPr>
        <p:spPr>
          <a:xfrm rot="19343400">
            <a:off x="4572000" y="3124080"/>
            <a:ext cx="1828800" cy="18288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7656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46483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525780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8"/>
          <p:cNvSpPr/>
          <p:nvPr/>
        </p:nvSpPr>
        <p:spPr>
          <a:xfrm>
            <a:off x="59436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228600" y="470376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каж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стороны каким вершинам противолеж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533520" y="54864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глы к каким сторонам прилеж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533520" y="5867280"/>
            <a:ext cx="7086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глы между какими сторонами заклю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63"/>
          <p:cNvCxnSpPr>
            <a:stCxn id="117" idx="2"/>
          </p:cNvCxnSpPr>
          <p:nvPr/>
        </p:nvCxnSpPr>
        <p:spPr>
          <a:xfrm flipH="1">
            <a:off x="2666160" y="3056040"/>
            <a:ext cx="561240" cy="12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815840" y="17928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13560" y="876240"/>
            <a:ext cx="758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ите треугольник АВС и прове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резок, соединяющий вершину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серединой противоположной сторо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41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815840" y="17928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13560" y="876240"/>
            <a:ext cx="829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ите треугольник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На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метьте произвольную точку К и соедин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ё с вершиной, противолежащей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52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815840" y="179280"/>
            <a:ext cx="56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Практическое задание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83664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) назовите углы треугольник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лежащие к стороне 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) назовите углы треугольника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прилежащие к сторон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) назовите угол треугольник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, заключённый между сторонам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K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) назовите угол, заключённый между сторонам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P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PM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1646280" y="3200400"/>
            <a:ext cx="3313080" cy="2879640"/>
          </a:xfrm>
          <a:prstGeom prst="triangle">
            <a:avLst>
              <a:gd name="adj" fmla="val 82991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64" name="AutoShape 4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2352"/>
                  </a:srgbClr>
                </a:gs>
                <a:gs pos="100000">
                  <a:srgbClr val="00ccff">
                    <a:alpha val="4235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69" name="AutoShape 9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ffff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3"/>
          <p:cNvSpPr/>
          <p:nvPr/>
        </p:nvSpPr>
        <p:spPr>
          <a:xfrm>
            <a:off x="4916520" y="5653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808440" y="2768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762120" y="5335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ва треугольника называются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авным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, если их можно совместить на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"/>
          <p:cNvGrpSpPr/>
          <p:nvPr/>
        </p:nvGrpSpPr>
        <p:grpSpPr>
          <a:xfrm>
            <a:off x="2133720" y="1981080"/>
            <a:ext cx="3129480" cy="592560"/>
            <a:chOff x="2133720" y="1981080"/>
            <a:chExt cx="3129480" cy="592560"/>
          </a:xfrm>
        </p:grpSpPr>
        <mc:AlternateContent>
          <mc:Choice xmlns:a14="http://schemas.microsoft.com/office/drawing/2010/main" Requires="a14">
            <p:sp>
              <p:nvSpPr>
                <p:cNvPr id="177" name="Object 18"/>
                <p:cNvSpPr txBox="1"/>
                <p:nvPr/>
              </p:nvSpPr>
              <p:spPr>
                <a:xfrm>
                  <a:off x="2133720" y="19810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Text Box 19"/>
            <p:cNvSpPr/>
            <p:nvPr/>
          </p:nvSpPr>
          <p:spPr>
            <a:xfrm>
              <a:off x="2494800" y="1992240"/>
              <a:ext cx="27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S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20"/>
                <p:cNvSpPr txBox="1"/>
                <p:nvPr/>
              </p:nvSpPr>
              <p:spPr>
                <a:xfrm>
                  <a:off x="3861000" y="19810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Group 21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81" name="Freeform 22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4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5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7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0"/>
          <p:cNvSpPr/>
          <p:nvPr/>
        </p:nvSpPr>
        <p:spPr>
          <a:xfrm>
            <a:off x="1144440" y="571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4356000" y="3178080"/>
            <a:ext cx="76320" cy="74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4915080" y="6021360"/>
            <a:ext cx="745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1600200" y="6033960"/>
            <a:ext cx="76320" cy="88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228600" y="2209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31007 0.24537 L -0.42309 0.33519 E">
                                      <p:cBhvr>
                                        <p:cTn id="10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2057400" y="3581280"/>
            <a:ext cx="3313080" cy="2880000"/>
          </a:xfrm>
          <a:prstGeom prst="triangle">
            <a:avLst>
              <a:gd name="adj" fmla="val 82991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196" name="AutoShape 4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2352"/>
                  </a:srgbClr>
                </a:gs>
                <a:gs pos="100000">
                  <a:srgbClr val="00ccff">
                    <a:alpha val="4235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8"/>
          <p:cNvGrpSpPr/>
          <p:nvPr/>
        </p:nvGrpSpPr>
        <p:grpSpPr>
          <a:xfrm>
            <a:off x="5319720" y="533520"/>
            <a:ext cx="3643200" cy="3753000"/>
            <a:chOff x="5319720" y="533520"/>
            <a:chExt cx="3643200" cy="3753000"/>
          </a:xfrm>
        </p:grpSpPr>
        <p:sp>
          <p:nvSpPr>
            <p:cNvPr id="201" name="AutoShape 9"/>
            <p:cNvSpPr/>
            <p:nvPr/>
          </p:nvSpPr>
          <p:spPr>
            <a:xfrm>
              <a:off x="5533920" y="896760"/>
              <a:ext cx="3312720" cy="2879280"/>
            </a:xfrm>
            <a:prstGeom prst="triangle">
              <a:avLst>
                <a:gd name="adj" fmla="val 82991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66ffff">
                    <a:alpha val="36078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5319720" y="3705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8488080" y="3705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8343720" y="5335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3"/>
          <p:cNvSpPr/>
          <p:nvPr/>
        </p:nvSpPr>
        <p:spPr>
          <a:xfrm>
            <a:off x="533556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6497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7"/>
          <p:cNvGrpSpPr/>
          <p:nvPr/>
        </p:nvGrpSpPr>
        <p:grpSpPr>
          <a:xfrm>
            <a:off x="533520" y="2438280"/>
            <a:ext cx="3129480" cy="592560"/>
            <a:chOff x="533520" y="2438280"/>
            <a:chExt cx="3129480" cy="592560"/>
          </a:xfrm>
        </p:grpSpPr>
        <mc:AlternateContent>
          <mc:Choice xmlns:a14="http://schemas.microsoft.com/office/drawing/2010/main" Requires="a14">
            <p:sp>
              <p:nvSpPr>
                <p:cNvPr id="208" name="Object 18"/>
                <p:cNvSpPr txBox="1"/>
                <p:nvPr/>
              </p:nvSpPr>
              <p:spPr>
                <a:xfrm>
                  <a:off x="533520" y="2438280"/>
                  <a:ext cx="4971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Text Box 19"/>
            <p:cNvSpPr/>
            <p:nvPr/>
          </p:nvSpPr>
          <p:spPr>
            <a:xfrm>
              <a:off x="894600" y="2449440"/>
              <a:ext cx="27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S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20"/>
                <p:cNvSpPr txBox="1"/>
                <p:nvPr/>
              </p:nvSpPr>
              <p:spPr>
                <a:xfrm>
                  <a:off x="2260800" y="2438280"/>
                  <a:ext cx="49680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Group 21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12" name="Freeform 22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5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8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9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30"/>
          <p:cNvSpPr/>
          <p:nvPr/>
        </p:nvSpPr>
        <p:spPr>
          <a:xfrm>
            <a:off x="160164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4"/>
          <p:cNvSpPr/>
          <p:nvPr/>
        </p:nvSpPr>
        <p:spPr>
          <a:xfrm>
            <a:off x="838080" y="3505320"/>
            <a:ext cx="2743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В =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S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C = SN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 = MN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609480" y="1143000"/>
            <a:ext cx="685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равных треугольниках против соответственно равных сторон лежат равные угл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обратно: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против соответственно равных углов ле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ы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2971800" y="51814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9"/>
          <p:cNvSpPr/>
          <p:nvPr/>
        </p:nvSpPr>
        <p:spPr>
          <a:xfrm>
            <a:off x="6781680" y="22096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 flipV="1">
            <a:off x="4724280" y="4800240"/>
            <a:ext cx="3812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 flipV="1">
            <a:off x="4876920" y="4876920"/>
            <a:ext cx="3808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2"/>
          <p:cNvSpPr/>
          <p:nvPr/>
        </p:nvSpPr>
        <p:spPr>
          <a:xfrm flipV="1">
            <a:off x="8305920" y="1905120"/>
            <a:ext cx="3808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3"/>
          <p:cNvSpPr/>
          <p:nvPr/>
        </p:nvSpPr>
        <p:spPr>
          <a:xfrm flipV="1">
            <a:off x="8305920" y="2057040"/>
            <a:ext cx="3808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4"/>
          <p:cNvSpPr/>
          <p:nvPr/>
        </p:nvSpPr>
        <p:spPr>
          <a:xfrm>
            <a:off x="312408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5"/>
          <p:cNvSpPr/>
          <p:nvPr/>
        </p:nvSpPr>
        <p:spPr>
          <a:xfrm>
            <a:off x="327672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3429000" y="6248520"/>
            <a:ext cx="0" cy="3808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708660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723888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9"/>
          <p:cNvSpPr/>
          <p:nvPr/>
        </p:nvSpPr>
        <p:spPr>
          <a:xfrm>
            <a:off x="7391520" y="3581280"/>
            <a:ext cx="0" cy="3812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609480" y="1522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ва треугольника равны, то элементы (т.е. стороны и углы) одного треугольника соответственно равны элементам друг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2"/>
          <p:cNvSpPr/>
          <p:nvPr/>
        </p:nvSpPr>
        <p:spPr>
          <a:xfrm>
            <a:off x="1981080" y="29718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3"/>
          <p:cNvSpPr/>
          <p:nvPr/>
        </p:nvSpPr>
        <p:spPr>
          <a:xfrm rot="16200000">
            <a:off x="1904760" y="3581280"/>
            <a:ext cx="533520" cy="2819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90"/>
                </a:lnTo>
                <a:cubicBezTo>
                  <a:pt x="10800" y="8790"/>
                  <a:pt x="5400" y="9690"/>
                  <a:pt x="0" y="9690"/>
                </a:cubicBezTo>
                <a:cubicBezTo>
                  <a:pt x="5400" y="9690"/>
                  <a:pt x="10800" y="10590"/>
                  <a:pt x="10800" y="114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4"/>
          <p:cNvSpPr/>
          <p:nvPr/>
        </p:nvSpPr>
        <p:spPr>
          <a:xfrm>
            <a:off x="990720" y="5334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6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5"/>
          <p:cNvSpPr/>
          <p:nvPr/>
        </p:nvSpPr>
        <p:spPr>
          <a:xfrm rot="10800000">
            <a:off x="2285640" y="617184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650" y="2099"/>
                  <a:pt x="11700" y="5080"/>
                  <a:pt x="11700" y="10800"/>
                </a:cubicBezTo>
                <a:cubicBezTo>
                  <a:pt x="11700" y="16520"/>
                  <a:pt x="16650" y="19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6"/>
          <p:cNvSpPr/>
          <p:nvPr/>
        </p:nvSpPr>
        <p:spPr>
          <a:xfrm rot="10800000">
            <a:off x="5790960" y="3505320"/>
            <a:ext cx="15228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650" y="2099"/>
                  <a:pt x="11700" y="5080"/>
                  <a:pt x="11700" y="10800"/>
                </a:cubicBezTo>
                <a:cubicBezTo>
                  <a:pt x="11700" y="16520"/>
                  <a:pt x="16650" y="1950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7"/>
          <p:cNvSpPr/>
          <p:nvPr/>
        </p:nvSpPr>
        <p:spPr>
          <a:xfrm rot="16200000">
            <a:off x="4686120" y="369540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9"/>
          <p:cNvSpPr/>
          <p:nvPr/>
        </p:nvSpPr>
        <p:spPr>
          <a:xfrm rot="16200000">
            <a:off x="8115120" y="1028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0"/>
          <p:cNvSpPr/>
          <p:nvPr/>
        </p:nvSpPr>
        <p:spPr>
          <a:xfrm rot="259200">
            <a:off x="5029200" y="6019560"/>
            <a:ext cx="246240" cy="46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86" y="1753"/>
                  <a:pt x="9771" y="5080"/>
                  <a:pt x="9771" y="10800"/>
                </a:cubicBezTo>
                <a:cubicBezTo>
                  <a:pt x="9771" y="16520"/>
                  <a:pt x="15686" y="198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1"/>
          <p:cNvSpPr/>
          <p:nvPr/>
        </p:nvSpPr>
        <p:spPr>
          <a:xfrm rot="259200">
            <a:off x="8534520" y="3276360"/>
            <a:ext cx="245880" cy="46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86" y="1753"/>
                  <a:pt x="9771" y="5080"/>
                  <a:pt x="9771" y="10800"/>
                </a:cubicBezTo>
                <a:cubicBezTo>
                  <a:pt x="9771" y="16520"/>
                  <a:pt x="15686" y="1984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ы два равных треугольника. Запишите их равные углы и стороны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48" name="Freeform 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3"/>
          <p:cNvGrpSpPr/>
          <p:nvPr/>
        </p:nvGrpSpPr>
        <p:grpSpPr>
          <a:xfrm>
            <a:off x="1143000" y="2362320"/>
            <a:ext cx="3106800" cy="592200"/>
            <a:chOff x="1143000" y="2362320"/>
            <a:chExt cx="3106800" cy="592200"/>
          </a:xfrm>
        </p:grpSpPr>
        <mc:AlternateContent>
          <mc:Choice xmlns:a14="http://schemas.microsoft.com/office/drawing/2010/main" Requires="a14">
            <p:sp>
              <p:nvSpPr>
                <p:cNvPr id="257" name="Object 14"/>
                <p:cNvSpPr txBox="1"/>
                <p:nvPr/>
              </p:nvSpPr>
              <p:spPr>
                <a:xfrm>
                  <a:off x="1143000" y="2362320"/>
                  <a:ext cx="49680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15"/>
            <p:cNvSpPr/>
            <p:nvPr/>
          </p:nvSpPr>
          <p:spPr>
            <a:xfrm>
              <a:off x="1504080" y="2373120"/>
              <a:ext cx="274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MKP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C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6"/>
                <p:cNvSpPr txBox="1"/>
                <p:nvPr/>
              </p:nvSpPr>
              <p:spPr>
                <a:xfrm>
                  <a:off x="2869920" y="2362320"/>
                  <a:ext cx="4964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7"/>
          <p:cNvGrpSpPr/>
          <p:nvPr/>
        </p:nvGrpSpPr>
        <p:grpSpPr>
          <a:xfrm>
            <a:off x="1066680" y="3505320"/>
            <a:ext cx="3332520" cy="592200"/>
            <a:chOff x="1066680" y="3505320"/>
            <a:chExt cx="3332520" cy="592200"/>
          </a:xfrm>
        </p:grpSpPr>
        <mc:AlternateContent>
          <mc:Choice xmlns:a14="http://schemas.microsoft.com/office/drawing/2010/main" Requires="a14">
            <p:sp>
              <p:nvSpPr>
                <p:cNvPr id="261" name="Object 18"/>
                <p:cNvSpPr txBox="1"/>
                <p:nvPr/>
              </p:nvSpPr>
              <p:spPr>
                <a:xfrm>
                  <a:off x="1066680" y="3505320"/>
                  <a:ext cx="49716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19"/>
            <p:cNvSpPr/>
            <p:nvPr/>
          </p:nvSpPr>
          <p:spPr>
            <a:xfrm>
              <a:off x="1428480" y="3516120"/>
              <a:ext cx="29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PMK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=   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CED</a:t>
              </a:r>
              <a:r>
                <a:rPr b="1" lang="ru-RU" sz="32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20"/>
                <p:cNvSpPr txBox="1"/>
                <p:nvPr/>
              </p:nvSpPr>
              <p:spPr>
                <a:xfrm>
                  <a:off x="2793960" y="3505320"/>
                  <a:ext cx="49680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4-01-11T05:57:1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