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40.png" ContentType="image/png"/>
  <Override PartName="/ppt/media/image36.jpeg" ContentType="image/jpeg"/>
  <Override PartName="/ppt/media/image42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8.jpeg" ContentType="image/jpeg"/>
  <Override PartName="/ppt/media/image50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56C-CB72-4F59-9BE8-607A367B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151-02C8-4E70-81B3-9B3A7BB1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6FB-CD6C-4E3A-BCCD-13C961D1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89F-6D25-41F2-8824-818C2333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A56-CAEB-4977-8864-84168841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4BE-3979-450F-928B-9644C1AA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C44-7F42-4D14-AB65-47DCE5A2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D31-7499-4C03-94D6-426B6030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4E9-B73C-4901-8C3B-69A7FBC6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423-D475-45F4-88C7-560B30B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C7B-6712-4E3E-9A6D-4A8BC782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32F-CE00-4226-9599-89ACE8D5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719-6C3B-4036-8894-5ABDBE75C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slide6.xm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29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17.xml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14.xml"/><Relationship Id="rId8" Type="http://schemas.openxmlformats.org/officeDocument/2006/relationships/image" Target="../media/image8.png"/><Relationship Id="rId9" Type="http://schemas.openxmlformats.org/officeDocument/2006/relationships/slide" Target="slide6.xml"/><Relationship Id="rId10" Type="http://schemas.openxmlformats.org/officeDocument/2006/relationships/image" Target="../media/image9.png"/><Relationship Id="rId11" Type="http://schemas.openxmlformats.org/officeDocument/2006/relationships/slide" Target="slide8.xml"/><Relationship Id="rId12" Type="http://schemas.openxmlformats.org/officeDocument/2006/relationships/image" Target="../media/image10.png"/><Relationship Id="rId13" Type="http://schemas.openxmlformats.org/officeDocument/2006/relationships/slide" Target="slide32.xml"/><Relationship Id="rId14" Type="http://schemas.openxmlformats.org/officeDocument/2006/relationships/image" Target="../media/image11.png"/><Relationship Id="rId15" Type="http://schemas.openxmlformats.org/officeDocument/2006/relationships/slide" Target="slide19.xml"/><Relationship Id="rId16" Type="http://schemas.openxmlformats.org/officeDocument/2006/relationships/image" Target="../media/image12.png"/><Relationship Id="rId17" Type="http://schemas.openxmlformats.org/officeDocument/2006/relationships/slide" Target="slide10.xml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42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45.png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0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02200" y="1486080"/>
            <a:ext cx="295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9612360" cy="7262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627280" y="260280"/>
            <a:ext cx="324180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06343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риков</a:t>
            </a:r>
            <a:endParaRPr b="0" lang="en-US" sz="6000" spc="1" strike="noStrike">
              <a:ln w="1908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592200" cy="591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492360" y="189000"/>
            <a:ext cx="144000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04733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ccff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а</a:t>
            </a:r>
            <a:endParaRPr b="0" lang="en-US" sz="2000" spc="1" strike="noStrike">
              <a:ln w="19080">
                <a:solidFill>
                  <a:srgbClr val="ccff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48000" y="5877000"/>
            <a:ext cx="2232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1 се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2276640"/>
            <a:ext cx="7632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ыкновенные </a:t>
            </a:r>
            <a:endParaRPr b="0" lang="en-US" sz="7200" spc="1" strike="noStrike">
              <a:ln w="190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оби.</a:t>
            </a:r>
            <a:endParaRPr b="0" lang="en-US" sz="7200" spc="1" strike="noStrike">
              <a:ln w="190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070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68360" y="692280"/>
            <a:ext cx="4104000" cy="2160360"/>
          </a:xfrm>
          <a:prstGeom prst="cloudCallout">
            <a:avLst>
              <a:gd name="adj1" fmla="val 20018"/>
              <a:gd name="adj2" fmla="val 96583"/>
            </a:avLst>
          </a:prstGeom>
          <a:solidFill>
            <a:srgbClr val="99ccff">
              <a:alpha val="48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25760" y="134136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Решите зада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4211640" cy="3789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16360" y="3357720"/>
            <a:ext cx="2305080" cy="28080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22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564000" y="765000"/>
            <a:ext cx="557280" cy="803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788000" y="765000"/>
            <a:ext cx="609480" cy="719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580000" y="765000"/>
            <a:ext cx="625680" cy="738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659640" y="83664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45164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3348000" y="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611280" y="76500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1547640" y="83664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2484360" y="836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360" y="170028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Ёжик и Крош занялись разведением экзотических бабочек. Когда у них было уже 40 бабочек, 8 из них улетели на далёкий 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акая часть бабочек улет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1"/>
          <a:srcRect l="7567" t="10717" r="7771" b="10054"/>
          <a:stretch/>
        </p:blipFill>
        <p:spPr>
          <a:xfrm>
            <a:off x="2484360" y="3429000"/>
            <a:ext cx="3600360" cy="2664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659640" y="2708280"/>
            <a:ext cx="1800000" cy="194472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113600" y="3068640"/>
                <a:ext cx="10191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422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867280" y="765000"/>
            <a:ext cx="609840" cy="719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588000" y="836640"/>
            <a:ext cx="625680" cy="73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492360" y="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826920" y="765000"/>
            <a:ext cx="533520" cy="660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692360" y="83664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2627280" y="90792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3419640" y="907920"/>
            <a:ext cx="528480" cy="542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4211640" y="836640"/>
            <a:ext cx="55872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>
            <a:off x="3059280" y="4508640"/>
            <a:ext cx="3132000" cy="2062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788000" y="220500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162864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У Бараша было 15 воздушных шар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н их раздарил своим друзьям. Нюше досталось        всех шар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Сколько  шариков получила Нюш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132000" y="2276640"/>
                <a:ext cx="403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948360" y="2708280"/>
            <a:ext cx="1511280" cy="165564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422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36400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300720" y="692280"/>
            <a:ext cx="609840" cy="71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164360" y="765000"/>
            <a:ext cx="625680" cy="738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956720" y="765000"/>
            <a:ext cx="591840" cy="624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492360" y="18900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684360" y="765000"/>
            <a:ext cx="574560" cy="624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908000" y="765000"/>
            <a:ext cx="508320" cy="576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298764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4211640" y="836640"/>
            <a:ext cx="558720" cy="638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2050920" y="4365720"/>
            <a:ext cx="4464360" cy="2492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84360" y="155736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рош погрузился в ванну, доверху наполненную водой. Из ванны вылилось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литров воды, что составило         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бъёма ванны. Сколько литров воды надо, чтобы ванна оказалась наполненной доверх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2205000"/>
                <a:ext cx="485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632720" y="3213000"/>
            <a:ext cx="1511280" cy="165600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2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flipH="1">
            <a:off x="1042200" y="0"/>
            <a:ext cx="8101080" cy="2205000"/>
          </a:xfrm>
          <a:prstGeom prst="cloudCallout">
            <a:avLst>
              <a:gd name="adj1" fmla="val 3967"/>
              <a:gd name="adj2" fmla="val 95856"/>
            </a:avLst>
          </a:prstGeom>
          <a:solidFill>
            <a:srgbClr val="ffcc99">
              <a:alpha val="48000"/>
            </a:srgbClr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57320" y="40464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актическая работа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4572000" cy="4149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995640" y="3357720"/>
            <a:ext cx="2181240" cy="2238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932360" y="2421000"/>
            <a:ext cx="17272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 Кары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684360" y="260280"/>
            <a:ext cx="7848360" cy="5400360"/>
            <a:chOff x="684360" y="260280"/>
            <a:chExt cx="7848360" cy="540036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880560" y="1426320"/>
              <a:ext cx="7652160" cy="42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684360" y="260280"/>
              <a:ext cx="765216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76720" y="260280"/>
            <a:ext cx="25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верка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796000" y="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300720" y="692280"/>
            <a:ext cx="609840" cy="718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7164360" y="765000"/>
            <a:ext cx="625680" cy="738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8028000" y="54936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179280" y="765000"/>
            <a:ext cx="574920" cy="624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1116000" y="76500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2050920" y="765000"/>
            <a:ext cx="528840" cy="543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2700360" y="260280"/>
            <a:ext cx="558720" cy="638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1"/>
          <a:srcRect l="12111" t="20144" r="9040" b="12109"/>
          <a:stretch/>
        </p:blipFill>
        <p:spPr>
          <a:xfrm>
            <a:off x="1619280" y="1844640"/>
            <a:ext cx="5689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 flipH="1">
            <a:off x="2123280" y="404640"/>
            <a:ext cx="4829400" cy="1592280"/>
          </a:xfrm>
          <a:prstGeom prst="cloudCallout">
            <a:avLst>
              <a:gd name="adj1" fmla="val -6018"/>
              <a:gd name="adj2" fmla="val 144615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e1e1"/>
              </a:gs>
            </a:gsLst>
            <a:lin ang="5400000"/>
          </a:gradFill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23960" y="692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4005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419640" y="3429000"/>
            <a:ext cx="2209680" cy="2400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00720" y="2565360"/>
            <a:ext cx="17269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овунь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547640" y="1989000"/>
                <a:ext cx="5329440" cy="23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авильная</m:t>
                        </m:r>
                        <m:sSup>
                          <m:e/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дробь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900000" y="2060640"/>
                <a:ext cx="784872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авильная</m:t>
                    </m:r>
                    <m:sSup>
                      <m:e/>
                      <m:sup/>
                    </m:sSup>
                    <m:r>
                      <m:rPr>
                        <m:lit/>
                        <m:nor/>
                      </m:rPr>
                      <m:t xml:space="preserve">дроб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2124000" y="1484280"/>
                <a:ext cx="3705480" cy="39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1"/>
              <p:cNvSpPr txBox="1"/>
              <p:nvPr/>
            </p:nvSpPr>
            <p:spPr>
              <a:xfrm>
                <a:off x="1042920" y="2060640"/>
                <a:ext cx="641340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мешанное</m:t>
                    </m:r>
                    <m:r>
                      <m:rPr>
                        <m:lit/>
                        <m:nor/>
                      </m:rPr>
                      <m:t xml:space="preserve"> числ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Номер слайда 8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98C4-0219-4A79-B4E7-7DADE915C5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2195640" y="1413000"/>
                <a:ext cx="4182840" cy="37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2124000" y="1341360"/>
                <a:ext cx="4327560" cy="496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8"/>
              <p:cNvSpPr txBox="1"/>
              <p:nvPr/>
            </p:nvSpPr>
            <p:spPr>
              <a:xfrm>
                <a:off x="2124000" y="1413000"/>
                <a:ext cx="4657680" cy="47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684360" y="0"/>
            <a:ext cx="84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50890"/>
                </a:solidFill>
                <a:uFillTx/>
                <a:latin typeface="Arial"/>
              </a:rPr>
              <a:t>Да –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руки на пояс, наклоны 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50890"/>
                </a:solidFill>
                <a:uFillTx/>
                <a:latin typeface="Arial"/>
              </a:rPr>
              <a:t>Нет –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руки на пояс, повороты  тулови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4"/>
              <p:cNvSpPr txBox="1"/>
              <p:nvPr/>
            </p:nvSpPr>
            <p:spPr>
              <a:xfrm>
                <a:off x="1116000" y="2060640"/>
                <a:ext cx="715500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мешанное</m:t>
                    </m:r>
                    <m:r>
                      <m:rPr>
                        <m:lit/>
                        <m:nor/>
                      </m:rPr>
                      <m:t xml:space="preserve"> числ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5"/>
              <p:cNvSpPr txBox="1"/>
              <p:nvPr/>
            </p:nvSpPr>
            <p:spPr>
              <a:xfrm>
                <a:off x="2556000" y="1484280"/>
                <a:ext cx="403200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0" y="5361120"/>
            <a:ext cx="2124000" cy="14968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5"/>
              <p:cNvSpPr txBox="1"/>
              <p:nvPr/>
            </p:nvSpPr>
            <p:spPr>
              <a:xfrm>
                <a:off x="1925640" y="1700280"/>
                <a:ext cx="572436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5"/>
              <p:cNvSpPr txBox="1"/>
              <p:nvPr/>
            </p:nvSpPr>
            <p:spPr>
              <a:xfrm>
                <a:off x="2271600" y="1916280"/>
                <a:ext cx="546444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5"/>
              <p:cNvSpPr txBox="1"/>
              <p:nvPr/>
            </p:nvSpPr>
            <p:spPr>
              <a:xfrm>
                <a:off x="3138480" y="2131920"/>
                <a:ext cx="416232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≻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8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7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6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05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8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0"/>
                            </p:stCondLst>
                            <p:childTnLst>
                              <p:par>
                                <p:cTn id="214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23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8000"/>
                            </p:stCondLst>
                            <p:childTnLst>
                              <p:par>
                                <p:cTn id="232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4360" y="0"/>
            <a:ext cx="7559640" cy="2997360"/>
          </a:xfrm>
          <a:prstGeom prst="cloudCallout">
            <a:avLst>
              <a:gd name="adj1" fmla="val -33138"/>
              <a:gd name="adj2" fmla="val 80509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e1e1"/>
              </a:gs>
            </a:gsLst>
            <a:lin ang="5400000"/>
          </a:gra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260280"/>
            <a:ext cx="63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Составь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по долевой схеме смешан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и перейди к неправильной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920" y="3573360"/>
            <a:ext cx="1224000" cy="2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4608360" cy="33112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12000" y="59500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210492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20000" y="260280"/>
            <a:ext cx="1584360" cy="165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333360"/>
            <a:ext cx="136836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08360" y="3789360"/>
            <a:ext cx="122544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5280" y="4365720"/>
            <a:ext cx="144000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195640" y="2349360"/>
            <a:ext cx="103644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788000" y="501336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524720" y="4941720"/>
            <a:ext cx="140328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219640" y="1916280"/>
            <a:ext cx="1224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23960" cy="4176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403280" y="1052640"/>
            <a:ext cx="5400720" cy="4392360"/>
          </a:xfrm>
          <a:prstGeom prst="rect">
            <a:avLst/>
          </a:prstGeom>
          <a:ln w="9360">
            <a:solidFill>
              <a:srgbClr val="ffcc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308720" y="4005360"/>
                <a:ext cx="15112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7164360" y="1052640"/>
                <a:ext cx="15843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7164360" y="2492280"/>
                <a:ext cx="16369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590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Comic Sans MS"/>
              </a:rPr>
              <a:t>Составь  неправильную дробь и  перейди к смешанному числ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7169" t="0" r="0" b="63856"/>
          <a:stretch/>
        </p:blipFill>
        <p:spPr>
          <a:xfrm>
            <a:off x="900000" y="1844640"/>
            <a:ext cx="4667400" cy="144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372360" y="3933720"/>
                <a:ext cx="13683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281640" y="1844640"/>
                <a:ext cx="16225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rcRect l="7169" t="68721" r="0" b="0"/>
          <a:stretch/>
        </p:blipFill>
        <p:spPr>
          <a:xfrm>
            <a:off x="900000" y="3789360"/>
            <a:ext cx="4667400" cy="12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956720" y="1916280"/>
            <a:ext cx="556920" cy="803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2268360" y="3429000"/>
            <a:ext cx="609840" cy="719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611280" y="1700280"/>
            <a:ext cx="625320" cy="738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611280" y="83664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6516720" y="342900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3419640" y="342900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4572000" y="342900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5724360" y="342900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0"/>
          <a:stretch/>
        </p:blipFill>
        <p:spPr>
          <a:xfrm>
            <a:off x="7956720" y="98100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5905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Составь самостоятельно дробь по рисунку, составь выражение и выполни действие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484000" y="259920"/>
            <a:ext cx="431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№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1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№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2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№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3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№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4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404640"/>
            <a:ext cx="466920" cy="432000"/>
          </a:xfrm>
          <a:custGeom>
            <a:avLst/>
            <a:gdLst>
              <a:gd name="textAreaLeft" fmla="*/ 27720 w 466920"/>
              <a:gd name="textAreaRight" fmla="*/ 439200 w 4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3345" h="21600">
                <a:moveTo>
                  <a:pt x="0" y="0"/>
                </a:moveTo>
                <a:lnTo>
                  <a:pt x="23345" y="0"/>
                </a:lnTo>
                <a:lnTo>
                  <a:pt x="23345" y="21600"/>
                </a:lnTo>
                <a:lnTo>
                  <a:pt x="0" y="21600"/>
                </a:lnTo>
                <a:close/>
              </a:path>
              <a:path fill="lightenLess" w="23345" h="21600">
                <a:moveTo>
                  <a:pt x="0" y="0"/>
                </a:moveTo>
                <a:lnTo>
                  <a:pt x="23345" y="0"/>
                </a:lnTo>
                <a:lnTo>
                  <a:pt x="21945" y="1400"/>
                </a:lnTo>
                <a:lnTo>
                  <a:pt x="1400" y="1400"/>
                </a:lnTo>
                <a:close/>
              </a:path>
              <a:path fill="darken" w="23345" h="21600">
                <a:moveTo>
                  <a:pt x="23345" y="0"/>
                </a:moveTo>
                <a:lnTo>
                  <a:pt x="23345" y="21600"/>
                </a:lnTo>
                <a:lnTo>
                  <a:pt x="21945" y="20200"/>
                </a:lnTo>
                <a:lnTo>
                  <a:pt x="21945" y="1400"/>
                </a:lnTo>
                <a:close/>
              </a:path>
              <a:path fill="darkenLess" w="23345" h="21600">
                <a:moveTo>
                  <a:pt x="2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5" y="20200"/>
                </a:lnTo>
                <a:close/>
              </a:path>
              <a:path fill="lighten" w="2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345" h="21600">
                <a:moveTo>
                  <a:pt x="6145" y="3985"/>
                </a:moveTo>
                <a:lnTo>
                  <a:pt x="13143" y="3985"/>
                </a:lnTo>
                <a:lnTo>
                  <a:pt x="17199" y="7484"/>
                </a:lnTo>
                <a:lnTo>
                  <a:pt x="17199" y="17615"/>
                </a:lnTo>
                <a:lnTo>
                  <a:pt x="6145" y="17615"/>
                </a:lnTo>
                <a:close/>
              </a:path>
              <a:path fill="darken" w="23345" h="21600">
                <a:moveTo>
                  <a:pt x="13143" y="3985"/>
                </a:moveTo>
                <a:lnTo>
                  <a:pt x="17199" y="7484"/>
                </a:lnTo>
                <a:lnTo>
                  <a:pt x="13143" y="748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76720" y="1268280"/>
            <a:ext cx="466920" cy="432000"/>
          </a:xfrm>
          <a:custGeom>
            <a:avLst/>
            <a:gdLst>
              <a:gd name="textAreaLeft" fmla="*/ 27720 w 466920"/>
              <a:gd name="textAreaRight" fmla="*/ 439200 w 4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3345" h="21600">
                <a:moveTo>
                  <a:pt x="0" y="0"/>
                </a:moveTo>
                <a:lnTo>
                  <a:pt x="23345" y="0"/>
                </a:lnTo>
                <a:lnTo>
                  <a:pt x="23345" y="21600"/>
                </a:lnTo>
                <a:lnTo>
                  <a:pt x="0" y="21600"/>
                </a:lnTo>
                <a:close/>
              </a:path>
              <a:path fill="lightenLess" w="23345" h="21600">
                <a:moveTo>
                  <a:pt x="0" y="0"/>
                </a:moveTo>
                <a:lnTo>
                  <a:pt x="23345" y="0"/>
                </a:lnTo>
                <a:lnTo>
                  <a:pt x="21945" y="1400"/>
                </a:lnTo>
                <a:lnTo>
                  <a:pt x="1400" y="1400"/>
                </a:lnTo>
                <a:close/>
              </a:path>
              <a:path fill="darken" w="23345" h="21600">
                <a:moveTo>
                  <a:pt x="23345" y="0"/>
                </a:moveTo>
                <a:lnTo>
                  <a:pt x="23345" y="21600"/>
                </a:lnTo>
                <a:lnTo>
                  <a:pt x="21945" y="20200"/>
                </a:lnTo>
                <a:lnTo>
                  <a:pt x="21945" y="1400"/>
                </a:lnTo>
                <a:close/>
              </a:path>
              <a:path fill="darkenLess" w="23345" h="21600">
                <a:moveTo>
                  <a:pt x="2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5" y="20200"/>
                </a:lnTo>
                <a:close/>
              </a:path>
              <a:path fill="lighten" w="2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345" h="21600">
                <a:moveTo>
                  <a:pt x="6145" y="3985"/>
                </a:moveTo>
                <a:lnTo>
                  <a:pt x="13143" y="3985"/>
                </a:lnTo>
                <a:lnTo>
                  <a:pt x="17199" y="7484"/>
                </a:lnTo>
                <a:lnTo>
                  <a:pt x="17199" y="17615"/>
                </a:lnTo>
                <a:lnTo>
                  <a:pt x="6145" y="17615"/>
                </a:lnTo>
                <a:close/>
              </a:path>
              <a:path fill="darken" w="23345" h="21600">
                <a:moveTo>
                  <a:pt x="13143" y="3985"/>
                </a:moveTo>
                <a:lnTo>
                  <a:pt x="17199" y="7484"/>
                </a:lnTo>
                <a:lnTo>
                  <a:pt x="13143" y="748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76720" y="2060640"/>
            <a:ext cx="466920" cy="431640"/>
          </a:xfrm>
          <a:custGeom>
            <a:avLst/>
            <a:gdLst>
              <a:gd name="textAreaLeft" fmla="*/ 27720 w 466920"/>
              <a:gd name="textAreaRight" fmla="*/ 439200 w 46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364" h="21600">
                <a:moveTo>
                  <a:pt x="0" y="0"/>
                </a:moveTo>
                <a:lnTo>
                  <a:pt x="23364" y="0"/>
                </a:lnTo>
                <a:lnTo>
                  <a:pt x="23364" y="21600"/>
                </a:lnTo>
                <a:lnTo>
                  <a:pt x="0" y="21600"/>
                </a:lnTo>
                <a:close/>
              </a:path>
              <a:path fill="lightenLess" w="23364" h="21600">
                <a:moveTo>
                  <a:pt x="0" y="0"/>
                </a:moveTo>
                <a:lnTo>
                  <a:pt x="23364" y="0"/>
                </a:lnTo>
                <a:lnTo>
                  <a:pt x="21964" y="1400"/>
                </a:lnTo>
                <a:lnTo>
                  <a:pt x="1400" y="1400"/>
                </a:lnTo>
                <a:close/>
              </a:path>
              <a:path fill="darken" w="23364" h="21600">
                <a:moveTo>
                  <a:pt x="23364" y="0"/>
                </a:moveTo>
                <a:lnTo>
                  <a:pt x="23364" y="21600"/>
                </a:lnTo>
                <a:lnTo>
                  <a:pt x="21964" y="20200"/>
                </a:lnTo>
                <a:lnTo>
                  <a:pt x="21964" y="1400"/>
                </a:lnTo>
                <a:close/>
              </a:path>
              <a:path fill="darkenLess" w="23364" h="21600">
                <a:moveTo>
                  <a:pt x="2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64" y="20200"/>
                </a:lnTo>
                <a:close/>
              </a:path>
              <a:path fill="lighten" w="2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364" h="21600">
                <a:moveTo>
                  <a:pt x="6155" y="3985"/>
                </a:moveTo>
                <a:lnTo>
                  <a:pt x="13153" y="3985"/>
                </a:lnTo>
                <a:lnTo>
                  <a:pt x="17209" y="7484"/>
                </a:lnTo>
                <a:lnTo>
                  <a:pt x="17209" y="17615"/>
                </a:lnTo>
                <a:lnTo>
                  <a:pt x="6155" y="17615"/>
                </a:lnTo>
                <a:close/>
              </a:path>
              <a:path fill="darken" w="23364" h="21600">
                <a:moveTo>
                  <a:pt x="13153" y="3985"/>
                </a:moveTo>
                <a:lnTo>
                  <a:pt x="17209" y="7484"/>
                </a:lnTo>
                <a:lnTo>
                  <a:pt x="13153" y="748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76720" y="2781360"/>
            <a:ext cx="466920" cy="431640"/>
          </a:xfrm>
          <a:custGeom>
            <a:avLst/>
            <a:gdLst>
              <a:gd name="textAreaLeft" fmla="*/ 27720 w 466920"/>
              <a:gd name="textAreaRight" fmla="*/ 439200 w 46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364" h="21600">
                <a:moveTo>
                  <a:pt x="0" y="0"/>
                </a:moveTo>
                <a:lnTo>
                  <a:pt x="23364" y="0"/>
                </a:lnTo>
                <a:lnTo>
                  <a:pt x="23364" y="21600"/>
                </a:lnTo>
                <a:lnTo>
                  <a:pt x="0" y="21600"/>
                </a:lnTo>
                <a:close/>
              </a:path>
              <a:path fill="lightenLess" w="23364" h="21600">
                <a:moveTo>
                  <a:pt x="0" y="0"/>
                </a:moveTo>
                <a:lnTo>
                  <a:pt x="23364" y="0"/>
                </a:lnTo>
                <a:lnTo>
                  <a:pt x="21964" y="1400"/>
                </a:lnTo>
                <a:lnTo>
                  <a:pt x="1400" y="1400"/>
                </a:lnTo>
                <a:close/>
              </a:path>
              <a:path fill="darken" w="23364" h="21600">
                <a:moveTo>
                  <a:pt x="23364" y="0"/>
                </a:moveTo>
                <a:lnTo>
                  <a:pt x="23364" y="21600"/>
                </a:lnTo>
                <a:lnTo>
                  <a:pt x="21964" y="20200"/>
                </a:lnTo>
                <a:lnTo>
                  <a:pt x="21964" y="1400"/>
                </a:lnTo>
                <a:close/>
              </a:path>
              <a:path fill="darkenLess" w="23364" h="21600">
                <a:moveTo>
                  <a:pt x="2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64" y="20200"/>
                </a:lnTo>
                <a:close/>
              </a:path>
              <a:path fill="lighten" w="2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364" h="21600">
                <a:moveTo>
                  <a:pt x="6155" y="3985"/>
                </a:moveTo>
                <a:lnTo>
                  <a:pt x="13153" y="3985"/>
                </a:lnTo>
                <a:lnTo>
                  <a:pt x="17209" y="7484"/>
                </a:lnTo>
                <a:lnTo>
                  <a:pt x="17209" y="17615"/>
                </a:lnTo>
                <a:lnTo>
                  <a:pt x="6155" y="17615"/>
                </a:lnTo>
                <a:close/>
              </a:path>
              <a:path fill="darken" w="23364" h="21600">
                <a:moveTo>
                  <a:pt x="13153" y="3985"/>
                </a:moveTo>
                <a:lnTo>
                  <a:pt x="17209" y="7484"/>
                </a:lnTo>
                <a:lnTo>
                  <a:pt x="13153" y="748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 rot="20116800">
            <a:off x="179280" y="549000"/>
            <a:ext cx="21430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им!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771640" y="5805360"/>
            <a:ext cx="331308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оценк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mic Sans MS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1" lang="ru-RU" sz="4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3419640" y="18900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755640" y="765000"/>
            <a:ext cx="625320" cy="738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1763640" y="765000"/>
            <a:ext cx="592200" cy="6242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3708360" y="90792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4716360" y="90792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tretch/>
        </p:blipFill>
        <p:spPr>
          <a:xfrm>
            <a:off x="558000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0"/>
          <a:stretch/>
        </p:blipFill>
        <p:spPr>
          <a:xfrm>
            <a:off x="6516720" y="836640"/>
            <a:ext cx="558720" cy="638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1"/>
          <a:srcRect l="5214" t="0" r="0" b="86481"/>
          <a:stretch/>
        </p:blipFill>
        <p:spPr>
          <a:xfrm>
            <a:off x="395280" y="2492280"/>
            <a:ext cx="5437080" cy="1225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2"/>
          <a:stretch/>
        </p:blipFill>
        <p:spPr>
          <a:xfrm>
            <a:off x="5724360" y="2565360"/>
            <a:ext cx="3203640" cy="1224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59636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a9e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2472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mic Sans MS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2</a:t>
            </a:r>
            <a:r>
              <a:rPr b="1" lang="ru-RU" sz="4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18900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755640" y="765000"/>
            <a:ext cx="625320" cy="7383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1763640" y="765000"/>
            <a:ext cx="592200" cy="6242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3708360" y="90792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4716360" y="90792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9"/>
          <a:stretch/>
        </p:blipFill>
        <p:spPr>
          <a:xfrm>
            <a:off x="558000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0"/>
          <a:stretch/>
        </p:blipFill>
        <p:spPr>
          <a:xfrm>
            <a:off x="6516720" y="836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759636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a9e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2472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1"/>
          <a:srcRect l="4108" t="13519" r="21863" b="69451"/>
          <a:stretch/>
        </p:blipFill>
        <p:spPr>
          <a:xfrm>
            <a:off x="395280" y="2349360"/>
            <a:ext cx="4681440" cy="1008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2"/>
          <a:stretch/>
        </p:blipFill>
        <p:spPr>
          <a:xfrm>
            <a:off x="5219640" y="2276640"/>
            <a:ext cx="30974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19640" y="18900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55640" y="765000"/>
            <a:ext cx="625320" cy="7383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1763640" y="765000"/>
            <a:ext cx="592200" cy="624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3708360" y="90792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4716360" y="90792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9"/>
          <a:stretch/>
        </p:blipFill>
        <p:spPr>
          <a:xfrm>
            <a:off x="558000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0"/>
          <a:stretch/>
        </p:blipFill>
        <p:spPr>
          <a:xfrm>
            <a:off x="6516720" y="836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258920" y="411552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9636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a9e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2472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1"/>
          <a:srcRect l="0" t="70321" r="0" b="7316"/>
          <a:stretch/>
        </p:blipFill>
        <p:spPr>
          <a:xfrm>
            <a:off x="539640" y="2492280"/>
            <a:ext cx="5329440" cy="1224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2"/>
          <a:stretch/>
        </p:blipFill>
        <p:spPr>
          <a:xfrm>
            <a:off x="5364000" y="2492280"/>
            <a:ext cx="30243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419640" y="18900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755640" y="765000"/>
            <a:ext cx="625320" cy="738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1763640" y="765000"/>
            <a:ext cx="592200" cy="6242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7"/>
          <a:stretch/>
        </p:blipFill>
        <p:spPr>
          <a:xfrm>
            <a:off x="3708360" y="90792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8"/>
          <a:stretch/>
        </p:blipFill>
        <p:spPr>
          <a:xfrm>
            <a:off x="4716360" y="90792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9"/>
          <a:stretch/>
        </p:blipFill>
        <p:spPr>
          <a:xfrm>
            <a:off x="558000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0"/>
          <a:stretch/>
        </p:blipFill>
        <p:spPr>
          <a:xfrm>
            <a:off x="6516720" y="836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58920" y="411552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1"/>
          <a:srcRect l="3510" t="6389" r="0" b="71239"/>
          <a:stretch/>
        </p:blipFill>
        <p:spPr>
          <a:xfrm>
            <a:off x="395280" y="2781360"/>
            <a:ext cx="5400720" cy="100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12"/>
          <a:stretch/>
        </p:blipFill>
        <p:spPr>
          <a:xfrm>
            <a:off x="5651640" y="2708280"/>
            <a:ext cx="3492360" cy="1152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59636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a9e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472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992680" y="836640"/>
            <a:ext cx="368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Самооц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916360" y="1557360"/>
          <a:ext cx="3343320" cy="1312920"/>
        </p:xfrm>
        <a:graphic>
          <a:graphicData uri="http://schemas.openxmlformats.org/drawingml/2006/table">
            <a:tbl>
              <a:tblPr/>
              <a:tblGrid>
                <a:gridCol w="668160"/>
                <a:gridCol w="668520"/>
                <a:gridCol w="668160"/>
                <a:gridCol w="669960"/>
                <a:gridCol w="668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Бал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2268360" y="2924280"/>
            <a:ext cx="46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Шкала балловой оце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1 балл – «удовлетворительно</a:t>
            </a:r>
            <a:r>
              <a:rPr b="0" i="1" lang="en-US" sz="1800" spc="-1" strike="noStrike">
                <a:solidFill>
                  <a:srgbClr val="008000"/>
                </a:solidFill>
                <a:latin typeface="Comic Sans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2-3 балла – «хорош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Comic Sans MS"/>
              </a:rPr>
              <a:t>4 балла – «отлич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395280" y="6165720"/>
            <a:ext cx="865080" cy="35892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2030" h="21600">
                <a:moveTo>
                  <a:pt x="0" y="0"/>
                </a:moveTo>
                <a:lnTo>
                  <a:pt x="52030" y="0"/>
                </a:lnTo>
                <a:lnTo>
                  <a:pt x="52030" y="21600"/>
                </a:lnTo>
                <a:lnTo>
                  <a:pt x="0" y="21600"/>
                </a:lnTo>
                <a:close/>
              </a:path>
              <a:path fill="lightenLess" w="52030" h="21600">
                <a:moveTo>
                  <a:pt x="0" y="0"/>
                </a:moveTo>
                <a:lnTo>
                  <a:pt x="52030" y="0"/>
                </a:lnTo>
                <a:lnTo>
                  <a:pt x="50630" y="1400"/>
                </a:lnTo>
                <a:lnTo>
                  <a:pt x="1400" y="1400"/>
                </a:lnTo>
                <a:close/>
              </a:path>
              <a:path fill="darken" w="52030" h="21600">
                <a:moveTo>
                  <a:pt x="52030" y="0"/>
                </a:moveTo>
                <a:lnTo>
                  <a:pt x="52030" y="21600"/>
                </a:lnTo>
                <a:lnTo>
                  <a:pt x="50630" y="20200"/>
                </a:lnTo>
                <a:lnTo>
                  <a:pt x="50630" y="1400"/>
                </a:lnTo>
                <a:close/>
              </a:path>
              <a:path fill="darkenLess" w="52030" h="21600">
                <a:moveTo>
                  <a:pt x="52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30" y="20200"/>
                </a:lnTo>
                <a:close/>
              </a:path>
              <a:path fill="lighten" w="52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30" h="21600">
                <a:moveTo>
                  <a:pt x="19009" y="7493"/>
                </a:moveTo>
                <a:lnTo>
                  <a:pt x="22516" y="7493"/>
                </a:lnTo>
                <a:lnTo>
                  <a:pt x="22516" y="12828"/>
                </a:lnTo>
                <a:cubicBezTo>
                  <a:pt x="22516" y="13751"/>
                  <a:pt x="23317" y="14482"/>
                  <a:pt x="24353" y="14482"/>
                </a:cubicBezTo>
                <a:lnTo>
                  <a:pt x="26015" y="14482"/>
                </a:lnTo>
                <a:cubicBezTo>
                  <a:pt x="27051" y="14482"/>
                  <a:pt x="27852" y="13751"/>
                  <a:pt x="27852" y="12828"/>
                </a:cubicBezTo>
                <a:lnTo>
                  <a:pt x="27852" y="7493"/>
                </a:lnTo>
                <a:lnTo>
                  <a:pt x="26015" y="7493"/>
                </a:lnTo>
                <a:lnTo>
                  <a:pt x="29523" y="3985"/>
                </a:lnTo>
                <a:lnTo>
                  <a:pt x="33196" y="7493"/>
                </a:lnTo>
                <a:lnTo>
                  <a:pt x="31359" y="7493"/>
                </a:lnTo>
                <a:lnTo>
                  <a:pt x="31359" y="12828"/>
                </a:lnTo>
                <a:cubicBezTo>
                  <a:pt x="31359" y="15596"/>
                  <a:pt x="28783" y="18155"/>
                  <a:pt x="26015" y="18155"/>
                </a:cubicBezTo>
                <a:lnTo>
                  <a:pt x="24353" y="18155"/>
                </a:lnTo>
                <a:cubicBezTo>
                  <a:pt x="21585" y="18155"/>
                  <a:pt x="19009" y="15596"/>
                  <a:pt x="19009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87700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916000" y="2491920"/>
            <a:ext cx="3600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Comic Sans MS"/>
              </a:rPr>
              <a:t>Тес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8388360" y="407664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500720" y="105264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539640" y="3933720"/>
            <a:ext cx="625680" cy="738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826920" y="278136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476360" y="191628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7"/>
          <a:stretch/>
        </p:blipFill>
        <p:spPr>
          <a:xfrm>
            <a:off x="2843280" y="119700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8"/>
          <a:stretch/>
        </p:blipFill>
        <p:spPr>
          <a:xfrm>
            <a:off x="6084720" y="1052640"/>
            <a:ext cx="508320" cy="5760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9"/>
          <a:stretch/>
        </p:blipFill>
        <p:spPr>
          <a:xfrm>
            <a:off x="7020000" y="1700280"/>
            <a:ext cx="528480" cy="542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0"/>
          <a:stretch/>
        </p:blipFill>
        <p:spPr>
          <a:xfrm>
            <a:off x="7812000" y="2852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258920" y="411552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H="1">
            <a:off x="-720" y="404640"/>
            <a:ext cx="6877080" cy="2087640"/>
          </a:xfrm>
          <a:prstGeom prst="cloudCallout">
            <a:avLst>
              <a:gd name="adj1" fmla="val -15259"/>
              <a:gd name="adj2" fmla="val 105435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1db9"/>
                </a:solidFill>
                <a:latin typeface="Comic Sans MS"/>
              </a:rPr>
              <a:t>- Она бывает барабанная или </a:t>
            </a:r>
            <a:r>
              <a:rPr b="0" lang="en-US" sz="2400" spc="-1" strike="noStrike">
                <a:solidFill>
                  <a:srgbClr val="e31db9"/>
                </a:solidFill>
                <a:latin typeface="Comic Sans MS"/>
              </a:rPr>
              <a:t>                                           </a:t>
            </a:r>
            <a:r>
              <a:rPr b="0" lang="ru-RU" sz="2400" spc="-1" strike="noStrike">
                <a:solidFill>
                  <a:srgbClr val="e31db9"/>
                </a:solidFill>
                <a:latin typeface="Comic Sans MS"/>
              </a:rPr>
              <a:t>пальц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1db9"/>
                </a:solidFill>
                <a:latin typeface="Comic Sans MS"/>
              </a:rPr>
              <a:t>а ещё она бывает  охотнич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7650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3780000" cy="371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3640" y="4076640"/>
            <a:ext cx="2276280" cy="2400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492360" y="3284640"/>
            <a:ext cx="15112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Comic Sans MS"/>
              </a:rPr>
              <a:t>Прове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843280" y="1557360"/>
          <a:ext cx="3960720" cy="1366200"/>
        </p:xfrm>
        <a:graphic>
          <a:graphicData uri="http://schemas.openxmlformats.org/drawingml/2006/table">
            <a:tbl>
              <a:tblPr/>
              <a:tblGrid>
                <a:gridCol w="494640"/>
                <a:gridCol w="494640"/>
                <a:gridCol w="494640"/>
                <a:gridCol w="494640"/>
                <a:gridCol w="494640"/>
                <a:gridCol w="495720"/>
                <a:gridCol w="496080"/>
                <a:gridCol w="495720"/>
              </a:tblGrid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8028000" y="328464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250920" y="2133720"/>
            <a:ext cx="625320" cy="738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250920" y="333360"/>
            <a:ext cx="533160" cy="6602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250920" y="335772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8"/>
          <a:stretch/>
        </p:blipFill>
        <p:spPr>
          <a:xfrm>
            <a:off x="8028000" y="33336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9"/>
          <a:stretch/>
        </p:blipFill>
        <p:spPr>
          <a:xfrm>
            <a:off x="8028000" y="1268280"/>
            <a:ext cx="528480" cy="5428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0"/>
          <a:stretch/>
        </p:blipFill>
        <p:spPr>
          <a:xfrm>
            <a:off x="8028000" y="220500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258920" y="411552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24000" y="155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916360" y="3429000"/>
          <a:ext cx="3887640" cy="1152000"/>
        </p:xfrm>
        <a:graphic>
          <a:graphicData uri="http://schemas.openxmlformats.org/drawingml/2006/table">
            <a:tbl>
              <a:tblPr/>
              <a:tblGrid>
                <a:gridCol w="485280"/>
                <a:gridCol w="485640"/>
                <a:gridCol w="485640"/>
                <a:gridCol w="485640"/>
                <a:gridCol w="485640"/>
                <a:gridCol w="486360"/>
                <a:gridCol w="486720"/>
                <a:gridCol w="486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2195640" y="3357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1" action="ppaction://hlinksldjump"/>
          </p:cNvPr>
          <p:cNvSpPr/>
          <p:nvPr/>
        </p:nvSpPr>
        <p:spPr>
          <a:xfrm>
            <a:off x="324000" y="6165720"/>
            <a:ext cx="865080" cy="35892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2030" h="21600">
                <a:moveTo>
                  <a:pt x="0" y="0"/>
                </a:moveTo>
                <a:lnTo>
                  <a:pt x="52030" y="0"/>
                </a:lnTo>
                <a:lnTo>
                  <a:pt x="52030" y="21600"/>
                </a:lnTo>
                <a:lnTo>
                  <a:pt x="0" y="21600"/>
                </a:lnTo>
                <a:close/>
              </a:path>
              <a:path fill="lightenLess" w="52030" h="21600">
                <a:moveTo>
                  <a:pt x="0" y="0"/>
                </a:moveTo>
                <a:lnTo>
                  <a:pt x="52030" y="0"/>
                </a:lnTo>
                <a:lnTo>
                  <a:pt x="50630" y="1400"/>
                </a:lnTo>
                <a:lnTo>
                  <a:pt x="1400" y="1400"/>
                </a:lnTo>
                <a:close/>
              </a:path>
              <a:path fill="darken" w="52030" h="21600">
                <a:moveTo>
                  <a:pt x="52030" y="0"/>
                </a:moveTo>
                <a:lnTo>
                  <a:pt x="52030" y="21600"/>
                </a:lnTo>
                <a:lnTo>
                  <a:pt x="50630" y="20200"/>
                </a:lnTo>
                <a:lnTo>
                  <a:pt x="50630" y="1400"/>
                </a:lnTo>
                <a:close/>
              </a:path>
              <a:path fill="darkenLess" w="52030" h="21600">
                <a:moveTo>
                  <a:pt x="52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30" y="20200"/>
                </a:lnTo>
                <a:close/>
              </a:path>
              <a:path fill="lighten" w="52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30" h="21600">
                <a:moveTo>
                  <a:pt x="19009" y="7493"/>
                </a:moveTo>
                <a:lnTo>
                  <a:pt x="22516" y="7493"/>
                </a:lnTo>
                <a:lnTo>
                  <a:pt x="22516" y="12828"/>
                </a:lnTo>
                <a:cubicBezTo>
                  <a:pt x="22516" y="13751"/>
                  <a:pt x="23317" y="14482"/>
                  <a:pt x="24353" y="14482"/>
                </a:cubicBezTo>
                <a:lnTo>
                  <a:pt x="26015" y="14482"/>
                </a:lnTo>
                <a:cubicBezTo>
                  <a:pt x="27051" y="14482"/>
                  <a:pt x="27852" y="13751"/>
                  <a:pt x="27852" y="12828"/>
                </a:cubicBezTo>
                <a:lnTo>
                  <a:pt x="27852" y="7493"/>
                </a:lnTo>
                <a:lnTo>
                  <a:pt x="26015" y="7493"/>
                </a:lnTo>
                <a:lnTo>
                  <a:pt x="29523" y="3985"/>
                </a:lnTo>
                <a:lnTo>
                  <a:pt x="33196" y="7493"/>
                </a:lnTo>
                <a:lnTo>
                  <a:pt x="31359" y="7493"/>
                </a:lnTo>
                <a:lnTo>
                  <a:pt x="31359" y="12828"/>
                </a:lnTo>
                <a:cubicBezTo>
                  <a:pt x="31359" y="15596"/>
                  <a:pt x="28783" y="18155"/>
                  <a:pt x="26015" y="18155"/>
                </a:cubicBezTo>
                <a:lnTo>
                  <a:pt x="24353" y="18155"/>
                </a:lnTo>
                <a:cubicBezTo>
                  <a:pt x="21585" y="18155"/>
                  <a:pt x="19009" y="15596"/>
                  <a:pt x="19009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DA3A-6D80-4240-B974-1695A0CF5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471636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089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79280" y="1052640"/>
          <a:ext cx="4175280" cy="259056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38200"/>
                <a:gridCol w="504720"/>
                <a:gridCol w="522360"/>
                <a:gridCol w="522360"/>
                <a:gridCol w="52056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Rectangle 65"/>
          <p:cNvSpPr/>
          <p:nvPr/>
        </p:nvSpPr>
        <p:spPr>
          <a:xfrm>
            <a:off x="4788000" y="1341360"/>
            <a:ext cx="41767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961b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15089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1/60 минуты</a:t>
            </a:r>
            <a:r>
              <a:rPr b="0" lang="en-US" sz="28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это 1 …</a:t>
            </a:r>
            <a:r>
              <a:rPr b="1" i="1" lang="ru-RU" sz="2800" spc="-1" strike="noStrike">
                <a:solidFill>
                  <a:srgbClr val="15089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961b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15089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Единица измерени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площади – «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961b"/>
                </a:solidFill>
                <a:latin typeface="Times New Roman"/>
              </a:rPr>
              <a:t>3</a:t>
            </a:r>
            <a:r>
              <a:rPr b="1" i="1" lang="ru-RU" sz="3200" spc="-1" strike="noStrike">
                <a:solidFill>
                  <a:srgbClr val="15089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Как по другому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назвать «равные част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961b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15089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Прямоугольны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параллелепипед,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которого все измер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961b"/>
                </a:solidFill>
                <a:latin typeface="Times New Roman"/>
              </a:rPr>
              <a:t>5</a:t>
            </a:r>
            <a:r>
              <a:rPr b="1" i="1" lang="ru-RU" sz="3200" spc="-1" strike="noStrike">
                <a:solidFill>
                  <a:srgbClr val="15089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20 минут – это 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6"/>
          <p:cNvSpPr/>
          <p:nvPr/>
        </p:nvSpPr>
        <p:spPr>
          <a:xfrm>
            <a:off x="4500720" y="76500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961b"/>
                </a:solidFill>
                <a:latin typeface="Times New Roman"/>
              </a:rPr>
              <a:t>Задания к кроссвор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50920" y="4005360"/>
          <a:ext cx="4249800" cy="2512800"/>
        </p:xfrm>
        <a:graphic>
          <a:graphicData uri="http://schemas.openxmlformats.org/drawingml/2006/table">
            <a:tbl>
              <a:tblPr/>
              <a:tblGrid>
                <a:gridCol w="531720"/>
                <a:gridCol w="530280"/>
                <a:gridCol w="531720"/>
                <a:gridCol w="531720"/>
                <a:gridCol w="530280"/>
                <a:gridCol w="531720"/>
                <a:gridCol w="530280"/>
                <a:gridCol w="5320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6699"/>
                      </a:solidFill>
                    </a:lnR>
                    <a:lnT>
                      <a:noFill/>
                    </a:lnT>
                    <a:lnB w="72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Rectangle 289"/>
          <p:cNvSpPr/>
          <p:nvPr/>
        </p:nvSpPr>
        <p:spPr>
          <a:xfrm>
            <a:off x="250920" y="4005360"/>
            <a:ext cx="4249800" cy="25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625680" cy="7380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948360" y="6308640"/>
            <a:ext cx="865440" cy="358920"/>
          </a:xfrm>
          <a:custGeom>
            <a:avLst/>
            <a:gdLst>
              <a:gd name="textAreaLeft" fmla="*/ 23040 w 865440"/>
              <a:gd name="textAreaRight" fmla="*/ 842400 w 865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2052" h="21600">
                <a:moveTo>
                  <a:pt x="0" y="0"/>
                </a:moveTo>
                <a:lnTo>
                  <a:pt x="52052" y="0"/>
                </a:lnTo>
                <a:lnTo>
                  <a:pt x="52052" y="21600"/>
                </a:lnTo>
                <a:lnTo>
                  <a:pt x="0" y="21600"/>
                </a:lnTo>
                <a:close/>
              </a:path>
              <a:path fill="lightenLess" w="52052" h="21600">
                <a:moveTo>
                  <a:pt x="0" y="0"/>
                </a:moveTo>
                <a:lnTo>
                  <a:pt x="52052" y="0"/>
                </a:lnTo>
                <a:lnTo>
                  <a:pt x="50652" y="1400"/>
                </a:lnTo>
                <a:lnTo>
                  <a:pt x="1400" y="1400"/>
                </a:lnTo>
                <a:close/>
              </a:path>
              <a:path fill="darken" w="52052" h="21600">
                <a:moveTo>
                  <a:pt x="52052" y="0"/>
                </a:moveTo>
                <a:lnTo>
                  <a:pt x="52052" y="21600"/>
                </a:lnTo>
                <a:lnTo>
                  <a:pt x="50652" y="20200"/>
                </a:lnTo>
                <a:lnTo>
                  <a:pt x="50652" y="1400"/>
                </a:lnTo>
                <a:close/>
              </a:path>
              <a:path fill="darkenLess" w="52052" h="21600">
                <a:moveTo>
                  <a:pt x="52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52" y="20200"/>
                </a:lnTo>
                <a:close/>
              </a:path>
              <a:path fill="lighten" w="52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52" h="21600">
                <a:moveTo>
                  <a:pt x="19020" y="7493"/>
                </a:moveTo>
                <a:lnTo>
                  <a:pt x="22527" y="7493"/>
                </a:lnTo>
                <a:lnTo>
                  <a:pt x="22527" y="12828"/>
                </a:lnTo>
                <a:cubicBezTo>
                  <a:pt x="22527" y="13751"/>
                  <a:pt x="23328" y="14482"/>
                  <a:pt x="24364" y="14482"/>
                </a:cubicBezTo>
                <a:lnTo>
                  <a:pt x="26026" y="14482"/>
                </a:lnTo>
                <a:cubicBezTo>
                  <a:pt x="27062" y="14482"/>
                  <a:pt x="27863" y="13751"/>
                  <a:pt x="27863" y="12828"/>
                </a:cubicBezTo>
                <a:lnTo>
                  <a:pt x="27863" y="7493"/>
                </a:lnTo>
                <a:lnTo>
                  <a:pt x="26026" y="7493"/>
                </a:lnTo>
                <a:lnTo>
                  <a:pt x="29534" y="3985"/>
                </a:lnTo>
                <a:lnTo>
                  <a:pt x="33207" y="7493"/>
                </a:lnTo>
                <a:lnTo>
                  <a:pt x="31370" y="7493"/>
                </a:lnTo>
                <a:lnTo>
                  <a:pt x="31370" y="12828"/>
                </a:lnTo>
                <a:cubicBezTo>
                  <a:pt x="31370" y="15596"/>
                  <a:pt x="28794" y="18155"/>
                  <a:pt x="26026" y="18155"/>
                </a:cubicBezTo>
                <a:lnTo>
                  <a:pt x="24364" y="18155"/>
                </a:lnTo>
                <a:cubicBezTo>
                  <a:pt x="21596" y="18155"/>
                  <a:pt x="19020" y="15596"/>
                  <a:pt x="19020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04000" y="59500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6574 L 0.004 0.39908 E">
                                      <p:cBhvr>
                                        <p:cTn id="278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755640" y="260280"/>
            <a:ext cx="6480360" cy="2133720"/>
          </a:xfrm>
          <a:prstGeom prst="cloudCallout">
            <a:avLst>
              <a:gd name="adj1" fmla="val -3749"/>
              <a:gd name="adj2" fmla="val 11688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e1e1"/>
              </a:gs>
            </a:gsLst>
            <a:lin ang="5400000"/>
          </a:gra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325160" y="907920"/>
            <a:ext cx="53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одведём итоги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4500720" cy="41497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3203640" y="3500280"/>
            <a:ext cx="2124000" cy="24289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492360" y="2924280"/>
            <a:ext cx="180036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паты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6165720"/>
            <a:ext cx="865080" cy="35892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2030" h="21600">
                <a:moveTo>
                  <a:pt x="0" y="0"/>
                </a:moveTo>
                <a:lnTo>
                  <a:pt x="52030" y="0"/>
                </a:lnTo>
                <a:lnTo>
                  <a:pt x="52030" y="21600"/>
                </a:lnTo>
                <a:lnTo>
                  <a:pt x="0" y="21600"/>
                </a:lnTo>
                <a:close/>
              </a:path>
              <a:path fill="lightenLess" w="52030" h="21600">
                <a:moveTo>
                  <a:pt x="0" y="0"/>
                </a:moveTo>
                <a:lnTo>
                  <a:pt x="52030" y="0"/>
                </a:lnTo>
                <a:lnTo>
                  <a:pt x="50630" y="1400"/>
                </a:lnTo>
                <a:lnTo>
                  <a:pt x="1400" y="1400"/>
                </a:lnTo>
                <a:close/>
              </a:path>
              <a:path fill="darken" w="52030" h="21600">
                <a:moveTo>
                  <a:pt x="52030" y="0"/>
                </a:moveTo>
                <a:lnTo>
                  <a:pt x="52030" y="21600"/>
                </a:lnTo>
                <a:lnTo>
                  <a:pt x="50630" y="20200"/>
                </a:lnTo>
                <a:lnTo>
                  <a:pt x="50630" y="1400"/>
                </a:lnTo>
                <a:close/>
              </a:path>
              <a:path fill="darkenLess" w="52030" h="21600">
                <a:moveTo>
                  <a:pt x="52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30" y="20200"/>
                </a:lnTo>
                <a:close/>
              </a:path>
              <a:path fill="lighten" w="52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30" h="21600">
                <a:moveTo>
                  <a:pt x="19009" y="7493"/>
                </a:moveTo>
                <a:lnTo>
                  <a:pt x="22516" y="7493"/>
                </a:lnTo>
                <a:lnTo>
                  <a:pt x="22516" y="12828"/>
                </a:lnTo>
                <a:cubicBezTo>
                  <a:pt x="22516" y="13751"/>
                  <a:pt x="23317" y="14482"/>
                  <a:pt x="24353" y="14482"/>
                </a:cubicBezTo>
                <a:lnTo>
                  <a:pt x="26015" y="14482"/>
                </a:lnTo>
                <a:cubicBezTo>
                  <a:pt x="27051" y="14482"/>
                  <a:pt x="27852" y="13751"/>
                  <a:pt x="27852" y="12828"/>
                </a:cubicBezTo>
                <a:lnTo>
                  <a:pt x="27852" y="7493"/>
                </a:lnTo>
                <a:lnTo>
                  <a:pt x="26015" y="7493"/>
                </a:lnTo>
                <a:lnTo>
                  <a:pt x="29523" y="3985"/>
                </a:lnTo>
                <a:lnTo>
                  <a:pt x="33196" y="7493"/>
                </a:lnTo>
                <a:lnTo>
                  <a:pt x="31359" y="7493"/>
                </a:lnTo>
                <a:lnTo>
                  <a:pt x="31359" y="12828"/>
                </a:lnTo>
                <a:cubicBezTo>
                  <a:pt x="31359" y="15596"/>
                  <a:pt x="28783" y="18155"/>
                  <a:pt x="26015" y="18155"/>
                </a:cubicBezTo>
                <a:lnTo>
                  <a:pt x="24353" y="18155"/>
                </a:lnTo>
                <a:cubicBezTo>
                  <a:pt x="21585" y="18155"/>
                  <a:pt x="19009" y="15596"/>
                  <a:pt x="19009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26920" y="422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609840" cy="719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2195640" y="765000"/>
            <a:ext cx="625320" cy="738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3132000" y="83664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399564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7"/>
          <a:stretch/>
        </p:blipFill>
        <p:spPr>
          <a:xfrm>
            <a:off x="4788000" y="83664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8"/>
          <a:stretch/>
        </p:blipFill>
        <p:spPr>
          <a:xfrm>
            <a:off x="5651640" y="83664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9"/>
          <a:stretch/>
        </p:blipFill>
        <p:spPr>
          <a:xfrm>
            <a:off x="630072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0"/>
          <a:stretch/>
        </p:blipFill>
        <p:spPr>
          <a:xfrm>
            <a:off x="7093080" y="836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500120" y="103186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0012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714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432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099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1859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2392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288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7575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858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4960" y="103186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749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463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180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84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607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987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3037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320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606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52960" y="1031868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529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243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62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387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767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813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100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2386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30960" y="10318680"/>
            <a:ext cx="84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309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6023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736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40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167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547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593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6880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5166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08600" y="10318680"/>
            <a:ext cx="10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0860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803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516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318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3944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327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1373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660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946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202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80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7374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754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6518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146240" y="-5369040"/>
            <a:ext cx="137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6240" y="-5369040"/>
            <a:ext cx="1258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46240" y="-5369040"/>
            <a:ext cx="1258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146240" y="-5369040"/>
            <a:ext cx="1258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6240" y="-5369040"/>
            <a:ext cx="125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46240" y="-5369040"/>
            <a:ext cx="119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46240" y="-5369040"/>
            <a:ext cx="1077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46240" y="-5369040"/>
            <a:ext cx="1077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46240" y="-5369040"/>
            <a:ext cx="1077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46240" y="-5369040"/>
            <a:ext cx="1431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57480" y="-31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314960" y="-31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572080" y="-31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29560" y="-31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57480" y="-7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314960" y="-7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2080" y="-7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29560" y="-7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1"/>
          <a:stretch/>
        </p:blipFill>
        <p:spPr>
          <a:xfrm>
            <a:off x="1042920" y="1773360"/>
            <a:ext cx="7058160" cy="4581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206440" y="3068640"/>
            <a:ext cx="466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ыполн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рточку по жел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" action="ppaction://hlinkshowjump?jump=firstslide"/>
          </p:cNvPr>
          <p:cNvSpPr/>
          <p:nvPr/>
        </p:nvSpPr>
        <p:spPr>
          <a:xfrm>
            <a:off x="8244000" y="6237360"/>
            <a:ext cx="649080" cy="287280"/>
          </a:xfrm>
          <a:custGeom>
            <a:avLst/>
            <a:gdLst>
              <a:gd name="textAreaLeft" fmla="*/ 18360 w 649080"/>
              <a:gd name="textAreaRight" fmla="*/ 630720 w 64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69" h="21600">
                <a:moveTo>
                  <a:pt x="0" y="0"/>
                </a:moveTo>
                <a:lnTo>
                  <a:pt x="48769" y="0"/>
                </a:lnTo>
                <a:lnTo>
                  <a:pt x="48769" y="21600"/>
                </a:lnTo>
                <a:lnTo>
                  <a:pt x="0" y="21600"/>
                </a:lnTo>
                <a:close/>
              </a:path>
              <a:path fill="lightenLess" w="48769" h="21600">
                <a:moveTo>
                  <a:pt x="0" y="0"/>
                </a:moveTo>
                <a:lnTo>
                  <a:pt x="48769" y="0"/>
                </a:lnTo>
                <a:lnTo>
                  <a:pt x="47369" y="1400"/>
                </a:lnTo>
                <a:lnTo>
                  <a:pt x="1400" y="1400"/>
                </a:lnTo>
                <a:close/>
              </a:path>
              <a:path fill="darken" w="48769" h="21600">
                <a:moveTo>
                  <a:pt x="48769" y="0"/>
                </a:moveTo>
                <a:lnTo>
                  <a:pt x="48769" y="21600"/>
                </a:lnTo>
                <a:lnTo>
                  <a:pt x="47369" y="20200"/>
                </a:lnTo>
                <a:lnTo>
                  <a:pt x="47369" y="1400"/>
                </a:lnTo>
                <a:close/>
              </a:path>
              <a:path fill="darkenLess" w="48769" h="21600">
                <a:moveTo>
                  <a:pt x="4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69" y="20200"/>
                </a:lnTo>
                <a:close/>
              </a:path>
              <a:path fill="lighten" w="4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69" h="21600">
                <a:moveTo>
                  <a:pt x="20886" y="10800"/>
                </a:moveTo>
                <a:lnTo>
                  <a:pt x="31391" y="3794"/>
                </a:lnTo>
                <a:lnTo>
                  <a:pt x="31391" y="17806"/>
                </a:lnTo>
                <a:close/>
              </a:path>
              <a:path fill="darken" w="48769" h="21600">
                <a:moveTo>
                  <a:pt x="17378" y="3794"/>
                </a:moveTo>
                <a:lnTo>
                  <a:pt x="19040" y="3794"/>
                </a:lnTo>
                <a:lnTo>
                  <a:pt x="19040" y="17806"/>
                </a:lnTo>
                <a:lnTo>
                  <a:pt x="17378" y="1780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50000">
                <a:srgbClr val="fefefe"/>
              </a:gs>
              <a:gs pos="100000">
                <a:srgbClr val="00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16BA-2B9A-4BCD-9F86-71A7E5D9FE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2276280" cy="2400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2124000" y="260280"/>
            <a:ext cx="6804000" cy="2087640"/>
          </a:xfrm>
          <a:prstGeom prst="cloudCallout">
            <a:avLst>
              <a:gd name="adj1" fmla="val -21912"/>
              <a:gd name="adj2" fmla="val 116310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1db9"/>
                </a:solidFill>
                <a:latin typeface="Comic Sans MS"/>
              </a:rPr>
              <a:t>Прочитайте правильные дроби, неправильные дроби, смешан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5256360" cy="18716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524720" cy="15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0890"/>
                </a:solidFill>
                <a:latin typeface="Arial"/>
              </a:rPr>
              <a:t>Определите координаты точек                                        на луч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68BE-79E0-432E-9A55-46A4AFFE1A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395280" y="4797360"/>
            <a:ext cx="8496360" cy="0"/>
          </a:xfrm>
          <a:prstGeom prst="line">
            <a:avLst/>
          </a:prstGeom>
          <a:ln w="76320">
            <a:solidFill>
              <a:srgbClr val="100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395280" y="4581360"/>
            <a:ext cx="0" cy="432000"/>
          </a:xfrm>
          <a:prstGeom prst="line">
            <a:avLst/>
          </a:prstGeom>
          <a:ln w="5724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810108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971640" y="2708280"/>
            <a:ext cx="93636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56f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258920" y="32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500120" y="3786120"/>
            <a:ext cx="120600" cy="7225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745164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680400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85928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421164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615636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50872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356400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291636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97164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161928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226836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1"/>
          <p:cNvSpPr/>
          <p:nvPr/>
        </p:nvSpPr>
        <p:spPr>
          <a:xfrm>
            <a:off x="6929280" y="2143080"/>
            <a:ext cx="93672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56f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4857840" y="2000160"/>
            <a:ext cx="93636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56f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2857680" y="2214720"/>
            <a:ext cx="93636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56f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3214800" y="27147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0"/>
          <p:cNvSpPr/>
          <p:nvPr/>
        </p:nvSpPr>
        <p:spPr>
          <a:xfrm>
            <a:off x="5143680" y="2500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7215120" y="26431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2"/>
          <p:cNvSpPr/>
          <p:nvPr/>
        </p:nvSpPr>
        <p:spPr>
          <a:xfrm>
            <a:off x="971640" y="2708280"/>
            <a:ext cx="93636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31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4"/>
          <p:cNvSpPr/>
          <p:nvPr/>
        </p:nvSpPr>
        <p:spPr>
          <a:xfrm>
            <a:off x="2843280" y="220500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31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4859280" y="1989000"/>
            <a:ext cx="936720" cy="1008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31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6877080" y="213372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31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0"/>
          <p:cNvSpPr/>
          <p:nvPr/>
        </p:nvSpPr>
        <p:spPr>
          <a:xfrm>
            <a:off x="3429000" y="3286080"/>
            <a:ext cx="142920" cy="1143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3"/>
          <p:cNvSpPr/>
          <p:nvPr/>
        </p:nvSpPr>
        <p:spPr>
          <a:xfrm flipH="1">
            <a:off x="4859280" y="3071880"/>
            <a:ext cx="355680" cy="13651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4"/>
          <p:cNvSpPr/>
          <p:nvPr/>
        </p:nvSpPr>
        <p:spPr>
          <a:xfrm>
            <a:off x="7572240" y="3143160"/>
            <a:ext cx="527040" cy="1293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4"/>
          <p:cNvSpPr/>
          <p:nvPr/>
        </p:nvSpPr>
        <p:spPr>
          <a:xfrm>
            <a:off x="250920" y="5157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0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5"/>
          <p:cNvSpPr/>
          <p:nvPr/>
        </p:nvSpPr>
        <p:spPr>
          <a:xfrm>
            <a:off x="665964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0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-720" y="0"/>
            <a:ext cx="7451640" cy="2205000"/>
          </a:xfrm>
          <a:prstGeom prst="cloudCallout">
            <a:avLst>
              <a:gd name="adj1" fmla="val -27486"/>
              <a:gd name="adj2" fmla="val 113495"/>
            </a:avLst>
          </a:prstGeom>
          <a:solidFill>
            <a:srgbClr val="99ccff">
              <a:alpha val="48000"/>
            </a:srgbClr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Comic Sans MS"/>
              </a:rPr>
              <a:t>Теоретическая страни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922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4427640" cy="371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780000" y="3573360"/>
            <a:ext cx="2228760" cy="2762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140360" y="2924280"/>
            <a:ext cx="15112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ося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50890"/>
                </a:solidFill>
                <a:uFillTx/>
                <a:latin typeface="Courier New"/>
              </a:rPr>
              <a:t>Восстанови запи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9C3C-5149-475E-B42F-461539909B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24000" y="549360"/>
            <a:ext cx="8820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Числитель стоит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над</a:t>
            </a: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чертой и означает, сколько равных частей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взяли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от цел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Знаменатель стоит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под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 чертой и показывает, на сколько равных частей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разделили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ц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Дробь называется правильной, если числитель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меньше</a:t>
            </a:r>
            <a:r>
              <a:rPr b="1" lang="en-US" sz="2400" spc="-1" strike="noStrike">
                <a:solidFill>
                  <a:srgbClr val="04060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знамен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Дробь называется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неправильной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, если числитель больше или равен знамен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Неправильная дробь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больше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правильной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Из двух дробей с одинаковыми знаменателями больше та, у которой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числитель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Правильная дробь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меньше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Неправильная дробь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больше или равна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55640" y="620640"/>
            <a:ext cx="2521080" cy="720720"/>
            <a:chOff x="755640" y="620640"/>
            <a:chExt cx="2521080" cy="720720"/>
          </a:xfrm>
        </p:grpSpPr>
        <p:sp>
          <p:nvSpPr>
            <p:cNvPr id="119" name="Rectangle 5"/>
            <p:cNvSpPr/>
            <p:nvPr/>
          </p:nvSpPr>
          <p:spPr>
            <a:xfrm>
              <a:off x="2771640" y="620640"/>
              <a:ext cx="50508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755640" y="981000"/>
              <a:ext cx="79200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7"/>
          <p:cNvGrpSpPr/>
          <p:nvPr/>
        </p:nvGrpSpPr>
        <p:grpSpPr>
          <a:xfrm>
            <a:off x="1619280" y="1484280"/>
            <a:ext cx="2016000" cy="792360"/>
            <a:chOff x="1619280" y="1484280"/>
            <a:chExt cx="2016000" cy="792360"/>
          </a:xfrm>
        </p:grpSpPr>
        <p:sp>
          <p:nvSpPr>
            <p:cNvPr id="122" name="Rectangle 8"/>
            <p:cNvSpPr/>
            <p:nvPr/>
          </p:nvSpPr>
          <p:spPr>
            <a:xfrm>
              <a:off x="3059280" y="1484280"/>
              <a:ext cx="576000" cy="43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1619280" y="1916280"/>
              <a:ext cx="136836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10"/>
          <p:cNvSpPr/>
          <p:nvPr/>
        </p:nvSpPr>
        <p:spPr>
          <a:xfrm>
            <a:off x="6372360" y="2421000"/>
            <a:ext cx="107928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2916360" y="2997360"/>
            <a:ext cx="187164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3276720" y="3933720"/>
            <a:ext cx="100800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755640" y="4797360"/>
            <a:ext cx="136836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987640" y="5300640"/>
            <a:ext cx="107964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3276720" y="5877000"/>
            <a:ext cx="23749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1440000" cy="15130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H="1">
            <a:off x="611280" y="0"/>
            <a:ext cx="5689440" cy="2133720"/>
          </a:xfrm>
          <a:prstGeom prst="cloudCallout">
            <a:avLst>
              <a:gd name="adj1" fmla="val -32143"/>
              <a:gd name="adj2" fmla="val 113986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e1e1"/>
              </a:gs>
            </a:gsLst>
            <a:lin ang="5400000"/>
          </a:gradFill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Историческая справ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4500720" cy="40766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203640" y="3860640"/>
            <a:ext cx="222876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H="1">
            <a:off x="-720" y="0"/>
            <a:ext cx="7093080" cy="4941720"/>
          </a:xfrm>
          <a:prstGeom prst="cloudCallout">
            <a:avLst>
              <a:gd name="adj1" fmla="val -48212"/>
              <a:gd name="adj2" fmla="val 47555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e1e1"/>
              </a:gs>
            </a:gsLst>
            <a:lin ang="5400000"/>
          </a:gradFill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3336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Comic Sans MS"/>
              </a:rPr>
              <a:t>В русском языке слово «дробь» появилось в 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VIII</a:t>
            </a:r>
            <a:r>
              <a:rPr b="0" lang="ru-RU" sz="2000" spc="-1" strike="noStrike">
                <a:solidFill>
                  <a:srgbClr val="cc00ff"/>
                </a:solidFill>
                <a:latin typeface="Comic Sans MS"/>
              </a:rPr>
              <a:t> веке, оно происходит от глагола «дробить» - разбивать, ломать на части. В первых учебниках математики (в 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XVII</a:t>
            </a:r>
            <a:r>
              <a:rPr b="0" lang="ru-RU" sz="2000" spc="-1" strike="noStrike">
                <a:solidFill>
                  <a:srgbClr val="cc00ff"/>
                </a:solidFill>
                <a:latin typeface="Comic Sans MS"/>
              </a:rPr>
              <a:t> веке) дроби так и назывались – «ломанные числа». Умение оперировать дробями воспринималось как чудо. Поэтому всегда и везде знание дробей пользовалось особым почётом и ув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2376360" cy="1729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915240" y="3357720"/>
            <a:ext cx="2228760" cy="262872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3:14:14Z</dcterms:created>
  <dc:creator>IVKOVA</dc:creator>
  <dc:description/>
  <dc:language>en-US</dc:language>
  <cp:lastModifiedBy>Customer</cp:lastModifiedBy>
  <dcterms:modified xsi:type="dcterms:W3CDTF">2010-02-09T18:46:51Z</dcterms:modified>
  <cp:revision>121</cp:revision>
  <dc:subject/>
  <dc:title>Слайд 1</dc:title>
</cp:coreProperties>
</file>