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32A-E6DB-42A4-B1A5-935A0E67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632-318B-4AFF-AF61-0039951C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B3FE-7650-4E25-A315-47B5BE25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178-5697-43D4-BAD8-971C8AEC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A5F7-8527-46C7-AFDC-BB8C1975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B918-A5E3-4B4A-9175-6EC842F3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3EB9-4717-4506-8A63-C70F26B8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286E-1A27-4AA2-8ECD-DF0ECAC6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32F5-2D4B-49F3-A4CE-959C26B3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AF2D-0CFF-431F-A91F-AA4D7D09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7AEA-3228-4D56-B670-E2FC3741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DBF-1DD2-492A-B561-B28927C9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30C4-1EA7-4A58-A41C-9F0D0E82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2085-0560-4D07-B879-24F7727F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0C6E-0EFD-4C77-BD98-01038A6C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9FF0-9887-4EF2-83B4-E01F75C7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98F1-6FD0-465B-9968-2EBA3BE1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70A-A887-41B4-9AD9-D3D3DBCE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55A6-8697-4180-BC7E-6CB5102D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57D-E198-4042-96B3-C404F863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41BB-F773-4DB6-ADE5-DAEA9910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498-FD80-47DB-A952-52A35C24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1A17-6FBD-4075-854F-683E725F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1B7-FF50-4099-9DEA-A703277C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6655-0A1C-46E7-9F17-B2B246EF6B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35F0-149E-4242-8E6E-DF7F153E6B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706320" y="2487600"/>
            <a:ext cx="80773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pic>
        <p:nvPicPr>
          <p:cNvPr id="93" name="Диаграмма 3" descr=""/>
          <p:cNvPicPr/>
          <p:nvPr/>
        </p:nvPicPr>
        <p:blipFill>
          <a:blip r:embed="rId2"/>
          <a:stretch/>
        </p:blipFill>
        <p:spPr>
          <a:xfrm>
            <a:off x="1285920" y="1214280"/>
            <a:ext cx="707220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2" descr=""/>
          <p:cNvPicPr/>
          <p:nvPr/>
        </p:nvPicPr>
        <p:blipFill>
          <a:blip r:embed="rId2"/>
          <a:stretch/>
        </p:blipFill>
        <p:spPr>
          <a:xfrm>
            <a:off x="857160" y="1214280"/>
            <a:ext cx="7429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pic>
        <p:nvPicPr>
          <p:cNvPr id="97" name="Диаграмма 4" descr=""/>
          <p:cNvPicPr/>
          <p:nvPr/>
        </p:nvPicPr>
        <p:blipFill>
          <a:blip r:embed="rId2"/>
          <a:stretch/>
        </p:blipFill>
        <p:spPr>
          <a:xfrm>
            <a:off x="1000080" y="1357200"/>
            <a:ext cx="771516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3" descr=""/>
          <p:cNvPicPr/>
          <p:nvPr/>
        </p:nvPicPr>
        <p:blipFill>
          <a:blip r:embed="rId2"/>
          <a:stretch/>
        </p:blipFill>
        <p:spPr>
          <a:xfrm>
            <a:off x="1071720" y="1308240"/>
            <a:ext cx="771516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8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500040" y="1285920"/>
          <a:ext cx="7143840" cy="4914720"/>
        </p:xfrm>
        <a:graphic>
          <a:graphicData uri="http://schemas.openxmlformats.org/drawingml/2006/table">
            <a:tbl>
              <a:tblPr/>
              <a:tblGrid>
                <a:gridCol w="1214640"/>
                <a:gridCol w="5929200"/>
              </a:tblGrid>
              <a:tr h="7840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бухгал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 работе бухгалтера нужны сложение, вычитание, умножение, деление, подсчет процен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лого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оизвожу расчет статистических данных при анализе возрастных анатомических показателей гармоничного развития детей (рост, вес, окружность грудной клет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эк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офессия эколога очень тесно связана с математикой, так как все показатели загрязнения среды выражены количествен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арикмах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 стрижках и прическах могут быть разнообразные геометрические фигуры, формы, разные единицы дли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суд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Судье, как и математику, при рассмотрении дел надо решить задачу и получить верный ответ, путем анализа, выбора алгоритма и прийти к вывод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Знать устройство автомобиля, рассчитать скорость, расход топлива - для водителя главная задач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2"/>
          <p:cNvSpPr/>
          <p:nvPr/>
        </p:nvSpPr>
        <p:spPr>
          <a:xfrm>
            <a:off x="642960" y="1571760"/>
            <a:ext cx="807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Разве ты не заметил, что способный к математике изощрен во всех науках в природе? (Плат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атематика есть лучшее и даже единственное введение в изучение природы. (Д.И. Писаре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олет – это математика. (В. Чка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дохновение нужно в геометрии не меньше, чем в поэзии. (А.С. Пушк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атематику уже затем учить надо, что она ум в порядок приводит. (М.В. Ломонос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атематика - это язык, на котором говорят все точные науки. (Н.И. Лобаче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Цифры (числа) не управляют миром, но они показывают, как управляется мир. (И. Гет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920880" y="2146320"/>
            <a:ext cx="742464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347760" y="1444680"/>
            <a:ext cx="8570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853920" y="201600"/>
            <a:ext cx="7431120" cy="646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571680" y="214200"/>
            <a:ext cx="82152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ЗАДАЧИ ИССЛЕ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1. Подобрать необходимую литературу, проанализировать и систематизировать полученную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2. Собрать данные и обработать информацию о применении математических знаний в различных жизненных ситуациях, в различных професс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3. Составить математические задачи, связанные с профессиями, со здоровь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4. Провести анкетирование учащихся на выявление их отношения к математ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5. Провести опрос родителей о роли математики в их професс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6. Собрать высказывания великих людей о мате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7. Представить результаты работы одноклассн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7:23:27Z</dcterms:created>
  <dc:creator>Comp</dc:creator>
  <dc:description/>
  <dc:language>en-US</dc:language>
  <cp:lastModifiedBy>Дарья Борискова</cp:lastModifiedBy>
  <dcterms:modified xsi:type="dcterms:W3CDTF">2024-02-11T16:14:21Z</dcterms:modified>
  <cp:revision>22</cp:revision>
  <dc:subject/>
  <dc:title>Слайд 1</dc:title>
</cp:coreProperties>
</file>