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2EEC-00E3-4C7A-A99F-C4CB0EE00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ADCC-E0E1-4982-B13C-E2DF00BC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E5B8-4E87-4C1D-83F6-A51384809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88AE-443F-4352-B0E0-31F3C18A5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F55C-7A62-41E7-858E-BEF71AC4C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AF79-AA6C-4991-8051-3864AF65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61FB-575D-4B11-A2C3-2E1B8C91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EAFD-D512-48F7-8A82-E5DA41A6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E8D3-25A6-4B98-AA14-CEAD9F1E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33BE1-1BD9-41F1-BC21-D18A3754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7E9C1-DA6D-4FFA-A01E-B9592CCB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50CC-F1A9-4AD9-95EC-AC014178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CEE2-A920-4BA0-90B9-FEFFDC43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055C-5EB4-47D8-9DAF-89BDA4A0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F4758-9128-4885-BE71-AD26FD6F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FEC7E-51D9-4487-98B9-5F1233E92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FDA2-BA7F-48B3-9840-43D40DF98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27CE-EAF6-4398-ACEA-D39B15AA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5858-6E79-4CD4-A8FA-30161B7B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A670-0F00-475C-8E01-4BE41A6A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6516-5B5A-46EE-89AE-118E072D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2D83-A0B5-47DC-A337-382E6650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0661-B8E3-45CB-B845-468C2C9D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81D0-D12B-4AD7-B05D-A396B030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C4BB-EBA4-4929-A7F9-83C7F48C16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6696-B615-4017-B353-C7A142800E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706320" y="2487600"/>
            <a:ext cx="807732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71560"/>
          </a:xfrm>
          <a:prstGeom prst="rect">
            <a:avLst/>
          </a:prstGeom>
          <a:ln w="0">
            <a:noFill/>
          </a:ln>
        </p:spPr>
      </p:pic>
      <p:pic>
        <p:nvPicPr>
          <p:cNvPr id="93" name="Диаграмма 3" descr=""/>
          <p:cNvPicPr/>
          <p:nvPr/>
        </p:nvPicPr>
        <p:blipFill>
          <a:blip r:embed="rId2"/>
          <a:stretch/>
        </p:blipFill>
        <p:spPr>
          <a:xfrm>
            <a:off x="1285920" y="1214280"/>
            <a:ext cx="7072200" cy="49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71560"/>
          </a:xfrm>
          <a:prstGeom prst="rect">
            <a:avLst/>
          </a:prstGeom>
          <a:ln w="0">
            <a:noFill/>
          </a:ln>
        </p:spPr>
      </p:pic>
      <p:pic>
        <p:nvPicPr>
          <p:cNvPr id="95" name="Диаграмма 2" descr=""/>
          <p:cNvPicPr/>
          <p:nvPr/>
        </p:nvPicPr>
        <p:blipFill>
          <a:blip r:embed="rId2"/>
          <a:stretch/>
        </p:blipFill>
        <p:spPr>
          <a:xfrm>
            <a:off x="857160" y="1214280"/>
            <a:ext cx="7429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71560"/>
          </a:xfrm>
          <a:prstGeom prst="rect">
            <a:avLst/>
          </a:prstGeom>
          <a:ln w="0">
            <a:noFill/>
          </a:ln>
        </p:spPr>
      </p:pic>
      <p:pic>
        <p:nvPicPr>
          <p:cNvPr id="97" name="Диаграмма 4" descr=""/>
          <p:cNvPicPr/>
          <p:nvPr/>
        </p:nvPicPr>
        <p:blipFill>
          <a:blip r:embed="rId2"/>
          <a:stretch/>
        </p:blipFill>
        <p:spPr>
          <a:xfrm>
            <a:off x="1000080" y="1357200"/>
            <a:ext cx="7715160" cy="49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71560"/>
          </a:xfrm>
          <a:prstGeom prst="rect">
            <a:avLst/>
          </a:prstGeom>
          <a:ln w="0">
            <a:noFill/>
          </a:ln>
        </p:spPr>
      </p:pic>
      <p:pic>
        <p:nvPicPr>
          <p:cNvPr id="99" name="Диаграмма 3" descr=""/>
          <p:cNvPicPr/>
          <p:nvPr/>
        </p:nvPicPr>
        <p:blipFill>
          <a:blip r:embed="rId2"/>
          <a:stretch/>
        </p:blipFill>
        <p:spPr>
          <a:xfrm>
            <a:off x="1071720" y="1308240"/>
            <a:ext cx="7715160" cy="51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87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500040" y="1285920"/>
          <a:ext cx="7143840" cy="4914720"/>
        </p:xfrm>
        <a:graphic>
          <a:graphicData uri="http://schemas.openxmlformats.org/drawingml/2006/table">
            <a:tbl>
              <a:tblPr/>
              <a:tblGrid>
                <a:gridCol w="1214640"/>
                <a:gridCol w="5929200"/>
              </a:tblGrid>
              <a:tr h="78408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бухгалт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В работе бухгалтера нужны сложение, вычитание, умножение, деление, подсчет процент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логоп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Произвожу расчет статистических данных при анализе возрастных анатомических показателей гармоничного развития детей (рост, вес, окружность грудной клет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экол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Профессия эколога очень тесно связана с математикой, так как все показатели загрязнения среды выражены количественн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парикмах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В стрижках и прическах могут быть разнообразные геометрические фигуры, формы, разные единицы длин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суд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Судье, как и математику, при рассмотрении дел надо решить задачу и получить верный ответ, путем анализа, выбора алгоритма и прийти к выводу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вод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Знать устройство автомобиля, рассчитать скорость, расход топлива - для водителя главная задач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7156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2"/>
          <p:cNvSpPr/>
          <p:nvPr/>
        </p:nvSpPr>
        <p:spPr>
          <a:xfrm>
            <a:off x="642960" y="1571760"/>
            <a:ext cx="8072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Разве ты не заметил, что способный к математике изощрен во всех науках в природе? (Плато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Математика есть лучшее и даже единственное введение в изучение природы. (Д.И. Писаре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Полет – это математика. (В. Чкал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Вдохновение нужно в геометрии не меньше, чем в поэзии. (А.С. Пушк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Математику уже затем учить надо, что она ум в порядок приводит. (М.В. Ломонос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Математика - это язык, на котором говорят все точные науки. (Н.И. Лобачевск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Цифры (числа) не управляют миром, но они показывают, как управляется мир. (И. Гет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920880" y="2146320"/>
            <a:ext cx="742464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347760" y="1444680"/>
            <a:ext cx="857088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853920" y="201600"/>
            <a:ext cx="7431120" cy="6461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571680" y="214200"/>
            <a:ext cx="821520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ЗАДАЧИ ИССЛЕД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Calibri"/>
              </a:rPr>
              <a:t>1. Подобрать необходимую литературу, проанализировать и систематизировать полученную информац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Calibri"/>
              </a:rPr>
              <a:t>2. Собрать данные и обработать информацию о применении математических знаний в различных жизненных ситуациях, в различных професси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Calibri"/>
              </a:rPr>
              <a:t>3. Составить математические задачи, связанные с профессиями, со здоровь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Calibri"/>
              </a:rPr>
              <a:t>4. Провести анкетирование учащихся на выявление их отношения к математи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Calibri"/>
              </a:rPr>
              <a:t>5. Провести опрос родителей о роли математики в их професс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Calibri"/>
              </a:rPr>
              <a:t>6. Собрать высказывания великих людей о математ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Calibri"/>
              </a:rPr>
              <a:t>7. Представить результаты работы одноклассни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7:23:27Z</dcterms:created>
  <dc:creator>Comp</dc:creator>
  <dc:description/>
  <dc:language>en-US</dc:language>
  <cp:lastModifiedBy>Дарья Борискова</cp:lastModifiedBy>
  <dcterms:modified xsi:type="dcterms:W3CDTF">2024-02-11T16:14:21Z</dcterms:modified>
  <cp:revision>22</cp:revision>
  <dc:subject/>
  <dc:title>Слайд 1</dc:title>
</cp:coreProperties>
</file>