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0FC-F318-4C76-BBD2-2645F99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0A6-4D5F-45F7-8CA2-84F1E73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0EA-0FB0-4C87-A482-632EB2C3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64D-3211-40D2-9FA4-9BE78667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41F-B822-4971-822C-6EE1A49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9B8-B8F3-4F9D-ACB4-DE77A450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1F5-C615-4909-8DF9-103C513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D50-D271-41C1-905C-A5AC695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153-6874-44AF-8D21-30BA9D36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9C1-6D90-4622-96FE-5DE33CC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D14-EE32-4C7D-A53B-9DD3789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F58-0941-4D59-A89D-294973D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36BD-E114-4DF4-A9D5-4CFE8F9C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3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3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2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3200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ы материалы С.Салаватовой, взятые из газеты «Математика» №7, стр. 28 за 200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838080"/>
            <a:ext cx="677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Презентация составлена Вараксиной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9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сключите одно из чи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6002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3657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65760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1752480"/>
            <a:ext cx="1600200" cy="152424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4240"/>
              <a:gd name="textAreaBottom" fmla="*/ 11764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2ee61"/>
              </a:gs>
              <a:gs pos="50000">
                <a:srgbClr val="fefefe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819520"/>
            <a:ext cx="1600200" cy="152388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514600"/>
            <a:ext cx="1447560" cy="762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886200"/>
            <a:ext cx="14475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05520" y="2666880"/>
            <a:ext cx="114300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09880"/>
            <a:ext cx="121932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743960" y="4343400"/>
            <a:ext cx="1400040" cy="1995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5562720"/>
            <a:ext cx="3733920" cy="8251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х + 13 =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352680"/>
            <a:ext cx="2895840" cy="825120"/>
          </a:xfrm>
          <a:prstGeom prst="rect">
            <a:avLst/>
          </a:prstGeom>
          <a:gradFill rotWithShape="0">
            <a:gsLst>
              <a:gs pos="0">
                <a:srgbClr val="6df648"/>
              </a:gs>
              <a:gs pos="50000">
                <a:srgbClr val="fefefe"/>
              </a:gs>
              <a:gs pos="100000">
                <a:srgbClr val="6df648"/>
              </a:gs>
            </a:gsLst>
            <a:lin ang="5400000"/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1828800"/>
            <a:ext cx="1219320" cy="109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df64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505320"/>
            <a:ext cx="1219320" cy="109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df64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2438280"/>
            <a:ext cx="3581280" cy="1371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809880"/>
            <a:ext cx="3581280" cy="304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375400">
            <a:off x="3505680" y="2133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х + 5 = 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79000">
            <a:off x="3885840" y="41907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– х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467480" y="4191120"/>
            <a:ext cx="1676520" cy="2139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88400" y="3581280"/>
            <a:ext cx="72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7607600">
            <a:off x="7200720" y="3619800"/>
            <a:ext cx="914400" cy="990360"/>
          </a:xfrm>
          <a:prstGeom prst="cloudCallout">
            <a:avLst>
              <a:gd name="adj1" fmla="val -79712"/>
              <a:gd name="adj2" fmla="val 56611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2860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х – 6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8098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9 – 9х = -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9051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3623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3623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5053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9625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419720"/>
            <a:ext cx="60948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5053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9625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4197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539a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1981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2666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909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904160" y="4267080"/>
            <a:ext cx="1239840" cy="2109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467480" y="3505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39a4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4191120"/>
            <a:ext cx="685800" cy="0"/>
          </a:xfrm>
          <a:prstGeom prst="line">
            <a:avLst/>
          </a:prstGeom>
          <a:ln w="38160">
            <a:solidFill>
              <a:srgbClr val="f53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39a4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6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Квадр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743200"/>
            <a:ext cx="3810240" cy="1143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х + 11 = х +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267080"/>
            <a:ext cx="3886200" cy="990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х – 7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2743200"/>
            <a:ext cx="121932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276720"/>
            <a:ext cx="2361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800600"/>
            <a:ext cx="2362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67080"/>
            <a:ext cx="1219320" cy="1067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flipH="1">
            <a:off x="5638680" y="5181480"/>
            <a:ext cx="14479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62920" y="4419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>
            <a:off x="6400800" y="3886200"/>
            <a:ext cx="990720" cy="106668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e9fa12"/>
              </a:gs>
              <a:gs pos="50000">
                <a:srgbClr val="ffffff"/>
              </a:gs>
              <a:gs pos="100000">
                <a:srgbClr val="e9fa12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мите неизвест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3429000" cy="1066680"/>
          </a:xfrm>
          <a:prstGeom prst="ellipse">
            <a:avLst/>
          </a:prstGeom>
          <a:gradFill rotWithShape="0">
            <a:gsLst>
              <a:gs pos="0">
                <a:srgbClr val="fb5fda"/>
              </a:gs>
              <a:gs pos="50000">
                <a:srgbClr val="ffffff"/>
              </a:gs>
              <a:gs pos="100000">
                <a:srgbClr val="fb5fda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3 – 2х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057400"/>
            <a:ext cx="3429000" cy="1066680"/>
          </a:xfrm>
          <a:prstGeom prst="ellipse">
            <a:avLst/>
          </a:prstGeom>
          <a:gradFill rotWithShape="0">
            <a:gsLst>
              <a:gs pos="0">
                <a:srgbClr val="fb5fda"/>
              </a:gs>
              <a:gs pos="50000">
                <a:srgbClr val="ffffff"/>
              </a:gs>
              <a:gs pos="100000">
                <a:srgbClr val="fb5fda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х – 36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7339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930680" cy="197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7339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038480" y="3886200"/>
            <a:ext cx="990720" cy="990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4413200">
            <a:off x="4038120" y="2971440"/>
            <a:ext cx="990720" cy="83808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e3f7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9f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057400"/>
            <a:ext cx="990720" cy="990720"/>
          </a:xfrm>
          <a:prstGeom prst="irregularSeal2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72400" y="4876920"/>
            <a:ext cx="1371600" cy="1463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9480" y="236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2х – 1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 – х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15 – 2х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х – 7 = 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312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5 – 3х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х + 7 =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3962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962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rot="16951200">
            <a:off x="7570080" y="4164120"/>
            <a:ext cx="762120" cy="966960"/>
          </a:xfrm>
          <a:prstGeom prst="cloudCallout">
            <a:avLst>
              <a:gd name="adj1" fmla="val -90731"/>
              <a:gd name="adj2" fmla="val 45981"/>
            </a:avLst>
          </a:prstGeom>
          <a:solidFill>
            <a:srgbClr val="00ff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429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4197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2362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– х 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2767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х + 7 =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2670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– 7х =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0120" y="632448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447920" cy="20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391520" y="42670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две звёздочки «приходится» число 10, значит, на одну звёздочку «приходится» число 5, луна и звёздочка вместе составляют 9, следовательно, на одну луну «приходится» 4, а на две луны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ешения задания 1 нужно сделать вывод по аналогии. Посмотрите внимательно на строение первой строки задания: как связаны слово «математика» и число 10. Установите эту связь и примените ко второй строке. 7 – количество букв в слове «алгеб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авнение 3х – 27 = 0 имеет корнем 9 – число букв в слове «уравнени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19320" y="1371600"/>
            <a:ext cx="6858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нируем мышление: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.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5105520"/>
            <a:ext cx="2714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- 7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102852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866960" cy="125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419720" y="41148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286000" y="35053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математика2"/>
          <p:cNvPicPr/>
          <p:nvPr/>
        </p:nvPicPr>
        <p:blipFill>
          <a:blip r:embed="rId8"/>
          <a:stretch/>
        </p:blipFill>
        <p:spPr>
          <a:xfrm>
            <a:off x="6815160" y="3962520"/>
            <a:ext cx="2328840" cy="239544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4674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5, Д – пятая буква алфав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данного уравнения 4. Д – пятая буква в алфав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МОЛО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6, х = 7; исключаем, соответственно 6-ю и 7-ю буквы из слова «молоток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ятиконечная звезда стоит рядом с уравнением, корень которого равен числу пять, следовательно, четырёхзначную звезду надо соединить уравнением, имеющим корень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5238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х – 18 = - 2х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число не делится на 3 (корень уравнения 2х + 13 = 19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уравнения 9 – х = 5 равен 4. В данном слове четвёртая буква 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пестков 6; корень уравнения  - число 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90720" y="762120"/>
                <a:ext cx="1218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ень второго уравнения равен 5. Р – пятая буква в слове квадр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рни данных уравнений соответственно равны числам 21 и 12, то есть состоят из тех же цифр, но записанных в обратном порядке, получим искомое сло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ность корней данных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17647200">
            <a:off x="6743520" y="4152960"/>
            <a:ext cx="838080" cy="1219320"/>
          </a:xfrm>
          <a:prstGeom prst="cloudCallout">
            <a:avLst>
              <a:gd name="adj1" fmla="val -19416"/>
              <a:gd name="adj2" fmla="val 9657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828800"/>
            <a:ext cx="99036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419720"/>
            <a:ext cx="99072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419720"/>
            <a:ext cx="99036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efefe"/>
              </a:gs>
              <a:gs pos="100000">
                <a:srgbClr val="dfee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895480"/>
            <a:ext cx="1447560" cy="121932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2895480"/>
            <a:ext cx="1447920" cy="121932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676520"/>
            <a:ext cx="1447920" cy="1218960"/>
          </a:xfrm>
          <a:prstGeom prst="star5">
            <a:avLst/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18288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42670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1240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602480" y="4648320"/>
            <a:ext cx="1541520" cy="1776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4267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2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 «РОМ» получено из слова «РОМБ» исключением четвёртой буквы. По аналогии с первой и второй строчками заданий число 4 – корень данного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06200" y="23652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17560" cy="2060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371600" y="2362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Найдите неизвестное чис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352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42670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51055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М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352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Х – 1 = 3Х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1148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Х + 6 = 8Х 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5029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Х – 2 =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72400" y="3352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2400" y="4114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4952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firstslide"/>
          </p:cNvPr>
          <p:cNvSpPr/>
          <p:nvPr/>
        </p:nvSpPr>
        <p:spPr>
          <a:xfrm>
            <a:off x="8153280" y="62485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8114" y="10800"/>
                </a:moveTo>
                <a:lnTo>
                  <a:pt x="28619" y="3794"/>
                </a:lnTo>
                <a:lnTo>
                  <a:pt x="28619" y="17806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16269" y="3794"/>
                </a:lnTo>
                <a:lnTo>
                  <a:pt x="16269" y="17806"/>
                </a:lnTo>
                <a:lnTo>
                  <a:pt x="14606" y="17806"/>
                </a:lnTo>
                <a:close/>
              </a:path>
            </a:pathLst>
          </a:custGeom>
          <a:solidFill>
            <a:srgbClr val="30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4120" y="4267080"/>
            <a:ext cx="1904760" cy="68580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59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962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алгеб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590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flipH="1">
            <a:off x="3809520" y="4834080"/>
            <a:ext cx="1676520" cy="202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791320"/>
            <a:ext cx="990360" cy="7808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191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590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кор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8862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урав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2743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 –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886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 -  ? 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99036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46960" y="3352680"/>
            <a:ext cx="169704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513480" y="3709800"/>
            <a:ext cx="762120" cy="990360"/>
          </a:xfrm>
          <a:prstGeom prst="cloudCallout">
            <a:avLst>
              <a:gd name="adj1" fmla="val -41467"/>
              <a:gd name="adj2" fmla="val 66407"/>
            </a:avLst>
          </a:prstGeom>
          <a:gradFill rotWithShape="0">
            <a:gsLst>
              <a:gs pos="0">
                <a:srgbClr val="ecec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81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   Б   В   Г   Д   Е   Ё   Ж   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971800"/>
            <a:ext cx="4419720" cy="1295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х + 11 = х +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572000"/>
            <a:ext cx="4419720" cy="1295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х – 7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581280"/>
            <a:ext cx="22860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1524240" cy="13716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4267080"/>
            <a:ext cx="1524240" cy="13716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257800"/>
            <a:ext cx="243828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572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24680" y="5334120"/>
            <a:ext cx="1400400" cy="123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6076800"/>
            <a:ext cx="990720" cy="7812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48720" y="6491160"/>
            <a:ext cx="129528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ую букв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4191120" cy="1066680"/>
          </a:xfrm>
          <a:prstGeom prst="ellipse">
            <a:avLst/>
          </a:prstGeom>
          <a:gradFill rotWithShape="0">
            <a:gsLst>
              <a:gs pos="0">
                <a:srgbClr val="22ee61"/>
              </a:gs>
              <a:gs pos="50000">
                <a:srgbClr val="ffffff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438280"/>
            <a:ext cx="3809880" cy="1067040"/>
          </a:xfrm>
          <a:prstGeom prst="ellipse">
            <a:avLst/>
          </a:prstGeom>
          <a:gradFill rotWithShape="0">
            <a:gsLst>
              <a:gs pos="0">
                <a:srgbClr val="22ee61"/>
              </a:gs>
              <a:gs pos="50000">
                <a:srgbClr val="ffffff"/>
              </a:gs>
              <a:gs pos="100000">
                <a:srgbClr val="22ee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743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х + 11 = х +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х - 7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88620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f14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f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88620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f14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4f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990360" cy="780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53080" y="4191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5200" y="4267080"/>
            <a:ext cx="18288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неизвестн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76520"/>
            <a:ext cx="3353040" cy="1630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х – 5 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– 2х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3276720" cy="1630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 + 4  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 – 2х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581280"/>
            <a:ext cx="3048120" cy="914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Мол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828800"/>
            <a:ext cx="3048120" cy="9144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М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505320"/>
            <a:ext cx="2362320" cy="7034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86200" y="2361960"/>
            <a:ext cx="175248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3886200"/>
            <a:ext cx="220968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43800" y="4191120"/>
            <a:ext cx="1600200" cy="1996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076800"/>
            <a:ext cx="914400" cy="781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3320" y="350532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о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6765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– 13,5 =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219320"/>
            <a:ext cx="1676520" cy="1447560"/>
          </a:xfrm>
          <a:prstGeom prst="star5">
            <a:avLst/>
          </a:prstGeom>
          <a:gradFill rotWithShape="0">
            <a:gsLst>
              <a:gs pos="0">
                <a:srgbClr val="6cf496"/>
              </a:gs>
              <a:gs pos="100000">
                <a:srgbClr val="317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2ee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124080"/>
            <a:ext cx="1447560" cy="1981440"/>
          </a:xfrm>
          <a:custGeom>
            <a:avLst/>
            <a:gdLst>
              <a:gd name="textAreaLeft" fmla="*/ 596520 w 1447560"/>
              <a:gd name="textAreaRight" fmla="*/ 851040 w 1447560"/>
              <a:gd name="textAreaTop" fmla="*/ 816480 h 1981440"/>
              <a:gd name="textAreaBottom" fmla="*/ 1164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666d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429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+ х = 12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267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х – 18 = - 2х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акое из четырёх уравнений надо выбр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990720" cy="7812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467480" y="6172200"/>
            <a:ext cx="129564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9-08-15T16:33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