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wmf" ContentType="image/x-wmf"/>
  <Override PartName="/ppt/media/image3.gif" ContentType="image/gif"/>
  <Override PartName="/ppt/media/image6.wmf" ContentType="image/x-wmf"/>
  <Override PartName="/ppt/media/image11.wmf" ContentType="image/x-wmf"/>
  <Override PartName="/ppt/media/image5.wmf" ContentType="image/x-wmf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media/image13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3049-D374-4050-BD30-86334BBF5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79C6-86D5-4F44-91A1-C1E2BCDD0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3A78-52C5-4579-A5DE-450E3B5AE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4308-7FB7-4281-A835-6CB315E72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BB44-BE65-40CE-A703-3EB1617DA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0AD1-0043-4269-AF40-A7947B87D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9D24-9202-4AC6-83C7-9CD6F9094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310B-3D8C-4D96-9CEB-339C9A250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C9BD-2CB3-4BA0-BE83-D1655D865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381C-40F5-41E3-85A4-AC09F62B4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9E7D-B37A-4F92-B63A-8E250FE8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11EA-6548-4940-94C8-5D0B123DD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D73A1-6B31-4674-86F7-647780813C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image" Target="../media/image3.gi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image" Target="../media/image3.gi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image" Target="../media/image3.gi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3.gi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" Target="slide18.xml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3.gi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" Target="slide20.xml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image" Target="../media/image3.gi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" Target="slide22.xml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533520" y="3200400"/>
            <a:ext cx="76960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работ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пользованы материалы С.Салаватовой, взятые из газеты «Математика» №7, стр. 28 за 2003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838080"/>
            <a:ext cx="6770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6600cc"/>
                </a:solidFill>
                <a:latin typeface="Arial"/>
                <a:ea typeface="Arial"/>
              </a:rPr>
              <a:t>Презентация составлена Вараксиной И.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  <a:ea typeface="Arial"/>
              </a:rPr>
              <a:t>МОУ Целинная СОШ, п. Целинный, Челябинская обла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" action="ppaction://hlinkshowjump?jump=nextslide"/>
          </p:cNvPr>
          <p:cNvSpPr/>
          <p:nvPr/>
        </p:nvSpPr>
        <p:spPr>
          <a:xfrm>
            <a:off x="7696080" y="6324480"/>
            <a:ext cx="1295640" cy="368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fefefe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00400" y="61722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009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Исключите одно из чисе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43000" y="1600200"/>
            <a:ext cx="1600200" cy="1523880"/>
          </a:xfrm>
          <a:custGeom>
            <a:avLst/>
            <a:gdLst>
              <a:gd name="textAreaLeft" fmla="*/ 365040 w 1600200"/>
              <a:gd name="textAreaRight" fmla="*/ 1235160 w 1600200"/>
              <a:gd name="textAreaTop" fmla="*/ 347760 h 1523880"/>
              <a:gd name="textAreaBottom" fmla="*/ 117612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22ee61"/>
              </a:gs>
              <a:gs pos="50000">
                <a:srgbClr val="fefefe"/>
              </a:gs>
              <a:gs pos="100000">
                <a:srgbClr val="22ee61"/>
              </a:gs>
            </a:gsLst>
            <a:lin ang="5400000"/>
          </a:gra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248520" y="3657600"/>
            <a:ext cx="1600200" cy="1523880"/>
          </a:xfrm>
          <a:custGeom>
            <a:avLst/>
            <a:gdLst>
              <a:gd name="textAreaLeft" fmla="*/ 365040 w 1600200"/>
              <a:gd name="textAreaRight" fmla="*/ 1235160 w 1600200"/>
              <a:gd name="textAreaTop" fmla="*/ 347760 h 1523880"/>
              <a:gd name="textAreaBottom" fmla="*/ 117612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22ee61"/>
              </a:gs>
              <a:gs pos="50000">
                <a:srgbClr val="fefefe"/>
              </a:gs>
              <a:gs pos="100000">
                <a:srgbClr val="22ee61"/>
              </a:gs>
            </a:gsLst>
            <a:lin ang="5400000"/>
          </a:gra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43000" y="3657600"/>
            <a:ext cx="1600200" cy="1523880"/>
          </a:xfrm>
          <a:custGeom>
            <a:avLst/>
            <a:gdLst>
              <a:gd name="textAreaLeft" fmla="*/ 365040 w 1600200"/>
              <a:gd name="textAreaRight" fmla="*/ 1235160 w 1600200"/>
              <a:gd name="textAreaTop" fmla="*/ 347760 h 1523880"/>
              <a:gd name="textAreaBottom" fmla="*/ 117612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22ee61"/>
              </a:gs>
              <a:gs pos="50000">
                <a:srgbClr val="fefefe"/>
              </a:gs>
              <a:gs pos="100000">
                <a:srgbClr val="22ee61"/>
              </a:gs>
            </a:gsLst>
            <a:lin ang="5400000"/>
          </a:gra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2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95880" y="1752480"/>
            <a:ext cx="1600200" cy="1524240"/>
          </a:xfrm>
          <a:custGeom>
            <a:avLst/>
            <a:gdLst>
              <a:gd name="textAreaLeft" fmla="*/ 365040 w 1600200"/>
              <a:gd name="textAreaRight" fmla="*/ 1235160 w 1600200"/>
              <a:gd name="textAreaTop" fmla="*/ 347760 h 1524240"/>
              <a:gd name="textAreaBottom" fmla="*/ 117648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22ee61"/>
              </a:gs>
              <a:gs pos="50000">
                <a:srgbClr val="fefefe"/>
              </a:gs>
              <a:gs pos="100000">
                <a:srgbClr val="22ee61"/>
              </a:gs>
            </a:gsLst>
            <a:lin ang="5400000"/>
          </a:gra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3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9880" y="2819520"/>
            <a:ext cx="1600200" cy="1523880"/>
          </a:xfrm>
          <a:custGeom>
            <a:avLst/>
            <a:gdLst>
              <a:gd name="textAreaLeft" fmla="*/ 365040 w 1600200"/>
              <a:gd name="textAreaRight" fmla="*/ 1235160 w 1600200"/>
              <a:gd name="textAreaTop" fmla="*/ 347760 h 1523880"/>
              <a:gd name="textAreaBottom" fmla="*/ 117612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50000">
                <a:srgbClr val="fefefe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90920" y="2514600"/>
            <a:ext cx="1447560" cy="7621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590920" y="3886200"/>
            <a:ext cx="1447560" cy="457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5105520" y="2666880"/>
            <a:ext cx="1143000" cy="5335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81480" y="3809880"/>
            <a:ext cx="1219320" cy="5335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5867280"/>
            <a:ext cx="914400" cy="781200"/>
          </a:xfrm>
          <a:prstGeom prst="rect">
            <a:avLst/>
          </a:prstGeom>
          <a:ln w="0">
            <a:noFill/>
          </a:ln>
        </p:spPr>
      </p:pic>
      <p:sp>
        <p:nvSpPr>
          <p:cNvPr id="147" name="">
            <a:hlinkClick r:id="" action="ppaction://hlinkshowjump?jump=nextslide"/>
          </p:cNvPr>
          <p:cNvSpPr/>
          <p:nvPr/>
        </p:nvSpPr>
        <p:spPr>
          <a:xfrm>
            <a:off x="7620120" y="6324480"/>
            <a:ext cx="1295280" cy="368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fefefe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7743960" y="4343400"/>
            <a:ext cx="1400040" cy="19954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743200" y="5562720"/>
            <a:ext cx="3733920" cy="82512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50000">
                <a:srgbClr val="fefefe"/>
              </a:gs>
              <a:gs pos="100000">
                <a:srgbClr val="66ffff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2х + 13 = 1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5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animClr clrSpc="rgb">
                                      <p:cBhvr>
                                        <p:cTn id="66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6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6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9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Найдите неизвестную букв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3352680"/>
            <a:ext cx="2895840" cy="825120"/>
          </a:xfrm>
          <a:prstGeom prst="rect">
            <a:avLst/>
          </a:prstGeom>
          <a:gradFill rotWithShape="0">
            <a:gsLst>
              <a:gs pos="0">
                <a:srgbClr val="6df648"/>
              </a:gs>
              <a:gs pos="50000">
                <a:srgbClr val="fefefe"/>
              </a:gs>
              <a:gs pos="100000">
                <a:srgbClr val="6df648"/>
              </a:gs>
            </a:gsLst>
            <a:lin ang="5400000"/>
          </a:gradFill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Arial"/>
              </a:rPr>
              <a:t>Квадра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0" y="1828800"/>
            <a:ext cx="1219320" cy="10994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6df648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8000"/>
                </a:solidFill>
                <a:latin typeface="Arial"/>
              </a:rPr>
              <a:t>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3505320"/>
            <a:ext cx="1219320" cy="10994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6df648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8000"/>
                </a:solidFill>
                <a:latin typeface="Arial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3276720" y="2438280"/>
            <a:ext cx="3581280" cy="13716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76720" y="3809880"/>
            <a:ext cx="3581280" cy="30492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20375400">
            <a:off x="3505680" y="213336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х + 5 = 6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279000">
            <a:off x="3885840" y="419076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 – х =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5867280"/>
            <a:ext cx="914400" cy="781200"/>
          </a:xfrm>
          <a:prstGeom prst="rect">
            <a:avLst/>
          </a:prstGeom>
          <a:ln w="0">
            <a:noFill/>
          </a:ln>
        </p:spPr>
      </p:pic>
      <p:sp>
        <p:nvSpPr>
          <p:cNvPr id="159" name="">
            <a:hlinkClick r:id="" action="ppaction://hlinkshowjump?jump=nextslide"/>
          </p:cNvPr>
          <p:cNvSpPr/>
          <p:nvPr/>
        </p:nvSpPr>
        <p:spPr>
          <a:xfrm>
            <a:off x="7620120" y="6324480"/>
            <a:ext cx="1295280" cy="368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fefefe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7467480" y="4191120"/>
            <a:ext cx="1676520" cy="21398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7088400" y="3581280"/>
            <a:ext cx="723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 rot="17607600">
            <a:off x="7200720" y="3619800"/>
            <a:ext cx="914400" cy="990360"/>
          </a:xfrm>
          <a:prstGeom prst="cloudCallout">
            <a:avLst>
              <a:gd name="adj1" fmla="val -79712"/>
              <a:gd name="adj2" fmla="val 56611"/>
            </a:avLst>
          </a:prstGeom>
          <a:gradFill rotWithShape="0">
            <a:gsLst>
              <a:gs pos="0">
                <a:srgbClr val="fefefe"/>
              </a:gs>
              <a:gs pos="100000">
                <a:srgbClr val="dfee1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539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Найдите неизвестное числ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971800" y="228600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х – 6 =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48120" y="380988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9 – 9х = - 2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219320" y="1905120"/>
            <a:ext cx="609480" cy="5331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539a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539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14400" y="2362320"/>
            <a:ext cx="609480" cy="5331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539a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539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523880" y="2362320"/>
            <a:ext cx="609840" cy="5331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539a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539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14400" y="3505320"/>
            <a:ext cx="609480" cy="5331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539a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539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09480" y="3962520"/>
            <a:ext cx="609840" cy="5331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539a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539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14400" y="4419720"/>
            <a:ext cx="609480" cy="5331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539a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539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23880" y="3505320"/>
            <a:ext cx="609840" cy="5331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539a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539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52480" y="3962520"/>
            <a:ext cx="609840" cy="5331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539a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539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23880" y="4419720"/>
            <a:ext cx="609840" cy="5331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539a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539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5867280"/>
            <a:ext cx="914400" cy="781200"/>
          </a:xfrm>
          <a:prstGeom prst="rect">
            <a:avLst/>
          </a:prstGeom>
          <a:ln w="0">
            <a:noFill/>
          </a:ln>
        </p:spPr>
      </p:pic>
      <p:sp>
        <p:nvSpPr>
          <p:cNvPr id="176" name="">
            <a:hlinkClick r:id="" action="ppaction://hlinkshowjump?jump=nextslide"/>
          </p:cNvPr>
          <p:cNvSpPr/>
          <p:nvPr/>
        </p:nvSpPr>
        <p:spPr>
          <a:xfrm>
            <a:off x="7620120" y="6324480"/>
            <a:ext cx="1295280" cy="368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fefefe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543800" y="198108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467480" y="26668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43800" y="259092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543800" y="380988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7904160" y="4267080"/>
            <a:ext cx="1239840" cy="21099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7467480" y="350532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539a4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391520" y="4191120"/>
            <a:ext cx="685800" cy="0"/>
          </a:xfrm>
          <a:prstGeom prst="line">
            <a:avLst/>
          </a:prstGeom>
          <a:ln w="38160">
            <a:solidFill>
              <a:srgbClr val="f539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467480" y="411480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539a4"/>
                </a:solidFill>
                <a:latin typeface="Arial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Найдите неизвестную букв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43200" y="16002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Arial"/>
              </a:rPr>
              <a:t>Квадра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2743200"/>
            <a:ext cx="3810240" cy="114300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50000">
                <a:srgbClr val="fefefe"/>
              </a:gs>
              <a:gs pos="100000">
                <a:srgbClr val="00ff00"/>
              </a:gs>
            </a:gsLst>
            <a:lin ang="5400000"/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5х + 11 = х +1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4267080"/>
            <a:ext cx="3886200" cy="9907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50000">
                <a:srgbClr val="fefefe"/>
              </a:gs>
              <a:gs pos="100000">
                <a:srgbClr val="00ff00"/>
              </a:gs>
            </a:gsLst>
            <a:lin ang="5400000"/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3х – 7=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781680" y="2743200"/>
            <a:ext cx="1219320" cy="1066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419720" y="3276720"/>
            <a:ext cx="236196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495680" y="4800600"/>
            <a:ext cx="23623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0" y="4267080"/>
            <a:ext cx="1219320" cy="10670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93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28600" y="5867280"/>
            <a:ext cx="914400" cy="781200"/>
          </a:xfrm>
          <a:prstGeom prst="rect">
            <a:avLst/>
          </a:prstGeom>
          <a:ln w="0">
            <a:noFill/>
          </a:ln>
        </p:spPr>
      </p:pic>
      <p:sp>
        <p:nvSpPr>
          <p:cNvPr id="194" name="">
            <a:hlinkClick r:id="" action="ppaction://hlinkshowjump?jump=nextslide"/>
          </p:cNvPr>
          <p:cNvSpPr/>
          <p:nvPr/>
        </p:nvSpPr>
        <p:spPr>
          <a:xfrm>
            <a:off x="7620120" y="6324480"/>
            <a:ext cx="1295280" cy="368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fefefe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 flipH="1">
            <a:off x="5638680" y="5181480"/>
            <a:ext cx="1447920" cy="16765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7162920" y="441972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 flipH="1">
            <a:off x="6400800" y="3886200"/>
            <a:ext cx="990720" cy="1066680"/>
          </a:xfrm>
          <a:prstGeom prst="cloudCallout">
            <a:avLst>
              <a:gd name="adj1" fmla="val -43750"/>
              <a:gd name="adj2" fmla="val 70000"/>
            </a:avLst>
          </a:prstGeom>
          <a:gradFill rotWithShape="0">
            <a:gsLst>
              <a:gs pos="0">
                <a:srgbClr val="e9fa12"/>
              </a:gs>
              <a:gs pos="50000">
                <a:srgbClr val="ffffff"/>
              </a:gs>
              <a:gs pos="100000">
                <a:srgbClr val="e9fa12"/>
              </a:gs>
            </a:gsLst>
            <a:lin ang="5400000"/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2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Наймите неизвестное сло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2057400"/>
            <a:ext cx="3429000" cy="1066680"/>
          </a:xfrm>
          <a:prstGeom prst="ellipse">
            <a:avLst/>
          </a:prstGeom>
          <a:gradFill rotWithShape="0">
            <a:gsLst>
              <a:gs pos="0">
                <a:srgbClr val="fb5fda"/>
              </a:gs>
              <a:gs pos="50000">
                <a:srgbClr val="ffffff"/>
              </a:gs>
              <a:gs pos="100000">
                <a:srgbClr val="fb5fda"/>
              </a:gs>
            </a:gsLst>
            <a:lin ang="54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43 – 2х =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800600" y="2057400"/>
            <a:ext cx="3429000" cy="1066680"/>
          </a:xfrm>
          <a:prstGeom prst="ellipse">
            <a:avLst/>
          </a:prstGeom>
          <a:gradFill rotWithShape="0">
            <a:gsLst>
              <a:gs pos="0">
                <a:srgbClr val="fb5fda"/>
              </a:gs>
              <a:gs pos="50000">
                <a:srgbClr val="ffffff"/>
              </a:gs>
              <a:gs pos="100000">
                <a:srgbClr val="fb5fda"/>
              </a:gs>
            </a:gsLst>
            <a:lin ang="54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3х – 36 = 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38080" y="373392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КО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62720" y="380988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28600" y="5867280"/>
            <a:ext cx="914400" cy="781200"/>
          </a:xfrm>
          <a:prstGeom prst="rect">
            <a:avLst/>
          </a:prstGeom>
          <a:ln w="0">
            <a:noFill/>
          </a:ln>
        </p:spPr>
      </p:pic>
      <p:sp>
        <p:nvSpPr>
          <p:cNvPr id="204" name="">
            <a:hlinkClick r:id="" action="ppaction://hlinkshowjump?jump=nextslide"/>
          </p:cNvPr>
          <p:cNvSpPr/>
          <p:nvPr/>
        </p:nvSpPr>
        <p:spPr>
          <a:xfrm>
            <a:off x="7620120" y="6324480"/>
            <a:ext cx="1295280" cy="368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fefefe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7010280" y="4267080"/>
            <a:ext cx="1930680" cy="19717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562720" y="373392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ТО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038480" y="3886200"/>
            <a:ext cx="990720" cy="990720"/>
          </a:xfrm>
          <a:prstGeom prst="irregularSeal2">
            <a:avLst/>
          </a:pr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14413200">
            <a:off x="4038120" y="2971440"/>
            <a:ext cx="990720" cy="838080"/>
          </a:xfrm>
          <a:prstGeom prst="irregularSeal2">
            <a:avLst/>
          </a:prstGeom>
          <a:gradFill rotWithShape="0">
            <a:gsLst>
              <a:gs pos="0">
                <a:srgbClr val="fefefe"/>
              </a:gs>
              <a:gs pos="100000">
                <a:srgbClr val="e3f76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9fa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038480" y="2057400"/>
            <a:ext cx="990720" cy="990720"/>
          </a:xfrm>
          <a:prstGeom prst="irregularSeal2">
            <a:avLst/>
          </a:prstGeom>
          <a:gradFill rotWithShape="0">
            <a:gsLst>
              <a:gs pos="0">
                <a:srgbClr val="fefefe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3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Найдите неизвестное числ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228600" y="5867280"/>
            <a:ext cx="914400" cy="781200"/>
          </a:xfrm>
          <a:prstGeom prst="rect">
            <a:avLst/>
          </a:prstGeom>
          <a:ln w="0">
            <a:noFill/>
          </a:ln>
        </p:spPr>
      </p:pic>
      <p:sp>
        <p:nvSpPr>
          <p:cNvPr id="213" name="">
            <a:hlinkClick r:id="" action="ppaction://hlinkshowjump?jump=nextslide"/>
          </p:cNvPr>
          <p:cNvSpPr/>
          <p:nvPr/>
        </p:nvSpPr>
        <p:spPr>
          <a:xfrm>
            <a:off x="7620120" y="6324480"/>
            <a:ext cx="1295280" cy="368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fefefe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7772400" y="4876920"/>
            <a:ext cx="1371600" cy="14634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609480" y="23623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2х – 1 = 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85800" y="31240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8 – х =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33520" y="38862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15 – 2х = 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867280" y="22860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5х – 7 = 3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867280" y="31240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5 – 3х =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867280" y="39625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8х + 7 = 2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343400" y="39625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343400" y="304812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343400" y="22096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191120" y="396252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 rot="16951200">
            <a:off x="7570080" y="4164120"/>
            <a:ext cx="762120" cy="966960"/>
          </a:xfrm>
          <a:prstGeom prst="cloudCallout">
            <a:avLst>
              <a:gd name="adj1" fmla="val -90731"/>
              <a:gd name="adj2" fmla="val 45981"/>
            </a:avLst>
          </a:prstGeom>
          <a:solidFill>
            <a:srgbClr val="00ff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4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Найдите неизвестное числ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33520" y="2286000"/>
            <a:ext cx="213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Arial"/>
              </a:rPr>
              <a:t>метр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3429000"/>
            <a:ext cx="213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Arial"/>
              </a:rPr>
              <a:t>окру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33520" y="4419720"/>
            <a:ext cx="213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Arial"/>
              </a:rPr>
              <a:t>ром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048120" y="2286000"/>
            <a:ext cx="213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Arial"/>
              </a:rPr>
              <a:t>мет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971800" y="3352680"/>
            <a:ext cx="213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Arial"/>
              </a:rPr>
              <a:t>кру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895480" y="4419720"/>
            <a:ext cx="213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Arial"/>
              </a:rPr>
              <a:t>р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334120" y="236232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8 – х =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334120" y="3276720"/>
            <a:ext cx="320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х + 7 =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410080" y="4267080"/>
            <a:ext cx="297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 – 7х = 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228600" y="5867280"/>
            <a:ext cx="914400" cy="7812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7620120" y="6324480"/>
            <a:ext cx="1295280" cy="368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fefefe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7696080" y="4343400"/>
            <a:ext cx="1447920" cy="20574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7391520" y="4267080"/>
            <a:ext cx="10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-2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Отве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8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а две звёздочки «приходится» число 10, значит, на одну звёздочку «приходится» число 5, луна и звёздочка вместе составляют 9, следовательно, на одну луну «приходится» 4, а на две луны 8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>
            <a:hlinkClick r:id="rId1" action="ppaction://hlinksldjump"/>
          </p:cNvPr>
          <p:cNvSpPr/>
          <p:nvPr/>
        </p:nvSpPr>
        <p:spPr>
          <a:xfrm>
            <a:off x="7772400" y="62485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7493"/>
                </a:moveTo>
                <a:lnTo>
                  <a:pt x="15939" y="7493"/>
                </a:lnTo>
                <a:lnTo>
                  <a:pt x="15939" y="12828"/>
                </a:lnTo>
                <a:cubicBezTo>
                  <a:pt x="15939" y="13751"/>
                  <a:pt x="16740" y="14482"/>
                  <a:pt x="17776" y="14482"/>
                </a:cubicBezTo>
                <a:lnTo>
                  <a:pt x="19438" y="14482"/>
                </a:lnTo>
                <a:cubicBezTo>
                  <a:pt x="20474" y="14482"/>
                  <a:pt x="21274" y="13751"/>
                  <a:pt x="21274" y="12828"/>
                </a:cubicBezTo>
                <a:lnTo>
                  <a:pt x="21274" y="7493"/>
                </a:lnTo>
                <a:lnTo>
                  <a:pt x="19438" y="7493"/>
                </a:lnTo>
                <a:lnTo>
                  <a:pt x="22946" y="3985"/>
                </a:lnTo>
                <a:lnTo>
                  <a:pt x="26619" y="7493"/>
                </a:lnTo>
                <a:lnTo>
                  <a:pt x="24782" y="7493"/>
                </a:lnTo>
                <a:lnTo>
                  <a:pt x="24782" y="12828"/>
                </a:lnTo>
                <a:cubicBezTo>
                  <a:pt x="24782" y="15596"/>
                  <a:pt x="22206" y="18155"/>
                  <a:pt x="19438" y="18155"/>
                </a:cubicBezTo>
                <a:lnTo>
                  <a:pt x="17776" y="18155"/>
                </a:lnTo>
                <a:cubicBezTo>
                  <a:pt x="15008" y="18155"/>
                  <a:pt x="12431" y="15596"/>
                  <a:pt x="12431" y="12828"/>
                </a:cubicBezTo>
                <a:close/>
              </a:path>
            </a:pathLst>
          </a:custGeom>
          <a:solidFill>
            <a:srgbClr val="30f8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Отве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7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ля решения задания 1 нужно сделать вывод по аналогии. Посмотрите внимательно на строение первой строки задания: как связаны слово «математика» и число 10. Установите эту связь и примените ко второй строке. 7 – количество букв в слове «алгебр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>
            <a:hlinkClick r:id="rId1" action="ppaction://hlinksldjump"/>
          </p:cNvPr>
          <p:cNvSpPr/>
          <p:nvPr/>
        </p:nvSpPr>
        <p:spPr>
          <a:xfrm>
            <a:off x="7772400" y="62485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7493"/>
                </a:moveTo>
                <a:lnTo>
                  <a:pt x="15939" y="7493"/>
                </a:lnTo>
                <a:lnTo>
                  <a:pt x="15939" y="12828"/>
                </a:lnTo>
                <a:cubicBezTo>
                  <a:pt x="15939" y="13751"/>
                  <a:pt x="16740" y="14482"/>
                  <a:pt x="17776" y="14482"/>
                </a:cubicBezTo>
                <a:lnTo>
                  <a:pt x="19438" y="14482"/>
                </a:lnTo>
                <a:cubicBezTo>
                  <a:pt x="20474" y="14482"/>
                  <a:pt x="21274" y="13751"/>
                  <a:pt x="21274" y="12828"/>
                </a:cubicBezTo>
                <a:lnTo>
                  <a:pt x="21274" y="7493"/>
                </a:lnTo>
                <a:lnTo>
                  <a:pt x="19438" y="7493"/>
                </a:lnTo>
                <a:lnTo>
                  <a:pt x="22946" y="3985"/>
                </a:lnTo>
                <a:lnTo>
                  <a:pt x="26619" y="7493"/>
                </a:lnTo>
                <a:lnTo>
                  <a:pt x="24782" y="7493"/>
                </a:lnTo>
                <a:lnTo>
                  <a:pt x="24782" y="12828"/>
                </a:lnTo>
                <a:cubicBezTo>
                  <a:pt x="24782" y="15596"/>
                  <a:pt x="22206" y="18155"/>
                  <a:pt x="19438" y="18155"/>
                </a:cubicBezTo>
                <a:lnTo>
                  <a:pt x="17776" y="18155"/>
                </a:lnTo>
                <a:cubicBezTo>
                  <a:pt x="15008" y="18155"/>
                  <a:pt x="12431" y="15596"/>
                  <a:pt x="12431" y="12828"/>
                </a:cubicBezTo>
                <a:close/>
              </a:path>
            </a:pathLst>
          </a:custGeom>
          <a:solidFill>
            <a:srgbClr val="30f8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Отве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27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Уравнение 3х – 27 = 0 имеет корнем 9 – число букв в слове «уравнение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>
            <a:hlinkClick r:id="rId1" action="ppaction://hlinksldjump"/>
          </p:cNvPr>
          <p:cNvSpPr/>
          <p:nvPr/>
        </p:nvSpPr>
        <p:spPr>
          <a:xfrm>
            <a:off x="7772400" y="62485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7493"/>
                </a:moveTo>
                <a:lnTo>
                  <a:pt x="15939" y="7493"/>
                </a:lnTo>
                <a:lnTo>
                  <a:pt x="15939" y="12828"/>
                </a:lnTo>
                <a:cubicBezTo>
                  <a:pt x="15939" y="13751"/>
                  <a:pt x="16740" y="14482"/>
                  <a:pt x="17776" y="14482"/>
                </a:cubicBezTo>
                <a:lnTo>
                  <a:pt x="19438" y="14482"/>
                </a:lnTo>
                <a:cubicBezTo>
                  <a:pt x="20474" y="14482"/>
                  <a:pt x="21274" y="13751"/>
                  <a:pt x="21274" y="12828"/>
                </a:cubicBezTo>
                <a:lnTo>
                  <a:pt x="21274" y="7493"/>
                </a:lnTo>
                <a:lnTo>
                  <a:pt x="19438" y="7493"/>
                </a:lnTo>
                <a:lnTo>
                  <a:pt x="22946" y="3985"/>
                </a:lnTo>
                <a:lnTo>
                  <a:pt x="26619" y="7493"/>
                </a:lnTo>
                <a:lnTo>
                  <a:pt x="24782" y="7493"/>
                </a:lnTo>
                <a:lnTo>
                  <a:pt x="24782" y="12828"/>
                </a:lnTo>
                <a:cubicBezTo>
                  <a:pt x="24782" y="15596"/>
                  <a:pt x="22206" y="18155"/>
                  <a:pt x="19438" y="18155"/>
                </a:cubicBezTo>
                <a:lnTo>
                  <a:pt x="17776" y="18155"/>
                </a:lnTo>
                <a:cubicBezTo>
                  <a:pt x="15008" y="18155"/>
                  <a:pt x="12431" y="15596"/>
                  <a:pt x="12431" y="12828"/>
                </a:cubicBezTo>
                <a:close/>
              </a:path>
            </a:pathLst>
          </a:custGeom>
          <a:solidFill>
            <a:srgbClr val="30f8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219320" y="1371600"/>
            <a:ext cx="685800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ренируем мышление:</a:t>
            </a:r>
            <a:endParaRPr b="0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шение уравнений.</a:t>
            </a:r>
            <a:endParaRPr b="0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048120" y="5105520"/>
            <a:ext cx="271440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 - 7 клас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62120" y="4952880"/>
            <a:ext cx="1028520" cy="1486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858000" y="304920"/>
            <a:ext cx="1866960" cy="1257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248520" y="3733920"/>
            <a:ext cx="1028520" cy="1028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3276720" y="304920"/>
            <a:ext cx="1028520" cy="10285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152280" y="152280"/>
            <a:ext cx="1028880" cy="1028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4419720" y="411480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7"/>
          <a:stretch/>
        </p:blipFill>
        <p:spPr>
          <a:xfrm>
            <a:off x="2286000" y="3505320"/>
            <a:ext cx="1028880" cy="1028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математика2"/>
          <p:cNvPicPr/>
          <p:nvPr/>
        </p:nvPicPr>
        <p:blipFill>
          <a:blip r:embed="rId8"/>
          <a:stretch/>
        </p:blipFill>
        <p:spPr>
          <a:xfrm>
            <a:off x="6815160" y="3962520"/>
            <a:ext cx="2328840" cy="2395440"/>
          </a:xfrm>
          <a:prstGeom prst="rect">
            <a:avLst/>
          </a:prstGeom>
          <a:ln w="0">
            <a:noFill/>
          </a:ln>
        </p:spPr>
      </p:pic>
      <p:sp>
        <p:nvSpPr>
          <p:cNvPr id="55" name="">
            <a:hlinkClick r:id="" action="ppaction://hlinkshowjump?jump=nextslide"/>
          </p:cNvPr>
          <p:cNvSpPr/>
          <p:nvPr/>
        </p:nvSpPr>
        <p:spPr>
          <a:xfrm>
            <a:off x="7467480" y="6324480"/>
            <a:ext cx="1295640" cy="368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fefefe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Отве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Д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х = 5, Д – пятая буква алфави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>
            <a:hlinkClick r:id="rId1" action="ppaction://hlinksldjump"/>
          </p:cNvPr>
          <p:cNvSpPr/>
          <p:nvPr/>
        </p:nvSpPr>
        <p:spPr>
          <a:xfrm>
            <a:off x="7772400" y="62485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7493"/>
                </a:moveTo>
                <a:lnTo>
                  <a:pt x="15939" y="7493"/>
                </a:lnTo>
                <a:lnTo>
                  <a:pt x="15939" y="12828"/>
                </a:lnTo>
                <a:cubicBezTo>
                  <a:pt x="15939" y="13751"/>
                  <a:pt x="16740" y="14482"/>
                  <a:pt x="17776" y="14482"/>
                </a:cubicBezTo>
                <a:lnTo>
                  <a:pt x="19438" y="14482"/>
                </a:lnTo>
                <a:cubicBezTo>
                  <a:pt x="20474" y="14482"/>
                  <a:pt x="21274" y="13751"/>
                  <a:pt x="21274" y="12828"/>
                </a:cubicBezTo>
                <a:lnTo>
                  <a:pt x="21274" y="7493"/>
                </a:lnTo>
                <a:lnTo>
                  <a:pt x="19438" y="7493"/>
                </a:lnTo>
                <a:lnTo>
                  <a:pt x="22946" y="3985"/>
                </a:lnTo>
                <a:lnTo>
                  <a:pt x="26619" y="7493"/>
                </a:lnTo>
                <a:lnTo>
                  <a:pt x="24782" y="7493"/>
                </a:lnTo>
                <a:lnTo>
                  <a:pt x="24782" y="12828"/>
                </a:lnTo>
                <a:cubicBezTo>
                  <a:pt x="24782" y="15596"/>
                  <a:pt x="22206" y="18155"/>
                  <a:pt x="19438" y="18155"/>
                </a:cubicBezTo>
                <a:lnTo>
                  <a:pt x="17776" y="18155"/>
                </a:lnTo>
                <a:cubicBezTo>
                  <a:pt x="15008" y="18155"/>
                  <a:pt x="12431" y="15596"/>
                  <a:pt x="12431" y="12828"/>
                </a:cubicBezTo>
                <a:close/>
              </a:path>
            </a:pathLst>
          </a:custGeom>
          <a:solidFill>
            <a:srgbClr val="30f8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Отве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Г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орень данного уравнения 4. Д – пятая буква в алфавит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>
            <a:hlinkClick r:id="rId1" action="ppaction://hlinksldjump"/>
          </p:cNvPr>
          <p:cNvSpPr/>
          <p:nvPr/>
        </p:nvSpPr>
        <p:spPr>
          <a:xfrm>
            <a:off x="7772400" y="62485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7493"/>
                </a:moveTo>
                <a:lnTo>
                  <a:pt x="15939" y="7493"/>
                </a:lnTo>
                <a:lnTo>
                  <a:pt x="15939" y="12828"/>
                </a:lnTo>
                <a:cubicBezTo>
                  <a:pt x="15939" y="13751"/>
                  <a:pt x="16740" y="14482"/>
                  <a:pt x="17776" y="14482"/>
                </a:cubicBezTo>
                <a:lnTo>
                  <a:pt x="19438" y="14482"/>
                </a:lnTo>
                <a:cubicBezTo>
                  <a:pt x="20474" y="14482"/>
                  <a:pt x="21274" y="13751"/>
                  <a:pt x="21274" y="12828"/>
                </a:cubicBezTo>
                <a:lnTo>
                  <a:pt x="21274" y="7493"/>
                </a:lnTo>
                <a:lnTo>
                  <a:pt x="19438" y="7493"/>
                </a:lnTo>
                <a:lnTo>
                  <a:pt x="22946" y="3985"/>
                </a:lnTo>
                <a:lnTo>
                  <a:pt x="26619" y="7493"/>
                </a:lnTo>
                <a:lnTo>
                  <a:pt x="24782" y="7493"/>
                </a:lnTo>
                <a:lnTo>
                  <a:pt x="24782" y="12828"/>
                </a:lnTo>
                <a:cubicBezTo>
                  <a:pt x="24782" y="15596"/>
                  <a:pt x="22206" y="18155"/>
                  <a:pt x="19438" y="18155"/>
                </a:cubicBezTo>
                <a:lnTo>
                  <a:pt x="17776" y="18155"/>
                </a:lnTo>
                <a:cubicBezTo>
                  <a:pt x="15008" y="18155"/>
                  <a:pt x="12431" y="15596"/>
                  <a:pt x="12431" y="12828"/>
                </a:cubicBezTo>
                <a:close/>
              </a:path>
            </a:pathLst>
          </a:custGeom>
          <a:solidFill>
            <a:srgbClr val="30f8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Отве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МОЛОТ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х = 6, х = 7; исключаем, соответственно 6-ю и 7-ю буквы из слова «молоток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>
            <a:hlinkClick r:id="rId1" action="ppaction://hlinksldjump"/>
          </p:cNvPr>
          <p:cNvSpPr/>
          <p:nvPr/>
        </p:nvSpPr>
        <p:spPr>
          <a:xfrm>
            <a:off x="7772400" y="62485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7493"/>
                </a:moveTo>
                <a:lnTo>
                  <a:pt x="15939" y="7493"/>
                </a:lnTo>
                <a:lnTo>
                  <a:pt x="15939" y="12828"/>
                </a:lnTo>
                <a:cubicBezTo>
                  <a:pt x="15939" y="13751"/>
                  <a:pt x="16740" y="14482"/>
                  <a:pt x="17776" y="14482"/>
                </a:cubicBezTo>
                <a:lnTo>
                  <a:pt x="19438" y="14482"/>
                </a:lnTo>
                <a:cubicBezTo>
                  <a:pt x="20474" y="14482"/>
                  <a:pt x="21274" y="13751"/>
                  <a:pt x="21274" y="12828"/>
                </a:cubicBezTo>
                <a:lnTo>
                  <a:pt x="21274" y="7493"/>
                </a:lnTo>
                <a:lnTo>
                  <a:pt x="19438" y="7493"/>
                </a:lnTo>
                <a:lnTo>
                  <a:pt x="22946" y="3985"/>
                </a:lnTo>
                <a:lnTo>
                  <a:pt x="26619" y="7493"/>
                </a:lnTo>
                <a:lnTo>
                  <a:pt x="24782" y="7493"/>
                </a:lnTo>
                <a:lnTo>
                  <a:pt x="24782" y="12828"/>
                </a:lnTo>
                <a:cubicBezTo>
                  <a:pt x="24782" y="15596"/>
                  <a:pt x="22206" y="18155"/>
                  <a:pt x="19438" y="18155"/>
                </a:cubicBezTo>
                <a:lnTo>
                  <a:pt x="17776" y="18155"/>
                </a:lnTo>
                <a:cubicBezTo>
                  <a:pt x="15008" y="18155"/>
                  <a:pt x="12431" y="15596"/>
                  <a:pt x="12431" y="12828"/>
                </a:cubicBezTo>
                <a:close/>
              </a:path>
            </a:pathLst>
          </a:custGeom>
          <a:solidFill>
            <a:srgbClr val="30f8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Отве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ятиконечная звезда стоит рядом с уравнением, корень которого равен числу пять, следовательно, четырёхзначную звезду надо соединить уравнением, имеющим корень 4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772400" y="62485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7493"/>
                </a:moveTo>
                <a:lnTo>
                  <a:pt x="15939" y="7493"/>
                </a:lnTo>
                <a:lnTo>
                  <a:pt x="15939" y="12828"/>
                </a:lnTo>
                <a:cubicBezTo>
                  <a:pt x="15939" y="13751"/>
                  <a:pt x="16740" y="14482"/>
                  <a:pt x="17776" y="14482"/>
                </a:cubicBezTo>
                <a:lnTo>
                  <a:pt x="19438" y="14482"/>
                </a:lnTo>
                <a:cubicBezTo>
                  <a:pt x="20474" y="14482"/>
                  <a:pt x="21274" y="13751"/>
                  <a:pt x="21274" y="12828"/>
                </a:cubicBezTo>
                <a:lnTo>
                  <a:pt x="21274" y="7493"/>
                </a:lnTo>
                <a:lnTo>
                  <a:pt x="19438" y="7493"/>
                </a:lnTo>
                <a:lnTo>
                  <a:pt x="22946" y="3985"/>
                </a:lnTo>
                <a:lnTo>
                  <a:pt x="26619" y="7493"/>
                </a:lnTo>
                <a:lnTo>
                  <a:pt x="24782" y="7493"/>
                </a:lnTo>
                <a:lnTo>
                  <a:pt x="24782" y="12828"/>
                </a:lnTo>
                <a:cubicBezTo>
                  <a:pt x="24782" y="15596"/>
                  <a:pt x="22206" y="18155"/>
                  <a:pt x="19438" y="18155"/>
                </a:cubicBezTo>
                <a:lnTo>
                  <a:pt x="17776" y="18155"/>
                </a:lnTo>
                <a:cubicBezTo>
                  <a:pt x="15008" y="18155"/>
                  <a:pt x="12431" y="15596"/>
                  <a:pt x="12431" y="12828"/>
                </a:cubicBezTo>
                <a:close/>
              </a:path>
            </a:pathLst>
          </a:custGeom>
          <a:solidFill>
            <a:srgbClr val="30f8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990720" y="1523880"/>
            <a:ext cx="419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3х – 18 = - 2х +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500" autoRev="1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29" dur="500" autoRev="1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30" dur="500" autoRev="1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Отве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13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Это число не делится на 3 (корень уравнения 2х + 13 = 19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>
            <a:hlinkClick r:id="rId1" action="ppaction://hlinksldjump"/>
          </p:cNvPr>
          <p:cNvSpPr/>
          <p:nvPr/>
        </p:nvSpPr>
        <p:spPr>
          <a:xfrm>
            <a:off x="7772400" y="62485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7493"/>
                </a:moveTo>
                <a:lnTo>
                  <a:pt x="15939" y="7493"/>
                </a:lnTo>
                <a:lnTo>
                  <a:pt x="15939" y="12828"/>
                </a:lnTo>
                <a:cubicBezTo>
                  <a:pt x="15939" y="13751"/>
                  <a:pt x="16740" y="14482"/>
                  <a:pt x="17776" y="14482"/>
                </a:cubicBezTo>
                <a:lnTo>
                  <a:pt x="19438" y="14482"/>
                </a:lnTo>
                <a:cubicBezTo>
                  <a:pt x="20474" y="14482"/>
                  <a:pt x="21274" y="13751"/>
                  <a:pt x="21274" y="12828"/>
                </a:cubicBezTo>
                <a:lnTo>
                  <a:pt x="21274" y="7493"/>
                </a:lnTo>
                <a:lnTo>
                  <a:pt x="19438" y="7493"/>
                </a:lnTo>
                <a:lnTo>
                  <a:pt x="22946" y="3985"/>
                </a:lnTo>
                <a:lnTo>
                  <a:pt x="26619" y="7493"/>
                </a:lnTo>
                <a:lnTo>
                  <a:pt x="24782" y="7493"/>
                </a:lnTo>
                <a:lnTo>
                  <a:pt x="24782" y="12828"/>
                </a:lnTo>
                <a:cubicBezTo>
                  <a:pt x="24782" y="15596"/>
                  <a:pt x="22206" y="18155"/>
                  <a:pt x="19438" y="18155"/>
                </a:cubicBezTo>
                <a:lnTo>
                  <a:pt x="17776" y="18155"/>
                </a:lnTo>
                <a:cubicBezTo>
                  <a:pt x="15008" y="18155"/>
                  <a:pt x="12431" y="15596"/>
                  <a:pt x="12431" y="12828"/>
                </a:cubicBezTo>
                <a:close/>
              </a:path>
            </a:pathLst>
          </a:custGeom>
          <a:solidFill>
            <a:srgbClr val="30f8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Отве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Д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орень уравнения 9 – х = 5 равен 4. В данном слове четвёртая буква Д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>
            <a:hlinkClick r:id="rId1" action="ppaction://hlinksldjump"/>
          </p:cNvPr>
          <p:cNvSpPr/>
          <p:nvPr/>
        </p:nvSpPr>
        <p:spPr>
          <a:xfrm>
            <a:off x="7772400" y="62485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7493"/>
                </a:moveTo>
                <a:lnTo>
                  <a:pt x="15939" y="7493"/>
                </a:lnTo>
                <a:lnTo>
                  <a:pt x="15939" y="12828"/>
                </a:lnTo>
                <a:cubicBezTo>
                  <a:pt x="15939" y="13751"/>
                  <a:pt x="16740" y="14482"/>
                  <a:pt x="17776" y="14482"/>
                </a:cubicBezTo>
                <a:lnTo>
                  <a:pt x="19438" y="14482"/>
                </a:lnTo>
                <a:cubicBezTo>
                  <a:pt x="20474" y="14482"/>
                  <a:pt x="21274" y="13751"/>
                  <a:pt x="21274" y="12828"/>
                </a:cubicBezTo>
                <a:lnTo>
                  <a:pt x="21274" y="7493"/>
                </a:lnTo>
                <a:lnTo>
                  <a:pt x="19438" y="7493"/>
                </a:lnTo>
                <a:lnTo>
                  <a:pt x="22946" y="3985"/>
                </a:lnTo>
                <a:lnTo>
                  <a:pt x="26619" y="7493"/>
                </a:lnTo>
                <a:lnTo>
                  <a:pt x="24782" y="7493"/>
                </a:lnTo>
                <a:lnTo>
                  <a:pt x="24782" y="12828"/>
                </a:lnTo>
                <a:cubicBezTo>
                  <a:pt x="24782" y="15596"/>
                  <a:pt x="22206" y="18155"/>
                  <a:pt x="19438" y="18155"/>
                </a:cubicBezTo>
                <a:lnTo>
                  <a:pt x="17776" y="18155"/>
                </a:lnTo>
                <a:cubicBezTo>
                  <a:pt x="15008" y="18155"/>
                  <a:pt x="12431" y="15596"/>
                  <a:pt x="12431" y="12828"/>
                </a:cubicBezTo>
                <a:close/>
              </a:path>
            </a:pathLst>
          </a:custGeom>
          <a:solidFill>
            <a:srgbClr val="30f8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Отве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Лепестков 6; корень уравнения  - число 7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>
            <a:hlinkClick r:id="rId1" action="ppaction://hlinksldjump"/>
          </p:cNvPr>
          <p:cNvSpPr/>
          <p:nvPr/>
        </p:nvSpPr>
        <p:spPr>
          <a:xfrm>
            <a:off x="7772400" y="62485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7493"/>
                </a:moveTo>
                <a:lnTo>
                  <a:pt x="15939" y="7493"/>
                </a:lnTo>
                <a:lnTo>
                  <a:pt x="15939" y="12828"/>
                </a:lnTo>
                <a:cubicBezTo>
                  <a:pt x="15939" y="13751"/>
                  <a:pt x="16740" y="14482"/>
                  <a:pt x="17776" y="14482"/>
                </a:cubicBezTo>
                <a:lnTo>
                  <a:pt x="19438" y="14482"/>
                </a:lnTo>
                <a:cubicBezTo>
                  <a:pt x="20474" y="14482"/>
                  <a:pt x="21274" y="13751"/>
                  <a:pt x="21274" y="12828"/>
                </a:cubicBezTo>
                <a:lnTo>
                  <a:pt x="21274" y="7493"/>
                </a:lnTo>
                <a:lnTo>
                  <a:pt x="19438" y="7493"/>
                </a:lnTo>
                <a:lnTo>
                  <a:pt x="22946" y="3985"/>
                </a:lnTo>
                <a:lnTo>
                  <a:pt x="26619" y="7493"/>
                </a:lnTo>
                <a:lnTo>
                  <a:pt x="24782" y="7493"/>
                </a:lnTo>
                <a:lnTo>
                  <a:pt x="24782" y="12828"/>
                </a:lnTo>
                <a:cubicBezTo>
                  <a:pt x="24782" y="15596"/>
                  <a:pt x="22206" y="18155"/>
                  <a:pt x="19438" y="18155"/>
                </a:cubicBezTo>
                <a:lnTo>
                  <a:pt x="17776" y="18155"/>
                </a:lnTo>
                <a:cubicBezTo>
                  <a:pt x="15008" y="18155"/>
                  <a:pt x="12431" y="15596"/>
                  <a:pt x="12431" y="12828"/>
                </a:cubicBezTo>
                <a:close/>
              </a:path>
            </a:pathLst>
          </a:custGeom>
          <a:solidFill>
            <a:srgbClr val="30f8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990720" y="762120"/>
                <a:ext cx="121896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Отве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Р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орень второго уравнения равен 5. Р – пятая буква в слове квадра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772400" y="62485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7493"/>
                </a:moveTo>
                <a:lnTo>
                  <a:pt x="15939" y="7493"/>
                </a:lnTo>
                <a:lnTo>
                  <a:pt x="15939" y="12828"/>
                </a:lnTo>
                <a:cubicBezTo>
                  <a:pt x="15939" y="13751"/>
                  <a:pt x="16740" y="14482"/>
                  <a:pt x="17776" y="14482"/>
                </a:cubicBezTo>
                <a:lnTo>
                  <a:pt x="19438" y="14482"/>
                </a:lnTo>
                <a:cubicBezTo>
                  <a:pt x="20474" y="14482"/>
                  <a:pt x="21274" y="13751"/>
                  <a:pt x="21274" y="12828"/>
                </a:cubicBezTo>
                <a:lnTo>
                  <a:pt x="21274" y="7493"/>
                </a:lnTo>
                <a:lnTo>
                  <a:pt x="19438" y="7493"/>
                </a:lnTo>
                <a:lnTo>
                  <a:pt x="22946" y="3985"/>
                </a:lnTo>
                <a:lnTo>
                  <a:pt x="26619" y="7493"/>
                </a:lnTo>
                <a:lnTo>
                  <a:pt x="24782" y="7493"/>
                </a:lnTo>
                <a:lnTo>
                  <a:pt x="24782" y="12828"/>
                </a:lnTo>
                <a:cubicBezTo>
                  <a:pt x="24782" y="15596"/>
                  <a:pt x="22206" y="18155"/>
                  <a:pt x="19438" y="18155"/>
                </a:cubicBezTo>
                <a:lnTo>
                  <a:pt x="17776" y="18155"/>
                </a:lnTo>
                <a:cubicBezTo>
                  <a:pt x="15008" y="18155"/>
                  <a:pt x="12431" y="15596"/>
                  <a:pt x="12431" y="12828"/>
                </a:cubicBezTo>
                <a:close/>
              </a:path>
            </a:pathLst>
          </a:custGeom>
          <a:solidFill>
            <a:srgbClr val="30f8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Отве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ТОК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орни данных уравнений соответственно равны числам 21 и 12, то есть состоят из тех же цифр, но записанных в обратном порядке, получим искомое слов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772400" y="62485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7493"/>
                </a:moveTo>
                <a:lnTo>
                  <a:pt x="15939" y="7493"/>
                </a:lnTo>
                <a:lnTo>
                  <a:pt x="15939" y="12828"/>
                </a:lnTo>
                <a:cubicBezTo>
                  <a:pt x="15939" y="13751"/>
                  <a:pt x="16740" y="14482"/>
                  <a:pt x="17776" y="14482"/>
                </a:cubicBezTo>
                <a:lnTo>
                  <a:pt x="19438" y="14482"/>
                </a:lnTo>
                <a:cubicBezTo>
                  <a:pt x="20474" y="14482"/>
                  <a:pt x="21274" y="13751"/>
                  <a:pt x="21274" y="12828"/>
                </a:cubicBezTo>
                <a:lnTo>
                  <a:pt x="21274" y="7493"/>
                </a:lnTo>
                <a:lnTo>
                  <a:pt x="19438" y="7493"/>
                </a:lnTo>
                <a:lnTo>
                  <a:pt x="22946" y="3985"/>
                </a:lnTo>
                <a:lnTo>
                  <a:pt x="26619" y="7493"/>
                </a:lnTo>
                <a:lnTo>
                  <a:pt x="24782" y="7493"/>
                </a:lnTo>
                <a:lnTo>
                  <a:pt x="24782" y="12828"/>
                </a:lnTo>
                <a:cubicBezTo>
                  <a:pt x="24782" y="15596"/>
                  <a:pt x="22206" y="18155"/>
                  <a:pt x="19438" y="18155"/>
                </a:cubicBezTo>
                <a:lnTo>
                  <a:pt x="17776" y="18155"/>
                </a:lnTo>
                <a:cubicBezTo>
                  <a:pt x="15008" y="18155"/>
                  <a:pt x="12431" y="15596"/>
                  <a:pt x="12431" y="12828"/>
                </a:cubicBezTo>
                <a:close/>
              </a:path>
            </a:pathLst>
          </a:custGeom>
          <a:solidFill>
            <a:srgbClr val="30f8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Отве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азность корней данных уравнен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772400" y="62485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7493"/>
                </a:moveTo>
                <a:lnTo>
                  <a:pt x="15939" y="7493"/>
                </a:lnTo>
                <a:lnTo>
                  <a:pt x="15939" y="12828"/>
                </a:lnTo>
                <a:cubicBezTo>
                  <a:pt x="15939" y="13751"/>
                  <a:pt x="16740" y="14482"/>
                  <a:pt x="17776" y="14482"/>
                </a:cubicBezTo>
                <a:lnTo>
                  <a:pt x="19438" y="14482"/>
                </a:lnTo>
                <a:cubicBezTo>
                  <a:pt x="20474" y="14482"/>
                  <a:pt x="21274" y="13751"/>
                  <a:pt x="21274" y="12828"/>
                </a:cubicBezTo>
                <a:lnTo>
                  <a:pt x="21274" y="7493"/>
                </a:lnTo>
                <a:lnTo>
                  <a:pt x="19438" y="7493"/>
                </a:lnTo>
                <a:lnTo>
                  <a:pt x="22946" y="3985"/>
                </a:lnTo>
                <a:lnTo>
                  <a:pt x="26619" y="7493"/>
                </a:lnTo>
                <a:lnTo>
                  <a:pt x="24782" y="7493"/>
                </a:lnTo>
                <a:lnTo>
                  <a:pt x="24782" y="12828"/>
                </a:lnTo>
                <a:cubicBezTo>
                  <a:pt x="24782" y="15596"/>
                  <a:pt x="22206" y="18155"/>
                  <a:pt x="19438" y="18155"/>
                </a:cubicBezTo>
                <a:lnTo>
                  <a:pt x="17776" y="18155"/>
                </a:lnTo>
                <a:cubicBezTo>
                  <a:pt x="15008" y="18155"/>
                  <a:pt x="12431" y="15596"/>
                  <a:pt x="12431" y="12828"/>
                </a:cubicBezTo>
                <a:close/>
              </a:path>
            </a:pathLst>
          </a:custGeom>
          <a:solidFill>
            <a:srgbClr val="30f8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 rot="17647200">
            <a:off x="6743520" y="4152960"/>
            <a:ext cx="838080" cy="1219320"/>
          </a:xfrm>
          <a:prstGeom prst="cloudCallout">
            <a:avLst>
              <a:gd name="adj1" fmla="val -19416"/>
              <a:gd name="adj2" fmla="val 96578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Найдите неизвестное числ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219320" y="1828800"/>
            <a:ext cx="990360" cy="91440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efefe"/>
              </a:gs>
              <a:gs pos="100000">
                <a:srgbClr val="dfee1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114800" y="4419720"/>
            <a:ext cx="990720" cy="91440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efefe"/>
              </a:gs>
              <a:gs pos="100000">
                <a:srgbClr val="dfee1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4419720"/>
            <a:ext cx="990360" cy="91440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efefe"/>
              </a:gs>
              <a:gs pos="100000">
                <a:srgbClr val="dfee1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2895480"/>
            <a:ext cx="1447560" cy="1219320"/>
          </a:xfrm>
          <a:prstGeom prst="star5">
            <a:avLst/>
          </a:pr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86200" y="2895480"/>
            <a:ext cx="1447920" cy="1219320"/>
          </a:xfrm>
          <a:prstGeom prst="star5">
            <a:avLst/>
          </a:pr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09880" y="1676520"/>
            <a:ext cx="1447920" cy="1218960"/>
          </a:xfrm>
          <a:prstGeom prst="star5">
            <a:avLst/>
          </a:pr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010280" y="1828800"/>
            <a:ext cx="838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34320" y="4267080"/>
            <a:ext cx="99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3124080"/>
            <a:ext cx="1371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Arial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5867280"/>
            <a:ext cx="914400" cy="781200"/>
          </a:xfrm>
          <a:prstGeom prst="rect">
            <a:avLst/>
          </a:prstGeom>
          <a:ln w="0">
            <a:noFill/>
          </a:ln>
        </p:spPr>
      </p:pic>
      <p:sp>
        <p:nvSpPr>
          <p:cNvPr id="68" name="">
            <a:hlinkClick r:id="" action="ppaction://hlinkshowjump?jump=nextslide"/>
          </p:cNvPr>
          <p:cNvSpPr/>
          <p:nvPr/>
        </p:nvSpPr>
        <p:spPr>
          <a:xfrm>
            <a:off x="7696080" y="6324480"/>
            <a:ext cx="1295640" cy="368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fefefe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7602480" y="4648320"/>
            <a:ext cx="1541520" cy="17762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934320" y="4267080"/>
            <a:ext cx="160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Отве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-23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лово «РОМ» получено из слова «РОМБ» исключением четвёртой буквы. По аналогии с первой и второй строчками заданий число 4 – корень данного уравн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772400" y="62485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7493"/>
                </a:moveTo>
                <a:lnTo>
                  <a:pt x="15939" y="7493"/>
                </a:lnTo>
                <a:lnTo>
                  <a:pt x="15939" y="12828"/>
                </a:lnTo>
                <a:cubicBezTo>
                  <a:pt x="15939" y="13751"/>
                  <a:pt x="16740" y="14482"/>
                  <a:pt x="17776" y="14482"/>
                </a:cubicBezTo>
                <a:lnTo>
                  <a:pt x="19438" y="14482"/>
                </a:lnTo>
                <a:cubicBezTo>
                  <a:pt x="20474" y="14482"/>
                  <a:pt x="21274" y="13751"/>
                  <a:pt x="21274" y="12828"/>
                </a:cubicBezTo>
                <a:lnTo>
                  <a:pt x="21274" y="7493"/>
                </a:lnTo>
                <a:lnTo>
                  <a:pt x="19438" y="7493"/>
                </a:lnTo>
                <a:lnTo>
                  <a:pt x="22946" y="3985"/>
                </a:lnTo>
                <a:lnTo>
                  <a:pt x="26619" y="7493"/>
                </a:lnTo>
                <a:lnTo>
                  <a:pt x="24782" y="7493"/>
                </a:lnTo>
                <a:lnTo>
                  <a:pt x="24782" y="12828"/>
                </a:lnTo>
                <a:cubicBezTo>
                  <a:pt x="24782" y="15596"/>
                  <a:pt x="22206" y="18155"/>
                  <a:pt x="19438" y="18155"/>
                </a:cubicBezTo>
                <a:lnTo>
                  <a:pt x="17776" y="18155"/>
                </a:lnTo>
                <a:cubicBezTo>
                  <a:pt x="15008" y="18155"/>
                  <a:pt x="12431" y="15596"/>
                  <a:pt x="12431" y="12828"/>
                </a:cubicBezTo>
                <a:close/>
              </a:path>
            </a:pathLst>
          </a:custGeom>
          <a:solidFill>
            <a:srgbClr val="30f8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1906200" y="236520"/>
            <a:ext cx="6901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ff"/>
                </a:solidFill>
                <a:latin typeface="Arial"/>
              </a:rPr>
              <a:t>Домашнее задание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717560" cy="206064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1371600" y="23623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Найдите неизвестное числ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85800" y="3352680"/>
            <a:ext cx="281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СИНУ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62120" y="4267080"/>
            <a:ext cx="213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КУ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62120" y="5105520"/>
            <a:ext cx="213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РОМ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352680" y="335268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5Х – 1 = 3Х +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352680" y="4114800"/>
            <a:ext cx="381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7Х + 6 = 8Х +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352680" y="502920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6Х – 2 = 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772400" y="335268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772400" y="41148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696080" y="495288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>
            <a:hlinkClick r:id="" action="ppaction://hlinkshowjump?jump=firstslide"/>
          </p:cNvPr>
          <p:cNvSpPr/>
          <p:nvPr/>
        </p:nvSpPr>
        <p:spPr>
          <a:xfrm>
            <a:off x="8153280" y="6248520"/>
            <a:ext cx="609840" cy="304560"/>
          </a:xfrm>
          <a:custGeom>
            <a:avLst/>
            <a:gdLst>
              <a:gd name="textAreaLeft" fmla="*/ 19440 w 609840"/>
              <a:gd name="textAreaRight" fmla="*/ 590400 w 6098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3226" h="21600">
                <a:moveTo>
                  <a:pt x="0" y="0"/>
                </a:moveTo>
                <a:lnTo>
                  <a:pt x="43226" y="0"/>
                </a:lnTo>
                <a:lnTo>
                  <a:pt x="43226" y="21600"/>
                </a:lnTo>
                <a:lnTo>
                  <a:pt x="0" y="21600"/>
                </a:lnTo>
                <a:close/>
              </a:path>
              <a:path fill="lightenLess" w="43226" h="21600">
                <a:moveTo>
                  <a:pt x="0" y="0"/>
                </a:moveTo>
                <a:lnTo>
                  <a:pt x="43226" y="0"/>
                </a:lnTo>
                <a:lnTo>
                  <a:pt x="41826" y="1400"/>
                </a:lnTo>
                <a:lnTo>
                  <a:pt x="1400" y="1400"/>
                </a:lnTo>
                <a:close/>
              </a:path>
              <a:path fill="darken" w="43226" h="21600">
                <a:moveTo>
                  <a:pt x="43226" y="0"/>
                </a:moveTo>
                <a:lnTo>
                  <a:pt x="43226" y="21600"/>
                </a:lnTo>
                <a:lnTo>
                  <a:pt x="41826" y="20200"/>
                </a:lnTo>
                <a:lnTo>
                  <a:pt x="41826" y="1400"/>
                </a:lnTo>
                <a:close/>
              </a:path>
              <a:path fill="darkenLess" w="43226" h="21600">
                <a:moveTo>
                  <a:pt x="432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26" y="20200"/>
                </a:lnTo>
                <a:close/>
              </a:path>
              <a:path fill="lighten" w="432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26" h="21600">
                <a:moveTo>
                  <a:pt x="18114" y="10800"/>
                </a:moveTo>
                <a:lnTo>
                  <a:pt x="28619" y="3794"/>
                </a:lnTo>
                <a:lnTo>
                  <a:pt x="28619" y="17806"/>
                </a:lnTo>
                <a:close/>
              </a:path>
              <a:path fill="darken" w="43226" h="21600">
                <a:moveTo>
                  <a:pt x="14606" y="3794"/>
                </a:moveTo>
                <a:lnTo>
                  <a:pt x="16269" y="3794"/>
                </a:lnTo>
                <a:lnTo>
                  <a:pt x="16269" y="17806"/>
                </a:lnTo>
                <a:lnTo>
                  <a:pt x="14606" y="17806"/>
                </a:lnTo>
                <a:close/>
              </a:path>
            </a:pathLst>
          </a:custGeom>
          <a:solidFill>
            <a:srgbClr val="30f8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334120" y="4267080"/>
            <a:ext cx="1904760" cy="685800"/>
          </a:xfrm>
          <a:prstGeom prst="cloudCallout">
            <a:avLst>
              <a:gd name="adj1" fmla="val -43750"/>
              <a:gd name="adj2" fmla="val 70000"/>
            </a:avLst>
          </a:prstGeom>
          <a:gradFill rotWithShape="0">
            <a:gsLst>
              <a:gs pos="0">
                <a:srgbClr val="fefefe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Найдите неизвестное число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14400" y="2590920"/>
            <a:ext cx="3809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математи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14400" y="396252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алгебр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867280" y="2590920"/>
            <a:ext cx="106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791320" y="419112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 flipH="1">
            <a:off x="3809520" y="4834080"/>
            <a:ext cx="1676520" cy="20239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5791320"/>
            <a:ext cx="990360" cy="780840"/>
          </a:xfrm>
          <a:prstGeom prst="rect">
            <a:avLst/>
          </a:prstGeom>
          <a:ln w="0">
            <a:noFill/>
          </a:ln>
        </p:spPr>
      </p:pic>
      <p:sp>
        <p:nvSpPr>
          <p:cNvPr id="79" name="">
            <a:hlinkClick r:id="" action="ppaction://hlinkshowjump?jump=nextslide"/>
          </p:cNvPr>
          <p:cNvSpPr/>
          <p:nvPr/>
        </p:nvSpPr>
        <p:spPr>
          <a:xfrm>
            <a:off x="7467480" y="6172200"/>
            <a:ext cx="1295640" cy="368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fefefe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95880" y="419112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Найдите неизвестное числ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2590920"/>
            <a:ext cx="289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корен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62120" y="3886200"/>
            <a:ext cx="35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уравн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10080" y="274320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х – 6 =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257800" y="388620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х  -  ?  =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04920" y="5791320"/>
            <a:ext cx="990360" cy="7808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7446960" y="3352680"/>
            <a:ext cx="1697040" cy="2808360"/>
          </a:xfrm>
          <a:prstGeom prst="rect">
            <a:avLst/>
          </a:prstGeom>
          <a:ln w="0">
            <a:noFill/>
          </a:ln>
        </p:spPr>
      </p:pic>
      <p:sp>
        <p:nvSpPr>
          <p:cNvPr id="88" name="">
            <a:hlinkClick r:id="" action="ppaction://hlinkshowjump?jump=nextslide"/>
          </p:cNvPr>
          <p:cNvSpPr/>
          <p:nvPr/>
        </p:nvSpPr>
        <p:spPr>
          <a:xfrm>
            <a:off x="7467480" y="6172200"/>
            <a:ext cx="1295640" cy="368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fefefe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6200000">
            <a:off x="6513480" y="3709800"/>
            <a:ext cx="762120" cy="990360"/>
          </a:xfrm>
          <a:prstGeom prst="cloudCallout">
            <a:avLst>
              <a:gd name="adj1" fmla="val -41467"/>
              <a:gd name="adj2" fmla="val 66407"/>
            </a:avLst>
          </a:prstGeom>
          <a:gradFill rotWithShape="0">
            <a:gsLst>
              <a:gs pos="0">
                <a:srgbClr val="ececfe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 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Найдите неизвестную букву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198108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А   Б   В   Г   Д   Е   Ё   Ж   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2971800"/>
            <a:ext cx="4419720" cy="129528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50000">
                <a:srgbClr val="fefefe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х + 11 = х + 2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4572000"/>
            <a:ext cx="4419720" cy="129528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50000">
                <a:srgbClr val="fefefe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х – 7 =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3581280"/>
            <a:ext cx="2286000" cy="0"/>
          </a:xfrm>
          <a:prstGeom prst="line">
            <a:avLst/>
          </a:prstGeom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010280" y="2971800"/>
            <a:ext cx="1524240" cy="1371600"/>
          </a:xfrm>
          <a:custGeom>
            <a:avLst/>
            <a:gdLst>
              <a:gd name="textAreaLeft" fmla="*/ 347760 w 1524240"/>
              <a:gd name="textAreaRight" fmla="*/ 1176480 w 1524240"/>
              <a:gd name="textAreaTop" fmla="*/ 313200 h 1371600"/>
              <a:gd name="textAreaBottom" fmla="*/ 1058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66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010280" y="4267080"/>
            <a:ext cx="1524240" cy="1371600"/>
          </a:xfrm>
          <a:custGeom>
            <a:avLst/>
            <a:gdLst>
              <a:gd name="textAreaLeft" fmla="*/ 347760 w 1524240"/>
              <a:gd name="textAreaRight" fmla="*/ 1176480 w 1524240"/>
              <a:gd name="textAreaTop" fmla="*/ 313200 h 1371600"/>
              <a:gd name="textAreaBottom" fmla="*/ 1058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66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5257800"/>
            <a:ext cx="2438280" cy="0"/>
          </a:xfrm>
          <a:prstGeom prst="line">
            <a:avLst/>
          </a:prstGeom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238880" y="457200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924680" y="5334120"/>
            <a:ext cx="1400400" cy="1233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52280" y="6076800"/>
            <a:ext cx="990720" cy="781200"/>
          </a:xfrm>
          <a:prstGeom prst="rect">
            <a:avLst/>
          </a:prstGeom>
          <a:ln w="0">
            <a:noFill/>
          </a:ln>
        </p:spPr>
      </p:pic>
      <p:sp>
        <p:nvSpPr>
          <p:cNvPr id="101" name="">
            <a:hlinkClick r:id="" action="ppaction://hlinkshowjump?jump=nextslide"/>
          </p:cNvPr>
          <p:cNvSpPr/>
          <p:nvPr/>
        </p:nvSpPr>
        <p:spPr>
          <a:xfrm>
            <a:off x="7848720" y="6491160"/>
            <a:ext cx="1295280" cy="368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fefefe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Найдите неизвестную букву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2514600"/>
            <a:ext cx="4191120" cy="1066680"/>
          </a:xfrm>
          <a:prstGeom prst="ellipse">
            <a:avLst/>
          </a:prstGeom>
          <a:gradFill rotWithShape="0">
            <a:gsLst>
              <a:gs pos="0">
                <a:srgbClr val="22ee61"/>
              </a:gs>
              <a:gs pos="50000">
                <a:srgbClr val="ffffff"/>
              </a:gs>
              <a:gs pos="100000">
                <a:srgbClr val="22ee6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2438280"/>
            <a:ext cx="3809880" cy="1067040"/>
          </a:xfrm>
          <a:prstGeom prst="ellipse">
            <a:avLst/>
          </a:prstGeom>
          <a:gradFill rotWithShape="0">
            <a:gsLst>
              <a:gs pos="0">
                <a:srgbClr val="22ee61"/>
              </a:gs>
              <a:gs pos="50000">
                <a:srgbClr val="ffffff"/>
              </a:gs>
              <a:gs pos="100000">
                <a:srgbClr val="22ee6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274320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х + 11 = х +2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91320" y="26668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х - 7 = 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47920" y="3886200"/>
            <a:ext cx="1371600" cy="129528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e4f14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4f1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3886200"/>
            <a:ext cx="1371600" cy="129528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e4f14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4f1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" action="ppaction://hlinkshowjump?jump=nextslide"/>
          </p:cNvPr>
          <p:cNvSpPr/>
          <p:nvPr/>
        </p:nvSpPr>
        <p:spPr>
          <a:xfrm>
            <a:off x="7467480" y="6172200"/>
            <a:ext cx="1295640" cy="368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fefefe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04920" y="5791320"/>
            <a:ext cx="990360" cy="780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553080" y="419112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7315200" y="4267080"/>
            <a:ext cx="182880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Найдите неизвестное числ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1676520"/>
            <a:ext cx="3353040" cy="163044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50000">
                <a:srgbClr val="fefefe"/>
              </a:gs>
              <a:gs pos="100000">
                <a:srgbClr val="ff99ff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х – 5  =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 – 2х =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4800600"/>
            <a:ext cx="3276720" cy="163044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50000">
                <a:srgbClr val="fefefe"/>
              </a:gs>
              <a:gs pos="100000">
                <a:srgbClr val="ff99ff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х + 4  =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1 – 2х = 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3581280"/>
            <a:ext cx="3048120" cy="914400"/>
          </a:xfrm>
          <a:prstGeom prst="ellipse">
            <a:avLst/>
          </a:prstGeom>
          <a:gradFill rotWithShape="0">
            <a:gsLst>
              <a:gs pos="0">
                <a:srgbClr val="66ffff"/>
              </a:gs>
              <a:gs pos="50000">
                <a:srgbClr val="fefefe"/>
              </a:gs>
              <a:gs pos="100000">
                <a:srgbClr val="66ffff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60093"/>
                </a:solidFill>
                <a:latin typeface="Arial"/>
              </a:rPr>
              <a:t>Молот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638680" y="1828800"/>
            <a:ext cx="3048120" cy="914400"/>
          </a:xfrm>
          <a:prstGeom prst="ellipse">
            <a:avLst/>
          </a:prstGeom>
          <a:gradFill rotWithShape="0">
            <a:gsLst>
              <a:gs pos="0">
                <a:srgbClr val="66ffff"/>
              </a:gs>
              <a:gs pos="50000">
                <a:srgbClr val="fefefe"/>
              </a:gs>
              <a:gs pos="100000">
                <a:srgbClr val="66ffff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60093"/>
                </a:solidFill>
                <a:latin typeface="Arial"/>
              </a:rPr>
              <a:t>Мот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172200" y="3505320"/>
            <a:ext cx="2362320" cy="70344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50000">
                <a:srgbClr val="fefefe"/>
              </a:gs>
              <a:gs pos="100000">
                <a:srgbClr val="66ffff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" action="ppaction://hlinkshowjump?jump=nextslide"/>
          </p:cNvPr>
          <p:cNvSpPr/>
          <p:nvPr/>
        </p:nvSpPr>
        <p:spPr>
          <a:xfrm>
            <a:off x="7467480" y="6172200"/>
            <a:ext cx="1295640" cy="368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fefefe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886200" y="2361960"/>
            <a:ext cx="1752480" cy="1600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886200" y="3886200"/>
            <a:ext cx="2209680" cy="763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543800" y="4191120"/>
            <a:ext cx="1600200" cy="1996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6076800"/>
            <a:ext cx="914400" cy="7812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6403320" y="3505320"/>
            <a:ext cx="179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Моло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47920" y="1676520"/>
            <a:ext cx="373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х – 13,5 = 1,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1219320"/>
            <a:ext cx="1676520" cy="1447560"/>
          </a:xfrm>
          <a:prstGeom prst="star5">
            <a:avLst/>
          </a:prstGeom>
          <a:gradFill rotWithShape="0">
            <a:gsLst>
              <a:gs pos="0">
                <a:srgbClr val="6cf496"/>
              </a:gs>
              <a:gs pos="100000">
                <a:srgbClr val="31704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22ee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8120" y="3124080"/>
            <a:ext cx="1447560" cy="1981440"/>
          </a:xfrm>
          <a:custGeom>
            <a:avLst/>
            <a:gdLst>
              <a:gd name="textAreaLeft" fmla="*/ 596520 w 1447560"/>
              <a:gd name="textAreaRight" fmla="*/ 851040 w 1447560"/>
              <a:gd name="textAreaTop" fmla="*/ 816480 h 1981440"/>
              <a:gd name="textAreaBottom" fmla="*/ 1164960 h 1981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666d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3429000"/>
            <a:ext cx="243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 =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9480" y="434340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  =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24280" y="3429000"/>
            <a:ext cx="373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 + х = 12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24280" y="426708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х – 18 = - 2х +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533412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Какое из четырёх уравнений надо выбрат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5867280"/>
            <a:ext cx="990720" cy="781200"/>
          </a:xfrm>
          <a:prstGeom prst="rect">
            <a:avLst/>
          </a:prstGeom>
          <a:ln w="0">
            <a:noFill/>
          </a:ln>
        </p:spPr>
      </p:pic>
      <p:sp>
        <p:nvSpPr>
          <p:cNvPr id="135" name="">
            <a:hlinkClick r:id="" action="ppaction://hlinkshowjump?jump=nextslide"/>
          </p:cNvPr>
          <p:cNvSpPr/>
          <p:nvPr/>
        </p:nvSpPr>
        <p:spPr>
          <a:xfrm>
            <a:off x="7467480" y="6172200"/>
            <a:ext cx="1295640" cy="368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fefefe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500" autoRev="1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58" dur="500" autoRev="1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59" dur="500" autoRev="1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09-08-15T16:33:34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