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9D0-84A8-481E-A595-B440795B6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20E-8063-45DB-968F-90127912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A47-0868-4C45-BE07-DEED174A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3E8-23E1-4B98-908E-7A4F0F28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99D-B5A0-46A4-A461-090BA4D2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185-0D6D-4B2D-B70B-4450618C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CC5-AB5F-448F-A978-54A5345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A5F-FAE1-41BE-87B4-D3A396EF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3A1-6136-458B-930B-27FE0B23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11B-64F4-4EE2-9E71-2538F166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E8C-C974-41E0-8B59-F8F569C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51C-C6A2-415C-A708-52D9A05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36E-F994-4195-A14F-FCBB330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30B-162E-4320-BEB2-F0AD9E2F1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08360" cy="25923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0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 txBox="1"/>
          <p:nvPr/>
        </p:nvSpPr>
        <p:spPr>
          <a:xfrm>
            <a:off x="900000" y="1341360"/>
            <a:ext cx="76024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едиана, биссектриса, высота.</a:t>
            </a:r>
            <a:endParaRPr b="1" lang="en-US" sz="44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2000" y="404280"/>
            <a:ext cx="67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азработка урока геометрии Вараксиной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Моу Целинная СОШ, п. Целинный, Челябинск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5800" y="9810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52720" cy="268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476360" y="2708280"/>
            <a:ext cx="612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ебник "Геометрия 7-9"  Автор Л.С. Атанасян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00000" y="106200"/>
            <a:ext cx="79567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Высота похожа на кота,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Который, выгнув спину,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И под прямым углом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Соединит вершину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И сторону хвостом.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25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332000" y="2852640"/>
            <a:ext cx="4608360" cy="3024360"/>
          </a:xfrm>
          <a:prstGeom prst="triangle">
            <a:avLst>
              <a:gd name="adj" fmla="val 72245"/>
            </a:avLst>
          </a:prstGeom>
          <a:gradFill rotWithShape="0">
            <a:gsLst>
              <a:gs pos="0">
                <a:srgbClr val="266e09"/>
              </a:gs>
              <a:gs pos="50000">
                <a:srgbClr val="53f014"/>
              </a:gs>
              <a:gs pos="100000">
                <a:srgbClr val="266e0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419640" y="2708280"/>
            <a:ext cx="2447640" cy="3889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43280" y="285264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446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юбой треугольник имеет три выс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3960720" cy="4535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все высоты пересекаются в одной 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Эта точка называется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ортоцентром.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272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rot="21297000">
            <a:off x="4355640" y="2565360"/>
            <a:ext cx="4032360" cy="2376360"/>
          </a:xfrm>
          <a:prstGeom prst="triangle">
            <a:avLst>
              <a:gd name="adj" fmla="val 76875"/>
            </a:avLst>
          </a:prstGeom>
          <a:solidFill>
            <a:srgbClr val="e8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8720" y="2492280"/>
            <a:ext cx="285840" cy="23767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/>
          <p:nvPr/>
        </p:nvCxnSpPr>
        <p:spPr>
          <a:xfrm flipV="1">
            <a:off x="7811640" y="4508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 flipH="1">
            <a:off x="7524720" y="4508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00720" y="3573360"/>
            <a:ext cx="3384360" cy="151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/>
          <p:nvPr/>
        </p:nvCxnSpPr>
        <p:spPr>
          <a:xfrm>
            <a:off x="7740360" y="3645000"/>
            <a:ext cx="14472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86" name=""/>
          <p:cNvCxnSpPr/>
          <p:nvPr/>
        </p:nvCxnSpPr>
        <p:spPr>
          <a:xfrm flipV="1">
            <a:off x="7884720" y="3862080"/>
            <a:ext cx="14364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 flipH="1" flipV="1">
            <a:off x="6732360" y="2997000"/>
            <a:ext cx="1726920" cy="17269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/>
          <p:nvPr/>
        </p:nvCxnSpPr>
        <p:spPr>
          <a:xfrm>
            <a:off x="6516720" y="3213000"/>
            <a:ext cx="21672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89" name=""/>
          <p:cNvCxnSpPr/>
          <p:nvPr/>
        </p:nvCxnSpPr>
        <p:spPr>
          <a:xfrm flipV="1">
            <a:off x="6732360" y="3212640"/>
            <a:ext cx="21636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7308720" y="3645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99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Постройте все  высоты в данных треугольни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ый треугольник 2"/>
          <p:cNvSpPr/>
          <p:nvPr/>
        </p:nvSpPr>
        <p:spPr>
          <a:xfrm>
            <a:off x="990720" y="3200400"/>
            <a:ext cx="3886200" cy="28954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534600" y="25909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105520" y="586728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458640" y="5791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3808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ворческая лаборат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3505320" y="4267080"/>
            <a:ext cx="5333760" cy="1371600"/>
          </a:xfrm>
          <a:prstGeom prst="triangle">
            <a:avLst>
              <a:gd name="adj" fmla="val 32949"/>
            </a:avLst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352680" y="3657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934320" y="571500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458200" y="3657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302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Центр тяжести треугольника, его ортоцентр и точка пересечения биссектрис треугольника называются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(особыми) замечательными точками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626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Замечательные точки есть у треугольника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Точка первая – она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Чувством гордости полна: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Медианы в ней пересекаются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Центром тяжести та точка называется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Ортоцентр – вторая точка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Архимед её открыл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Все высоты в ней встречаются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Удивив учёный мир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Третья точка – тоже важная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Биссектрисы всех углов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Бросив вызов свой отважный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В ней “сошлись”, не тратя слов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Эйлер точки все заметил, 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Свойства новые откры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313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1873440" cy="2592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587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80360" y="58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588000" y="2637000"/>
            <a:ext cx="237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 flipH="1">
            <a:off x="5410080" y="3429000"/>
            <a:ext cx="3733920" cy="2673360"/>
          </a:xfrm>
          <a:custGeom>
            <a:avLst/>
            <a:gdLst/>
            <a:ahLst/>
            <a:rect l="l" t="t" r="r" b="b"/>
            <a:pathLst>
              <a:path w="1776" h="1824">
                <a:moveTo>
                  <a:pt x="1056" y="0"/>
                </a:moveTo>
                <a:lnTo>
                  <a:pt x="0" y="1824"/>
                </a:lnTo>
                <a:lnTo>
                  <a:pt x="1776" y="1824"/>
                </a:lnTo>
                <a:lnTo>
                  <a:pt x="105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175440" y="4695480"/>
            <a:ext cx="2968560" cy="140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4835160"/>
            <a:ext cx="2681280" cy="126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941880" y="3429000"/>
            <a:ext cx="477720" cy="267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134120" y="5116680"/>
            <a:ext cx="28584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080040" y="4624560"/>
            <a:ext cx="19224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994520" y="4765680"/>
            <a:ext cx="192240" cy="13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24560" y="6031080"/>
            <a:ext cx="19224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69280" y="5791320"/>
            <a:ext cx="16524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4" y="0"/>
                </a:moveTo>
                <a:cubicBezTo>
                  <a:pt x="60" y="32"/>
                  <a:pt x="16" y="64"/>
                  <a:pt x="8" y="96"/>
                </a:cubicBezTo>
                <a:cubicBezTo>
                  <a:pt x="0" y="128"/>
                  <a:pt x="28" y="160"/>
                  <a:pt x="56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458200" y="5486400"/>
            <a:ext cx="165240" cy="30492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4" y="0"/>
                </a:moveTo>
                <a:cubicBezTo>
                  <a:pt x="60" y="32"/>
                  <a:pt x="16" y="64"/>
                  <a:pt x="8" y="96"/>
                </a:cubicBezTo>
                <a:cubicBezTo>
                  <a:pt x="0" y="128"/>
                  <a:pt x="28" y="160"/>
                  <a:pt x="56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878440" y="5753880"/>
            <a:ext cx="358200" cy="379800"/>
            <a:chOff x="5878440" y="5753880"/>
            <a:chExt cx="358200" cy="379800"/>
          </a:xfrm>
        </p:grpSpPr>
        <p:sp>
          <p:nvSpPr>
            <p:cNvPr id="336" name=""/>
            <p:cNvSpPr/>
            <p:nvPr/>
          </p:nvSpPr>
          <p:spPr>
            <a:xfrm rot="8803200">
              <a:off x="6001200" y="5774040"/>
              <a:ext cx="165240" cy="30456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8803200">
              <a:off x="5948280" y="5808960"/>
              <a:ext cx="164880" cy="30456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649480" y="5448600"/>
            <a:ext cx="399960" cy="443520"/>
            <a:chOff x="5649480" y="5448600"/>
            <a:chExt cx="399960" cy="443520"/>
          </a:xfrm>
        </p:grpSpPr>
        <p:sp>
          <p:nvSpPr>
            <p:cNvPr id="339" name=""/>
            <p:cNvSpPr/>
            <p:nvPr/>
          </p:nvSpPr>
          <p:spPr>
            <a:xfrm rot="8803200">
              <a:off x="5793120" y="5462280"/>
              <a:ext cx="165240" cy="38088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8803200">
              <a:off x="5740200" y="5497200"/>
              <a:ext cx="164880" cy="38088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987960" y="3688560"/>
            <a:ext cx="273240" cy="241920"/>
            <a:chOff x="6987960" y="3688560"/>
            <a:chExt cx="273240" cy="241920"/>
          </a:xfrm>
        </p:grpSpPr>
        <p:sp>
          <p:nvSpPr>
            <p:cNvPr id="342" name=""/>
            <p:cNvSpPr/>
            <p:nvPr/>
          </p:nvSpPr>
          <p:spPr>
            <a:xfrm rot="14526000">
              <a:off x="7099560" y="3726000"/>
              <a:ext cx="82440" cy="22860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4526000">
              <a:off x="7081560" y="3692160"/>
              <a:ext cx="82440" cy="22860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4526000">
              <a:off x="7066800" y="3664080"/>
              <a:ext cx="82440" cy="22860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693480" y="3699000"/>
            <a:ext cx="322920" cy="205920"/>
            <a:chOff x="6693480" y="3699000"/>
            <a:chExt cx="322920" cy="205920"/>
          </a:xfrm>
        </p:grpSpPr>
        <p:sp>
          <p:nvSpPr>
            <p:cNvPr id="346" name=""/>
            <p:cNvSpPr/>
            <p:nvPr/>
          </p:nvSpPr>
          <p:spPr>
            <a:xfrm rot="15333000">
              <a:off x="6825600" y="3682440"/>
              <a:ext cx="73800" cy="29844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333000">
              <a:off x="6817320" y="3649320"/>
              <a:ext cx="73800" cy="29844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5333000">
              <a:off x="6810120" y="3622320"/>
              <a:ext cx="73800" cy="29844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3352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Центр тяже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3124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Ортоцент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228600"/>
            <a:ext cx="2971800" cy="2895480"/>
          </a:xfrm>
          <a:custGeom>
            <a:avLst/>
            <a:gdLst/>
            <a:ahLst/>
            <a:rect l="l" t="t" r="r" b="b"/>
            <a:pathLst>
              <a:path w="1776" h="1824">
                <a:moveTo>
                  <a:pt x="1056" y="0"/>
                </a:moveTo>
                <a:lnTo>
                  <a:pt x="0" y="1824"/>
                </a:lnTo>
                <a:lnTo>
                  <a:pt x="1776" y="1824"/>
                </a:lnTo>
                <a:lnTo>
                  <a:pt x="1056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57200" y="1599840"/>
            <a:ext cx="236232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1294920" y="1752480"/>
            <a:ext cx="213372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828800" y="228240"/>
            <a:ext cx="380880" cy="289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057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15238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1676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3048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8693000">
            <a:off x="1785240" y="829080"/>
            <a:ext cx="1800" cy="18072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8693000">
            <a:off x="1828080" y="770400"/>
            <a:ext cx="1440" cy="18072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8693000">
            <a:off x="984960" y="2184840"/>
            <a:ext cx="1800" cy="18108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8693000">
            <a:off x="1027800" y="2126160"/>
            <a:ext cx="1440" cy="18108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30481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90920" y="30481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369880" y="767880"/>
            <a:ext cx="160560" cy="16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396880" y="794880"/>
            <a:ext cx="160560" cy="16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422440" y="820080"/>
            <a:ext cx="160560" cy="16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903400" y="2063160"/>
            <a:ext cx="212760" cy="215640"/>
            <a:chOff x="2903400" y="2063160"/>
            <a:chExt cx="212760" cy="215640"/>
          </a:xfrm>
        </p:grpSpPr>
        <p:sp>
          <p:nvSpPr>
            <p:cNvPr id="369" name=""/>
            <p:cNvSpPr/>
            <p:nvPr/>
          </p:nvSpPr>
          <p:spPr>
            <a:xfrm flipH="1">
              <a:off x="2903400" y="2063160"/>
              <a:ext cx="160560" cy="16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930400" y="2090160"/>
              <a:ext cx="160560" cy="16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955600" y="2115720"/>
              <a:ext cx="160560" cy="16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659400" y="403848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нцен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1588000">
            <a:off x="4572000" y="228240"/>
            <a:ext cx="3505320" cy="274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4307000">
            <a:off x="6793920" y="1392120"/>
            <a:ext cx="457200" cy="15228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48"/>
                </a:moveTo>
                <a:lnTo>
                  <a:pt x="0" y="0"/>
                </a:lnTo>
                <a:lnTo>
                  <a:pt x="288" y="0"/>
                </a:lnTo>
                <a:lnTo>
                  <a:pt x="288" y="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7270800">
            <a:off x="5435280" y="1371240"/>
            <a:ext cx="457200" cy="15264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48"/>
                </a:moveTo>
                <a:lnTo>
                  <a:pt x="0" y="0"/>
                </a:lnTo>
                <a:lnTo>
                  <a:pt x="288" y="0"/>
                </a:lnTo>
                <a:lnTo>
                  <a:pt x="288" y="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78600" y="2820960"/>
            <a:ext cx="457200" cy="15228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48"/>
                </a:moveTo>
                <a:lnTo>
                  <a:pt x="0" y="0"/>
                </a:lnTo>
                <a:lnTo>
                  <a:pt x="288" y="0"/>
                </a:lnTo>
                <a:lnTo>
                  <a:pt x="288" y="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614120" y="1433520"/>
            <a:ext cx="2465280" cy="1519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7400">
            <a:off x="7009920" y="1341360"/>
            <a:ext cx="15264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554080" y="1401840"/>
            <a:ext cx="2540880" cy="1541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7400">
            <a:off x="5486040" y="1333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7920" y="270000"/>
            <a:ext cx="28800" cy="274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7400">
            <a:off x="6240240" y="29368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7400">
            <a:off x="6246720" y="1794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385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4000" y="5661000"/>
            <a:ext cx="78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биссектрис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3068640"/>
            <a:ext cx="2560680" cy="2500200"/>
          </a:xfrm>
          <a:prstGeom prst="triangle">
            <a:avLst>
              <a:gd name="adj" fmla="val 29884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720960" y="-592560"/>
            <a:ext cx="533520" cy="7373520"/>
            <a:chOff x="3720960" y="-592560"/>
            <a:chExt cx="533520" cy="7373520"/>
          </a:xfrm>
        </p:grpSpPr>
        <p:grpSp>
          <p:nvGrpSpPr>
            <p:cNvPr id="396" name=""/>
            <p:cNvGrpSpPr/>
            <p:nvPr/>
          </p:nvGrpSpPr>
          <p:grpSpPr>
            <a:xfrm>
              <a:off x="3720960" y="-592560"/>
              <a:ext cx="457200" cy="858600"/>
              <a:chOff x="3720960" y="-592560"/>
              <a:chExt cx="457200" cy="858600"/>
            </a:xfrm>
          </p:grpSpPr>
          <p:sp>
            <p:nvSpPr>
              <p:cNvPr id="397" name=""/>
              <p:cNvSpPr/>
              <p:nvPr/>
            </p:nvSpPr>
            <p:spPr>
              <a:xfrm flipH="1" flipV="1">
                <a:off x="3720960" y="-592560"/>
                <a:ext cx="457200" cy="83160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3806640" y="167400"/>
                <a:ext cx="293760" cy="98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3772080" y="-508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797280" y="5922720"/>
              <a:ext cx="457200" cy="858240"/>
              <a:chOff x="3797280" y="5922720"/>
              <a:chExt cx="457200" cy="858240"/>
            </a:xfrm>
          </p:grpSpPr>
          <p:sp>
            <p:nvSpPr>
              <p:cNvPr id="401" name=""/>
              <p:cNvSpPr/>
              <p:nvPr/>
            </p:nvSpPr>
            <p:spPr>
              <a:xfrm>
                <a:off x="3797280" y="5949360"/>
                <a:ext cx="457200" cy="83160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333333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75040" y="5922720"/>
                <a:ext cx="293760" cy="982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24640" y="6176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3949560" y="215640"/>
              <a:ext cx="30240" cy="286200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75120" y="3085920"/>
              <a:ext cx="29880" cy="286164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 rot="246000">
            <a:off x="236160" y="1771560"/>
            <a:ext cx="2751120" cy="3652920"/>
          </a:xfrm>
          <a:prstGeom prst="triangle">
            <a:avLst>
              <a:gd name="adj" fmla="val 31347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473800">
            <a:off x="350640" y="3997080"/>
            <a:ext cx="27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Arial"/>
              </a:rPr>
              <a:t>м е д  и  а  н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77840" y="2641680"/>
            <a:ext cx="837720" cy="1892160"/>
            <a:chOff x="177840" y="2641680"/>
            <a:chExt cx="837720" cy="1892160"/>
          </a:xfrm>
        </p:grpSpPr>
        <p:sp>
          <p:nvSpPr>
            <p:cNvPr id="409" name=""/>
            <p:cNvSpPr/>
            <p:nvPr/>
          </p:nvSpPr>
          <p:spPr>
            <a:xfrm>
              <a:off x="177840" y="443232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0" y="0"/>
                  </a:moveTo>
                  <a:lnTo>
                    <a:pt x="176" y="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4720" y="2641680"/>
              <a:ext cx="240840" cy="101520"/>
            </a:xfrm>
            <a:custGeom>
              <a:avLst/>
              <a:gdLst/>
              <a:ahLst/>
              <a:rect l="l" t="t" r="r" b="b"/>
              <a:pathLst>
                <a:path w="152" h="64">
                  <a:moveTo>
                    <a:pt x="152" y="6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20640" y="3594240"/>
            <a:ext cx="2222640" cy="1917720"/>
          </a:xfrm>
          <a:custGeom>
            <a:avLst/>
            <a:gdLst/>
            <a:ahLst/>
            <a:rect l="l" t="t" r="r" b="b"/>
            <a:pathLst>
              <a:path w="1400" h="1208">
                <a:moveTo>
                  <a:pt x="1400" y="120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75120" y="3073320"/>
            <a:ext cx="12600" cy="2514600"/>
          </a:xfrm>
          <a:custGeom>
            <a:avLst/>
            <a:gdLst/>
            <a:ahLst/>
            <a:rect l="l" t="t" r="r" b="b"/>
            <a:pathLst>
              <a:path w="8" h="1584">
                <a:moveTo>
                  <a:pt x="0" y="0"/>
                </a:moveTo>
                <a:lnTo>
                  <a:pt x="8" y="1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779640" y="5373720"/>
            <a:ext cx="215640" cy="215640"/>
            <a:chOff x="3779640" y="5373720"/>
            <a:chExt cx="215640" cy="215640"/>
          </a:xfrm>
        </p:grpSpPr>
        <p:sp>
          <p:nvSpPr>
            <p:cNvPr id="414" name=""/>
            <p:cNvSpPr/>
            <p:nvPr/>
          </p:nvSpPr>
          <p:spPr>
            <a:xfrm flipH="1">
              <a:off x="3779640" y="537372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779640" y="5373720"/>
              <a:ext cx="9360" cy="215640"/>
            </a:xfrm>
            <a:custGeom>
              <a:avLst/>
              <a:gdLst/>
              <a:ahLst/>
              <a:rect l="l" t="t" r="r" b="b"/>
              <a:pathLst>
                <a:path w="6" h="136">
                  <a:moveTo>
                    <a:pt x="6" y="0"/>
                  </a:moveTo>
                  <a:lnTo>
                    <a:pt x="0" y="1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826800" y="3225960"/>
            <a:ext cx="570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96000" y="1557360"/>
            <a:ext cx="3184560" cy="3816360"/>
          </a:xfrm>
          <a:prstGeom prst="triangle">
            <a:avLst>
              <a:gd name="adj" fmla="val 39731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859280" y="2708280"/>
            <a:ext cx="4120920" cy="2665080"/>
            <a:chOff x="4859280" y="2708280"/>
            <a:chExt cx="4120920" cy="2665080"/>
          </a:xfrm>
        </p:grpSpPr>
        <p:sp>
          <p:nvSpPr>
            <p:cNvPr id="419" name=""/>
            <p:cNvSpPr/>
            <p:nvPr/>
          </p:nvSpPr>
          <p:spPr>
            <a:xfrm rot="2442000">
              <a:off x="8380440" y="4635000"/>
              <a:ext cx="197640" cy="37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273800">
              <a:off x="8192520" y="4941000"/>
              <a:ext cx="19152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59280" y="2708280"/>
              <a:ext cx="4120920" cy="266508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375240" y="3670200"/>
            <a:ext cx="2579760" cy="1665360"/>
          </a:xfrm>
          <a:custGeom>
            <a:avLst/>
            <a:gdLst/>
            <a:ahLst/>
            <a:rect l="l" t="t" r="r" b="b"/>
            <a:pathLst>
              <a:path w="1625" h="1049">
                <a:moveTo>
                  <a:pt x="0" y="0"/>
                </a:moveTo>
                <a:lnTo>
                  <a:pt x="1625" y="10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2000">
            <a:off x="6385320" y="40053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99480" y="17524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30120" y="17524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838080"/>
            <a:ext cx="843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пендикуляр, проведенный из вершины треугольника к прямой, содержащей противоположную сторону, называется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ысот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15228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езок, соединяющий вершину треугольника с серединой противоположной стороны, называ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ан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67000" y="17524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7" dur="indefinite" restart="never" nodeType="tmRoot">
          <p:childTnLst>
            <p:seq>
              <p:cTn id="96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9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000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2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3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464040" y="189000"/>
            <a:ext cx="3077280" cy="2115360"/>
            <a:chOff x="464040" y="189000"/>
            <a:chExt cx="3077280" cy="2115360"/>
          </a:xfrm>
        </p:grpSpPr>
        <p:sp>
          <p:nvSpPr>
            <p:cNvPr id="430" name=""/>
            <p:cNvSpPr/>
            <p:nvPr/>
          </p:nvSpPr>
          <p:spPr>
            <a:xfrm>
              <a:off x="755640" y="189000"/>
              <a:ext cx="2592360" cy="2087640"/>
            </a:xfrm>
            <a:prstGeom prst="triangle">
              <a:avLst>
                <a:gd name="adj" fmla="val 855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916000" y="692280"/>
              <a:ext cx="215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132000" y="1700280"/>
              <a:ext cx="216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040" y="18446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23000" y="981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68360" y="4653000"/>
            <a:ext cx="2735280" cy="1728720"/>
          </a:xfrm>
          <a:prstGeom prst="triangle">
            <a:avLst>
              <a:gd name="adj" fmla="val 6815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601600">
            <a:off x="1173960" y="2095920"/>
            <a:ext cx="2230560" cy="3168720"/>
          </a:xfrm>
          <a:prstGeom prst="triangle">
            <a:avLst>
              <a:gd name="adj" fmla="val 7609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5640" y="1267920"/>
            <a:ext cx="244800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40000" y="4653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124000" y="616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24000" y="6165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9418800">
            <a:off x="899280" y="4437000"/>
            <a:ext cx="1573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7066200">
            <a:off x="721440" y="4255200"/>
            <a:ext cx="14436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1280" y="3284280"/>
            <a:ext cx="143964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0836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67520" y="33336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ак называется отрезок А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14560" y="98100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28280" y="148428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43120" y="191628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221200">
            <a:off x="1125000" y="1371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м е д и а 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98560" y="494172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98560" y="292428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29920" y="342900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6840" y="537372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98760" y="386064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927120" y="580536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8978600">
            <a:off x="582120" y="360324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052360" y="4797360"/>
            <a:ext cx="36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5680" y="4437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9320" y="4581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70640" y="29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11500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64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6" dur="indefinite" restart="never" nodeType="tmRoot">
          <p:childTnLst>
            <p:seq>
              <p:cTn id="1067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4360" y="3141720"/>
            <a:ext cx="6048360" cy="2374920"/>
          </a:xfrm>
          <a:prstGeom prst="triangle">
            <a:avLst>
              <a:gd name="adj" fmla="val 29815"/>
            </a:avLst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84360" y="3141720"/>
            <a:ext cx="503280" cy="2374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84360" y="4365360"/>
            <a:ext cx="395892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1115640" y="2492280"/>
            <a:ext cx="1368360" cy="649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84360" y="2923920"/>
            <a:ext cx="1295280" cy="25923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618920" y="278136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19280" y="2997360"/>
            <a:ext cx="288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3432800">
            <a:off x="2626920" y="328392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7086800">
            <a:off x="2311200" y="338580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419280" y="3573360"/>
            <a:ext cx="215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435640" y="465300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54640" y="2421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54960" y="544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76800" y="2708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112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0200" y="5516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24920" y="400536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8600" y="152280"/>
            <a:ext cx="83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 рисунке построены высота, биссектриса, ме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Щелкни мышкой на ответ, который ты считаешь верны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949720" y="11253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61480" y="27082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6080" y="10526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38160" y="3357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79240" y="162864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2000" y="14479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46800" y="148428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715520" y="162864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07520" y="335772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9400" y="148428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03760" y="162864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015040" y="335772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0675400">
            <a:off x="758520" y="472392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м  е  д  и  а  н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4603800">
            <a:off x="1953360" y="434340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7882400">
            <a:off x="-16560" y="390924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В   Ы   С   О   Т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06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5" dur="indefinite" restart="never" nodeType="tmRoot">
          <p:childTnLst>
            <p:seq>
              <p:cTn id="1086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3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154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8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69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37680" y="160020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1600200"/>
            <a:ext cx="2098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11080" y="228600"/>
            <a:ext cx="71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 каком отрезке это определение. а) Щёлкни мышкой по названию.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4360" y="3068640"/>
            <a:ext cx="1584360" cy="504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ум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609480"/>
            <a:ext cx="633888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езок, соединяющий вершину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 серединой противоположной сторон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003640" y="2696400"/>
            <a:ext cx="3896280" cy="3828240"/>
            <a:chOff x="5003640" y="2696400"/>
            <a:chExt cx="3896280" cy="3828240"/>
          </a:xfrm>
        </p:grpSpPr>
        <p:sp>
          <p:nvSpPr>
            <p:cNvPr id="521" name=""/>
            <p:cNvSpPr/>
            <p:nvPr/>
          </p:nvSpPr>
          <p:spPr>
            <a:xfrm rot="19945800">
              <a:off x="6660720" y="2846520"/>
              <a:ext cx="1511280" cy="3514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870000">
              <a:off x="5354280" y="3139920"/>
              <a:ext cx="2611440" cy="3095640"/>
            </a:xfrm>
            <a:prstGeom prst="triangle">
              <a:avLst>
                <a:gd name="adj" fmla="val 31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92720" y="5084640"/>
              <a:ext cx="2872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5867280" y="3931920"/>
              <a:ext cx="2174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03640" y="5805360"/>
              <a:ext cx="3889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5724000" y="4508640"/>
              <a:ext cx="1800360" cy="20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68360" y="4869000"/>
            <a:ext cx="3887640" cy="1584360"/>
            <a:chOff x="468360" y="4869000"/>
            <a:chExt cx="3887640" cy="1584360"/>
          </a:xfrm>
        </p:grpSpPr>
        <p:sp>
          <p:nvSpPr>
            <p:cNvPr id="528" name=""/>
            <p:cNvSpPr/>
            <p:nvPr/>
          </p:nvSpPr>
          <p:spPr>
            <a:xfrm>
              <a:off x="468360" y="4869000"/>
              <a:ext cx="3887640" cy="1584360"/>
            </a:xfrm>
            <a:prstGeom prst="triangle">
              <a:avLst>
                <a:gd name="adj" fmla="val 70231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2916360" y="4869000"/>
              <a:ext cx="28728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5746400">
              <a:off x="3204360" y="5080320"/>
              <a:ext cx="142920" cy="28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7952600">
              <a:off x="2920320" y="5019840"/>
              <a:ext cx="1303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68360" y="3116520"/>
            <a:ext cx="3743280" cy="2353320"/>
            <a:chOff x="468360" y="3116520"/>
            <a:chExt cx="3743280" cy="2353320"/>
          </a:xfrm>
        </p:grpSpPr>
        <p:sp>
          <p:nvSpPr>
            <p:cNvPr id="533" name=""/>
            <p:cNvSpPr/>
            <p:nvPr/>
          </p:nvSpPr>
          <p:spPr>
            <a:xfrm>
              <a:off x="3564000" y="3141720"/>
              <a:ext cx="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9288000">
              <a:off x="539640" y="3789000"/>
              <a:ext cx="3384720" cy="1008000"/>
            </a:xfrm>
            <a:prstGeom prst="triangle">
              <a:avLst>
                <a:gd name="adj" fmla="val 31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68360" y="4437000"/>
              <a:ext cx="3743280" cy="144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64000" y="4221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80000" y="422100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 rot="2898600">
            <a:off x="5362920" y="5223240"/>
            <a:ext cx="27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м    е   д    и   а    н   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6891200">
            <a:off x="2154240" y="5519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06760" y="3048120"/>
            <a:ext cx="3682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57040" y="1600200"/>
            <a:ext cx="12733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981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50040" y="2209680"/>
            <a:ext cx="539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Щёлкни мышкой по чертежу, где ты нашел эти отре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46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3" dur="indefinite" restart="never" nodeType="tmRoot">
          <p:childTnLst>
            <p:seq>
              <p:cTn id="1174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175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17919E-006 L 0.29028 -0.11283 E">
                                      <p:cBhvr>
                                        <p:cTn id="1178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5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196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2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05920" y="2765520"/>
            <a:ext cx="3533040" cy="2993760"/>
            <a:chOff x="205920" y="2765520"/>
            <a:chExt cx="3533040" cy="2993760"/>
          </a:xfrm>
        </p:grpSpPr>
        <p:sp>
          <p:nvSpPr>
            <p:cNvPr id="555" name=""/>
            <p:cNvSpPr/>
            <p:nvPr/>
          </p:nvSpPr>
          <p:spPr>
            <a:xfrm rot="9038400">
              <a:off x="420480" y="3417480"/>
              <a:ext cx="3103560" cy="16891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16360" y="2781360"/>
              <a:ext cx="11160" cy="1466640"/>
            </a:xfrm>
            <a:custGeom>
              <a:avLst/>
              <a:gdLst/>
              <a:ahLst/>
              <a:rect l="l" t="t" r="r" b="b"/>
              <a:pathLst>
                <a:path w="7" h="924">
                  <a:moveTo>
                    <a:pt x="0" y="0"/>
                  </a:moveTo>
                  <a:lnTo>
                    <a:pt x="7" y="9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00360" y="400536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844720" y="2852640"/>
            <a:ext cx="400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13560" y="1600200"/>
            <a:ext cx="1488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880" y="1600200"/>
            <a:ext cx="2140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5480" y="228600"/>
            <a:ext cx="64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 каком отрезке это определение. а) Щёлкни мышкой по наз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0920" y="2781360"/>
            <a:ext cx="1655640" cy="576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413040" y="2253960"/>
            <a:ext cx="2635920" cy="3348720"/>
            <a:chOff x="6413040" y="2253960"/>
            <a:chExt cx="2635920" cy="3348720"/>
          </a:xfrm>
        </p:grpSpPr>
        <p:sp>
          <p:nvSpPr>
            <p:cNvPr id="565" name=""/>
            <p:cNvSpPr/>
            <p:nvPr/>
          </p:nvSpPr>
          <p:spPr>
            <a:xfrm rot="20009400">
              <a:off x="7250040" y="2344320"/>
              <a:ext cx="1152720" cy="3167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46000">
              <a:off x="6516360" y="2565000"/>
              <a:ext cx="1582560" cy="2954520"/>
            </a:xfrm>
            <a:prstGeom prst="triangle">
              <a:avLst>
                <a:gd name="adj" fmla="val 3023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43640" y="4724280"/>
              <a:ext cx="2872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6804000" y="3284280"/>
              <a:ext cx="2174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51560" y="5041800"/>
              <a:ext cx="2578320" cy="406440"/>
            </a:xfrm>
            <a:custGeom>
              <a:avLst/>
              <a:gdLst/>
              <a:ahLst/>
              <a:rect l="l" t="t" r="r" b="b"/>
              <a:pathLst>
                <a:path w="1624" h="256">
                  <a:moveTo>
                    <a:pt x="0" y="256"/>
                  </a:moveTo>
                  <a:lnTo>
                    <a:pt x="16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6732720" y="4005000"/>
              <a:ext cx="129528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50920" y="4653000"/>
            <a:ext cx="3097080" cy="1877760"/>
            <a:chOff x="250920" y="4653000"/>
            <a:chExt cx="3097080" cy="1877760"/>
          </a:xfrm>
        </p:grpSpPr>
        <p:sp>
          <p:nvSpPr>
            <p:cNvPr id="572" name=""/>
            <p:cNvSpPr/>
            <p:nvPr/>
          </p:nvSpPr>
          <p:spPr>
            <a:xfrm>
              <a:off x="250920" y="4653000"/>
              <a:ext cx="3097080" cy="1871640"/>
            </a:xfrm>
            <a:prstGeom prst="triangle">
              <a:avLst>
                <a:gd name="adj" fmla="val 7181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76360" y="5445000"/>
              <a:ext cx="1871640" cy="10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442000">
              <a:off x="2916000" y="6021000"/>
              <a:ext cx="152280" cy="26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73800">
              <a:off x="2771640" y="6237360"/>
              <a:ext cx="14760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698920" y="4006800"/>
            <a:ext cx="1440" cy="254160"/>
          </a:xfrm>
          <a:custGeom>
            <a:avLst/>
            <a:gdLst/>
            <a:ahLst/>
            <a:rect l="l" t="t" r="r" b="b"/>
            <a:pathLst>
              <a:path w="1" h="160">
                <a:moveTo>
                  <a:pt x="0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3028800">
            <a:off x="6513120" y="436680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Arial"/>
              </a:rPr>
              <a:t>м е д  и  а  н 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762200">
            <a:off x="1520640" y="56386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685800"/>
            <a:ext cx="76201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пендикуляр, проведенный из вершины тре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 прямой, содержащей противоположную сторон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934160" y="1676520"/>
            <a:ext cx="10645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27960" y="616572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Щелкни мышкой по другим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708360" y="3357720"/>
            <a:ext cx="2519280" cy="2492280"/>
            <a:chOff x="3708360" y="3357720"/>
            <a:chExt cx="2519280" cy="2492280"/>
          </a:xfrm>
        </p:grpSpPr>
        <p:sp>
          <p:nvSpPr>
            <p:cNvPr id="583" name=""/>
            <p:cNvSpPr/>
            <p:nvPr/>
          </p:nvSpPr>
          <p:spPr>
            <a:xfrm>
              <a:off x="3708360" y="3357720"/>
              <a:ext cx="2519280" cy="249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932360" y="4076640"/>
              <a:ext cx="115236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 rot="20322000">
            <a:off x="4755960" y="39715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р а д и у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17120" y="2286000"/>
            <a:ext cx="51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Щёлкни мышкой по чертежу, где ты нашел эти уг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8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3" dur="indefinite" restart="never" nodeType="tmRoot">
          <p:childTnLst>
            <p:seq>
              <p:cTn id="1274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7 L 0.30226 -0.08449 E">
                                      <p:cBhvr>
                                        <p:cTn id="1278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355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Lucida Calligraphy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65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55640" y="141300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Введение новых понятий высоты, медианы и биссектрисы треуголь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Развитие логического мышления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Формирование устойчивого познавательного интереса к изучению гео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Воспитание отношений взаимопомощи и сотрудничества между учащимися в процессе познаватель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628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1162800">
            <a:off x="2472840" y="2584440"/>
            <a:ext cx="441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п17, №102, №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 rot="1054800">
            <a:off x="3047760" y="175212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4344000"/>
                </a:gradFill>
                <a:latin typeface="Mistral"/>
              </a:rPr>
              <a:t>Домашнее задание: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4344000"/>
              </a:gradFill>
              <a:latin typeface="Mistral"/>
              <a:ea typeface="Mistr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133720" y="3886200"/>
            <a:ext cx="586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00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Mistral"/>
              </a:rPr>
              <a:t>ВНИМАНИЕ!!!</a:t>
            </a:r>
            <a:endParaRPr b="0" i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00"/>
                  </a:gs>
                  <a:gs pos="100000">
                    <a:srgbClr val="0000ff"/>
                  </a:gs>
                </a:gsLst>
                <a:lin ang="8100000"/>
              </a:gradFill>
              <a:latin typeface="Mistral"/>
              <a:ea typeface="Mistr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280" y="5334120"/>
            <a:ext cx="838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Записать и выполнить!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602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2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6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8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4059"/>
                            </p:stCondLst>
                            <p:childTnLst>
                              <p:par>
                                <p:cTn id="14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385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3" dur="385" fill="hold"/>
                                        <p:tgtEl>
                                          <p:spTgt spid="5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5" dur="385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7" dur="385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25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421" dur="25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22" dur="25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60"/>
                            </p:stCondLst>
                            <p:childTnLst>
                              <p:par>
                                <p:cTn id="14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04920" y="914400"/>
            <a:ext cx="8610480" cy="50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.Геометрия 7-9, Атанасян Л.С., учебник для общеобразовательных школ, М:Просвещение,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льтимедиа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вченко Е.М. Определения в геометрии, «Сеть творческих учителей», 2008 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зарова М.М. Медианы, биссектрисы, высоты треугольника, «Сеть творческих учителей», 2007-2008 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. Логунова Л.В. Прямая пропорциональность, «Сеть творческих учителей»,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612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3040" y="2773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6360" y="5135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09920" y="5745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2120" y="3299760"/>
            <a:ext cx="2689200" cy="2505240"/>
            <a:chOff x="762120" y="3299760"/>
            <a:chExt cx="2689200" cy="2505240"/>
          </a:xfrm>
        </p:grpSpPr>
        <p:sp>
          <p:nvSpPr>
            <p:cNvPr id="78" name=""/>
            <p:cNvSpPr/>
            <p:nvPr/>
          </p:nvSpPr>
          <p:spPr>
            <a:xfrm>
              <a:off x="2684520" y="5038920"/>
              <a:ext cx="766800" cy="766080"/>
            </a:xfrm>
            <a:custGeom>
              <a:avLst/>
              <a:gdLst/>
              <a:ahLst/>
              <a:rect l="l" t="t" r="r" b="b"/>
              <a:pathLst>
                <a:path w="483" h="476">
                  <a:moveTo>
                    <a:pt x="469" y="472"/>
                  </a:moveTo>
                  <a:lnTo>
                    <a:pt x="0" y="372"/>
                  </a:lnTo>
                  <a:lnTo>
                    <a:pt x="50" y="207"/>
                  </a:lnTo>
                  <a:lnTo>
                    <a:pt x="160" y="73"/>
                  </a:lnTo>
                  <a:lnTo>
                    <a:pt x="189" y="0"/>
                  </a:lnTo>
                  <a:lnTo>
                    <a:pt x="197" y="48"/>
                  </a:lnTo>
                  <a:lnTo>
                    <a:pt x="483" y="47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6724800">
              <a:off x="1480680" y="3395880"/>
              <a:ext cx="77256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2120" y="4618800"/>
              <a:ext cx="761760" cy="8496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26920" y="3357720"/>
            <a:ext cx="2664000" cy="2447640"/>
          </a:xfrm>
          <a:custGeom>
            <a:avLst/>
            <a:gdLst/>
            <a:ahLst/>
            <a:rect l="l" t="t" r="r" b="b"/>
            <a:pathLst>
              <a:path w="1678" h="1542">
                <a:moveTo>
                  <a:pt x="0" y="1225"/>
                </a:moveTo>
                <a:lnTo>
                  <a:pt x="590" y="0"/>
                </a:lnTo>
                <a:lnTo>
                  <a:pt x="1678" y="1542"/>
                </a:lnTo>
                <a:lnTo>
                  <a:pt x="0" y="122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8000" y="1052640"/>
            <a:ext cx="73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айдём середину стороны, лежащей на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ерш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5840" y="184464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единим вершину С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 серединой противополож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8720" y="3500280"/>
            <a:ext cx="587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езок, соединяющий верш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еугольника с середи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тивоположной сторо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диано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86" name="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276720"/>
            <a:ext cx="2743200" cy="2552400"/>
            <a:chOff x="762120" y="3276720"/>
            <a:chExt cx="2743200" cy="2552400"/>
          </a:xfrm>
        </p:grpSpPr>
        <p:sp>
          <p:nvSpPr>
            <p:cNvPr id="95" name=""/>
            <p:cNvSpPr/>
            <p:nvPr/>
          </p:nvSpPr>
          <p:spPr>
            <a:xfrm>
              <a:off x="3398760" y="571500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01720" y="327672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5219640"/>
              <a:ext cx="106200" cy="114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82920" y="260280"/>
            <a:ext cx="5246280" cy="762120"/>
            <a:chOff x="682920" y="260280"/>
            <a:chExt cx="5246280" cy="762120"/>
          </a:xfrm>
        </p:grpSpPr>
        <p:sp>
          <p:nvSpPr>
            <p:cNvPr id="99" name=""/>
            <p:cNvSpPr/>
            <p:nvPr/>
          </p:nvSpPr>
          <p:spPr>
            <a:xfrm>
              <a:off x="1227240" y="276120"/>
              <a:ext cx="1271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2920" y="260280"/>
              <a:ext cx="5246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Постройте произвольный </a:t>
              </a:r>
              <a:r>
                <a:rPr b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>
            <a:off x="1186920" y="4365720"/>
            <a:ext cx="71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37893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465300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258920" y="4365360"/>
            <a:ext cx="2160720" cy="1368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134200">
            <a:off x="1546560" y="45810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Медиана-обезьяна,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У которой зоркий глаз,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ыгнет точно в середину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тороны против вершины,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Где находится сейчас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108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56000" y="3645000"/>
            <a:ext cx="2160360" cy="2160360"/>
          </a:xfrm>
          <a:prstGeom prst="triangle">
            <a:avLst>
              <a:gd name="adj" fmla="val 80602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35280" y="3645000"/>
            <a:ext cx="649440" cy="21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446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юбой треугольник имеет три медиа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2000" cy="446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все медианы пересекаются в одной 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а точка называется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центром тяжести треуг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124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778800">
            <a:off x="5292360" y="2421000"/>
            <a:ext cx="2303640" cy="2087640"/>
          </a:xfrm>
          <a:prstGeom prst="triangle">
            <a:avLst>
              <a:gd name="adj" fmla="val 99676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76720" y="3716280"/>
            <a:ext cx="2519640" cy="5047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3357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149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227280" y="2708280"/>
            <a:ext cx="1584360" cy="180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79640" y="42210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51280" y="429264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88000" y="4437000"/>
            <a:ext cx="144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59280" y="4508640"/>
            <a:ext cx="14436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516720" y="3429000"/>
            <a:ext cx="792000" cy="129528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716280"/>
            <a:ext cx="21564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364500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357336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3068640"/>
            <a:ext cx="21564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99736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292428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9640" y="3789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4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499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27640" y="3068640"/>
            <a:ext cx="446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биссектрисой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2133720"/>
            <a:ext cx="3184560" cy="3816360"/>
          </a:xfrm>
          <a:prstGeom prst="triangle">
            <a:avLst>
              <a:gd name="adj" fmla="val 39731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5280" y="3284640"/>
            <a:ext cx="4120920" cy="2665080"/>
            <a:chOff x="395280" y="3284640"/>
            <a:chExt cx="4120920" cy="2665080"/>
          </a:xfrm>
        </p:grpSpPr>
        <p:sp>
          <p:nvSpPr>
            <p:cNvPr id="152" name=""/>
            <p:cNvSpPr/>
            <p:nvPr/>
          </p:nvSpPr>
          <p:spPr>
            <a:xfrm rot="2442000">
              <a:off x="3916440" y="5211360"/>
              <a:ext cx="197640" cy="37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273800">
              <a:off x="3728520" y="5517360"/>
              <a:ext cx="19152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280" y="3284640"/>
              <a:ext cx="4120920" cy="266508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908000" y="4221000"/>
            <a:ext cx="2579760" cy="1665360"/>
          </a:xfrm>
          <a:custGeom>
            <a:avLst/>
            <a:gdLst/>
            <a:ahLst/>
            <a:rect l="l" t="t" r="r" b="b"/>
            <a:pathLst>
              <a:path w="1625" h="1049">
                <a:moveTo>
                  <a:pt x="0" y="0"/>
                </a:moveTo>
                <a:lnTo>
                  <a:pt x="1625" y="10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62000">
            <a:off x="2133720" y="43653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15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16000" y="54936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остройте произвольный треугольник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1125360"/>
            <a:ext cx="70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 помощью транспортира проведите биссектрису СК угла С. Она пересечёт отрезок АВ в точке К. Отрезок СК называется биссектрисой угла С треугольника АВС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877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5805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987640" y="2060640"/>
            <a:ext cx="3184560" cy="3816360"/>
          </a:xfrm>
          <a:prstGeom prst="triangle">
            <a:avLst>
              <a:gd name="adj" fmla="val 39731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0920" y="3213000"/>
            <a:ext cx="4120920" cy="2665080"/>
            <a:chOff x="2050920" y="3213000"/>
            <a:chExt cx="4120920" cy="2665080"/>
          </a:xfrm>
        </p:grpSpPr>
        <p:sp>
          <p:nvSpPr>
            <p:cNvPr id="174" name=""/>
            <p:cNvSpPr/>
            <p:nvPr/>
          </p:nvSpPr>
          <p:spPr>
            <a:xfrm rot="2442000">
              <a:off x="5572080" y="5139720"/>
              <a:ext cx="197640" cy="37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273800">
              <a:off x="5384160" y="5445720"/>
              <a:ext cx="19152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0920" y="3213000"/>
              <a:ext cx="4120920" cy="266508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flipH="1" rot="1926600">
            <a:off x="2843280" y="4365720"/>
            <a:ext cx="3351240" cy="37152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17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116000" y="54936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Биссектриса- это крыса, которая бегает по углам и делит угол пополам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446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юбой треугольник имеет три биссектри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032000" cy="4104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все биссектрисы пересекаются в одной 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то точка называется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инцен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191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 rot="1020000">
            <a:off x="4781160" y="2952720"/>
            <a:ext cx="4367160" cy="2460600"/>
          </a:xfrm>
          <a:prstGeom prst="triangle">
            <a:avLst>
              <a:gd name="adj" fmla="val 4196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508720" y="4005360"/>
            <a:ext cx="3166920" cy="2015640"/>
            <a:chOff x="5508720" y="4005360"/>
            <a:chExt cx="3166920" cy="2015640"/>
          </a:xfrm>
        </p:grpSpPr>
        <p:sp>
          <p:nvSpPr>
            <p:cNvPr id="201" name=""/>
            <p:cNvSpPr/>
            <p:nvPr/>
          </p:nvSpPr>
          <p:spPr>
            <a:xfrm rot="2442000">
              <a:off x="8214480" y="5462280"/>
              <a:ext cx="15156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73800">
              <a:off x="8070480" y="5693760"/>
              <a:ext cx="146880" cy="29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8720" y="4005360"/>
              <a:ext cx="3166920" cy="201564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498200" y="3166560"/>
            <a:ext cx="3532680" cy="3190680"/>
            <a:chOff x="4498200" y="3166560"/>
            <a:chExt cx="3532680" cy="3190680"/>
          </a:xfrm>
        </p:grpSpPr>
        <p:sp>
          <p:nvSpPr>
            <p:cNvPr id="205" name=""/>
            <p:cNvSpPr/>
            <p:nvPr/>
          </p:nvSpPr>
          <p:spPr>
            <a:xfrm rot="11374800">
              <a:off x="4942440" y="4713480"/>
              <a:ext cx="141480" cy="27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206600">
              <a:off x="4942440" y="4440960"/>
              <a:ext cx="137160" cy="28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8932800">
              <a:off x="4788000" y="3789720"/>
              <a:ext cx="2952720" cy="194436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734800" y="2916360"/>
            <a:ext cx="2114640" cy="2469600"/>
            <a:chOff x="5734800" y="2916360"/>
            <a:chExt cx="2114640" cy="2469600"/>
          </a:xfrm>
        </p:grpSpPr>
        <p:sp>
          <p:nvSpPr>
            <p:cNvPr id="209" name=""/>
            <p:cNvSpPr/>
            <p:nvPr/>
          </p:nvSpPr>
          <p:spPr>
            <a:xfrm rot="17168400">
              <a:off x="6779160" y="3168000"/>
              <a:ext cx="100080" cy="19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9f3a5"/>
            </a:solidFill>
            <a:ln w="12600">
              <a:solidFill>
                <a:srgbClr val="f9f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000800">
              <a:off x="6967080" y="3185280"/>
              <a:ext cx="96840" cy="20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9f3a5"/>
            </a:solidFill>
            <a:ln w="12600">
              <a:solidFill>
                <a:srgbClr val="f9f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4726400">
              <a:off x="5747400" y="3466080"/>
              <a:ext cx="2089080" cy="137016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9f3a5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588000" y="4653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3040" y="2773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360" y="5135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09920" y="5745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62120" y="3299760"/>
            <a:ext cx="2689200" cy="2505240"/>
            <a:chOff x="762120" y="3299760"/>
            <a:chExt cx="2689200" cy="2505240"/>
          </a:xfrm>
        </p:grpSpPr>
        <p:sp>
          <p:nvSpPr>
            <p:cNvPr id="217" name=""/>
            <p:cNvSpPr/>
            <p:nvPr/>
          </p:nvSpPr>
          <p:spPr>
            <a:xfrm>
              <a:off x="2684520" y="5038920"/>
              <a:ext cx="766800" cy="766080"/>
            </a:xfrm>
            <a:custGeom>
              <a:avLst/>
              <a:gdLst/>
              <a:ahLst/>
              <a:rect l="l" t="t" r="r" b="b"/>
              <a:pathLst>
                <a:path w="483" h="476">
                  <a:moveTo>
                    <a:pt x="469" y="472"/>
                  </a:moveTo>
                  <a:lnTo>
                    <a:pt x="0" y="372"/>
                  </a:lnTo>
                  <a:lnTo>
                    <a:pt x="50" y="207"/>
                  </a:lnTo>
                  <a:lnTo>
                    <a:pt x="160" y="73"/>
                  </a:lnTo>
                  <a:lnTo>
                    <a:pt x="189" y="0"/>
                  </a:lnTo>
                  <a:lnTo>
                    <a:pt x="197" y="48"/>
                  </a:lnTo>
                  <a:lnTo>
                    <a:pt x="483" y="47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6724800">
              <a:off x="1480680" y="3395880"/>
              <a:ext cx="77256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4618800"/>
              <a:ext cx="761760" cy="8496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26920" y="3357720"/>
            <a:ext cx="2664000" cy="2447640"/>
          </a:xfrm>
          <a:custGeom>
            <a:avLst/>
            <a:gdLst/>
            <a:ahLst/>
            <a:rect l="l" t="t" r="r" b="b"/>
            <a:pathLst>
              <a:path w="1678" h="1542">
                <a:moveTo>
                  <a:pt x="0" y="1225"/>
                </a:moveTo>
                <a:lnTo>
                  <a:pt x="590" y="0"/>
                </a:lnTo>
                <a:lnTo>
                  <a:pt x="1678" y="1542"/>
                </a:lnTo>
                <a:lnTo>
                  <a:pt x="0" y="122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105264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 Rounded MT Bold"/>
              </a:rPr>
              <a:t>С помощью чертёжного угольника из вершины В треугольника АВС проведём перпендикуляр ВН к прямой АС. Он называется высотой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5840" y="2708280"/>
            <a:ext cx="548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ерпендикуля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проведённый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ершины треугольника к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держащей противополож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орону,  называется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ыс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24" name="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26920" y="3284640"/>
            <a:ext cx="2743200" cy="2552400"/>
            <a:chOff x="826920" y="3284640"/>
            <a:chExt cx="2743200" cy="2552400"/>
          </a:xfrm>
        </p:grpSpPr>
        <p:sp>
          <p:nvSpPr>
            <p:cNvPr id="233" name=""/>
            <p:cNvSpPr/>
            <p:nvPr/>
          </p:nvSpPr>
          <p:spPr>
            <a:xfrm>
              <a:off x="3463560" y="572292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66520" y="328464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6920" y="5227560"/>
              <a:ext cx="106200" cy="114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82560" y="260280"/>
            <a:ext cx="5423040" cy="762120"/>
            <a:chOff x="682560" y="260280"/>
            <a:chExt cx="5423040" cy="762120"/>
          </a:xfrm>
        </p:grpSpPr>
        <p:sp>
          <p:nvSpPr>
            <p:cNvPr id="237" name=""/>
            <p:cNvSpPr/>
            <p:nvPr/>
          </p:nvSpPr>
          <p:spPr>
            <a:xfrm>
              <a:off x="1227240" y="276120"/>
              <a:ext cx="1271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2560" y="260280"/>
              <a:ext cx="54230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6600cc"/>
                  </a:solidFill>
                  <a:latin typeface="Arial"/>
                  <a:ea typeface="Arial"/>
                </a:rPr>
                <a:t>Постройте произвольный </a:t>
              </a:r>
              <a:r>
                <a:rPr b="1" lang="en-US" sz="24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6600cc"/>
                  </a:solidFill>
                  <a:latin typeface="Arial"/>
                  <a:ea typeface="Arial"/>
                </a:rPr>
                <a:t> </a:t>
              </a:r>
              <a:r>
                <a:rPr b="1" i="1" lang="en-US" sz="2400" spc="-1" strike="noStrike">
                  <a:solidFill>
                    <a:srgbClr val="6600cc"/>
                  </a:solidFill>
                  <a:latin typeface="Arial"/>
                  <a:ea typeface="Arial"/>
                </a:rPr>
                <a:t>АВ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01520" y="-308160"/>
            <a:ext cx="1625760" cy="7358400"/>
            <a:chOff x="1001520" y="-308160"/>
            <a:chExt cx="1625760" cy="7358400"/>
          </a:xfrm>
        </p:grpSpPr>
        <p:grpSp>
          <p:nvGrpSpPr>
            <p:cNvPr id="240" name=""/>
            <p:cNvGrpSpPr/>
            <p:nvPr/>
          </p:nvGrpSpPr>
          <p:grpSpPr>
            <a:xfrm>
              <a:off x="2035440" y="-308160"/>
              <a:ext cx="591840" cy="911160"/>
              <a:chOff x="2035440" y="-308160"/>
              <a:chExt cx="591840" cy="911160"/>
            </a:xfrm>
          </p:grpSpPr>
          <p:sp>
            <p:nvSpPr>
              <p:cNvPr id="241" name=""/>
              <p:cNvSpPr/>
              <p:nvPr/>
            </p:nvSpPr>
            <p:spPr>
              <a:xfrm flipH="1" flipV="1" rot="585600">
                <a:off x="2102400" y="-275760"/>
                <a:ext cx="457200" cy="83196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 rot="585600">
                <a:off x="2121120" y="480240"/>
                <a:ext cx="293760" cy="986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 rot="585600">
                <a:off x="2165400" y="-187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001520" y="6139080"/>
              <a:ext cx="591840" cy="911160"/>
              <a:chOff x="1001520" y="6139080"/>
              <a:chExt cx="591840" cy="911160"/>
            </a:xfrm>
          </p:grpSpPr>
          <p:sp>
            <p:nvSpPr>
              <p:cNvPr id="245" name=""/>
              <p:cNvSpPr/>
              <p:nvPr/>
            </p:nvSpPr>
            <p:spPr>
              <a:xfrm rot="585600">
                <a:off x="1068480" y="6185160"/>
                <a:ext cx="457200" cy="83196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333333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585600">
                <a:off x="1213200" y="6163200"/>
                <a:ext cx="293760" cy="986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585600">
                <a:off x="1083960" y="6409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rot="585600">
              <a:off x="2021760" y="509040"/>
              <a:ext cx="30240" cy="286236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85600">
              <a:off x="1560600" y="3341880"/>
              <a:ext cx="29880" cy="286200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H="1" rot="19803600">
            <a:off x="948240" y="3560760"/>
            <a:ext cx="1368360" cy="1636560"/>
          </a:xfrm>
          <a:custGeom>
            <a:avLst/>
            <a:gdLst/>
            <a:ahLst/>
            <a:rect l="l" t="t" r="r" b="b"/>
            <a:pathLst>
              <a:path w="8" h="1584">
                <a:moveTo>
                  <a:pt x="0" y="0"/>
                </a:moveTo>
                <a:lnTo>
                  <a:pt x="8" y="1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97960" y="5199120"/>
            <a:ext cx="268200" cy="214200"/>
            <a:chOff x="1497960" y="5199120"/>
            <a:chExt cx="268200" cy="214200"/>
          </a:xfrm>
        </p:grpSpPr>
        <p:sp>
          <p:nvSpPr>
            <p:cNvPr id="252" name=""/>
            <p:cNvSpPr/>
            <p:nvPr/>
          </p:nvSpPr>
          <p:spPr>
            <a:xfrm>
              <a:off x="1497960" y="5199120"/>
              <a:ext cx="268200" cy="64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810000">
              <a:off x="1736280" y="5259960"/>
              <a:ext cx="11880" cy="153720"/>
            </a:xfrm>
            <a:custGeom>
              <a:avLst/>
              <a:gdLst/>
              <a:ahLst/>
              <a:rect l="l" t="t" r="r" b="b"/>
              <a:pathLst>
                <a:path w="6" h="136">
                  <a:moveTo>
                    <a:pt x="6" y="0"/>
                  </a:moveTo>
                  <a:lnTo>
                    <a:pt x="0" y="1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455400">
            <a:off x="1907640" y="4436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600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2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3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8500"/>
                            </p:stCondLst>
                            <p:childTnLst>
                              <p:par>
                                <p:cTn id="4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7:26:11Z</dcterms:created>
  <dc:creator>userУстюгова</dc:creator>
  <dc:description/>
  <dc:language>en-US</dc:language>
  <cp:lastModifiedBy>Customer</cp:lastModifiedBy>
  <dcterms:modified xsi:type="dcterms:W3CDTF">2009-05-26T17:11:21Z</dcterms:modified>
  <cp:revision>38</cp:revision>
  <dc:subject/>
  <dc:title>Медианы , биссектрисы  и высоты треугольника</dc:title>
</cp:coreProperties>
</file>