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AutoShape 6"/>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 name="AutoShape 7"/>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 name="AutoShape 8"/>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 name="AutoShape 9"/>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 name="Text Box 10"/>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Text Box 11"/>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 name="PlaceHolder 1"/>
          <p:cNvSpPr>
            <a:spLocks noGrp="1"/>
          </p:cNvSpPr>
          <p:nvPr>
            <p:ph type="sldImg"/>
          </p:nvPr>
        </p:nvSpPr>
        <p:spPr>
          <a:xfrm>
            <a:off x="1143000" y="685440"/>
            <a:ext cx="4557600" cy="3414600"/>
          </a:xfrm>
          <a:prstGeom prst="rect">
            <a:avLst/>
          </a:prstGeom>
          <a:noFill/>
          <a:ln cap="sq" w="9360">
            <a:solidFill>
              <a:srgbClr val="000000"/>
            </a:solidFill>
            <a:miter/>
          </a:ln>
        </p:spPr>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4" name="PlaceHolder 2"/>
          <p:cNvSpPr>
            <a:spLocks noGrp="1"/>
          </p:cNvSpPr>
          <p:nvPr>
            <p:ph type="body"/>
          </p:nvPr>
        </p:nvSpPr>
        <p:spPr>
          <a:xfrm>
            <a:off x="685800" y="4343400"/>
            <a:ext cx="5472000" cy="41004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Text Box 14"/>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 name="PlaceHolder 3"/>
          <p:cNvSpPr>
            <a:spLocks noGrp="1"/>
          </p:cNvSpPr>
          <p:nvPr>
            <p:ph type="sldNum" idx="2"/>
          </p:nvPr>
        </p:nvSpPr>
        <p:spPr>
          <a:xfrm>
            <a:off x="3884400" y="8685360"/>
            <a:ext cx="2957400" cy="44280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2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8AF0AA-C73F-472C-877C-5D4D25F77268}"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B66C87-A9A6-46BA-999E-33F9897C1B1D}"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2D3169-7091-45DF-9A6F-FEFFA01167E2}"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958243-5A63-4BA5-8FB0-8F311DEE4EBC}"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ACD94D2-24BB-4FCD-B545-6EB3B3116FF5}"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6072BB-38D5-48F0-9E94-62015F040877}"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A866A8-4832-4F1D-87DC-689A32F6556E}"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3E43BB-C85D-497D-A5BF-DC0E288A0C2C}"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33ECB2-4317-4BB5-8618-A4F09CAC535A}"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3191CB-88AF-41AC-9DA4-F820DEA26B15}"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EA5B13-C6BC-46E7-BA25-50169EA40687}"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6E04CC-A0E9-439E-A23C-908E53142E35}"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D47B32-DD55-434A-BF3F-7A518DF8698E}"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F89251B-D000-476F-9FA8-F347285BF7AA}"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794D622-ED6C-45BD-898B-F44E1073A776}"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B816D6-E8D1-4398-9002-8CA0F00F3606}"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515872-7A70-47CD-8CC5-F727FD7071B3}"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208D70-2A02-4A85-BE87-60A7CFB532A9}"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ED534F0-40D4-403E-AE70-32AE7C5A36D3}"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122C2A-B37D-4D98-8FA9-B1F43F03BD46}"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72F8744-2340-4AF6-B73E-AD69578C6814}"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4505F3-16AC-457F-BC80-DA6D55A784FE}"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3C9305-78D9-4A38-A5EA-39308792CAC1}"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5C2339-C845-4756-99D9-1F2B31D7E98C}"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F44D280-29FF-473A-A015-36A7130D30C5}"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C8EB9F-E51F-4EAC-AE79-BBE1743CEFF7}"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DF3A23-0EED-4461-935C-23B9CB54EB85}"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2438EF-D661-4149-83E9-7C6B68F0589C}"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5925A9D-F5A4-4BF2-92A4-682CF6BE3870}"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947FD7-157C-4A9C-AAF1-354CB8D9F1E3}"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DE5FAB-B32F-40A1-80A5-7CFB175E36E4}"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9ADBB7-49EA-4801-8B35-300480CC43CF}"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1D7E66-F1D5-44E9-80B7-66402D9F5869}"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1ADB6A-BEBE-4297-B0E3-AEAF128D5DB5}"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181F6A-6601-4645-9A6C-E191B07D7BFE}"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5B793B-FCD1-4607-B0E9-896B8D1F3C61}"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C30626D-3BB8-4B46-A566-B360CF1D2DC5}"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5"/>
          <p:cNvSpPr/>
          <p:nvPr/>
        </p:nvSpPr>
        <p:spPr>
          <a:xfrm>
            <a:off x="3884760" y="8685360"/>
            <a:ext cx="2957400" cy="442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E733D41-4818-4525-9710-89D5DF975F4F}" type="slidenum">
              <a:rPr b="0" lang="ru-RU"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440" y="4343040"/>
            <a:ext cx="5475240" cy="410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4A00D9-549B-42A9-AF67-D3AE4DB1BD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63320"/>
            <a:ext cx="775800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0720"/>
            <a:ext cx="775800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2720"/>
            <a:ext cx="775800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838EAF7-D910-4788-9DBA-6BD40A4D20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63320"/>
            <a:ext cx="775800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0720"/>
            <a:ext cx="378576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1280" y="1980720"/>
            <a:ext cx="378576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2720"/>
            <a:ext cx="378576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1280" y="4122720"/>
            <a:ext cx="378576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72D37CD9-77F9-439D-B365-1948197409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63320"/>
            <a:ext cx="775800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0720"/>
            <a:ext cx="249768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08760" y="1980720"/>
            <a:ext cx="249768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1720" y="1980720"/>
            <a:ext cx="249768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2720"/>
            <a:ext cx="249768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08760" y="4122720"/>
            <a:ext cx="249768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1720" y="4122720"/>
            <a:ext cx="249768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5C5D6C19-3B55-4E5D-A027-4C52804A53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63320"/>
            <a:ext cx="775800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0720"/>
            <a:ext cx="7758000" cy="41007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A24F8AA-044B-463F-9946-BDAB44B88C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63320"/>
            <a:ext cx="775800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0720"/>
            <a:ext cx="7758000" cy="4100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42CF012-1581-4151-9403-700970FFFC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63320"/>
            <a:ext cx="775800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0720"/>
            <a:ext cx="3785760" cy="4100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1280" y="1980720"/>
            <a:ext cx="3785760" cy="4100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FF66DB87-87A3-42E0-BCA8-353DC60BC8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63320"/>
            <a:ext cx="775800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97A36214-D848-43F0-9093-594D567B4D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63320"/>
            <a:ext cx="7758000" cy="66380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B8A301ED-3E39-49FC-BE00-2D78FFDDC4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63320"/>
            <a:ext cx="775800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0720"/>
            <a:ext cx="378576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1280" y="1980720"/>
            <a:ext cx="3785760" cy="4100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2720"/>
            <a:ext cx="378576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2D101A2-BB0E-4D51-A15F-DD7E7C10B2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63320"/>
            <a:ext cx="775800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0720"/>
            <a:ext cx="3785760" cy="4100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1280" y="1980720"/>
            <a:ext cx="378576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1280" y="4122720"/>
            <a:ext cx="378576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8848E26-00FD-4245-A4F3-0D34172A69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63320"/>
            <a:ext cx="775800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0720"/>
            <a:ext cx="378576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1280" y="1980720"/>
            <a:ext cx="378576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2720"/>
            <a:ext cx="7758000" cy="19558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385009B-4EEF-4533-BEC9-1852A292C5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63320"/>
            <a:ext cx="775800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0720"/>
            <a:ext cx="7758000" cy="41007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60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60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3080" y="6248520"/>
            <a:ext cx="1890720" cy="4572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99114D-7963-4AF6-BFF8-DD1D56D1339A}" type="slidenum">
              <a:rPr b="0" lang="ru-RU"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7" name="Text Box 1"/>
          <p:cNvSpPr/>
          <p:nvPr/>
        </p:nvSpPr>
        <p:spPr>
          <a:xfrm>
            <a:off x="714240" y="1285920"/>
            <a:ext cx="7847280" cy="374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000"/>
            </a:br>
            <a:r>
              <a:rPr b="0" lang="ru-RU" sz="4000" spc="-1" strike="noStrike">
                <a:solidFill>
                  <a:srgbClr val="3333cc"/>
                </a:solidFill>
                <a:latin typeface="Times New Roman"/>
              </a:rPr>
              <a:t>социально-психологический</a:t>
            </a:r>
            <a:endParaRPr b="0" lang="en-US" sz="4000" spc="-1" strike="noStrike">
              <a:solidFill>
                <a:srgbClr val="ffffff"/>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3333cc"/>
                </a:solidFill>
                <a:latin typeface="Times New Roman"/>
              </a:rPr>
              <a:t>роман </a:t>
            </a:r>
            <a:br>
              <a:rPr sz="4000"/>
            </a:br>
            <a:r>
              <a:rPr b="0" lang="ru-RU" sz="4000" spc="-1" strike="noStrike">
                <a:solidFill>
                  <a:srgbClr val="3333cc"/>
                </a:solidFill>
                <a:latin typeface="Times New Roman"/>
              </a:rPr>
              <a:t>«Преступление и наказание».</a:t>
            </a:r>
            <a:endParaRPr b="0" lang="en-US" sz="4000" spc="-1" strike="noStrike">
              <a:solidFill>
                <a:srgbClr val="ffffff"/>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3333cc"/>
                </a:solidFill>
                <a:latin typeface="Times New Roman"/>
              </a:rPr>
              <a:t> </a:t>
            </a:r>
            <a:r>
              <a:rPr b="0" lang="ru-RU" sz="4000" spc="-1" strike="noStrike">
                <a:solidFill>
                  <a:srgbClr val="3333cc"/>
                </a:solidFill>
                <a:latin typeface="Times New Roman"/>
              </a:rPr>
              <a:t>Ф. М. Достоевского</a:t>
            </a:r>
            <a:endParaRPr b="0" lang="en-US" sz="4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Изображение 1" descr="Без названия.png"/>
          <p:cNvPicPr/>
          <p:nvPr/>
        </p:nvPicPr>
        <p:blipFill>
          <a:blip r:embed="rId1"/>
          <a:stretch/>
        </p:blipFill>
        <p:spPr>
          <a:xfrm>
            <a:off x="468360" y="195120"/>
            <a:ext cx="6707160" cy="2802240"/>
          </a:xfrm>
          <a:prstGeom prst="rect">
            <a:avLst/>
          </a:prstGeom>
          <a:ln w="0">
            <a:noFill/>
          </a:ln>
        </p:spPr>
      </p:pic>
      <p:pic>
        <p:nvPicPr>
          <p:cNvPr id="74" name="Изображение 2" descr="и.png"/>
          <p:cNvPicPr/>
          <p:nvPr/>
        </p:nvPicPr>
        <p:blipFill>
          <a:blip r:embed="rId2"/>
          <a:stretch/>
        </p:blipFill>
        <p:spPr>
          <a:xfrm>
            <a:off x="1908000" y="3314880"/>
            <a:ext cx="7236000" cy="305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75"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2</a:t>
            </a:r>
            <a:endParaRPr b="0" lang="en-US" sz="4000" spc="-1" strike="noStrike">
              <a:solidFill>
                <a:srgbClr val="ffffff"/>
              </a:solidFill>
              <a:latin typeface="Times New Roman"/>
            </a:endParaRPr>
          </a:p>
        </p:txBody>
      </p:sp>
      <p:sp>
        <p:nvSpPr>
          <p:cNvPr id="76"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Утром Разумихин идёт к Дуне и Пульхерии Александровне в нумера. Он описывает им противоречивый характер, проявленный Раскольниковым во время университетской учёбы. Родион благороден и великодушен, но вместе с тем часто надменен, холоден и бесчувственен. Пульхерия Александрова рассказывает Разумихину, что её сын был с детства очень своеволен, а недавно собирался жениться на хворой и некрасивой дочери своей квартирной хозяйки.</a:t>
            </a: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77"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2</a:t>
            </a:r>
            <a:endParaRPr b="0" lang="en-US" sz="4000" spc="-1" strike="noStrike">
              <a:solidFill>
                <a:srgbClr val="ffffff"/>
              </a:solidFill>
              <a:latin typeface="Times New Roman"/>
            </a:endParaRPr>
          </a:p>
        </p:txBody>
      </p:sp>
      <p:sp>
        <p:nvSpPr>
          <p:cNvPr id="78"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Дамы рассказывают и о записке, присланной им Лужиным: тот собирается посетить их сегодня вечером, но требует, чтобы на этой встрече не присутствовал «смертельно обидевший» его Раскольников. Выясняется, что Лужин поселился в комнатах рядом с Мармеладовыми. Он видел, как Родион пожертвовал все присланные матерью и сестрой деньги им на похороны, но исказив суть этой сцены, утверждал, что он отдал их «особе отъявленного поведения» (Соне). (См. подробнее.)</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79"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3</a:t>
            </a:r>
            <a:endParaRPr b="0" lang="en-US" sz="4000" spc="-1" strike="noStrike">
              <a:solidFill>
                <a:srgbClr val="ffffff"/>
              </a:solidFill>
              <a:latin typeface="Times New Roman"/>
            </a:endParaRPr>
          </a:p>
        </p:txBody>
      </p:sp>
      <p:sp>
        <p:nvSpPr>
          <p:cNvPr id="80"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Мать и сестра вновь приходят к Раскольникову. Он опять не может смотреть им в глаза, разговаривает с ними через силу. Немного оживляется, лишь вспомнив, как хотел из жалости жениться на больной девушке, которая любила подавать нищим и мечтала о монастыре. Понимая: Дуня выходит за состоятельного Лужина лишь потому, что надеется на денежную поддержку от него брату, Раскольников вновь требует, чтобы она отказалась от этого брака. Дуня приглашает его на вечернюю встречу с Лужиным, предлагая там и решить всё. (См. подробнее.)</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81"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4</a:t>
            </a:r>
            <a:endParaRPr b="0" lang="en-US" sz="4000" spc="-1" strike="noStrike">
              <a:solidFill>
                <a:srgbClr val="ffffff"/>
              </a:solidFill>
              <a:latin typeface="Times New Roman"/>
            </a:endParaRPr>
          </a:p>
        </p:txBody>
      </p:sp>
      <p:sp>
        <p:nvSpPr>
          <p:cNvPr id="82"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Вдруг входит Соня Мармеладова, посланная Катериной Ивановной пригласить Раскольникова на поминки по отцу. (См. Раскольников и Соня Мармеладова.) Потрясённо оглядев бедную комнату Родиона, она поражается: «Вы нам всё вчера отдали!?» Дуня и мать уходят. Когда Родион и Разумихин прощаются у подъезда с Соней, произнесённую в их разговоре фамилию «Раскольников» случайно слышит проходящий мимо дородный господин. (См. Внешность Свидригайлова.) Когда Соня одна уходит домой, этот господин идёт выследить, где она живёт, и обнаруживает, что – прямо по соседству с квартирой, где остановился он сам.</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83"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4</a:t>
            </a:r>
            <a:endParaRPr b="0" lang="en-US" sz="4000" spc="-1" strike="noStrike">
              <a:solidFill>
                <a:srgbClr val="ffffff"/>
              </a:solidFill>
              <a:latin typeface="Times New Roman"/>
            </a:endParaRPr>
          </a:p>
        </p:txBody>
      </p:sp>
      <p:sp>
        <p:nvSpPr>
          <p:cNvPr id="84"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Тем временем Раскольников говорит Разумихину, что хотел бы встретиться со следователем Порфирием. На словах он объясняет это тем, что у убитой старухи остались его заклады. На самом же деле Раскольников жадно интересуется ходом следствия и думает во время визита к Порфирию разузнать о нём.</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Разумихин ведёт Раскольникова к Порфирию. Родион всеми силами старается войти к следователю как можно естественнее, чтобы не выдать сильнейшее своё волнение. (См. подробнее.)</a:t>
            </a:r>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Изображение 1" descr="1.png"/>
          <p:cNvPicPr/>
          <p:nvPr/>
        </p:nvPicPr>
        <p:blipFill>
          <a:blip r:embed="rId1"/>
          <a:stretch/>
        </p:blipFill>
        <p:spPr>
          <a:xfrm>
            <a:off x="179280" y="260280"/>
            <a:ext cx="7390080" cy="3098880"/>
          </a:xfrm>
          <a:prstGeom prst="rect">
            <a:avLst/>
          </a:prstGeom>
          <a:ln w="0">
            <a:noFill/>
          </a:ln>
        </p:spPr>
      </p:pic>
      <p:pic>
        <p:nvPicPr>
          <p:cNvPr id="86" name="Изображение 2" descr="2.png"/>
          <p:cNvPicPr/>
          <p:nvPr/>
        </p:nvPicPr>
        <p:blipFill>
          <a:blip r:embed="rId2"/>
          <a:stretch/>
        </p:blipFill>
        <p:spPr>
          <a:xfrm>
            <a:off x="1692360" y="3500280"/>
            <a:ext cx="7310520" cy="3070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87"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5</a:t>
            </a:r>
            <a:endParaRPr b="0" lang="en-US" sz="4000" spc="-1" strike="noStrike">
              <a:solidFill>
                <a:srgbClr val="ffffff"/>
              </a:solidFill>
              <a:latin typeface="Times New Roman"/>
            </a:endParaRPr>
          </a:p>
        </p:txBody>
      </p:sp>
      <p:sp>
        <p:nvSpPr>
          <p:cNvPr id="88"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Порфирий – человек внешне довольно непривлекательный, толстоватый и обрюзгший, однако взгляд его глаз весьма серьёзен. (См. Внешность Порфирия Петровича.) Он встречает гостей с шутливым видом, но в разговоре вдруг насмешливо подмигивает Раскольникову: «Я уже давно вас здесь поджидаю. Знаю, что вы у старухи вещи закладывали; на них ваша фамилия обозначена». Раскольников холодеет. Не в силах справиться с волнением, он начинает вести себя горячо и дерзко. (См. текст первого разговора Раскольникова с Порфирием.)</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89"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5</a:t>
            </a:r>
            <a:endParaRPr b="0" lang="en-US" sz="4000" spc="-1" strike="noStrike">
              <a:solidFill>
                <a:srgbClr val="ffffff"/>
              </a:solidFill>
              <a:latin typeface="Times New Roman"/>
            </a:endParaRPr>
          </a:p>
        </p:txBody>
      </p:sp>
      <p:sp>
        <p:nvSpPr>
          <p:cNvPr id="90"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Порфирий между тем вспоминает об одной опубликованной в журнале статье Раскольникова, где проводится мысль: «существуют на свете будто бы некоторые выдающиеся лица, которые ради высокой цели имеют полное право совершать преступления». Раскольников отстаивает перед Порфирием эту свою теорию. «А если кто из простых людей вдруг сочтёт, что он гений, да и начнёт устранять все препятствия?», – спрашивает Порфирий. «На это есть полиция и тюрьмы», – отвечает Раскольников. «И вы решились бы перешагнуть?», – интересуется Порфирий и приглашает Раскольникова зайти для разговора к себе в полицейскую часть. (См. подробнее.) (См. полный текст отрывка: Теория Раскольникова – цитата из «Преступления и наказания».)</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1"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6</a:t>
            </a:r>
            <a:endParaRPr b="0" lang="en-US" sz="4000" spc="-1" strike="noStrike">
              <a:solidFill>
                <a:srgbClr val="ffffff"/>
              </a:solidFill>
              <a:latin typeface="Times New Roman"/>
            </a:endParaRPr>
          </a:p>
        </p:txBody>
      </p:sp>
      <p:sp>
        <p:nvSpPr>
          <p:cNvPr id="92"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На пути от Порфирия домой Раскольников возмущается перед Разумихиным: значит, я всё же подозреваемый?! Вечером, собравшись к Дуне и матери, он видит, как у подъезда некий незнакомый мещанин осведомляется о нём у дворника. Раскольников подходит, но глянувший на него мещанин удаляется, не сказав ни слова. Родион в страхе догоняет его и молча идёт рядом, не решаясь ничего спросить. Наконец мещанин останавливается, бросает в лицо ошеломлённому Раскольникову: «Убивец!» – и уходит. (См. полный текст отрывка «Встреча Раскольникова с мещанином».)</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8" name="Text Box 1"/>
          <p:cNvSpPr/>
          <p:nvPr/>
        </p:nvSpPr>
        <p:spPr>
          <a:xfrm>
            <a:off x="685800" y="525600"/>
            <a:ext cx="7772400" cy="131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Цели урока</a:t>
            </a:r>
            <a:br>
              <a:rPr sz="4000"/>
            </a:br>
            <a:endParaRPr b="0" lang="en-US" sz="4000" spc="-1" strike="noStrike">
              <a:solidFill>
                <a:srgbClr val="ffffff"/>
              </a:solidFill>
              <a:latin typeface="Times New Roman"/>
            </a:endParaRPr>
          </a:p>
        </p:txBody>
      </p:sp>
      <p:sp>
        <p:nvSpPr>
          <p:cNvPr id="59" name="Text Box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2868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3200" spc="-1" strike="noStrike">
                <a:solidFill>
                  <a:srgbClr val="000000"/>
                </a:solidFill>
                <a:latin typeface="Times New Roman"/>
              </a:rPr>
              <a:t>- Анализ третьей части романа  Ф.М.Достоевского «Преступление и наказание».</a:t>
            </a:r>
            <a:endParaRPr b="0" lang="en-US" sz="3200" spc="-1" strike="noStrike">
              <a:solidFill>
                <a:srgbClr val="ffffff"/>
              </a:solidFill>
              <a:latin typeface="Times New Roman"/>
            </a:endParaRPr>
          </a:p>
          <a:p>
            <a:pPr marL="343080" indent="-32868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3200" spc="-1" strike="noStrike">
                <a:solidFill>
                  <a:srgbClr val="000000"/>
                </a:solidFill>
                <a:latin typeface="Times New Roman"/>
              </a:rPr>
              <a:t>- Работа с художественным текстом (анализ эпизода).</a:t>
            </a:r>
            <a:endParaRPr b="0" lang="en-US" sz="3200" spc="-1" strike="noStrike">
              <a:solidFill>
                <a:srgbClr val="ffffff"/>
              </a:solidFill>
              <a:latin typeface="Times New Roman"/>
            </a:endParaRPr>
          </a:p>
          <a:p>
            <a:pPr marL="343080" indent="-32868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200" spc="-1" strike="noStrike">
              <a:solidFill>
                <a:srgbClr val="ffffff"/>
              </a:solidFill>
              <a:latin typeface="Times New Roman"/>
            </a:endParaRPr>
          </a:p>
          <a:p>
            <a:pPr marL="343080" indent="-32868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200" spc="-1" strike="noStrike">
              <a:solidFill>
                <a:srgbClr val="ffffff"/>
              </a:solidFill>
              <a:latin typeface="Times New Roman"/>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5">
                                  <p:stCondLst>
                                    <p:cond delay="0"/>
                                  </p:stCondLst>
                                  <p:childTnLst>
                                    <p:set>
                                      <p:cBhvr>
                                        <p:cTn id="13" dur="1" fill="hold">
                                          <p:stCondLst>
                                            <p:cond delay="0"/>
                                          </p:stCondLst>
                                        </p:cTn>
                                        <p:tgtEl>
                                          <p:spTgt spid="58"/>
                                        </p:tgtEl>
                                        <p:attrNameLst>
                                          <p:attrName>style.visibility</p:attrName>
                                        </p:attrNameLst>
                                      </p:cBhvr>
                                      <p:to>
                                        <p:strVal val="visible"/>
                                      </p:to>
                                    </p:set>
                                    <p:anim calcmode="lin" valueType="num">
                                      <p:cBhvr additive="repl">
                                        <p:cTn id="14" dur="1000" fill="hold"/>
                                        <p:tgtEl>
                                          <p:spTgt spid="58"/>
                                        </p:tgtEl>
                                        <p:attrNameLst>
                                          <p:attrName>ppt_w</p:attrName>
                                        </p:attrNameLst>
                                      </p:cBhvr>
                                      <p:tavLst>
                                        <p:tav tm="0">
                                          <p:val>
                                            <p:strVal val="#ppt_w*0.70"/>
                                          </p:val>
                                        </p:tav>
                                        <p:tav tm="100000">
                                          <p:val>
                                            <p:strVal val="#ppt_w"/>
                                          </p:val>
                                        </p:tav>
                                      </p:tavLst>
                                    </p:anim>
                                    <p:anim calcmode="lin" valueType="num">
                                      <p:cBhvr additive="repl">
                                        <p:cTn id="15" dur="1000" fill="hold"/>
                                        <p:tgtEl>
                                          <p:spTgt spid="58"/>
                                        </p:tgtEl>
                                        <p:attrNameLst>
                                          <p:attrName>ppt_h</p:attrName>
                                        </p:attrNameLst>
                                      </p:cBhvr>
                                      <p:tavLst>
                                        <p:tav tm="0">
                                          <p:val>
                                            <p:strVal val="#ppt_h"/>
                                          </p:val>
                                        </p:tav>
                                        <p:tav tm="100000">
                                          <p:val>
                                            <p:strVal val="#ppt_h"/>
                                          </p:val>
                                        </p:tav>
                                      </p:tavLst>
                                    </p:anim>
                                    <p:animEffect filter="fade" transition="in">
                                      <p:cBhvr additive="repl">
                                        <p:cTn id="16" dur="1000"/>
                                        <p:tgtEl>
                                          <p:spTgt spid="58"/>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59">
                                            <p:txEl>
                                              <p:pRg st="0" end="0"/>
                                            </p:txEl>
                                          </p:spTgt>
                                        </p:tgtEl>
                                        <p:attrNameLst>
                                          <p:attrName>style.visibility</p:attrName>
                                        </p:attrNameLst>
                                      </p:cBhvr>
                                      <p:to>
                                        <p:strVal val="visible"/>
                                      </p:to>
                                    </p:set>
                                    <p:anim calcmode="lin" valueType="num">
                                      <p:cBhvr additive="repl">
                                        <p:cTn id="21" dur="1000" fill="hold"/>
                                        <p:tgtEl>
                                          <p:spTgt spid="59">
                                            <p:txEl>
                                              <p:pRg st="0" end="0"/>
                                            </p:txEl>
                                          </p:spTgt>
                                        </p:tgtEl>
                                        <p:attrNameLst>
                                          <p:attrName>ppt_x</p:attrName>
                                        </p:attrNameLst>
                                      </p:cBhvr>
                                      <p:tavLst>
                                        <p:tav tm="0">
                                          <p:val>
                                            <p:strVal val="#ppt_x-.2"/>
                                          </p:val>
                                        </p:tav>
                                        <p:tav tm="100000">
                                          <p:val>
                                            <p:strVal val="#ppt_x"/>
                                          </p:val>
                                        </p:tav>
                                      </p:tavLst>
                                    </p:anim>
                                    <p:anim calcmode="lin" valueType="num">
                                      <p:cBhvr additive="repl">
                                        <p:cTn id="22" dur="1000" fill="hold"/>
                                        <p:tgtEl>
                                          <p:spTgt spid="59">
                                            <p:txEl>
                                              <p:pRg st="0" end="0"/>
                                            </p:txEl>
                                          </p:spTgt>
                                        </p:tgtEl>
                                        <p:attrNameLst>
                                          <p:attrName>ppt_y</p:attrName>
                                        </p:attrNameLst>
                                      </p:cBhvr>
                                      <p:tavLst>
                                        <p:tav tm="0">
                                          <p:val>
                                            <p:strVal val="#ppt_y"/>
                                          </p:val>
                                        </p:tav>
                                        <p:tav tm="100000">
                                          <p:val>
                                            <p:strVal val="#ppt_y"/>
                                          </p:val>
                                        </p:tav>
                                      </p:tavLst>
                                    </p:anim>
                                    <p:animEffect filter="wipe(right)" transition="in">
                                      <p:cBhvr additive="repl">
                                        <p:cTn id="23" dur="1000"/>
                                        <p:tgtEl>
                                          <p:spTgt spid="59">
                                            <p:txEl>
                                              <p:pRg st="0" end="0"/>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59">
                                            <p:txEl>
                                              <p:pRg st="1" end="1"/>
                                            </p:txEl>
                                          </p:spTgt>
                                        </p:tgtEl>
                                        <p:attrNameLst>
                                          <p:attrName>style.visibility</p:attrName>
                                        </p:attrNameLst>
                                      </p:cBhvr>
                                      <p:to>
                                        <p:strVal val="visible"/>
                                      </p:to>
                                    </p:set>
                                    <p:anim calcmode="lin" valueType="num">
                                      <p:cBhvr additive="repl">
                                        <p:cTn id="28" dur="1000" fill="hold"/>
                                        <p:tgtEl>
                                          <p:spTgt spid="59">
                                            <p:txEl>
                                              <p:pRg st="1" end="1"/>
                                            </p:txEl>
                                          </p:spTgt>
                                        </p:tgtEl>
                                        <p:attrNameLst>
                                          <p:attrName>ppt_x</p:attrName>
                                        </p:attrNameLst>
                                      </p:cBhvr>
                                      <p:tavLst>
                                        <p:tav tm="0">
                                          <p:val>
                                            <p:strVal val="#ppt_x-.2"/>
                                          </p:val>
                                        </p:tav>
                                        <p:tav tm="100000">
                                          <p:val>
                                            <p:strVal val="#ppt_x"/>
                                          </p:val>
                                        </p:tav>
                                      </p:tavLst>
                                    </p:anim>
                                    <p:anim calcmode="lin" valueType="num">
                                      <p:cBhvr additive="repl">
                                        <p:cTn id="29" dur="1000" fill="hold"/>
                                        <p:tgtEl>
                                          <p:spTgt spid="59">
                                            <p:txEl>
                                              <p:pRg st="1" end="1"/>
                                            </p:txEl>
                                          </p:spTgt>
                                        </p:tgtEl>
                                        <p:attrNameLst>
                                          <p:attrName>ppt_y</p:attrName>
                                        </p:attrNameLst>
                                      </p:cBhvr>
                                      <p:tavLst>
                                        <p:tav tm="0">
                                          <p:val>
                                            <p:strVal val="#ppt_y"/>
                                          </p:val>
                                        </p:tav>
                                        <p:tav tm="100000">
                                          <p:val>
                                            <p:strVal val="#ppt_y"/>
                                          </p:val>
                                        </p:tav>
                                      </p:tavLst>
                                    </p:anim>
                                    <p:animEffect filter="wipe(right)" transition="in">
                                      <p:cBhvr additive="repl">
                                        <p:cTn id="30" dur="10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Изображение 1" descr="1.png"/>
          <p:cNvPicPr/>
          <p:nvPr/>
        </p:nvPicPr>
        <p:blipFill>
          <a:blip r:embed="rId1"/>
          <a:stretch/>
        </p:blipFill>
        <p:spPr>
          <a:xfrm>
            <a:off x="663480" y="1244520"/>
            <a:ext cx="7721640" cy="3543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4"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6</a:t>
            </a:r>
            <a:endParaRPr b="0" lang="en-US" sz="4000" spc="-1" strike="noStrike">
              <a:solidFill>
                <a:srgbClr val="ffffff"/>
              </a:solidFill>
              <a:latin typeface="Times New Roman"/>
            </a:endParaRPr>
          </a:p>
        </p:txBody>
      </p:sp>
      <p:sp>
        <p:nvSpPr>
          <p:cNvPr id="95"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Родион приходит домой в ужасе и изнеможении. Лёжа на диване, он долго корит себя за трусость, за то, что у него не хватило силы бестрепетно и без сожалений «переступить обыкновенную мораль». (См. полный текст монолога Раскольникова «Старушонка вздор...».)</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н забывается кошмарным сном о смеющейся старухе, которую ему никак не удаётся убить топором. Проснувшись, видит на пороге своей каморки незнакомца, который представляется: Аркадий Свидригайлов. Это тот помещик, который прежде хотел соблазнить Дуню (и тот дородный господин, который следил за Соней). (См. подробнее.)</a:t>
            </a:r>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Изображение 1" descr="2.png"/>
          <p:cNvPicPr/>
          <p:nvPr/>
        </p:nvPicPr>
        <p:blipFill>
          <a:blip r:embed="rId1"/>
          <a:stretch/>
        </p:blipFill>
        <p:spPr>
          <a:xfrm>
            <a:off x="120600" y="1762200"/>
            <a:ext cx="8521920" cy="3556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7"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5</a:t>
            </a:r>
            <a:endParaRPr b="0" lang="en-US" sz="4000" spc="-1" strike="noStrike">
              <a:solidFill>
                <a:srgbClr val="ffffff"/>
              </a:solidFill>
              <a:latin typeface="Times New Roman"/>
            </a:endParaRPr>
          </a:p>
        </p:txBody>
      </p:sp>
      <p:sp>
        <p:nvSpPr>
          <p:cNvPr id="98"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бсуждение прочитанного</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Чтение отдельных эпизодов из 5 главы и их комментирование.</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Цель прихода Раскольникова к Порфирию Петровичу  (по поводу заложенных у процентщицы вещей, в т. ч. серебряных часов).</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Поединок между ними – одна из напряжённейших сюжетных линий романа.                       Проследить поведение Родиона, его реакцию на реплики следователя.                            </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Вывод: Как ни играет он роль беспечного молодого человека, всё же понимает, что следователь знает об убийце: «И вдруг Порфирий Петрович как-то явно насмешливо посмотрел на него…». Всё больше и больше </a:t>
            </a:r>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9"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5</a:t>
            </a:r>
            <a:endParaRPr b="0" lang="en-US" sz="4000" spc="-1" strike="noStrike">
              <a:solidFill>
                <a:srgbClr val="ffffff"/>
              </a:solidFill>
              <a:latin typeface="Times New Roman"/>
            </a:endParaRPr>
          </a:p>
        </p:txBody>
      </p:sp>
      <p:sp>
        <p:nvSpPr>
          <p:cNvPr id="100"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выдаёт себя Раскольников, если в начале главы его реплики самому себе лаконичны («Это ещё что?», «Знает!», «Дурак!»), то постепенно внутренняя речь перерастает в монолог. Он стремится выяснить, откуда следователь знает об убийстве и знает ли? Эта неуверенность порождает обилие прерванных мыслей, неоконченных предложений, массу вопросов).</a:t>
            </a:r>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1"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5</a:t>
            </a:r>
            <a:endParaRPr b="0" lang="en-US" sz="4000" spc="-1" strike="noStrike">
              <a:solidFill>
                <a:srgbClr val="ffffff"/>
              </a:solidFill>
              <a:latin typeface="Times New Roman"/>
            </a:endParaRPr>
          </a:p>
        </p:txBody>
      </p:sp>
      <p:sp>
        <p:nvSpPr>
          <p:cNvPr id="102"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Беседа</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Как же догадался Порфирий Петрович, что убийца – Раскольников?</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Статья Раскольникова, которую комментирует Порфирий Петрович: преступление всегда  сопровождается болезнью;  все люди делятся на «обыкновенных» и «необыкновенных»; удел «обыкновенных» - жить в послушании, «необыкновенным» можно делать все преступления. Раскольников согласился с таким пересказом его статьи, добавив, что не настаивает, что «необыкновенные» люди должны творить бесчинства).</a:t>
            </a:r>
            <a:r>
              <a:rPr b="0" lang="ru-RU" sz="2400" spc="-1" strike="noStrike">
                <a:solidFill>
                  <a:srgbClr val="000000"/>
                </a:solidFill>
                <a:latin typeface="Times New Roman"/>
              </a:rPr>
              <a:t>          </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3"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5</a:t>
            </a:r>
            <a:endParaRPr b="0" lang="en-US" sz="4000" spc="-1" strike="noStrike">
              <a:solidFill>
                <a:srgbClr val="ffffff"/>
              </a:solidFill>
              <a:latin typeface="Times New Roman"/>
            </a:endParaRPr>
          </a:p>
        </p:txBody>
      </p:sp>
      <p:sp>
        <p:nvSpPr>
          <p:cNvPr id="104"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Беседа</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Гл. 5: «Я только в главную мысль мою верю…»</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000000"/>
                </a:solidFill>
                <a:latin typeface="Times New Roman"/>
              </a:rPr>
              <a:t>Итак, теория Раскольникава построена на неравенстве людей, на избранности одних и унижении других. Такова же основа буржуазного общества, в нём неравенство экономическое и социальное. Раскольников проповедует неравенство нравственное.  Подобную теорию проповедовали фашисты</a:t>
            </a:r>
            <a:r>
              <a:rPr b="0" lang="ru-RU" sz="2400" spc="-1" strike="noStrike">
                <a:solidFill>
                  <a:srgbClr val="000000"/>
                </a:solidFill>
                <a:latin typeface="Times New Roman"/>
              </a:rPr>
              <a:t>.</a:t>
            </a:r>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5"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5</a:t>
            </a:r>
            <a:endParaRPr b="0" lang="en-US" sz="4000" spc="-1" strike="noStrike">
              <a:solidFill>
                <a:srgbClr val="ffffff"/>
              </a:solidFill>
              <a:latin typeface="Times New Roman"/>
            </a:endParaRPr>
          </a:p>
        </p:txBody>
      </p:sp>
      <p:sp>
        <p:nvSpPr>
          <p:cNvPr id="106"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Беседа</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К какому разряду людей, по-вашему, относит себя Родион?</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000000"/>
                </a:solidFill>
                <a:latin typeface="Times New Roman"/>
              </a:rPr>
              <a:t>(Важны слова Порфирия Петровича, который говорит, что Раскольников хоть на капельку, да считает себя «необыкновенным» человеком.</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Очень может быть! – презрительно ответил Раскольников.)</a:t>
            </a:r>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7"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6</a:t>
            </a:r>
            <a:endParaRPr b="0" lang="en-US" sz="4000" spc="-1" strike="noStrike">
              <a:solidFill>
                <a:srgbClr val="ffffff"/>
              </a:solidFill>
              <a:latin typeface="Times New Roman"/>
            </a:endParaRPr>
          </a:p>
        </p:txBody>
      </p:sp>
      <p:sp>
        <p:nvSpPr>
          <p:cNvPr id="108"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Беседа</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Как относятся к теории Раскольникова следователь, друг Разумихин, автор?                         </a:t>
            </a:r>
            <a:r>
              <a:rPr b="0" i="1" lang="ru-RU" sz="2400" spc="-1" strike="noStrike">
                <a:solidFill>
                  <a:srgbClr val="000000"/>
                </a:solidFill>
                <a:latin typeface="Times New Roman"/>
              </a:rPr>
              <a:t>(Порфирий Петрович говорит о ней с «невежливой язвительностью», Разумихин подчёркивает антигуманистическую  сущность этой теории; автор относится неодобрительно. Спор героев очень напряжённый, и автор, не показывая внутренних переживаний Раскольникова, подчёркивает его вызывающий тон  в противовес иронии следователя и угрюмости Разумихина: «презрительно ответил Раскольников», «с вызывающим надменным презрением ответил Раскольников» и т. п.</a:t>
            </a:r>
            <a:r>
              <a:rPr b="0" lang="ru-RU" sz="2400" spc="-1" strike="noStrike">
                <a:solidFill>
                  <a:srgbClr val="000000"/>
                </a:solidFill>
                <a:latin typeface="Times New Roman"/>
              </a:rPr>
              <a:t> )                  </a:t>
            </a:r>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9"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6</a:t>
            </a:r>
            <a:endParaRPr b="0" lang="en-US" sz="4000" spc="-1" strike="noStrike">
              <a:solidFill>
                <a:srgbClr val="ffffff"/>
              </a:solidFill>
              <a:latin typeface="Times New Roman"/>
            </a:endParaRPr>
          </a:p>
        </p:txBody>
      </p:sp>
      <p:sp>
        <p:nvSpPr>
          <p:cNvPr id="110"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Беседа</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000000"/>
                </a:solidFill>
                <a:latin typeface="Times New Roman"/>
              </a:rPr>
              <a:t>Раскольников ещё  верит в свою «необыкновенность», ещё готов играть роль спасителя человечества. Он не осуждает себя за эксперимент. Совершая убийство, он хотел убедиться, к какому разряду сам принадлежит. Он осуждает себя лишь за то, что предмет для эксперимента ничтожен – «старушонка». «Я себя убил, а не старушонку».</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0" name="Text Box 1"/>
          <p:cNvSpPr/>
          <p:nvPr/>
        </p:nvSpPr>
        <p:spPr>
          <a:xfrm>
            <a:off x="685800" y="525600"/>
            <a:ext cx="7772400" cy="131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Цели урока</a:t>
            </a:r>
            <a:br>
              <a:rPr sz="4000"/>
            </a:br>
            <a:endParaRPr b="0" lang="en-US" sz="4000" spc="-1" strike="noStrike">
              <a:solidFill>
                <a:srgbClr val="ffffff"/>
              </a:solidFill>
              <a:latin typeface="Times New Roman"/>
            </a:endParaRPr>
          </a:p>
        </p:txBody>
      </p:sp>
      <p:sp>
        <p:nvSpPr>
          <p:cNvPr id="61" name="Text Box 2"/>
          <p:cNvSpPr/>
          <p:nvPr/>
        </p:nvSpPr>
        <p:spPr>
          <a:xfrm>
            <a:off x="539640" y="1440000"/>
            <a:ext cx="7918560" cy="7172280"/>
          </a:xfrm>
          <a:prstGeom prst="rect">
            <a:avLst/>
          </a:prstGeom>
          <a:noFill/>
          <a:ln w="0">
            <a:noFill/>
          </a:ln>
        </p:spPr>
        <p:style>
          <a:lnRef idx="0"/>
          <a:fillRef idx="0"/>
          <a:effectRef idx="0"/>
          <a:fontRef idx="minor"/>
        </p:style>
        <p:txBody>
          <a:bodyPr lIns="90000" rIns="90000" tIns="46800" bIns="46800" anchor="t">
            <a:noAutofit/>
          </a:bodyPr>
          <a:p>
            <a:pPr marL="343080" indent="-32868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3200" spc="-1" strike="noStrike">
                <a:solidFill>
                  <a:srgbClr val="000000"/>
                </a:solidFill>
                <a:latin typeface="Times New Roman"/>
              </a:rPr>
              <a:t>- Цели: путем анализа глав из части 3 романа показать необычность изображения Достоевским города Петербурга; определить, какое влияние оказывал город на героев романа, на их мысли, чувства, поступки.</a:t>
            </a:r>
            <a:endParaRPr b="0" lang="en-US" sz="3200" spc="-1" strike="noStrike">
              <a:solidFill>
                <a:srgbClr val="ffffff"/>
              </a:solidFill>
              <a:latin typeface="Times New Roman"/>
            </a:endParaRPr>
          </a:p>
          <a:p>
            <a:pPr marL="343080" indent="-32868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200" spc="-1" strike="noStrike">
              <a:solidFill>
                <a:srgbClr val="ffffff"/>
              </a:solidFill>
              <a:latin typeface="Times New Roman"/>
            </a:endParaRPr>
          </a:p>
          <a:p>
            <a:pPr marL="343080" indent="-32868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200" spc="-1" strike="noStrike">
              <a:solidFill>
                <a:srgbClr val="ffffff"/>
              </a:solidFill>
              <a:latin typeface="Times New Roman"/>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55">
                                  <p:stCondLst>
                                    <p:cond delay="0"/>
                                  </p:stCondLst>
                                  <p:childTnLst>
                                    <p:set>
                                      <p:cBhvr>
                                        <p:cTn id="36" dur="1" fill="hold">
                                          <p:stCondLst>
                                            <p:cond delay="0"/>
                                          </p:stCondLst>
                                        </p:cTn>
                                        <p:tgtEl>
                                          <p:spTgt spid="60"/>
                                        </p:tgtEl>
                                        <p:attrNameLst>
                                          <p:attrName>style.visibility</p:attrName>
                                        </p:attrNameLst>
                                      </p:cBhvr>
                                      <p:to>
                                        <p:strVal val="visible"/>
                                      </p:to>
                                    </p:set>
                                    <p:anim calcmode="lin" valueType="num">
                                      <p:cBhvr additive="repl">
                                        <p:cTn id="37" dur="1000" fill="hold"/>
                                        <p:tgtEl>
                                          <p:spTgt spid="60"/>
                                        </p:tgtEl>
                                        <p:attrNameLst>
                                          <p:attrName>ppt_w</p:attrName>
                                        </p:attrNameLst>
                                      </p:cBhvr>
                                      <p:tavLst>
                                        <p:tav tm="0">
                                          <p:val>
                                            <p:strVal val="#ppt_w*0.70"/>
                                          </p:val>
                                        </p:tav>
                                        <p:tav tm="100000">
                                          <p:val>
                                            <p:strVal val="#ppt_w"/>
                                          </p:val>
                                        </p:tav>
                                      </p:tavLst>
                                    </p:anim>
                                    <p:anim calcmode="lin" valueType="num">
                                      <p:cBhvr additive="repl">
                                        <p:cTn id="38" dur="1000" fill="hold"/>
                                        <p:tgtEl>
                                          <p:spTgt spid="60"/>
                                        </p:tgtEl>
                                        <p:attrNameLst>
                                          <p:attrName>ppt_h</p:attrName>
                                        </p:attrNameLst>
                                      </p:cBhvr>
                                      <p:tavLst>
                                        <p:tav tm="0">
                                          <p:val>
                                            <p:strVal val="#ppt_h"/>
                                          </p:val>
                                        </p:tav>
                                        <p:tav tm="100000">
                                          <p:val>
                                            <p:strVal val="#ppt_h"/>
                                          </p:val>
                                        </p:tav>
                                      </p:tavLst>
                                    </p:anim>
                                    <p:animEffect filter="fade" transition="in">
                                      <p:cBhvr additive="repl">
                                        <p:cTn id="39" dur="1000"/>
                                        <p:tgtEl>
                                          <p:spTgt spid="60"/>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9">
                                  <p:stCondLst>
                                    <p:cond delay="0"/>
                                  </p:stCondLst>
                                  <p:childTnLst>
                                    <p:set>
                                      <p:cBhvr>
                                        <p:cTn id="43" dur="1" fill="hold">
                                          <p:stCondLst>
                                            <p:cond delay="0"/>
                                          </p:stCondLst>
                                        </p:cTn>
                                        <p:tgtEl>
                                          <p:spTgt spid="61">
                                            <p:txEl>
                                              <p:pRg st="0" end="0"/>
                                            </p:txEl>
                                          </p:spTgt>
                                        </p:tgtEl>
                                        <p:attrNameLst>
                                          <p:attrName>style.visibility</p:attrName>
                                        </p:attrNameLst>
                                      </p:cBhvr>
                                      <p:to>
                                        <p:strVal val="visible"/>
                                      </p:to>
                                    </p:set>
                                    <p:anim calcmode="lin" valueType="num">
                                      <p:cBhvr additive="repl">
                                        <p:cTn id="44" dur="1000" fill="hold"/>
                                        <p:tgtEl>
                                          <p:spTgt spid="61">
                                            <p:txEl>
                                              <p:pRg st="0" end="0"/>
                                            </p:txEl>
                                          </p:spTgt>
                                        </p:tgtEl>
                                        <p:attrNameLst>
                                          <p:attrName>ppt_x</p:attrName>
                                        </p:attrNameLst>
                                      </p:cBhvr>
                                      <p:tavLst>
                                        <p:tav tm="0">
                                          <p:val>
                                            <p:strVal val="#ppt_x-.2"/>
                                          </p:val>
                                        </p:tav>
                                        <p:tav tm="100000">
                                          <p:val>
                                            <p:strVal val="#ppt_x"/>
                                          </p:val>
                                        </p:tav>
                                      </p:tavLst>
                                    </p:anim>
                                    <p:anim calcmode="lin" valueType="num">
                                      <p:cBhvr additive="repl">
                                        <p:cTn id="45" dur="1000" fill="hold"/>
                                        <p:tgtEl>
                                          <p:spTgt spid="61">
                                            <p:txEl>
                                              <p:pRg st="0" end="0"/>
                                            </p:txEl>
                                          </p:spTgt>
                                        </p:tgtEl>
                                        <p:attrNameLst>
                                          <p:attrName>ppt_y</p:attrName>
                                        </p:attrNameLst>
                                      </p:cBhvr>
                                      <p:tavLst>
                                        <p:tav tm="0">
                                          <p:val>
                                            <p:strVal val="#ppt_y"/>
                                          </p:val>
                                        </p:tav>
                                        <p:tav tm="100000">
                                          <p:val>
                                            <p:strVal val="#ppt_y"/>
                                          </p:val>
                                        </p:tav>
                                      </p:tavLst>
                                    </p:anim>
                                    <p:animEffect filter="wipe(right)" transition="in">
                                      <p:cBhvr additive="repl">
                                        <p:cTn id="46" dur="10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1"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Итоговый тест по главе 3</a:t>
            </a:r>
            <a:endParaRPr b="0" lang="en-US" sz="4000" spc="-1" strike="noStrike">
              <a:solidFill>
                <a:srgbClr val="ffffff"/>
              </a:solidFill>
              <a:latin typeface="Times New Roman"/>
            </a:endParaRPr>
          </a:p>
        </p:txBody>
      </p:sp>
      <p:sp>
        <p:nvSpPr>
          <p:cNvPr id="112"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1. Сколько времени Раскольников не видел мать и сестру до их приезда в Петербург?</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Ответ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Три года.</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3"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Итоговый тест по главе 3</a:t>
            </a:r>
            <a:endParaRPr b="0" lang="en-US" sz="4000" spc="-1" strike="noStrike">
              <a:solidFill>
                <a:srgbClr val="ffffff"/>
              </a:solidFill>
              <a:latin typeface="Times New Roman"/>
            </a:endParaRPr>
          </a:p>
        </p:txBody>
      </p:sp>
      <p:sp>
        <p:nvSpPr>
          <p:cNvPr id="114"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2. Чего требовал Лужин в записке, присланной Дуне и Пульхерии Ивановне после их приезда?</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твет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Чтобы на их предстоящей встрече не присутствовал «беспримерно обидевший» его Родион.</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5"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Итоговый тест по главе 3</a:t>
            </a:r>
            <a:endParaRPr b="0" lang="en-US" sz="4000" spc="-1" strike="noStrike">
              <a:solidFill>
                <a:srgbClr val="ffffff"/>
              </a:solidFill>
              <a:latin typeface="Times New Roman"/>
            </a:endParaRPr>
          </a:p>
        </p:txBody>
      </p:sp>
      <p:sp>
        <p:nvSpPr>
          <p:cNvPr id="116"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3. Как Лужин оболгал Раскольникова в этой записке?</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твет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н уверял, что Родион отдал Мармеладовым присланные ему сестрой и матерью деньги, потому что Соня была знакомой ему «девицей отъявленного поведения».</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7"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Итоговый тест по главе 3</a:t>
            </a:r>
            <a:endParaRPr b="0" lang="en-US" sz="4000" spc="-1" strike="noStrike">
              <a:solidFill>
                <a:srgbClr val="ffffff"/>
              </a:solidFill>
              <a:latin typeface="Times New Roman"/>
            </a:endParaRPr>
          </a:p>
        </p:txBody>
      </p:sp>
      <p:sp>
        <p:nvSpPr>
          <p:cNvPr id="118"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4. Что решила Дуня относительно предстоящего свидания с Лужиным?</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твет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на решила, что, вопреки настояниям Лужина, на нём обязательно будет присутствовать Раскольников.</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9"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Итоговый тест по главе 3</a:t>
            </a:r>
            <a:endParaRPr b="0" lang="en-US" sz="4000" spc="-1" strike="noStrike">
              <a:solidFill>
                <a:srgbClr val="ffffff"/>
              </a:solidFill>
              <a:latin typeface="Times New Roman"/>
            </a:endParaRPr>
          </a:p>
        </p:txBody>
      </p:sp>
      <p:sp>
        <p:nvSpPr>
          <p:cNvPr id="120"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5. Что удивило Соню Мармеладову, когда она увидела комнату Раскольникова?</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Ответ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Её удивила бедность этой лачуги. Соня только здесь поняла, что Раскольников отдал им на похороны отца свои последние деньги.</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1"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Итоговый тест по главе 3</a:t>
            </a:r>
            <a:endParaRPr b="0" lang="en-US" sz="4000" spc="-1" strike="noStrike">
              <a:solidFill>
                <a:srgbClr val="ffffff"/>
              </a:solidFill>
              <a:latin typeface="Times New Roman"/>
            </a:endParaRPr>
          </a:p>
        </p:txBody>
      </p:sp>
      <p:sp>
        <p:nvSpPr>
          <p:cNvPr id="122"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6. Кто следил за Соней, когда она шла от Раскольникова домой?</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твет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Приехавший в Петербург Свидригайлов – помещик, горячо влюблённый в Дуню Раскольникову. (См. Образ Свидригайлова, Внешность Свидригайлова.)</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3"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Итоговый тест по главе 3</a:t>
            </a:r>
            <a:endParaRPr b="0" lang="en-US" sz="4000" spc="-1" strike="noStrike">
              <a:solidFill>
                <a:srgbClr val="ffffff"/>
              </a:solidFill>
              <a:latin typeface="Times New Roman"/>
            </a:endParaRPr>
          </a:p>
        </p:txBody>
      </p:sp>
      <p:sp>
        <p:nvSpPr>
          <p:cNvPr id="124"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7. Как Раскольников впервые попал к следователю </a:t>
            </a:r>
            <a:r>
              <a:rPr b="1" lang="ru-RU" sz="2400" spc="-1" strike="noStrike">
                <a:solidFill>
                  <a:srgbClr val="000000"/>
                </a:solidFill>
                <a:latin typeface="Times New Roman"/>
              </a:rPr>
              <a:t>Порфирию Петровичу</a:t>
            </a:r>
            <a:r>
              <a:rPr b="0" lang="ru-RU" sz="2400" spc="-1" strike="noStrike">
                <a:solidFill>
                  <a:srgbClr val="000000"/>
                </a:solidFill>
                <a:latin typeface="Times New Roman"/>
              </a:rPr>
              <a:t>?</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твет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Родиона отвёл к нему родственник Порфирия, Разумихин. Раскольников попросил об этом, сказав, что хочет узнать о своих закладах (кольце и часах), оставшихся у убитой процентщицы. Но на самом деле Родион надеялся разузнать у Порфирия о ходе следствия по делу об убийстве.</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5"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Итоговый тест по главе 3</a:t>
            </a:r>
            <a:endParaRPr b="0" lang="en-US" sz="4000" spc="-1" strike="noStrike">
              <a:solidFill>
                <a:srgbClr val="ffffff"/>
              </a:solidFill>
              <a:latin typeface="Times New Roman"/>
            </a:endParaRPr>
          </a:p>
        </p:txBody>
      </p:sp>
      <p:sp>
        <p:nvSpPr>
          <p:cNvPr id="126"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8. Как Разумихин высмеивал социалистов в разговоре у Порфирия?</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твет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н говорил, что социалисты хотят живое развитие человечества переделать по мёртвой теории, вышедшей из какой-нибудь математической головы. Все людские неустройства они одной глупостью объясняют. Хотят живую душу сделать рабской, чтобы она не взбунтовалась против их окостенелых догм. «Всё на одну только кладку кирпичиков да на расположение коридоров и комнат в фаланстере свели! Но живой душе рано ещё на кладбище!»</a:t>
            </a:r>
            <a:endParaRPr b="0" lang="en-US" sz="2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7"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Итоговый тест по главе 3</a:t>
            </a:r>
            <a:endParaRPr b="0" lang="en-US" sz="4000" spc="-1" strike="noStrike">
              <a:solidFill>
                <a:srgbClr val="ffffff"/>
              </a:solidFill>
              <a:latin typeface="Times New Roman"/>
            </a:endParaRPr>
          </a:p>
        </p:txBody>
      </p:sp>
      <p:sp>
        <p:nvSpPr>
          <p:cNvPr id="128"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9. Какова была суть первого разговора Порфирия с Раскольниковым?</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твет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Порфирий Петрович рассказал, что знает об опубликованной прежде Раскольниковым в журнале статье. Родион излагал в ней теорию о праве «избранных личностей» совершать любые преступления над «обычным стадом» ради «великих и благих целей». Порфирий ясно намекнул, что человек с таким взглядами вполне бы мог пойти на убийство старухи-процентщицы. (См. полный текст первого разговора Раскольникова с Порфирием.)</a:t>
            </a:r>
            <a:endParaRPr b="0" lang="en-US" sz="2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9"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Итоговый тест по главе 3</a:t>
            </a:r>
            <a:endParaRPr b="0" lang="en-US" sz="4000" spc="-1" strike="noStrike">
              <a:solidFill>
                <a:srgbClr val="ffffff"/>
              </a:solidFill>
              <a:latin typeface="Times New Roman"/>
            </a:endParaRPr>
          </a:p>
        </p:txBody>
      </p:sp>
      <p:sp>
        <p:nvSpPr>
          <p:cNvPr id="130"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10. Что сказал Раскольникову незнакомый мещанин, встреченный им возле своего дома после свидания с Порфирием?</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твет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Убивец! Ты убивец!»</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2" name="Text Box 2"/>
          <p:cNvSpPr/>
          <p:nvPr/>
        </p:nvSpPr>
        <p:spPr>
          <a:xfrm>
            <a:off x="360360" y="189000"/>
            <a:ext cx="8280360" cy="626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История преступления и наказания Родиона Раскольникова:</a:t>
            </a:r>
            <a:endParaRPr b="0" lang="en-US" sz="28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Первый день: ч. 1, гл. 1-2;</a:t>
            </a:r>
            <a:endParaRPr b="0" lang="en-US" sz="28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торой день: ч. 1, гл. 3-5;</a:t>
            </a:r>
            <a:endParaRPr b="0" lang="en-US" sz="28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Третий день: ч. 1, гл. 6-7;</a:t>
            </a:r>
            <a:endParaRPr b="0" lang="en-US" sz="28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Четвертый день: ч. 2, гл. 1-2;</a:t>
            </a:r>
            <a:endParaRPr b="0" lang="en-US" sz="28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осьмой день: ч. 2, гл. 3-7, ч. 3, гл. 1;</a:t>
            </a:r>
            <a:endParaRPr b="0" lang="en-US" sz="28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Девятый день: ч. 3, гл. 2-6, ч. 4, гл. 1-4;</a:t>
            </a:r>
            <a:endParaRPr b="0" lang="en-US" sz="28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Десятый день: ч. 4, гл. 5-6;</a:t>
            </a:r>
            <a:endParaRPr b="0" lang="en-US" sz="28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Тринадцатый день: ч. 5, гл. 1-6;</a:t>
            </a:r>
            <a:endParaRPr b="0" lang="en-US" sz="28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Четырнадцатый день: ч. 5, гл. 7-8;</a:t>
            </a:r>
            <a:endParaRPr b="0" lang="en-US" sz="28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пустя полтора года — эпилог.</a:t>
            </a:r>
            <a:endParaRPr b="0" lang="en-US" sz="28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31"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Итоговый тест по главе 3</a:t>
            </a:r>
            <a:endParaRPr b="0" lang="en-US" sz="4000" spc="-1" strike="noStrike">
              <a:solidFill>
                <a:srgbClr val="ffffff"/>
              </a:solidFill>
              <a:latin typeface="Times New Roman"/>
            </a:endParaRPr>
          </a:p>
        </p:txBody>
      </p:sp>
      <p:sp>
        <p:nvSpPr>
          <p:cNvPr id="132"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11. Какой сон привиделся Раскольникову после встречи с мещанином?</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твет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Сон о смеющейся старухе – второе из трёх символических сновидений Родиона в романе. (См. полный текст отрывка с описанием этого сна.)</a:t>
            </a:r>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33"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Итоговый тест по главе 3</a:t>
            </a:r>
            <a:endParaRPr b="0" lang="en-US" sz="4000" spc="-1" strike="noStrike">
              <a:solidFill>
                <a:srgbClr val="ffffff"/>
              </a:solidFill>
              <a:latin typeface="Times New Roman"/>
            </a:endParaRPr>
          </a:p>
        </p:txBody>
      </p:sp>
      <p:sp>
        <p:nvSpPr>
          <p:cNvPr id="134"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12. Кого увидел проснувшийся Раскольников на пороге своей комнаты?</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Ответ  </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Пришедшего к нему Аркадия Свидригайлова. (См. Первый разговор Раскольникова со Свидригайловым.)</a:t>
            </a:r>
            <a:endParaRPr b="0" lang="en-US" sz="24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3"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0000"/>
                </a:solidFill>
                <a:latin typeface="Times New Roman"/>
              </a:rPr>
              <a:t>Часть 3</a:t>
            </a:r>
            <a:endParaRPr b="0" lang="en-US" sz="4400" spc="-1" strike="noStrike">
              <a:solidFill>
                <a:srgbClr val="ffffff"/>
              </a:solidFill>
              <a:latin typeface="Times New Roman"/>
            </a:endParaRPr>
          </a:p>
        </p:txBody>
      </p:sp>
      <p:sp>
        <p:nvSpPr>
          <p:cNvPr id="64"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План содержания ІІІ части</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1.</a:t>
            </a:r>
            <a:r>
              <a:rPr b="0" lang="ru-RU" sz="2400" spc="-1" strike="noStrike">
                <a:solidFill>
                  <a:srgbClr val="000000"/>
                </a:solidFill>
                <a:latin typeface="Times New Roman"/>
              </a:rPr>
              <a:t>	</a:t>
            </a:r>
            <a:r>
              <a:rPr b="0" lang="ru-RU" sz="2400" spc="-1" strike="noStrike">
                <a:solidFill>
                  <a:srgbClr val="000000"/>
                </a:solidFill>
                <a:latin typeface="Times New Roman"/>
              </a:rPr>
              <a:t>Встреча Родиона с матерью и Дуней.</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2.</a:t>
            </a:r>
            <a:r>
              <a:rPr b="0" lang="ru-RU" sz="2400" spc="-1" strike="noStrike">
                <a:solidFill>
                  <a:srgbClr val="000000"/>
                </a:solidFill>
                <a:latin typeface="Times New Roman"/>
              </a:rPr>
              <a:t>	</a:t>
            </a:r>
            <a:r>
              <a:rPr b="0" lang="ru-RU" sz="2400" spc="-1" strike="noStrike">
                <a:solidFill>
                  <a:srgbClr val="000000"/>
                </a:solidFill>
                <a:latin typeface="Times New Roman"/>
              </a:rPr>
              <a:t>Забота Разумихина о родных приятеля.</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3.</a:t>
            </a:r>
            <a:r>
              <a:rPr b="0" lang="ru-RU" sz="2400" spc="-1" strike="noStrike">
                <a:solidFill>
                  <a:srgbClr val="000000"/>
                </a:solidFill>
                <a:latin typeface="Times New Roman"/>
              </a:rPr>
              <a:t>	</a:t>
            </a:r>
            <a:r>
              <a:rPr b="0" lang="ru-RU" sz="2400" spc="-1" strike="noStrike">
                <a:solidFill>
                  <a:srgbClr val="000000"/>
                </a:solidFill>
                <a:latin typeface="Times New Roman"/>
              </a:rPr>
              <a:t>Ультиматум Лужина и объяснение Раскольникова с ним.</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4.</a:t>
            </a:r>
            <a:r>
              <a:rPr b="0" lang="ru-RU" sz="2400" spc="-1" strike="noStrike">
                <a:solidFill>
                  <a:srgbClr val="000000"/>
                </a:solidFill>
                <a:latin typeface="Times New Roman"/>
              </a:rPr>
              <a:t>	</a:t>
            </a:r>
            <a:r>
              <a:rPr b="0" lang="ru-RU" sz="2400" spc="-1" strike="noStrike">
                <a:solidFill>
                  <a:srgbClr val="000000"/>
                </a:solidFill>
                <a:latin typeface="Times New Roman"/>
              </a:rPr>
              <a:t>Встреча с Соней Мармеладовой. </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5.</a:t>
            </a:r>
            <a:r>
              <a:rPr b="0" lang="ru-RU" sz="2400" spc="-1" strike="noStrike">
                <a:solidFill>
                  <a:srgbClr val="000000"/>
                </a:solidFill>
                <a:latin typeface="Times New Roman"/>
              </a:rPr>
              <a:t>	</a:t>
            </a:r>
            <a:r>
              <a:rPr b="0" lang="ru-RU" sz="2400" spc="-1" strike="noStrike">
                <a:solidFill>
                  <a:srgbClr val="000000"/>
                </a:solidFill>
                <a:latin typeface="Times New Roman"/>
              </a:rPr>
              <a:t>Первый поединок с Порфирием Петровичем. Теория Раскольникова.</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6.</a:t>
            </a:r>
            <a:r>
              <a:rPr b="0" lang="ru-RU" sz="2400" spc="-1" strike="noStrike">
                <a:solidFill>
                  <a:srgbClr val="000000"/>
                </a:solidFill>
                <a:latin typeface="Times New Roman"/>
              </a:rPr>
              <a:t>	</a:t>
            </a:r>
            <a:r>
              <a:rPr b="0" lang="ru-RU" sz="2400" spc="-1" strike="noStrike">
                <a:solidFill>
                  <a:srgbClr val="000000"/>
                </a:solidFill>
                <a:latin typeface="Times New Roman"/>
              </a:rPr>
              <a:t>Появление мещанина.</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7.</a:t>
            </a:r>
            <a:r>
              <a:rPr b="0" lang="ru-RU" sz="2400" spc="-1" strike="noStrike">
                <a:solidFill>
                  <a:srgbClr val="000000"/>
                </a:solidFill>
                <a:latin typeface="Times New Roman"/>
              </a:rPr>
              <a:t>	</a:t>
            </a:r>
            <a:r>
              <a:rPr b="0" lang="ru-RU" sz="2400" spc="-1" strike="noStrike">
                <a:solidFill>
                  <a:srgbClr val="000000"/>
                </a:solidFill>
                <a:latin typeface="Times New Roman"/>
              </a:rPr>
              <a:t>Третий сон Раскольникова.</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8.</a:t>
            </a:r>
            <a:r>
              <a:rPr b="0" lang="ru-RU" sz="2400" spc="-1" strike="noStrike">
                <a:solidFill>
                  <a:srgbClr val="000000"/>
                </a:solidFill>
                <a:latin typeface="Times New Roman"/>
              </a:rPr>
              <a:t>	</a:t>
            </a:r>
            <a:r>
              <a:rPr b="0" lang="ru-RU" sz="2400" spc="-1" strike="noStrike">
                <a:solidFill>
                  <a:srgbClr val="000000"/>
                </a:solidFill>
                <a:latin typeface="Times New Roman"/>
              </a:rPr>
              <a:t>Свидригайлов.</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5"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0000"/>
                </a:solidFill>
                <a:latin typeface="Times New Roman"/>
              </a:rPr>
              <a:t>Часть 3</a:t>
            </a:r>
            <a:endParaRPr b="0" lang="en-US" sz="4400" spc="-1" strike="noStrike">
              <a:solidFill>
                <a:srgbClr val="ffffff"/>
              </a:solidFill>
              <a:latin typeface="Times New Roman"/>
            </a:endParaRPr>
          </a:p>
        </p:txBody>
      </p:sp>
      <p:sp>
        <p:nvSpPr>
          <p:cNvPr id="66"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Глава 1: Раскольников беседует с матерью и сестрой Дуней. мать и сестра уходят в гостиницу.  Разумихин влюбляется в Дуню. </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Глава 2: Разумихин и Зосимов приходят к матери и сестре Раскольникова в гостиницу. Герои обсуждают записку, которую Лужин прислал Дуне. </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Глава 3: Раскольников с матерью и сестрой обсуждают брак с Лужиным и его записку. Дуня просит брата и Разумихина быть сегодня на встрече с Лужиным. </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7"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0000"/>
                </a:solidFill>
                <a:latin typeface="Times New Roman"/>
              </a:rPr>
              <a:t>Часть 3</a:t>
            </a:r>
            <a:endParaRPr b="0" lang="en-US" sz="4400" spc="-1" strike="noStrike">
              <a:solidFill>
                <a:srgbClr val="ffffff"/>
              </a:solidFill>
              <a:latin typeface="Times New Roman"/>
            </a:endParaRPr>
          </a:p>
        </p:txBody>
      </p:sp>
      <p:sp>
        <p:nvSpPr>
          <p:cNvPr id="68" name="Text Box 2"/>
          <p:cNvSpPr/>
          <p:nvPr/>
        </p:nvSpPr>
        <p:spPr>
          <a:xfrm>
            <a:off x="360360" y="1079640"/>
            <a:ext cx="8459640" cy="62179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Глава 4: к Раскольникову приходит Соня, чтобы поблагодарить за оставленные деньги и позвать на похороны и поминки отца (Мармеладова). Соня, подойдя к квартире, знакомится со Свидригайловым, который теперь снимает жилье по соседству. Раскольников и Разумихин идут на квартиру к следователю Порфирию Петровичу, чтобы заявить о заложенных вещах Раскольникова. </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Глава 5:  у следователя Порфирия Петровича Раскольников и Разумихин застают Заметова. Герои обсуждают убийство старухи и статью Раскольникова «О преступлении». Порфирий зовет Раскольникова прийти к нему завтра в контору по поводу заложенных вещей. </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Глава 6:  К Раскольникову приходит мещанин, который называет его «убийцей» и тут же уходит. К Раскольникову приходит Свидригайлов. </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9"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6</a:t>
            </a:r>
            <a:endParaRPr b="0" lang="en-US" sz="4000" spc="-1" strike="noStrike">
              <a:solidFill>
                <a:srgbClr val="ffffff"/>
              </a:solidFill>
              <a:latin typeface="Times New Roman"/>
            </a:endParaRPr>
          </a:p>
        </p:txBody>
      </p:sp>
      <p:sp>
        <p:nvSpPr>
          <p:cNvPr id="70"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Перед приходом Свидригайлова к Раскольникову главный герой видит бредовый </a:t>
            </a:r>
            <a:r>
              <a:rPr b="1" lang="ru-RU" sz="2400" spc="-1" strike="noStrike">
                <a:solidFill>
                  <a:srgbClr val="000000"/>
                </a:solidFill>
                <a:latin typeface="Times New Roman"/>
              </a:rPr>
              <a:t>сон о покойной старухе-процентщице.</a:t>
            </a:r>
            <a:r>
              <a:rPr b="0" lang="ru-RU" sz="2400" spc="-1" strike="noStrike">
                <a:solidFill>
                  <a:srgbClr val="000000"/>
                </a:solidFill>
                <a:latin typeface="Times New Roman"/>
              </a:rPr>
              <a:t> Во сне Раскольников идет в квартиру старухи вслед за каким-то человеком, который зовет его за собой. В квартире старухи в углу гостиной Раскольников видит сидящую старуху-процентщицу, которая смеется. Раскольников пытает расправиться со старухой, но ему это не удается и смех старухи только усиливается: «…старушонка сидела и смеялась, — так и заливалась тихим, неслышным смехом, из всех сил крепясь, чтоб он ее не услышал…» Не сумев совладать со старухой, Раскольников бежит прочь, но повсюду видит людей – на лестнице, в помещениях и т.д.: «…все смотрят, — но все притаились и ждут, молчат… Сердце его стеснилось, ноги не движутся, приросли… Он хотел вскрикнуть и — проснулся…» </a:t>
            </a:r>
            <a:endParaRPr b="0" lang="en-US" sz="2400" spc="-1" strike="noStrike">
              <a:solidFill>
                <a:srgbClr val="ffffff"/>
              </a:solidFill>
              <a:latin typeface="Times New Roman"/>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В этом сне Раскольников испытывает страх разоблачения и позора, которые мучают его в реальности. </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71" name="Text Box 1"/>
          <p:cNvSpPr/>
          <p:nvPr/>
        </p:nvSpPr>
        <p:spPr>
          <a:xfrm>
            <a:off x="360360" y="179280"/>
            <a:ext cx="809784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cc0000"/>
                </a:solidFill>
                <a:latin typeface="Times New Roman"/>
              </a:rPr>
              <a:t>Часть 3 глава 1</a:t>
            </a:r>
            <a:endParaRPr b="0" lang="en-US" sz="4000" spc="-1" strike="noStrike">
              <a:solidFill>
                <a:srgbClr val="ffffff"/>
              </a:solidFill>
              <a:latin typeface="Times New Roman"/>
            </a:endParaRPr>
          </a:p>
        </p:txBody>
      </p:sp>
      <p:sp>
        <p:nvSpPr>
          <p:cNvPr id="72" name="Text Box 2"/>
          <p:cNvSpPr/>
          <p:nvPr/>
        </p:nvSpPr>
        <p:spPr>
          <a:xfrm>
            <a:off x="360360" y="1260360"/>
            <a:ext cx="8280360" cy="603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Глава I. Очнувшись, Раскольников спешит услать от себя мать и сестру: он не в силах с ними разговаривать. Перед их уходом требует, чтобы Дуня отказалась от брака с пoдлецом Лужиным. Разумихин провожает дам в нумера Бакалеева, сильно увлекаясь Дуней. Своим волевым, энергичным характером та напоминает брата. (См. подробнее.) (См. Внешность Дуни Раскольниковой, Внешность матери Раскольникова.)</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Технический Отдел</cp:lastModifiedBy>
  <dcterms:modified xsi:type="dcterms:W3CDTF">2024-02-11T14:55:29Z</dcterms:modified>
  <cp:revision>30</cp:revision>
  <dc:subject/>
  <dc:title>PowerPoint Presentation</dc:title>
</cp:coreProperties>
</file>