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C93-4124-4FCC-A059-0946997B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D93-0A45-4A0F-91BF-FCFCF32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536-B806-4C06-8347-48A73077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D30-A041-4ABD-8BB1-2B7E1D67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738-A944-4B88-BC38-99A834F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6C0-85C5-4808-AD21-65A5B35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47B-EB30-413A-8676-0D9E966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A0B-4748-489A-BDEC-A3E6FDDA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C7B-7F38-4267-9C7A-E51CA947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C1E-43ED-44B8-988F-84A3C1F9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35A-51DF-4136-884C-A4E03AF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C00-9390-4C73-8AC8-94E6A6E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E9D-29D5-4E03-923D-E5D574EDD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692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ми является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х – 5 ;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* 4 +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оставьте выражение по условию задачи: Карандаш стоит х рублей, а блокнот - 25 рублей. Сколько стоят 3 карандаша и 1 блокн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Найдите значение полученного выражения при х = 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Мяч  стоит х р., а скакалка стоит у р., и она дороже мяча. Поясните смысл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х + 4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 такое у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одержимое 7"/>
          <p:cNvSpPr/>
          <p:nvPr/>
        </p:nvSpPr>
        <p:spPr>
          <a:xfrm>
            <a:off x="250920" y="2781360"/>
            <a:ext cx="7850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дрей, покупая две одинаковые тетради, дал кассиру 50 рублей и получил сдачу 26 рублей. Сколько стоит одна тетр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im2-tub-ru.yandex.net/i?id=d7b2a1a150cab5470c0e8c64eeaca52b-15-144&amp;n=21"/>
          <p:cNvPicPr/>
          <p:nvPr/>
        </p:nvPicPr>
        <p:blipFill>
          <a:blip r:embed="rId1"/>
          <a:stretch/>
        </p:blipFill>
        <p:spPr>
          <a:xfrm>
            <a:off x="6572160" y="1357200"/>
            <a:ext cx="2390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рень уравнения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число, при подстановке которого в уравнение получается верное 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лан решения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значить то, что надо найти,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по условию задачи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ить это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(ещё раз перечитать вопр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m0-tub-ru.yandex.net/i?id=c516eb7045a9de6459eaa284f876f0ff-69-144&amp;n=21"/>
          <p:cNvPicPr/>
          <p:nvPr/>
        </p:nvPicPr>
        <p:blipFill>
          <a:blip r:embed="rId1"/>
          <a:stretch/>
        </p:blipFill>
        <p:spPr>
          <a:xfrm>
            <a:off x="428760" y="5072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im3-tub-ru.yandex.net/i?id=f0ea92de6bfed66cee795d2731e723c9-107-144&amp;n=21"/>
          <p:cNvPicPr/>
          <p:nvPr/>
        </p:nvPicPr>
        <p:blipFill>
          <a:blip r:embed="rId2"/>
          <a:stretch/>
        </p:blipFill>
        <p:spPr>
          <a:xfrm>
            <a:off x="2786040" y="507204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1-tub-ru.yandex.net/i?id=34fe294d4373638807e7ed6c25586b73-07-144&amp;n=21"/>
          <p:cNvPicPr/>
          <p:nvPr/>
        </p:nvPicPr>
        <p:blipFill>
          <a:blip r:embed="rId3"/>
          <a:stretch/>
        </p:blipFill>
        <p:spPr>
          <a:xfrm>
            <a:off x="4357800" y="50720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im3-tub-ru.yandex.net/i?id=5db5bc4010dda4868db1392b7d3a38ab-08-144&amp;n=21"/>
          <p:cNvPicPr/>
          <p:nvPr/>
        </p:nvPicPr>
        <p:blipFill>
          <a:blip r:embed="rId4"/>
          <a:stretch/>
        </p:blipFill>
        <p:spPr>
          <a:xfrm>
            <a:off x="6929280" y="50720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6009" t="13361" r="34793" b="198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ясните, является ли число 2 корнем урав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) 4 + 3х = 10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) 6(3х – 1) = 12х +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х+ х + 3 = 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rcRect l="15959" t="25684" r="59402" b="42411"/>
          <a:stretch/>
        </p:blipFill>
        <p:spPr>
          <a:xfrm>
            <a:off x="75564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2:01:49Z</dcterms:created>
  <dc:creator>User</dc:creator>
  <dc:description/>
  <dc:language>en-US</dc:language>
  <cp:lastModifiedBy>Мария</cp:lastModifiedBy>
  <dcterms:modified xsi:type="dcterms:W3CDTF">2024-01-14T12:55:30Z</dcterms:modified>
  <cp:revision>57</cp:revision>
  <dc:subject/>
  <dc:title>Слайд 1</dc:title>
</cp:coreProperties>
</file>