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3.png" ContentType="image/png"/>
  <Override PartName="/ppt/media/image18.gif" ContentType="image/gif"/>
  <Override PartName="/ppt/media/image16.png" ContentType="image/png"/>
  <Override PartName="/ppt/media/image28.gif" ContentType="image/gif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9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27.gif" ContentType="image/gif"/>
  <Override PartName="/ppt/media/image30.png" ContentType="image/png"/>
  <Override PartName="/ppt/media/image25.gif" ContentType="image/gif"/>
  <Override PartName="/ppt/media/image39.gif" ContentType="image/gif"/>
  <Override PartName="/ppt/media/image34.png" ContentType="image/png"/>
  <Override PartName="/ppt/media/image4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gif" ContentType="image/gif"/>
  <Override PartName="/ppt/media/image17.png" ContentType="image/png"/>
  <Override PartName="/ppt/media/image11.wmf" ContentType="image/x-wm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1F34-3720-4252-B7C3-D8456F0C7D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0191-4C5C-4D59-8B16-464319F7D4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EBE7DD1C-E054-42F1-B068-0F96EEFAD73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0D90-C6BD-482B-9CD4-1B8C1E2A07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47CD-8BE3-4BCB-80E6-8DFAFAF026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5623-91BF-49E1-B9FB-3BC96850FB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BE6-2AF2-47C8-882A-156F0C8A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003-74B1-4E96-AB0B-DFA4FFFD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CACB9-7C2B-430F-AE4F-93D82A31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52EBC-D311-43E9-BD9C-945329F1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1A0B4-F00E-405D-9F33-F8BAE8EB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F03F6-BF21-45D8-9173-5F193321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B8DB3-FFFA-4EB2-9659-F1B16F6C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C1118-5FD6-4060-B2AD-706C3B51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9B53F-469E-4348-8866-E1DF26DD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40AD7-9369-4407-B0D9-649E85E6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2522C-FFAE-421C-B51F-8261C7AC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56080-B236-4A2E-9F41-F5D6B5C6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F2E-4749-4608-A1A7-06199184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DE0D6-4385-408B-B222-9FD19D3A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1B0AD-1D30-4B7B-91DA-35969048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89D22-FEBE-4685-A81D-64556FCF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5738F-C172-405C-A569-D0A77AAE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B4677-2446-4300-96D8-4125FC98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E6227-BD2B-495F-8F13-2339BC34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57DC2-3408-4862-BA0D-A20B5250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973C6-C0D7-4179-A103-6491273E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DFCD7-626A-40BB-873F-2A79A0BF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AFC55-1077-4BA6-BB55-7780F01A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CC6-3D56-467C-8DC5-18C998B2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AFA35-3376-4F31-A749-FD331F6A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FA355-1F29-41F0-AD10-08CFFF06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DF636-DB0A-4757-82D8-88573583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E619E-5B2F-4B39-9966-A9476F99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879EB-75D7-4A25-B417-E47B5711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AFBD8-986A-496D-A5A1-94324FAB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2366D-29DF-4621-B601-4C6D18FB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3D2E8-C0A3-4874-955F-7760146B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755DA-D1EE-490D-BD06-0C33B506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FB2A6-5C55-471E-9D94-CFCBAA55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F9CB-BBE1-45BD-B186-A7931452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A8C23-0FE9-41A1-A6B6-47B17209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510A8-7F04-4411-B7CD-50743ECB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22084-5FA3-4A85-A05A-1B2FEB9F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81B86-9BDB-4DD9-92B4-D309344F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21994-4A8D-4FAF-B726-1B74B418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AD259-FDA3-46A4-A02F-57F7CBDF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334AC-5E49-4642-A1B8-4A587CEA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727F5-9B5E-4082-80AE-575400C5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FCBCB-D4ED-4AB8-A3C3-4408C98E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453AF-E815-4D88-BE55-5D13492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CE70-24AB-4DFA-B000-42D89184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7762A-9E2A-44DF-9310-6F68D7D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DADD1-98B7-4763-91F9-13E75887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17181-FD0F-4A04-9477-FF81EACA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C7A26-05A4-42BA-BD7F-938E858A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61B05-AF86-4BE3-A5EE-809031D7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3719-C466-454F-B4E1-A608659F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2BD6-080E-461C-BE3E-00F1ABE8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4FE5-B5AE-46AB-9365-8387B59A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BC3B-7B71-4253-ABE7-864E0FAB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48F4-99CD-4EAF-9B20-AEA001A3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DA6-A418-4296-9F6E-CAEAE630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0DA7-BF98-46B6-8824-223F1150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7739-6F2D-450A-9F3F-B16E14D8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937D-3700-4785-938F-DD6E7B2F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0147-76F6-402E-8F0F-A3F10246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8670-1808-45E0-BDA9-2B99A4C8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5C1F-7274-4CDA-BD55-2E6B5255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5727-77B0-454E-932D-F803AD5B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5BEC2-C3DD-4D29-A270-3D63298A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AF56-3C26-4CCE-AEDE-579E17FF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EDC84-4FC4-4622-90AF-0BBAE484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522-86C2-44EA-BCC8-46D66A26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5511-C05B-4620-85A7-92C317FD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5E24B-2C68-4D40-93A3-3E433C13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EC64-7E25-4F7F-84F2-79847906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D361B-70A7-4397-834B-44804D65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D011A-E4A9-46D4-8EAB-4B82A91B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F2812-2A05-49A3-8275-3C913B6E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2098-C610-4ED4-96D8-E95B652D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ADBB-CDBE-40F9-ACB0-0B9DDC8B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22325-34F5-4056-B0BB-ABC57BBA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96CD9-3D34-4536-980B-57795B31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DA8-C22E-405D-9CB2-741CECD4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6AC7B-1CDB-462D-8B86-D4E1EFD2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59AEB-CCBF-4902-896C-A26AA768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347D9-28A3-416B-811C-DE350904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CA4F-4566-46F2-A872-B6E3B555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0155-5836-426D-9825-CC4D9699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832BB-1C07-401E-BF69-F372F448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DAD44-5BDA-4DD8-8748-89DB007E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D8A83-8281-46FD-90D5-F2366310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904AA-1157-4271-BB47-555D5EF3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FBC91-A8A5-44C6-8809-60512BD5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203-29AA-4D69-8A7F-158B1F51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B6BD2-29FF-4672-9B84-3BF687AE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6B5F8-F4F6-4613-A811-391AC837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A87A6-6BB7-4A22-9152-003D2AF7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B6226-E7EA-4358-8B7D-19DEB0D0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7BD48-20A9-467B-B650-58AE1656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94889-9E82-46E9-A23C-1C2FB771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0F3D-99B5-4B6F-9C28-E76A22CF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57623-544F-4AAB-A735-DCF28FC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557D7-9EE6-42FC-BE1E-AAD5A906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68324-07B8-441B-814B-A23BCA5F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69D-5134-474D-BC0B-7FDD4382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9AAFC-CAB6-4642-AB5B-7C166614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C92B7-5D5D-43B4-BD7A-E5A92218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0F0E9-4B5E-4944-9E1B-9E989474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403EE-3A0F-425D-A5B6-9449CB71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9184F-0A34-40B1-A2F8-C0E6F258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C68FD-65E0-45B0-B110-B3CCA4E1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22EB6-D9D8-4FE6-B4B2-AEDABE4E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B8019-291F-4B9D-AD53-D8173CC8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F25D0-1686-4EF8-9393-F0A31CF3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70F73-A596-430D-A565-2785E489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B20-4F20-4997-956A-D08514D9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A1BC6-180B-4C32-854B-8E9818E9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DFE54-90E4-40B3-8A12-7B5351CE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93001-E220-47A5-97E1-18B115F6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AE7D9-8B7A-4738-9FD1-397309DE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92834-31F1-44E2-B2AD-85CEC8BE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B29BB-1B55-48B7-BBF9-AD68CCC3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DD73C-B9BA-45B1-8765-18D45F96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8A45A-E0B9-406A-8270-3AFCB130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24BB1-3A5C-424C-85CF-7DB037E6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1D75-B909-4543-A9B5-0EE297DF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DDD-577D-4AA6-9D63-AB14474A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B83D5-90BC-4DAE-95A1-3B4F8917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25BB3-53B0-4586-A80A-E313CE9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B5A60-C52C-4D77-A50B-3085A671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1299D-6C5B-484B-827E-F0B30787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239BB-8915-4E94-8DD1-B74FB536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38A1D-A643-48D4-A319-009D23AD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18265-9B4C-46FA-87A0-A550AF0D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21B28-1C01-46A2-AE6B-C781A44A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3C6E4-8B03-479B-951A-8CBF1745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12F4C-A55D-4FF2-93DB-BA33E145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973-F333-4F95-BF7C-7B900284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9AE68-E113-4056-8CBE-122C90CA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3095B-0DAF-4A45-A35A-FA007C23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226E6-B8D1-4F0F-A49F-C9DFF5C7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2B069-4811-4503-A700-05A59565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6BEA6-1A36-4701-81CE-38D115B8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D2797-F4DB-422D-B93D-B3C8E8EF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E9C33-0B8E-47BF-8878-068E5DD5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ED0B4-C7AA-4D32-8C38-5605B2E0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7D1A8-FC67-44BB-81F7-F3C8E29C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C6270-4271-4FD7-91E8-FE1B4442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A8D1-A329-47B3-B579-8BE4680F3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A1EA-97C3-4774-B8D4-0C8927F342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8704-7B87-452E-94A7-0FF140F16B7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7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F128-0B26-42AF-9F45-4E4ABD478A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69A0-B0B5-4636-AC80-F6F65D99D3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8E12-F316-4C52-920F-7CB50F677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32A7-83C4-4F5C-9FDA-07382FC25A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2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CAD0-2E73-4A4D-A717-C26D3514A9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1E93-075D-4B55-BC8A-0E875542E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1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2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CA60-AA8F-4378-9695-ED4CA36750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6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7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AB68-D52C-4509-A496-581DFB996F8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1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2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2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3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14B7-0E6A-4BAE-B410-7DB8989697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7.png"/><Relationship Id="rId11" Type="http://schemas.openxmlformats.org/officeDocument/2006/relationships/image" Target="../media/image13.png"/><Relationship Id="rId12" Type="http://schemas.openxmlformats.org/officeDocument/2006/relationships/image" Target="../media/image17.png"/><Relationship Id="rId13" Type="http://schemas.openxmlformats.org/officeDocument/2006/relationships/image" Target="../media/image18.gif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gif"/><Relationship Id="rId21" Type="http://schemas.openxmlformats.org/officeDocument/2006/relationships/image" Target="../media/image26.gif"/><Relationship Id="rId22" Type="http://schemas.openxmlformats.org/officeDocument/2006/relationships/image" Target="../media/image27.gif"/><Relationship Id="rId23" Type="http://schemas.openxmlformats.org/officeDocument/2006/relationships/image" Target="../media/image28.gif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24.png"/><Relationship Id="rId31" Type="http://schemas.openxmlformats.org/officeDocument/2006/relationships/slide" Target="slide2.xml"/><Relationship Id="rId32" Type="http://schemas.openxmlformats.org/officeDocument/2006/relationships/slide" Target=""/><Relationship Id="rId33" Type="http://schemas.openxmlformats.org/officeDocument/2006/relationships/image" Target="../media/image35.png"/><Relationship Id="rId34" Type="http://schemas.openxmlformats.org/officeDocument/2006/relationships/slideLayout" Target="../slideLayouts/slideLayout13.xml"/><Relationship Id="rId3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Oval 2"/>
          <p:cNvSpPr/>
          <p:nvPr/>
        </p:nvSpPr>
        <p:spPr>
          <a:xfrm>
            <a:off x="5724360" y="2205000"/>
            <a:ext cx="2376720" cy="1008000"/>
          </a:xfrm>
          <a:prstGeom prst="ellipse">
            <a:avLst/>
          </a:prstGeom>
          <a:solidFill>
            <a:srgbClr val="33cccc">
              <a:alpha val="68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3"/>
          <p:cNvSpPr/>
          <p:nvPr/>
        </p:nvSpPr>
        <p:spPr>
          <a:xfrm>
            <a:off x="6300720" y="2637000"/>
            <a:ext cx="1224000" cy="504720"/>
          </a:xfrm>
          <a:prstGeom prst="ellipse">
            <a:avLst/>
          </a:prstGeom>
          <a:solidFill>
            <a:srgbClr val="ffffff">
              <a:alpha val="70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755640" y="3357720"/>
            <a:ext cx="93672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1835280" y="3357720"/>
            <a:ext cx="93636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3419640" y="3357720"/>
            <a:ext cx="93636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4500720" y="3357720"/>
            <a:ext cx="93636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5940360" y="3357720"/>
            <a:ext cx="93672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7020000" y="3357720"/>
            <a:ext cx="93672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0"/>
          <p:cNvSpPr/>
          <p:nvPr/>
        </p:nvSpPr>
        <p:spPr>
          <a:xfrm>
            <a:off x="611280" y="2205000"/>
            <a:ext cx="2376360" cy="1008000"/>
          </a:xfrm>
          <a:prstGeom prst="ellipse">
            <a:avLst/>
          </a:prstGeom>
          <a:solidFill>
            <a:srgbClr val="33cccc">
              <a:alpha val="68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11"/>
          <p:cNvSpPr/>
          <p:nvPr/>
        </p:nvSpPr>
        <p:spPr>
          <a:xfrm>
            <a:off x="1187280" y="2637000"/>
            <a:ext cx="1224000" cy="504720"/>
          </a:xfrm>
          <a:prstGeom prst="ellipse">
            <a:avLst/>
          </a:prstGeom>
          <a:solidFill>
            <a:srgbClr val="ffffff">
              <a:alpha val="70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12"/>
          <p:cNvSpPr/>
          <p:nvPr/>
        </p:nvSpPr>
        <p:spPr>
          <a:xfrm>
            <a:off x="3203640" y="2205000"/>
            <a:ext cx="2376360" cy="1008000"/>
          </a:xfrm>
          <a:prstGeom prst="ellipse">
            <a:avLst/>
          </a:prstGeom>
          <a:solidFill>
            <a:srgbClr val="33cccc">
              <a:alpha val="68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Oval 13"/>
          <p:cNvSpPr/>
          <p:nvPr/>
        </p:nvSpPr>
        <p:spPr>
          <a:xfrm>
            <a:off x="3780000" y="2637000"/>
            <a:ext cx="1223640" cy="504720"/>
          </a:xfrm>
          <a:prstGeom prst="ellipse">
            <a:avLst/>
          </a:prstGeom>
          <a:solidFill>
            <a:srgbClr val="ffffff">
              <a:alpha val="70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Oval 14"/>
          <p:cNvSpPr/>
          <p:nvPr/>
        </p:nvSpPr>
        <p:spPr>
          <a:xfrm>
            <a:off x="971640" y="2205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Oval 15"/>
          <p:cNvSpPr/>
          <p:nvPr/>
        </p:nvSpPr>
        <p:spPr>
          <a:xfrm>
            <a:off x="1476360" y="256536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16"/>
          <p:cNvSpPr/>
          <p:nvPr/>
        </p:nvSpPr>
        <p:spPr>
          <a:xfrm>
            <a:off x="2124000" y="234936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Freeform 17"/>
          <p:cNvSpPr/>
          <p:nvPr/>
        </p:nvSpPr>
        <p:spPr>
          <a:xfrm>
            <a:off x="611280" y="1844640"/>
            <a:ext cx="431640" cy="4320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Freeform 18"/>
          <p:cNvSpPr/>
          <p:nvPr/>
        </p:nvSpPr>
        <p:spPr>
          <a:xfrm rot="2602200">
            <a:off x="1547640" y="2205000"/>
            <a:ext cx="432000" cy="4320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19"/>
          <p:cNvSpPr/>
          <p:nvPr/>
        </p:nvSpPr>
        <p:spPr>
          <a:xfrm rot="4449000">
            <a:off x="2411640" y="2060280"/>
            <a:ext cx="431640" cy="4320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0"/>
          <p:cNvSpPr/>
          <p:nvPr/>
        </p:nvSpPr>
        <p:spPr>
          <a:xfrm>
            <a:off x="3564000" y="227664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Oval 21"/>
          <p:cNvSpPr/>
          <p:nvPr/>
        </p:nvSpPr>
        <p:spPr>
          <a:xfrm>
            <a:off x="4716360" y="2421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Freeform 22"/>
          <p:cNvSpPr/>
          <p:nvPr/>
        </p:nvSpPr>
        <p:spPr>
          <a:xfrm>
            <a:off x="3203640" y="1916280"/>
            <a:ext cx="4316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reeform 23"/>
          <p:cNvSpPr/>
          <p:nvPr/>
        </p:nvSpPr>
        <p:spPr>
          <a:xfrm>
            <a:off x="3300480" y="1495440"/>
            <a:ext cx="407880" cy="493560"/>
          </a:xfrm>
          <a:custGeom>
            <a:avLst/>
            <a:gdLst/>
            <a:ahLst/>
            <a:rect l="l" t="t" r="r" b="b"/>
            <a:pathLst>
              <a:path w="257" h="311">
                <a:moveTo>
                  <a:pt x="30" y="311"/>
                </a:moveTo>
                <a:cubicBezTo>
                  <a:pt x="15" y="242"/>
                  <a:pt x="0" y="174"/>
                  <a:pt x="30" y="129"/>
                </a:cubicBezTo>
                <a:cubicBezTo>
                  <a:pt x="60" y="84"/>
                  <a:pt x="173" y="53"/>
                  <a:pt x="211" y="38"/>
                </a:cubicBezTo>
                <a:cubicBezTo>
                  <a:pt x="249" y="23"/>
                  <a:pt x="257" y="0"/>
                  <a:pt x="257" y="38"/>
                </a:cubicBezTo>
                <a:cubicBezTo>
                  <a:pt x="257" y="76"/>
                  <a:pt x="241" y="219"/>
                  <a:pt x="211" y="265"/>
                </a:cubicBezTo>
                <a:cubicBezTo>
                  <a:pt x="181" y="311"/>
                  <a:pt x="128" y="311"/>
                  <a:pt x="75" y="311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Freeform 24"/>
          <p:cNvSpPr/>
          <p:nvPr/>
        </p:nvSpPr>
        <p:spPr>
          <a:xfrm rot="4449000">
            <a:off x="5003280" y="2131920"/>
            <a:ext cx="432000" cy="4320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25"/>
          <p:cNvSpPr/>
          <p:nvPr/>
        </p:nvSpPr>
        <p:spPr>
          <a:xfrm>
            <a:off x="5796000" y="227808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Oval 26"/>
          <p:cNvSpPr/>
          <p:nvPr/>
        </p:nvSpPr>
        <p:spPr>
          <a:xfrm>
            <a:off x="6877080" y="2421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Oval 27"/>
          <p:cNvSpPr/>
          <p:nvPr/>
        </p:nvSpPr>
        <p:spPr>
          <a:xfrm>
            <a:off x="7453440" y="227808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Oval 28"/>
          <p:cNvSpPr/>
          <p:nvPr/>
        </p:nvSpPr>
        <p:spPr>
          <a:xfrm>
            <a:off x="6300720" y="2421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29"/>
          <p:cNvSpPr/>
          <p:nvPr/>
        </p:nvSpPr>
        <p:spPr>
          <a:xfrm>
            <a:off x="6083280" y="191772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6515280" y="1989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31"/>
          <p:cNvSpPr/>
          <p:nvPr/>
        </p:nvSpPr>
        <p:spPr>
          <a:xfrm>
            <a:off x="7020000" y="1989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Oval 32"/>
          <p:cNvSpPr/>
          <p:nvPr/>
        </p:nvSpPr>
        <p:spPr>
          <a:xfrm>
            <a:off x="6372360" y="148608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Oval 33"/>
          <p:cNvSpPr/>
          <p:nvPr/>
        </p:nvSpPr>
        <p:spPr>
          <a:xfrm>
            <a:off x="6804000" y="148608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4"/>
          <p:cNvSpPr/>
          <p:nvPr/>
        </p:nvSpPr>
        <p:spPr>
          <a:xfrm>
            <a:off x="90000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ook Antiqu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5"/>
          <p:cNvSpPr/>
          <p:nvPr/>
        </p:nvSpPr>
        <p:spPr>
          <a:xfrm>
            <a:off x="197964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ook Antiqu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36"/>
          <p:cNvSpPr/>
          <p:nvPr/>
        </p:nvSpPr>
        <p:spPr>
          <a:xfrm>
            <a:off x="356400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ook Antiqu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37"/>
          <p:cNvSpPr/>
          <p:nvPr/>
        </p:nvSpPr>
        <p:spPr>
          <a:xfrm>
            <a:off x="4643280" y="328464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ook Antiqu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38"/>
          <p:cNvSpPr/>
          <p:nvPr/>
        </p:nvSpPr>
        <p:spPr>
          <a:xfrm>
            <a:off x="6084720" y="328464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ook Antiqu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39"/>
          <p:cNvSpPr/>
          <p:nvPr/>
        </p:nvSpPr>
        <p:spPr>
          <a:xfrm>
            <a:off x="716436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ook Antiqu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40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Book Antiqua"/>
              </a:rPr>
              <a:t>Задач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41"/>
          <p:cNvSpPr/>
          <p:nvPr/>
        </p:nvSpPr>
        <p:spPr>
          <a:xfrm>
            <a:off x="0" y="5229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Book Antiqua"/>
              </a:rPr>
              <a:t>Сколько вишен нужно положить в пустую тарелк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Freeform 42"/>
          <p:cNvSpPr/>
          <p:nvPr/>
        </p:nvSpPr>
        <p:spPr>
          <a:xfrm rot="13767600">
            <a:off x="6372000" y="2781000"/>
            <a:ext cx="4316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43"/>
          <p:cNvSpPr/>
          <p:nvPr/>
        </p:nvSpPr>
        <p:spPr>
          <a:xfrm>
            <a:off x="64436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Book Antiqua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Freeform 44"/>
          <p:cNvSpPr/>
          <p:nvPr/>
        </p:nvSpPr>
        <p:spPr>
          <a:xfrm rot="3018600">
            <a:off x="7596000" y="1917720"/>
            <a:ext cx="4316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Freeform 45"/>
          <p:cNvSpPr/>
          <p:nvPr/>
        </p:nvSpPr>
        <p:spPr>
          <a:xfrm rot="13767600">
            <a:off x="6516360" y="1196640"/>
            <a:ext cx="4316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Freeform 46"/>
          <p:cNvSpPr/>
          <p:nvPr/>
        </p:nvSpPr>
        <p:spPr>
          <a:xfrm rot="16769400">
            <a:off x="5579640" y="2565360"/>
            <a:ext cx="432000" cy="4320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AutoShape 47"/>
          <p:cNvSpPr/>
          <p:nvPr/>
        </p:nvSpPr>
        <p:spPr>
          <a:xfrm rot="20026200">
            <a:off x="611280" y="1989000"/>
            <a:ext cx="2374920" cy="2448000"/>
          </a:xfrm>
          <a:prstGeom prst="wedgeEllipseCallout">
            <a:avLst>
              <a:gd name="adj1" fmla="val -41842"/>
              <a:gd name="adj2" fmla="val 4076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AutoShape 48"/>
          <p:cNvSpPr/>
          <p:nvPr/>
        </p:nvSpPr>
        <p:spPr>
          <a:xfrm rot="20026200">
            <a:off x="3203640" y="1989000"/>
            <a:ext cx="2374920" cy="2448000"/>
          </a:xfrm>
          <a:prstGeom prst="wedgeEllipseCallout">
            <a:avLst>
              <a:gd name="adj1" fmla="val -14958"/>
              <a:gd name="adj2" fmla="val 59861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49"/>
          <p:cNvSpPr/>
          <p:nvPr/>
        </p:nvSpPr>
        <p:spPr>
          <a:xfrm>
            <a:off x="826920" y="4508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Book Antiqua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50"/>
          <p:cNvSpPr/>
          <p:nvPr/>
        </p:nvSpPr>
        <p:spPr>
          <a:xfrm>
            <a:off x="4140360" y="450864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Book Antiqua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51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Book Antiqua"/>
              </a:rPr>
              <a:t>Отве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AutoShape 52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84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1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2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2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2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395280" y="404640"/>
          <a:ext cx="8137080" cy="3095280"/>
        </p:xfrm>
        <a:graphic>
          <a:graphicData uri="http://schemas.openxmlformats.org/drawingml/2006/table">
            <a:tbl>
              <a:tblPr/>
              <a:tblGrid>
                <a:gridCol w="2070360"/>
                <a:gridCol w="2021400"/>
                <a:gridCol w="2022120"/>
                <a:gridCol w="2023200"/>
              </a:tblGrid>
              <a:tr h="156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 сахар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1 стакан клюк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канов клюк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канов саха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ра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с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стр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468360" y="3716280"/>
          <a:ext cx="8136000" cy="3040200"/>
        </p:xfrm>
        <a:graphic>
          <a:graphicData uri="http://schemas.openxmlformats.org/drawingml/2006/table">
            <a:tbl>
              <a:tblPr/>
              <a:tblGrid>
                <a:gridCol w="2027160"/>
                <a:gridCol w="2032200"/>
                <a:gridCol w="2039760"/>
                <a:gridCol w="20368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 сахар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1 стакан клюк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канов клюк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канов саха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ра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с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стр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с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0" name="AutoShape 149"/>
          <p:cNvSpPr/>
          <p:nvPr/>
        </p:nvSpPr>
        <p:spPr>
          <a:xfrm>
            <a:off x="7380360" y="21337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57200" y="404640"/>
          <a:ext cx="8229600" cy="5721480"/>
        </p:xfrm>
        <a:graphic>
          <a:graphicData uri="http://schemas.openxmlformats.org/drawingml/2006/table">
            <a:tbl>
              <a:tblPr/>
              <a:tblGrid>
                <a:gridCol w="2093760"/>
                <a:gridCol w="2044800"/>
                <a:gridCol w="2044800"/>
                <a:gridCol w="2046240"/>
              </a:tblGrid>
              <a:tr h="26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 сахар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1 стакан клюкв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канов клюкв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канов сахар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рат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т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ст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стр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ст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3" name="AutoShape 27"/>
          <p:cNvSpPr/>
          <p:nvPr/>
        </p:nvSpPr>
        <p:spPr>
          <a:xfrm>
            <a:off x="7380360" y="3284640"/>
            <a:ext cx="144360" cy="1728720"/>
          </a:xfrm>
          <a:custGeom>
            <a:avLst/>
            <a:gdLst>
              <a:gd name="textAreaLeft" fmla="*/ 0 w 144360"/>
              <a:gd name="textAreaRight" fmla="*/ 5220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1744920" y="1071720"/>
            <a:ext cx="52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амостоятельная работа №6 (2с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890720" y="2889360"/>
            <a:ext cx="46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Ответы: 22, 44, 3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620360" y="620640"/>
            <a:ext cx="48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Работа в пар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76120" y="1643040"/>
            <a:ext cx="729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1 ряд            2 ряд                 3 ря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1.а                  1.б                    1.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3.а                  3.а                    3.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1042920" y="1645200"/>
            <a:ext cx="7850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Сегодня мы учились решать примеры на деление с остатком, но уже не используя рису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Сегодня мы учились решать примеры на деление с остатком, используя рису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WordArt 6"/>
          <p:cNvSpPr txBox="1"/>
          <p:nvPr/>
        </p:nvSpPr>
        <p:spPr>
          <a:xfrm>
            <a:off x="826920" y="765000"/>
            <a:ext cx="741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11" name="WordArt 8"/>
          <p:cNvSpPr txBox="1"/>
          <p:nvPr/>
        </p:nvSpPr>
        <p:spPr>
          <a:xfrm>
            <a:off x="684360" y="333360"/>
            <a:ext cx="813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ыбери правильное утверждение по уроку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2"/>
          <p:cNvSpPr txBox="1"/>
          <p:nvPr/>
        </p:nvSpPr>
        <p:spPr>
          <a:xfrm>
            <a:off x="2843280" y="692280"/>
            <a:ext cx="5113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тог урок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3" name="Picture 3" descr="df81ef4a851et"/>
          <p:cNvPicPr/>
          <p:nvPr/>
        </p:nvPicPr>
        <p:blipFill>
          <a:blip r:embed="rId1"/>
          <a:srcRect l="0" t="0" r="0" b="6516"/>
          <a:stretch/>
        </p:blipFill>
        <p:spPr>
          <a:xfrm>
            <a:off x="3419640" y="2205000"/>
            <a:ext cx="4032000" cy="38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Заголовок 1" descr=""/>
          <p:cNvPicPr/>
          <p:nvPr/>
        </p:nvPicPr>
        <p:blipFill>
          <a:blip r:embed="rId1"/>
          <a:stretch/>
        </p:blipFill>
        <p:spPr>
          <a:xfrm>
            <a:off x="438120" y="274680"/>
            <a:ext cx="8261280" cy="11462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26 №6 (1 – 3 ст.),№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е на смекал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орческое задание: придумайте по два примера на деление числа с остат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Рисунок 3" descr="2-3-1.gif"/>
          <p:cNvPicPr/>
          <p:nvPr/>
        </p:nvPicPr>
        <p:blipFill>
          <a:blip r:embed="rId2"/>
          <a:stretch/>
        </p:blipFill>
        <p:spPr>
          <a:xfrm>
            <a:off x="3286080" y="4508640"/>
            <a:ext cx="2495520" cy="16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Box 3"/>
          <p:cNvSpPr/>
          <p:nvPr/>
        </p:nvSpPr>
        <p:spPr>
          <a:xfrm>
            <a:off x="360360" y="981000"/>
            <a:ext cx="829476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icrosoft YaHei"/>
              </a:rPr>
              <a:t>Не вычисляя, найди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icrosoft YaHei"/>
              </a:rPr>
              <a:t>лишнее выраж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Box 4"/>
          <p:cNvSpPr/>
          <p:nvPr/>
        </p:nvSpPr>
        <p:spPr>
          <a:xfrm>
            <a:off x="826920" y="2997360"/>
            <a:ext cx="782820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  <a:ea typeface="Microsoft YaHei"/>
              </a:rPr>
              <a:t>8·5      6·8    4·8   7·8   8·2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70c0"/>
                </a:solidFill>
                <a:latin typeface="Arial"/>
                <a:ea typeface="Microsoft YaHei"/>
              </a:rPr>
              <a:t>8·9   8:8   8·3   10·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Прямая соединительная линия 5"/>
          <p:cNvSpPr/>
          <p:nvPr/>
        </p:nvSpPr>
        <p:spPr>
          <a:xfrm>
            <a:off x="357120" y="214200"/>
            <a:ext cx="8358120" cy="0"/>
          </a:xfrm>
          <a:prstGeom prst="line">
            <a:avLst/>
          </a:prstGeom>
          <a:ln w="76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Прямая соединительная линия 16"/>
          <p:cNvSpPr/>
          <p:nvPr/>
        </p:nvSpPr>
        <p:spPr>
          <a:xfrm>
            <a:off x="357120" y="214200"/>
            <a:ext cx="0" cy="785880"/>
          </a:xfrm>
          <a:prstGeom prst="line">
            <a:avLst/>
          </a:prstGeom>
          <a:ln w="76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Прямая соединительная линия 23"/>
          <p:cNvSpPr/>
          <p:nvPr/>
        </p:nvSpPr>
        <p:spPr>
          <a:xfrm>
            <a:off x="500040" y="6143760"/>
            <a:ext cx="8215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Прямоугольник 4" descr=""/>
          <p:cNvPicPr/>
          <p:nvPr/>
        </p:nvPicPr>
        <p:blipFill>
          <a:blip r:embed="rId1"/>
          <a:stretch/>
        </p:blipFill>
        <p:spPr>
          <a:xfrm>
            <a:off x="500040" y="158760"/>
            <a:ext cx="8358120" cy="1846080"/>
          </a:xfrm>
          <a:prstGeom prst="rect">
            <a:avLst/>
          </a:prstGeom>
          <a:ln w="0">
            <a:noFill/>
          </a:ln>
        </p:spPr>
      </p:pic>
      <p:pic>
        <p:nvPicPr>
          <p:cNvPr id="678" name="Прямоугольник 6" descr=""/>
          <p:cNvPicPr/>
          <p:nvPr/>
        </p:nvPicPr>
        <p:blipFill>
          <a:blip r:embed="rId2"/>
          <a:stretch/>
        </p:blipFill>
        <p:spPr>
          <a:xfrm>
            <a:off x="85680" y="1639800"/>
            <a:ext cx="2322720" cy="1401840"/>
          </a:xfrm>
          <a:prstGeom prst="rect">
            <a:avLst/>
          </a:prstGeom>
          <a:ln w="0">
            <a:noFill/>
          </a:ln>
        </p:spPr>
      </p:pic>
      <p:pic>
        <p:nvPicPr>
          <p:cNvPr id="679" name="Прямоугольник 7" descr=""/>
          <p:cNvPicPr/>
          <p:nvPr/>
        </p:nvPicPr>
        <p:blipFill>
          <a:blip r:embed="rId3"/>
          <a:stretch/>
        </p:blipFill>
        <p:spPr>
          <a:xfrm>
            <a:off x="2438280" y="2639880"/>
            <a:ext cx="2316240" cy="1401840"/>
          </a:xfrm>
          <a:prstGeom prst="rect">
            <a:avLst/>
          </a:prstGeom>
          <a:ln w="0">
            <a:noFill/>
          </a:ln>
        </p:spPr>
      </p:pic>
      <p:pic>
        <p:nvPicPr>
          <p:cNvPr id="680" name="Прямоугольник 8" descr=""/>
          <p:cNvPicPr/>
          <p:nvPr/>
        </p:nvPicPr>
        <p:blipFill>
          <a:blip r:embed="rId4"/>
          <a:stretch/>
        </p:blipFill>
        <p:spPr>
          <a:xfrm>
            <a:off x="6864480" y="1566720"/>
            <a:ext cx="2322360" cy="1401840"/>
          </a:xfrm>
          <a:prstGeom prst="rect">
            <a:avLst/>
          </a:prstGeom>
          <a:ln w="0">
            <a:noFill/>
          </a:ln>
        </p:spPr>
      </p:pic>
      <p:pic>
        <p:nvPicPr>
          <p:cNvPr id="681" name="Прямоугольник 9" descr=""/>
          <p:cNvPicPr/>
          <p:nvPr/>
        </p:nvPicPr>
        <p:blipFill>
          <a:blip r:embed="rId5"/>
          <a:stretch/>
        </p:blipFill>
        <p:spPr>
          <a:xfrm>
            <a:off x="2438280" y="1566720"/>
            <a:ext cx="2316240" cy="1401840"/>
          </a:xfrm>
          <a:prstGeom prst="rect">
            <a:avLst/>
          </a:prstGeom>
          <a:ln w="0">
            <a:noFill/>
          </a:ln>
        </p:spPr>
      </p:pic>
      <p:pic>
        <p:nvPicPr>
          <p:cNvPr id="682" name="Прямоугольник 10" descr=""/>
          <p:cNvPicPr/>
          <p:nvPr/>
        </p:nvPicPr>
        <p:blipFill>
          <a:blip r:embed="rId6"/>
          <a:stretch/>
        </p:blipFill>
        <p:spPr>
          <a:xfrm>
            <a:off x="4651200" y="1566720"/>
            <a:ext cx="2322720" cy="1401840"/>
          </a:xfrm>
          <a:prstGeom prst="rect">
            <a:avLst/>
          </a:prstGeom>
          <a:ln w="0">
            <a:noFill/>
          </a:ln>
        </p:spPr>
      </p:pic>
      <p:pic>
        <p:nvPicPr>
          <p:cNvPr id="683" name="Прямоугольник 11" descr=""/>
          <p:cNvPicPr/>
          <p:nvPr/>
        </p:nvPicPr>
        <p:blipFill>
          <a:blip r:embed="rId7"/>
          <a:stretch/>
        </p:blipFill>
        <p:spPr>
          <a:xfrm>
            <a:off x="5151600" y="2567160"/>
            <a:ext cx="2322360" cy="1401480"/>
          </a:xfrm>
          <a:prstGeom prst="rect">
            <a:avLst/>
          </a:prstGeom>
          <a:ln w="0">
            <a:noFill/>
          </a:ln>
        </p:spPr>
      </p:pic>
      <p:sp>
        <p:nvSpPr>
          <p:cNvPr id="6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8968-8884-4742-8CFD-8973CA5B29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5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9.55355E-007 C -0.00642 0.00208 -0.00955 0.00856 -0.0158 0.01134 C -0.02048 0.01619 -0.02343 0.01712 -0.02899 0.0192 C -0.03455 0.02475 -0.03663 0.02545 -0.0434 0.0273 C -0.04965 0.03285 -0.05712 0.03424 -0.06389 0.03863 C -0.07639 0.04696 -0.08993 0.05575 -0.10364 0.05945 C -0.11093 0.06593 -0.11823 0.06963 -0.12656 0.07217 C -0.14184 0.08212 -0.15833 0.09322 -0.17482 0.09785 C -0.18541 0.10525 -0.17257 0.09716 -0.19166 0.10271 C -0.19687 0.1041 -0.20208 0.10757 -0.20729 0.10919 C -0.21875 0.11289 -0.23055 0.11451 -0.24218 0.11728 C -0.27916 0.1263 -0.31614 0.13463 -0.35312 0.14296 C -0.36059 0.14643 -0.36823 0.14666 -0.37604 0.14782 C -0.38784 0.14967 -0.39913 0.15383 -0.41093 0.15568 C -0.42656 0.16262 -0.44618 0.16493 -0.46267 0.16702 C -0.47257 0.17141 -0.47864 0.17419 -0.48923 0.17673 C -0.49132 0.17719 -0.49531 0.17812 -0.49531 0.17812 C -0.50503 0.18622 -0.53142 0.20195 -0.54357 0.20542 C -0.54861 0.20888 -0.55364 0.20935 -0.55903 0.21189 C -0.56632 0.21513 -0.57326 0.21999 -0.58073 0.22323 C -0.59218 0.22832 -0.60295 0.23687 -0.61458 0.24081 C -0.62291 0.24659 -0.63021 0.25446 -0.63854 0.26001 C -0.6493 0.26741 -0.63212 0.25885 -0.64948 0.26648 C -0.65069 0.26695 -0.65312 0.2681 -0.65312 0.2681 C -0.65712 0.2718 -0.66024 0.27296 -0.6651 0.27458 C -0.67291 0.28152 -0.68229 0.28175 -0.69045 0.2873 C -0.70208 0.29494 -0.7158 0.30026 -0.72899 0.30026 E">
                                      <p:cBhvr>
                                        <p:cTn id="259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2422E-006 C -0.02742 0.00093 -0.04166 0.00162 -0.06388 0.00162 E">
                                      <p:cBhvr>
                                        <p:cTn id="263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75 0.05297 C 0.04792 0.0687 0.06285 0.08281 0.07274 0.09299 C 0.08108 0.10155 0.07066 0.08929 0.07986 0.10271 C 0.08212 0.10595 0.08715 0.11219 0.08715 0.11242 C 0.08941 0.12144 0.09983 0.13417 0.10521 0.14111 C 0.11389 0.15244 0.12153 0.16563 0.12934 0.17812 C 0.13351 0.18483 0.13698 0.19246 0.14253 0.19732 C 0.14444 0.20495 0.15486 0.21374 0.15937 0.21976 C 0.1625 0.22392 0.16354 0.23017 0.16667 0.23433 C 0.17691 0.24798 0.18299 0.26556 0.19323 0.27921 C 0.19549 0.288 0.19288 0.28036 0.19792 0.28892 C 0.20382 0.2991 0.20677 0.30881 0.21476 0.31622 C 0.2158 0.3183 0.21771 0.3257 0.21962 0.3257 E">
                                      <p:cBhvr>
                                        <p:cTn id="267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618920" y="4724280"/>
            <a:ext cx="6481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,12,16,7,8,9,28,27,5,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Девочки выбирают те числа, которые делятся на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ьчики – на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4" descr=""/>
          <p:cNvPicPr/>
          <p:nvPr/>
        </p:nvPicPr>
        <p:blipFill>
          <a:blip r:embed="rId1"/>
          <a:stretch/>
        </p:blipFill>
        <p:spPr>
          <a:xfrm>
            <a:off x="2700360" y="1879560"/>
            <a:ext cx="3743280" cy="282420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5"/>
          <p:cNvSpPr/>
          <p:nvPr/>
        </p:nvSpPr>
        <p:spPr>
          <a:xfrm>
            <a:off x="1403280" y="620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гра “Помоги Незнайке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бята, Незнайка просит вас помочь ему выбрать числа, которые делятся на 3 и на 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Какое самое большое число до 23 делится без остатка на 3? на 4? на 6? на 8? на 9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ема ур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WordArt 3"/>
          <p:cNvSpPr txBox="1"/>
          <p:nvPr/>
        </p:nvSpPr>
        <p:spPr>
          <a:xfrm>
            <a:off x="1187280" y="2060640"/>
            <a:ext cx="705672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ление числа с остатком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MCj02958220000[1]"/>
          <p:cNvPicPr/>
          <p:nvPr/>
        </p:nvPicPr>
        <p:blipFill>
          <a:blip r:embed="rId1"/>
          <a:stretch/>
        </p:blipFill>
        <p:spPr>
          <a:xfrm>
            <a:off x="1835280" y="981000"/>
            <a:ext cx="5294160" cy="4732560"/>
          </a:xfrm>
          <a:prstGeom prst="rect">
            <a:avLst/>
          </a:prstGeom>
          <a:ln w="0">
            <a:noFill/>
          </a:ln>
        </p:spPr>
      </p:pic>
      <p:sp>
        <p:nvSpPr>
          <p:cNvPr id="693" name="AutoShape 3"/>
          <p:cNvSpPr/>
          <p:nvPr/>
        </p:nvSpPr>
        <p:spPr>
          <a:xfrm>
            <a:off x="4572000" y="765000"/>
            <a:ext cx="2592360" cy="1872000"/>
          </a:xfrm>
          <a:prstGeom prst="flowChartPunchedTape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2 :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332000" y="9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бота по учебнику стр.2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Группа 99"/>
          <p:cNvGrpSpPr/>
          <p:nvPr/>
        </p:nvGrpSpPr>
        <p:grpSpPr>
          <a:xfrm>
            <a:off x="738000" y="2015640"/>
            <a:ext cx="1031760" cy="842400"/>
            <a:chOff x="738000" y="2015640"/>
            <a:chExt cx="1031760" cy="842400"/>
          </a:xfrm>
        </p:grpSpPr>
        <p:grpSp>
          <p:nvGrpSpPr>
            <p:cNvPr id="696" name="Группа 86"/>
            <p:cNvGrpSpPr/>
            <p:nvPr/>
          </p:nvGrpSpPr>
          <p:grpSpPr>
            <a:xfrm>
              <a:off x="738000" y="2015640"/>
              <a:ext cx="563400" cy="662040"/>
              <a:chOff x="738000" y="2015640"/>
              <a:chExt cx="563400" cy="662040"/>
            </a:xfrm>
          </p:grpSpPr>
          <p:sp>
            <p:nvSpPr>
              <p:cNvPr id="697" name="Капля 111"/>
              <p:cNvSpPr/>
              <p:nvPr/>
            </p:nvSpPr>
            <p:spPr>
              <a:xfrm rot="2827800">
                <a:off x="801360" y="2117160"/>
                <a:ext cx="436320" cy="363600"/>
              </a:xfrm>
              <a:custGeom>
                <a:avLst/>
                <a:gdLst>
                  <a:gd name="textAreaLeft" fmla="*/ 63720 w 436320"/>
                  <a:gd name="textAreaRight" fmla="*/ 372600 w 43632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1500226" h="998998">
                    <a:moveTo>
                      <a:pt x="0" y="499499"/>
                    </a:moveTo>
                    <a:lnTo>
                      <a:pt x="0" y="499499"/>
                    </a:lnTo>
                    <a:cubicBezTo>
                      <a:pt x="0" y="223633"/>
                      <a:pt x="335837" y="0"/>
                      <a:pt x="750113" y="1"/>
                    </a:cubicBezTo>
                    <a:cubicBezTo>
                      <a:pt x="750113" y="1"/>
                      <a:pt x="750113" y="1"/>
                      <a:pt x="750113" y="1"/>
                    </a:cubicBezTo>
                    <a:cubicBezTo>
                      <a:pt x="1016590" y="0"/>
                      <a:pt x="1283068" y="-10947"/>
                      <a:pt x="1549545" y="-32842"/>
                    </a:cubicBezTo>
                    <a:cubicBezTo>
                      <a:pt x="1516666" y="144605"/>
                      <a:pt x="1500226" y="322052"/>
                      <a:pt x="1500226" y="499499"/>
                    </a:cubicBezTo>
                    <a:cubicBezTo>
                      <a:pt x="1500226" y="775364"/>
                      <a:pt x="1164388" y="998997"/>
                      <a:pt x="750113" y="998998"/>
                    </a:cubicBezTo>
                    <a:cubicBezTo>
                      <a:pt x="335837" y="998998"/>
                      <a:pt x="0" y="775364"/>
                      <a:pt x="0" y="499499"/>
                    </a:cubicBezTo>
                    <a:cubicBezTo>
                      <a:pt x="-1" y="499498"/>
                      <a:pt x="0" y="499498"/>
                      <a:pt x="0" y="499498"/>
                    </a:cubicBezTo>
                    <a:lnTo>
                      <a:pt x="0" y="499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Капля 112"/>
              <p:cNvSpPr/>
              <p:nvPr/>
            </p:nvSpPr>
            <p:spPr>
              <a:xfrm rot="154200">
                <a:off x="875160" y="2421000"/>
                <a:ext cx="311400" cy="249840"/>
              </a:xfrm>
              <a:custGeom>
                <a:avLst/>
                <a:gdLst/>
                <a:ahLst/>
                <a:rect l="l" t="t" r="r" b="b"/>
                <a:pathLst>
                  <a:path w="1061579" h="689266">
                    <a:moveTo>
                      <a:pt x="0" y="344633"/>
                    </a:moveTo>
                    <a:cubicBezTo>
                      <a:pt x="0" y="154297"/>
                      <a:pt x="237643" y="0"/>
                      <a:pt x="530790" y="0"/>
                    </a:cubicBezTo>
                    <a:cubicBezTo>
                      <a:pt x="791719" y="0"/>
                      <a:pt x="1052648" y="-54539"/>
                      <a:pt x="1313577" y="-163618"/>
                    </a:cubicBezTo>
                    <a:cubicBezTo>
                      <a:pt x="1145578" y="5799"/>
                      <a:pt x="1061579" y="175216"/>
                      <a:pt x="1061579" y="344633"/>
                    </a:cubicBezTo>
                    <a:cubicBezTo>
                      <a:pt x="1061579" y="534969"/>
                      <a:pt x="823936" y="689266"/>
                      <a:pt x="530789" y="689266"/>
                    </a:cubicBezTo>
                    <a:cubicBezTo>
                      <a:pt x="237642" y="689266"/>
                      <a:pt x="-1" y="534969"/>
                      <a:pt x="-1" y="344633"/>
                    </a:cubicBezTo>
                    <a:lnTo>
                      <a:pt x="0" y="344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8484"/>
                  </a:gs>
                  <a:gs pos="100000">
                    <a:srgbClr val="ffdcdc"/>
                  </a:gs>
                </a:gsLst>
                <a:lin ang="17244000"/>
              </a:gradFill>
              <a:ln w="9360">
                <a:solidFill>
                  <a:srgbClr val="e700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Группа 87"/>
            <p:cNvGrpSpPr/>
            <p:nvPr/>
          </p:nvGrpSpPr>
          <p:grpSpPr>
            <a:xfrm>
              <a:off x="1163520" y="2279160"/>
              <a:ext cx="606240" cy="578880"/>
              <a:chOff x="1163520" y="2279160"/>
              <a:chExt cx="606240" cy="578880"/>
            </a:xfrm>
          </p:grpSpPr>
          <p:sp>
            <p:nvSpPr>
              <p:cNvPr id="700" name="Капля 109"/>
              <p:cNvSpPr/>
              <p:nvPr/>
            </p:nvSpPr>
            <p:spPr>
              <a:xfrm flipH="1" rot="21172200">
                <a:off x="1319040" y="2304360"/>
                <a:ext cx="429120" cy="365760"/>
              </a:xfrm>
              <a:custGeom>
                <a:avLst/>
                <a:gdLst/>
                <a:ahLst/>
                <a:rect l="l" t="t" r="r" b="b"/>
                <a:pathLst>
                  <a:path w="1481787" h="1003362">
                    <a:moveTo>
                      <a:pt x="0" y="501681"/>
                    </a:moveTo>
                    <a:cubicBezTo>
                      <a:pt x="0" y="224610"/>
                      <a:pt x="331710" y="0"/>
                      <a:pt x="740894" y="0"/>
                    </a:cubicBezTo>
                    <a:cubicBezTo>
                      <a:pt x="1004096" y="0"/>
                      <a:pt x="1267298" y="-10995"/>
                      <a:pt x="1530501" y="-32986"/>
                    </a:cubicBezTo>
                    <a:cubicBezTo>
                      <a:pt x="1498025" y="145237"/>
                      <a:pt x="1481787" y="323459"/>
                      <a:pt x="1481787" y="501681"/>
                    </a:cubicBezTo>
                    <a:cubicBezTo>
                      <a:pt x="1481787" y="778752"/>
                      <a:pt x="1150077" y="1003362"/>
                      <a:pt x="740893" y="1003362"/>
                    </a:cubicBezTo>
                    <a:cubicBezTo>
                      <a:pt x="331709" y="1003362"/>
                      <a:pt x="-1" y="778752"/>
                      <a:pt x="-1" y="501681"/>
                    </a:cubicBezTo>
                    <a:lnTo>
                      <a:pt x="0" y="5016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8484"/>
                  </a:gs>
                  <a:gs pos="100000">
                    <a:srgbClr val="ffdcdc"/>
                  </a:gs>
                </a:gsLst>
                <a:lin ang="14574000"/>
              </a:gradFill>
              <a:ln w="9360">
                <a:solidFill>
                  <a:srgbClr val="e700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Капля 110"/>
              <p:cNvSpPr/>
              <p:nvPr/>
            </p:nvSpPr>
            <p:spPr>
              <a:xfrm flipH="1" rot="2245800">
                <a:off x="1207440" y="2540880"/>
                <a:ext cx="306000" cy="249840"/>
              </a:xfrm>
              <a:custGeom>
                <a:avLst/>
                <a:gdLst/>
                <a:ahLst/>
                <a:rect l="l" t="t" r="r" b="b"/>
                <a:pathLst>
                  <a:path w="1056051" h="684905">
                    <a:moveTo>
                      <a:pt x="0" y="342453"/>
                    </a:moveTo>
                    <a:cubicBezTo>
                      <a:pt x="0" y="153321"/>
                      <a:pt x="236405" y="0"/>
                      <a:pt x="528026" y="0"/>
                    </a:cubicBezTo>
                    <a:cubicBezTo>
                      <a:pt x="787596" y="0"/>
                      <a:pt x="1047166" y="-54194"/>
                      <a:pt x="1306736" y="-162583"/>
                    </a:cubicBezTo>
                    <a:cubicBezTo>
                      <a:pt x="1139613" y="5762"/>
                      <a:pt x="1056051" y="174108"/>
                      <a:pt x="1056051" y="342453"/>
                    </a:cubicBezTo>
                    <a:cubicBezTo>
                      <a:pt x="1056051" y="531585"/>
                      <a:pt x="819646" y="684906"/>
                      <a:pt x="528025" y="684906"/>
                    </a:cubicBezTo>
                    <a:cubicBezTo>
                      <a:pt x="236404" y="684906"/>
                      <a:pt x="-1" y="531585"/>
                      <a:pt x="-1" y="342453"/>
                    </a:cubicBezTo>
                    <a:lnTo>
                      <a:pt x="0" y="3424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8484"/>
                  </a:gs>
                  <a:gs pos="100000">
                    <a:srgbClr val="ffdcdc"/>
                  </a:gs>
                </a:gsLst>
                <a:lin ang="17244000"/>
              </a:gradFill>
              <a:ln w="9360">
                <a:solidFill>
                  <a:srgbClr val="e700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2" name="Овал 102"/>
            <p:cNvGrpSpPr/>
            <p:nvPr/>
          </p:nvGrpSpPr>
          <p:grpSpPr>
            <a:xfrm>
              <a:off x="1140120" y="2237400"/>
              <a:ext cx="249840" cy="414720"/>
              <a:chOff x="1140120" y="2237400"/>
              <a:chExt cx="249840" cy="414720"/>
            </a:xfrm>
          </p:grpSpPr>
          <p:pic>
            <p:nvPicPr>
              <p:cNvPr id="703" name="Овал 102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140120" y="22370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Text Box 11"/>
              <p:cNvSpPr/>
              <p:nvPr/>
            </p:nvSpPr>
            <p:spPr>
              <a:xfrm rot="1199400">
                <a:off x="1238040" y="2306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Овал 103"/>
            <p:cNvSpPr/>
            <p:nvPr/>
          </p:nvSpPr>
          <p:spPr>
            <a:xfrm rot="1200000">
              <a:off x="950760" y="215064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fbfbc1"/>
                </a:gs>
                <a:gs pos="100000">
                  <a:srgbClr val="ffffed"/>
                </a:gs>
              </a:gsLst>
              <a:lin ang="16200000"/>
            </a:gradFill>
            <a:ln w="9360">
              <a:solidFill>
                <a:srgbClr val="c9c9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Овал 104"/>
            <p:cNvSpPr/>
            <p:nvPr/>
          </p:nvSpPr>
          <p:spPr>
            <a:xfrm rot="1200000">
              <a:off x="1563480" y="237600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fbfbc1"/>
                </a:gs>
                <a:gs pos="100000">
                  <a:srgbClr val="ffffed"/>
                </a:gs>
              </a:gsLst>
              <a:lin ang="16200000"/>
            </a:gradFill>
            <a:ln w="9360">
              <a:solidFill>
                <a:srgbClr val="c9c9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Овал 105"/>
            <p:cNvSpPr/>
            <p:nvPr/>
          </p:nvSpPr>
          <p:spPr>
            <a:xfrm rot="1200000">
              <a:off x="1035000" y="22845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fbfbc1"/>
                </a:gs>
                <a:gs pos="100000">
                  <a:srgbClr val="ffffed"/>
                </a:gs>
              </a:gsLst>
              <a:lin ang="16200000"/>
            </a:gradFill>
            <a:ln w="9360">
              <a:solidFill>
                <a:srgbClr val="c9c9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Овал 106"/>
            <p:cNvSpPr/>
            <p:nvPr/>
          </p:nvSpPr>
          <p:spPr>
            <a:xfrm rot="1200000">
              <a:off x="1438200" y="243360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fbfbc1"/>
                </a:gs>
                <a:gs pos="100000">
                  <a:srgbClr val="ffffed"/>
                </a:gs>
              </a:gsLst>
              <a:lin ang="16200000"/>
            </a:gradFill>
            <a:ln w="9360">
              <a:solidFill>
                <a:srgbClr val="c9c9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Овал 107"/>
            <p:cNvSpPr/>
            <p:nvPr/>
          </p:nvSpPr>
          <p:spPr>
            <a:xfrm rot="1200000">
              <a:off x="1062000" y="251964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Овал 108"/>
            <p:cNvSpPr/>
            <p:nvPr/>
          </p:nvSpPr>
          <p:spPr>
            <a:xfrm rot="1200000">
              <a:off x="1252440" y="258768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1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2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sp>
        <p:nvSpPr>
          <p:cNvPr id="712" name="AutoShape 2"/>
          <p:cNvSpPr/>
          <p:nvPr/>
        </p:nvSpPr>
        <p:spPr>
          <a:xfrm>
            <a:off x="2050920" y="189000"/>
            <a:ext cx="2089440" cy="720720"/>
          </a:xfrm>
          <a:prstGeom prst="cloudCallout">
            <a:avLst>
              <a:gd name="adj1" fmla="val -46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3"/>
          <a:stretch/>
        </p:blipFill>
        <p:spPr>
          <a:xfrm>
            <a:off x="-684360" y="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714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715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cubicBezTo>
                    <a:pt x="713077" y="107332"/>
                    <a:pt x="713077" y="214664"/>
                    <a:pt x="713077" y="321997"/>
                  </a:cubicBez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8320"/>
                <a:gd name="textAreaBottom" fmla="*/ 434160 h 50832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cubicBezTo>
                    <a:pt x="712993" y="107129"/>
                    <a:pt x="712993" y="214258"/>
                    <a:pt x="712993" y="321387"/>
                  </a:cubicBez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custGeom>
              <a:avLst/>
              <a:gdLst/>
              <a:ahLst/>
              <a:rect l="l" t="t" r="r" b="b"/>
              <a:pathLst>
                <a:path w="712993" h="644783">
                  <a:moveTo>
                    <a:pt x="0" y="322392"/>
                  </a:moveTo>
                  <a:cubicBezTo>
                    <a:pt x="0" y="144340"/>
                    <a:pt x="159609" y="0"/>
                    <a:pt x="356497" y="0"/>
                  </a:cubicBezTo>
                  <a:lnTo>
                    <a:pt x="712993" y="0"/>
                  </a:lnTo>
                  <a:lnTo>
                    <a:pt x="712993" y="322392"/>
                  </a:lnTo>
                  <a:cubicBezTo>
                    <a:pt x="712993" y="500444"/>
                    <a:pt x="553384" y="644784"/>
                    <a:pt x="356496" y="644784"/>
                  </a:cubicBezTo>
                  <a:cubicBezTo>
                    <a:pt x="159608" y="644784"/>
                    <a:pt x="-1" y="500444"/>
                    <a:pt x="-1" y="322392"/>
                  </a:cubicBezTo>
                  <a:lnTo>
                    <a:pt x="0" y="322392"/>
                  </a:lnTo>
                  <a:close/>
                </a:path>
              </a:pathLst>
            </a:custGeom>
            <a:gradFill rotWithShape="0">
              <a:gsLst>
                <a:gs pos="0">
                  <a:srgbClr val="fcfcdc"/>
                </a:gs>
                <a:gs pos="100000">
                  <a:srgbClr val="fffff4"/>
                </a:gs>
              </a:gsLst>
              <a:lin ang="15768000"/>
            </a:gradFill>
            <a:ln w="9360">
              <a:solidFill>
                <a:srgbClr val="dede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7960"/>
                <a:gd name="textAreaBottom" fmla="*/ 433800 h 50796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cubicBezTo>
                    <a:pt x="712993" y="107129"/>
                    <a:pt x="712993" y="214258"/>
                    <a:pt x="712993" y="321387"/>
                  </a:cubicBez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cubicBezTo>
                    <a:pt x="713077" y="107332"/>
                    <a:pt x="713077" y="214664"/>
                    <a:pt x="713077" y="321997"/>
                  </a:cubicBez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aaaa92"/>
                </a:gs>
                <a:gs pos="100000">
                  <a:srgbClr val="e0e0c0"/>
                </a:gs>
              </a:gsLst>
              <a:lin ang="16200000"/>
            </a:gradFill>
            <a:ln w="9360">
              <a:solidFill>
                <a:srgbClr val="dede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21" name="Picture 3" descr="C:\Documents and Settings\Класс\Мои документы\Кузнецова\анимашки\4.gif"/>
          <p:cNvPicPr/>
          <p:nvPr/>
        </p:nvPicPr>
        <p:blipFill>
          <a:blip r:embed="rId4"/>
          <a:stretch/>
        </p:blipFill>
        <p:spPr>
          <a:xfrm>
            <a:off x="7667640" y="2997360"/>
            <a:ext cx="1190520" cy="1406520"/>
          </a:xfrm>
          <a:prstGeom prst="rect">
            <a:avLst/>
          </a:prstGeom>
          <a:ln w="0">
            <a:noFill/>
          </a:ln>
        </p:spPr>
      </p:pic>
      <p:grpSp>
        <p:nvGrpSpPr>
          <p:cNvPr id="722" name="Группа 8"/>
          <p:cNvGrpSpPr/>
          <p:nvPr/>
        </p:nvGrpSpPr>
        <p:grpSpPr>
          <a:xfrm>
            <a:off x="1763640" y="692280"/>
            <a:ext cx="1500120" cy="3504960"/>
            <a:chOff x="1763640" y="692280"/>
            <a:chExt cx="1500120" cy="3504960"/>
          </a:xfrm>
        </p:grpSpPr>
        <p:pic>
          <p:nvPicPr>
            <p:cNvPr id="723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1763640" y="2248920"/>
              <a:ext cx="15001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Облако 6"/>
            <p:cNvSpPr/>
            <p:nvPr/>
          </p:nvSpPr>
          <p:spPr>
            <a:xfrm>
              <a:off x="1803240" y="692280"/>
              <a:ext cx="1332720" cy="19591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25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9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1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3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grpSp>
        <p:nvGrpSpPr>
          <p:cNvPr id="733" name="Группа 43"/>
          <p:cNvGrpSpPr/>
          <p:nvPr/>
        </p:nvGrpSpPr>
        <p:grpSpPr>
          <a:xfrm>
            <a:off x="3995640" y="1484280"/>
            <a:ext cx="2143080" cy="2786040"/>
            <a:chOff x="3995640" y="1484280"/>
            <a:chExt cx="2143080" cy="2786040"/>
          </a:xfrm>
        </p:grpSpPr>
        <p:pic>
          <p:nvPicPr>
            <p:cNvPr id="734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428720" y="2663280"/>
              <a:ext cx="1369080" cy="16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5" name="Равнобедренный треугольник 45"/>
            <p:cNvGrpSpPr/>
            <p:nvPr/>
          </p:nvGrpSpPr>
          <p:grpSpPr>
            <a:xfrm>
              <a:off x="3995640" y="2509920"/>
              <a:ext cx="2143080" cy="1190160"/>
              <a:chOff x="3995640" y="2509920"/>
              <a:chExt cx="2143080" cy="1190160"/>
            </a:xfrm>
          </p:grpSpPr>
          <p:pic>
            <p:nvPicPr>
              <p:cNvPr id="736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95640" y="250992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Text Box 44"/>
              <p:cNvSpPr/>
              <p:nvPr/>
            </p:nvSpPr>
            <p:spPr>
              <a:xfrm>
                <a:off x="4563720" y="3081600"/>
                <a:ext cx="10155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8" name="Равнобедренный треугольник 46"/>
            <p:cNvGrpSpPr/>
            <p:nvPr/>
          </p:nvGrpSpPr>
          <p:grpSpPr>
            <a:xfrm>
              <a:off x="4174560" y="2087280"/>
              <a:ext cx="1791000" cy="1069560"/>
              <a:chOff x="4174560" y="2087280"/>
              <a:chExt cx="1791000" cy="1069560"/>
            </a:xfrm>
          </p:grpSpPr>
          <p:pic>
            <p:nvPicPr>
              <p:cNvPr id="739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74560" y="2087280"/>
                <a:ext cx="179100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0" name="Text Box 47"/>
              <p:cNvSpPr/>
              <p:nvPr/>
            </p:nvSpPr>
            <p:spPr>
              <a:xfrm>
                <a:off x="4650840" y="2600640"/>
                <a:ext cx="84132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1" name="Равнобедренный треугольник 47"/>
            <p:cNvGrpSpPr/>
            <p:nvPr/>
          </p:nvGrpSpPr>
          <p:grpSpPr>
            <a:xfrm>
              <a:off x="4347720" y="1846080"/>
              <a:ext cx="1386360" cy="833400"/>
              <a:chOff x="4347720" y="1846080"/>
              <a:chExt cx="1386360" cy="833400"/>
            </a:xfrm>
          </p:grpSpPr>
          <p:pic>
            <p:nvPicPr>
              <p:cNvPr id="742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347720" y="1846080"/>
                <a:ext cx="138636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Text Box 50"/>
              <p:cNvSpPr/>
              <p:nvPr/>
            </p:nvSpPr>
            <p:spPr>
              <a:xfrm>
                <a:off x="4722840" y="2240280"/>
                <a:ext cx="6382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4" name="Равнобедренный треугольник 48"/>
            <p:cNvGrpSpPr/>
            <p:nvPr/>
          </p:nvGrpSpPr>
          <p:grpSpPr>
            <a:xfrm>
              <a:off x="4521240" y="1484280"/>
              <a:ext cx="1039680" cy="773280"/>
              <a:chOff x="4521240" y="1484280"/>
              <a:chExt cx="1039680" cy="773280"/>
            </a:xfrm>
          </p:grpSpPr>
          <p:pic>
            <p:nvPicPr>
              <p:cNvPr id="745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521240" y="1484280"/>
                <a:ext cx="103968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6" name="Text Box 53"/>
              <p:cNvSpPr/>
              <p:nvPr/>
            </p:nvSpPr>
            <p:spPr>
              <a:xfrm>
                <a:off x="4810320" y="1850040"/>
                <a:ext cx="464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747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580000" y="134136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899640" y="3068280"/>
            <a:ext cx="1717920" cy="17175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539640" y="472428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684360" y="1773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752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753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754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755" name="Капля 125" descr=""/>
                <p:cNvPicPr/>
                <p:nvPr/>
              </p:nvPicPr>
              <p:blipFill>
                <a:blip r:embed="rId24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6" name="Text Box 65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758" name="Капля 126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9" name="Text Box 68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761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762" name="Капля 123" descr=""/>
                <p:cNvPicPr/>
                <p:nvPr/>
              </p:nvPicPr>
              <p:blipFill>
                <a:blip r:embed="rId26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3" name="Text Box 72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765" name="Капля 12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6" name="Text Box 75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7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768" name="Овал 116" descr=""/>
              <p:cNvPicPr/>
              <p:nvPr/>
            </p:nvPicPr>
            <p:blipFill>
              <a:blip r:embed="rId28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78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0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Овал 119"/>
            <p:cNvSpPr/>
            <p:nvPr/>
          </p:nvSpPr>
          <p:spPr>
            <a:xfrm rot="8140800">
              <a:off x="836280" y="52052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Овал 120"/>
            <p:cNvSpPr/>
            <p:nvPr/>
          </p:nvSpPr>
          <p:spPr>
            <a:xfrm rot="8140800">
              <a:off x="522000" y="55148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Овал 122"/>
            <p:cNvSpPr/>
            <p:nvPr/>
          </p:nvSpPr>
          <p:spPr>
            <a:xfrm rot="8140800">
              <a:off x="542520" y="535896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6" name="AutoShape 85"/>
          <p:cNvSpPr/>
          <p:nvPr/>
        </p:nvSpPr>
        <p:spPr>
          <a:xfrm rot="469800">
            <a:off x="5003640" y="549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AutoShape 86"/>
          <p:cNvSpPr/>
          <p:nvPr/>
        </p:nvSpPr>
        <p:spPr>
          <a:xfrm>
            <a:off x="6804000" y="40464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Группа 8"/>
          <p:cNvGrpSpPr/>
          <p:nvPr/>
        </p:nvGrpSpPr>
        <p:grpSpPr>
          <a:xfrm>
            <a:off x="7643880" y="1341360"/>
            <a:ext cx="1500120" cy="3071880"/>
            <a:chOff x="7643880" y="1341360"/>
            <a:chExt cx="1500120" cy="3071880"/>
          </a:xfrm>
        </p:grpSpPr>
        <p:pic>
          <p:nvPicPr>
            <p:cNvPr id="779" name="Прямоугольник 7" descr=""/>
            <p:cNvPicPr/>
            <p:nvPr/>
          </p:nvPicPr>
          <p:blipFill>
            <a:blip r:embed="rId29"/>
            <a:stretch/>
          </p:blipFill>
          <p:spPr>
            <a:xfrm>
              <a:off x="7667640" y="2667960"/>
              <a:ext cx="1476360" cy="174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Облако 6"/>
            <p:cNvSpPr/>
            <p:nvPr/>
          </p:nvSpPr>
          <p:spPr>
            <a:xfrm>
              <a:off x="7643880" y="1341360"/>
              <a:ext cx="1430640" cy="1700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1" name="Picture 2" descr="C:\Documents and Settings\Класс\Мои документы\2036.jpg"/>
          <p:cNvPicPr/>
          <p:nvPr/>
        </p:nvPicPr>
        <p:blipFill>
          <a:blip r:embed="rId30"/>
          <a:stretch/>
        </p:blipFill>
        <p:spPr>
          <a:xfrm>
            <a:off x="179280" y="1341360"/>
            <a:ext cx="2387880" cy="3322800"/>
          </a:xfrm>
          <a:prstGeom prst="rect">
            <a:avLst/>
          </a:prstGeom>
          <a:ln w="0">
            <a:noFill/>
          </a:ln>
        </p:spPr>
      </p:pic>
      <p:sp>
        <p:nvSpPr>
          <p:cNvPr id="782" name="AutoShape 91">
            <a:hlinkClick r:id="rId3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Box 19"/>
          <p:cNvSpPr/>
          <p:nvPr/>
        </p:nvSpPr>
        <p:spPr>
          <a:xfrm>
            <a:off x="1258920" y="2924280"/>
            <a:ext cx="6408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А сейчас делай зарядк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Box 19"/>
          <p:cNvSpPr/>
          <p:nvPr/>
        </p:nvSpPr>
        <p:spPr>
          <a:xfrm>
            <a:off x="1403280" y="333360"/>
            <a:ext cx="705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Встань и потянись вверх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Box 19"/>
          <p:cNvSpPr/>
          <p:nvPr/>
        </p:nvSpPr>
        <p:spPr>
          <a:xfrm>
            <a:off x="250920" y="2205000"/>
            <a:ext cx="8893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Выполняй наклоны влево и вправ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Box 19"/>
          <p:cNvSpPr/>
          <p:nvPr/>
        </p:nvSpPr>
        <p:spPr>
          <a:xfrm>
            <a:off x="574560" y="5013360"/>
            <a:ext cx="856944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Зажмурь глаза и посчитай до пяти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Box 19"/>
          <p:cNvSpPr/>
          <p:nvPr/>
        </p:nvSpPr>
        <p:spPr>
          <a:xfrm>
            <a:off x="3203640" y="3645000"/>
            <a:ext cx="3384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Будь здоров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Box 19"/>
          <p:cNvSpPr/>
          <p:nvPr/>
        </p:nvSpPr>
        <p:spPr>
          <a:xfrm>
            <a:off x="3348000" y="4292640"/>
            <a:ext cx="2808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Попрыгай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Box 19"/>
          <p:cNvSpPr/>
          <p:nvPr/>
        </p:nvSpPr>
        <p:spPr>
          <a:xfrm>
            <a:off x="3348000" y="5661000"/>
            <a:ext cx="2736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Приседай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Box 19"/>
          <p:cNvSpPr/>
          <p:nvPr/>
        </p:nvSpPr>
        <p:spPr>
          <a:xfrm>
            <a:off x="1835280" y="1052640"/>
            <a:ext cx="540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Сделай вдох и выдох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Box 19"/>
          <p:cNvSpPr/>
          <p:nvPr/>
        </p:nvSpPr>
        <p:spPr>
          <a:xfrm>
            <a:off x="3276720" y="1700280"/>
            <a:ext cx="252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Ещё раз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Box 19"/>
          <p:cNvSpPr/>
          <p:nvPr/>
        </p:nvSpPr>
        <p:spPr>
          <a:xfrm>
            <a:off x="1116000" y="3860640"/>
            <a:ext cx="6985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Возвращайся к тренировк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Стрелка влево 89">
            <a:hlinkClick r:id="rId32" action="ppaction://hlinksldjump"/>
          </p:cNvPr>
          <p:cNvSpPr/>
          <p:nvPr/>
        </p:nvSpPr>
        <p:spPr>
          <a:xfrm>
            <a:off x="142920" y="6286680"/>
            <a:ext cx="1357200" cy="5713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  <a:ea typeface="Arial"/>
              </a:rPr>
              <a:t>вы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09 дорожка 9.wma" descr=""/>
          <p:cNvPicPr/>
          <p:nvPr/>
        </p:nvPicPr>
        <p:blipFill>
          <a:blip r:embed="rId33"/>
          <a:stretch/>
        </p:blipFill>
        <p:spPr>
          <a:xfrm>
            <a:off x="7364520" y="6486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8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9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4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107759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7:36:44Z</dcterms:created>
  <dc:creator/>
  <dc:description/>
  <dc:language>en-US</dc:language>
  <cp:lastModifiedBy>Татьяна</cp:lastModifiedBy>
  <dcterms:modified xsi:type="dcterms:W3CDTF">2013-03-11T16:04:15Z</dcterms:modified>
  <cp:revision>22</cp:revision>
  <dc:subject/>
  <dc:title>Слайд 1</dc:title>
</cp:coreProperties>
</file>