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AF1-9EF5-4F7B-92CC-77E197B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EA4-6347-4DD2-ACEC-5CC9D4E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C9B-12C3-4F92-A5D2-46F7F719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04C-81BB-41A8-8E91-B4E49B23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414-AB07-4637-855F-7CE762D3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275-586F-48B0-94AA-A59C788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17D-CED0-4404-A1CC-144478CB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50D-AE23-4797-A803-51FEFB4D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2A3-BC34-4276-8584-AC31DAEF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68B-4828-4AD3-8BC6-50C58E6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4B5-5DC3-4E9D-B14E-77C1CD3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A1D-1CEE-4628-BEC3-C1665EB4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D2B-42E4-4B05-A051-E45CF3BC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808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 Раньше красили яйца в красный цвет, который должен был напомнить о крови Христа, пролитой на Голгофе (на горе, где он был распя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4943520" cy="37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4724280"/>
            <a:ext cx="8856720" cy="20052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пасхальному столу, их принято дарить друг другу всю Пасхальную неделю. Яйцо издревле было символом нарождающейся жизни. Есть версия о том, откуда берет свое начало обычай дарить и красить яйца на Пасху. Легенда гласит, что на Пасху Мария Магдалина подала Римскому Императору Тиберию яйцо, окрашенное в красный цвет – цвет крови, пролитой Христом на кресте. На яйце было написано « Х. В.», то есть «Христос Воскрес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5759640" cy="4324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000"/>
            <a:ext cx="8928000" cy="1439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 православной Руси существовал обычай хранить яйца целый год до следующей Пасхи. И со временем яйца стали делать из дерева и расписывать их орнаментами, узорами. Позже появились яйца из фарфора, серебра с драгоценными камн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771640" y="98100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8000" y="5300280"/>
            <a:ext cx="8928000" cy="1368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6769080" cy="4521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8000" y="5229000"/>
            <a:ext cx="8928000" cy="1439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321440" cy="6297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аздником Пасхи связано множество различных поверий. По народным представлениям, день Пасхи настолько чист и свят, что черти и бесы с пасхальным благовестом проваливаются сквозь землю, а их вопли и стоны, вызванные злобой на Воскресение Иисуса Христа, можно слышать во время пасхальной всенощной и всего первого дня Пасхи. Крестьяне верили, что в этот день становится видимым то, чего не увидишь в другие дни, и разрешается попросить у Бога то, что очень хочется. Считалось, что во время пасхальной службы, если перевернуть свечу пламенем вниз, можно увидеть колдуна: он будет стоять спиной к алтарю, а на голове у него будут видны рожки. А если встать у дверей с творогом, то легко будет опознать проходящую мимо и помахивающую маленьким хвостиком ведь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260960" cy="6408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2707920"/>
            <a:ext cx="8785440" cy="1079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родолжением дня Пасхи была Пасхальная (светлая) неделя, длившаяся восемь дней, до Фомина воскресенья включи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581000"/>
            <a:ext cx="8928000" cy="2157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, католики, протестанты празднуют светлое Воскресение Христово. На Руси Пасха была не только самым почитаемым праздником, но и днем, когда каждый человек старался вы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040360" cy="4029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4436640"/>
            <a:ext cx="8928000" cy="23050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22 марта по 25 апреля по старому стилю, с 7 апреля по 8 мая по новому стилю. Главным событием празднества было торжественное богослужение в храме. Пасхальная служба начиналась в ночь с субботы на воскресенье. После заутрени начиналась праздничная литургия, в конце которой освещался артос – специальный хлеб с изображением креста и тернового венца.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5400720" cy="4051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652640"/>
            <a:ext cx="8928000" cy="2087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Это было обусловлено не только христианской идеей Воскресения Христа и связанной с ней перспективой вечной жизни, но и широким бытованием в народной среде языческих представлений о весеннем пробуждении природы после зимнего сна-смерти, о гибели старого и начале нового времени. Согласно широко распространенным представлениям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635280" y="333360"/>
            <a:ext cx="5364360" cy="4022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4941720"/>
            <a:ext cx="8928000" cy="17892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: вымыть полы, потолки, стены, лавки, побелить печи, обновить киот, отремонтировать ограды, привести в порядок колодцы, убрать мусор, оставшийся после зимы. Кроме того, полагалось изготовить новую одежду для всех членов семьи и вымыться в бане. В Пасху человек должен был отбросить все дурные, нечистые мысли, забыть зло и обиды, не грешить, не вступать в супружеские отношения, которые воспринимались как гр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31758" t="12653" r="48335" b="40163"/>
          <a:stretch/>
        </p:blipFill>
        <p:spPr>
          <a:xfrm>
            <a:off x="324000" y="189000"/>
            <a:ext cx="3348000" cy="446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08360" y="549360"/>
            <a:ext cx="4944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4941360"/>
            <a:ext cx="8902800" cy="17607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асха ассоциировалась у русских с чудесным исполнением желаемого. Считалось, что в этот день можно обеспечить себе преуспевание в делах на целый год. Если, например, человек первым придет после пасхального богослужения домой, то для него весь год будет удачным. Верили, что удача будет обеспечена и вору, если он украдет во время заутрени какой-либо предмет у молящихся людей и при этом не попадется на кра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4537080" cy="4503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928000" cy="6408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трастная Седмиц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– самая строгая неделя Великого поста. Церковь предписывает строгий пост, исключающий мясную, молочную, яичную и рыбную пищ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ий Понедельник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 него начиналась подготовка к Пасхе. Традиционно в этот день женщины убирали в домах, а мужчины заготавливали корм для скота на всю Светлую неделю (после Пасхи), чтобы не беспокоиться в праздн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ий Вторник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 вторник на Страстной неделе поили скот на рассвете сеченым молоком (семена льна и конопли толкут в ступе и, разводя водой, приготавливают из них молоко) от болезн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ая Среда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последний раз в Великую среду совершается Литургия Преждеосвященных даров. В Великую среду прекращаются и великие поклоны. Вечером в среду традиционно бывает общая исповедь. Во время Великой среды в деревнях собирали снег по оврагам, натаявшую от него воду солили и этой водой обливали скот. Считалось, что такой обряд предохраняет двор от всяких болезней на целый год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ий Четверг (Четверток)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еликий четверг в народных традициях называют Чистым: в этот день каждый человек стремится очиститься духовно и телесно. Также в Чистый четверг широко распространен народный обычай очищения водой, купание в проруби, реке, озере или обливание в бане до восхода солнца. Также был обычай освящать соль и в ночь под четверг ставить на стол с хлебом. В Великий четверг принято красить яйца. В этот день уже готовились к пасхальному столу: в старину забивали скот, собирали яйца и т.д. Кроме того, в этот день принято убирать и стир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ая Пятница (Пяток, Страстная пятница)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 утрене Великой пятницы верующие во время богослужения держат в руках зажженные свечи, символизирующие величие Спасителя во время его страданий. В этот день женщины приступали к подготовке пасхального стола: пекли куличи и готовили пасхи. В страстную пятницу был обычай раздавать продукты бедны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еликая суббота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ля верующих день Великой субботы - это время приготовления к встрече величайшего праздника Светлого Христова Воскресения. Обычно в этот день после утреннего богослужения в храмах начинается освящение пасхальных куличей, пасхи и яиц для разговения в день Пасхи. В Великую субботу верующие старались к вечеру закончить все св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хлопоты и прийти на службу, чтобы встретить великий праздник Пас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В первый день всегда надевали ту одежду, в которой ходили в церковь к заутрене. 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Закалывали свинью, делали колбасы, ветчину. Пекли куличи, делали творожную пасху. Комнаты и стол украшали живыми и бумажными цветами. Кушанья раскладывали на блюдах, украшенных кружевами из бумаги и свежей зелен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468960" cy="4043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80000" y="54936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7640" y="5229000"/>
            <a:ext cx="8785080" cy="15015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ервым блюдом во время пасхальной трапезы было яйцо, которое разрезалось на кусочки по количеству людей, сидевших за столом. После этого каждый получал по куску кулича и ложке творожной пасхи. Затем на стол ставили остальную праздничную еду, приготовленную хозяйкой, и начиналось радостное застол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286680" cy="4248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Марина</cp:lastModifiedBy>
  <dcterms:modified xsi:type="dcterms:W3CDTF">2014-04-18T21:42:13Z</dcterms:modified>
  <cp:revision>11</cp:revision>
  <dc:subject/>
  <dc:title>ПАСХА</dc:title>
</cp:coreProperties>
</file>