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png" ContentType="image/png"/>
  <Override PartName="/ppt/media/image13.png" ContentType="image/png"/>
  <Override PartName="/ppt/media/image8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gif" ContentType="image/gif"/>
  <Override PartName="/ppt/media/image17.png" ContentType="image/png"/>
  <Override PartName="/ppt/media/image19.gif" ContentType="image/gif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4D93-C78E-4F9A-A0FA-C842E4227D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3C4C-B00D-48DB-9B8C-ABB2ED266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A47D-B7F6-4197-90BA-F46FFC69F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36CE-60AA-4612-9990-3FDC2E7F15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"Мой университет" - www.moi-universitet.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 "Реформа образования"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F0C4-3607-4F69-A81E-7C4E6163D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302-2C6F-4F58-9420-3657FE6F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B62-3AD7-4751-9139-ACAEA360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8C6-74AD-471D-8B14-BBAA1C04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D2C-7C91-4B24-8B7D-244EB0B7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B94-FF78-4147-BFD6-B3E92B3A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27D-E3A4-40EE-8345-846728C0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AE2-6283-431E-979C-775FE06A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F95-6459-497E-8690-4DA25EDB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A3B-C47B-4570-BD94-82995653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61E-328F-4742-BED7-AC631F78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18E-E728-40AF-9C04-2F8D263F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60C-FA02-4C3E-8035-B57BD616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20D0-1F7D-4CB4-BB98-14AA735DE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55640" y="54936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Правописание падежных окончаний имен прилагательных женского рода единствен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940920" y="5021280"/>
            <a:ext cx="417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Урок подготовила 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МБОУ СШ № 74 им.В.А.Глазун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г.Ульян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Лагод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foto-sobaki"/>
          <p:cNvPicPr/>
          <p:nvPr/>
        </p:nvPicPr>
        <p:blipFill>
          <a:blip r:embed="rId1"/>
          <a:stretch/>
        </p:blipFill>
        <p:spPr>
          <a:xfrm>
            <a:off x="357120" y="350028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647720" y="1300320"/>
            <a:ext cx="5848560" cy="42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60480" y="85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828720" y="1279440"/>
            <a:ext cx="3822480" cy="379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3925800" y="1139760"/>
            <a:ext cx="4883400" cy="398628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1214280" y="57168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м собаки отличаются друг от дру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3370320" y="1571760"/>
            <a:ext cx="44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яя собак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3361320" y="4071960"/>
            <a:ext cx="42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домная соб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28760" y="911160"/>
            <a:ext cx="2071440" cy="205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285840" y="3571920"/>
            <a:ext cx="2363760" cy="181296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2861280" y="428760"/>
            <a:ext cx="41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Какие собаки перед н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157640" y="2357280"/>
            <a:ext cx="26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ж.р., ед.ч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4157640" y="4857840"/>
            <a:ext cx="26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ж.р., ед.ч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429760" cy="45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Правописание падежных окончаний имен прилагательных женского рода единственного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G:\Рисунки\Обои Детство\b01b9c64ad3d.png"/>
          <p:cNvPicPr/>
          <p:nvPr/>
        </p:nvPicPr>
        <p:blipFill>
          <a:blip r:embed="rId1"/>
          <a:stretch/>
        </p:blipFill>
        <p:spPr>
          <a:xfrm>
            <a:off x="0" y="3678120"/>
            <a:ext cx="2825640" cy="3179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001"/>
          <p:cNvPicPr/>
          <p:nvPr/>
        </p:nvPicPr>
        <p:blipFill>
          <a:blip r:embed="rId2"/>
          <a:stretch/>
        </p:blipFill>
        <p:spPr>
          <a:xfrm>
            <a:off x="6643800" y="4643280"/>
            <a:ext cx="2257200" cy="20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042920" y="476280"/>
            <a:ext cx="71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Двенадцатое февраля.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2" name="WordArt 3"/>
          <p:cNvSpPr txBox="1"/>
          <p:nvPr/>
        </p:nvSpPr>
        <p:spPr>
          <a:xfrm>
            <a:off x="1835280" y="1916280"/>
            <a:ext cx="57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лассная работа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642960" y="3286080"/>
            <a:ext cx="82152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клоняйте прилагатель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яя собака, бездомная соба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работа в группах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189000"/>
          <a:ext cx="8715600" cy="564336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0800"/>
                <a:gridCol w="1454400"/>
                <a:gridCol w="1452600"/>
              </a:tblGrid>
              <a:tr h="142380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-витель-н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машня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ездомн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ко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соба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9325080" y="5516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9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14200" y="214200"/>
          <a:ext cx="8715600" cy="507708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0800"/>
                <a:gridCol w="1454400"/>
                <a:gridCol w="1452600"/>
              </a:tblGrid>
              <a:tr h="85752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-ви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00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дом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дом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дом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ю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дом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дом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к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соба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дом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6858000" y="52862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42920" y="357120"/>
            <a:ext cx="8800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1285920" y="4429080"/>
            <a:ext cx="30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2960" y="714240"/>
          <a:ext cx="1969920" cy="497160"/>
        </p:xfrm>
        <a:graphic>
          <a:graphicData uri="http://schemas.openxmlformats.org/drawingml/2006/table">
            <a:tbl>
              <a:tblPr/>
              <a:tblGrid>
                <a:gridCol w="1969920"/>
              </a:tblGrid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ю, -ю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14240" y="2000160"/>
          <a:ext cx="1970280" cy="533520"/>
        </p:xfrm>
        <a:graphic>
          <a:graphicData uri="http://schemas.openxmlformats.org/drawingml/2006/table">
            <a:tbl>
              <a:tblPr/>
              <a:tblGrid>
                <a:gridCol w="1970280"/>
              </a:tblGrid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й, -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85880" y="3500280"/>
          <a:ext cx="1969920" cy="497160"/>
        </p:xfrm>
        <a:graphic>
          <a:graphicData uri="http://schemas.openxmlformats.org/drawingml/2006/table">
            <a:tbl>
              <a:tblPr/>
              <a:tblGrid>
                <a:gridCol w="1969920"/>
              </a:tblGrid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я, -я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00720" y="714240"/>
          <a:ext cx="3771720" cy="513000"/>
        </p:xfrm>
        <a:graphic>
          <a:graphicData uri="http://schemas.openxmlformats.org/drawingml/2006/table">
            <a:tbl>
              <a:tblPr/>
              <a:tblGrid>
                <a:gridCol w="377172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р., ед.ч., Р, Д,Т, П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572000" y="1928880"/>
          <a:ext cx="3193920" cy="558720"/>
        </p:xfrm>
        <a:graphic>
          <a:graphicData uri="http://schemas.openxmlformats.org/drawingml/2006/table">
            <a:tbl>
              <a:tblPr/>
              <a:tblGrid>
                <a:gridCol w="3193920"/>
              </a:tblGrid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р., ед.ч.,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786200" y="3500280"/>
          <a:ext cx="3245040" cy="471600"/>
        </p:xfrm>
        <a:graphic>
          <a:graphicData uri="http://schemas.openxmlformats.org/drawingml/2006/table">
            <a:tbl>
              <a:tblPr/>
              <a:tblGrid>
                <a:gridCol w="3245040"/>
              </a:tblGrid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р., ед.ч., В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6" name="Прямая со стрелкой 35"/>
          <p:cNvCxnSpPr/>
          <p:nvPr/>
        </p:nvCxnSpPr>
        <p:spPr>
          <a:xfrm>
            <a:off x="2784960" y="999720"/>
            <a:ext cx="1857960" cy="27867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7" name="Прямая со стрелкой 37"/>
          <p:cNvCxnSpPr/>
          <p:nvPr/>
        </p:nvCxnSpPr>
        <p:spPr>
          <a:xfrm flipV="1">
            <a:off x="2857320" y="999720"/>
            <a:ext cx="1572120" cy="13579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Прямая со стрелкой 39"/>
          <p:cNvCxnSpPr/>
          <p:nvPr/>
        </p:nvCxnSpPr>
        <p:spPr>
          <a:xfrm flipV="1">
            <a:off x="2999160" y="2214000"/>
            <a:ext cx="1429560" cy="15721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9" name="Picture 3" descr="E:\АНИМАЦИЯ\Дети\6e512718eb4ddfdeb3be803fc4e3f797[1].gif"/>
          <p:cNvPicPr/>
          <p:nvPr/>
        </p:nvPicPr>
        <p:blipFill>
          <a:blip r:embed="rId1"/>
          <a:stretch/>
        </p:blipFill>
        <p:spPr>
          <a:xfrm>
            <a:off x="7020000" y="4437000"/>
            <a:ext cx="159840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E:\37922db0cb05.png"/>
          <p:cNvPicPr/>
          <p:nvPr/>
        </p:nvPicPr>
        <p:blipFill>
          <a:blip r:embed="rId2"/>
          <a:stretch/>
        </p:blipFill>
        <p:spPr>
          <a:xfrm>
            <a:off x="428760" y="4857840"/>
            <a:ext cx="2327040" cy="17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3" descr="0008-008-Razvitie-melkoj-motoriki-i-graficheskikh-navykov-palchikovaja.jpg"/>
          <p:cNvPicPr/>
          <p:nvPr/>
        </p:nvPicPr>
        <p:blipFill>
          <a:blip r:embed="rId1"/>
          <a:srcRect l="8929" t="9433" r="4020" b="3774"/>
          <a:stretch/>
        </p:blipFill>
        <p:spPr>
          <a:xfrm>
            <a:off x="611280" y="260280"/>
            <a:ext cx="3992400" cy="27828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гимнастика"/>
          <p:cNvPicPr/>
          <p:nvPr/>
        </p:nvPicPr>
        <p:blipFill>
          <a:blip r:embed="rId2"/>
          <a:srcRect l="1302" t="0" r="1302" b="22726"/>
          <a:stretch/>
        </p:blipFill>
        <p:spPr>
          <a:xfrm>
            <a:off x="2928960" y="3214800"/>
            <a:ext cx="5357880" cy="33573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5076720" y="54936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Monotype Corsiva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68360" y="189000"/>
            <a:ext cx="8424720" cy="64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бъяснительны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имняя ночь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стволам и сучьям деревьев постукивает мороз. Хлопьями летит мягкий иней. В тёмном высоком небе зажглись звёз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хо в лесу. Но и в морозные ночи идёт скрытая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т хрустнула в чаще мёрзлая ветка. Это пробегал под деревьями заяц- беляк. Вот по гладкому снегу бежит хорёк за мышкой. Как сказочный часовой , уселся на голом сучке головастый серый совёнок. В ночной тишине он хорошо видит, как идёт в зимнем лесу скрытая от людей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шли орфограммы, объяснили написание их, записали под диктовку, проверили. Грамматическое задание: указать падеж имён прилагательных, выделить оконч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20720" cy="16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35280" y="1268280"/>
            <a:ext cx="50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Monotype Corsiva"/>
              </a:rPr>
              <a:t>Прозвенел звонок.</a:t>
            </a:r>
            <a:br>
              <a:rPr sz="3200"/>
            </a:br>
            <a:r>
              <a:rPr b="1" lang="ru-RU" sz="3200" spc="-1" strike="noStrike">
                <a:solidFill>
                  <a:srgbClr val="6b6bcf"/>
                </a:solidFill>
                <a:latin typeface="Monotype Corsiva"/>
              </a:rPr>
              <a:t>Начался урок.</a:t>
            </a:r>
            <a:br>
              <a:rPr sz="3200"/>
            </a:br>
            <a:r>
              <a:rPr b="1" lang="ru-RU" sz="3200" spc="-1" strike="noStrike">
                <a:solidFill>
                  <a:srgbClr val="6b6bcf"/>
                </a:solidFill>
                <a:latin typeface="Monotype Corsiva"/>
              </a:rPr>
              <a:t>Наши ушки на макуш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Monotype Corsiva"/>
              </a:rPr>
              <a:t>Глазки широко откры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Monotype Corsiva"/>
              </a:rPr>
              <a:t>Думаем, запоми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Monotype Corsiva"/>
              </a:rPr>
              <a:t>Ничего не забыва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6659640" y="55897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7" descr="E:\Documents and Settings\Admin\Мои документы\Мои рисунки\анимация\l1_sociol_o.gif"/>
          <p:cNvPicPr/>
          <p:nvPr/>
        </p:nvPicPr>
        <p:blipFill>
          <a:blip r:embed="rId1"/>
          <a:stretch/>
        </p:blipFill>
        <p:spPr>
          <a:xfrm>
            <a:off x="6781680" y="2971800"/>
            <a:ext cx="2229120" cy="37497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"/>
          <p:cNvSpPr/>
          <p:nvPr/>
        </p:nvSpPr>
        <p:spPr>
          <a:xfrm>
            <a:off x="6716880" y="333360"/>
            <a:ext cx="1295280" cy="117936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Animals-001"/>
          <p:cNvPicPr/>
          <p:nvPr/>
        </p:nvPicPr>
        <p:blipFill>
          <a:blip r:embed="rId2"/>
          <a:stretch/>
        </p:blipFill>
        <p:spPr>
          <a:xfrm flipH="1">
            <a:off x="324000" y="4557600"/>
            <a:ext cx="15112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500120" y="857160"/>
          <a:ext cx="6286680" cy="4073760"/>
        </p:xfrm>
        <a:graphic>
          <a:graphicData uri="http://schemas.openxmlformats.org/drawingml/2006/table">
            <a:tbl>
              <a:tblPr/>
              <a:tblGrid>
                <a:gridCol w="3143160"/>
                <a:gridCol w="3143520"/>
              </a:tblGrid>
              <a:tr h="97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деж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кончание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ая, -я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, Д., Т., П.п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ой, -е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п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ую, -юю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611280" y="260280"/>
            <a:ext cx="535788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3" descr="футбол"/>
          <p:cNvPicPr/>
          <p:nvPr/>
        </p:nvPicPr>
        <p:blipFill>
          <a:blip r:embed="rId1"/>
          <a:stretch/>
        </p:blipFill>
        <p:spPr>
          <a:xfrm>
            <a:off x="5292720" y="2133720"/>
            <a:ext cx="2682720" cy="30970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>
            <a:hlinkClick r:id="rId2" action="ppaction://hlinksldjump"/>
          </p:cNvPr>
          <p:cNvSpPr/>
          <p:nvPr/>
        </p:nvSpPr>
        <p:spPr>
          <a:xfrm>
            <a:off x="468360" y="6237360"/>
            <a:ext cx="934920" cy="43164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64" h="21600">
                <a:moveTo>
                  <a:pt x="0" y="0"/>
                </a:moveTo>
                <a:lnTo>
                  <a:pt x="46764" y="0"/>
                </a:lnTo>
                <a:lnTo>
                  <a:pt x="46764" y="21600"/>
                </a:lnTo>
                <a:lnTo>
                  <a:pt x="0" y="21600"/>
                </a:lnTo>
                <a:close/>
              </a:path>
              <a:path fill="lightenLess" w="46764" h="21600">
                <a:moveTo>
                  <a:pt x="0" y="0"/>
                </a:moveTo>
                <a:lnTo>
                  <a:pt x="46764" y="0"/>
                </a:lnTo>
                <a:lnTo>
                  <a:pt x="45364" y="1400"/>
                </a:lnTo>
                <a:lnTo>
                  <a:pt x="1400" y="1400"/>
                </a:lnTo>
                <a:close/>
              </a:path>
              <a:path fill="darken" w="46764" h="21600">
                <a:moveTo>
                  <a:pt x="46764" y="0"/>
                </a:moveTo>
                <a:lnTo>
                  <a:pt x="46764" y="21600"/>
                </a:lnTo>
                <a:lnTo>
                  <a:pt x="45364" y="20200"/>
                </a:lnTo>
                <a:lnTo>
                  <a:pt x="45364" y="1400"/>
                </a:lnTo>
                <a:close/>
              </a:path>
              <a:path fill="darkenLess" w="46764" h="21600">
                <a:moveTo>
                  <a:pt x="46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4" y="20200"/>
                </a:lnTo>
                <a:close/>
              </a:path>
              <a:path fill="lighten" w="46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4" h="21600">
                <a:moveTo>
                  <a:pt x="16376" y="10800"/>
                </a:moveTo>
                <a:lnTo>
                  <a:pt x="30388" y="3794"/>
                </a:lnTo>
                <a:lnTo>
                  <a:pt x="30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1" descr="foto-sobaki"/>
          <p:cNvPicPr/>
          <p:nvPr/>
        </p:nvPicPr>
        <p:blipFill>
          <a:blip r:embed="rId1"/>
          <a:stretch/>
        </p:blipFill>
        <p:spPr>
          <a:xfrm>
            <a:off x="5435640" y="404640"/>
            <a:ext cx="2951280" cy="2951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Dog_Trixie_31101"/>
          <p:cNvPicPr/>
          <p:nvPr/>
        </p:nvPicPr>
        <p:blipFill>
          <a:blip r:embed="rId2">
            <a:lum bright="-6000"/>
          </a:blip>
          <a:srcRect l="0" t="29840" r="0" b="29831"/>
          <a:stretch/>
        </p:blipFill>
        <p:spPr>
          <a:xfrm rot="1470600">
            <a:off x="1258920" y="4869000"/>
            <a:ext cx="2160720" cy="869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Dog_Trixie_31101"/>
          <p:cNvPicPr/>
          <p:nvPr/>
        </p:nvPicPr>
        <p:blipFill>
          <a:blip r:embed="rId3">
            <a:lum bright="-6000"/>
          </a:blip>
          <a:srcRect l="0" t="29840" r="0" b="29831"/>
          <a:stretch/>
        </p:blipFill>
        <p:spPr>
          <a:xfrm rot="1470600">
            <a:off x="1198080" y="3836520"/>
            <a:ext cx="2051280" cy="825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Dog_Trixie_31101"/>
          <p:cNvPicPr/>
          <p:nvPr/>
        </p:nvPicPr>
        <p:blipFill>
          <a:blip r:embed="rId4">
            <a:lum bright="-6000"/>
          </a:blip>
          <a:srcRect l="0" t="29840" r="0" b="29831"/>
          <a:stretch/>
        </p:blipFill>
        <p:spPr>
          <a:xfrm rot="21279000">
            <a:off x="3347640" y="4941360"/>
            <a:ext cx="1728720" cy="696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Dog_Trixie_31101"/>
          <p:cNvPicPr/>
          <p:nvPr/>
        </p:nvPicPr>
        <p:blipFill>
          <a:blip r:embed="rId5">
            <a:lum bright="-6000"/>
          </a:blip>
          <a:srcRect l="0" t="29840" r="0" b="29831"/>
          <a:stretch/>
        </p:blipFill>
        <p:spPr>
          <a:xfrm rot="19131600">
            <a:off x="2989440" y="4597560"/>
            <a:ext cx="1296720" cy="522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7"/>
          <p:cNvSpPr/>
          <p:nvPr/>
        </p:nvSpPr>
        <p:spPr>
          <a:xfrm>
            <a:off x="0" y="585000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Копи2514.wav" descr=""/>
          <p:cNvPicPr/>
          <p:nvPr/>
        </p:nvPicPr>
        <p:blipFill>
          <a:blip r:embed="rId6"/>
          <a:stretch/>
        </p:blipFill>
        <p:spPr>
          <a:xfrm>
            <a:off x="79567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9"/>
          <p:cNvSpPr/>
          <p:nvPr/>
        </p:nvSpPr>
        <p:spPr>
          <a:xfrm>
            <a:off x="0" y="465300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0" y="342900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0" y="227664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0" y="1125360"/>
            <a:ext cx="576360" cy="1008360"/>
          </a:xfrm>
          <a:prstGeom prst="upArrow">
            <a:avLst>
              <a:gd name="adj1" fmla="val 50000"/>
              <a:gd name="adj2" fmla="val 437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3"/>
          <p:cNvSpPr/>
          <p:nvPr/>
        </p:nvSpPr>
        <p:spPr>
          <a:xfrm>
            <a:off x="0" y="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4"/>
          <p:cNvSpPr/>
          <p:nvPr/>
        </p:nvSpPr>
        <p:spPr>
          <a:xfrm rot="5400000">
            <a:off x="1042560" y="-216000"/>
            <a:ext cx="576360" cy="1008360"/>
          </a:xfrm>
          <a:prstGeom prst="upArrow">
            <a:avLst>
              <a:gd name="adj1" fmla="val 50000"/>
              <a:gd name="adj2" fmla="val 437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5"/>
          <p:cNvSpPr/>
          <p:nvPr/>
        </p:nvSpPr>
        <p:spPr>
          <a:xfrm rot="5400000">
            <a:off x="2339640" y="-21564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6"/>
          <p:cNvSpPr/>
          <p:nvPr/>
        </p:nvSpPr>
        <p:spPr>
          <a:xfrm rot="5400000">
            <a:off x="3708000" y="-216000"/>
            <a:ext cx="576360" cy="1008360"/>
          </a:xfrm>
          <a:prstGeom prst="upArrow">
            <a:avLst>
              <a:gd name="adj1" fmla="val 50000"/>
              <a:gd name="adj2" fmla="val 437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7"/>
          <p:cNvSpPr/>
          <p:nvPr/>
        </p:nvSpPr>
        <p:spPr>
          <a:xfrm rot="5400000">
            <a:off x="4932000" y="-21564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8"/>
          <p:cNvSpPr/>
          <p:nvPr/>
        </p:nvSpPr>
        <p:spPr>
          <a:xfrm rot="5400000">
            <a:off x="6227640" y="-21564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9"/>
          <p:cNvSpPr/>
          <p:nvPr/>
        </p:nvSpPr>
        <p:spPr>
          <a:xfrm rot="5400000">
            <a:off x="7596000" y="-21564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0"/>
          <p:cNvSpPr/>
          <p:nvPr/>
        </p:nvSpPr>
        <p:spPr>
          <a:xfrm rot="10800000">
            <a:off x="8567280" y="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1"/>
          <p:cNvSpPr/>
          <p:nvPr/>
        </p:nvSpPr>
        <p:spPr>
          <a:xfrm rot="10800000">
            <a:off x="8567280" y="1125000"/>
            <a:ext cx="576360" cy="1008360"/>
          </a:xfrm>
          <a:prstGeom prst="upArrow">
            <a:avLst>
              <a:gd name="adj1" fmla="val 50000"/>
              <a:gd name="adj2" fmla="val 437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2"/>
          <p:cNvSpPr/>
          <p:nvPr/>
        </p:nvSpPr>
        <p:spPr>
          <a:xfrm rot="10800000">
            <a:off x="8567280" y="227664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3"/>
          <p:cNvSpPr/>
          <p:nvPr/>
        </p:nvSpPr>
        <p:spPr>
          <a:xfrm rot="10800000">
            <a:off x="8567280" y="342900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4"/>
          <p:cNvSpPr/>
          <p:nvPr/>
        </p:nvSpPr>
        <p:spPr>
          <a:xfrm rot="10800000">
            <a:off x="8567280" y="465300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5"/>
          <p:cNvSpPr/>
          <p:nvPr/>
        </p:nvSpPr>
        <p:spPr>
          <a:xfrm rot="10800000">
            <a:off x="8567280" y="585000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29514 0.26783 E">
                                      <p:cBhvr>
                                        <p:cTn id="436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3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3.7037E-007 L -0.0316 -0.65139 L 0.496 -0.65139 L 0.496 3.7037E-007 L -0.0316 3.7037E-007 Z">
                                      <p:cBhvr>
                                        <p:cTn id="439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4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4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0.26783 L -0.51563 0.53033 E">
                                      <p:cBhvr>
                                        <p:cTn id="4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44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142 0.49908 L 0.075 -0.05763 E">
                                      <p:cBhvr>
                                        <p:cTn id="448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0.58281 -0.57755 E">
                                      <p:cBhvr>
                                        <p:cTn id="45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2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454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4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47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4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ндивидуальная раб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шите, употребив имена прилагательные ,данные в скобках, в нужной форме. Выдели окончание и укажи падеж имён прилага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е смеялось под (лёгкий) порывом (знойный) ветра. Оно улыбалось (голубое) небу. С (весёлой) плеском носились волны. Они сбрасывали на песок (белая) пену. Она таяла на (горячий) песке. Чайки лениво качались на вол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ы закрепля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авила повтор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258920" y="404640"/>
            <a:ext cx="71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42c4d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годня на урок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42c4d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332000" y="1628640"/>
            <a:ext cx="2533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1908000" y="2565360"/>
            <a:ext cx="3009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3201840" y="3363840"/>
            <a:ext cx="4467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4272120" y="4221000"/>
            <a:ext cx="3328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4284720" y="5084640"/>
            <a:ext cx="4124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8" descr="s8"/>
          <p:cNvPicPr/>
          <p:nvPr/>
        </p:nvPicPr>
        <p:blipFill>
          <a:blip r:embed="rId1"/>
          <a:stretch/>
        </p:blipFill>
        <p:spPr>
          <a:xfrm>
            <a:off x="544680" y="140652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s16"/>
          <p:cNvPicPr/>
          <p:nvPr/>
        </p:nvPicPr>
        <p:blipFill>
          <a:blip r:embed="rId2"/>
          <a:stretch/>
        </p:blipFill>
        <p:spPr>
          <a:xfrm>
            <a:off x="503280" y="309888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s1"/>
          <p:cNvPicPr/>
          <p:nvPr/>
        </p:nvPicPr>
        <p:blipFill>
          <a:blip r:embed="rId3"/>
          <a:stretch/>
        </p:blipFill>
        <p:spPr>
          <a:xfrm>
            <a:off x="544680" y="4791240"/>
            <a:ext cx="1628640" cy="1628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3201840" y="1876320"/>
            <a:ext cx="44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справился (лась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3292200" y="3281400"/>
            <a:ext cx="37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сомне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424320" y="5084640"/>
            <a:ext cx="42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ужно подум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115920" y="317520"/>
            <a:ext cx="8997840" cy="1584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G:\Рисунки\Обои Детство\malch15.png"/>
          <p:cNvPicPr/>
          <p:nvPr/>
        </p:nvPicPr>
        <p:blipFill>
          <a:blip r:embed="rId2"/>
          <a:stretch/>
        </p:blipFill>
        <p:spPr>
          <a:xfrm>
            <a:off x="2000160" y="2000160"/>
            <a:ext cx="4741920" cy="39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4" dur="3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6372360" y="404640"/>
            <a:ext cx="2190240" cy="2159280"/>
            <a:chOff x="6372360" y="404640"/>
            <a:chExt cx="2190240" cy="2159280"/>
          </a:xfrm>
        </p:grpSpPr>
        <p:sp>
          <p:nvSpPr>
            <p:cNvPr id="57" name="Oval 2"/>
            <p:cNvSpPr/>
            <p:nvPr/>
          </p:nvSpPr>
          <p:spPr>
            <a:xfrm>
              <a:off x="6372360" y="404640"/>
              <a:ext cx="2160360" cy="2159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3"/>
            <p:cNvSpPr/>
            <p:nvPr/>
          </p:nvSpPr>
          <p:spPr>
            <a:xfrm rot="1376400">
              <a:off x="6568200" y="831600"/>
              <a:ext cx="187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имя прилагатель-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5"/>
          <p:cNvSpPr/>
          <p:nvPr/>
        </p:nvSpPr>
        <p:spPr>
          <a:xfrm rot="430800">
            <a:off x="2268360" y="325440"/>
            <a:ext cx="40323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часть речи, обозначает признак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835280" y="1268280"/>
            <a:ext cx="44654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зменяется по числам (ед.ч., мн.ч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 rot="20952600">
            <a:off x="1475280" y="2205000"/>
            <a:ext cx="4968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зменяется по родам (м.р., ж.р., ср.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 rot="19491000">
            <a:off x="3706200" y="2925000"/>
            <a:ext cx="3095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зменяется по падеж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 rot="18177000">
            <a:off x="3151080" y="4416480"/>
            <a:ext cx="4968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интаксическая роль (опреде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9"/>
          <p:cNvSpPr/>
          <p:nvPr/>
        </p:nvSpPr>
        <p:spPr>
          <a:xfrm>
            <a:off x="1908000" y="1628640"/>
            <a:ext cx="554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то обозначает имя прилага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) признак предме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) предм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) действие предм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3132000" y="549360"/>
            <a:ext cx="360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ишите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124000" y="2492280"/>
            <a:ext cx="588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 какой вопрос отвечает имя прилага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) Кто? Ч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) Что делает ? что сделает?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)какой? какая? 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268360" y="2276640"/>
            <a:ext cx="5975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к определить род прилагатель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) по вопрос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) по существительному, с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и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вязанн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403280" y="2550960"/>
            <a:ext cx="64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 чем связано прилагательное в пред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) с существительны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Й) с глагол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) с нареч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187280" y="2274840"/>
            <a:ext cx="69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м членом предложения чащ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вляется прилагательное в пред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) дополн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) опреде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обстоя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187280" y="2413080"/>
            <a:ext cx="72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каких падежах одинаковые окончания у имен прилагательных в единственном числе Ж.Р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) в Р.п., Д.п., Т.п., П. п.,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) И.п, . В.п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И.п. ,Р.п. ,Д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1:03:42Z</dcterms:created>
  <dc:creator>Мокина Ксения Александровна</dc:creator>
  <dc:description/>
  <dc:language>en-US</dc:language>
  <cp:lastModifiedBy>Пользователь</cp:lastModifiedBy>
  <dcterms:modified xsi:type="dcterms:W3CDTF">2024-02-11T13:48:28Z</dcterms:modified>
  <cp:revision>84</cp:revision>
  <dc:subject/>
  <dc:title>Слайд 1</dc:title>
</cp:coreProperties>
</file>