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3928-D675-4B43-BDE1-07D1B4B1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E49B8-1316-425C-BE14-B6F4F77E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8A2687-C5BD-480C-98F9-7177F7F0B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06A3E4-9747-4E11-8310-CF76597003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4F8C7C-630D-4113-B8DD-B44112E4F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5AC28-D579-42E6-A173-9E4309B5C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DA923-D7BB-4284-B0FB-15CC0D748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ED3540-2D5B-4CEA-8828-1137B0784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7FEF38-674B-4C1F-B9AB-8746ED8E02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4C29A9-A2B6-419C-9DFD-FD8B5CA6C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D8A927-CECD-4777-AF71-D67938A0CD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577BF1-F62C-4D80-9F1A-F3BEB9C87D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FF4B2-9751-4710-8DBA-B0528FE1F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85B501-925B-4DE5-B3AB-5C598FFC64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CFBE6-C17E-44D6-BE77-9D65E455A6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4F2AEA-C64C-46F6-8865-9697AE9274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C07CFF-A6CB-4041-B0CF-138728FB8F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F7F915-1106-4E02-8487-04D209927C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8423CB-F081-4EED-8997-078AD06588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71E7A8-EF17-4071-9FFA-349F34F6FB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78051D-5363-47C5-AD2D-D2070F132C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532A0A-0AD8-4F82-AE4C-F8E7C2F5FF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C7F6FD-1BDE-4B56-AE1E-D7760CF564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2F837-9D1C-46D0-8959-7FE9A2840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E94FB2-2EEA-47C5-B3B0-05B909916D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B25C24-BEF3-43B2-A860-DE0922BC82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5D837F-08E2-4E1B-9DB7-4AF34296BD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79350E-8339-424A-9BDA-15356EB896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CF7BB9-972F-4CA9-B830-A7AEBB1956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369577-97C0-4D95-9492-3E1EEF013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515F33-7A74-4DCC-9A66-8438F07DB1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D42E5-45A3-4724-9F72-3D502DCCC5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CDD6D6-7A94-4AC6-9FC2-9B93E80BC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93F3DF-B804-4A13-A49C-D21D9B29E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FD0BB-A9AA-46AA-A16D-0221C7E5D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5DF68D-9DEC-4DE6-98E7-0E9F631898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BB6BD8-3C5C-4A0F-97CA-2ABE727D37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1F8EFB-89DA-4329-B640-B3ACB1EDD3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6D625-9B8A-4DF3-A72B-1DD9D49F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F875-7BC2-4D77-8B5C-EF60B8849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A73D4-B895-489C-8EB6-9959A7BE6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CD75D-AAC9-4779-8010-1690C9152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2ECAD-2810-4351-AA28-20B1AF0E8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6DDC3-D843-41BF-A2A6-0D853F27B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DCD1-6EEB-4B8E-86A0-AA6FA5BD3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56CF-52E7-4A82-820F-BF022D932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1620-434C-4FA0-8BB1-363EDE514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6635D-8DB1-42BA-8721-7EFBB36A9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28C82-B438-4F1B-89E4-80D54DC22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92A6B-32D8-424F-9F12-A0390B803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CDF7E2-20B2-4A34-91FB-763E6C3A9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4373A-FC57-4FAB-AFBE-0FF244B35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9E97E-9A66-4547-A81A-F4629CD90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AEB4C-49AD-441C-9FEB-D81910C6B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9CD70-315C-4614-97D8-FEC9247F3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B316-B64D-4C63-B5C9-25498F28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E1057-3348-4CC6-A510-0BD3CABCD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526B7-1A59-4EE0-9473-5CDF1884C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F4A12-73F5-426F-A402-C3BC6AC93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9A580-2ACE-4B9B-A2DE-4BE80042D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E9D9E-6A8A-40EB-AACC-83F4608A8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4A3915-5AC7-4F2C-A502-C9043C2247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A589B-4F35-4D6C-95DC-99E4E78E91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9A14DA-EBF5-4A43-92BD-226C05ABA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276F4-40F5-4A08-813C-C1D06B087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B81B5-58A7-4F54-B264-CD17C534E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54B54-6D8E-4D11-B306-FB4DB640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13EAF-39B9-4A1C-B0E1-AEF9BE7C5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7CF18-8F8E-4202-A5D4-B058DE611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0638F-0798-410C-8702-2B510F98A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D1035-34CE-4A58-A502-625F77F24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99D8E-47A8-41A2-BFA6-A3B3537D2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845A7-4E86-4CF6-9EA8-1245FADB7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E40E1-3A90-4F52-ABED-585CB8877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98302F-0ECF-4D04-BE3D-247F28DDF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4B34A-42FB-4DD8-B574-2EABCFCC20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C2099E-0283-46CA-BE20-54663D4E9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9C7C0-EDEB-4CB1-90AF-75061DCAF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A0130-B49B-4FC8-A4CC-DBA965A64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F031A-227F-4F39-9415-202308ADA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21E7B-3BDF-432B-ACA7-F0D8B3C03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A39A6-E804-4A01-A49E-5D1E1EB9B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C8120-9DE8-433C-9C92-61699C313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6D592-4FCC-496F-8BED-69502999E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CDCB6-C5AC-47B9-999E-9EA4EFEE4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5A5305-45A5-4AA2-B3B2-3BAA46196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41383-305A-4B94-B088-AF638D149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875867-2681-4004-A8F8-DEB2782C9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D565-E0A6-4653-A0ED-B8C92F0C9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3BA1C2-B454-4688-8A73-108A3E8BA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16926B-848E-4021-92A4-E3CD2493E9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7ECC0E-67A8-44F6-98EC-5036B3223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EFB99-D9C4-49C7-A6C7-A44CA7AFD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ECF4A-CBA1-4C25-B689-F2871BADBD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3202A-CE5F-438E-BDDB-829993F6C6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A05A1-7BAB-431C-8615-12265309E2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BBAE7-6363-43D6-9D43-E5AE3FF63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90BE6-0CAB-4DB9-9811-7B70DF1DA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5F24A-2CAB-4F52-8819-939C3C19B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9CD9-4698-4119-85C4-95EB38E8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1E975-26D1-4271-A274-36F4BE36E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4646D8-D7EF-43C5-A210-B370D1AB2F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D18307-B1B7-4E2A-AAF0-BA9BA35538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A48168-EEEF-4B8B-B6E2-167E251B35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BCE526-84E0-4DD4-B2F4-EA036E5DCE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56164-A048-44E0-99A7-2DBCE94AE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6C52B-5299-4242-AEC0-029E29487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D9229-EDC9-4E52-8988-D61D4ADF4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E21BA-A3F9-44AF-9990-DB5EF9837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A58B4-7C33-4114-89CE-6394F161D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8CFE-91BB-45B9-BE60-FD1A16E4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D44D3-CCEB-40C7-B8BE-1A8E8B7D5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39CEF-5DA6-436F-8EA9-49F925834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DF0FF-C3CE-4BF7-B7CC-81B55A930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73FA0F-8A7D-43ED-913F-E21D95257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99511-D978-484B-B0C1-256AA4C29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019574-CA4D-4CF8-ADE6-DEAC9DEAC2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299AE9-889C-42CE-A6E2-F28BB4A36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71438-E2F9-4DD5-8B7E-A3A116B72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C9AFF-EB91-48E9-B927-C8C95DCB9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EC781-81E6-43E3-B562-67119FFFE9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ACCC-5AE9-4A74-B491-BA2591BA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FD9B9-119D-4FCE-AD91-AC10AC033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18BFC-8BD9-40A7-83CC-32B31CB00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AC3B1-8A17-4E73-8C7F-0D1CA28BB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960C6-D258-4D07-B028-8B0FD3AE4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AD443-C996-4F4B-A84E-FFF0B9944F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9DAA61-F4F9-47C1-A290-A54FC868E0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C292B-F13C-48EF-B661-2756C185E5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8C8C7B-E151-40F8-8981-60E5FD595A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3879CA-C0BA-4802-B954-EB2AD3EDE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CF8F8-C35A-48A1-B0FA-77E4988AA6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DDBE1-9256-4B6B-8459-A0426AEDB762}"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3BD42-BA80-49F6-BD5F-4B3E68C6ADD2}"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187EF-EBB8-4FAC-B245-535B2E8BD762}"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0BAC2-5FA6-436C-922B-CD5EE73794BB}"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85CAB-1CB1-496A-82D0-FEA7C3930D8B}"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6FB8F-A391-4183-8508-D7A82BCBCB4F}"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27C37-B701-44F9-9A2E-1E7384C62DE3}"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6BBC3-5502-4C05-9F92-AC18CC62DBAC}"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A4327-BDE6-44D0-ADDA-F5CB63575417}"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B3A44-1DBE-4D27-9512-31576BE81389}"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840"/>
              <a:ext cx="2793600" cy="4326840"/>
              <a:chOff x="5346360" y="771840"/>
              <a:chExt cx="2793600" cy="4326840"/>
            </a:xfrm>
          </p:grpSpPr>
          <p:pic>
            <p:nvPicPr>
              <p:cNvPr id="367" name="Rectangle 14"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CCFB0-8D3D-4AD6-8B4D-16CA9F13F5D0}" type="slidenum">
              <a:rPr b="0" lang="en-US"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1125000"/>
            <a:ext cx="5219640" cy="3743640"/>
          </a:xfrm>
          <a:prstGeom prst="rect">
            <a:avLst/>
          </a:prstGeom>
          <a:noFill/>
          <a:ln w="0">
            <a:noFill/>
          </a:ln>
        </p:spPr>
        <p:txBody>
          <a:bodyPr bIns="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Gill Sans MT"/>
              </a:rPr>
              <a:t>WRITING</a:t>
            </a:r>
            <a:br>
              <a:rPr sz="4800"/>
            </a:br>
            <a:r>
              <a:rPr b="1" lang="en-US" sz="4800" spc="-1" strike="noStrike">
                <a:solidFill>
                  <a:srgbClr val="000000"/>
                </a:solidFill>
                <a:latin typeface="Gill Sans MT"/>
              </a:rPr>
              <a:t> AN E-MAIL TO FRIEND</a:t>
            </a:r>
            <a:br>
              <a:rPr sz="4800"/>
            </a:br>
            <a:br>
              <a:rPr sz="4800"/>
            </a:b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6"/>
          <p:cNvSpPr/>
          <p:nvPr/>
        </p:nvSpPr>
        <p:spPr>
          <a:xfrm>
            <a:off x="1042920" y="1700280"/>
            <a:ext cx="75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5451f"/>
                </a:solidFill>
                <a:latin typeface="Arial"/>
                <a:ea typeface="宋体"/>
              </a:rPr>
              <a:t> </a:t>
            </a:r>
            <a:endParaRPr b="0" lang="en-US" sz="2800" spc="-1" strike="noStrike">
              <a:solidFill>
                <a:srgbClr val="000000"/>
              </a:solidFill>
              <a:latin typeface="Gill Sans MT"/>
            </a:endParaRPr>
          </a:p>
        </p:txBody>
      </p:sp>
      <p:sp>
        <p:nvSpPr>
          <p:cNvPr id="503" name="PlaceHolder 1"/>
          <p:cNvSpPr>
            <a:spLocks noGrp="1"/>
          </p:cNvSpPr>
          <p:nvPr>
            <p:ph type="title"/>
          </p:nvPr>
        </p:nvSpPr>
        <p:spPr>
          <a:xfrm>
            <a:off x="1442520" y="804600"/>
            <a:ext cx="6572520" cy="67932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ea typeface="等线 Light"/>
              </a:rPr>
              <a:t>READ THE TASK CAREFULLY </a:t>
            </a:r>
            <a:endParaRPr b="0" lang="en-US" sz="3200" spc="-1" strike="noStrike">
              <a:solidFill>
                <a:srgbClr val="000000"/>
              </a:solidFill>
              <a:latin typeface="Gill Sans MT"/>
            </a:endParaRPr>
          </a:p>
        </p:txBody>
      </p:sp>
      <p:pic>
        <p:nvPicPr>
          <p:cNvPr id="504" name="Рисунок 1" descr=""/>
          <p:cNvPicPr/>
          <p:nvPr/>
        </p:nvPicPr>
        <p:blipFill>
          <a:blip r:embed="rId1"/>
          <a:stretch/>
        </p:blipFill>
        <p:spPr>
          <a:xfrm>
            <a:off x="611280" y="2349360"/>
            <a:ext cx="7956360" cy="20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HOW MANY WORDS?</a:t>
            </a:r>
            <a:endParaRPr b="0" lang="en-US" sz="3200" spc="-1" strike="noStrike">
              <a:solidFill>
                <a:srgbClr val="000000"/>
              </a:solidFill>
              <a:latin typeface="Gill Sans MT"/>
            </a:endParaRPr>
          </a:p>
        </p:txBody>
      </p:sp>
      <p:sp>
        <p:nvSpPr>
          <p:cNvPr id="506" name=""/>
          <p:cNvSpPr txBox="1"/>
          <p:nvPr/>
        </p:nvSpPr>
        <p:spPr>
          <a:xfrm>
            <a:off x="1442520" y="2016000"/>
            <a:ext cx="6572520" cy="3716640"/>
          </a:xfrm>
          <a:prstGeom prst="rect">
            <a:avLst/>
          </a:prstGeom>
          <a:noFill/>
          <a:ln w="0">
            <a:noFill/>
          </a:ln>
        </p:spPr>
        <p:txBody>
          <a:bodyPr anchor="t">
            <a:normAutofit/>
          </a:bodyPr>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c00000"/>
                </a:solidFill>
                <a:latin typeface="Gill Sans MT"/>
              </a:rPr>
              <a:t>100 -1</a:t>
            </a:r>
            <a:r>
              <a:rPr b="0" lang="ru-RU" sz="2800" spc="-1" strike="noStrike">
                <a:solidFill>
                  <a:srgbClr val="c00000"/>
                </a:solidFill>
                <a:latin typeface="Gill Sans MT"/>
              </a:rPr>
              <a:t>2</a:t>
            </a:r>
            <a:r>
              <a:rPr b="0" lang="en-US" sz="2800" spc="-1" strike="noStrike">
                <a:solidFill>
                  <a:srgbClr val="c00000"/>
                </a:solidFill>
                <a:latin typeface="Gill Sans MT"/>
              </a:rPr>
              <a:t>0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10% variation</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in – </a:t>
            </a:r>
            <a:r>
              <a:rPr b="0" lang="en-US" sz="2800" spc="-1" strike="noStrike">
                <a:solidFill>
                  <a:srgbClr val="c00000"/>
                </a:solidFill>
                <a:latin typeface="Gill Sans MT"/>
              </a:rPr>
              <a:t>90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ax – </a:t>
            </a:r>
            <a:r>
              <a:rPr b="0" lang="en-US" sz="2800" spc="-1" strike="noStrike">
                <a:solidFill>
                  <a:srgbClr val="c00000"/>
                </a:solidFill>
                <a:latin typeface="Gill Sans MT"/>
              </a:rPr>
              <a:t>1</a:t>
            </a:r>
            <a:r>
              <a:rPr b="0" lang="ru-RU" sz="2800" spc="-1" strike="noStrike">
                <a:solidFill>
                  <a:srgbClr val="c00000"/>
                </a:solidFill>
                <a:latin typeface="Gill Sans MT"/>
              </a:rPr>
              <a:t>32</a:t>
            </a:r>
            <a:r>
              <a:rPr b="0" lang="en-US" sz="2800" spc="-1" strike="noStrike">
                <a:solidFill>
                  <a:srgbClr val="c00000"/>
                </a:solidFill>
                <a:latin typeface="Gill Sans MT"/>
              </a:rPr>
              <a:t> words</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Less than 90 – 0</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Gill Sans MT"/>
              </a:rPr>
              <a:t>More than 1</a:t>
            </a:r>
            <a:r>
              <a:rPr b="0" lang="ru-RU" sz="2800" spc="-1" strike="noStrike">
                <a:solidFill>
                  <a:srgbClr val="000000"/>
                </a:solidFill>
                <a:latin typeface="Gill Sans MT"/>
              </a:rPr>
              <a:t>32</a:t>
            </a:r>
            <a:r>
              <a:rPr b="0" lang="en-US" sz="2800" spc="-1" strike="noStrike">
                <a:solidFill>
                  <a:srgbClr val="000000"/>
                </a:solidFill>
                <a:latin typeface="Gill Sans MT"/>
              </a:rPr>
              <a:t>  - 1</a:t>
            </a:r>
            <a:r>
              <a:rPr b="0" lang="ru-RU" sz="2800" spc="-1" strike="noStrike">
                <a:solidFill>
                  <a:srgbClr val="000000"/>
                </a:solidFill>
                <a:latin typeface="Gill Sans MT"/>
              </a:rPr>
              <a:t>2</a:t>
            </a:r>
            <a:r>
              <a:rPr b="0" lang="en-US" sz="2800" spc="-1" strike="noStrike">
                <a:solidFill>
                  <a:srgbClr val="000000"/>
                </a:solidFill>
                <a:latin typeface="Gill Sans MT"/>
              </a:rPr>
              <a:t>0 words </a:t>
            </a:r>
            <a:endParaRPr b="0" lang="en-US" sz="2800" spc="-1" strike="noStrike">
              <a:solidFill>
                <a:srgbClr val="000000"/>
              </a:solidFill>
              <a:latin typeface="Gill Sans MT"/>
            </a:endParaRPr>
          </a:p>
          <a:p>
            <a:pPr>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08" name=""/>
          <p:cNvSpPr txBox="1"/>
          <p:nvPr/>
        </p:nvSpPr>
        <p:spPr>
          <a:xfrm>
            <a:off x="1442520" y="1854360"/>
            <a:ext cx="6572520" cy="4022640"/>
          </a:xfrm>
          <a:prstGeom prst="rect">
            <a:avLst/>
          </a:prstGeom>
          <a:noFill/>
          <a:ln w="0">
            <a:noFill/>
          </a:ln>
        </p:spPr>
        <p:txBody>
          <a:bodyPr anchor="t">
            <a:normAutofit/>
          </a:bodyPr>
          <a:p>
            <a:pPr marL="228600" indent="-228600">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100" spc="-1" strike="noStrike">
                <a:solidFill>
                  <a:srgbClr val="c00000"/>
                </a:solidFill>
                <a:latin typeface="Gill Sans MT"/>
              </a:rPr>
              <a:t>Обращение</a:t>
            </a:r>
            <a:endParaRPr b="0" lang="en-US" sz="31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Gill Sans MT"/>
              </a:rPr>
              <a:t>Dear Mike</a:t>
            </a:r>
            <a:r>
              <a:rPr b="1" lang="en-US" sz="2600" spc="-1" strike="noStrike">
                <a:solidFill>
                  <a:srgbClr val="c00000"/>
                </a:solidFill>
                <a:latin typeface="Gill Sans MT"/>
              </a:rPr>
              <a:t>,</a:t>
            </a:r>
            <a:endParaRPr b="0" lang="en-US" sz="2600" spc="-1" strike="noStrike">
              <a:solidFill>
                <a:srgbClr val="000000"/>
              </a:solidFill>
              <a:latin typeface="Gill Sans MT"/>
            </a:endParaRPr>
          </a:p>
          <a:p>
            <a:pPr marL="228600" indent="-228600">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100" spc="-1" strike="noStrike">
                <a:solidFill>
                  <a:srgbClr val="c00000"/>
                </a:solidFill>
                <a:latin typeface="Gill Sans MT"/>
              </a:rPr>
              <a:t>Благодарность за полученное письмо, ссылка на предыдущий контакт</a:t>
            </a:r>
            <a:endParaRPr b="0" lang="en-US" sz="31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Gill Sans MT"/>
              </a:rPr>
              <a:t>Thanks  for your recent e-mail. I was  happy to get it</a:t>
            </a:r>
            <a:r>
              <a:rPr b="0" lang="ru-RU" sz="2600" spc="-1" strike="noStrike">
                <a:solidFill>
                  <a:srgbClr val="000000"/>
                </a:solidFill>
                <a:latin typeface="Gill Sans MT"/>
              </a:rPr>
              <a:t> </a:t>
            </a:r>
            <a:r>
              <a:rPr b="0" lang="en-US" sz="2600" spc="-1" strike="noStrike">
                <a:solidFill>
                  <a:srgbClr val="000000"/>
                </a:solidFill>
                <a:latin typeface="Gill Sans MT"/>
              </a:rPr>
              <a:t>again. </a:t>
            </a:r>
            <a:endParaRPr b="0" lang="en-US" sz="26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a:p>
            <a:pPr marL="228600" indent="-228600">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08">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5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10" name=""/>
          <p:cNvSpPr txBox="1"/>
          <p:nvPr/>
        </p:nvSpPr>
        <p:spPr>
          <a:xfrm>
            <a:off x="684000" y="1989000"/>
            <a:ext cx="8002440" cy="4137120"/>
          </a:xfrm>
          <a:prstGeom prst="rect">
            <a:avLst/>
          </a:prstGeom>
          <a:noFill/>
          <a:ln w="0">
            <a:noFill/>
          </a:ln>
        </p:spPr>
        <p:txBody>
          <a:bodyPr anchor="t">
            <a:normAutofit fontScale="96000"/>
          </a:bodyPr>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Основная часть письма (ответы на вопросы)</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0070c0"/>
                </a:solidFill>
                <a:latin typeface="Gill Sans MT"/>
              </a:rPr>
              <a:t>In your letter you asked me </a:t>
            </a:r>
            <a:r>
              <a:rPr b="0" lang="en-US" sz="2400" spc="-1" strike="noStrike">
                <a:solidFill>
                  <a:srgbClr val="000000"/>
                </a:solidFill>
                <a:latin typeface="Gill Sans MT"/>
              </a:rPr>
              <a:t>Moscow. It is an exceptional capital that differs from other European ones, </a:t>
            </a:r>
            <a:r>
              <a:rPr b="0" lang="en-US" sz="2400" spc="-1" strike="noStrike">
                <a:solidFill>
                  <a:srgbClr val="0070c0"/>
                </a:solidFill>
                <a:latin typeface="Gill Sans MT"/>
              </a:rPr>
              <a:t>as</a:t>
            </a:r>
            <a:r>
              <a:rPr b="0" lang="en-US" sz="2400" spc="-1" strike="noStrike">
                <a:solidFill>
                  <a:srgbClr val="000000"/>
                </a:solidFill>
                <a:latin typeface="Gill Sans MT"/>
              </a:rPr>
              <a:t> it combines history, modern technologies, science, art and religion in one place</a:t>
            </a:r>
            <a:r>
              <a:rPr b="0" i="1" lang="en-US" sz="2400" spc="-1" strike="noStrike">
                <a:solidFill>
                  <a:srgbClr val="000000"/>
                </a:solidFill>
                <a:latin typeface="Gill Sans MT"/>
              </a:rPr>
              <a:t>.  </a:t>
            </a:r>
            <a:r>
              <a:rPr b="0" i="1" lang="en-US" sz="2400" spc="-1" strike="noStrike">
                <a:solidFill>
                  <a:srgbClr val="0070c0"/>
                </a:solidFill>
                <a:latin typeface="Gill Sans MT"/>
              </a:rPr>
              <a:t>As for museums and galleries</a:t>
            </a:r>
            <a:r>
              <a:rPr b="0" i="1" lang="en-US" sz="2400" spc="-1" strike="noStrike">
                <a:solidFill>
                  <a:srgbClr val="000000"/>
                </a:solidFill>
                <a:latin typeface="Gill Sans MT"/>
              </a:rPr>
              <a:t>, </a:t>
            </a:r>
            <a:r>
              <a:rPr b="0" lang="en-US" sz="2400" spc="-1" strike="noStrike">
                <a:solidFill>
                  <a:srgbClr val="000000"/>
                </a:solidFill>
                <a:latin typeface="Gill Sans MT"/>
              </a:rPr>
              <a:t>I think the  Tretyakov  Art Gallery  and the Pushkin Museum of Fine Arts are  the most popular  </a:t>
            </a:r>
            <a:r>
              <a:rPr b="0" i="1" lang="en-US" sz="2400" spc="-1" strike="noStrike">
                <a:solidFill>
                  <a:srgbClr val="0070c0"/>
                </a:solidFill>
                <a:latin typeface="Gill Sans MT"/>
              </a:rPr>
              <a:t>because</a:t>
            </a:r>
            <a:r>
              <a:rPr b="0" i="1" lang="en-US" sz="2400" spc="-1" strike="noStrike">
                <a:solidFill>
                  <a:srgbClr val="000000"/>
                </a:solidFill>
                <a:latin typeface="Gill Sans MT"/>
              </a:rPr>
              <a:t> </a:t>
            </a:r>
            <a:r>
              <a:rPr b="0" lang="en-US" sz="2400" spc="-1" strike="noStrike">
                <a:solidFill>
                  <a:srgbClr val="000000"/>
                </a:solidFill>
                <a:latin typeface="Gill Sans MT"/>
              </a:rPr>
              <a:t>you can find worldwide masterpieces there. It’ll be my pleasure to show you around when you arr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0">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42520" y="259920"/>
            <a:ext cx="6572520" cy="64764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336600"/>
                </a:solidFill>
                <a:latin typeface="Gill Sans MT"/>
              </a:rPr>
              <a:t>LETTER LAYOUT</a:t>
            </a:r>
            <a:endParaRPr b="0" lang="en-US" sz="3200" spc="-1" strike="noStrike">
              <a:solidFill>
                <a:srgbClr val="000000"/>
              </a:solidFill>
              <a:latin typeface="Gill Sans MT"/>
            </a:endParaRPr>
          </a:p>
        </p:txBody>
      </p:sp>
      <p:sp>
        <p:nvSpPr>
          <p:cNvPr id="512" name=""/>
          <p:cNvSpPr txBox="1"/>
          <p:nvPr/>
        </p:nvSpPr>
        <p:spPr>
          <a:xfrm>
            <a:off x="826560" y="1844640"/>
            <a:ext cx="7417080" cy="3960720"/>
          </a:xfrm>
          <a:prstGeom prst="rect">
            <a:avLst/>
          </a:prstGeom>
          <a:noFill/>
          <a:ln w="0">
            <a:noFill/>
          </a:ln>
        </p:spPr>
        <p:txBody>
          <a:bodyPr anchor="t">
            <a:normAutofit fontScale="96000"/>
          </a:bodyPr>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Упоминание о дальнейших контактах</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orry, I have to finish my e-mail because I’ve got a lot of homework. Write back soon/</a:t>
            </a:r>
            <a:r>
              <a:rPr b="0" lang="ru-RU" sz="2000" spc="-1" strike="noStrike">
                <a:solidFill>
                  <a:srgbClr val="000000"/>
                </a:solidFill>
                <a:latin typeface="Gill Sans MT"/>
              </a:rPr>
              <a:t> </a:t>
            </a:r>
            <a:r>
              <a:rPr b="0" lang="en-US" sz="2000" spc="-1" strike="noStrike">
                <a:solidFill>
                  <a:srgbClr val="000000"/>
                </a:solidFill>
                <a:latin typeface="Gill Sans MT"/>
              </a:rPr>
              <a:t>Looking forward to your letter/Keep in touch.</a:t>
            </a:r>
            <a:endParaRPr b="0" lang="en-US" sz="20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Завершающая фраза </a:t>
            </a:r>
            <a:endParaRPr b="0" lang="en-US" sz="28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Love/ Best wishes</a:t>
            </a:r>
            <a:r>
              <a:rPr b="0" lang="en-US" sz="2000" spc="-1" strike="noStrike">
                <a:solidFill>
                  <a:srgbClr val="c00000"/>
                </a:solidFill>
                <a:latin typeface="Gill Sans MT"/>
              </a:rPr>
              <a:t>,</a:t>
            </a:r>
            <a:endParaRPr b="0" lang="en-US" sz="2000" spc="-1" strike="noStrike">
              <a:solidFill>
                <a:srgbClr val="000000"/>
              </a:solidFill>
              <a:latin typeface="Gill Sans MT"/>
            </a:endParaRPr>
          </a:p>
          <a:p>
            <a:pPr marL="219240" indent="-21924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c00000"/>
                </a:solidFill>
                <a:latin typeface="Gill Sans MT"/>
              </a:rPr>
              <a:t>Подпись (без  точки)</a:t>
            </a:r>
            <a:endParaRPr b="0" lang="en-US" sz="28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Leo</a:t>
            </a:r>
            <a:endParaRPr b="0" lang="en-US" sz="2000" spc="-1" strike="noStrike">
              <a:solidFill>
                <a:srgbClr val="000000"/>
              </a:solidFill>
              <a:latin typeface="Gill Sans MT"/>
            </a:endParaRPr>
          </a:p>
          <a:p>
            <a:pPr marL="219240" indent="-219240">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12">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2">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Прямоугольник 1"/>
          <p:cNvSpPr/>
          <p:nvPr/>
        </p:nvSpPr>
        <p:spPr>
          <a:xfrm>
            <a:off x="468360" y="-79200"/>
            <a:ext cx="80643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Dear Mike,</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anks  for your recent e-mail. I was  happy to get it. </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n your letter you asked me about Moscow. It is an exceptional capital that differs from other European ones, as it combines history, modern technologies, science, art and religion in one place.  As for museums and galleries, I think the  Tretyakov  Art Gallery  and the Pushkin Museum of Fine Arts are  the most popular  because you can find worldwide masterpieces there. It’ll be my pleasure to show you around when you arrive.</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orry, I have to finish my e-mail because I’ve got a lot of homework.  Write back soon.</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Best wishes,</a:t>
            </a:r>
            <a:endParaRPr b="0" lang="en-US" sz="18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Le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57120" y="2349360"/>
            <a:ext cx="8229600" cy="19368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Gill Sans MT"/>
                <a:ea typeface="等线 Light"/>
              </a:rPr>
              <a:t>THANKS FOR ATTEN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8:30:50Z</dcterms:created>
  <dc:creator>Admin</dc:creator>
  <dc:description>Copyright © Wondershare Software Co., Ltd. All Rights Reserved.</dc:description>
  <cp:keywords>Business Brochure PowerPoint Template</cp:keywords>
  <dc:language>en-US</dc:language>
  <cp:lastModifiedBy>Диана Карсакова</cp:lastModifiedBy>
  <dcterms:modified xsi:type="dcterms:W3CDTF">2024-02-11T14:01:42Z</dcterms:modified>
  <cp:revision>27</cp:revision>
  <dc:subject>Brochure PowerPoint Template</dc:subject>
  <dc:title>Wonder share Demo Creator</dc:title>
</cp:coreProperties>
</file>