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7BA-477B-4DAF-9AFF-313B18D8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BF3-1EB8-47F6-943F-EE553486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BBB-0588-419F-98B7-0908A087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DA6-2DB7-4EB0-AD93-D9FCD001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95D5-B4CE-4ABB-A579-923A7429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552-3B3E-4082-A003-BD81B8F8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C1C-287E-4181-92A3-2A37B40E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0EA-393C-47BD-BFAF-4DFC923C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DBC-2123-4AEB-AAA5-D0052342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967-F758-415F-8B3F-AAE3FB7B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1F7-10C6-4430-B6A2-7D70FB9A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EA8-15A1-4F6A-8498-0F641C2F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PT Astra Sans"/>
              </a:rPr>
              <a:t>Click to edit the title text format</a:t>
            </a:r>
            <a:endParaRPr b="0" lang="en-US" sz="600" spc="-1" strike="noStrike">
              <a:solidFill>
                <a:srgbClr val="000000"/>
              </a:solidFill>
              <a:latin typeface="PT Ast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  <a:defRPr b="0" i="1" lang="ru-RU" sz="1400" spc="-1" strike="noStrike">
                <a:solidFill>
                  <a:srgbClr val="000000"/>
                </a:solidFill>
                <a:latin typeface="PT Ast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PT Astra Sans"/>
              </a:rPr>
              <a:t>&lt;date/time&gt;</a:t>
            </a:r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  <a:defRPr b="0" i="1" lang="ru-RU" sz="1400" spc="-1" strike="noStrike">
                <a:solidFill>
                  <a:srgbClr val="000000"/>
                </a:solidFill>
                <a:latin typeface="PT Astra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PT Astra Sans"/>
              </a:rPr>
              <a:t>&lt;footer&gt;</a:t>
            </a:r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  <a:defRPr b="0" i="1" lang="ru-RU" sz="1400" spc="-1" strike="noStrike">
                <a:solidFill>
                  <a:srgbClr val="000000"/>
                </a:solidFill>
                <a:latin typeface="PT Ast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fld id="{C4851CF5-8F31-4D24-8B30-31836071C118}" type="slidenum">
              <a:rPr b="0" i="1" lang="ru-RU" sz="1400" spc="-1" strike="noStrike">
                <a:solidFill>
                  <a:srgbClr val="000000"/>
                </a:solidFill>
                <a:latin typeface="PT Astra Sans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896000" y="4246560"/>
          <a:ext cx="4593960" cy="107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6000" y="4246560"/>
                    <a:ext cx="45939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rcRect l="0" t="0" r="0" b="7953"/>
          <a:stretch/>
        </p:blipFill>
        <p:spPr>
          <a:xfrm>
            <a:off x="0" y="1012680"/>
            <a:ext cx="3456000" cy="465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63640" y="201600"/>
            <a:ext cx="892800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МУНИЦИПАЛЬНОЕ БЮДЖЕТНОЕ ОБЩЕОБРАЗОВАТЕЛЬНОЕ УЧРЕЖДЕНИЕ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«СРЕДНЯЯ ОБЩЕОБРАЗОВАТЕЛЬНАЯ ШКОЛА № 23»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МУНИЦИПАЛЬНОГО ОБРАЗОВАНИЯ ГОРОДСКОЙ ОКРУГ СИМФЕРОПОЛЬ РЕСПУБЛИКИ КРЫМ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3456000" y="1584360"/>
            <a:ext cx="65516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ПРОЕКТНАЯ РАБОТА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«ВКЛАД МНОГОНАЦИОНАЛЬНОЙ РОССИИ В МИРОВУЮ КУЛЬТУРУ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Изготовление новогодней игрушки. «Ёлочка»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4032360" y="4140360"/>
            <a:ext cx="58323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ыполнил: обучающийся 7«А3» класса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Гололобов Артём Дмитриевич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Руководитель проекта: Асанов Сервер Хайсерович,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учитель технологии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16000" y="144360"/>
            <a:ext cx="96472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писок литературы: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1. Бешенков А.К. Технология. Технический труд: Методическое пособие: 5-7 кл. -      М.: Аркти, 2000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2. Ботвинников А.Д., Виноградов В.Н., Вышнепольский И.С. Черчение. - М.: Астрель АСТ,2005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3. Карабанов И.А. Технология обработки древесины Учебник для 5-9 кл. - М.: Просвещение, 2004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4. Коваленко В.И., Кулененок В.В. Дидактический материал по трудовому обучению: Технология обработки древесины: 5-7 кл. - М.: Просвещение, 2001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5. Мирошниченко М.М., Лукинов С.П. Энциклопедия досуга, «Отечество», 1993г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6. Павлова А.А., Корзинова Е.И. Графика и черчение:7-9. Рабочие тетради № 1,2,3,4. - М.: Владос,2000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7. Справочник по трудовому обучению. «Просвещение», 1992 г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1640" y="239760"/>
            <a:ext cx="367200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1. Историческая справка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2. Подбор материала и инструментов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3. Вариативность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4. Технологическая карта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5. Техника безопасности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6. Ход работы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7.Экономический расчёт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9.Экологическая оценка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11 Фото изделия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12. Заключение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90160" y="215640"/>
            <a:ext cx="90694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4000"/>
          </a:bodyPr>
          <a:p>
            <a:pPr marL="1998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98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9800" indent="-19836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Россия многонациональная культурная страна поэтому больше изделий изготавливается в ручную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9800" indent="-19836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овый год – праздник  который отмечает вся наша страна.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9800" indent="-19836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Центром  праздника безусловно является ёлка, которая приносит в дом ощущение праздника и ожидание новогоднего чуда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98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ждый  человек  хочет  чтобы ёлка была уникальна, такой её можно сделать только самому.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98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Материал для игрушек я решил взять фанеру.  Этот материал долговечный, технологичный. 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9800" indent="-19836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 тому же мне подобный вид работы очень нравится,  хотелось применить свои умения и навыки на практике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980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Елочные игрушки будут разукрашены гуашью и фломастерами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7280" y="284040"/>
            <a:ext cx="95043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Цель проекта: 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Создание оригинальной новогодней ёлочки своими руками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431640" y="1738440"/>
            <a:ext cx="9360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Задачи проекта: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1. Продумать конструкцию и оформление новогоднего украшения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2. Проявить свои творческие способности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3. Изготовить новогоднее украшение согласно выбранной идеи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4. Изучить историю новогодней ёлки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5. Подарить игрушку младшей сестре, изготовленную своими руками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18880" y="169920"/>
            <a:ext cx="964548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63000"/>
          </a:bodyPr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сторическая справка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ряжать елку – это предпраздничный творческий процесс, в котором, как правило, участвуют практически все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члены семьи. И, как правило, у каждого члена семьи есть любимые елочные игрушки.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амое богатое воображение у самых маленьких, поэтому дети предпочитают украшать елку игрушками с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ображением сказочных героев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к же возникли эти красивые елочные украшения?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давна существовали канонические правила украшения "рождественского дерева".  Верхушку венчает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"Вифлеемская звезда".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Шары (прежде это были яблоки) олицетворяют тот запретный плод, который вкусили прародители Адам и Ева.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Таким образом, сперва елочные украшения были только съедобными: яйца и вафли качались на ветках рядом с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фруктами, сладостями и орехами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чиная с 17 века стали изготавливать более нарядные украшения: золотили еловые шишки, пустые яичные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корлупки покрывали тончайшим слоем  чеканной латуни. Тут были и бумажные цветы, и искусные поделки из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аты. Оловянные проволочки можно было сворачивать, закручивать спиралями, складывать или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расплющивать, получая серебряную мишуру. Серебряная фольга шла на изящные звездочки, бабочки и цветы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зже вновь вернулась тенденция наряжать елку просто: соломенными звездочками и фигурками из бумаги и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ртона. В начале такие фигурки вырезали дома, а  в  последствии появилось и промышленное производство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егодня елочная игрушка - это не только праздничное украшение елки, но и предмет гордости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оллекционеров, также появилась традиция преподносить необычные и дорогие елочные игрушки в качестве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920" indent="-13284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дарка на Новый год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87280" y="1295280"/>
            <a:ext cx="561672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212760" indent="0">
              <a:lnSpc>
                <a:spcPct val="93000"/>
              </a:lnSpc>
              <a:spcBef>
                <a:spcPts val="887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делие должно быть: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расивым и оригинальным;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чественно и аккуратно выполненным;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озникшие дефекты должны быть устранены в процессе работы;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760" indent="-21132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едорогим но качественно изготовленным. 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9640" y="144360"/>
            <a:ext cx="3910320" cy="41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624720" y="4681440"/>
            <a:ext cx="338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Подбор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инструментов и материалов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60360" y="677880"/>
            <a:ext cx="5759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ребования, предъявляемые к изделию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386" t="12697" r="3486" b="3807"/>
          <a:stretch/>
        </p:blipFill>
        <p:spPr>
          <a:xfrm>
            <a:off x="0" y="677880"/>
            <a:ext cx="3467160" cy="4146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248000" y="182520"/>
            <a:ext cx="1992600" cy="2575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76600" y="3024360"/>
            <a:ext cx="2184480" cy="2620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688000" y="3024360"/>
            <a:ext cx="2100240" cy="264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912080" y="3024360"/>
            <a:ext cx="2168640" cy="2646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3280" y="192240"/>
            <a:ext cx="3095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ехнологическая карта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6480000" y="415800"/>
            <a:ext cx="3384720" cy="25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Ход работы: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ыбор материала для заготовки.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Разметить по размерам и обрезать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Нанести рисунок на материал.           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ыпилить изделие по рисунку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10332" t="0" r="7000" b="0"/>
          <a:stretch/>
        </p:blipFill>
        <p:spPr>
          <a:xfrm>
            <a:off x="2519280" y="2978280"/>
            <a:ext cx="2808360" cy="2565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146400" y="0"/>
            <a:ext cx="2567160" cy="2735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904000" y="1511280"/>
            <a:ext cx="410364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Изделие изготовил из фанеры,  чтобы не нарушить экологию при изготовлении игрушки я не стал использовать токсичные вещества.                  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А обработал готовое изделие c помощью наждачной бумаги,  затем раскрасил фломастерами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6191280" y="431640"/>
            <a:ext cx="3557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Экологическая оценка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216000" y="410364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ариативность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560" y="-19080"/>
            <a:ext cx="4444920" cy="5689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80000" y="58680"/>
            <a:ext cx="525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о время работы над проектом я выпилил игрушку из фанеры, закрепив  основные приёмы работы ручным лобзиком, полученные на уроках технологии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Изделие изготовлено качественно.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ремя использовано достаточно рационально.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 целом я доволен своей работой, качеством проектирования, изготовления и внешним видом готового изделия.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ыбранная мной отделка не нарушает санитарно-гигиенических требований.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Себестоимость игрушки  получилась 210 рублей.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 магазине она стоит гораздо дороже.  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Цель моего проекта достигнута. 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Я получил огромное удовольствие от своей  работы.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5T07:31:57Z</dcterms:created>
  <dc:creator/>
  <dc:description/>
  <dc:language>en-US</dc:language>
  <cp:lastModifiedBy/>
  <dcterms:modified xsi:type="dcterms:W3CDTF">2022-11-15T10:50:16Z</dcterms:modified>
  <cp:revision>3</cp:revision>
  <dc:subject/>
  <dc:title/>
</cp:coreProperties>
</file>