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34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8.jpeg" ContentType="image/jpeg"/>
  <Override PartName="/ppt/media/image39.jpeg" ContentType="image/jpeg"/>
  <Override PartName="/ppt/media/image41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5.jpeg" ContentType="image/jpe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7DB-AEE8-4EF6-AF49-E226643C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748-132D-44A9-87F4-42DA415A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E25-E9EC-4858-8BE4-86288BE2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D30-B394-4EA2-A20C-60C10852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DAC5-55D7-4932-A005-29B57178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A3A8-999E-458C-AD45-49506944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D489-26B0-41C4-8A71-B4A7F6F4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1CE1-5AC8-4DAC-8240-FEE49DA1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5896-875F-4736-B61C-4805458B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9499-F33F-432B-932F-10199B29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F6A4-A483-4F26-B797-F70F7612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D2F7-28FB-4ADD-8B7B-3082F386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B373-7D5C-4E3E-AE87-F93F5018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80C3-E7B2-4DB0-A28A-0069B062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FCD5-7EA3-4EBD-BE36-6915D75B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7F37-6701-4342-B8FB-000758F2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A595-C32F-43A7-A493-B7100043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56E-9B24-4A2F-8EA1-BA88864A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AAF5-F499-4ED7-89FA-C8580E54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C02-06B9-4E7E-BFDA-A145F9F5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2802-685D-407A-8D27-5558FEE6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C526-FB10-4690-8F18-FA16144E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2928-8CC2-452B-A6C8-EE9EB64E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E7A-1B52-4B74-9EFA-AA4A32DF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A999-8C16-422A-B641-8C758717EB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B86E-33B5-4C4B-8C4D-0C651B375E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n.org/ru/development/globalization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71600" y="191880"/>
            <a:ext cx="1114272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мир в начале 1980-х гг. Предпосылки реформ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Скругленный прямоугольник 7"/>
          <p:cNvSpPr/>
          <p:nvPr/>
        </p:nvSpPr>
        <p:spPr>
          <a:xfrm>
            <a:off x="6894360" y="4908600"/>
            <a:ext cx="4822920" cy="1646280"/>
          </a:xfrm>
          <a:prstGeom prst="roundRect">
            <a:avLst>
              <a:gd name="adj" fmla="val 16667"/>
            </a:avLst>
          </a:prstGeom>
          <a:solidFill>
            <a:srgbClr val="f4b18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Ярковская СОШ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лыбаев Тимур Котлыбае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8" descr="Глобализация - это... | Глобальная политика | Дзен"/>
          <p:cNvPicPr/>
          <p:nvPr/>
        </p:nvPicPr>
        <p:blipFill>
          <a:blip r:embed="rId1"/>
          <a:stretch/>
        </p:blipFill>
        <p:spPr>
          <a:xfrm>
            <a:off x="7540560" y="2070000"/>
            <a:ext cx="3530520" cy="2705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Users\Магнат\Desktop\149095_600.png"/>
          <p:cNvPicPr/>
          <p:nvPr/>
        </p:nvPicPr>
        <p:blipFill>
          <a:blip r:embed="rId2"/>
          <a:stretch/>
        </p:blipFill>
        <p:spPr>
          <a:xfrm>
            <a:off x="317520" y="2178000"/>
            <a:ext cx="6269040" cy="3970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3"/>
          <p:cNvSpPr/>
          <p:nvPr/>
        </p:nvSpPr>
        <p:spPr>
          <a:xfrm>
            <a:off x="220680" y="819000"/>
            <a:ext cx="7764480" cy="57672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враль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8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 – умер Андропов Ю. 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utoShape 1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Скругленный прямоугольник 7"/>
          <p:cNvSpPr/>
          <p:nvPr/>
        </p:nvSpPr>
        <p:spPr>
          <a:xfrm>
            <a:off x="144360" y="109440"/>
            <a:ext cx="11873160" cy="58752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.В. Андропов и начало формирования идеологии перем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297000" y="1603440"/>
            <a:ext cx="7688160" cy="91404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ьным секретарем  КПСС стал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. У. Чернен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8237520" y="812880"/>
            <a:ext cx="3780000" cy="5583240"/>
          </a:xfrm>
          <a:custGeom>
            <a:avLst/>
            <a:gdLst>
              <a:gd name="textAreaLeft" fmla="*/ 184320 w 3780000"/>
              <a:gd name="textAreaRight" fmla="*/ 3595680 w 3780000"/>
              <a:gd name="textAreaTop" fmla="*/ 184320 h 5583240"/>
              <a:gd name="textAreaBottom" fmla="*/ 5398920 h 5583240"/>
            </a:gdLst>
            <a:ahLst/>
            <a:rect l="textAreaLeft" t="textAreaTop" r="textAreaRight" b="textAreaBottom"/>
            <a:pathLst>
              <a:path w="21600" h="31903">
                <a:moveTo>
                  <a:pt x="3600" y="0"/>
                </a:moveTo>
                <a:arcTo wR="3600" hR="3600" stAng="16200000" swAng="-5400000"/>
                <a:lnTo>
                  <a:pt x="0" y="28303"/>
                </a:lnTo>
                <a:arcTo wR="3600" hR="3600" stAng="10800000" swAng="-5400000"/>
                <a:lnTo>
                  <a:pt x="18000" y="319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родолжил курс предшественника на очищение и спасение системы, однако успеха не достиг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Черненко в руководстве партии окончательно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формировалось и усилил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ои позиции крыло, выступавшее за более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дикальное обновление общест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2" descr="C:\Users\Admin\Downloads\23куу.png"/>
          <p:cNvPicPr/>
          <p:nvPr/>
        </p:nvPicPr>
        <p:blipFill>
          <a:blip r:embed="rId1"/>
          <a:stretch/>
        </p:blipFill>
        <p:spPr>
          <a:xfrm>
            <a:off x="297000" y="2195640"/>
            <a:ext cx="7780320" cy="373536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6"/>
          <p:cNvSpPr/>
          <p:nvPr/>
        </p:nvSpPr>
        <p:spPr>
          <a:xfrm>
            <a:off x="297000" y="6027840"/>
            <a:ext cx="7688160" cy="576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 марта 198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 – умер Черненко К.У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Скругленный прямоугольник 6"/>
          <p:cNvSpPr/>
          <p:nvPr/>
        </p:nvSpPr>
        <p:spPr>
          <a:xfrm>
            <a:off x="297000" y="109440"/>
            <a:ext cx="11537640" cy="14256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С. Горбачев и его окружение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на рефор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1" descr="C:\Users\Admin\Downloads\23цуыв.png"/>
          <p:cNvPicPr/>
          <p:nvPr/>
        </p:nvPicPr>
        <p:blipFill>
          <a:blip r:embed="rId1"/>
          <a:stretch/>
        </p:blipFill>
        <p:spPr>
          <a:xfrm>
            <a:off x="297000" y="1630440"/>
            <a:ext cx="7369200" cy="50562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7763040" y="1913040"/>
            <a:ext cx="4071600" cy="57672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ой – 47 л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5"/>
          <p:cNvSpPr/>
          <p:nvPr/>
        </p:nvSpPr>
        <p:spPr>
          <a:xfrm>
            <a:off x="7788240" y="2754360"/>
            <a:ext cx="4071960" cy="57672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л «без бумажк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6"/>
          <p:cNvSpPr/>
          <p:nvPr/>
        </p:nvSpPr>
        <p:spPr>
          <a:xfrm>
            <a:off x="7763040" y="3637080"/>
            <a:ext cx="4071600" cy="28069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хо ориентировался в проблемах промышленности, армии, ВПК, во внешней политике. Никогда не работал на производстве, не руководил стройкой, не был директором завода, а также не было опыта министерской работы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6"/>
          <p:cNvSpPr/>
          <p:nvPr/>
        </p:nvSpPr>
        <p:spPr>
          <a:xfrm>
            <a:off x="297000" y="109440"/>
            <a:ext cx="11537640" cy="14256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С. Горбачев и его окружение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на рефор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AutoShape 1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14"/>
          <p:cNvSpPr/>
          <p:nvPr/>
        </p:nvSpPr>
        <p:spPr>
          <a:xfrm>
            <a:off x="449280" y="1846440"/>
            <a:ext cx="3384360" cy="57672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е ССС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5"/>
          <p:cNvSpPr/>
          <p:nvPr/>
        </p:nvSpPr>
        <p:spPr>
          <a:xfrm>
            <a:off x="4681440" y="1846440"/>
            <a:ext cx="7337520" cy="57672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яла доверие к советским ценност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6"/>
          <p:cNvSpPr/>
          <p:nvPr/>
        </p:nvSpPr>
        <p:spPr>
          <a:xfrm>
            <a:off x="449280" y="2652840"/>
            <a:ext cx="3384360" cy="576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сид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Стрелка вверх 7"/>
          <p:cNvSpPr/>
          <p:nvPr/>
        </p:nvSpPr>
        <p:spPr>
          <a:xfrm flipV="1" rot="16200000">
            <a:off x="4104360" y="1965240"/>
            <a:ext cx="37764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4681440" y="2652840"/>
            <a:ext cx="7301160" cy="57672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ый идейный криз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Стрелка вверх 9"/>
          <p:cNvSpPr/>
          <p:nvPr/>
        </p:nvSpPr>
        <p:spPr>
          <a:xfrm flipV="1" rot="16200000">
            <a:off x="4104360" y="2763000"/>
            <a:ext cx="37800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Перестройка в СССР | ИСТОРИЯ РОССИИ вики | Fandom"/>
          <p:cNvPicPr/>
          <p:nvPr/>
        </p:nvPicPr>
        <p:blipFill>
          <a:blip r:embed="rId1"/>
          <a:stretch/>
        </p:blipFill>
        <p:spPr>
          <a:xfrm>
            <a:off x="549360" y="3424320"/>
            <a:ext cx="2612880" cy="33256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1"/>
          <p:cNvSpPr/>
          <p:nvPr/>
        </p:nvSpPr>
        <p:spPr>
          <a:xfrm>
            <a:off x="3489480" y="3446640"/>
            <a:ext cx="4178160" cy="57672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рефор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Стрелка вверх 12"/>
          <p:cNvSpPr/>
          <p:nvPr/>
        </p:nvSpPr>
        <p:spPr>
          <a:xfrm flipV="1" rot="16200000">
            <a:off x="7983360" y="3557520"/>
            <a:ext cx="378000" cy="355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8596440" y="3440160"/>
            <a:ext cx="330840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х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4" descr="Язык перестройки. Краткий толковый словарь. Часть 2: denis_strebkov —  LiveJournal"/>
          <p:cNvPicPr/>
          <p:nvPr/>
        </p:nvPicPr>
        <p:blipFill>
          <a:blip r:embed="rId2"/>
          <a:stretch/>
        </p:blipFill>
        <p:spPr>
          <a:xfrm>
            <a:off x="3708360" y="4070520"/>
            <a:ext cx="2549520" cy="2766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Л. Бельский, В. Потапов - Перестройка - продолжение дела Октября!  Перестройка. Демократизация. Ускорение. Гласность, 1988: Описание  произведения | Артхив"/>
          <p:cNvPicPr/>
          <p:nvPr/>
        </p:nvPicPr>
        <p:blipFill>
          <a:blip r:embed="rId3"/>
          <a:stretch/>
        </p:blipFill>
        <p:spPr>
          <a:xfrm>
            <a:off x="6653160" y="4164120"/>
            <a:ext cx="4889520" cy="2395440"/>
          </a:xfrm>
          <a:prstGeom prst="rect">
            <a:avLst/>
          </a:prstGeom>
          <a:ln w="0">
            <a:noFill/>
          </a:ln>
        </p:spPr>
      </p:pic>
      <p:sp>
        <p:nvSpPr>
          <p:cNvPr id="270" name="TextBox 17"/>
          <p:cNvSpPr/>
          <p:nvPr/>
        </p:nvSpPr>
        <p:spPr>
          <a:xfrm>
            <a:off x="6653160" y="6215040"/>
            <a:ext cx="488952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го план действий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Скругленный прямоугольник 6"/>
          <p:cNvSpPr/>
          <p:nvPr/>
        </p:nvSpPr>
        <p:spPr>
          <a:xfrm>
            <a:off x="297000" y="109440"/>
            <a:ext cx="11537640" cy="9810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С. Горбачев и его окружение: курс на рефор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AutoShape 1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4"/>
          <p:cNvSpPr/>
          <p:nvPr/>
        </p:nvSpPr>
        <p:spPr>
          <a:xfrm>
            <a:off x="4275000" y="1522440"/>
            <a:ext cx="3384720" cy="57672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сорат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8"/>
          <p:cNvSpPr/>
          <p:nvPr/>
        </p:nvSpPr>
        <p:spPr>
          <a:xfrm>
            <a:off x="441360" y="2514600"/>
            <a:ext cx="2500200" cy="576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9"/>
          <p:cNvSpPr/>
          <p:nvPr/>
        </p:nvSpPr>
        <p:spPr>
          <a:xfrm>
            <a:off x="3117960" y="2514600"/>
            <a:ext cx="2536560" cy="1049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д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20"/>
          <p:cNvSpPr/>
          <p:nvPr/>
        </p:nvSpPr>
        <p:spPr>
          <a:xfrm>
            <a:off x="5780160" y="2514600"/>
            <a:ext cx="3038400" cy="1049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де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21"/>
          <p:cNvSpPr/>
          <p:nvPr/>
        </p:nvSpPr>
        <p:spPr>
          <a:xfrm>
            <a:off x="8935920" y="2509920"/>
            <a:ext cx="3165480" cy="1049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р иностранных д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Николай Рыжков - биография, новости, личная жизнь, фото, видео -  stuki-druki.com"/>
          <p:cNvPicPr/>
          <p:nvPr/>
        </p:nvPicPr>
        <p:blipFill>
          <a:blip r:embed="rId1"/>
          <a:stretch/>
        </p:blipFill>
        <p:spPr>
          <a:xfrm>
            <a:off x="449280" y="3186000"/>
            <a:ext cx="2386080" cy="316548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4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6" descr="Лигачев Егор Кузьмич"/>
          <p:cNvPicPr/>
          <p:nvPr/>
        </p:nvPicPr>
        <p:blipFill>
          <a:blip r:embed="rId2"/>
          <a:stretch/>
        </p:blipFill>
        <p:spPr>
          <a:xfrm>
            <a:off x="3298680" y="3648240"/>
            <a:ext cx="2175120" cy="2703240"/>
          </a:xfrm>
          <a:prstGeom prst="rect">
            <a:avLst/>
          </a:prstGeom>
          <a:ln w="0">
            <a:noFill/>
          </a:ln>
        </p:spPr>
      </p:pic>
      <p:sp>
        <p:nvSpPr>
          <p:cNvPr id="281" name="TextBox 23"/>
          <p:cNvSpPr/>
          <p:nvPr/>
        </p:nvSpPr>
        <p:spPr>
          <a:xfrm>
            <a:off x="441360" y="5959440"/>
            <a:ext cx="2492280" cy="77940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колай Иванович Рыж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24"/>
          <p:cNvSpPr/>
          <p:nvPr/>
        </p:nvSpPr>
        <p:spPr>
          <a:xfrm>
            <a:off x="3117960" y="5959440"/>
            <a:ext cx="2492280" cy="77940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ор Кузьмич Лигач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8" descr="Александр Николаевич Яковлев | Государственное управление в России в  портретах"/>
          <p:cNvPicPr/>
          <p:nvPr/>
        </p:nvPicPr>
        <p:blipFill>
          <a:blip r:embed="rId3"/>
          <a:stretch/>
        </p:blipFill>
        <p:spPr>
          <a:xfrm>
            <a:off x="6275520" y="3648240"/>
            <a:ext cx="2047680" cy="2508120"/>
          </a:xfrm>
          <a:prstGeom prst="rect">
            <a:avLst/>
          </a:prstGeom>
          <a:ln w="0">
            <a:noFill/>
          </a:ln>
        </p:spPr>
      </p:pic>
      <p:sp>
        <p:nvSpPr>
          <p:cNvPr id="284" name="TextBox 26"/>
          <p:cNvSpPr/>
          <p:nvPr/>
        </p:nvSpPr>
        <p:spPr>
          <a:xfrm>
            <a:off x="5780160" y="5962680"/>
            <a:ext cx="2884320" cy="77940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андр Николаевич Яковл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10" descr="Герой Социалистического Труда Шеварднадзе Эдуард Амвросиевич :: Герои страны"/>
          <p:cNvPicPr/>
          <p:nvPr/>
        </p:nvPicPr>
        <p:blipFill>
          <a:blip r:embed="rId4"/>
          <a:stretch/>
        </p:blipFill>
        <p:spPr>
          <a:xfrm>
            <a:off x="9495000" y="3648240"/>
            <a:ext cx="2047680" cy="2857320"/>
          </a:xfrm>
          <a:prstGeom prst="rect">
            <a:avLst/>
          </a:prstGeom>
          <a:ln w="0">
            <a:noFill/>
          </a:ln>
        </p:spPr>
      </p:pic>
      <p:sp>
        <p:nvSpPr>
          <p:cNvPr id="286" name="TextBox 28"/>
          <p:cNvSpPr/>
          <p:nvPr/>
        </p:nvSpPr>
        <p:spPr>
          <a:xfrm>
            <a:off x="9077400" y="5959440"/>
            <a:ext cx="2882880" cy="77940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дуард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vi-VN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мвросиевич Шеварднад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18" descr="C:\Users\Admin\Downloads\549d494acad6a7a032df6dfe8260193807b17e03_1024.jpg"/>
          <p:cNvPicPr/>
          <p:nvPr/>
        </p:nvPicPr>
        <p:blipFill>
          <a:blip r:embed="rId5"/>
          <a:stretch/>
        </p:blipFill>
        <p:spPr>
          <a:xfrm>
            <a:off x="917640" y="1201680"/>
            <a:ext cx="2639880" cy="1182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9" descr="C:\Users\Admin\Downloads\unnamed.jpg"/>
          <p:cNvPicPr/>
          <p:nvPr/>
        </p:nvPicPr>
        <p:blipFill>
          <a:blip r:embed="rId6"/>
          <a:stretch/>
        </p:blipFill>
        <p:spPr>
          <a:xfrm>
            <a:off x="8559720" y="1201680"/>
            <a:ext cx="2522520" cy="1209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2520" y="3153960"/>
            <a:ext cx="11266560" cy="31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ее задание</a:t>
            </a:r>
            <a:br>
              <a:rPr sz="54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читать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 208-209 «Вопросы и задания»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ыбор (не менее 3)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90" name="Picture 5" descr="C:\Users\Admin\Downloads\23вак.png"/>
          <p:cNvPicPr/>
          <p:nvPr/>
        </p:nvPicPr>
        <p:blipFill>
          <a:blip r:embed="rId1"/>
          <a:stretch/>
        </p:blipFill>
        <p:spPr>
          <a:xfrm>
            <a:off x="452520" y="111240"/>
            <a:ext cx="11588760" cy="3043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Скругленный прямоугольник 11"/>
          <p:cNvSpPr/>
          <p:nvPr/>
        </p:nvSpPr>
        <p:spPr>
          <a:xfrm>
            <a:off x="144360" y="109440"/>
            <a:ext cx="11873160" cy="67968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 в начале 1980-х г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18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990720" y="3684600"/>
            <a:ext cx="2390760" cy="5094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ализ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5799240" y="2050920"/>
            <a:ext cx="4905360" cy="50940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стройка эконом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28"/>
          <p:cNvSpPr/>
          <p:nvPr/>
        </p:nvSpPr>
        <p:spPr>
          <a:xfrm>
            <a:off x="4160880" y="932040"/>
            <a:ext cx="7702560" cy="509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ы Европы, Северной Америки, Япо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43"/>
          <p:cNvSpPr/>
          <p:nvPr/>
        </p:nvSpPr>
        <p:spPr>
          <a:xfrm>
            <a:off x="144360" y="4398840"/>
            <a:ext cx="4083120" cy="21315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ение финансовых, торговых, промышленных межгосударственных взаимосвязей, формирование глобального информационного простран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35"/>
          <p:cNvSpPr/>
          <p:nvPr/>
        </p:nvSpPr>
        <p:spPr>
          <a:xfrm>
            <a:off x="4414680" y="4282920"/>
            <a:ext cx="2332080" cy="44136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48"/>
          <p:cNvSpPr/>
          <p:nvPr/>
        </p:nvSpPr>
        <p:spPr>
          <a:xfrm>
            <a:off x="4414680" y="4861080"/>
            <a:ext cx="5002200" cy="179352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1"/>
              </a:rPr>
              <a:t>Глобализ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мир в результате обмена товарами и продуктами, информацией, знаниями и культурными ценностями становится более взаимосвязан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60156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5" descr="Эпоха религии научно-технического прогресса"/>
          <p:cNvPicPr/>
          <p:nvPr/>
        </p:nvPicPr>
        <p:blipFill>
          <a:blip r:embed="rId2"/>
          <a:stretch/>
        </p:blipFill>
        <p:spPr>
          <a:xfrm>
            <a:off x="236520" y="878040"/>
            <a:ext cx="3697200" cy="24634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3"/>
          <p:cNvSpPr/>
          <p:nvPr/>
        </p:nvSpPr>
        <p:spPr>
          <a:xfrm>
            <a:off x="236520" y="2575080"/>
            <a:ext cx="3697200" cy="91476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учно-технический прогре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Стрелка вверх 24"/>
          <p:cNvSpPr/>
          <p:nvPr/>
        </p:nvSpPr>
        <p:spPr>
          <a:xfrm flipV="1">
            <a:off x="7818480" y="1506600"/>
            <a:ext cx="612720" cy="4428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7" descr="Золотая эра компьютеров: Почему мы любим 1980-е — Look At Me"/>
          <p:cNvPicPr/>
          <p:nvPr/>
        </p:nvPicPr>
        <p:blipFill>
          <a:blip r:embed="rId3"/>
          <a:stretch/>
        </p:blipFill>
        <p:spPr>
          <a:xfrm>
            <a:off x="3992400" y="2600280"/>
            <a:ext cx="3176640" cy="1652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9" descr="А вы знаете, что такое интернет? / iTCrumbs.ru"/>
          <p:cNvPicPr/>
          <p:nvPr/>
        </p:nvPicPr>
        <p:blipFill>
          <a:blip r:embed="rId4"/>
          <a:stretch/>
        </p:blipFill>
        <p:spPr>
          <a:xfrm>
            <a:off x="7137360" y="2647800"/>
            <a:ext cx="2228760" cy="16718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9"/>
          <p:cNvSpPr/>
          <p:nvPr/>
        </p:nvSpPr>
        <p:spPr>
          <a:xfrm>
            <a:off x="7086600" y="4272120"/>
            <a:ext cx="2330280" cy="44136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альные се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0" descr="C:\Users\Admin\Downloads\18396962.jpg"/>
          <p:cNvPicPr/>
          <p:nvPr/>
        </p:nvPicPr>
        <p:blipFill>
          <a:blip r:embed="rId5"/>
          <a:stretch/>
        </p:blipFill>
        <p:spPr>
          <a:xfrm>
            <a:off x="9705960" y="2660760"/>
            <a:ext cx="2178000" cy="1782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1"/>
          <p:cNvSpPr/>
          <p:nvPr/>
        </p:nvSpPr>
        <p:spPr>
          <a:xfrm>
            <a:off x="9685440" y="4272120"/>
            <a:ext cx="2332080" cy="44136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о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3"/>
          <p:cNvSpPr/>
          <p:nvPr/>
        </p:nvSpPr>
        <p:spPr>
          <a:xfrm>
            <a:off x="9572760" y="5200560"/>
            <a:ext cx="2444760" cy="11174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равномерность мирового развит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1"/>
          <p:cNvSpPr/>
          <p:nvPr/>
        </p:nvSpPr>
        <p:spPr>
          <a:xfrm>
            <a:off x="3132000" y="4782960"/>
            <a:ext cx="2890800" cy="5094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абить ССС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9093240" y="3622680"/>
            <a:ext cx="2924280" cy="213012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по дестабилизации в странах Восточной Евро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20"/>
          <p:cNvSpPr/>
          <p:nvPr/>
        </p:nvSpPr>
        <p:spPr>
          <a:xfrm>
            <a:off x="222120" y="3503520"/>
            <a:ext cx="5761080" cy="509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я гонка вооруж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1"/>
          <p:cNvSpPr/>
          <p:nvPr/>
        </p:nvSpPr>
        <p:spPr>
          <a:xfrm>
            <a:off x="222120" y="1093680"/>
            <a:ext cx="5172120" cy="9147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0-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ы экономическое объединение Западной Европы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23"/>
          <p:cNvSpPr/>
          <p:nvPr/>
        </p:nvSpPr>
        <p:spPr>
          <a:xfrm>
            <a:off x="222120" y="6060960"/>
            <a:ext cx="5761080" cy="50940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исламистов в Афганист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Стрелка вверх 26"/>
          <p:cNvSpPr/>
          <p:nvPr/>
        </p:nvSpPr>
        <p:spPr>
          <a:xfrm flipV="1" rot="16200000">
            <a:off x="5693400" y="1478160"/>
            <a:ext cx="949320" cy="1118880"/>
          </a:xfrm>
          <a:prstGeom prst="upArrow">
            <a:avLst>
              <a:gd name="adj1" fmla="val 50000"/>
              <a:gd name="adj2" fmla="val 49987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Скругленный прямоугольник 22"/>
          <p:cNvSpPr/>
          <p:nvPr/>
        </p:nvSpPr>
        <p:spPr>
          <a:xfrm>
            <a:off x="144360" y="109440"/>
            <a:ext cx="11873160" cy="67968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 в начале 1980-х г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32"/>
          <p:cNvSpPr/>
          <p:nvPr/>
        </p:nvSpPr>
        <p:spPr>
          <a:xfrm>
            <a:off x="222120" y="2273400"/>
            <a:ext cx="5172120" cy="9147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90-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ы политическая интег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2" descr="Флаг США — Википедия"/>
          <p:cNvPicPr/>
          <p:nvPr/>
        </p:nvPicPr>
        <p:blipFill>
          <a:blip r:embed="rId1"/>
          <a:stretch/>
        </p:blipFill>
        <p:spPr>
          <a:xfrm>
            <a:off x="7257960" y="917640"/>
            <a:ext cx="4159440" cy="21906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3"/>
          <p:cNvSpPr/>
          <p:nvPr/>
        </p:nvSpPr>
        <p:spPr>
          <a:xfrm>
            <a:off x="6945480" y="2273400"/>
            <a:ext cx="5072040" cy="9147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енствующая рол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Ш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идер коллективного Зап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Стрелка вверх 34"/>
          <p:cNvSpPr/>
          <p:nvPr/>
        </p:nvSpPr>
        <p:spPr>
          <a:xfrm flipV="1">
            <a:off x="4272120" y="4150440"/>
            <a:ext cx="612720" cy="4431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4" descr="Рейган, Рональд — Википедия"/>
          <p:cNvPicPr/>
          <p:nvPr/>
        </p:nvPicPr>
        <p:blipFill>
          <a:blip r:embed="rId2"/>
          <a:stretch/>
        </p:blipFill>
        <p:spPr>
          <a:xfrm>
            <a:off x="6527880" y="3602160"/>
            <a:ext cx="2422440" cy="30272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5"/>
          <p:cNvSpPr/>
          <p:nvPr/>
        </p:nvSpPr>
        <p:spPr>
          <a:xfrm>
            <a:off x="9151920" y="6081840"/>
            <a:ext cx="280656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Рейг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Стрелка вверх 36"/>
          <p:cNvSpPr/>
          <p:nvPr/>
        </p:nvSpPr>
        <p:spPr>
          <a:xfrm flipV="1">
            <a:off x="4272120" y="5433120"/>
            <a:ext cx="612720" cy="4431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6" descr="Страх из прошлого. Как в 1983 году США и СССР оказались в шаге от ядерной  войн - ФОКУС"/>
          <p:cNvPicPr/>
          <p:nvPr/>
        </p:nvPicPr>
        <p:blipFill>
          <a:blip r:embed="rId3"/>
          <a:stretch/>
        </p:blipFill>
        <p:spPr>
          <a:xfrm>
            <a:off x="281160" y="4245120"/>
            <a:ext cx="2671560" cy="1631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144360" y="914400"/>
            <a:ext cx="3479760" cy="50940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чалу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1980-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7"/>
          <p:cNvSpPr/>
          <p:nvPr/>
        </p:nvSpPr>
        <p:spPr>
          <a:xfrm>
            <a:off x="6122880" y="907920"/>
            <a:ext cx="3097440" cy="509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ци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29"/>
          <p:cNvSpPr/>
          <p:nvPr/>
        </p:nvSpPr>
        <p:spPr>
          <a:xfrm>
            <a:off x="449280" y="5756400"/>
            <a:ext cx="2529000" cy="9147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тавание эконом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кругленный прямоугольник 23"/>
          <p:cNvSpPr/>
          <p:nvPr/>
        </p:nvSpPr>
        <p:spPr>
          <a:xfrm>
            <a:off x="144360" y="109440"/>
            <a:ext cx="11873160" cy="67968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астание кризисных явлений в ССС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2" descr="История освоения космоса | Библиотеки Архангельска"/>
          <p:cNvPicPr/>
          <p:nvPr/>
        </p:nvPicPr>
        <p:blipFill>
          <a:blip r:embed="rId1"/>
          <a:stretch/>
        </p:blipFill>
        <p:spPr>
          <a:xfrm>
            <a:off x="487440" y="1506600"/>
            <a:ext cx="2398680" cy="18604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8"/>
          <p:cNvSpPr/>
          <p:nvPr/>
        </p:nvSpPr>
        <p:spPr>
          <a:xfrm>
            <a:off x="493560" y="3122640"/>
            <a:ext cx="2392560" cy="44136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космо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4" descr="Чем ядерный взрыв отличается от термоядерного? | Наука | Общество |  Аргументы и Факты"/>
          <p:cNvPicPr/>
          <p:nvPr/>
        </p:nvPicPr>
        <p:blipFill>
          <a:blip r:embed="rId2"/>
          <a:stretch/>
        </p:blipFill>
        <p:spPr>
          <a:xfrm>
            <a:off x="496800" y="3687840"/>
            <a:ext cx="2389320" cy="15876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0"/>
          <p:cNvSpPr/>
          <p:nvPr/>
        </p:nvSpPr>
        <p:spPr>
          <a:xfrm>
            <a:off x="493560" y="4802040"/>
            <a:ext cx="2425680" cy="7794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ядерное оруж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1"/>
          <p:cNvSpPr/>
          <p:nvPr/>
        </p:nvSpPr>
        <p:spPr>
          <a:xfrm>
            <a:off x="3149640" y="1636560"/>
            <a:ext cx="8867880" cy="1049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тить СССР к передовым технологиям и высокотехнологическим продукц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2" descr="Флаг США — Википедия"/>
          <p:cNvPicPr/>
          <p:nvPr/>
        </p:nvPicPr>
        <p:blipFill>
          <a:blip r:embed="rId3"/>
          <a:stretch/>
        </p:blipFill>
        <p:spPr>
          <a:xfrm>
            <a:off x="9882360" y="860400"/>
            <a:ext cx="1225440" cy="64620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26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8" descr="СССР советский флаг купить от производителя в Екатеринбургe | Фабрика  рекламы ОЛИМП"/>
          <p:cNvPicPr/>
          <p:nvPr/>
        </p:nvPicPr>
        <p:blipFill>
          <a:blip r:embed="rId4"/>
          <a:stretch/>
        </p:blipFill>
        <p:spPr>
          <a:xfrm>
            <a:off x="4254480" y="860400"/>
            <a:ext cx="1214280" cy="6634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33"/>
          <p:cNvSpPr/>
          <p:nvPr/>
        </p:nvSpPr>
        <p:spPr>
          <a:xfrm>
            <a:off x="3143160" y="3241800"/>
            <a:ext cx="8867880" cy="44136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т на поставку электронного и нефтегазового оборуд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Стрелка вверх 34"/>
          <p:cNvSpPr/>
          <p:nvPr/>
        </p:nvSpPr>
        <p:spPr>
          <a:xfrm flipV="1">
            <a:off x="7350120" y="2791800"/>
            <a:ext cx="468360" cy="330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30" descr="МГП Уренгой - Помары - Ужгород в огне. Поджог или техническая неисправность?"/>
          <p:cNvPicPr/>
          <p:nvPr/>
        </p:nvPicPr>
        <p:blipFill>
          <a:blip r:embed="rId5"/>
          <a:stretch/>
        </p:blipFill>
        <p:spPr>
          <a:xfrm>
            <a:off x="3186000" y="3811680"/>
            <a:ext cx="4343400" cy="26334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5"/>
          <p:cNvSpPr/>
          <p:nvPr/>
        </p:nvSpPr>
        <p:spPr>
          <a:xfrm>
            <a:off x="3360600" y="6053040"/>
            <a:ext cx="3994200" cy="509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нгой-Помары-Ужгор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32" descr="Как лопнули попытки США сорвать строительство газопровода Уренгой - Помары  - Ужгород"/>
          <p:cNvPicPr/>
          <p:nvPr/>
        </p:nvPicPr>
        <p:blipFill>
          <a:blip r:embed="rId6"/>
          <a:stretch/>
        </p:blipFill>
        <p:spPr>
          <a:xfrm>
            <a:off x="7701120" y="3811680"/>
            <a:ext cx="4086000" cy="25797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36"/>
          <p:cNvSpPr/>
          <p:nvPr/>
        </p:nvSpPr>
        <p:spPr>
          <a:xfrm>
            <a:off x="7577280" y="6215040"/>
            <a:ext cx="118080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84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37"/>
          <p:cNvSpPr/>
          <p:nvPr/>
        </p:nvSpPr>
        <p:spPr>
          <a:xfrm>
            <a:off x="8934480" y="6086520"/>
            <a:ext cx="2919240" cy="44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ские материа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48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Скругленный прямоугольник 23"/>
          <p:cNvSpPr/>
          <p:nvPr/>
        </p:nvSpPr>
        <p:spPr>
          <a:xfrm>
            <a:off x="144360" y="109440"/>
            <a:ext cx="11873160" cy="67968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астание кризисных явлений в ССС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5" descr="Программа СОИ — геополитический «блеф» президента Рейгана | Warspot.ru"/>
          <p:cNvPicPr/>
          <p:nvPr/>
        </p:nvPicPr>
        <p:blipFill>
          <a:blip r:embed="rId1"/>
          <a:stretch/>
        </p:blipFill>
        <p:spPr>
          <a:xfrm>
            <a:off x="144360" y="977760"/>
            <a:ext cx="7707240" cy="57070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5"/>
          <p:cNvSpPr/>
          <p:nvPr/>
        </p:nvSpPr>
        <p:spPr>
          <a:xfrm>
            <a:off x="7927920" y="977760"/>
            <a:ext cx="4089600" cy="246888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82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ная директива – расширение списка экспортных ограничений и сокращение масштабов экономического сотрудниче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27"/>
          <p:cNvSpPr/>
          <p:nvPr/>
        </p:nvSpPr>
        <p:spPr>
          <a:xfrm>
            <a:off x="1989000" y="6067440"/>
            <a:ext cx="339732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вездные войн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7" descr="Звёздные войны&quot; или СОИвая афера. Как США удалось обмануть весь мир?"/>
          <p:cNvPicPr/>
          <p:nvPr/>
        </p:nvPicPr>
        <p:blipFill>
          <a:blip r:embed="rId2"/>
          <a:stretch/>
        </p:blipFill>
        <p:spPr>
          <a:xfrm>
            <a:off x="8020080" y="3540240"/>
            <a:ext cx="3917880" cy="24318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29"/>
          <p:cNvSpPr/>
          <p:nvPr/>
        </p:nvSpPr>
        <p:spPr>
          <a:xfrm>
            <a:off x="8020080" y="5670720"/>
            <a:ext cx="3997440" cy="91476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роза –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нка вооружений в космо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Скругленный прямоугольник 3"/>
          <p:cNvSpPr/>
          <p:nvPr/>
        </p:nvSpPr>
        <p:spPr>
          <a:xfrm>
            <a:off x="144360" y="109440"/>
            <a:ext cx="11873160" cy="15606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.В. Андропов и начало формирования идеологии перем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263520" y="1905120"/>
            <a:ext cx="6732720" cy="57672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 ноября 198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 умер Л.И. Брежн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12"/>
          <p:cNvSpPr/>
          <p:nvPr/>
        </p:nvSpPr>
        <p:spPr>
          <a:xfrm>
            <a:off x="7272360" y="1827360"/>
            <a:ext cx="4745160" cy="779400"/>
          </a:xfrm>
          <a:prstGeom prst="roundRect">
            <a:avLst>
              <a:gd name="adj" fmla="val 16667"/>
            </a:avLst>
          </a:prstGeom>
          <a:solidFill>
            <a:srgbClr val="e2f0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и обновление советский сист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1" descr="C:\Users\Admin\Downloads\34уква.png"/>
          <p:cNvPicPr/>
          <p:nvPr/>
        </p:nvPicPr>
        <p:blipFill>
          <a:blip r:embed="rId1"/>
          <a:stretch/>
        </p:blipFill>
        <p:spPr>
          <a:xfrm>
            <a:off x="263520" y="2747880"/>
            <a:ext cx="6797520" cy="38721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1"/>
          <p:cNvSpPr/>
          <p:nvPr/>
        </p:nvSpPr>
        <p:spPr>
          <a:xfrm>
            <a:off x="7272360" y="3670200"/>
            <a:ext cx="4745160" cy="441360"/>
          </a:xfrm>
          <a:prstGeom prst="roundRect">
            <a:avLst>
              <a:gd name="adj" fmla="val 16667"/>
            </a:avLst>
          </a:prstGeom>
          <a:solidFill>
            <a:srgbClr val="e2f0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социальных бла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7272360" y="2747880"/>
            <a:ext cx="4745160" cy="779400"/>
          </a:xfrm>
          <a:prstGeom prst="roundRect">
            <a:avLst>
              <a:gd name="adj" fmla="val 16667"/>
            </a:avLst>
          </a:prstGeom>
          <a:solidFill>
            <a:srgbClr val="e2f0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ьба с теневой экономикой и коррупци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12" descr="C:\Users\Admin\Downloads\1161_n2037008_big.jpg"/>
          <p:cNvPicPr/>
          <p:nvPr/>
        </p:nvPicPr>
        <p:blipFill>
          <a:blip r:embed="rId2"/>
          <a:stretch/>
        </p:blipFill>
        <p:spPr>
          <a:xfrm>
            <a:off x="7551720" y="4233960"/>
            <a:ext cx="4186080" cy="2355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3"/>
          <p:cNvSpPr/>
          <p:nvPr/>
        </p:nvSpPr>
        <p:spPr>
          <a:xfrm>
            <a:off x="388800" y="790560"/>
            <a:ext cx="11385720" cy="5094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оптимальных рецептов, в том числе на основе зарубежных опы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1"/>
          <p:cNvSpPr/>
          <p:nvPr/>
        </p:nvSpPr>
        <p:spPr>
          <a:xfrm>
            <a:off x="388800" y="3691080"/>
            <a:ext cx="2765520" cy="2832840"/>
          </a:xfrm>
          <a:custGeom>
            <a:avLst/>
            <a:gdLst>
              <a:gd name="textAreaLeft" fmla="*/ 135000 w 2765520"/>
              <a:gd name="textAreaRight" fmla="*/ 2630520 w 2765520"/>
              <a:gd name="textAreaTop" fmla="*/ 135000 h 2832840"/>
              <a:gd name="textAreaBottom" fmla="*/ 2697840 h 2832840"/>
            </a:gdLst>
            <a:ahLst/>
            <a:rect l="textAreaLeft" t="textAreaTop" r="textAreaRight" b="textAreaBottom"/>
            <a:pathLst>
              <a:path w="21600" h="22126">
                <a:moveTo>
                  <a:pt x="3600" y="0"/>
                </a:moveTo>
                <a:arcTo wR="3600" hR="3600" stAng="16200000" swAng="-5400000"/>
                <a:lnTo>
                  <a:pt x="0" y="18526"/>
                </a:lnTo>
                <a:arcTo wR="3600" hR="3600" stAng="10800000" swAng="-5400000"/>
                <a:lnTo>
                  <a:pt x="18000" y="221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ислав Сергеевич Шатали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оветский и российский учёный-экономист и общественный деятель. Доктор экономических наук. Академик АН ССС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Скругленный прямоугольник 7"/>
          <p:cNvSpPr/>
          <p:nvPr/>
        </p:nvSpPr>
        <p:spPr>
          <a:xfrm>
            <a:off x="144360" y="109440"/>
            <a:ext cx="11873160" cy="58752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.В. Андропов и начало формирования идеологии перем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7" descr="Шаталин Станислав Сергеевич"/>
          <p:cNvPicPr/>
          <p:nvPr/>
        </p:nvPicPr>
        <p:blipFill>
          <a:blip r:embed="rId1"/>
          <a:stretch/>
        </p:blipFill>
        <p:spPr>
          <a:xfrm>
            <a:off x="979560" y="1427040"/>
            <a:ext cx="1584360" cy="21178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6"/>
          <p:cNvSpPr/>
          <p:nvPr/>
        </p:nvSpPr>
        <p:spPr>
          <a:xfrm>
            <a:off x="6238800" y="3681360"/>
            <a:ext cx="2766960" cy="3104640"/>
          </a:xfrm>
          <a:custGeom>
            <a:avLst/>
            <a:gdLst>
              <a:gd name="textAreaLeft" fmla="*/ 135000 w 2766960"/>
              <a:gd name="textAreaRight" fmla="*/ 2631960 w 2766960"/>
              <a:gd name="textAreaTop" fmla="*/ 135000 h 3104640"/>
              <a:gd name="textAreaBottom" fmla="*/ 2969640 h 3104640"/>
            </a:gdLst>
            <a:ahLst/>
            <a:rect l="textAreaLeft" t="textAreaTop" r="textAreaRight" b="textAreaBottom"/>
            <a:pathLst>
              <a:path w="21600" h="24236">
                <a:moveTo>
                  <a:pt x="3600" y="0"/>
                </a:moveTo>
                <a:arcTo wR="3600" hR="3600" stAng="16200000" swAng="-5400000"/>
                <a:lnTo>
                  <a:pt x="0" y="20636"/>
                </a:lnTo>
                <a:arcTo wR="3600" hR="3600" stAng="10800000" swAng="-5400000"/>
                <a:lnTo>
                  <a:pt x="18000" y="24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тьяна Ивановна Заславска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оветский и российский социолог и экономист. Академик РАН, ВАСХНИЛ, Академии Европы, доктор экономических нау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3314880" y="3681360"/>
            <a:ext cx="2766960" cy="2832840"/>
          </a:xfrm>
          <a:custGeom>
            <a:avLst/>
            <a:gdLst>
              <a:gd name="textAreaLeft" fmla="*/ 135000 w 2766960"/>
              <a:gd name="textAreaRight" fmla="*/ 2631960 w 2766960"/>
              <a:gd name="textAreaTop" fmla="*/ 135000 h 2832840"/>
              <a:gd name="textAreaBottom" fmla="*/ 2697840 h 2832840"/>
            </a:gdLst>
            <a:ahLst/>
            <a:rect l="textAreaLeft" t="textAreaTop" r="textAreaRight" b="textAreaBottom"/>
            <a:pathLst>
              <a:path w="21600" h="22114">
                <a:moveTo>
                  <a:pt x="3600" y="0"/>
                </a:moveTo>
                <a:arcTo wR="3600" hR="3600" stAng="16200000" swAng="-5400000"/>
                <a:lnTo>
                  <a:pt x="0" y="18514"/>
                </a:lnTo>
                <a:arcTo wR="3600" hR="3600" stAng="10800000" swAng="-5400000"/>
                <a:lnTo>
                  <a:pt x="18000" y="221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андр Иванович Анчишкин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оветский экономист. Доктор экономических наук, профессор. Академик АН СССР. Лауреат Государственной премии ССС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9"/>
          <p:cNvSpPr/>
          <p:nvPr/>
        </p:nvSpPr>
        <p:spPr>
          <a:xfrm>
            <a:off x="9158400" y="3639960"/>
            <a:ext cx="2766960" cy="2832840"/>
          </a:xfrm>
          <a:custGeom>
            <a:avLst/>
            <a:gdLst>
              <a:gd name="textAreaLeft" fmla="*/ 135000 w 2766960"/>
              <a:gd name="textAreaRight" fmla="*/ 2631960 w 2766960"/>
              <a:gd name="textAreaTop" fmla="*/ 135000 h 2832840"/>
              <a:gd name="textAreaBottom" fmla="*/ 2697840 h 2832840"/>
            </a:gdLst>
            <a:ahLst/>
            <a:rect l="textAreaLeft" t="textAreaTop" r="textAreaRight" b="textAreaBottom"/>
            <a:pathLst>
              <a:path w="21600" h="22114">
                <a:moveTo>
                  <a:pt x="3600" y="0"/>
                </a:moveTo>
                <a:arcTo wR="3600" hR="3600" stAng="16200000" swAng="-5400000"/>
                <a:lnTo>
                  <a:pt x="0" y="18514"/>
                </a:lnTo>
                <a:arcTo wR="3600" hR="3600" stAng="10800000" swAng="-5400000"/>
                <a:lnTo>
                  <a:pt x="18000" y="221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ел Гезевич Аганбегя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оветский и российский экономист, Академик РАН, АН СССР, член-корреспондент Британской академ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9" descr="ЭС: А.И.Анчишкин | Летопись Московского университета"/>
          <p:cNvPicPr/>
          <p:nvPr/>
        </p:nvPicPr>
        <p:blipFill>
          <a:blip r:embed="rId2"/>
          <a:stretch/>
        </p:blipFill>
        <p:spPr>
          <a:xfrm>
            <a:off x="3822840" y="1428840"/>
            <a:ext cx="1571400" cy="2116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Действительные члены Сибирского отделения РАН. 1957-2007 - Заславская  Татьяна Ивановна"/>
          <p:cNvPicPr/>
          <p:nvPr/>
        </p:nvPicPr>
        <p:blipFill>
          <a:blip r:embed="rId3"/>
          <a:stretch/>
        </p:blipFill>
        <p:spPr>
          <a:xfrm>
            <a:off x="6591240" y="1427040"/>
            <a:ext cx="1765440" cy="2116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Аганбегян Абел Гезевич"/>
          <p:cNvPicPr/>
          <p:nvPr/>
        </p:nvPicPr>
        <p:blipFill>
          <a:blip r:embed="rId4"/>
          <a:stretch/>
        </p:blipFill>
        <p:spPr>
          <a:xfrm>
            <a:off x="9488520" y="1427040"/>
            <a:ext cx="2106720" cy="2106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3"/>
          <p:cNvSpPr/>
          <p:nvPr/>
        </p:nvSpPr>
        <p:spPr>
          <a:xfrm>
            <a:off x="388800" y="790560"/>
            <a:ext cx="11385720" cy="5094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8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 Программа «Ускорение социально-экономического развит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AutoShape 1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Скругленный прямоугольник 7"/>
          <p:cNvSpPr/>
          <p:nvPr/>
        </p:nvSpPr>
        <p:spPr>
          <a:xfrm>
            <a:off x="144360" y="109440"/>
            <a:ext cx="11873160" cy="58752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.В. Андропов и начало формирования идеологии перем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2"/>
          <p:cNvSpPr/>
          <p:nvPr/>
        </p:nvSpPr>
        <p:spPr>
          <a:xfrm>
            <a:off x="387360" y="1434960"/>
            <a:ext cx="11458440" cy="44136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кор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- концепция, основанная на идее экономического и научно-технического рыв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4"/>
          <p:cNvSpPr/>
          <p:nvPr/>
        </p:nvSpPr>
        <p:spPr>
          <a:xfrm>
            <a:off x="4417920" y="2009880"/>
            <a:ext cx="339732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д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5"/>
          <p:cNvSpPr/>
          <p:nvPr/>
        </p:nvSpPr>
        <p:spPr>
          <a:xfrm>
            <a:off x="297000" y="2901960"/>
            <a:ext cx="5508360" cy="145548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итайская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экономического устройства, при сохранении жесткого политического контроля со стороны Коммунистической парт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6"/>
          <p:cNvSpPr/>
          <p:nvPr/>
        </p:nvSpPr>
        <p:spPr>
          <a:xfrm>
            <a:off x="6324480" y="2901960"/>
            <a:ext cx="5521320" cy="145548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хословако-венгерска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ключение в рыночную экономику всего народного хозяйства, а также проведение политических реф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7"/>
          <p:cNvSpPr/>
          <p:nvPr/>
        </p:nvSpPr>
        <p:spPr>
          <a:xfrm>
            <a:off x="388800" y="2317680"/>
            <a:ext cx="3888000" cy="44136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стическая идеолог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18"/>
          <p:cNvSpPr/>
          <p:nvPr/>
        </p:nvSpPr>
        <p:spPr>
          <a:xfrm>
            <a:off x="7956720" y="2317680"/>
            <a:ext cx="3889080" cy="44136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я конверген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19"/>
          <p:cNvSpPr/>
          <p:nvPr/>
        </p:nvSpPr>
        <p:spPr>
          <a:xfrm>
            <a:off x="297000" y="4546440"/>
            <a:ext cx="5508360" cy="11174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ормы при сохранении социально-экономической структуры и стабильности в ст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20"/>
          <p:cNvSpPr/>
          <p:nvPr/>
        </p:nvSpPr>
        <p:spPr>
          <a:xfrm>
            <a:off x="6335640" y="4564080"/>
            <a:ext cx="5510160" cy="11174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оциально-экономической структуры, политическая рефор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ыночный» социал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1"/>
          <p:cNvSpPr/>
          <p:nvPr/>
        </p:nvSpPr>
        <p:spPr>
          <a:xfrm>
            <a:off x="3124080" y="6053040"/>
            <a:ext cx="5985000" cy="509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к рыночным отношени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6" name="Прямая со стрелкой 2"/>
          <p:cNvCxnSpPr/>
          <p:nvPr/>
        </p:nvCxnSpPr>
        <p:spPr>
          <a:xfrm>
            <a:off x="1684080" y="5688000"/>
            <a:ext cx="1440360" cy="621000"/>
          </a:xfrm>
          <a:prstGeom prst="straightConnector1">
            <a:avLst/>
          </a:prstGeom>
          <a:ln w="69840">
            <a:solidFill>
              <a:srgbClr val="c00000"/>
            </a:solidFill>
            <a:miter/>
            <a:headEnd len="med" type="oval" w="med"/>
            <a:tailEnd len="med" type="arrow" w="med"/>
          </a:ln>
        </p:spPr>
      </p:cxnSp>
      <p:cxnSp>
        <p:nvCxnSpPr>
          <p:cNvPr id="227" name="Прямая со стрелкой 23"/>
          <p:cNvCxnSpPr>
            <a:endCxn id="225" idx="3"/>
          </p:cNvCxnSpPr>
          <p:nvPr/>
        </p:nvCxnSpPr>
        <p:spPr>
          <a:xfrm flipH="1">
            <a:off x="9108720" y="5743440"/>
            <a:ext cx="1512000" cy="565920"/>
          </a:xfrm>
          <a:prstGeom prst="straightConnector1">
            <a:avLst/>
          </a:prstGeom>
          <a:ln w="69840">
            <a:solidFill>
              <a:srgbClr val="c00000"/>
            </a:solidFill>
            <a:miter/>
            <a:headEnd len="med" type="oval" w="med"/>
            <a:tailEnd len="med" type="arrow" w="med"/>
          </a:ln>
        </p:spPr>
      </p:cxn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3"/>
          <p:cNvSpPr/>
          <p:nvPr/>
        </p:nvSpPr>
        <p:spPr>
          <a:xfrm>
            <a:off x="388800" y="1038240"/>
            <a:ext cx="9250560" cy="6440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самостоятельности предприя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Скругленный прямоугольник 7"/>
          <p:cNvSpPr/>
          <p:nvPr/>
        </p:nvSpPr>
        <p:spPr>
          <a:xfrm>
            <a:off x="144360" y="109440"/>
            <a:ext cx="11873160" cy="58752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.В. Андропов и начало формирования идеологии перем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12"/>
          <p:cNvSpPr/>
          <p:nvPr/>
        </p:nvSpPr>
        <p:spPr>
          <a:xfrm>
            <a:off x="388800" y="1973160"/>
            <a:ext cx="9377640" cy="118404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экономическое регул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тороны государ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4"/>
          <p:cNvSpPr/>
          <p:nvPr/>
        </p:nvSpPr>
        <p:spPr>
          <a:xfrm>
            <a:off x="388800" y="3414600"/>
            <a:ext cx="4354560" cy="19947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хранении принципиальных основ советской экономической сис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8"/>
          <p:cNvSpPr/>
          <p:nvPr/>
        </p:nvSpPr>
        <p:spPr>
          <a:xfrm>
            <a:off x="4910040" y="3414600"/>
            <a:ext cx="3335400" cy="57672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л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20"/>
          <p:cNvSpPr/>
          <p:nvPr/>
        </p:nvSpPr>
        <p:spPr>
          <a:xfrm>
            <a:off x="4908600" y="4130640"/>
            <a:ext cx="3344760" cy="57672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сна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21"/>
          <p:cNvSpPr/>
          <p:nvPr/>
        </p:nvSpPr>
        <p:spPr>
          <a:xfrm>
            <a:off x="4910040" y="4844880"/>
            <a:ext cx="3343320" cy="576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собствен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2" descr="Госплан в развитии СССР и почему его ликвидировали либералы —  Информационно-аналитический Центр (ИАЦ)"/>
          <p:cNvPicPr/>
          <p:nvPr/>
        </p:nvPicPr>
        <p:blipFill>
          <a:blip r:embed="rId1"/>
          <a:stretch/>
        </p:blipFill>
        <p:spPr>
          <a:xfrm>
            <a:off x="8364600" y="3414600"/>
            <a:ext cx="3652920" cy="1974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Users\Admin\Downloads\gossnab_sssr_zonalnyj_seminar_dnepropetrovsk_87.jpg"/>
          <p:cNvPicPr/>
          <p:nvPr/>
        </p:nvPicPr>
        <p:blipFill>
          <a:blip r:embed="rId2"/>
          <a:stretch/>
        </p:blipFill>
        <p:spPr>
          <a:xfrm>
            <a:off x="6018120" y="5522760"/>
            <a:ext cx="1957320" cy="1260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Внешняя угроза СССР в 1927 – 1929 гг.: миф или реальность"/>
          <p:cNvPicPr/>
          <p:nvPr/>
        </p:nvPicPr>
        <p:blipFill>
          <a:blip r:embed="rId3"/>
          <a:stretch/>
        </p:blipFill>
        <p:spPr>
          <a:xfrm>
            <a:off x="1411200" y="5540400"/>
            <a:ext cx="1535040" cy="1260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Был ли в СССР социализм? | Герман Ахметшин | Дзен"/>
          <p:cNvPicPr/>
          <p:nvPr/>
        </p:nvPicPr>
        <p:blipFill>
          <a:blip r:embed="rId4"/>
          <a:stretch/>
        </p:blipFill>
        <p:spPr>
          <a:xfrm>
            <a:off x="3747960" y="5540400"/>
            <a:ext cx="1252800" cy="1243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Косыгинская реформа: суть экономической реформы 1965 года в СССР кратко"/>
          <p:cNvPicPr/>
          <p:nvPr/>
        </p:nvPicPr>
        <p:blipFill>
          <a:blip r:embed="rId5"/>
          <a:stretch/>
        </p:blipFill>
        <p:spPr>
          <a:xfrm>
            <a:off x="9918720" y="1046160"/>
            <a:ext cx="2143080" cy="1957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Нужна ли была на самом деле индустриализация в СССР?"/>
          <p:cNvPicPr/>
          <p:nvPr/>
        </p:nvPicPr>
        <p:blipFill>
          <a:blip r:embed="rId6"/>
          <a:stretch/>
        </p:blipFill>
        <p:spPr>
          <a:xfrm>
            <a:off x="9239400" y="5530680"/>
            <a:ext cx="1751040" cy="12621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22"/>
          <p:cNvSpPr/>
          <p:nvPr/>
        </p:nvSpPr>
        <p:spPr>
          <a:xfrm>
            <a:off x="9918720" y="2781360"/>
            <a:ext cx="2143080" cy="44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Н. Косыг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18T04:36:09Z</dcterms:created>
  <dc:creator>Николай Богуш</dc:creator>
  <dc:description/>
  <dc:language>en-US</dc:language>
  <cp:lastModifiedBy>Admin</cp:lastModifiedBy>
  <dcterms:modified xsi:type="dcterms:W3CDTF">2024-02-11T16:28:48Z</dcterms:modified>
  <cp:revision>134</cp:revision>
  <dc:subject/>
  <dc:title>Культурное пространство СССР 1953-1964 гг.</dc:title>
</cp:coreProperties>
</file>