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37C-7B37-4476-AED6-27ED911B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6AE-CBA0-4572-81D7-7796C7E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5EF-C203-4A43-AC39-8B39AEC4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72A-783D-44C0-BBC3-40D2020E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0B4B-4334-4E45-980C-38F72663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AB6F-BF72-4DB1-B6D0-9551D48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DAE-41D1-48FF-9375-58F53088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A393-CF35-4073-8392-A0F3709E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34EB-BEAE-4519-9859-649A5D67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5D52-6C13-491D-8307-57FCA1DF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0194-9248-4AF0-BE1F-8E0853D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7AF-ACFD-46BB-BC6A-99BF4821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A4C4-6B35-4643-B6AF-23D7880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E95E-45DC-4FDB-8DC6-E7F02E43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5F9D-FD2A-403C-9E0E-3AFE3A5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AE4-CEFF-499F-9DB4-7A71E8E3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928D-347F-4467-8215-171BFD60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67B4-3390-47BA-8F2D-3196503D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6D06-E17C-45FA-AE15-0F539796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817E-F18C-4AFF-B047-830EB0D6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3D36-EC57-4CE5-8E78-C7072A8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3EFA-4760-49C4-A868-15E3A3EC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C3C-60D4-45E4-A529-F807E805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0498-2FAC-4654-AF38-50B010DF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4552-2AE6-43D6-A2D2-4C4FB40D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854C-128E-4537-AF20-76EB67C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F360-9296-4C62-9CD4-3D0E393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35D6-4C44-498D-87C0-CCD75554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EB81-AA46-469E-A8A9-929DD210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0674-BAA4-4AC8-88B4-D8D5B609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8D87-7024-4297-892B-0D40DC3D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4515-5C54-41AB-A46B-9EAAE85C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07A3-EB45-43A5-96BA-89F49FB3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484-76DD-433C-BEF1-3D2BD083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9DCE-1B47-40F8-B23A-7349A097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0E38-B3BE-4C00-B754-982BCFE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334A-DF41-4418-BF23-354F4E4A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5B7F-6B4C-48C7-A6C2-D3CD3B9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699C-DD59-4C36-BAEC-0C43F99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C457-3DEA-4650-B78E-8DE2CEC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0D6D-4E64-4CA1-8E80-4685070F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3CF5-E566-43E0-A9F6-C6D5382A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0937-14A5-4DB6-A8D8-FEE828FB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BA7AB-ED82-47AD-B786-478A0572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F80-DE7D-484C-ACDD-6EDAD6E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6C68-BFD7-4B3F-B461-7804D792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0F1CE-146A-45DD-8C34-733943A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4BB5-DAA9-4946-BFBA-B689AB5A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C1E9-94A9-434E-A309-E729D8C5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39EE8-F37F-41D4-9D53-04F7BA29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5D41B-4F6F-45EA-96B8-299C66D0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1931A-2D0F-4615-B3A2-D53C9D2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5E5ED-D7D4-4F49-BF7B-8FD2027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466A-781C-4D2B-9457-62168B7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10C71-B8C6-4EBB-BF28-C43ABD5E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CC5-57BA-45A3-A915-A024522F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8478-098C-417F-BC5B-A6B02C3E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7C3-77CC-477C-A580-BD83160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DFB-8139-43BA-928E-09F8047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421-1099-4E12-8B32-3E1DA21E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3A4-2E91-4985-A323-630D19A8B84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1F5-7DDB-4617-8EF6-E7436375BD3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85A1-0467-41DD-877B-1E6B154B99F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E5CA-BD18-43C9-B1B9-0BD137C850C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7D71-B3E2-4FAF-8461-132B1882F43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http://www.litceymos.ru/itbeitb/%D0%A1.+%D0%9C%D0%B0%D1%80%D1%88%D0%B0%D0%BA+%D0%92%D0%B5%D0%B6%D0%BB%D0%B8%D0%B2%D0%BE%D1%81%D1%82%D1%8C+%D0%B8+%D1%85%D0%BE%D1%80%D0%BE%D1%88%D0%B8%D0%B5+%D0%BC%D0%B0%D0%BD%D0%B5%D1%80%D1%8B+%D1%81%D0%BE%D0%B2%D0%B5%D1%80%D1%88%D0%B5%D0%BD%D0%BD%D0%BEb/14021_html_m6c86f7b9.png"/>
          <p:cNvPicPr/>
          <p:nvPr/>
        </p:nvPicPr>
        <p:blipFill>
          <a:blip r:embed="rId1"/>
          <a:stretch/>
        </p:blipFill>
        <p:spPr>
          <a:xfrm>
            <a:off x="250920" y="3284640"/>
            <a:ext cx="3492360" cy="338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1187280" y="549360"/>
            <a:ext cx="74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Предложения </a:t>
            </a:r>
            <a:br>
              <a:rPr sz="5400"/>
            </a:br>
            <a:r>
              <a:rPr b="1" lang="ru-RU" sz="54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с прямой речью. </a:t>
            </a:r>
            <a:br>
              <a:rPr sz="5400"/>
            </a:br>
            <a:r>
              <a:rPr b="1" lang="ru-RU" sz="54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5  класс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826920" y="54936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ами прочтете стихи или мне вам прочесть  нерешительно спросил я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ами прочтете стихи или мне вам прочесть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решительно спросил я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это бунт  закричал исправник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это бун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 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ичал исправник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755640" y="0"/>
            <a:ext cx="806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схемы к предложениям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ишка говори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до спорить. Сейчас я попробу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 говори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рим, не пойдё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кричит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дорово получается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2"/>
          <p:cNvSpPr/>
          <p:nvPr/>
        </p:nvSpPr>
        <p:spPr>
          <a:xfrm>
            <a:off x="971640" y="260280"/>
            <a:ext cx="7848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авьте пропущенные знаки препина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сказал Я хочу с тобой поеха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сказал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с тобой поехать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бич нетерпеливо прервал его  Поди прочь, безумный мальчишка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бич нетерпеливо прервал его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и прочь, безумный мальчишк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755640" y="54936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завета спросил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го вы будете отсутствоват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завета спросила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го вы будете отсутствовать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549000"/>
            <a:ext cx="8001000" cy="1452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автора содержат глаголы говорения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214720"/>
            <a:ext cx="8136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000" spc="-1" strike="noStrike">
                <a:solidFill>
                  <a:srgbClr val="69240c"/>
                </a:solidFill>
                <a:latin typeface="Times New Roman"/>
                <a:ea typeface="Arial Unicode MS"/>
              </a:rPr>
              <a:t>сказал, подумал, попросил, написал, прочитал, шепнул, воскликнул, произнёс, проговорил, ответил, крикнул, объявил, объяснил, заметил, проворчал, буркнул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0"/>
            <a:ext cx="77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я с прямой речью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428760" y="857160"/>
            <a:ext cx="5000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расну солнцу наконе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ратил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ец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вет наш солнышко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ы ходишь круглый год по небу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й вы,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лодцы честны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тцы вы мои родные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царевна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вори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тец мой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 -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веча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ясны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2"/>
          <p:cNvSpPr/>
          <p:nvPr/>
        </p:nvSpPr>
        <p:spPr>
          <a:xfrm>
            <a:off x="1116000" y="105264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чтите отрывок из русской народной сказки «Царевна- лягушка».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йдите  в тексте все глаголы, с помощью которых вводится прямая речь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684360" y="81000"/>
            <a:ext cx="8064360" cy="656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благодарствовал старику и пошёл за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очком.  Идёт чистым полем, попадается ему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ведь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й, — говорит, — убью зверя!»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 медведь провещал ему: «Не бей меня, Иван-царевич! 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нибудь пригожусь тебе»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жалел и пошёл дальше — к синему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ю, видит — на песке лежит издыхает щука-рыба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х, Иван-царевич, — провещала щука, — сжалься надо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ю, пусти меня в море»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 бросил её в море и пошёл берегом. Долго ли, коротко ли — прикатился клубочек к избушке; стоит избушка на куриных лапках, кругом повёртывается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 Иван-царевич: «Избушка, избушка! Стань по-старому, как мать поставила, — ко мне передом, а к морю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м»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684360" y="210240"/>
            <a:ext cx="806436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благодарствовал старику и пошёл за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очком.  Идёт чистым полем, попадается ем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вед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й, —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— убью зверя!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 медведь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щ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му: «Не бей меня, Иван-царевич! 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нибудь пригожусь теб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-царевич пожалел и пошёл дальше — к синему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ю, видит — на песке лежит издыхает щука-рыб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х, Иван-царевич, —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щал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, — сжалься надо мною, пусти меня в море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 бросил её в море и пошёл берегом. Долго ли, коротко ли — прикатился клубочек к избушке; стоит избушка на куриных лапках, кругом повёртывает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ван-царевич: «Избушка, избушка! Стань по-старому, как мать поставила, — ко мне передом,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 к морю задом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684360" y="260280"/>
            <a:ext cx="828036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ишите предложения, расставьте знаки препинания  и составьте схемы предложений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от жадина изумилась сестр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асибо Павлуша сказала 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тец успокоил ты спи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ы с людьми плохо обращаешься твёрдо сказал Данил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той окрикнул Пётр. </a:t>
            </a:r>
            <a:br>
              <a:rPr sz="32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539640" y="1341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ая речь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чь какого – либо человека, переданная от его имени без изменения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900000" y="476280"/>
            <a:ext cx="79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и исправьте ошибки в схемах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«П»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«П!», - 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» - 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!»: 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684360" y="605160"/>
            <a:ext cx="8280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казать предложение с пунктуационной ошибко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пугай кивнул головой, засмеялся и сказал: « Хорошо!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Спасибо тебе» : сказал доктор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«Звери, собирайтесь!» - крикнул он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«Что там случилось?» - спросил Крокоди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50920" y="333360"/>
            <a:ext cx="81547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полните определение прямой реч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речь — это _______  какого-либо лица, которые переданы _________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 изменений. На источник прямой речи указывают слова ________. Они могут стоять __________  прямой речи. Прямая речь часто вводится специальными словами — глаголами _________ и мышления или существительными с тем же значением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для справок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на письме, автора,   до, после и внутри, говор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50920" y="189000"/>
            <a:ext cx="8497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ите предложения. Найдите слова автора при прямой речи и выделите их. Обратите внимание, какие знаки препинания стоят до и после слов авто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не подскажите, где находится аптека?» - спросил незнакомец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ветил: «Пройдите один квартал, и там будет аптека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спасибо!» - поблагодарил незнакомец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83628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 оформления прямой речи на письме используют особые знаки препинания. Прямая речь заключается в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ыч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слова автора стоят перед прямой речью, после них ставится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точ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двери ответил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 вами говорит участковы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.</a:t>
            </a:r>
            <a:br>
              <a:rPr sz="3600"/>
            </a:br>
            <a:br>
              <a:rPr sz="54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395280" y="55166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«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468360" y="333360"/>
            <a:ext cx="828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лова автора стоят после прямой речи, перед ними ставится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 после кавычек —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лнышко село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 —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ивился муравей.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</a:t>
            </a:r>
            <a:r>
              <a:rPr b="1" lang="ru-RU" sz="40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</a:t>
            </a:r>
            <a:r>
              <a:rPr b="1" lang="ru-RU" sz="40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324000" y="260280"/>
            <a:ext cx="864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ямая речь заканчивается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лицательным или вопросительным знак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 ставится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кавыче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 запятая или точка не ставится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ёша дом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 —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интересовались на другом конце провода.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36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</a:t>
            </a:r>
            <a:r>
              <a:rPr b="1" lang="ru-RU" sz="36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дивительное это дело – книг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Лев Кассиль.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 —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9"/>
          <p:cNvSpPr/>
          <p:nvPr/>
        </p:nvSpPr>
        <p:spPr>
          <a:xfrm>
            <a:off x="428760" y="2602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емы предложений с прямой речью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1214280" y="2643120"/>
            <a:ext cx="64296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4"/>
          <p:cNvSpPr/>
          <p:nvPr/>
        </p:nvSpPr>
        <p:spPr>
          <a:xfrm>
            <a:off x="1366920" y="2795760"/>
            <a:ext cx="6429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1000080" y="2205000"/>
            <a:ext cx="35006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»,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!»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.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?»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.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5143680" y="2133720"/>
            <a:ext cx="3500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»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!»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?»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"/>
          <p:cNvSpPr/>
          <p:nvPr/>
        </p:nvSpPr>
        <p:spPr>
          <a:xfrm>
            <a:off x="826920" y="189000"/>
            <a:ext cx="79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схемы к предложениям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авная погода завтра будет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тил я.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ишешь ли ты стихов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спросил Петр Иванович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»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й, да тут глубоко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ехом сказала он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»</a:t>
            </a:r>
            <a:r>
              <a:rPr b="1" lang="ru-RU" sz="3200" spc="-1" strike="noStrike">
                <a:solidFill>
                  <a:srgbClr val="4b4747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2"/>
          <p:cNvSpPr/>
          <p:nvPr/>
        </p:nvSpPr>
        <p:spPr>
          <a:xfrm>
            <a:off x="971640" y="476280"/>
            <a:ext cx="770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авьте пропущенные знаки препинания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пожаловать, мой сын сказал с улыбкой он Руслан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пожаловать, мой сын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, 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с улыбкой он Руслан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35Z</dcterms:created>
  <dc:creator>макс</dc:creator>
  <dc:description/>
  <dc:language>en-US</dc:language>
  <cp:lastModifiedBy>ms.Titowa.1982@yandex.ru</cp:lastModifiedBy>
  <dcterms:modified xsi:type="dcterms:W3CDTF">2024-02-11T14:43:35Z</dcterms:modified>
  <cp:revision>155</cp:revision>
  <dc:subject/>
  <dc:title>Тема : Знаки препинания в предложениях с однородными членами</dc:title>
</cp:coreProperties>
</file>