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408-4626-4903-9F42-581BB235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C3D-14CB-41B8-9E37-E36E334A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E3D-555D-4819-84CA-E79868A4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3EB-5CFD-44FC-86FF-2F9468F5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5A73-36B5-4F9E-98C8-2A4E4B2D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78FC-1F98-4EA2-8B21-01A35802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F83E-39FB-4E02-AB27-8F8833BA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680B-51A7-4975-B18A-41FD3A8F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9173-EBC0-4A87-B6FB-5A47FA45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C76F-6178-46AC-BFB6-6281071F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6994-E961-4EA1-A9D7-FD4ABCEF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F26-F4E9-4E83-A9E5-732E5AA0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58C0-51F8-417F-B301-46F4C76C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14CE-E7A4-4A29-912B-FA3D40ED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3F17-51C6-49A3-AEEC-0F896BC8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1E1F-80D7-41C1-B41A-8DEA17B8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9FAC-BE24-482A-A651-217A8DF2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532D-853F-4BB8-9493-68D43368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5AA5-D0F0-4621-AEB8-79468201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EE786-F797-422F-AB52-B0D22524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C6B2-4784-4BA9-8C64-0FEA7291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4AB7-6E99-400C-9682-958E1907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66B-71BE-422A-A676-F91949FE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F6C5-F761-4A17-9877-6E3088FB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B887-05B9-40C0-8761-45FFA64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1707-5425-4453-A6FD-0C7BC42B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B003-4847-47A4-A26B-17E7D6F6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899F-CCA3-47AE-BF7D-8A18C940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F709F-13C8-40D8-AE31-065D1E72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76B3-84C5-4C9B-832D-6F0946CE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E3DAC-DC1B-4EFE-BAB0-56A9B8E8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583FF-02FC-4D39-9A77-73B13782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7D062-740E-4F57-AC52-822F9101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CA4-B150-4251-B64A-BE2EB834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BD85C-5312-4963-B227-98F5CD69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B5CE-7504-4335-A766-464319A9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3747-CF07-4699-B979-3875FC89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403E8-B46C-4881-A517-EA6F98D8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1B4E-512D-4C52-8D47-DF48168E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160F5-D134-4153-B991-2A68A267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D86E1-1E75-4FF2-BECF-01C46678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664AB-4E7D-411B-B021-6C17E777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4F373-F853-4000-A45B-7B6CAA31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82AC3-7604-499F-88CD-4F5EB3F0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162-1380-4932-ABD4-203F9B51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5EF52-A794-43A5-A957-F712833E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A76B4-5A7B-4A3E-AABF-BC0B47C3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62623-9990-4EF2-8044-F92C4C49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6725D-1707-4D04-942C-33EAFAC9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94E5F-5E58-49C2-A74B-59169512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856AF-420B-4F1C-8FB9-766F614E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51138-55C0-4C98-A347-F78A146B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42094-619C-42CF-B767-A50105CB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808E-7402-479D-8D58-DFD7DA49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01434-28DB-46CA-8DAB-1BC94491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D88-7209-4B39-9684-40AD5BFC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7B14C-974F-410F-A10A-5407B0A1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749-C448-4203-BCDB-E360AE8F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2D9-69C1-42AD-B147-89293447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2D1-FB38-4B40-8AD2-30CD7225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937A-54B1-4F5A-8455-1A69D32C410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20E0-2DAB-438E-84AE-BCD4AC53F75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6CDD-D46E-47CA-9D3D-12C2BB65054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2CCC-0DBF-4CDC-973C-3DFDD3370D9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2879-092E-4B32-8712-EDCBFB23601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http://www.litceymos.ru/itbeitb/%D0%A1.+%D0%9C%D0%B0%D1%80%D1%88%D0%B0%D0%BA+%D0%92%D0%B5%D0%B6%D0%BB%D0%B8%D0%B2%D0%BE%D1%81%D1%82%D1%8C+%D0%B8+%D1%85%D0%BE%D1%80%D0%BE%D1%88%D0%B8%D0%B5+%D0%BC%D0%B0%D0%BD%D0%B5%D1%80%D1%8B+%D1%81%D0%BE%D0%B2%D0%B5%D1%80%D1%88%D0%B5%D0%BD%D0%BD%D0%BEb/14021_html_m6c86f7b9.png"/>
          <p:cNvPicPr/>
          <p:nvPr/>
        </p:nvPicPr>
        <p:blipFill>
          <a:blip r:embed="rId1"/>
          <a:stretch/>
        </p:blipFill>
        <p:spPr>
          <a:xfrm>
            <a:off x="250920" y="3284640"/>
            <a:ext cx="3492360" cy="3382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1187280" y="549360"/>
            <a:ext cx="748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Предложения </a:t>
            </a:r>
            <a:br>
              <a:rPr sz="5400"/>
            </a:br>
            <a:r>
              <a:rPr b="1" lang="ru-RU" sz="54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с прямой речью. </a:t>
            </a:r>
            <a:br>
              <a:rPr sz="5400"/>
            </a:br>
            <a:r>
              <a:rPr b="1" lang="ru-RU" sz="54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5  класс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826920" y="54936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ами прочтете стихи или мне вам прочесть  нерешительно спросил я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ами прочтете стихи или мне вам прочесть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решительно спросил я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это бунт  закричал исправник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это бунт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 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ричал исправник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3"/>
          <p:cNvSpPr/>
          <p:nvPr/>
        </p:nvSpPr>
        <p:spPr>
          <a:xfrm>
            <a:off x="755640" y="0"/>
            <a:ext cx="806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ьте схемы к предложениям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Мишка говорит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надо спорить. Сейчас я попробую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 говорит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рим, не пойдёт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ка кричит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дорово получается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2"/>
          <p:cNvSpPr/>
          <p:nvPr/>
        </p:nvSpPr>
        <p:spPr>
          <a:xfrm>
            <a:off x="971640" y="260280"/>
            <a:ext cx="7848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авьте пропущенные знаки препина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сказал Я хочу с тобой поеха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сказал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"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с тобой поехать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бич нетерпеливо прервал его  Поди прочь, безумный мальчишка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бич нетерпеливо прервал его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"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и прочь, безумный мальчишка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"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2"/>
          <p:cNvSpPr/>
          <p:nvPr/>
        </p:nvSpPr>
        <p:spPr>
          <a:xfrm>
            <a:off x="755640" y="549360"/>
            <a:ext cx="80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завета спросил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го вы будете отсутствоват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завета спросила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го вы будете отсутствовать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549000"/>
            <a:ext cx="8001000" cy="1452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автора содержат глаголы говорения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2214720"/>
            <a:ext cx="81360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000" spc="-1" strike="noStrike">
                <a:solidFill>
                  <a:srgbClr val="69240c"/>
                </a:solidFill>
                <a:latin typeface="Times New Roman"/>
                <a:ea typeface="Arial Unicode MS"/>
              </a:rPr>
              <a:t>сказал, подумал, попросил, написал, прочитал, шепнул, воскликнул, произнёс, проговорил, ответил, крикнул, объявил, объяснил, заметил, проворчал, буркнул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0"/>
            <a:ext cx="77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жения с прямой речью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428760" y="857160"/>
            <a:ext cx="5000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расну солнцу наконе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ратил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ец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Свет наш солнышко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ы ходишь круглый год по небу»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й вы,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олодцы честные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тцы вы мои родные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 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царевна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вори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тец мой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 -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ча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 ясны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2"/>
          <p:cNvSpPr/>
          <p:nvPr/>
        </p:nvSpPr>
        <p:spPr>
          <a:xfrm>
            <a:off x="1116000" y="105264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чтите отрывок из русской народной сказки «Царевна- лягушка».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йдите  в тексте все глаголы, с помощью которых вводится прямая речь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684360" y="81000"/>
            <a:ext cx="8064360" cy="656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-царевич поблагодарствовал старику и пошёл за 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очком.  Идёт чистым полем, попадается ему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ведь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й, — говорит, — убью зверя!»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 медведь провещал ему: «Не бей меня, Иван-царевич!    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нибудь пригожусь тебе»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-царевич пожалел и пошёл дальше — к синему 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ю, видит — на песке лежит издыхает щука-рыба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х, Иван-царевич, — провещала щука, — сжалься надо 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ю, пусти меня в море»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 бросил её в море и пошёл берегом. Долго ли, коротко ли — прикатился клубочек к избушке; стоит избушка на куриных лапках, кругом повёртывается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 Иван-царевич: «Избушка, избушка! Стань по-старому, как мать поставила, — ко мне передом, а к морю 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ом»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684360" y="210240"/>
            <a:ext cx="806436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-царевич поблагодарствовал старику и пошёл за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очком.  Идёт чистым полем, попадается ем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вед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й, —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вори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— убью зверя!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 медведь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щ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ему: «Не бей меня, Иван-царевич! 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нибудь пригожусь тебе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-царевич пожалел и пошёл дальше — к синему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ю, видит — на песке лежит издыхает щука-рыб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х, Иван-царевич, —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щала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ка, — сжалься надо мною, пусти меня в море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 бросил её в море и пошёл берегом. Долго ли, коротко ли — прикатился клубочек к избушке; стоит избушка на куриных лапках, кругом повёртываетс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вори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ван-царевич: «Избушка, избушка! Стань по-старому, как мать поставила, — ко мне передом,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 к морю задом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3"/>
          <p:cNvSpPr/>
          <p:nvPr/>
        </p:nvSpPr>
        <p:spPr>
          <a:xfrm>
            <a:off x="684360" y="260280"/>
            <a:ext cx="828036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ишите предложения, расставьте знаки препинания  и составьте схемы предложений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от жадина изумилась сестр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пасибо Павлуша сказала я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тец успокоил ты спи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ы с людьми плохо обращаешься твёрдо сказал Данил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той окрикнул Пётр. </a:t>
            </a:r>
            <a:br>
              <a:rPr sz="32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539640" y="1341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ая речь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чь какого – либо человека, переданная от его имени без изменения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2"/>
          <p:cNvSpPr/>
          <p:nvPr/>
        </p:nvSpPr>
        <p:spPr>
          <a:xfrm>
            <a:off x="900000" y="476280"/>
            <a:ext cx="79930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йдите и исправьте ошибки в схемах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«П»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«П!», - 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» - 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!»: 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684360" y="605160"/>
            <a:ext cx="82803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казать предложение с пунктуационной ошибко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опугай кивнул головой, засмеялся и сказал: « Хорошо!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«Спасибо тебе» : сказал доктор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«Звери, собирайтесь!» - крикнул он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«Что там случилось?» - спросил Крокоди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250920" y="333360"/>
            <a:ext cx="815472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полните определение прямой реч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речь — это _______  какого-либо лица, которые переданы _________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 изменений. На источник прямой речи указывают слова ________. Они могут стоять __________  прямой речи. Прямая речь часто вводится специальными словами — глаголами _________ и мышления или существительными с тем же значением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для справок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на письме, автора,   до, после и внутри, говор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250920" y="189000"/>
            <a:ext cx="8497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тите предложения. Найдите слова автора при прямой речи и выделите их. Обратите внимание, какие знаки препинания стоят до и после слов автор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 не подскажите, где находится аптека?» - спросил незнакомец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ветил: «Пройдите один квартал, и там будет аптека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ромное спасибо!» - поблагодарил незнакомец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83628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 оформления прямой речи на письме используют особые знаки препинания. Прямая речь заключается в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ычк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слова автора стоят перед прямой речью, после них ставится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точ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двери ответил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 вами говорит участковы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.</a:t>
            </a:r>
            <a:br>
              <a:rPr sz="3600"/>
            </a:br>
            <a:br>
              <a:rPr sz="54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395280" y="551664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468360" y="333360"/>
            <a:ext cx="8280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лова автора стоят после прямой речи, перед ними ставится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р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 после кавычек —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а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лнышко село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, —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ивился муравей.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,</a:t>
            </a:r>
            <a:r>
              <a:rPr b="1" lang="ru-RU" sz="40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—</a:t>
            </a:r>
            <a:r>
              <a:rPr b="1" lang="ru-RU" sz="40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324000" y="260280"/>
            <a:ext cx="864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ямая речь заканчивается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лицательным или вопросительным знак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 ставится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 кавыче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 запятая или точка не ставится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ёша дом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 —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интересовались на другом конце провода.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r>
              <a:rPr b="1" lang="ru-RU" sz="36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—</a:t>
            </a:r>
            <a:r>
              <a:rPr b="1" lang="ru-RU" sz="36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дивительное это дело – книг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л Лев Кассиль.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 —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9"/>
          <p:cNvSpPr/>
          <p:nvPr/>
        </p:nvSpPr>
        <p:spPr>
          <a:xfrm>
            <a:off x="428760" y="26028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хемы предложений с прямой речью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1214280" y="2643120"/>
            <a:ext cx="64296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1366920" y="2795760"/>
            <a:ext cx="6429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"/>
          <p:cNvSpPr/>
          <p:nvPr/>
        </p:nvSpPr>
        <p:spPr>
          <a:xfrm>
            <a:off x="1000080" y="2205000"/>
            <a:ext cx="35006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»,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!»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.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?»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.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5143680" y="2133720"/>
            <a:ext cx="3500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»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!»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?»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"/>
          <p:cNvSpPr/>
          <p:nvPr/>
        </p:nvSpPr>
        <p:spPr>
          <a:xfrm>
            <a:off x="826920" y="189000"/>
            <a:ext cx="799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ьте схемы к предложениям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авная погода завтра будет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тил я.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,</a:t>
            </a: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ишешь ли ты стихов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спросил Петр Иванович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й, да тут глубоко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</a:t>
            </a: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мехом сказала он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</a:t>
            </a: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2"/>
          <p:cNvSpPr/>
          <p:nvPr/>
        </p:nvSpPr>
        <p:spPr>
          <a:xfrm>
            <a:off x="971640" y="476280"/>
            <a:ext cx="770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авьте пропущенные знаки препинания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пожаловать, мой сын сказал с улыбкой он Руслану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пожаловать, мой сын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, -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 с улыбкой он Руслану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0:42:35Z</dcterms:created>
  <dc:creator>макс</dc:creator>
  <dc:description/>
  <dc:language>en-US</dc:language>
  <cp:lastModifiedBy>ms.Titowa.1982@yandex.ru</cp:lastModifiedBy>
  <dcterms:modified xsi:type="dcterms:W3CDTF">2024-02-11T14:43:35Z</dcterms:modified>
  <cp:revision>155</cp:revision>
  <dc:subject/>
  <dc:title>Тема : Знаки препинания в предложениях с однородными членами</dc:title>
</cp:coreProperties>
</file>